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13.png" ContentType="image/png"/>
  <Override PartName="/ppt/media/image9.gif" ContentType="image/gif"/>
  <Override PartName="/ppt/media/image11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9AD-BCD6-4E59-AC93-36D2A366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C34-4BB6-48BE-9C93-88554EFF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750-52E7-40C0-AC9E-08BB45BA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86F-D3DC-483E-8F68-DD3E1462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31F-5FC3-4DF9-9476-62319FB9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C6B-9075-41C3-80A6-BCA1D6CF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B5A-D134-4F99-9E0A-F396892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C64-8F14-424A-952C-8C3E2FE9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D18-1DDE-4FFB-86FD-91AD7914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155-28C2-43EF-BDE9-18FA460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C7D-5412-437A-AB87-47FA4691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BD6-0380-4670-8B32-EFB144D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528-CCF1-41D2-9AB5-E1080182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mn.fio.ru/works/71x/310/images/22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дзаголовок 2"/>
          <p:cNvSpPr/>
          <p:nvPr/>
        </p:nvSpPr>
        <p:spPr>
          <a:xfrm>
            <a:off x="1714680" y="5500800"/>
            <a:ext cx="7115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685800" y="857160"/>
            <a:ext cx="7772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к технологи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Пошив фартука. Обработка верхнего среза поясом»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79280" y="476280"/>
            <a:ext cx="4321440" cy="602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ние № 4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нализ издел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д изде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азнач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Дета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Тка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Шв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Затра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16360" y="4292640"/>
            <a:ext cx="4176720" cy="249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равни стоимость фарту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ртук № 1   -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руб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артук № 2   -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2421000"/>
            <a:ext cx="6264360" cy="155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 виды работ, материалы, инструмен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2492280"/>
          <a:ext cx="8229600" cy="3998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ру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черт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ней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оль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крой изд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а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али изд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л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73" descr="Картинка 42 из 193"/>
          <p:cNvPicPr/>
          <p:nvPr/>
        </p:nvPicPr>
        <p:blipFill>
          <a:blip r:embed="rId1"/>
          <a:stretch/>
        </p:blipFill>
        <p:spPr>
          <a:xfrm>
            <a:off x="468360" y="189000"/>
            <a:ext cx="1727280" cy="208764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66" name="Text Box 74"/>
          <p:cNvSpPr/>
          <p:nvPr/>
        </p:nvSpPr>
        <p:spPr>
          <a:xfrm>
            <a:off x="3419640" y="3716280"/>
            <a:ext cx="2232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75"/>
          <p:cNvSpPr/>
          <p:nvPr/>
        </p:nvSpPr>
        <p:spPr>
          <a:xfrm>
            <a:off x="3419640" y="3284640"/>
            <a:ext cx="230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ма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76"/>
          <p:cNvSpPr/>
          <p:nvPr/>
        </p:nvSpPr>
        <p:spPr>
          <a:xfrm>
            <a:off x="6084720" y="4437000"/>
            <a:ext cx="2448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78"/>
          <p:cNvSpPr/>
          <p:nvPr/>
        </p:nvSpPr>
        <p:spPr>
          <a:xfrm>
            <a:off x="539640" y="5445000"/>
            <a:ext cx="25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шив издел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356000" y="1916280"/>
            <a:ext cx="396108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1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ведения ит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324000" y="4149720"/>
            <a:ext cx="3456000" cy="20876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356000" y="1916280"/>
            <a:ext cx="396108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74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культурн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6" descr="ani_09b"/>
          <p:cNvPicPr/>
          <p:nvPr/>
        </p:nvPicPr>
        <p:blipFill>
          <a:blip r:embed="rId2"/>
          <a:stretch/>
        </p:blipFill>
        <p:spPr>
          <a:xfrm>
            <a:off x="468360" y="2276640"/>
            <a:ext cx="1328760" cy="172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ani_09a"/>
          <p:cNvPicPr/>
          <p:nvPr/>
        </p:nvPicPr>
        <p:blipFill>
          <a:blip r:embed="rId3"/>
          <a:stretch/>
        </p:blipFill>
        <p:spPr>
          <a:xfrm>
            <a:off x="2556000" y="3789360"/>
            <a:ext cx="151272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20 - Модерн бит.mp3" descr=""/>
          <p:cNvPicPr/>
          <p:nvPr/>
        </p:nvPicPr>
        <p:blipFill>
          <a:blip r:embed="rId4"/>
          <a:stretch/>
        </p:blipFill>
        <p:spPr>
          <a:xfrm>
            <a:off x="778680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8582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ового материа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572000" y="1916280"/>
            <a:ext cx="396072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80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539640" y="4221000"/>
            <a:ext cx="3529080" cy="2160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81" name="Picture 8" descr=""/>
          <p:cNvPicPr/>
          <p:nvPr/>
        </p:nvPicPr>
        <p:blipFill>
          <a:blip r:embed="rId3"/>
          <a:srcRect l="2729" t="0" r="0" b="0"/>
          <a:stretch/>
        </p:blipFill>
        <p:spPr>
          <a:xfrm>
            <a:off x="4572000" y="1916280"/>
            <a:ext cx="396072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лан пошива фарт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79280" y="5589720"/>
            <a:ext cx="48974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нижнюю часть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0920" y="6165720"/>
            <a:ext cx="2952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поя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941720"/>
            <a:ext cx="26636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карман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348000" y="4941720"/>
            <a:ext cx="55450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единить карман с нижней частью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348000" y="6165720"/>
            <a:ext cx="579600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ботать складки на нижней части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50920" y="4292640"/>
            <a:ext cx="53290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единить пояс с нижней частью фарту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508720" y="5589720"/>
            <a:ext cx="2808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утюжить издел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255 L 0.22066 -0.63796 E">
                                      <p:cBhvr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6065 L 0.3191 -0.47014 E">
                                      <p:cBhvr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44 -0.01852 L -0.16146 -0.39653 E">
                                      <p:cBhvr>
                                        <p:cTn id="21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-0.11574 L -0.17518 -0.5044 E">
                                      <p:cBhvr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06921 L 0.3033 -0.43079 E">
                                      <p:cBhvr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17344 -0.08125 E">
                                      <p:cBhvr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11 0.15324 L -0.28732 -0.17222 E">
                                      <p:cBhvr>
                                        <p:cTn id="232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ownRibbonSharp"/>
          <p:cNvSpPr/>
          <p:nvPr/>
        </p:nvSpPr>
        <p:spPr>
          <a:xfrm>
            <a:off x="395280" y="260280"/>
            <a:ext cx="8352000" cy="136836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ктическа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4572000" y="2276640"/>
            <a:ext cx="3960720" cy="33829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92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539640" y="4221000"/>
            <a:ext cx="3529080" cy="21607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артинка 2 из 44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209080" cy="5400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276720" y="5157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419640" y="3141720"/>
            <a:ext cx="259236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стран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Рукодельни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5" descr="d1-2"/>
          <p:cNvPicPr/>
          <p:nvPr/>
        </p:nvPicPr>
        <p:blipFill>
          <a:blip r:embed="rId3"/>
          <a:stretch/>
        </p:blipFill>
        <p:spPr>
          <a:xfrm>
            <a:off x="3492360" y="3357720"/>
            <a:ext cx="26672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50280" cy="57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361360" cy="5639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2843280" y="3213000"/>
            <a:ext cx="3457440" cy="165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стра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РУКОДЕЛЬНИ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9" descr="S6301689"/>
          <p:cNvPicPr/>
          <p:nvPr/>
        </p:nvPicPr>
        <p:blipFill>
          <a:blip r:embed="rId3"/>
          <a:stretch/>
        </p:blipFill>
        <p:spPr>
          <a:xfrm>
            <a:off x="3924360" y="1700280"/>
            <a:ext cx="1584360" cy="1297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1" name="Picture 10" descr="S6301690"/>
          <p:cNvPicPr/>
          <p:nvPr/>
        </p:nvPicPr>
        <p:blipFill>
          <a:blip r:embed="rId4"/>
          <a:stretch/>
        </p:blipFill>
        <p:spPr>
          <a:xfrm>
            <a:off x="6516720" y="1557360"/>
            <a:ext cx="1584360" cy="12970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2" name="Picture 11" descr="S6301691"/>
          <p:cNvPicPr/>
          <p:nvPr/>
        </p:nvPicPr>
        <p:blipFill>
          <a:blip r:embed="rId5"/>
          <a:stretch/>
        </p:blipFill>
        <p:spPr>
          <a:xfrm>
            <a:off x="826920" y="4149720"/>
            <a:ext cx="1657440" cy="13669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3" name="Picture 12" descr="S6301695"/>
          <p:cNvPicPr/>
          <p:nvPr/>
        </p:nvPicPr>
        <p:blipFill>
          <a:blip r:embed="rId6"/>
          <a:stretch/>
        </p:blipFill>
        <p:spPr>
          <a:xfrm>
            <a:off x="6588000" y="4221000"/>
            <a:ext cx="1656000" cy="1295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4" name="Picture 13" descr="S6301694"/>
          <p:cNvPicPr/>
          <p:nvPr/>
        </p:nvPicPr>
        <p:blipFill>
          <a:blip r:embed="rId7"/>
          <a:stretch/>
        </p:blipFill>
        <p:spPr>
          <a:xfrm>
            <a:off x="1332000" y="1557360"/>
            <a:ext cx="1608120" cy="1295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05" name="Untitled_mixdown (3).mp3" descr=""/>
          <p:cNvPicPr/>
          <p:nvPr/>
        </p:nvPicPr>
        <p:blipFill>
          <a:blip r:embed="rId8"/>
          <a:stretch/>
        </p:blipFill>
        <p:spPr>
          <a:xfrm>
            <a:off x="665964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924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волшебная осень"/>
          <p:cNvPicPr/>
          <p:nvPr/>
        </p:nvPicPr>
        <p:blipFill>
          <a:blip r:embed="rId1"/>
          <a:stretch/>
        </p:blipFill>
        <p:spPr>
          <a:xfrm>
            <a:off x="1643040" y="857160"/>
            <a:ext cx="590400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6"/>
          <p:cNvSpPr/>
          <p:nvPr/>
        </p:nvSpPr>
        <p:spPr>
          <a:xfrm>
            <a:off x="971640" y="6021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27"/>
          <p:cNvSpPr/>
          <p:nvPr/>
        </p:nvSpPr>
        <p:spPr>
          <a:xfrm>
            <a:off x="1042920" y="5877000"/>
            <a:ext cx="7274160" cy="764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Comic Sans MS"/>
              </a:rPr>
              <a:t>Успехов вам на урок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Untitled_mixdown (3)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437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шив фартук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Обработка                                  верхнего среза поясом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спом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начение, виды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, свойства хлопчатобумажной тк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логию выполнения машинных ш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    Анализ из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   Словарн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струменты и материалы при выполнении швейных рабо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удем 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батывать верхний срез фартука поя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1"/>
          <p:cNvSpPr/>
          <p:nvPr/>
        </p:nvSpPr>
        <p:spPr>
          <a:xfrm>
            <a:off x="250920" y="260280"/>
            <a:ext cx="8713800" cy="1584360"/>
          </a:xfrm>
          <a:custGeom>
            <a:avLst/>
            <a:gdLst>
              <a:gd name="textAreaLeft" fmla="*/ 0 w 8713800"/>
              <a:gd name="textAreaRight" fmla="*/ 8713800 w 871380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Monotype Corsiva"/>
              </a:rPr>
              <a:t>Путешествие в страну</a:t>
            </a:r>
            <a:r>
              <a:rPr b="1" lang="en-US" sz="4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Monotype Corsiva"/>
              </a:rPr>
              <a:t>Рукодельни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Содержимое 9" descr="Общая.jpg"/>
          <p:cNvPicPr/>
          <p:nvPr/>
        </p:nvPicPr>
        <p:blipFill>
          <a:blip r:embed="rId1"/>
          <a:stretch/>
        </p:blipFill>
        <p:spPr>
          <a:xfrm>
            <a:off x="539640" y="2492280"/>
            <a:ext cx="5256360" cy="33069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1.2757 -2.59259E-006 E">
                                      <p:cBhvr>
                                        <p:cTn id="105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2729" t="0" r="0" b="0"/>
          <a:stretch/>
        </p:blipFill>
        <p:spPr>
          <a:xfrm>
            <a:off x="3995640" y="1989000"/>
            <a:ext cx="3961080" cy="33832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2" name="DownRibbonSharp"/>
          <p:cNvSpPr/>
          <p:nvPr/>
        </p:nvSpPr>
        <p:spPr>
          <a:xfrm>
            <a:off x="324000" y="404640"/>
            <a:ext cx="8351640" cy="1368720"/>
          </a:xfrm>
          <a:prstGeom prst="pie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танц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тор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Содержимое 9" descr="Общая.jpg"/>
          <p:cNvPicPr/>
          <p:nvPr/>
        </p:nvPicPr>
        <p:blipFill>
          <a:blip r:embed="rId2"/>
          <a:stretch/>
        </p:blipFill>
        <p:spPr>
          <a:xfrm>
            <a:off x="324000" y="4005360"/>
            <a:ext cx="3527280" cy="2225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258920" y="2421000"/>
            <a:ext cx="6602400" cy="177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редели вид изделия, его назнач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>
            <a:lum bright="-18000"/>
          </a:blip>
          <a:srcRect l="-3246" t="5444" r="0" b="0"/>
          <a:stretch/>
        </p:blipFill>
        <p:spPr>
          <a:xfrm>
            <a:off x="1692360" y="260280"/>
            <a:ext cx="1600200" cy="38480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651640" y="189000"/>
            <a:ext cx="1485720" cy="38894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7" name="Rectangle 7"/>
          <p:cNvSpPr/>
          <p:nvPr/>
        </p:nvSpPr>
        <p:spPr>
          <a:xfrm>
            <a:off x="826920" y="4221000"/>
            <a:ext cx="7417080" cy="2044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ем различаютс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форме нижней част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количеству дета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иду отдел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572000" y="4437000"/>
            <a:ext cx="3600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то общег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2708280"/>
            <a:ext cx="8785440" cy="133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помни о получении, свойства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лопчатобумажной тк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24000" y="2637000"/>
            <a:ext cx="856908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ние №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спомни технологию выполнения машинных шв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3:19:26Z</dcterms:created>
  <dc:creator>Sivak</dc:creator>
  <dc:description/>
  <dc:language>en-US</dc:language>
  <cp:lastModifiedBy>User</cp:lastModifiedBy>
  <dcterms:modified xsi:type="dcterms:W3CDTF">2023-07-12T09:28:52Z</dcterms:modified>
  <cp:revision>73</cp:revision>
  <dc:subject/>
  <dc:title>Слайд 1</dc:title>
</cp:coreProperties>
</file>