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8002-6DD7-49F6-B84C-12B85C7A48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AC54-742C-4C5C-91CF-A5DB1A6A23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7A7-5AC5-42A7-9978-D0DB2D10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A60-4B29-49B7-9CAB-7FC072B5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112-C2B5-4EB6-975F-3DCBBEBE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F18-8A44-4F9B-B858-6C34288A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0AB-3036-4237-A90A-E1910E9C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FCD-5849-4AF7-9C70-84C7CCD9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9A6-CE66-42E2-A2BF-643F9029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C51-A190-4CF2-8BC5-EA48E6D2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55B-BC3B-4B80-A185-881C5736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BB7-7A0B-469D-A0B9-5C60ED8D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473-712A-4F1B-A44C-E59EAFC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6ED-DEA4-4CB9-AA03-4097CE8A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e2ff"/>
            </a:gs>
            <a:gs pos="100000">
              <a:srgbClr val="db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28D4-B7C4-47C8-8593-FFCC0712B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veinternet.ru/users/4001188/post184759707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d3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95280" y="476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МБДОУ «Центр развития ребёнка – детский сад «Капель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936720" y="1773360"/>
            <a:ext cx="741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Логопедическая сказ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«Как Мышонок подружился со звуком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[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]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936720" y="3038400"/>
            <a:ext cx="69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Arial"/>
              </a:rPr>
              <a:t>Подготовила: учитель-логопед Кузнецова Л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863640" y="3789360"/>
            <a:ext cx="72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Логопедическая сказка «Как Мышонок подружился со звуком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[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ш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]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», из серии сказок «Звуковой Теремок», рекомендована для закрепления правильного произношения звука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[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ш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]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 в слогах, словах и развития фонематического восприятия у детей старшего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468360" y="54936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 «Поймай солнечный лучик»  на развитие ориентировки в пространстве собственного т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admin\Documents\документы Люда\Развивающая среда лог. кабинета\картинки ВТ\клипарт. солнышко\ce80a1145db2.png"/>
          <p:cNvPicPr/>
          <p:nvPr/>
        </p:nvPicPr>
        <p:blipFill>
          <a:blip r:embed="rId1"/>
          <a:stretch/>
        </p:blipFill>
        <p:spPr>
          <a:xfrm>
            <a:off x="1116000" y="1773360"/>
            <a:ext cx="2876400" cy="27208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507960" y="4611600"/>
            <a:ext cx="8056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ыглянуло солнышко. Мышонок вышел на поляну и начал играть с солнечным лучиком. Давайте и мы  поиграем. Поймайте солнечный лучик над  головой, слева, у правого уха, за спиной, у левого глаза, перед груд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Так и остался Мышонок в Теремке вместе со звуком </a:t>
            </a:r>
            <a:r>
              <a:rPr b="0" lang="en-US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жи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от и сказки конец, а кто в ней участвовал молодец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9" descr=""/>
          <p:cNvPicPr/>
          <p:nvPr/>
        </p:nvPicPr>
        <p:blipFill>
          <a:blip r:embed="rId2"/>
          <a:srcRect l="49807" t="1181" r="0" b="0"/>
          <a:stretch/>
        </p:blipFill>
        <p:spPr>
          <a:xfrm>
            <a:off x="5076720" y="2697120"/>
            <a:ext cx="154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684360" y="620640"/>
            <a:ext cx="80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писок  использованных источ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698400" y="1484280"/>
            <a:ext cx="76899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1.Агронович, З.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 помощь логопедам и родителям. Сборник домашних заданий  для преодоления фонематической стороны речи у старших дошкольников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Текст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]/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З.Е. Агронович. – СПб.: «Детство-Пресс», 2004 .-160 с. + цв. вк. 48 с. – 30 000 экз. –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ISBN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5-89814-161-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2.Картушина, М.Ю. Конспекты логоритмических занятий с детьми 5-6 лет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Текст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/ М.Ю. Картушина. – М.: ТЦ Сфера, 2009. – 208 с.  - 3000 экз. –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ISBN 978-5-9949-0061-1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Лопухина, И. С. Логопедия. Звуки, буквы и слова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Текст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: упражнения в стихах/И.С. Лопухина. – СПб.: Дельта, 1998.-208 с., ил.-20 000 экз. –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ISBN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5-89151-052-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4. Картинка мышонка 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.–Режим доступа: </a:t>
            </a:r>
            <a:r>
              <a:rPr b="0" lang="ru-RU" sz="18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1"/>
              </a:rPr>
              <a:t>http://www.liveinternet.ru/users/4001188/post184759707/</a:t>
            </a: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(дата обращения: 18.04.1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0"/>
          <p:cNvSpPr/>
          <p:nvPr/>
        </p:nvSpPr>
        <p:spPr>
          <a:xfrm>
            <a:off x="2157480" y="476280"/>
            <a:ext cx="67546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ят дети все на свете сказки добрые смотре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ят дети их читать и конечно в них игра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егодня вас, друзья, приглашаю в сказку 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азку не простую, а волшебную звуковую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«Как Мышонок подружился со звуком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[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]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12" descr=""/>
          <p:cNvPicPr/>
          <p:nvPr/>
        </p:nvPicPr>
        <p:blipFill>
          <a:blip r:embed="rId1"/>
          <a:srcRect l="49801" t="1175" r="0" b="0"/>
          <a:stretch/>
        </p:blipFill>
        <p:spPr>
          <a:xfrm>
            <a:off x="3419640" y="2479680"/>
            <a:ext cx="2016000" cy="3141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Блог.ру - elena-ra - Клипарт-узорные осенние листья"/>
          <p:cNvPicPr/>
          <p:nvPr/>
        </p:nvPicPr>
        <p:blipFill>
          <a:blip r:embed="rId2"/>
          <a:stretch/>
        </p:blipFill>
        <p:spPr>
          <a:xfrm>
            <a:off x="179280" y="717480"/>
            <a:ext cx="1808280" cy="2319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539640" y="512604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л был в лесу маленький Мышонок. Всё лето и раннюю осень он веселился с друзьями и играл.  Но с каждым днём в лесу становилось холоднее и холоднее.  Всё реже появлялось на небе солнышко, часто шёл дождь.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1" descr=""/>
          <p:cNvPicPr/>
          <p:nvPr/>
        </p:nvPicPr>
        <p:blipFill>
          <a:blip r:embed="rId1"/>
          <a:srcRect l="49799" t="1170" r="0" b="0"/>
          <a:stretch/>
        </p:blipFill>
        <p:spPr>
          <a:xfrm>
            <a:off x="6875640" y="2946240"/>
            <a:ext cx="1255680" cy="1849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395280" y="16992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шонку стало в лесу холодно и одиноко, и он отправился на поиски тёплой норки или уютного домика, в котором можно было бы пережить зиму.  Он побежал по лесной тропинке и вдруг…. На поляне лесной, увидел Терем распис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9" descr="Теремок загрузить файл на finansovyystandart.ru.com"/>
          <p:cNvPicPr/>
          <p:nvPr/>
        </p:nvPicPr>
        <p:blipFill>
          <a:blip r:embed="rId2"/>
          <a:stretch/>
        </p:blipFill>
        <p:spPr>
          <a:xfrm>
            <a:off x="539640" y="830160"/>
            <a:ext cx="6140520" cy="42307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755640" y="50468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шонок постучал в дверь и спросил: Терем-Теремок, кто в Тереме живёт? Никто не вышел навстречу Мышонку, только услышал таинственный звук:         Я звук [ш], я здесь живу, и тебя Мышонок в гости зов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ди ко мне жить, будем мы с тобой дружи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аучу тебя звук [ш] произноси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403280" y="620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тикуляция звука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осинова &quot;Гимнастика для развития речи&quot; - Babyblog.ru"/>
          <p:cNvPicPr/>
          <p:nvPr/>
        </p:nvPicPr>
        <p:blipFill>
          <a:blip r:embed="rId1"/>
          <a:stretch/>
        </p:blipFill>
        <p:spPr>
          <a:xfrm>
            <a:off x="1258920" y="1630440"/>
            <a:ext cx="1728720" cy="1727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497400" y="1413000"/>
            <a:ext cx="4608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тоб звук красивым вы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Шире язычок и выш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делаем из языч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ашечку подняв бо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Эту чашечку по бок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 верхним мы прижмём зуб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от теперь над чашкой мож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уть красиво, осторож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тоб ветерок бежа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Чтобы Ш, как шёлк, шурша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647640" y="486900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шонок, обрадовался новому другу, подружился с ним и научился произносить звук [ш]. Давайте и мы научимся произносить звук [ш] и  вместе с Мышонком поигра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476360" y="54936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«Листья шепчутся». Автоматизация звука [ш] в слог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187280" y="1844640"/>
            <a:ext cx="5616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«Ша – шо - ши» (вопроситель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«Шу – шо – шу» (удивлённ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«Шта – што - шты» (радост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«Шта – што - шту» (радост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1481040" y="537372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Услышали осенние листья, о том, что Мышонок подружился со Звуком [ш] и зашептали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rcRect l="49807" t="1181" r="0" b="0"/>
          <a:stretch/>
        </p:blipFill>
        <p:spPr>
          <a:xfrm>
            <a:off x="6804000" y="2708280"/>
            <a:ext cx="154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826920" y="62064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Прятк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тие фонематического восприя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258920" y="2205000"/>
            <a:ext cx="59594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ечевой материа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ш, р, са, аш, сы, шапка, стол, кошка, одеяло, подушка, шайба, карандаш, санки, шмель, малыш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611280" y="517032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Звук [ш] очень весёлый и предлагает поиграть с ним в прятки. Он будет прятаться в слова. Давайте попытаемся его найти и поймать (хлопнуть в ладош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684360" y="40464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Найди картинки со звуком [ш]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7" descr="Клипарт, отрисовки"/>
          <p:cNvPicPr/>
          <p:nvPr/>
        </p:nvPicPr>
        <p:blipFill>
          <a:blip r:embed="rId1"/>
          <a:stretch/>
        </p:blipFill>
        <p:spPr>
          <a:xfrm>
            <a:off x="127080" y="561960"/>
            <a:ext cx="3166920" cy="2592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Картинка к слову &quot;Авто, Автомобиль, Фольксваген, Жук&quot; - Сеть словесных ассоциаций"/>
          <p:cNvPicPr/>
          <p:nvPr/>
        </p:nvPicPr>
        <p:blipFill>
          <a:blip r:embed="rId2"/>
          <a:stretch/>
        </p:blipFill>
        <p:spPr>
          <a:xfrm>
            <a:off x="487440" y="3208320"/>
            <a:ext cx="2792160" cy="1400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ЛАРЧИК от birusinka-открыт для друзей и добрых людей. :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4027320" y="2678040"/>
            <a:ext cx="1376640" cy="1413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Вишня графические заготовки Загрузить 79 backgrounds (Страница 1) - ClipartLogo.com"/>
          <p:cNvPicPr/>
          <p:nvPr/>
        </p:nvPicPr>
        <p:blipFill>
          <a:blip r:embed="rId4"/>
          <a:stretch/>
        </p:blipFill>
        <p:spPr>
          <a:xfrm>
            <a:off x="4282920" y="1117440"/>
            <a:ext cx="1160640" cy="1343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Иконка дождливой погоды Иконка дождливой погоды с облаками и зонтиком, векторная иллюстрация. Rainy weather icon with clouds and"/>
          <p:cNvPicPr/>
          <p:nvPr/>
        </p:nvPicPr>
        <p:blipFill>
          <a:blip r:embed="rId5"/>
          <a:stretch/>
        </p:blipFill>
        <p:spPr>
          <a:xfrm>
            <a:off x="6170760" y="1004760"/>
            <a:ext cx="2504880" cy="2471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Найти бесплатные color:#163e71 Искусство, Поиск, Сайт бесплатных векторов"/>
          <p:cNvPicPr/>
          <p:nvPr/>
        </p:nvPicPr>
        <p:blipFill>
          <a:blip r:embed="rId6"/>
          <a:stretch/>
        </p:blipFill>
        <p:spPr>
          <a:xfrm>
            <a:off x="5877000" y="3549600"/>
            <a:ext cx="1574640" cy="10810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714240" y="5313240"/>
            <a:ext cx="674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ышонок захотел подарить своему другу картинки. Поможем Мышонку подобрать картинки, в названии которых есть звук  [ш]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619280" y="3645000"/>
          <a:ext cx="6343560" cy="1736640"/>
        </p:xfrm>
        <a:graphic>
          <a:graphicData uri="http://schemas.openxmlformats.org/drawingml/2006/table">
            <a:tbl>
              <a:tblPr/>
              <a:tblGrid>
                <a:gridCol w="2081160"/>
                <a:gridCol w="2147760"/>
                <a:gridCol w="2114640"/>
              </a:tblGrid>
              <a:tr h="173664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</a:tbl>
          </a:graphicData>
        </a:graphic>
      </p:graphicFrame>
      <p:sp>
        <p:nvSpPr>
          <p:cNvPr id="80" name="Прямоугольник 4"/>
          <p:cNvSpPr/>
          <p:nvPr/>
        </p:nvSpPr>
        <p:spPr>
          <a:xfrm>
            <a:off x="450720" y="26028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Куда перелетел листочек?». Определение позиции звука [ш] в слов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8" descr="Холодный Полярный графические заготовки Загрузить 253 clip arts (Страница 6) - ClipartLogo.com"/>
          <p:cNvPicPr/>
          <p:nvPr/>
        </p:nvPicPr>
        <p:blipFill>
          <a:blip r:embed="rId1"/>
          <a:stretch/>
        </p:blipFill>
        <p:spPr>
          <a:xfrm>
            <a:off x="3440160" y="1550880"/>
            <a:ext cx="2303280" cy="20224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9" descr="Поры осенней"/>
          <p:cNvPicPr/>
          <p:nvPr/>
        </p:nvPicPr>
        <p:blipFill>
          <a:blip r:embed="rId2"/>
          <a:stretch/>
        </p:blipFill>
        <p:spPr>
          <a:xfrm>
            <a:off x="1650960" y="3716280"/>
            <a:ext cx="1800360" cy="1506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0" descr="Pencil Red clip art - vector clip art online, royalty free . - ClipArt Best - ClipArt Best"/>
          <p:cNvPicPr/>
          <p:nvPr/>
        </p:nvPicPr>
        <p:blipFill>
          <a:blip r:embed="rId3"/>
          <a:stretch/>
        </p:blipFill>
        <p:spPr>
          <a:xfrm>
            <a:off x="3635280" y="162864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1" descr="Поры осенней"/>
          <p:cNvPicPr/>
          <p:nvPr/>
        </p:nvPicPr>
        <p:blipFill>
          <a:blip r:embed="rId4"/>
          <a:stretch/>
        </p:blipFill>
        <p:spPr>
          <a:xfrm>
            <a:off x="6143760" y="3827520"/>
            <a:ext cx="1433520" cy="1506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3" descr="Чашка кофе - стоковый клипарт"/>
          <p:cNvPicPr/>
          <p:nvPr/>
        </p:nvPicPr>
        <p:blipFill>
          <a:blip r:embed="rId5"/>
          <a:stretch/>
        </p:blipFill>
        <p:spPr>
          <a:xfrm>
            <a:off x="3419640" y="1335240"/>
            <a:ext cx="2893680" cy="2238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4" descr="Поры осенней"/>
          <p:cNvPicPr/>
          <p:nvPr/>
        </p:nvPicPr>
        <p:blipFill>
          <a:blip r:embed="rId6"/>
          <a:stretch/>
        </p:blipFill>
        <p:spPr>
          <a:xfrm>
            <a:off x="4041720" y="3827520"/>
            <a:ext cx="1606680" cy="15066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9"/>
          <p:cNvSpPr/>
          <p:nvPr/>
        </p:nvSpPr>
        <p:spPr>
          <a:xfrm>
            <a:off x="755640" y="558972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Звук [ш] предлагает Мышонку определить, где он находится в словах: в начале, середине или в конце сл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927360" y="549360"/>
            <a:ext cx="56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Дождик» (массаж спины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187280" y="1166760"/>
            <a:ext cx="67694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ждик бегает по крыше -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ети встают друг за другом паровозиком и похлопывают ладонями по спинкам друг дру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 весёлой звонкой крыше -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стукивают пальч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ма, дома посидите -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колачивают кулач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икуда не выходите, -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стирают рёбрами ладо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читайте, поиграйте -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ладут ладони на плечи и растирают плечи круговыми движе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 уйду – тогда гуляйте… бом, бом, б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глаживают ладон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3706d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554880" y="252108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819000" y="558324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 лесу пошёл дождик. Но и в дождик мы не будем скучать с нашими друзьями, а поиграем и сделаем массаж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04:14:23Z</dcterms:created>
  <dc:creator>admin</dc:creator>
  <dc:description/>
  <dc:language>en-US</dc:language>
  <cp:lastModifiedBy>admin</cp:lastModifiedBy>
  <dcterms:modified xsi:type="dcterms:W3CDTF">2022-02-10T18:53:59Z</dcterms:modified>
  <cp:revision>131</cp:revision>
  <dc:subject/>
  <dc:title>Презентация PowerPoint</dc:title>
</cp:coreProperties>
</file>