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6D4-89C7-4380-90A8-4981E3D3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E27-29F7-4FF4-8690-BE2CFFF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B39-0A70-47C2-BC5C-41D0B3F6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8A9-D12F-4D08-8D31-40B5346F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B3D-2BBF-43EB-A5EE-9D3D483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6A4-CAA7-4658-8020-DDB012E3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00E-F595-4093-8E89-6D9CFE40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3DF-E862-4C76-80D7-C5D5D80D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390-BB25-4A08-B230-70DC100F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CB9-3A36-464C-A77E-987F3A4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525-9A1D-47EA-8D59-F8C960F9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160-279A-479D-A3D5-6100BA2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B1F5-1F0E-4665-B5B9-0B93AFAC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устроен компьюте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52419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2340000" y="1341360"/>
            <a:ext cx="2303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24000" y="3645000"/>
            <a:ext cx="576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5148360" y="4005360"/>
            <a:ext cx="7189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о для вывода информации на э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onitor"/>
          <p:cNvSpPr/>
          <p:nvPr/>
        </p:nvSpPr>
        <p:spPr>
          <a:xfrm>
            <a:off x="3059280" y="3068640"/>
            <a:ext cx="2447640" cy="296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8244000" y="616572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14675" y="3837"/>
                </a:moveTo>
                <a:lnTo>
                  <a:pt x="17252" y="6448"/>
                </a:ln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lnTo>
                  <a:pt x="21638" y="10800"/>
                </a:lnTo>
                <a:lnTo>
                  <a:pt x="19985" y="10800"/>
                </a:lnTo>
                <a:lnTo>
                  <a:pt x="19985" y="17989"/>
                </a:lnTo>
                <a:lnTo>
                  <a:pt x="9366" y="17989"/>
                </a:lnTo>
                <a:lnTo>
                  <a:pt x="9366" y="10800"/>
                </a:lnTo>
                <a:lnTo>
                  <a:pt x="7712" y="10800"/>
                </a:lnTo>
                <a:close/>
              </a:path>
              <a:path fill="darkenLess" w="29351" h="21600">
                <a:moveTo>
                  <a:pt x="17252" y="6448"/>
                </a:move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close/>
              </a:path>
              <a:path fill="darkenLess" w="29351" h="21600">
                <a:moveTo>
                  <a:pt x="13753" y="14299"/>
                </a:moveTo>
                <a:lnTo>
                  <a:pt x="15598" y="14299"/>
                </a:lnTo>
                <a:lnTo>
                  <a:pt x="15598" y="17989"/>
                </a:lnTo>
                <a:lnTo>
                  <a:pt x="19985" y="17989"/>
                </a:lnTo>
                <a:lnTo>
                  <a:pt x="19985" y="10800"/>
                </a:lnTo>
                <a:lnTo>
                  <a:pt x="9366" y="10800"/>
                </a:lnTo>
                <a:lnTo>
                  <a:pt x="9366" y="17989"/>
                </a:lnTo>
                <a:lnTo>
                  <a:pt x="13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ройство для вывода звук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244000" y="616572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14675" y="3837"/>
                </a:moveTo>
                <a:lnTo>
                  <a:pt x="17252" y="6448"/>
                </a:ln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lnTo>
                  <a:pt x="21638" y="10800"/>
                </a:lnTo>
                <a:lnTo>
                  <a:pt x="19985" y="10800"/>
                </a:lnTo>
                <a:lnTo>
                  <a:pt x="19985" y="17989"/>
                </a:lnTo>
                <a:lnTo>
                  <a:pt x="9366" y="17989"/>
                </a:lnTo>
                <a:lnTo>
                  <a:pt x="9366" y="10800"/>
                </a:lnTo>
                <a:lnTo>
                  <a:pt x="7712" y="10800"/>
                </a:lnTo>
                <a:close/>
              </a:path>
              <a:path fill="darkenLess" w="29351" h="21600">
                <a:moveTo>
                  <a:pt x="17252" y="6448"/>
                </a:move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close/>
              </a:path>
              <a:path fill="darkenLess" w="29351" h="21600">
                <a:moveTo>
                  <a:pt x="13753" y="14299"/>
                </a:moveTo>
                <a:lnTo>
                  <a:pt x="15598" y="14299"/>
                </a:lnTo>
                <a:lnTo>
                  <a:pt x="15598" y="17989"/>
                </a:lnTo>
                <a:lnTo>
                  <a:pt x="19985" y="17989"/>
                </a:lnTo>
                <a:lnTo>
                  <a:pt x="19985" y="10800"/>
                </a:lnTo>
                <a:lnTo>
                  <a:pt x="9366" y="10800"/>
                </a:lnTo>
                <a:lnTo>
                  <a:pt x="9366" y="17989"/>
                </a:lnTo>
                <a:lnTo>
                  <a:pt x="13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9:44:46Z</dcterms:created>
  <dc:creator>СЕРГЕЙ и ЕЛЕНА</dc:creator>
  <dc:description/>
  <dc:language>en-US</dc:language>
  <cp:lastModifiedBy>СЕРГЕЙ и ЕЛЕНА</cp:lastModifiedBy>
  <dcterms:modified xsi:type="dcterms:W3CDTF">2006-09-27T19:51:26Z</dcterms:modified>
  <cp:revision>1</cp:revision>
  <dc:subject/>
  <dc:title>Как устроен компьютер?</dc:title>
</cp:coreProperties>
</file>