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D8A-60E3-4456-A508-281ABE97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7DC-D25A-44E4-9A50-278571F1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E3C-B0D5-418A-9370-C960FB1D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565-5F50-4701-AAA9-292B0698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324-7D77-4964-8262-D2D66A94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C94-2E90-479E-83FF-0DBF04D9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718-A0FD-4DCB-9468-A55FCE81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1DB-DA26-47A9-B490-B3E9BFDD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9B5-B9FE-4475-89EB-8045A9E1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7EE-93C9-4FB0-92A3-84C8BFC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E2C-236D-48DB-A1C1-024B140E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6E2-370C-4B52-B436-D72E91A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3806-E6B0-4E12-A449-6AABD111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устроен компьюте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32720" cy="524196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2340000" y="1341360"/>
            <a:ext cx="2303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324000" y="3645000"/>
            <a:ext cx="576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5148360" y="4005360"/>
            <a:ext cx="7189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о для вывода информации на эк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onitor"/>
          <p:cNvSpPr/>
          <p:nvPr/>
        </p:nvSpPr>
        <p:spPr>
          <a:xfrm>
            <a:off x="3059280" y="3068640"/>
            <a:ext cx="2447640" cy="2962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8244000" y="6165720"/>
            <a:ext cx="684000" cy="503280"/>
          </a:xfrm>
          <a:custGeom>
            <a:avLst/>
            <a:gdLst>
              <a:gd name="textAreaLeft" fmla="*/ 32400 w 684000"/>
              <a:gd name="textAreaRight" fmla="*/ 651600 w 68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51" h="21600">
                <a:moveTo>
                  <a:pt x="0" y="0"/>
                </a:moveTo>
                <a:lnTo>
                  <a:pt x="29351" y="0"/>
                </a:lnTo>
                <a:lnTo>
                  <a:pt x="29351" y="21600"/>
                </a:lnTo>
                <a:lnTo>
                  <a:pt x="0" y="21600"/>
                </a:lnTo>
                <a:close/>
              </a:path>
              <a:path fill="lightenLess" w="29351" h="21600">
                <a:moveTo>
                  <a:pt x="0" y="0"/>
                </a:moveTo>
                <a:lnTo>
                  <a:pt x="29351" y="0"/>
                </a:lnTo>
                <a:lnTo>
                  <a:pt x="27951" y="1400"/>
                </a:lnTo>
                <a:lnTo>
                  <a:pt x="1400" y="1400"/>
                </a:lnTo>
                <a:close/>
              </a:path>
              <a:path fill="darken" w="29351" h="21600">
                <a:moveTo>
                  <a:pt x="29351" y="0"/>
                </a:moveTo>
                <a:lnTo>
                  <a:pt x="29351" y="21600"/>
                </a:lnTo>
                <a:lnTo>
                  <a:pt x="27951" y="20200"/>
                </a:lnTo>
                <a:lnTo>
                  <a:pt x="27951" y="1400"/>
                </a:lnTo>
                <a:close/>
              </a:path>
              <a:path fill="darkenLess" w="29351" h="21600">
                <a:moveTo>
                  <a:pt x="29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1" y="20200"/>
                </a:lnTo>
                <a:close/>
              </a:path>
              <a:path fill="lighten" w="29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1" h="21600">
                <a:moveTo>
                  <a:pt x="14675" y="3837"/>
                </a:moveTo>
                <a:lnTo>
                  <a:pt x="17252" y="6448"/>
                </a:lnTo>
                <a:lnTo>
                  <a:pt x="17252" y="4707"/>
                </a:lnTo>
                <a:lnTo>
                  <a:pt x="19027" y="4707"/>
                </a:lnTo>
                <a:lnTo>
                  <a:pt x="19027" y="8224"/>
                </a:lnTo>
                <a:lnTo>
                  <a:pt x="21638" y="10800"/>
                </a:lnTo>
                <a:lnTo>
                  <a:pt x="19985" y="10800"/>
                </a:lnTo>
                <a:lnTo>
                  <a:pt x="19985" y="17989"/>
                </a:lnTo>
                <a:lnTo>
                  <a:pt x="9366" y="17989"/>
                </a:lnTo>
                <a:lnTo>
                  <a:pt x="9366" y="10800"/>
                </a:lnTo>
                <a:lnTo>
                  <a:pt x="7712" y="10800"/>
                </a:lnTo>
                <a:close/>
              </a:path>
              <a:path fill="darkenLess" w="29351" h="21600">
                <a:moveTo>
                  <a:pt x="17252" y="6448"/>
                </a:moveTo>
                <a:lnTo>
                  <a:pt x="17252" y="4707"/>
                </a:lnTo>
                <a:lnTo>
                  <a:pt x="19027" y="4707"/>
                </a:lnTo>
                <a:lnTo>
                  <a:pt x="19027" y="8224"/>
                </a:lnTo>
                <a:close/>
              </a:path>
              <a:path fill="darkenLess" w="29351" h="21600">
                <a:moveTo>
                  <a:pt x="13753" y="14299"/>
                </a:moveTo>
                <a:lnTo>
                  <a:pt x="15598" y="14299"/>
                </a:lnTo>
                <a:lnTo>
                  <a:pt x="15598" y="17989"/>
                </a:lnTo>
                <a:lnTo>
                  <a:pt x="19985" y="17989"/>
                </a:lnTo>
                <a:lnTo>
                  <a:pt x="19985" y="10800"/>
                </a:lnTo>
                <a:lnTo>
                  <a:pt x="9366" y="10800"/>
                </a:lnTo>
                <a:lnTo>
                  <a:pt x="9366" y="17989"/>
                </a:lnTo>
                <a:lnTo>
                  <a:pt x="13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о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ройство для вывода звуков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8244000" y="6165720"/>
            <a:ext cx="684000" cy="503280"/>
          </a:xfrm>
          <a:custGeom>
            <a:avLst/>
            <a:gdLst>
              <a:gd name="textAreaLeft" fmla="*/ 32400 w 684000"/>
              <a:gd name="textAreaRight" fmla="*/ 651600 w 68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51" h="21600">
                <a:moveTo>
                  <a:pt x="0" y="0"/>
                </a:moveTo>
                <a:lnTo>
                  <a:pt x="29351" y="0"/>
                </a:lnTo>
                <a:lnTo>
                  <a:pt x="29351" y="21600"/>
                </a:lnTo>
                <a:lnTo>
                  <a:pt x="0" y="21600"/>
                </a:lnTo>
                <a:close/>
              </a:path>
              <a:path fill="lightenLess" w="29351" h="21600">
                <a:moveTo>
                  <a:pt x="0" y="0"/>
                </a:moveTo>
                <a:lnTo>
                  <a:pt x="29351" y="0"/>
                </a:lnTo>
                <a:lnTo>
                  <a:pt x="27951" y="1400"/>
                </a:lnTo>
                <a:lnTo>
                  <a:pt x="1400" y="1400"/>
                </a:lnTo>
                <a:close/>
              </a:path>
              <a:path fill="darken" w="29351" h="21600">
                <a:moveTo>
                  <a:pt x="29351" y="0"/>
                </a:moveTo>
                <a:lnTo>
                  <a:pt x="29351" y="21600"/>
                </a:lnTo>
                <a:lnTo>
                  <a:pt x="27951" y="20200"/>
                </a:lnTo>
                <a:lnTo>
                  <a:pt x="27951" y="1400"/>
                </a:lnTo>
                <a:close/>
              </a:path>
              <a:path fill="darkenLess" w="29351" h="21600">
                <a:moveTo>
                  <a:pt x="29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1" y="20200"/>
                </a:lnTo>
                <a:close/>
              </a:path>
              <a:path fill="lighten" w="29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1" h="21600">
                <a:moveTo>
                  <a:pt x="14675" y="3837"/>
                </a:moveTo>
                <a:lnTo>
                  <a:pt x="17252" y="6448"/>
                </a:lnTo>
                <a:lnTo>
                  <a:pt x="17252" y="4707"/>
                </a:lnTo>
                <a:lnTo>
                  <a:pt x="19027" y="4707"/>
                </a:lnTo>
                <a:lnTo>
                  <a:pt x="19027" y="8224"/>
                </a:lnTo>
                <a:lnTo>
                  <a:pt x="21638" y="10800"/>
                </a:lnTo>
                <a:lnTo>
                  <a:pt x="19985" y="10800"/>
                </a:lnTo>
                <a:lnTo>
                  <a:pt x="19985" y="17989"/>
                </a:lnTo>
                <a:lnTo>
                  <a:pt x="9366" y="17989"/>
                </a:lnTo>
                <a:lnTo>
                  <a:pt x="9366" y="10800"/>
                </a:lnTo>
                <a:lnTo>
                  <a:pt x="7712" y="10800"/>
                </a:lnTo>
                <a:close/>
              </a:path>
              <a:path fill="darkenLess" w="29351" h="21600">
                <a:moveTo>
                  <a:pt x="17252" y="6448"/>
                </a:moveTo>
                <a:lnTo>
                  <a:pt x="17252" y="4707"/>
                </a:lnTo>
                <a:lnTo>
                  <a:pt x="19027" y="4707"/>
                </a:lnTo>
                <a:lnTo>
                  <a:pt x="19027" y="8224"/>
                </a:lnTo>
                <a:close/>
              </a:path>
              <a:path fill="darkenLess" w="29351" h="21600">
                <a:moveTo>
                  <a:pt x="13753" y="14299"/>
                </a:moveTo>
                <a:lnTo>
                  <a:pt x="15598" y="14299"/>
                </a:lnTo>
                <a:lnTo>
                  <a:pt x="15598" y="17989"/>
                </a:lnTo>
                <a:lnTo>
                  <a:pt x="19985" y="17989"/>
                </a:lnTo>
                <a:lnTo>
                  <a:pt x="19985" y="10800"/>
                </a:lnTo>
                <a:lnTo>
                  <a:pt x="9366" y="10800"/>
                </a:lnTo>
                <a:lnTo>
                  <a:pt x="9366" y="17989"/>
                </a:lnTo>
                <a:lnTo>
                  <a:pt x="13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9:44:46Z</dcterms:created>
  <dc:creator>СЕРГЕЙ и ЕЛЕНА</dc:creator>
  <dc:description/>
  <dc:language>en-US</dc:language>
  <cp:lastModifiedBy>СЕРГЕЙ и ЕЛЕНА</cp:lastModifiedBy>
  <dcterms:modified xsi:type="dcterms:W3CDTF">2006-09-27T19:51:26Z</dcterms:modified>
  <cp:revision>1</cp:revision>
  <dc:subject/>
  <dc:title>Как устроен компьютер?</dc:title>
</cp:coreProperties>
</file>