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58AA-F361-4652-A5DA-81FC0D4EC4D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3742-5689-4D72-9FB5-70DE3D2146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C955-BC78-4690-9021-4AE452AB9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189B-10F6-46BB-B234-9AF84EA1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392F-44C5-40DD-8BB1-7D6D39BF5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0393-3AE4-46E9-8122-36BDD91CF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2A98-1690-4C54-ACD0-280B94C2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7BEE-69DB-46F7-9308-FB19AD4A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EEC3-71F7-4D64-B4C7-B49B52F8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1D3F-2D62-4C89-9D7D-87C7D39C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DC33-CD4E-4B7E-A6C4-CA1AFD8A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DD94-7B04-4FAD-9D24-861460D6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DAC7-FBF9-427F-AE26-E7470D21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1BA7-E1C0-44D3-B194-BE2CE369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CB2B-9CFB-4E46-B0C6-4AB2F8B093D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м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ждый камень по-своему красив, каждый интересен. Когда мы говорим «камни», мы имеем в виду разнообразные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минералы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горные пород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ые красивые камни называют самоцветами. Среди них есть особенно редкие и ценные. Их называют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драгоценными камням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0"/>
          <p:cNvSpPr/>
          <p:nvPr/>
        </p:nvSpPr>
        <p:spPr>
          <a:xfrm>
            <a:off x="1835280" y="1600200"/>
            <a:ext cx="533376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инерал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819160" y="18288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евой шпа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варц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метис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юд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ани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utoShape 12">
            <a:hlinkClick r:id="rId1" action="ppaction://hlinksldjump"/>
          </p:cNvPr>
          <p:cNvSpPr/>
          <p:nvPr/>
        </p:nvSpPr>
        <p:spPr>
          <a:xfrm>
            <a:off x="685800" y="1773360"/>
            <a:ext cx="720720" cy="7189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3821" y="10800"/>
                </a:moveTo>
                <a:lnTo>
                  <a:pt x="17834" y="3794"/>
                </a:lnTo>
                <a:lnTo>
                  <a:pt x="1783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3">
            <a:hlinkClick r:id="rId2" action="ppaction://hlinksldjump"/>
          </p:cNvPr>
          <p:cNvSpPr/>
          <p:nvPr/>
        </p:nvSpPr>
        <p:spPr>
          <a:xfrm>
            <a:off x="685800" y="328464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4">
            <a:hlinkClick r:id="" action="ppaction://hlinkshowjump?jump=endshow"/>
          </p:cNvPr>
          <p:cNvSpPr/>
          <p:nvPr/>
        </p:nvSpPr>
        <p:spPr>
          <a:xfrm>
            <a:off x="685800" y="4797360"/>
            <a:ext cx="720720" cy="71928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43" h="21600">
                <a:moveTo>
                  <a:pt x="0" y="0"/>
                </a:moveTo>
                <a:lnTo>
                  <a:pt x="21643" y="0"/>
                </a:lnTo>
                <a:lnTo>
                  <a:pt x="21643" y="21600"/>
                </a:lnTo>
                <a:lnTo>
                  <a:pt x="0" y="21600"/>
                </a:lnTo>
                <a:close/>
              </a:path>
              <a:path fill="lightenLess" w="21643" h="21600">
                <a:moveTo>
                  <a:pt x="0" y="0"/>
                </a:moveTo>
                <a:lnTo>
                  <a:pt x="21643" y="0"/>
                </a:lnTo>
                <a:lnTo>
                  <a:pt x="20243" y="1400"/>
                </a:lnTo>
                <a:lnTo>
                  <a:pt x="1400" y="1400"/>
                </a:lnTo>
                <a:close/>
              </a:path>
              <a:path fill="darken" w="21643" h="21600">
                <a:moveTo>
                  <a:pt x="21643" y="0"/>
                </a:moveTo>
                <a:lnTo>
                  <a:pt x="21643" y="21600"/>
                </a:lnTo>
                <a:lnTo>
                  <a:pt x="20243" y="20200"/>
                </a:lnTo>
                <a:lnTo>
                  <a:pt x="20243" y="1400"/>
                </a:lnTo>
                <a:close/>
              </a:path>
              <a:path fill="darkenLess" w="21643" h="21600">
                <a:moveTo>
                  <a:pt x="21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3" y="20200"/>
                </a:lnTo>
                <a:close/>
              </a:path>
              <a:path fill="lighten" w="21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8"/>
          <p:cNvSpPr/>
          <p:nvPr/>
        </p:nvSpPr>
        <p:spPr>
          <a:xfrm>
            <a:off x="1908000" y="1752480"/>
            <a:ext cx="49532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рные пород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050560" y="1915920"/>
            <a:ext cx="54104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вестняк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рамо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AutoShape 9">
            <a:hlinkClick r:id="rId1" action="ppaction://hlinksldjump"/>
          </p:cNvPr>
          <p:cNvSpPr/>
          <p:nvPr/>
        </p:nvSpPr>
        <p:spPr>
          <a:xfrm>
            <a:off x="685800" y="1917720"/>
            <a:ext cx="720720" cy="71928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43" h="21600">
                <a:moveTo>
                  <a:pt x="0" y="0"/>
                </a:moveTo>
                <a:lnTo>
                  <a:pt x="21643" y="0"/>
                </a:lnTo>
                <a:lnTo>
                  <a:pt x="21643" y="21600"/>
                </a:lnTo>
                <a:lnTo>
                  <a:pt x="0" y="21600"/>
                </a:lnTo>
                <a:close/>
              </a:path>
              <a:path fill="lightenLess" w="21643" h="21600">
                <a:moveTo>
                  <a:pt x="0" y="0"/>
                </a:moveTo>
                <a:lnTo>
                  <a:pt x="21643" y="0"/>
                </a:lnTo>
                <a:lnTo>
                  <a:pt x="20243" y="1400"/>
                </a:lnTo>
                <a:lnTo>
                  <a:pt x="1400" y="1400"/>
                </a:lnTo>
                <a:close/>
              </a:path>
              <a:path fill="darken" w="21643" h="21600">
                <a:moveTo>
                  <a:pt x="21643" y="0"/>
                </a:moveTo>
                <a:lnTo>
                  <a:pt x="21643" y="21600"/>
                </a:lnTo>
                <a:lnTo>
                  <a:pt x="20243" y="20200"/>
                </a:lnTo>
                <a:lnTo>
                  <a:pt x="20243" y="1400"/>
                </a:lnTo>
                <a:close/>
              </a:path>
              <a:path fill="darkenLess" w="21643" h="21600">
                <a:moveTo>
                  <a:pt x="21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3" y="20200"/>
                </a:lnTo>
                <a:close/>
              </a:path>
              <a:path fill="lighten" w="21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3" h="21600">
                <a:moveTo>
                  <a:pt x="3815" y="10800"/>
                </a:moveTo>
                <a:lnTo>
                  <a:pt x="17828" y="3794"/>
                </a:lnTo>
                <a:lnTo>
                  <a:pt x="17828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0">
            <a:hlinkClick r:id="" action="ppaction://hlinkshowjump?jump=nextslide"/>
          </p:cNvPr>
          <p:cNvSpPr/>
          <p:nvPr/>
        </p:nvSpPr>
        <p:spPr>
          <a:xfrm>
            <a:off x="685800" y="328464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1">
            <a:hlinkClick r:id="" action="ppaction://hlinkshowjump?jump=endshow"/>
          </p:cNvPr>
          <p:cNvSpPr/>
          <p:nvPr/>
        </p:nvSpPr>
        <p:spPr>
          <a:xfrm>
            <a:off x="684360" y="4724280"/>
            <a:ext cx="718920" cy="7207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54">
                <a:moveTo>
                  <a:pt x="0" y="0"/>
                </a:moveTo>
                <a:lnTo>
                  <a:pt x="21600" y="0"/>
                </a:lnTo>
                <a:lnTo>
                  <a:pt x="21600" y="21654"/>
                </a:lnTo>
                <a:lnTo>
                  <a:pt x="0" y="21654"/>
                </a:lnTo>
                <a:close/>
              </a:path>
              <a:path fill="lightenLess" w="21600" h="216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4">
                <a:moveTo>
                  <a:pt x="21600" y="0"/>
                </a:moveTo>
                <a:lnTo>
                  <a:pt x="21600" y="21654"/>
                </a:lnTo>
                <a:lnTo>
                  <a:pt x="20200" y="20254"/>
                </a:lnTo>
                <a:lnTo>
                  <a:pt x="20200" y="1400"/>
                </a:lnTo>
                <a:close/>
              </a:path>
              <a:path fill="darkenLess" w="21600" h="21654">
                <a:moveTo>
                  <a:pt x="21600" y="21654"/>
                </a:moveTo>
                <a:lnTo>
                  <a:pt x="0" y="21654"/>
                </a:lnTo>
                <a:lnTo>
                  <a:pt x="1400" y="20254"/>
                </a:lnTo>
                <a:lnTo>
                  <a:pt x="20200" y="20254"/>
                </a:lnTo>
                <a:close/>
              </a:path>
              <a:path fill="lighten" w="21600" h="21654">
                <a:moveTo>
                  <a:pt x="0" y="216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4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6"/>
          <p:cNvSpPr/>
          <p:nvPr/>
        </p:nvSpPr>
        <p:spPr>
          <a:xfrm>
            <a:off x="1692360" y="1371600"/>
            <a:ext cx="563868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рагоценные камн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050560" y="1628640"/>
            <a:ext cx="5257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маз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убин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умруд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пфи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609480" y="162864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9">
            <a:hlinkClick r:id="" action="ppaction://hlinkshowjump?jump=nextslide"/>
          </p:cNvPr>
          <p:cNvSpPr/>
          <p:nvPr/>
        </p:nvSpPr>
        <p:spPr>
          <a:xfrm>
            <a:off x="609480" y="306864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0">
            <a:hlinkClick r:id="" action="ppaction://hlinkshowjump?jump=endshow"/>
          </p:cNvPr>
          <p:cNvSpPr/>
          <p:nvPr/>
        </p:nvSpPr>
        <p:spPr>
          <a:xfrm>
            <a:off x="611280" y="455760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4T20:36:55Z</dcterms:created>
  <dc:creator>User</dc:creator>
  <dc:description/>
  <dc:language>en-US</dc:language>
  <cp:lastModifiedBy>lev</cp:lastModifiedBy>
  <dcterms:modified xsi:type="dcterms:W3CDTF">2023-07-21T07:19:54Z</dcterms:modified>
  <cp:revision>8</cp:revision>
  <dc:subject/>
  <dc:title>Презентация о различных видах камней</dc:title>
</cp:coreProperties>
</file>