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4CC4-72D7-4CC0-97D2-9A7762C1D5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61D-86FE-4B7D-A574-9DFC263470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81B-F63D-40C7-8A2B-E9BC87B9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17E-204B-4333-8D9A-69A830C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CDF-6602-4594-AFB0-0C90F62A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F70-8C7F-40F9-9C18-A1EDE8F4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436-9D42-4923-A8FE-5416D00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DE8-EDF1-45F9-9F72-63EE75E5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556-44DC-471E-9BD9-6435BFE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C88-75BB-428F-B70D-9F3E641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B5C-CC8B-4C86-8492-CB07E35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D46-D026-4937-BC53-62FE18A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D94-D961-4054-AD80-524C1C6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C70-1FBE-4FDC-9D08-BDF9811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0D3-1AAE-41F3-8E30-CD43E44E81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камень по-своему красив, каждый интересен. Когда мы говорим «камни», мы имеем в виду разнообразные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нерал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горные пор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красивые камни называют самоцветами. Среди них есть особенно редкие и ценные. Их называют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рагоценными камн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1835280" y="1600200"/>
            <a:ext cx="53337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вой шпа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ети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ю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2">
            <a:hlinkClick r:id="rId1" action="ppaction://hlinksldjump"/>
          </p:cNvPr>
          <p:cNvSpPr/>
          <p:nvPr/>
        </p:nvSpPr>
        <p:spPr>
          <a:xfrm>
            <a:off x="685800" y="177336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>
            <a:hlinkClick r:id="rId2" action="ppaction://hlinksldjump"/>
          </p:cNvPr>
          <p:cNvSpPr/>
          <p:nvPr/>
        </p:nvSpPr>
        <p:spPr>
          <a:xfrm>
            <a:off x="685800" y="3284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" action="ppaction://hlinkshowjump?jump=endshow"/>
          </p:cNvPr>
          <p:cNvSpPr/>
          <p:nvPr/>
        </p:nvSpPr>
        <p:spPr>
          <a:xfrm>
            <a:off x="68580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908000" y="1752480"/>
            <a:ext cx="49532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пор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0560" y="1915920"/>
            <a:ext cx="5410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я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рам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9">
            <a:hlinkClick r:id="rId1" action="ppaction://hlinksldjump"/>
          </p:cNvPr>
          <p:cNvSpPr/>
          <p:nvPr/>
        </p:nvSpPr>
        <p:spPr>
          <a:xfrm>
            <a:off x="685800" y="191772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" action="ppaction://hlinkshowjump?jump=nextslide"/>
          </p:cNvPr>
          <p:cNvSpPr/>
          <p:nvPr/>
        </p:nvSpPr>
        <p:spPr>
          <a:xfrm>
            <a:off x="685800" y="3284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" action="ppaction://hlinkshowjump?jump=endshow"/>
          </p:cNvPr>
          <p:cNvSpPr/>
          <p:nvPr/>
        </p:nvSpPr>
        <p:spPr>
          <a:xfrm>
            <a:off x="684360" y="472428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1692360" y="1371600"/>
            <a:ext cx="56386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гоценные ка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050560" y="162864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маз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би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мру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ф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09480" y="1628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9">
            <a:hlinkClick r:id="" action="ppaction://hlinkshowjump?jump=nextslide"/>
          </p:cNvPr>
          <p:cNvSpPr/>
          <p:nvPr/>
        </p:nvSpPr>
        <p:spPr>
          <a:xfrm>
            <a:off x="609480" y="3068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0">
            <a:hlinkClick r:id="" action="ppaction://hlinkshowjump?jump=endshow"/>
          </p:cNvPr>
          <p:cNvSpPr/>
          <p:nvPr/>
        </p:nvSpPr>
        <p:spPr>
          <a:xfrm>
            <a:off x="611280" y="45576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0:36:55Z</dcterms:created>
  <dc:creator>User</dc:creator>
  <dc:description/>
  <dc:language>en-US</dc:language>
  <cp:lastModifiedBy>lev</cp:lastModifiedBy>
  <dcterms:modified xsi:type="dcterms:W3CDTF">2023-07-21T07:19:54Z</dcterms:modified>
  <cp:revision>8</cp:revision>
  <dc:subject/>
  <dc:title>Презентация о различных видах камней</dc:title>
</cp:coreProperties>
</file>