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683-8074-4EE0-8142-D5F5F306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BDD-18DA-4080-9015-64DAED5B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09F-EB71-42D3-8D79-7442D917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3840-C119-4C8E-8C11-4EEF2418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550-FBCC-48B4-9E89-227CAA54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514-C0A9-4AF1-9C1B-083FB3B2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923-A3EC-4943-B00D-B15AD6DF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9CC-06CB-4435-81F5-36BDA1BE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CE48-2DE8-47B7-A468-E5DC3316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54D6-938A-4C7D-A967-CE614300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17C-FFC2-44E5-95FF-8F666169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AFB-0FD1-499F-B806-5FAB838E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11D6-3922-4109-89DD-1438105810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wmf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989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Тема: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 Создание гиперссылок в программе </a:t>
            </a: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933360"/>
            <a:ext cx="7128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создавать гиперссылки на слай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>
            <a:hlinkClick r:id="" action="ppaction://hlinkshowjump?jump=nextslide"/>
          </p:cNvPr>
          <p:cNvSpPr/>
          <p:nvPr/>
        </p:nvSpPr>
        <p:spPr>
          <a:xfrm>
            <a:off x="7380360" y="6308640"/>
            <a:ext cx="1763640" cy="5493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6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гиперссыл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гипертекстовый перех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ы преимущества использования гиперссыл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создать гиперссылку на слайд текущей презент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создать гиперссылку на другой фай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запретить смену слайдов по щелчку и автоматичес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3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 flipH="1">
            <a:off x="179280" y="6308640"/>
            <a:ext cx="1656000" cy="5493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4049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еимуще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лучшение навиг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актив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>
            <a:hlinkClick r:id="rId1" action="ppaction://hlinksldjump"/>
          </p:cNvPr>
          <p:cNvSpPr/>
          <p:nvPr/>
        </p:nvSpPr>
        <p:spPr>
          <a:xfrm flipH="1">
            <a:off x="179280" y="6308640"/>
            <a:ext cx="1656000" cy="549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>
            <a:hlinkClick r:id="" action="ppaction://hlinkshowjump?jump=nextslide"/>
          </p:cNvPr>
          <p:cNvSpPr/>
          <p:nvPr/>
        </p:nvSpPr>
        <p:spPr>
          <a:xfrm>
            <a:off x="7380360" y="6308640"/>
            <a:ext cx="1763640" cy="549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684360" y="260280"/>
            <a:ext cx="80643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Гиперссылка</a:t>
            </a:r>
            <a:r>
              <a:rPr b="0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чувствительная к щелчку область на экра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щелкнуть на такой области, происходит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гипертекстовый перехо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7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8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акие объекты могут выступать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в роли гиперссыл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5338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меры страниц сай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j033236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6000" y="3141720"/>
            <a:ext cx="3009960" cy="2425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539640" y="566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рт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435640" y="41324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2"/>
          <p:cNvSpPr txBox="1"/>
          <p:nvPr/>
        </p:nvSpPr>
        <p:spPr>
          <a:xfrm>
            <a:off x="5796000" y="5067360"/>
            <a:ext cx="25336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ледующий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зде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580000" y="20462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5364000" y="2924280"/>
            <a:ext cx="1224000" cy="72072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7093080" y="2781360"/>
            <a:ext cx="1368360" cy="86508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216360 h 865080"/>
              <a:gd name="textAreaBottom" fmla="*/ 649080 h 865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0">
            <a:hlinkClick r:id="rId5" action="ppaction://hlinksldjump"/>
          </p:cNvPr>
          <p:cNvSpPr/>
          <p:nvPr/>
        </p:nvSpPr>
        <p:spPr>
          <a:xfrm flipH="1">
            <a:off x="179280" y="6308640"/>
            <a:ext cx="1656000" cy="549360"/>
          </a:xfrm>
          <a:prstGeom prst="pi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3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ример страницы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3a"/>
          <p:cNvPicPr/>
          <p:nvPr/>
        </p:nvPicPr>
        <p:blipFill>
          <a:blip r:embed="rId1"/>
          <a:stretch/>
        </p:blipFill>
        <p:spPr>
          <a:xfrm>
            <a:off x="250920" y="1773360"/>
            <a:ext cx="4319640" cy="3605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11"/>
          <p:cNvPicPr/>
          <p:nvPr/>
        </p:nvPicPr>
        <p:blipFill>
          <a:blip r:embed="rId2"/>
          <a:stretch/>
        </p:blipFill>
        <p:spPr>
          <a:xfrm>
            <a:off x="4900680" y="1805040"/>
            <a:ext cx="3848040" cy="3805200"/>
          </a:xfrm>
          <a:prstGeom prst="rect">
            <a:avLst/>
          </a:prstGeom>
          <a:ln w="0">
            <a:noFill/>
          </a:ln>
        </p:spPr>
      </p:pic>
      <p:sp>
        <p:nvSpPr>
          <p:cNvPr id="65" name="WordArt 8"/>
          <p:cNvSpPr txBox="1"/>
          <p:nvPr/>
        </p:nvSpPr>
        <p:spPr>
          <a:xfrm>
            <a:off x="3924360" y="5950080"/>
            <a:ext cx="1219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за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Прямая соединительная линия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Семейство кошачь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3924360" y="5950080"/>
            <a:ext cx="1219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за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j0079024"/>
          <p:cNvPicPr/>
          <p:nvPr/>
        </p:nvPicPr>
        <p:blipFill>
          <a:blip r:embed="rId1"/>
          <a:stretch/>
        </p:blipFill>
        <p:spPr>
          <a:xfrm flipH="1">
            <a:off x="6227640" y="1557360"/>
            <a:ext cx="2230560" cy="2185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bd07333_"/>
          <p:cNvPicPr/>
          <p:nvPr/>
        </p:nvPicPr>
        <p:blipFill>
          <a:blip r:embed="rId2"/>
          <a:stretch/>
        </p:blipFill>
        <p:spPr>
          <a:xfrm>
            <a:off x="3708360" y="1413000"/>
            <a:ext cx="1704960" cy="1731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bd07335_"/>
          <p:cNvPicPr/>
          <p:nvPr/>
        </p:nvPicPr>
        <p:blipFill>
          <a:blip r:embed="rId3"/>
          <a:stretch/>
        </p:blipFill>
        <p:spPr>
          <a:xfrm flipH="1">
            <a:off x="755280" y="3933720"/>
            <a:ext cx="2197080" cy="2232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2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4" descr="an02552_"/>
          <p:cNvPicPr/>
          <p:nvPr/>
        </p:nvPicPr>
        <p:blipFill>
          <a:blip r:embed="rId4"/>
          <a:stretch/>
        </p:blipFill>
        <p:spPr>
          <a:xfrm>
            <a:off x="5688000" y="4869000"/>
            <a:ext cx="3456000" cy="11538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7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6" descr="an02359_"/>
          <p:cNvPicPr/>
          <p:nvPr/>
        </p:nvPicPr>
        <p:blipFill>
          <a:blip r:embed="rId5"/>
          <a:stretch/>
        </p:blipFill>
        <p:spPr>
          <a:xfrm>
            <a:off x="3276720" y="3645000"/>
            <a:ext cx="2016000" cy="1912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2" descr="an02168_"/>
          <p:cNvPicPr/>
          <p:nvPr/>
        </p:nvPicPr>
        <p:blipFill>
          <a:blip r:embed="rId6"/>
          <a:stretch/>
        </p:blipFill>
        <p:spPr>
          <a:xfrm>
            <a:off x="324000" y="1773360"/>
            <a:ext cx="3095640" cy="14414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ак создать гиперссылку на слай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701360"/>
            <a:ext cx="5257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ерссыл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466560" y="1125360"/>
            <a:ext cx="5257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ть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468360" y="2278080"/>
            <a:ext cx="266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ад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466560" y="2781360"/>
            <a:ext cx="525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рать слайд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К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3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6"/>
          <p:cNvSpPr/>
          <p:nvPr/>
        </p:nvSpPr>
        <p:spPr>
          <a:xfrm flipH="1">
            <a:off x="179280" y="6308640"/>
            <a:ext cx="1656000" cy="5493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7">
            <a:hlinkClick r:id="" action="ppaction://hlinkshowjump?jump=nextslide"/>
          </p:cNvPr>
          <p:cNvSpPr/>
          <p:nvPr/>
        </p:nvSpPr>
        <p:spPr>
          <a:xfrm>
            <a:off x="7380360" y="6308640"/>
            <a:ext cx="1763640" cy="549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8" descr=""/>
          <p:cNvPicPr/>
          <p:nvPr/>
        </p:nvPicPr>
        <p:blipFill>
          <a:blip r:embed="rId3"/>
          <a:srcRect l="0" t="35376" r="0" b="0"/>
          <a:stretch/>
        </p:blipFill>
        <p:spPr>
          <a:xfrm>
            <a:off x="6804000" y="1773360"/>
            <a:ext cx="2160720" cy="1841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4"/>
          <p:cNvSpPr/>
          <p:nvPr/>
        </p:nvSpPr>
        <p:spPr>
          <a:xfrm>
            <a:off x="6804000" y="2565360"/>
            <a:ext cx="21607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5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9" descr=""/>
          <p:cNvPicPr/>
          <p:nvPr/>
        </p:nvPicPr>
        <p:blipFill>
          <a:blip r:embed="rId4"/>
          <a:stretch/>
        </p:blipFill>
        <p:spPr>
          <a:xfrm>
            <a:off x="3564000" y="3716280"/>
            <a:ext cx="5184720" cy="2567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7740720" y="4363920"/>
            <a:ext cx="10792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0" descr=""/>
          <p:cNvPicPr/>
          <p:nvPr/>
        </p:nvPicPr>
        <p:blipFill>
          <a:blip r:embed="rId5"/>
          <a:stretch/>
        </p:blipFill>
        <p:spPr>
          <a:xfrm>
            <a:off x="250920" y="3357720"/>
            <a:ext cx="3267000" cy="3024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324000" y="3573360"/>
            <a:ext cx="3095640" cy="22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29"/>
          <p:cNvCxnSpPr/>
          <p:nvPr/>
        </p:nvCxnSpPr>
        <p:spPr>
          <a:xfrm>
            <a:off x="2410920" y="5805000"/>
            <a:ext cx="73800" cy="288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7" name="Прямая со стрелкой 30"/>
          <p:cNvCxnSpPr>
            <a:stCxn id="93" idx="1"/>
          </p:cNvCxnSpPr>
          <p:nvPr/>
        </p:nvCxnSpPr>
        <p:spPr>
          <a:xfrm flipH="1">
            <a:off x="1907640" y="4544640"/>
            <a:ext cx="5833440" cy="540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8" name="Прямая со стрелкой 34"/>
          <p:cNvCxnSpPr/>
          <p:nvPr/>
        </p:nvCxnSpPr>
        <p:spPr>
          <a:xfrm>
            <a:off x="8028000" y="2708280"/>
            <a:ext cx="10080" cy="1666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9" name="Прямая со стрелкой 37"/>
          <p:cNvCxnSpPr/>
          <p:nvPr/>
        </p:nvCxnSpPr>
        <p:spPr>
          <a:xfrm flipV="1">
            <a:off x="2700360" y="6092640"/>
            <a:ext cx="4680720" cy="73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0" name="Picture 31" descr=""/>
          <p:cNvPicPr/>
          <p:nvPr/>
        </p:nvPicPr>
        <p:blipFill>
          <a:blip r:embed="rId6"/>
          <a:stretch/>
        </p:blipFill>
        <p:spPr>
          <a:xfrm>
            <a:off x="5148360" y="1333440"/>
            <a:ext cx="1511280" cy="1158840"/>
          </a:xfrm>
          <a:prstGeom prst="rect">
            <a:avLst/>
          </a:prstGeom>
          <a:ln w="0">
            <a:noFill/>
          </a:ln>
        </p:spPr>
      </p:pic>
      <p:cxnSp>
        <p:nvCxnSpPr>
          <p:cNvPr id="101" name="Прямая со стрелкой 46"/>
          <p:cNvCxnSpPr/>
          <p:nvPr/>
        </p:nvCxnSpPr>
        <p:spPr>
          <a:xfrm>
            <a:off x="5364000" y="2204640"/>
            <a:ext cx="2385360" cy="2097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9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5184720" cy="2565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Как создать гиперссылку на докумен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5257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ерссыл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716360" y="4149720"/>
            <a:ext cx="2376720" cy="1511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466560" y="1773360"/>
            <a:ext cx="5257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ть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468360" y="2925720"/>
            <a:ext cx="460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ть фай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466560" y="3429000"/>
            <a:ext cx="525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j0078622"/>
          <p:cNvPicPr/>
          <p:nvPr/>
        </p:nvPicPr>
        <p:blipFill>
          <a:blip r:embed="rId2"/>
          <a:stretch/>
        </p:blipFill>
        <p:spPr>
          <a:xfrm>
            <a:off x="900000" y="4005360"/>
            <a:ext cx="854280" cy="18399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2"/>
          <p:cNvSpPr/>
          <p:nvPr/>
        </p:nvSpPr>
        <p:spPr>
          <a:xfrm flipH="1">
            <a:off x="179280" y="6308640"/>
            <a:ext cx="1656000" cy="549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3">
            <a:hlinkClick r:id="" action="ppaction://hlinkshowjump?jump=nextslide"/>
          </p:cNvPr>
          <p:cNvSpPr/>
          <p:nvPr/>
        </p:nvSpPr>
        <p:spPr>
          <a:xfrm>
            <a:off x="7380360" y="6308640"/>
            <a:ext cx="1763640" cy="54936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8" descr=""/>
          <p:cNvPicPr/>
          <p:nvPr/>
        </p:nvPicPr>
        <p:blipFill>
          <a:blip r:embed="rId5"/>
          <a:srcRect l="0" t="35376" r="0" b="0"/>
          <a:stretch/>
        </p:blipFill>
        <p:spPr>
          <a:xfrm>
            <a:off x="6659640" y="1557360"/>
            <a:ext cx="2160360" cy="18414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2"/>
          <p:cNvSpPr/>
          <p:nvPr/>
        </p:nvSpPr>
        <p:spPr>
          <a:xfrm>
            <a:off x="6659640" y="2349360"/>
            <a:ext cx="2160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2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1" descr=""/>
          <p:cNvPicPr/>
          <p:nvPr/>
        </p:nvPicPr>
        <p:blipFill>
          <a:blip r:embed="rId6"/>
          <a:stretch/>
        </p:blipFill>
        <p:spPr>
          <a:xfrm>
            <a:off x="4932360" y="1341360"/>
            <a:ext cx="1511280" cy="1158840"/>
          </a:xfrm>
          <a:prstGeom prst="rect">
            <a:avLst/>
          </a:prstGeom>
          <a:ln w="0">
            <a:noFill/>
          </a:ln>
        </p:spPr>
      </p:pic>
      <p:cxnSp>
        <p:nvCxnSpPr>
          <p:cNvPr id="117" name="Прямая со стрелкой 25"/>
          <p:cNvCxnSpPr/>
          <p:nvPr/>
        </p:nvCxnSpPr>
        <p:spPr>
          <a:xfrm flipH="1">
            <a:off x="6659280" y="2492280"/>
            <a:ext cx="1226160" cy="1658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8" name="Прямая со стрелкой 28"/>
          <p:cNvCxnSpPr/>
          <p:nvPr/>
        </p:nvCxnSpPr>
        <p:spPr>
          <a:xfrm>
            <a:off x="5435280" y="2204640"/>
            <a:ext cx="1080" cy="180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перссылка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бота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ОЛЬК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ри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СМОТ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резен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 flipH="1">
            <a:off x="179280" y="6308640"/>
            <a:ext cx="1656000" cy="5493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nextslide"/>
          </p:cNvPr>
          <p:cNvSpPr/>
          <p:nvPr/>
        </p:nvSpPr>
        <p:spPr>
          <a:xfrm>
            <a:off x="7380360" y="6308640"/>
            <a:ext cx="1763640" cy="549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765320" y="4005360"/>
            <a:ext cx="332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виша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767040" cy="18734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ая соединительная линия 12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539640" y="4005360"/>
            <a:ext cx="3260880" cy="1681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Запрет на смену слай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39640" y="4797360"/>
            <a:ext cx="36036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2"/>
          <a:stretch/>
        </p:blipFill>
        <p:spPr>
          <a:xfrm>
            <a:off x="4211640" y="4076640"/>
            <a:ext cx="4483080" cy="1584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4211640" y="4941720"/>
            <a:ext cx="259236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755640" y="170028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лад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Анимация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ять галочку в поле </a:t>
            </a:r>
            <a:r>
              <a:rPr b="0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щел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ить к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08360" y="5084640"/>
            <a:ext cx="500040" cy="360360"/>
          </a:xfrm>
          <a:prstGeom prst="rightArrow">
            <a:avLst>
              <a:gd name="adj1" fmla="val 50000"/>
              <a:gd name="adj2" fmla="val 4484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 flipH="1">
            <a:off x="179280" y="6308640"/>
            <a:ext cx="1656000" cy="549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9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>
            <a:hlinkClick r:id="" action="ppaction://hlinkshowjump?jump=nextslide"/>
          </p:cNvPr>
          <p:cNvSpPr/>
          <p:nvPr/>
        </p:nvSpPr>
        <p:spPr>
          <a:xfrm>
            <a:off x="7380360" y="6308640"/>
            <a:ext cx="1763640" cy="54936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9:31:42Z</dcterms:created>
  <dc:creator>СЕРГЕЙ и ЕЛЕНА</dc:creator>
  <dc:description/>
  <dc:language>en-US</dc:language>
  <cp:lastModifiedBy>lev</cp:lastModifiedBy>
  <dcterms:modified xsi:type="dcterms:W3CDTF">2023-07-21T06:45:44Z</dcterms:modified>
  <cp:revision>41</cp:revision>
  <dc:subject/>
  <dc:title>Создание гиперссылок</dc:title>
</cp:coreProperties>
</file>