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0B5-5525-4D82-9879-164B4EBB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C68-AE81-4156-B056-70ABA47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7FD-C636-4B3B-A9E3-E4B3567E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F20-2671-435C-82A1-4F77D055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113-13E5-4CD9-86FE-89279EA9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F4D-7D56-44F4-B756-C2A68E6D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E46-9BF9-4B3B-B635-9D7FBF3B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2BE-8091-4DEE-AFEF-4B000DC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DF3-205A-49FD-932C-16E6C179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502-D8B4-418A-8858-D757246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E8A-B863-45F4-AF2F-D98D72F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CA2-29BE-43DA-A51D-C14B6F7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48EA-8B64-4F91-9BEF-96C5302611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ма: Создание карт-меню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 программе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 P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 научиться создавать активные зоны на графических изображениях средствами программ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Poin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о назначение гиперссыл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оздать гиперссыл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убрать отображение заливки и контура фигу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ba7c3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запретить смену слай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щелчку и автоматичес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0920" y="1628640"/>
            <a:ext cx="7848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йте презентацию карту-меню, в которой по щелчку мыши по картинке инструментов «карандаш», «ластик» и «распылитель» открывается слайд с описанием его функционала, по кнопке Домой – возвращаемся на 1-ый слайд с окном графического редактор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1944360" cy="1662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2556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каранда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4572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ласт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9"/>
          <p:cNvSpPr/>
          <p:nvPr/>
        </p:nvSpPr>
        <p:spPr>
          <a:xfrm>
            <a:off x="6588000" y="4508640"/>
            <a:ext cx="1871640" cy="16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Инструмент «распылител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4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4e4c"/>
                </a:solidFill>
                <a:latin typeface="Tahoma"/>
              </a:rPr>
              <a:t>текс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Выгнутая влево стрелка 10"/>
          <p:cNvSpPr/>
          <p:nvPr/>
        </p:nvSpPr>
        <p:spPr>
          <a:xfrm rot="16408200">
            <a:off x="1973880" y="5072400"/>
            <a:ext cx="576360" cy="2295360"/>
          </a:xfrm>
          <a:custGeom>
            <a:avLst/>
            <a:gdLst>
              <a:gd name="textAreaLeft" fmla="*/ 77040 w 576360"/>
              <a:gd name="textAreaRight" fmla="*/ 499320 w 576360"/>
              <a:gd name="textAreaTop" fmla="*/ 519840 h 2295360"/>
              <a:gd name="textAreaBottom" fmla="*/ 1703520 h 22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84" stAng="-5400000" swAng="-5400000"/>
                <a:lnTo>
                  <a:pt x="0" y="11140"/>
                </a:lnTo>
                <a:arcTo wR="21600" hR="9784" stAng="10800000" swAng="-3618879"/>
                <a:lnTo>
                  <a:pt x="16200" y="21289"/>
                </a:lnTo>
                <a:lnTo>
                  <a:pt x="21600" y="20245"/>
                </a:lnTo>
                <a:lnTo>
                  <a:pt x="16200" y="18579"/>
                </a:lnTo>
                <a:lnTo>
                  <a:pt x="16200" y="19256"/>
                </a:lnTo>
                <a:arcTo wR="21600" hR="9784" stAng="7181121" swAng="3510747"/>
                <a:lnTo>
                  <a:pt x="52" y="10462"/>
                </a:lnTo>
                <a:arcTo wR="21600" hR="9784" stAng="-10691869" swAng="5291869"/>
                <a:close/>
              </a:path>
              <a:path fill="darkenLess" w="21600" h="21600">
                <a:moveTo>
                  <a:pt x="21600" y="0"/>
                </a:moveTo>
                <a:arcTo wR="21600" hR="9784" stAng="-5400000" swAng="-5400000"/>
                <a:lnTo>
                  <a:pt x="0" y="9784"/>
                </a:lnTo>
                <a:arcTo wR="21600" hR="9784" stAng="10800000" swAng="-108131"/>
                <a:lnTo>
                  <a:pt x="52" y="10462"/>
                </a:lnTo>
                <a:arcTo wR="21600" hR="9784" stAng="-10691869" swAng="5291869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Выгнутая влево стрелка 11"/>
          <p:cNvSpPr/>
          <p:nvPr/>
        </p:nvSpPr>
        <p:spPr>
          <a:xfrm rot="16408200">
            <a:off x="2678760" y="4393080"/>
            <a:ext cx="863640" cy="4078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938520 h 4078080"/>
              <a:gd name="textAreaBottom" fmla="*/ 3031560 h 407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42" stAng="-5400000" swAng="-5400000"/>
                <a:lnTo>
                  <a:pt x="0" y="11086"/>
                </a:lnTo>
                <a:arcTo wR="21600" hR="9942" stAng="10800000" swAng="-3642477"/>
                <a:lnTo>
                  <a:pt x="16200" y="21284"/>
                </a:lnTo>
                <a:lnTo>
                  <a:pt x="21600" y="20455"/>
                </a:lnTo>
                <a:lnTo>
                  <a:pt x="16200" y="18994"/>
                </a:lnTo>
                <a:lnTo>
                  <a:pt x="16200" y="19567"/>
                </a:lnTo>
                <a:arcTo wR="21600" hR="9942" stAng="7157523" swAng="3551311"/>
                <a:lnTo>
                  <a:pt x="36" y="10514"/>
                </a:lnTo>
                <a:arcTo wR="21600" hR="9942" stAng="-10708834" swAng="5308834"/>
                <a:close/>
              </a:path>
              <a:path fill="darkenLess" w="21600" h="21600">
                <a:moveTo>
                  <a:pt x="21600" y="0"/>
                </a:moveTo>
                <a:arcTo wR="21600" hR="9942" stAng="-5400000" swAng="-5400000"/>
                <a:lnTo>
                  <a:pt x="0" y="9942"/>
                </a:lnTo>
                <a:arcTo wR="21600" hR="9942" stAng="10800000" swAng="-91166"/>
                <a:lnTo>
                  <a:pt x="36" y="10514"/>
                </a:lnTo>
                <a:arcTo wR="21600" hR="9942" stAng="-10708834" swAng="5308834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Выгнутая влево стрелка 12"/>
          <p:cNvSpPr/>
          <p:nvPr/>
        </p:nvSpPr>
        <p:spPr>
          <a:xfrm rot="16408200">
            <a:off x="3787560" y="3465360"/>
            <a:ext cx="812880" cy="6194520"/>
          </a:xfrm>
          <a:custGeom>
            <a:avLst/>
            <a:gdLst>
              <a:gd name="textAreaLeft" fmla="*/ 108720 w 812880"/>
              <a:gd name="textAreaRight" fmla="*/ 704160 w 812880"/>
              <a:gd name="textAreaTop" fmla="*/ 1472400 h 6194520"/>
              <a:gd name="textAreaBottom" fmla="*/ 4620600 h 619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269" stAng="-5400000" swAng="-5400000"/>
                <a:lnTo>
                  <a:pt x="0" y="10977"/>
                </a:lnTo>
                <a:arcTo wR="21600" hR="10269" stAng="10800000" swAng="-3689616"/>
                <a:lnTo>
                  <a:pt x="16200" y="21274"/>
                </a:lnTo>
                <a:lnTo>
                  <a:pt x="21600" y="20892"/>
                </a:lnTo>
                <a:lnTo>
                  <a:pt x="16200" y="19858"/>
                </a:lnTo>
                <a:lnTo>
                  <a:pt x="16200" y="20212"/>
                </a:lnTo>
                <a:arcTo wR="21600" hR="10269" stAng="7110384" swAng="3633247"/>
                <a:lnTo>
                  <a:pt x="13" y="10623"/>
                </a:lnTo>
                <a:arcTo wR="21600" hR="10269" stAng="-10743631" swAng="5343631"/>
                <a:close/>
              </a:path>
              <a:path fill="darkenLess" w="21600" h="21600">
                <a:moveTo>
                  <a:pt x="21600" y="0"/>
                </a:moveTo>
                <a:arcTo wR="21600" hR="10269" stAng="-5400000" swAng="-5400000"/>
                <a:lnTo>
                  <a:pt x="0" y="10269"/>
                </a:lnTo>
                <a:arcTo wR="21600" hR="10269" stAng="10800000" swAng="-56369"/>
                <a:lnTo>
                  <a:pt x="13" y="10623"/>
                </a:lnTo>
                <a:arcTo wR="21600" hR="10269" stAng="-10743631" swAng="5343631"/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4067280" y="587700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14430" y="3837"/>
                </a:moveTo>
                <a:lnTo>
                  <a:pt x="17006" y="6448"/>
                </a:lnTo>
                <a:lnTo>
                  <a:pt x="17006" y="4707"/>
                </a:lnTo>
                <a:lnTo>
                  <a:pt x="18782" y="4707"/>
                </a:lnTo>
                <a:lnTo>
                  <a:pt x="18782" y="8224"/>
                </a:lnTo>
                <a:lnTo>
                  <a:pt x="21393" y="10800"/>
                </a:lnTo>
                <a:lnTo>
                  <a:pt x="19739" y="10800"/>
                </a:lnTo>
                <a:lnTo>
                  <a:pt x="19739" y="17989"/>
                </a:lnTo>
                <a:lnTo>
                  <a:pt x="9121" y="17989"/>
                </a:lnTo>
                <a:lnTo>
                  <a:pt x="9121" y="10800"/>
                </a:lnTo>
                <a:lnTo>
                  <a:pt x="7467" y="10800"/>
                </a:lnTo>
                <a:close/>
              </a:path>
              <a:path fill="darkenLess" w="28860" h="21600">
                <a:moveTo>
                  <a:pt x="17006" y="6448"/>
                </a:moveTo>
                <a:lnTo>
                  <a:pt x="17006" y="4707"/>
                </a:lnTo>
                <a:lnTo>
                  <a:pt x="18782" y="4707"/>
                </a:lnTo>
                <a:lnTo>
                  <a:pt x="18782" y="8224"/>
                </a:lnTo>
                <a:close/>
              </a:path>
              <a:path fill="darkenLess" w="28860" h="21600">
                <a:moveTo>
                  <a:pt x="13507" y="14299"/>
                </a:moveTo>
                <a:lnTo>
                  <a:pt x="15353" y="14299"/>
                </a:lnTo>
                <a:lnTo>
                  <a:pt x="15353" y="17989"/>
                </a:lnTo>
                <a:lnTo>
                  <a:pt x="19739" y="17989"/>
                </a:lnTo>
                <a:lnTo>
                  <a:pt x="19739" y="10800"/>
                </a:lnTo>
                <a:lnTo>
                  <a:pt x="9121" y="10800"/>
                </a:lnTo>
                <a:lnTo>
                  <a:pt x="9121" y="17989"/>
                </a:lnTo>
                <a:lnTo>
                  <a:pt x="13507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6084720" y="587700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14376" y="3837"/>
                </a:moveTo>
                <a:lnTo>
                  <a:pt x="16952" y="6448"/>
                </a:ln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lnTo>
                  <a:pt x="21339" y="10800"/>
                </a:lnTo>
                <a:lnTo>
                  <a:pt x="19685" y="10800"/>
                </a:lnTo>
                <a:lnTo>
                  <a:pt x="19685" y="17989"/>
                </a:lnTo>
                <a:lnTo>
                  <a:pt x="9067" y="17989"/>
                </a:lnTo>
                <a:lnTo>
                  <a:pt x="9067" y="10800"/>
                </a:lnTo>
                <a:lnTo>
                  <a:pt x="7413" y="10800"/>
                </a:lnTo>
                <a:close/>
              </a:path>
              <a:path fill="darkenLess" w="28752" h="21600">
                <a:moveTo>
                  <a:pt x="16952" y="6448"/>
                </a:move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close/>
              </a:path>
              <a:path fill="darkenLess" w="28752" h="21600">
                <a:moveTo>
                  <a:pt x="13453" y="14299"/>
                </a:moveTo>
                <a:lnTo>
                  <a:pt x="15299" y="14299"/>
                </a:lnTo>
                <a:lnTo>
                  <a:pt x="15299" y="17989"/>
                </a:lnTo>
                <a:lnTo>
                  <a:pt x="19685" y="17989"/>
                </a:lnTo>
                <a:lnTo>
                  <a:pt x="19685" y="10800"/>
                </a:lnTo>
                <a:lnTo>
                  <a:pt x="9067" y="10800"/>
                </a:lnTo>
                <a:lnTo>
                  <a:pt x="9067" y="17989"/>
                </a:lnTo>
                <a:lnTo>
                  <a:pt x="13453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Управляющая кнопка: домой 15">
            <a:hlinkClick r:id="" action="ppaction://hlinkshowjump?jump=firstslide"/>
          </p:cNvPr>
          <p:cNvSpPr/>
          <p:nvPr/>
        </p:nvSpPr>
        <p:spPr>
          <a:xfrm>
            <a:off x="8101080" y="5877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5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5" y="17989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bc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сделать копию экран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Print Screen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пия экр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Alt + Print Screen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пия активного ок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483080" cy="3335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24000" y="5122800"/>
            <a:ext cx="39607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Ctrl+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опиров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ahoma"/>
              </a:rPr>
              <a:t>Ctrl+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ав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476360" y="1413000"/>
            <a:ext cx="453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держивая клавишу Alt, 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ожно точно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еремещать объекты</a:t>
            </a:r>
            <a:endParaRPr b="0" lang="en-US" sz="1800" spc="1" strike="noStrike">
              <a:ln w="9360">
                <a:solidFill>
                  <a:srgbClr val="006666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539640" y="1844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240984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3"/>
          <a:srcRect l="24410" t="0" r="0" b="0"/>
          <a:stretch/>
        </p:blipFill>
        <p:spPr>
          <a:xfrm>
            <a:off x="4067280" y="1197000"/>
            <a:ext cx="441792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7"/>
          <p:cNvSpPr/>
          <p:nvPr/>
        </p:nvSpPr>
        <p:spPr>
          <a:xfrm>
            <a:off x="1187280" y="2637000"/>
            <a:ext cx="2305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659640" y="2060640"/>
            <a:ext cx="649080" cy="21600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 rot="7852800">
            <a:off x="5849280" y="3011040"/>
            <a:ext cx="1436760" cy="243000"/>
          </a:xfrm>
          <a:prstGeom prst="rightArrow">
            <a:avLst>
              <a:gd name="adj1" fmla="val 50000"/>
              <a:gd name="adj2" fmla="val 2499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4627800" cy="3960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76320" y="1844640"/>
            <a:ext cx="395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916360" y="1268280"/>
            <a:ext cx="107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4392720" cy="3759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356000" y="2205000"/>
            <a:ext cx="2016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700360" y="1557360"/>
            <a:ext cx="93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4"/>
          <a:stretch/>
        </p:blipFill>
        <p:spPr>
          <a:xfrm>
            <a:off x="1187280" y="2205000"/>
            <a:ext cx="23432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754560" y="826920"/>
            <a:ext cx="83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ПКМ Формат фигуры…-</a:t>
            </a:r>
            <a:r>
              <a:rPr b="0" lang="en-US" sz="1800" spc="-1" strike="noStrike">
                <a:solidFill>
                  <a:srgbClr val="161616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Заливка = нет заливки-</a:t>
            </a:r>
            <a:r>
              <a:rPr b="0" lang="en-US" sz="1800" spc="-1" strike="noStrike">
                <a:solidFill>
                  <a:srgbClr val="161616"/>
                </a:solidFill>
                <a:latin typeface="Tahoma"/>
              </a:rPr>
              <a:t>&gt;</a:t>
            </a: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Цвет линий = нет ли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6"/>
          <p:cNvSpPr/>
          <p:nvPr/>
        </p:nvSpPr>
        <p:spPr>
          <a:xfrm rot="3726600">
            <a:off x="-205920" y="3250080"/>
            <a:ext cx="2584440" cy="360360"/>
          </a:xfrm>
          <a:prstGeom prst="rightArrow">
            <a:avLst>
              <a:gd name="adj1" fmla="val 50000"/>
              <a:gd name="adj2" fmla="val 4492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3260880" cy="16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прет на смену слайд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4797360"/>
            <a:ext cx="360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4483080" cy="1584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11640" y="4941720"/>
            <a:ext cx="259236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55640" y="1700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адка 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/Анимация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ять галочку в поле </a:t>
            </a:r>
            <a:r>
              <a:rPr b="0" lang="ru-RU" sz="3200" spc="-1" strike="noStrike">
                <a:solidFill>
                  <a:srgbClr val="ffff59"/>
                </a:solidFill>
                <a:latin typeface="Webdings"/>
                <a:ea typeface="Webdings"/>
              </a:rPr>
              <a:t>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 По щелч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жать </a:t>
            </a:r>
            <a:r>
              <a:rPr b="0" lang="ru-RU" sz="3200" spc="-1" strike="noStrike">
                <a:solidFill>
                  <a:srgbClr val="ffff59"/>
                </a:solidFill>
                <a:latin typeface="Tahoma"/>
              </a:rPr>
              <a:t>Применить ко вс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708360" y="5084640"/>
            <a:ext cx="500040" cy="360360"/>
          </a:xfrm>
          <a:prstGeom prst="rightArrow">
            <a:avLst>
              <a:gd name="adj1" fmla="val 50000"/>
              <a:gd name="adj2" fmla="val 4484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мер карты-мен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240" y="1197000"/>
            <a:ext cx="68007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ссылка на области инструмента «карандаш»  открывает слайд с описанием функционала этого инструм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нопке Домой – возвращаемся на слайд с картой-мен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>
            <a:hlinkClick r:id="rId2" action="ppaction://hlinksldjump"/>
          </p:cNvPr>
          <p:cNvSpPr/>
          <p:nvPr/>
        </p:nvSpPr>
        <p:spPr>
          <a:xfrm>
            <a:off x="98280" y="1844640"/>
            <a:ext cx="370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нструмент Карандаш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щите указатель, чтобы нарисовать ли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ретаскивании указателя используется основной цвет. Чтобы использовать цвет фона, перетащите указатель, удерживая нажатой правую клавишу мыш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6:03Z</dcterms:created>
  <dc:creator>Лавренченко</dc:creator>
  <dc:description/>
  <dc:language>en-US</dc:language>
  <cp:lastModifiedBy>lev</cp:lastModifiedBy>
  <dcterms:modified xsi:type="dcterms:W3CDTF">2023-07-21T06:21:13Z</dcterms:modified>
  <cp:revision>30</cp:revision>
  <dc:subject/>
  <dc:title>Создание карт-меню</dc:title>
</cp:coreProperties>
</file>