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6A9-551B-4837-97F2-D9C68CE6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35A-136E-4257-B3FC-3B2E7ED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30A-69E0-4401-9F22-176189A9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AD6-049F-4850-B3CB-1487663D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40FD-03D2-4ADA-87A9-3AE3DACC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052E-C12A-47B1-BBD0-1608EBB2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937-202F-4FC3-AC21-816F4E8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3FA4-E16D-455B-988D-C95AF735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D47-011D-48CA-A5A8-85C14830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AC3-28D8-4E23-8DFC-304067E4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7883-0FA2-434A-94C6-F2B19F9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081-8D5D-4F24-9BDA-47CB51F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826-7CE4-4DEA-9ECB-C60B45B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BE4-DBC2-4920-980A-65AE844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965B-9117-43DB-93BF-C504B3A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97EB-D75C-4400-8854-7DF388DE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129-ADDF-407E-B0B4-4F504CE0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B77-47BD-4B2C-9978-72CC8ABA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639-12B3-4A90-892A-08A125A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5D5-3A28-430B-BAFE-61533E0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6EF-54D5-4924-B745-F5269B80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C28-BC1C-4F18-A4EC-FC84BA0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6AA-FD67-49E2-AC1C-18AADAF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518-6638-4027-96AD-7F2B45A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619F-0EEB-4949-B254-088D9243D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A13B-4074-45A5-A8BA-B805996C075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95E-0A15-4C30-B329-2B333BEDF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361960" y="2428920"/>
            <a:ext cx="45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840" y="2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нат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F7FE-3470-4E68-B5A8-B46A1627B7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4591080" y="398772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440000" y="2502000"/>
            <a:ext cx="25056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474840" y="1620720"/>
            <a:ext cx="8037360" cy="2870280"/>
            <a:chOff x="474840" y="1620720"/>
            <a:chExt cx="8037360" cy="2870280"/>
          </a:xfrm>
        </p:grpSpPr>
        <p:sp>
          <p:nvSpPr>
            <p:cNvPr id="193" name="Oval 7"/>
            <p:cNvSpPr/>
            <p:nvPr/>
          </p:nvSpPr>
          <p:spPr>
            <a:xfrm>
              <a:off x="1222200" y="2038320"/>
              <a:ext cx="6450120" cy="2070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8"/>
            <p:cNvSpPr/>
            <p:nvPr/>
          </p:nvSpPr>
          <p:spPr>
            <a:xfrm rot="5400000">
              <a:off x="3953520" y="765720"/>
              <a:ext cx="1212840" cy="463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474840" y="1620720"/>
              <a:ext cx="8037360" cy="287028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10"/>
          <p:cNvSpPr/>
          <p:nvPr/>
        </p:nvSpPr>
        <p:spPr>
          <a:xfrm>
            <a:off x="2995560" y="193824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738680" y="18907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2949480" y="34099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842000" y="2355840"/>
            <a:ext cx="25056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6302520" y="2089080"/>
            <a:ext cx="25056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6259680" y="3767040"/>
            <a:ext cx="25056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2286000" y="374328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7407360" y="277488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101080" y="34369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4183200" y="2716200"/>
            <a:ext cx="693720" cy="690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0"/>
          <p:cNvGrpSpPr/>
          <p:nvPr/>
        </p:nvGrpSpPr>
        <p:grpSpPr>
          <a:xfrm>
            <a:off x="635040" y="3289320"/>
            <a:ext cx="3593880" cy="3177360"/>
            <a:chOff x="635040" y="3289320"/>
            <a:chExt cx="3593880" cy="3177360"/>
          </a:xfrm>
        </p:grpSpPr>
        <p:sp>
          <p:nvSpPr>
            <p:cNvPr id="207" name="Text Box 21"/>
            <p:cNvSpPr/>
            <p:nvPr/>
          </p:nvSpPr>
          <p:spPr>
            <a:xfrm>
              <a:off x="635040" y="60069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006699"/>
                  </a:solidFill>
                  <a:latin typeface="Times New Roman"/>
                </a:rPr>
                <a:t>Z</a:t>
              </a: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 = +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1701360" y="3289320"/>
              <a:ext cx="252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3"/>
          <p:cNvGrpSpPr/>
          <p:nvPr/>
        </p:nvGrpSpPr>
        <p:grpSpPr>
          <a:xfrm>
            <a:off x="4648320" y="1511280"/>
            <a:ext cx="4343400" cy="4917240"/>
            <a:chOff x="4648320" y="1511280"/>
            <a:chExt cx="4343400" cy="4917240"/>
          </a:xfrm>
        </p:grpSpPr>
        <p:sp>
          <p:nvSpPr>
            <p:cNvPr id="210" name="AutoShape 24"/>
            <p:cNvSpPr/>
            <p:nvPr/>
          </p:nvSpPr>
          <p:spPr>
            <a:xfrm>
              <a:off x="8344080" y="1511280"/>
              <a:ext cx="647640" cy="321300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83520 h 3213000"/>
                <a:gd name="textAreaBottom" fmla="*/ 3129480 h 32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5"/>
            <p:cNvSpPr/>
            <p:nvPr/>
          </p:nvSpPr>
          <p:spPr>
            <a:xfrm flipH="1">
              <a:off x="7543440" y="488952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4648320" y="5968800"/>
              <a:ext cx="4051440" cy="459720"/>
            </a:xfrm>
            <a:prstGeom prst="rect">
              <a:avLst/>
            </a:prstGeom>
            <a:noFill/>
            <a:ln w="9360">
              <a:solidFill>
                <a:srgbClr val="cccc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электронная оболочка: 11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8204400" y="585468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8"/>
          <p:cNvGrpSpPr/>
          <p:nvPr/>
        </p:nvGrpSpPr>
        <p:grpSpPr>
          <a:xfrm>
            <a:off x="428760" y="500040"/>
            <a:ext cx="1499760" cy="1074240"/>
            <a:chOff x="428760" y="500040"/>
            <a:chExt cx="1499760" cy="1074240"/>
          </a:xfrm>
        </p:grpSpPr>
        <p:sp>
          <p:nvSpPr>
            <p:cNvPr id="215" name="Text Box 29"/>
            <p:cNvSpPr/>
            <p:nvPr/>
          </p:nvSpPr>
          <p:spPr>
            <a:xfrm>
              <a:off x="819720" y="500040"/>
              <a:ext cx="1108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99"/>
                  </a:solidFill>
                  <a:latin typeface="Times New Roman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0"/>
            <p:cNvSpPr/>
            <p:nvPr/>
          </p:nvSpPr>
          <p:spPr>
            <a:xfrm>
              <a:off x="428760" y="931680"/>
              <a:ext cx="7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31"/>
          <p:cNvSpPr/>
          <p:nvPr/>
        </p:nvSpPr>
        <p:spPr>
          <a:xfrm>
            <a:off x="4143240" y="278604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6 C -0.05191 0.0007 -0.10365 0.0007 -0.15556 0.00186 C -0.17049 0.00209 -0.18837 0.00232 -0.20278 0.01112 C -0.22726 0.02593 -0.24531 0.04978 -0.27084 0.06112 C -0.2816 0.07547 -0.26858 0.05695 -0.27778 0.07408 C -0.279 0.07616 -0.28073 0.07755 -0.28195 0.07964 C -0.28299 0.08126 -0.28386 0.08334 -0.28472 0.08519 C -0.28351 0.0919 -0.28351 0.09978 -0.28056 0.10556 C -0.27952 0.10765 -0.27761 0.10903 -0.27639 0.11112 C -0.27431 0.11459 -0.27396 0.12084 -0.27084 0.12223 C -0.2559 0.12894 -0.26545 0.1257 -0.24167 0.12778 C -0.23229 0.13288 -0.22535 0.13542 -0.21528 0.13704 C -0.20799 0.14028 -0.20226 0.14306 -0.19445 0.14445 C -0.16893 0.16158 -0.15417 0.15255 -0.11806 0.15371 C -0.10191 0.16089 -0.07656 0.15834 -0.0625 0.15927 C -0.05556 0.15973 -0.04861 0.16089 -0.04167 0.16112 C -0.01389 0.16204 0.01389 0.16228 0.04166 0.16297 C 0.05069 0.16528 0.05121 0.16644 0.0625 0.16297 C 0.06406 0.16251 0.0651 0.16019 0.06666 0.15927 C 0.06805 0.15834 0.06944 0.15788 0.07083 0.15741 C 0.08073 0.1544 0.0868 0.15417 0.09583 0.1463 C 0.09878 0.14376 0.11146 0.13357 0.1125 0.13334 C 0.12465 0.13056 0.11805 0.13241 0.13194 0.12778 C 0.13385 0.12709 0.1375 0.12593 0.1375 0.12593 C 0.14791 0.11667 0.13819 0.12408 0.1625 0.12038 C 0.1658 0.11991 0.16892 0.1176 0.17222 0.11667 C 0.18142 0.11413 0.1908 0.11251 0.19861 0.10556 C 0.20173 0.09723 0.20607 0.09028 0.20833 0.08149 C 0.20781 0.07478 0.20903 0.06737 0.20694 0.06112 C 0.20642 0.0595 0.1868 0.04515 0.18611 0.04445 C 0.18368 0.04237 0.18055 0.0419 0.17778 0.04075 C 0.17639 0.04005 0.17361 0.0389 0.17361 0.0389 C 0.1658 0.02848 0.15607 0.02871 0.14583 0.02593 C 0.13906 0.02408 0.1335 0.02177 0.12639 0.02038 C 0.11719 0.01621 0.10798 0.01251 0.09861 0.00927 C 0.08993 0.00163 0.07691 0.00255 0.06666 7.40741E-006 C 0.06389 -0.00069 0.06111 -0.00092 0.05833 -0.00185 C 0.05555 -0.00277 0.05 -0.00555 0.05 -0.00555 C 0.00139 -0.0037 0.01389 -0.01851 1.38889E-006 7.40741E-006 Z">
                                      <p:cBhvr>
                                        <p:cTn id="376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7.40741E-007 C -0.00954 -0.00833 -0.03124 -0.01273 -0.04305 -0.01667 C -0.06666 -0.03773 -0.08315 -0.06528 -0.0986 -0.0963 C -0.09808 -0.09815 -0.09843 -0.1007 -0.09721 -0.10185 C -0.09478 -0.10417 -0.08888 -0.10556 -0.08888 -0.10556 C -0.08593 -0.11158 -0.08471 -0.11898 -0.08055 -0.12408 C -0.07812 -0.12708 -0.07221 -0.13148 -0.07221 -0.13148 C -0.07135 -0.13333 -0.07117 -0.13681 -0.06944 -0.13704 C -0.05225 -0.13935 -0.00433 -0.14121 0.01806 -0.14259 C 0.03126 -0.14838 0.02345 -0.14583 0.04167 -0.14815 C 0.06945 -0.15556 0.07015 -0.15579 0.10834 -0.15741 C 0.12518 -0.16482 0.14098 -0.16204 0.15973 -0.16296 C 0.18942 -0.16181 0.21893 -0.16134 0.24862 -0.15926 C 0.25608 -0.1588 0.26338 -0.15671 0.27084 -0.15556 C 0.27449 -0.15486 0.28195 -0.15371 0.28195 -0.15371 C 0.29202 -0.14931 0.28959 -0.14954 0.3014 -0.14815 C 0.3139 -0.14676 0.3389 -0.14445 0.3389 -0.14445 C 0.34897 -0.14005 0.35747 -0.13241 0.36806 -0.12963 C 0.37761 -0.11945 0.38855 -0.11204 0.39445 -0.09815 C 0.39966 -0.08588 0.39515 -0.10093 0.40001 -0.08148 C 0.40088 -0.07778 0.40279 -0.07037 0.40279 -0.07037 C 0.40226 -0.06412 0.40261 -0.05787 0.4014 -0.05185 C 0.4007 -0.04884 0.39862 -0.04699 0.39723 -0.04445 C 0.38542 -0.02222 0.3797 -0.02986 0.36529 -0.02037 C 0.36476 -0.01991 0.35174 -0.01111 0.3514 -0.01111 C 0.33994 -0.00949 0.32831 -0.00996 0.31667 -0.00926 C 0.3139 -0.00857 0.31112 -0.00764 0.30834 -0.00741 C 0.29723 -0.00648 0.28612 -0.00741 0.27501 -0.00556 C 0.2639 -0.00371 0.25417 0.00463 0.24445 0.01111 C 0.23907 0.01458 0.22883 0.01435 0.22501 0.01481 C 0.16181 0.03588 0.27588 0.02106 0.06667 0.01852 C 0.04688 0.01204 0.02883 0.00579 0.00834 0.0037 C 0.00452 0.00278 6.94444000000002E-006 0.0037 -0.00277 -7.40741E-007 C -0.00346 -0.00093 -0.00086 -7.40741E-007 6.94444E-006 -7.40741E-007 Z">
                                      <p:cBhvr>
                                        <p:cTn id="378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C 0.01528 0.00347 0.01458 0.00347 0.03472 0.00185 C 0.04739 -0.00648 0.06094 -0.01204 0.07361 -0.02037 C 0.07535 -0.02153 0.08246 -0.0287 0.08333 -0.02963 C 0.08628 -0.0331 0.09167 -0.04074 0.09167 -0.04051 C 0.09514 -0.05926 0.10764 -0.06366 0.11805 -0.07407 C 0.12257 -0.07847 0.12621 -0.08426 0.13055 -0.08889 C 0.13107 -0.09074 0.13125 -0.09259 0.13194 -0.09444 C 0.13264 -0.09653 0.13403 -0.09792 0.13472 -0.1 C 0.13594 -0.10347 0.1375 -0.11111 0.1375 -0.11088 C 0.13437 -0.12801 0.12587 -0.14329 0.11667 -0.15556 C 0.11597 -0.15856 0.11007 -0.17662 0.10833 -0.17778 C 0.10573 -0.1794 0.10278 -0.17894 0.1 -0.17963 C 0.09219 -0.18657 0.08264 -0.18472 0.07361 -0.18704 C 0.06198 -0.19005 0.05052 -0.19421 0.03889 -0.19815 C 0.0375 -0.19931 0.03628 -0.20093 0.03472 -0.20185 C 0.03333 -0.20278 0.03177 -0.20278 0.03055 -0.2037 C 0.02482 -0.2081 0.02413 -0.21389 0.01805 -0.21667 C 0.00781 -0.22685 0.00208 -0.22778 -0.01111 -0.22963 C -0.01979 -0.23241 -0.03212 -0.23519 -0.04028 -0.23889 C -0.04427 -0.24074 -0.05 -0.24421 -0.05417 -0.24444 C -0.07778 -0.2456 -0.10139 -0.2456 -0.125 -0.2463 C -0.13802 -0.24977 -0.15087 -0.25394 -0.16389 -0.25741 C -0.19688 -0.25579 -0.23299 -0.25069 -0.26528 -0.25926 C -0.31285 -0.25787 -0.3592 -0.25208 -0.40695 -0.25 C -0.41215 -0.24838 -0.41702 -0.24606 -0.42222 -0.24444 C -0.4283 -0.23843 -0.43577 -0.23403 -0.44306 -0.23148 C -0.45625 -0.21968 -0.45538 -0.22222 -0.475 -0.22037 C -0.49097 -0.21505 -0.47136 -0.22245 -0.48472 -0.21481 C -0.49497 -0.20903 -0.50452 -0.20463 -0.51389 -0.1963 C -0.5191 -0.19167 -0.52257 -0.18426 -0.52778 -0.17963 C -0.53056 -0.17708 -0.53368 -0.17546 -0.53611 -0.17222 C -0.53993 -0.16713 -0.54393 -0.16134 -0.54722 -0.15556 C -0.55504 -0.14213 -0.54896 -0.14606 -0.55695 -0.14259 C -0.56302 -0.13449 -0.56806 -0.12384 -0.57083 -0.11296 C -0.57031 -0.1081 -0.56979 -0.10301 -0.56945 -0.09815 C -0.56684 -0.06273 -0.57309 -0.0662 -0.54722 -0.06296 C -0.54236 -0.06088 -0.53646 -0.06065 -0.53195 -0.05741 C -0.52622 -0.05324 -0.5191 -0.04653 -0.51389 -0.04074 C -0.50556 -0.03125 -0.49827 -0.01782 -0.4875 -0.01296 C -0.48038 0.00116 -0.46545 0.00255 -0.45417 0.0037 C -0.43368 0.01273 -0.40886 0.00926 -0.3875 0.01111 C -0.35747 0.02014 -0.36597 0.0169 -0.31667 0.01852 C -0.26163 0.04306 -0.20469 0.03426 -0.14583 0.03519 C -0.11858 0.03449 -0.09115 0.03565 -0.06389 0.03333 C -0.06215 0.0331 -0.06268 0.02824 -0.06111 0.02778 C -0.04184 0.02083 -0.02136 0.025 -0.00139 0.02407 C 0.00052 0.0088 1.66667E-006 0.01667 1.66667E-006 0 Z">
                                      <p:cBhvr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C -0.01545 -0.00023 -0.08715 0.00046 -0.12222 -0.00371 C -0.12934 -0.00463 -0.13629 -0.01065 -0.14306 -0.01111 C -0.15504 -0.01181 -0.16719 -0.01227 -0.17917 -0.01297 C -0.20608 -0.02014 -0.23368 -0.02732 -0.25972 -0.03889 C -0.26858 -0.04283 -0.27847 -0.04514 -0.2875 -0.04815 C -0.28958 -0.04885 -0.29115 -0.05093 -0.29306 -0.05185 C -0.29583 -0.05324 -0.30139 -0.05556 -0.30139 -0.05533 C -0.30764 -0.06389 -0.31372 -0.06621 -0.32222 -0.06852 C -0.32674 -0.07246 -0.3316 -0.07431 -0.33611 -0.07778 C -0.33906 -0.07986 -0.34149 -0.0831 -0.34445 -0.08519 C -0.34636 -0.08635 -0.34809 -0.08797 -0.35 -0.08889 C -0.35278 -0.09028 -0.35833 -0.0926 -0.35833 -0.09236 C -0.36823 -0.10579 -0.37882 -0.11875 -0.38333 -0.13704 C -0.38281 -0.16042 -0.38368 -0.18403 -0.38195 -0.20741 C -0.38177 -0.20926 -0.37917 -0.20857 -0.37778 -0.20926 C -0.37587 -0.21042 -0.37413 -0.21181 -0.37222 -0.21297 C -0.36354 -0.21783 -0.35521 -0.22292 -0.34583 -0.22593 C -0.34115 -0.2301 -0.33698 -0.23056 -0.33195 -0.23334 C -0.32847 -0.23519 -0.32587 -0.23935 -0.32222 -0.24074 C -0.31198 -0.24491 -0.29827 -0.24792 -0.2875 -0.25 C -0.27743 -0.25672 -0.26615 -0.25834 -0.25556 -0.26297 C -0.24931 -0.26574 -0.24358 -0.27107 -0.2375 -0.27408 C -0.22448 -0.28056 -0.21024 -0.28125 -0.19722 -0.28704 C -0.18698 -0.29167 -0.17743 -0.29398 -0.16667 -0.2963 C -0.15781 -0.29815 -0.15052 -0.30209 -0.14167 -0.30371 C -0.12952 -0.30903 -0.11545 -0.31204 -0.10278 -0.31482 C -0.04063 -0.31389 0.00226 -0.31273 0.05833 -0.30926 C 0.08403 -0.2956 0.11944 -0.29931 0.14583 -0.29815 C 0.15833 -0.2963 0.16996 -0.29236 0.18194 -0.28704 C 0.19427 -0.28148 0.19531 -0.27801 0.20972 -0.27593 C 0.2191 -0.27176 0.22934 -0.26551 0.23889 -0.26297 C 0.24149 -0.26227 0.24722 -0.26111 0.25 -0.25926 C 0.25156 -0.25834 0.2526 -0.25648 0.25417 -0.25556 C 0.25677 -0.25394 0.25972 -0.25301 0.2625 -0.25185 C 0.26649 -0.25 0.27361 -0.24445 0.27361 -0.24422 C 0.27951 -0.23264 0.29253 -0.22755 0.30278 -0.22408 C 0.3118 -0.21505 0.31736 -0.20486 0.32083 -0.19074 C 0.32031 -0.17037 0.32066 -0.15 0.31944 -0.12963 C 0.31927 -0.12685 0.31736 -0.12477 0.31667 -0.12223 C 0.31111 -0.10371 0.30226 -0.08797 0.2875 -0.08148 C 0.27951 -0.06551 0.2901 -0.08426 0.28055 -0.07408 C 0.27917 -0.07269 0.27899 -0.06991 0.27778 -0.06852 C 0.27621 -0.06667 0.27396 -0.06644 0.27222 -0.06482 C 0.26337 -0.05625 0.27326 -0.06088 0.2625 -0.05741 C 0.25555 -0.04815 0.2408 -0.03125 0.23055 -0.02963 C 0.22413 -0.02871 0.21753 -0.02848 0.21111 -0.02778 C 0.20798 -0.02685 0.1993 -0.02408 0.19722 -0.02223 C 0.19583 -0.02107 0.19462 -0.01898 0.19305 -0.01852 C 0.19097 -0.01806 0.14896 -0.01482 0.14861 -0.01482 C 0.11267 -0.00533 0.07708 -0.00371 0.04028 -0.00185 C 0.01944 0.00162 0.03281 2.96296E-006 1.38889E-006 2.96296E-006 Z">
                                      <p:cBhvr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18519E-006 C 0.02187 -0.00718 0.11649 0.00185 0.11944 0.00185 C 0.14878 0.01481 0.16614 0.00995 0.20416 0.01111 C 0.22378 0.01249 0.24166 0.01573 0.26093 0.01851 C 0.27725 0.01805 0.32031 0.01828 0.34427 0.01481 C 0.35312 0.01365 0.3618 0.00902 0.37066 0.0074 C 0.37882 0.00393 0.3875 -5.18519000000011E-006 0.39566 -0.00186 C 0.40208 -0.00325 0.4151 -0.00556 0.4151 -0.00556 C 0.41892 -0.00718 0.42309 -0.00672 0.42639 -0.00927 C 0.4276 -0.01042 0.42777 -0.01343 0.42899 -0.01482 C 0.43073 -0.01667 0.43264 -0.0176 0.43455 -0.01852 C 0.44271 -0.02246 0.45121 -0.02431 0.45972 -0.02593 C 0.46684 -0.02917 0.47343 -0.03427 0.48055 -0.03704 C 0.48802 -0.03982 0.49722 -0.03936 0.50416 -0.04445 C 0.5085 -0.04769 0.51198 -0.05348 0.51666 -0.05556 C 0.52066 -0.05741 0.52239 -0.05788 0.52639 -0.06112 C 0.53159 -0.06552 0.53524 -0.07153 0.54027 -0.07593 C 0.54236 -0.08658 0.54496 -0.09098 0.55277 -0.09445 C 0.55364 -0.0963 0.55434 -0.09839 0.55555 -0.10001 C 0.55711 -0.10209 0.55955 -0.10325 0.56111 -0.10556 C 0.56198 -0.10695 0.5618 -0.1095 0.5625 -0.11112 C 0.56562 -0.11829 0.56944 -0.12408 0.57222 -0.13149 C 0.5717 -0.13889 0.57187 -0.1463 0.57083 -0.15371 C 0.56927 -0.16482 0.55902 -0.17871 0.55277 -0.18704 C 0.54843 -0.2044 0.5335 -0.20602 0.52222 -0.21112 C 0.51024 -0.21644 0.51996 -0.21251 0.50833 -0.22223 C 0.50295 -0.22686 0.48923 -0.23033 0.48333 -0.23149 C 0.45989 -0.2419 0.43507 -0.24538 0.41093 -0.25186 C 0.40277 -0.25394 0.39444 -0.25996 0.38611 -0.26112 C 0.37864 -0.26204 0.37135 -0.26227 0.36371 -0.26297 C 0.34618 -0.26876 0.33593 -0.26922 0.31527 -0.27038 C 0.296 -0.27454 0.27656 -0.27709 0.25833 -0.28519 C 0.20642 -0.28357 0.15625 -0.27917 0.10416 -0.27778 C 0.0875 -0.27663 0.0743 -0.27408 0.05833 -0.27223 C 0.04861 -0.26968 0.03819 -0.26621 0.02916 -0.26112 C 0.01093 -0.25093 0.025 -0.25556 0.01111 -0.25186 C -0.00365 -0.23866 -0.0217 -0.22987 -0.03889 -0.22408 C -0.04514 -0.21852 -0.05243 -0.21667 -0.05973 -0.21482 C -0.06771 -0.20417 -0.05955 -0.2132 -0.07084 -0.20741 C -0.0724 -0.20672 -0.07344 -0.20464 -0.075 -0.20371 C -0.07639 -0.20278 -0.07778 -0.20255 -0.07917 -0.20186 C -0.08403 -0.19214 -0.09167 -0.18843 -0.09861 -0.18149 C -0.11511 -0.16505 -0.12917 -0.15741 -0.13473 -0.12778 C -0.13351 -0.11158 -0.13368 -0.10047 -0.125 -0.08889 C -0.12292 -0.08056 -0.12014 -0.08334 -0.11528 -0.07778 C -0.11198 -0.07408 -0.11025 -0.06852 -0.10695 -0.06482 C -0.10157 -0.05857 -0.09427 -0.05602 -0.0875 -0.05371 C -0.08229 -0.04908 -0.07865 -0.04792 -0.07223 -0.0463 C -0.06545 -0.04167 -0.05851 -0.04028 -0.05139 -0.03704 C -0.03716 -0.03079 -0.05191 -0.03658 -0.0375 -0.02778 C -0.02674 -0.0213 -0.01424 -0.02038 -0.00278 -0.01667 C -0.00139 -0.01737 0.00139 -0.01852 0.00139 -0.01852 E">
                                      <p:cBhvr>
                                        <p:cTn id="384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C 0.00607 -0.0007 0.01215 -0.00047 0.01805 -0.00185 C 0.02812 -0.00417 0.01944 -0.00949 0.03194 -0.01297 C 0.04305 -0.01621 0.05416 -0.02014 0.06528 -0.02222 C 0.0684 -0.025 0.07153 -0.02801 0.075 -0.02963 C 0.07864 -0.03125 0.08611 -0.03334 0.08611 -0.03334 C 0.09132 -0.03797 0.0967 -0.03866 0.10278 -0.04074 C 0.10694 -0.04445 0.11059 -0.04977 0.11528 -0.05185 C 0.12691 -0.05695 0.13819 -0.06204 0.15 -0.06667 C 0.16198 -0.07153 0.17361 -0.07685 0.18611 -0.07963 C 0.29826 -0.07361 0.3934 -0.07315 0.51528 -0.07222 C 0.52621 -0.06736 0.52066 -0.06922 0.53194 -0.06667 C 0.53715 -0.0632 0.54184 -0.0581 0.54722 -0.05556 C 0.55087 -0.05371 0.55833 -0.05185 0.55833 -0.05185 C 0.56875 -0.04259 0.58368 -0.03287 0.59583 -0.02963 C 0.60416 -0.02408 0.61371 -0.01898 0.62083 -0.01111 C 0.6316 0.00069 0.61875 -0.01111 0.62916 -0.00185 C 0.6316 0.0081 0.63194 0.01666 0.6375 0.02407 C 0.63837 0.02847 0.63923 0.04004 0.64305 0.04444 C 0.64965 0.05162 0.64722 0.04444 0.65278 0.05185 C 0.6592 0.06041 0.6618 0.07176 0.66666 0.08148 C 0.66562 0.10301 0.66406 0.12315 0.65416 0.14074 C 0.65364 0.14259 0.65382 0.14491 0.65278 0.14629 C 0.65173 0.14768 0.65 0.14722 0.64861 0.14815 C 0.64271 0.15208 0.6401 0.1537 0.63333 0.15555 C 0.62291 0.1625 0.6118 0.17153 0.6 0.17407 C 0.59583 0.175 0.59166 0.17523 0.5875 0.17592 C 0.58524 0.17639 0.58281 0.17708 0.58055 0.17778 C 0.56927 0.18796 0.5559 0.19421 0.54305 0.2 C 0.53646 0.20301 0.52916 0.20116 0.52222 0.20185 C 0.46562 0.25231 0.38611 0.20856 0.31805 0.20926 C 0.27673 0.2162 0.23993 0.20555 0.2 0.20185 C 0.19253 0.19861 0.18559 0.19791 0.17778 0.19629 C 0.17031 0.19467 0.16302 0.18981 0.15555 0.18889 C 0.14809 0.18796 0.1408 0.18773 0.13333 0.18703 C 0.11198 0.18125 0.09097 0.17315 0.06944 0.17037 C 0.06493 0.16828 0.06163 0.16227 0.05694 0.16111 C 0.04149 0.15694 0.0283 0.14977 0.01389 0.14259 C 0.00816 0.13981 0.00434 0.13403 -0.00139 0.13148 C -0.00695 0.12407 -0.00834 0.11528 -0.01528 0.10926 C -0.02431 0.0912 -0.0099 0.11875 -0.02361 0.09815 C -0.02847 0.09074 -0.02952 0.08379 -0.03334 0.07592 C -0.03455 0.06898 -0.03629 0.0625 -0.0375 0.05555 C -0.03698 0.05254 -0.0375 0.04884 -0.03611 0.04629 C -0.03525 0.04467 -0.03316 0.0456 -0.03195 0.04444 C -0.02413 0.0375 -0.01754 0.02778 -0.00972 0.02037 C -0.00295 0.01389 -0.00816 0.01921 2.77778E-006 0.01296 C 0.00139 0.0118 0.00416 0.01157 0.00416 0.00926 C 0.00416 0.00555 0.00139 0.00301 2.77778E-006 2.59259E-006 Z">
                                      <p:cBhvr>
                                        <p:cTn id="386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C -0.02205 0.00186 -0.04427 0.00324 -0.06649 0.00556 C -0.07448 0.00903 -0.08194 0.01019 -0.0901 0.01297 C -0.09791 0.02338 -0.10434 0.01899 -0.11371 0.02408 C -0.1217 0.02848 -0.1276 0.03426 -0.13593 0.03704 C -0.14461 0.04561 -0.15503 0.04908 -0.16371 0.05741 C -0.17205 0.06528 -0.17916 0.07524 -0.18732 0.08334 C -0.19218 0.0963 -0.20052 0.10556 -0.20538 0.11852 C -0.20677 0.12223 -0.20798 0.12593 -0.20955 0.12963 C -0.21111 0.13357 -0.2151 0.14074 -0.2151 0.14074 C -0.21389 0.1713 -0.21597 0.18033 -0.20121 0.2 C -0.19705 0.2169 -0.17691 0.23727 -0.16371 0.24074 C -0.1559 0.24699 -0.14757 0.25139 -0.13871 0.25371 C -0.12569 0.26528 -0.09305 0.26343 -0.0776 0.26482 C -0.06805 0.26806 -0.05764 0.26551 -0.04843 0.27037 C -0.03611 0.27709 -0.02604 0.28496 -0.0125 0.28704 C 0.02344 0.2926 0.06007 0.29306 0.09601 0.29445 C 0.1757 0.29329 0.18525 0.29653 0.23611 0.28889 C 0.25938 0.28102 0.27674 0.28079 0.30295 0.27963 C 0.31615 0.27662 0.33004 0.27361 0.34323 0.26852 C 0.35486 0.26389 0.36302 0.25949 0.37518 0.25741 C 0.38351 0.25417 0.38941 0.24977 0.3974 0.2463 C 0.39879 0.24561 0.40677 0.23727 0.40712 0.23704 C 0.41111 0.23426 0.41806 0.23287 0.4224 0.23149 C 0.43351 0.22153 0.42014 0.23449 0.42934 0.22223 C 0.43212 0.21852 0.43611 0.21644 0.43907 0.21297 C 0.44549 0.20556 0.44931 0.19584 0.45434 0.18704 C 0.45521 0.18334 0.45625 0.17963 0.45712 0.17593 C 0.45816 0.17176 0.46268 0.16482 0.46268 0.16482 C 0.47032 0.12385 0.46806 0.09167 0.45295 0.05926 C 0.4507 0.05417 0.44601 0.04005 0.44184 0.03704 C 0.43507 0.03195 0.42292 0.03195 0.41545 0.02963 C 0.38507 0.02061 0.35469 0.00926 0.32361 0.00556 C 0.30348 -0.00347 0.28108 -0.00555 0.25973 -0.0074 C 0.22153 -0.02014 0.204 -0.01898 0.15834 -0.02037 C 0.14202 -0.02476 0.12448 -0.01875 0.10851 -0.02592 C 0.06684 -0.025 0.03282 -0.0331 -0.00399 -0.01666 C -0.00902 -0.01018 -0.00642 -0.01226 -0.01093 -0.00926 E">
                                      <p:cBhvr>
                                        <p:cTn id="388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4.44444E-006 C 0.0033 0.0007 0.0066 0.0007 0.00973 0.00186 C 0.02171 0.00672 0.00643 0.00487 0.01806 0.00741 C 0.02674 0.00926 0.04428 0.01042 0.05139 0.01112 C 0.06303 0.01621 0.04966 0.01088 0.07639 0.01482 C 0.08247 0.01575 0.08803 0.01991 0.09445 0.02037 C 0.10782 0.0213 0.12136 0.02153 0.13473 0.02223 C 0.15695 0.02338 0.20139 0.02593 0.20139 0.02593 C 0.2099 0.02871 0.21806 0.03079 0.22639 0.03334 C 0.23108 0.03473 0.23438 0.03866 0.23889 0.04075 C 0.24549 0.04954 0.2415 0.04491 0.25139 0.05371 C 0.25886 0.06042 0.26094 0.06945 0.26667 0.07778 C 0.26928 0.08172 0.27223 0.08519 0.27501 0.08889 C 0.27639 0.09075 0.27917 0.09445 0.27917 0.09445 C 0.28108 0.10487 0.2856 0.11366 0.28751 0.12408 C 0.28629 0.16621 0.29028 0.20857 0.26251 0.23519 C 0.2566 0.24075 0.24758 0.25139 0.24028 0.25186 C 0.22778 0.25278 0.21528 0.25463 0.20278 0.25556 C 0.18837 0.25649 0.17414 0.25672 0.15973 0.25741 C 0.14844 0.25903 0.14584 0.26158 0.13612 0.26482 C 0.13039 0.27246 0.12431 0.27385 0.11667 0.27593 C 0.10348 0.28473 0.09011 0.29028 0.07639 0.2963 C 0.00973 0.29561 -0.05694 0.29561 -0.12361 0.29445 C -0.13611 0.29422 -0.15156 0.2882 -0.16388 0.28704 C -0.18315 0.27848 -0.20937 0.28056 -0.22777 0.27963 C -0.23819 0.275 -0.24878 0.27524 -0.25972 0.27408 C -0.2717 0.2676 -0.28437 0.26204 -0.29722 0.25926 C -0.30538 0.25394 -0.31354 0.24931 -0.32222 0.2463 C -0.32604 0.24283 -0.3309 0.24237 -0.33472 0.23889 C -0.34427 0.23033 -0.33992 0.23287 -0.34722 0.22963 C -0.35138 0.22524 -0.35798 0.22338 -0.35972 0.21667 C -0.3618 0.20811 -0.35989 0.21227 -0.36666 0.20556 C -0.37239 0.19005 -0.36579 0.20672 -0.37499 0.18889 C -0.37742 0.18403 -0.38194 0.17408 -0.38194 0.17408 C -0.38142 0.15255 -0.38229 0.13079 -0.38055 0.10926 C -0.38038 0.10695 -0.37742 0.10741 -0.37638 0.10556 C -0.37552 0.10394 -0.37586 0.10162 -0.37499 0.1 C -0.37343 0.09723 -0.371 0.09537 -0.36944 0.0926 C -0.36736 0.08912 -0.36579 0.08519 -0.36388 0.08149 C -0.36302 0.07963 -0.36267 0.07662 -0.36111 0.07593 C -0.35572 0.07362 -0.34774 0.06922 -0.34305 0.06482 C -0.33906 0.06112 -0.3394 0.05787 -0.33472 0.05556 C -0.32829 0.05232 -0.31909 0.05116 -0.31249 0.05 C -0.30694 0.04746 -0.30364 0.04237 -0.29861 0.03889 C -0.29183 0.0345 -0.28454 0.03056 -0.27777 0.02593 C -0.26319 0.01621 -0.24531 0.02477 -0.22916 0.02408 C -0.2184 0.0213 -0.20798 0.0176 -0.19722 0.01482 C -0.19166 0.01343 -0.18593 0.00857 -0.18055 0.00741 C -0.17361 0.00602 -0.16666 0.00625 -0.15972 0.00556 C -0.146 0.00255 -0.13229 -0.00833 -0.11805 -0.00925 C -0.10225 -0.01041 -0.08663 -0.01041 -0.07083 -0.01111 C -0.05451 -0.00995 -0.03958 -0.00856 -0.02361 -0.00555 C -0.01302 -0.00092 -0.00017 -0.00069 0.01112 0.00186 C 0.01563 -0.00208 0.01528 0.00047 0.01528 -0.0037 E">
                                      <p:cBhvr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4149 -0.00418 -0.08073 -0.0257 -0.12222 -0.02964 C -0.12778 -0.03103 -0.13351 -0.03149 -0.13889 -0.03334 C -0.14583 -0.03566 -0.15139 -0.04191 -0.15833 -0.04445 C -0.16285 -0.04607 -0.16771 -0.04654 -0.17222 -0.04816 C -0.20608 -0.04746 -0.23976 -0.04723 -0.27361 -0.04631 C -0.28004 -0.04607 -0.28663 -0.04538 -0.29306 -0.04445 C -0.30052 -0.04353 -0.31528 -0.04075 -0.31528 -0.04075 C -0.32517 -0.03543 -0.33542 -0.02871 -0.34583 -0.02594 C -0.3507 -0.02154 -0.35556 -0.01922 -0.36111 -0.01668 C -0.36719 -0.01066 -0.37222 -0.00973 -0.37917 -0.00557 C -0.39011 0.00092 -0.40243 0.00717 -0.41389 0.0111 C -0.42031 0.01689 -0.42986 0.02152 -0.4375 0.02406 C -0.45243 0.03888 -0.46892 0.04119 -0.48611 0.04814 C -0.4941 0.05138 -0.50156 0.05531 -0.50972 0.0574 C -0.51528 0.0611 -0.52292 0.06342 -0.52778 0.06851 C -0.54115 0.08286 -0.5309 0.07731 -0.54028 0.08147 C -0.54219 0.08518 -0.54479 0.08842 -0.54583 0.09258 C -0.54792 0.10115 -0.54913 0.10763 -0.55278 0.11481 C -0.55382 0.12383 -0.55556 0.13193 -0.55695 0.14073 C -0.55642 0.15994 -0.55677 0.17916 -0.55556 0.19814 C -0.55521 0.20416 -0.54931 0.21434 -0.54722 0.21851 C -0.53125 0.25068 -0.48958 0.24189 -0.46806 0.24258 C -0.44583 0.2486 -0.42274 0.25092 -0.4 0.25369 C -0.38646 0.2574 -0.37344 0.25948 -0.35972 0.2611 C -0.3507 0.26342 -0.34201 0.26643 -0.33333 0.27036 C -0.31806 0.27707 -0.29201 0.27499 -0.27778 0.27592 C -0.25695 0.27893 -0.23629 0.28309 -0.21528 0.28518 C -0.20486 0.28981 -0.19271 0.28957 -0.18195 0.29073 C -0.16754 0.29467 -0.15365 0.29675 -0.13889 0.29814 C -0.12396 0.29606 -0.10938 0.29258 -0.09445 0.29073 C -0.08559 0.28842 -0.07656 0.28703 -0.06806 0.28332 C -0.06024 0.27985 -0.05382 0.27499 -0.04583 0.27221 C -0.03785 0.26504 -0.02604 0.25994 -0.01667 0.2574 C -0.00174 0.24744 0.01406 0.2361 0.03055 0.23332 C 0.04219 0.22823 0.05399 0.22129 0.06528 0.21481 C 0.075 0.20925 0.08594 0.20717 0.09583 0.20184 C 0.10017 0.19606 0.10469 0.19143 0.10972 0.18703 C 0.11163 0.17962 0.11389 0.17592 0.11805 0.17036 C 0.12222 0.15346 0.11528 0.17985 0.12361 0.1574 C 0.12639 0.14999 0.12726 0.14096 0.12917 0.13332 C 0.1283 0.11226 0.12847 0.09119 0.12639 0.07036 C 0.12604 0.06619 0.12066 0.0611 0.11805 0.05925 C 0.10677 0.05161 0.09427 0.04166 0.08194 0.03888 C 0.07691 0.03564 0.07135 0.03356 0.06667 0.02962 C 0.05555 0.02036 0.07031 0.02754 0.05694 0.01851 C 0.04184 0.00832 0.01649 0.00485 2.5E-006 -5.18519E-006 Z">
                                      <p:cBhvr>
                                        <p:cTn id="392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-0.00052 0.01296 0.00035 0.02615 -0.00139 0.03888 C -0.00208 0.04328 -0.00503 0.04629 -0.00694 0.05 C -0.01354 0.06319 -0.0217 0.07824 -0.03333 0.08333 C -0.04549 0.09953 -0.06215 0.11597 -0.07639 0.12777 C -0.08281 0.1331 -0.09635 0.13726 -0.10278 0.14074 C -0.11059 0.1449 -0.12187 0.15162 -0.13056 0.15185 C -0.16389 0.15301 -0.19722 0.15301 -0.23056 0.1537 C -0.35972 0.15277 -0.40729 0.17569 -0.49583 0.14629 C -0.50556 0.1375 -0.49323 0.14768 -0.50694 0.14074 C -0.50851 0.14004 -0.50955 0.13773 -0.51111 0.13703 C -0.51337 0.13588 -0.5158 0.13588 -0.51806 0.13518 C -0.52656 0.12754 -0.53681 0.12453 -0.54583 0.11851 C -0.55781 0.11041 -0.54774 0.11458 -0.55833 0.11111 C -0.56615 0.10416 -0.56997 0.10509 -0.58056 0.1037 C -0.59062 0.10023 -0.6 0.09513 -0.60972 0.09074 C -0.62205 0.08518 -0.6309 0.08657 -0.64028 0.07407 C -0.6434 0.06157 -0.64931 0.05046 -0.65139 0.03703 C -0.6533 0.02407 -0.65503 0.01111 -0.65694 -0.00186 C -0.65608 -0.03681 -0.66719 -0.06065 -0.64444 -0.06667 C -0.62847 -0.07732 -0.60729 -0.07662 -0.59028 -0.07778 C -0.58125 -0.08588 -0.57014 -0.08241 -0.55972 -0.08519 C -0.54965 -0.09352 -0.54826 -0.09537 -0.5375 -0.09815 C -0.51892 -0.11667 -0.50712 -0.10625 -0.47639 -0.10741 C -0.47552 -0.11112 -0.47639 -0.1176 -0.47361 -0.11852 C -0.46181 -0.12246 -0.45104 -0.12431 -0.43889 -0.12593 C -0.42153 -0.13357 -0.40365 -0.12686 -0.38611 -0.12223 C -0.35486 -0.12385 -0.32587 -0.12987 -0.29444 -0.13149 C -0.28333 -0.13079 -0.27222 -0.13102 -0.26111 -0.12963 C -0.24705 -0.12801 -0.24566 -0.12477 -0.23333 -0.13149 C -0.21319 -0.11366 -0.1842 -0.11899 -0.15972 -0.11482 C -0.15069 -0.11088 -0.15937 -0.11412 -0.14306 -0.11112 C -0.13802 -0.11019 -0.12917 -0.10695 -0.125 -0.10556 C -0.10694 -0.09954 -0.08802 -0.10278 -0.06944 -0.10186 C -0.06267 -0.09885 -0.05556 -0.09723 -0.04861 -0.09445 C -0.03924 -0.09074 -0.03021 -0.08565 -0.02083 -0.08149 C -0.01493 -0.06968 -0.0151 -0.04445 -0.0125 -0.02963 C -0.01181 -0.02593 -0.01059 -0.02223 -0.00972 -0.01852 C -0.0092 -0.01667 -0.00833 -0.01297 -0.00833 -0.01297 C -0.0066 0.00902 -0.01094 0.00879 4.72222E-006 -7.40741E-007 Z">
                                      <p:cBhvr>
                                        <p:cTn id="394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C 0.00243 -0.00486 0.0033 -0.00717 0.00695 -0.01111 C 0.00955 -0.01389 0.01528 -0.01852 0.01528 -0.01828 C 0.01615 -0.02037 0.01684 -0.02245 0.01806 -0.02407 C 0.01927 -0.02569 0.02153 -0.02569 0.02223 -0.02777 C 0.025 -0.03518 0.02552 -0.04398 0.02778 -0.05185 C 0.02726 -0.06227 0.02778 -0.07291 0.02639 -0.08333 C 0.0257 -0.08865 0.01528 -0.10324 0.0125 -0.1074 C 0.00712 -0.11551 0.00313 -0.12824 -0.00277 -0.13518 C -0.01076 -0.14444 -0.02118 -0.15301 -0.03055 -0.15926 C -0.03611 -0.1706 -0.03038 -0.16111 -0.04444 -0.17222 C -0.04878 -0.17569 -0.0526 -0.18009 -0.05694 -0.18333 C -0.06441 -0.18889 -0.07517 -0.18958 -0.08333 -0.19259 C -0.09132 -0.19537 -0.09791 -0.20115 -0.10555 -0.2037 C -0.10781 -0.20625 -0.10989 -0.20926 -0.1125 -0.21111 C -0.11597 -0.21342 -0.12014 -0.2125 -0.12361 -0.21481 C -0.13559 -0.22291 -0.12552 -0.21875 -0.13611 -0.22222 C -0.1592 -0.24074 -0.1875 -0.24791 -0.21389 -0.2537 C -0.21805 -0.25648 -0.22343 -0.26088 -0.22777 -0.26296 C -0.23854 -0.26828 -0.25121 -0.26944 -0.2625 -0.27222 C -0.27274 -0.27477 -0.28281 -0.27801 -0.29305 -0.28148 C -0.33455 -0.28009 -0.34184 -0.27916 -0.37361 -0.27592 C -0.39288 -0.27083 -0.37743 -0.2743 -0.41805 -0.27222 C -0.48246 -0.26875 -0.54444 -0.26759 -0.60972 -0.26666 C -0.61805 -0.26481 -0.62135 -0.26088 -0.62916 -0.2574 C -0.63611 -0.2544 -0.6434 -0.25254 -0.65 -0.24815 C -0.65868 -0.24236 -0.64913 -0.2456 -0.66111 -0.24074 C -0.6651 -0.23912 -0.66857 -0.23958 -0.67222 -0.23703 C -0.68212 -0.23032 -0.69305 -0.22338 -0.70416 -0.22037 C -0.71458 -0.20995 -0.70434 -0.21898 -0.71805 -0.21111 C -0.72534 -0.20694 -0.73246 -0.20069 -0.74027 -0.19815 C -0.74531 -0.19652 -0.75052 -0.19606 -0.75555 -0.19444 C -0.76354 -0.18657 -0.771 -0.17801 -0.77916 -0.17037 C -0.78194 -0.16782 -0.7875 -0.16296 -0.7875 -0.16273 C -0.79027 -0.16551 -0.79271 -0.16898 -0.79583 -0.17037 C -0.79809 -0.17129 -0.80277 -0.16551 -0.80416 -0.16481 C -0.80677 -0.16319 -0.8125 -0.16111 -0.8125 -0.16088 C -0.81701 -0.15671 -0.82187 -0.15046 -0.82639 -0.14629 C -0.83107 -0.14213 -0.83524 -0.1419 -0.83889 -0.13518 C -0.84392 -0.12569 -0.84288 -0.1206 -0.85 -0.11111 C -0.85191 -0.10347 -0.85503 -0.0956 -0.85833 -0.08889 C -0.85885 -0.08588 -0.85868 -0.0824 -0.85972 -0.07963 C -0.86059 -0.07731 -0.86302 -0.07639 -0.86389 -0.07407 C -0.86614 -0.06759 -0.86632 -0.06041 -0.86805 -0.0537 C -0.86718 -0.03819 -0.86944 -0.02407 -0.86111 -0.01296 C -0.85677 0.00139 -0.85121 0.00625 -0.84166 0.01482 C -0.83732 0.01875 -0.8335 0.02385 -0.82916 0.02778 C -0.82639 0.03033 -0.82257 0.02963 -0.81944 0.03148 C -0.8059 0.03935 -0.79635 0.03935 -0.78055 0.04074 C -0.77343 0.04306 -0.76684 0.0463 -0.75972 0.04815 C -0.7533 0.05672 -0.74323 0.05741 -0.73472 0.06111 C -0.7158 0.06945 -0.72951 0.06551 -0.71944 0.07223 C -0.71475 0.07547 -0.7092 0.07616 -0.70416 0.07778 C -0.70225 0.07848 -0.69861 0.07963 -0.69861 0.07986 C -0.69062 0.08658 -0.6809 0.09306 -0.67222 0.09815 C -0.66597 0.10162 -0.66788 0.09815 -0.6625 0.10185 C -0.65659 0.10579 -0.64861 0.11227 -0.64166 0.11297 C -0.61024 0.11551 -0.62691 0.11435 -0.59166 0.11667 C -0.56857 0.12685 -0.5283 0.12477 -0.50555 0.12593 C -0.49149 0.13056 -0.48142 0.13033 -0.46527 0.13148 C -0.46302 0.13218 -0.46059 0.13241 -0.45833 0.13334 C -0.45555 0.13426 -0.45 0.13704 -0.45 0.13727 C -0.40243 0.13588 -0.36684 0.13218 -0.32222 0.12963 C -0.31493 0.12639 -0.31927 0.12894 -0.30972 0.12037 C -0.30746 0.11829 -0.30416 0.11922 -0.30139 0.11852 C -0.28698 0.11922 -0.27274 0.12037 -0.25833 0.12037 C -0.23941 0.12037 -0.22031 0.11968 -0.20139 0.11852 C -0.19496 0.11806 -0.18819 0.11297 -0.18194 0.11111 C -0.16857 0.10695 -0.15503 0.10394 -0.14166 0.1 C -0.12187 0.09422 -0.10052 0.08935 -0.08333 0.07408 C -0.07968 0.06667 -0.07639 0.06667 -0.07083 0.06297 C -0.05868 0.05486 -0.04618 0.04838 -0.03333 0.0426 C -0.02656 0.03357 -0.01718 0.02639 -0.01111 0.01667 C -0.0085 0.0125 -0.00798 0.01065 -0.00694 0.00556 C -0.00642 0.00301 -0.00712 -0.00046 -0.00555 -0.00185 C -0.00399 -0.00324 -0.00191 -0.00069 -2.77778E-006 -2.96296E-006 Z">
                                      <p:cBhvr>
                                        <p:cTn id="396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3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к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165-91FB-4E20-AEC1-417C25B8FA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84040" y="1011240"/>
            <a:ext cx="8062560" cy="3276360"/>
            <a:chOff x="284040" y="1011240"/>
            <a:chExt cx="8062560" cy="3276360"/>
          </a:xfrm>
        </p:grpSpPr>
        <p:sp>
          <p:nvSpPr>
            <p:cNvPr id="221" name="Oval 4"/>
            <p:cNvSpPr/>
            <p:nvPr/>
          </p:nvSpPr>
          <p:spPr>
            <a:xfrm>
              <a:off x="1739520" y="1594080"/>
              <a:ext cx="5414400" cy="1903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"/>
            <p:cNvSpPr/>
            <p:nvPr/>
          </p:nvSpPr>
          <p:spPr>
            <a:xfrm rot="5400000">
              <a:off x="3763800" y="834120"/>
              <a:ext cx="1030680" cy="316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"/>
            <p:cNvSpPr/>
            <p:nvPr/>
          </p:nvSpPr>
          <p:spPr>
            <a:xfrm>
              <a:off x="838800" y="1276200"/>
              <a:ext cx="7039440" cy="262404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7"/>
            <p:cNvSpPr/>
            <p:nvPr/>
          </p:nvSpPr>
          <p:spPr>
            <a:xfrm>
              <a:off x="284040" y="1011240"/>
              <a:ext cx="8062560" cy="32763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Oval 8"/>
          <p:cNvSpPr/>
          <p:nvPr/>
        </p:nvSpPr>
        <p:spPr>
          <a:xfrm>
            <a:off x="1482840" y="1619280"/>
            <a:ext cx="25056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6983280" y="164628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5068800" y="11606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5145120" y="187164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7264440" y="31464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2604960" y="22273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5665680" y="36878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1728720" y="38149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6"/>
          <p:cNvSpPr/>
          <p:nvPr/>
        </p:nvSpPr>
        <p:spPr>
          <a:xfrm>
            <a:off x="6046920" y="1655640"/>
            <a:ext cx="25056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2884320" y="11606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5160960" y="32749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165480" y="15858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3098880" y="32353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6910560" y="2583000"/>
            <a:ext cx="25056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2"/>
          <p:cNvSpPr/>
          <p:nvPr/>
        </p:nvSpPr>
        <p:spPr>
          <a:xfrm>
            <a:off x="3875040" y="37512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3"/>
          <p:cNvSpPr/>
          <p:nvPr/>
        </p:nvSpPr>
        <p:spPr>
          <a:xfrm>
            <a:off x="1914480" y="20131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1839960" y="27385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4530600" y="144144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6"/>
          <p:cNvSpPr/>
          <p:nvPr/>
        </p:nvSpPr>
        <p:spPr>
          <a:xfrm>
            <a:off x="3890880" y="2030400"/>
            <a:ext cx="693720" cy="690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3857760" y="214308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736560" y="2641680"/>
            <a:ext cx="3593880" cy="3177360"/>
            <a:chOff x="736560" y="2641680"/>
            <a:chExt cx="3593880" cy="3177360"/>
          </a:xfrm>
        </p:grpSpPr>
        <p:sp>
          <p:nvSpPr>
            <p:cNvPr id="246" name="Text Box 29"/>
            <p:cNvSpPr/>
            <p:nvPr/>
          </p:nvSpPr>
          <p:spPr>
            <a:xfrm>
              <a:off x="736560" y="535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Z</a:t>
              </a: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 = +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 flipH="1">
              <a:off x="1802880" y="2641680"/>
              <a:ext cx="252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31"/>
          <p:cNvGrpSpPr/>
          <p:nvPr/>
        </p:nvGrpSpPr>
        <p:grpSpPr>
          <a:xfrm>
            <a:off x="4521240" y="952560"/>
            <a:ext cx="4343400" cy="4917240"/>
            <a:chOff x="4521240" y="952560"/>
            <a:chExt cx="4343400" cy="4917240"/>
          </a:xfrm>
        </p:grpSpPr>
        <p:sp>
          <p:nvSpPr>
            <p:cNvPr id="249" name="AutoShape 32"/>
            <p:cNvSpPr/>
            <p:nvPr/>
          </p:nvSpPr>
          <p:spPr>
            <a:xfrm>
              <a:off x="8217000" y="952560"/>
              <a:ext cx="647640" cy="321300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83520 h 3213000"/>
                <a:gd name="textAreaBottom" fmla="*/ 3129480 h 32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3"/>
            <p:cNvSpPr/>
            <p:nvPr/>
          </p:nvSpPr>
          <p:spPr>
            <a:xfrm flipH="1">
              <a:off x="7416360" y="433080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4"/>
            <p:cNvSpPr/>
            <p:nvPr/>
          </p:nvSpPr>
          <p:spPr>
            <a:xfrm>
              <a:off x="4521240" y="5410080"/>
              <a:ext cx="405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электронная оболочка: 19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5"/>
            <p:cNvSpPr/>
            <p:nvPr/>
          </p:nvSpPr>
          <p:spPr>
            <a:xfrm>
              <a:off x="8077320" y="529596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6"/>
          <p:cNvGrpSpPr/>
          <p:nvPr/>
        </p:nvGrpSpPr>
        <p:grpSpPr>
          <a:xfrm>
            <a:off x="428760" y="285840"/>
            <a:ext cx="1499760" cy="1074240"/>
            <a:chOff x="428760" y="285840"/>
            <a:chExt cx="1499760" cy="1074240"/>
          </a:xfrm>
        </p:grpSpPr>
        <p:sp>
          <p:nvSpPr>
            <p:cNvPr id="254" name="Text Box 37"/>
            <p:cNvSpPr/>
            <p:nvPr/>
          </p:nvSpPr>
          <p:spPr>
            <a:xfrm>
              <a:off x="819720" y="285840"/>
              <a:ext cx="1108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33cc"/>
                  </a:solidFill>
                  <a:latin typeface="Times New Roman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8"/>
            <p:cNvSpPr/>
            <p:nvPr/>
          </p:nvSpPr>
          <p:spPr>
            <a:xfrm>
              <a:off x="428760" y="717480"/>
              <a:ext cx="7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</a:rPr>
                <a:t>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val 39"/>
          <p:cNvSpPr/>
          <p:nvPr/>
        </p:nvSpPr>
        <p:spPr>
          <a:xfrm>
            <a:off x="1050840" y="29527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1.85185E-006 C -0.00608 -0.00115 -0.01216 -0.00162 -0.01806 -0.0037 C -0.01962 -0.00416 -0.02067 -0.00648 -0.02223 -0.0074 C -0.02396 -0.00833 -0.02587 -0.00879 -0.02778 -0.00926 C -0.03837 -0.01203 -0.04931 -0.01389 -0.05973 -0.01852 C -0.06337 -0.01852 -0.16233 -0.03217 -0.20556 -0.01296 C -0.21025 -0.0037 -0.21806 0.00116 -0.22501 0.00741 C -0.22692 0.00926 -0.22969 0.00834 -0.23195 0.00926 C -0.23855 0.01158 -0.24896 0.01412 -0.25417 0.02037 C -0.25903 0.02616 -0.2698 0.03866 -0.27223 0.04815 C -0.2731 0.05185 -0.27501 0.05926 -0.27501 0.05926 C -0.27275 0.07176 -0.26737 0.07755 -0.25834 0.08148 C -0.254 0.09908 -0.25452 0.09375 -0.23889 0.0963 C -0.23629 0.10648 -0.22674 0.10625 -0.22084 0.11297 C -0.21962 0.11435 -0.21476 0.12199 -0.21251 0.12222 C -0.19827 0.12385 -0.18386 0.12338 -0.16945 0.12408 C -0.15973 0.12847 -0.15053 0.13287 -0.14028 0.13519 C -0.13178 0.13519 -0.02674 0.16019 0.01388 0.12408 C 0.01944 0.11922 0.02361 0.11227 0.02916 0.10741 C 0.03315 0.10394 0.03888 0.10463 0.04305 0.10185 C 0.05052 0.09699 0.05798 0.0875 0.06388 0.07963 C 0.06788 0.06389 0.0677 0.06644 0.06388 0.03704 C 0.06336 0.03287 0.04982 0.02222 0.04722 0.02037 C 0.03767 0.01343 0.02812 0.00093 0.01666 -1.85185E-006 C 0.01111 -0.00046 0.00555 -1.85185E-006 -5.55556E-006 -1.85185E-006 Z">
                                      <p:cBhvr>
                                        <p:cTn id="496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C -0.0033 0.01736 0.00104 0.03981 0.0125 0.05 C 0.0191 0.06319 0.02917 0.06528 0.04028 0.06667 C 0.05139 0.07639 0.05747 0.07639 0.07222 0.07778 C 0.08333 0.08264 0.07188 0.07801 0.09583 0.08148 C 0.11198 0.0838 0.1283 0.08495 0.14445 0.08704 C 0.17257 0.0963 0.22118 0.08958 0.24722 0.08889 C 0.25486 0.0868 0.26198 0.08403 0.26945 0.08148 C 0.28472 0.06805 0.30278 0.06088 0.32083 0.05741 C 0.32674 0.05347 0.3309 0.04838 0.3375 0.0463 C 0.34202 0.04236 0.34549 0.03727 0.35 0.03333 C 0.35191 0.02963 0.35452 0.02639 0.35556 0.02222 C 0.35642 0.01852 0.35833 0.01111 0.35833 0.01111 C 0.35781 0.00671 0.35833 0.00208 0.35695 -0.00185 C 0.35486 -0.00764 0.34583 -0.01111 0.34167 -0.01296 C 0.33333 -0.02408 0.31962 -0.0257 0.30833 -0.02778 C 0.29757 -0.03264 0.28594 -0.03333 0.275 -0.03704 C 0.27222 -0.03796 0.26945 -0.03935 0.26667 -0.04074 C 0.26441 -0.0419 0.26215 -0.04352 0.25972 -0.04445 C 0.25278 -0.04699 0.24462 -0.04861 0.2375 -0.05 C 0.23195 -0.05255 0.22656 -0.0537 0.22083 -0.05556 C 0.21719 -0.05671 0.20972 -0.05926 0.20972 -0.05926 C 0.10938 -0.0581 0.09618 -0.06759 0.03195 -0.0463 C 0.02934 -0.04398 0.02622 -0.04306 0.02361 -0.04074 C 0.02153 -0.03866 0.02014 -0.03542 0.01806 -0.03333 C 0.01545 -0.03056 0.00972 -0.02593 0.00972 -0.02593 C 0.00764 -0.01759 -0.00139 -0.00695 -0.00139 0.00185 C -0.00139 0.00278 -0.00052 0.00069 -1.11111E-006 3.7037E-006 Z">
                                      <p:cBhvr>
                                        <p:cTn id="49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C 0.00903 0.00903 0.01546 0.01597 0.02639 0.01852 C 0.03334 0.02477 0.04184 0.02685 0.05 0.02963 C 0.07622 0.05301 0.11372 0.04791 0.14306 0.05 C 0.15348 0.05926 0.16181 0.06828 0.17362 0.07407 C 0.179 0.07685 0.1974 0.07754 0.19862 0.07778 C 0.20278 0.07824 0.20695 0.0794 0.21112 0.07963 C 0.23386 0.08078 0.25643 0.08078 0.27917 0.08148 C 0.29445 0.08449 0.2941 0.08518 0.31528 0.08148 C 0.31737 0.08102 0.31893 0.07847 0.32084 0.07778 C 0.32362 0.07662 0.32639 0.07616 0.32917 0.07592 C 0.33837 0.075 0.34775 0.07477 0.35695 0.07407 C 0.36528 0.07245 0.37153 0.06921 0.37917 0.06666 C 0.38438 0.06481 0.40799 0.06319 0.40973 0.06296 C 0.42414 0.05648 0.43941 0.05486 0.45417 0.05 C 0.45643 0.04815 0.45851 0.0456 0.46112 0.04421 C 0.46563 0.04236 0.475 0.04074 0.475 0.04074 C 0.48004 0.03634 0.48507 0.03541 0.49028 0.03148 C 0.49237 0.03009 0.49375 0.02731 0.49584 0.02592 C 0.49844 0.02407 0.50139 0.02338 0.50417 0.02222 C 0.50886 0.02014 0.52171 0.00717 0.52639 0.00185 C 0.53056 -0.00301 0.53455 -0.00834 0.53889 -0.01297 C 0.5415 -0.01574 0.54723 -0.02037 0.54723 -0.02037 C 0.55174 -0.02963 0.55851 -0.03773 0.56112 -0.04815 C 0.55973 -0.08079 0.56441 -0.07778 0.55139 -0.09259 C 0.5448 -0.10023 0.55018 -0.09676 0.54306 -0.1 C 0.53455 -0.11134 0.51875 -0.11898 0.50695 -0.12222 C 0.50382 -0.12431 0.50018 -0.125 0.49723 -0.12778 C 0.49132 -0.13334 0.48959 -0.14097 0.48334 -0.1463 C 0.475 -0.15324 0.46441 -0.15949 0.45556 -0.16482 C 0.45174 -0.16713 0.4448 -0.17361 0.44028 -0.17408 C 0.42275 -0.17639 0.37327 -0.17755 0.36389 -0.17778 C 0.34983 -0.18148 0.33629 -0.18704 0.32223 -0.19074 C 0.31216 -0.19977 0.3 -0.19329 0.28889 -0.19815 C 0.22553 -0.19699 0.16268 -0.19722 0.1 -0.18334 C 0.09514 -0.18009 0.08941 -0.1794 0.08473 -0.17593 C 0.07726 -0.17037 0.07448 -0.16551 0.06667 -0.16297 C 0.05712 -0.1544 0.03803 -0.15255 0.03056 -0.14259 C 0.02466 -0.13472 0.01684 -0.12986 0.01112 -0.12222 C 0.00678 -0.11644 0.00452 -0.10903 -0.00138 -0.10556 C -0.00816 -0.10162 -0.01527 -0.10116 -0.02222 -0.09815 C -0.03125 -0.08611 -0.025 -0.0956 -0.03055 -0.08519 C -0.03333 -0.08009 -0.03888 -0.07037 -0.03888 -0.07037 C -0.04027 -0.06297 -0.04131 -0.0581 -0.04444 -0.05185 C -0.04496 -0.04884 -0.04583 -0.04584 -0.04583 -0.04259 C -0.04583 -0.02153 -0.02951 -0.02199 -0.01805 -0.02037 C -0.01493 -0.01898 -0.01093 -0.01945 -0.00833 -0.01667 C -0.00711 -0.01551 -0.00763 -0.01297 -0.00694 -0.01111 C -0.00503 -0.00602 -0.00312 -0.00417 -3.88889E-006 1.85185E-006 Z">
                                      <p:cBhvr>
                                        <p:cTn id="500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59259E-006 C -0.01579 -0.01042 -0.03419 -0.00787 -0.05138 -0.01111 C -0.05971 -0.01481 -0.06284 -0.01829 -0.07221 -0.02037 C -0.08037 -0.02593 -0.08714 -0.03495 -0.09444 -0.04259 C -0.10381 -0.05231 -0.11405 -0.05949 -0.1236 -0.06852 C -0.13089 -0.07546 -0.13593 -0.08704 -0.14444 -0.09074 C -0.14617 -0.1 -0.14773 -0.10949 -0.14999 -0.11852 C -0.14912 -0.13333 -0.15051 -0.14884 -0.14721 -0.16296 C -0.14669 -0.16551 -0.14426 -0.16643 -0.14305 -0.16852 C -0.14096 -0.17199 -0.14044 -0.17755 -0.13749 -0.17963 C -0.12898 -0.18542 -0.13367 -0.18171 -0.1236 -0.19074 C -0.12065 -0.19352 -0.1045 -0.1956 -0.10138 -0.1963 C -0.096 -0.19977 -0.09166 -0.20139 -0.0861 -0.2037 C -0.08332 -0.20486 -0.07777 -0.20741 -0.07777 -0.20741 C -0.07291 -0.21389 -0.05832 -0.22685 -0.05138 -0.22963 C -0.04062 -0.23403 -0.02864 -0.23426 -0.01805 -0.23889 C 0.00227 -0.24792 0.02136 -0.25023 0.04306 -0.25185 C 0.04532 -0.25255 0.04775 -0.25301 0.05001 -0.2537 C 0.05365 -0.25486 0.06112 -0.25741 0.06112 -0.25741 C 0.06702 -0.25741 0.18786 -0.25671 0.2264 -0.2537 C 0.2415 -0.25255 0.25331 -0.24305 0.2665 -0.23518 C 0.28334 -0.22523 0.30175 -0.22523 0.31945 -0.22407 C 0.33109 -0.22106 0.34254 -0.21782 0.354 -0.21481 C 0.35886 -0.21065 0.3632 -0.21065 0.36806 -0.20741 C 0.37883 -0.20023 0.36598 -0.20648 0.3764 -0.20185 C 0.38317 -0.19282 0.39063 -0.18657 0.39862 -0.17963 C 0.40036 -0.16852 0.40209 -0.16782 0.40695 -0.15926 C 0.40904 -0.15579 0.4106 -0.15185 0.41251 -0.14815 C 0.41338 -0.14653 0.41286 -0.14398 0.4139 -0.14259 C 0.41494 -0.1412 0.41668 -0.14143 0.41806 -0.14074 C 0.42119 -0.13218 0.42136 -0.12384 0.42362 -0.11481 C 0.4231 -0.10555 0.42466 -0.09583 0.42223 -0.08704 C 0.42067 -0.08125 0.41581 -0.07847 0.41251 -0.07407 C 0.40435 -0.06319 0.39428 -0.05532 0.38612 -0.04444 C 0.38195 -0.03889 0.37918 -0.03333 0.37362 -0.02963 C 0.35886 -0.01991 0.33473 -0.02292 0.32206 -0.02222 C 0.31477 -0.02083 0.30452 -0.01551 0.29706 -0.01481 C 0.26772 -0.01227 0.24098 -0.01042 0.21095 -0.00926 C 0.18317 -0.00463 0.15452 -0.00555 0.1264 -0.0037 C 0.12501 -0.00301 0.12362 -0.00278 0.12223 -0.00185 C 0.12067 -0.00093 0.11963 0.00116 0.11806 0.00185 C 0.11442 0.0037 0.10695 0.00556 0.10695 0.00556 C 0.000359999999999999 0.0037 0.0172 0.0456 5.27778E-006 2.59259E-006 Z">
                                      <p:cBhvr>
                                        <p:cTn id="502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C 0.02466 -0.00209 0.01406 0.00046 0.03195 -0.00556 C 0.04063 -0.00834 0.04827 -0.01713 0.05695 -0.02037 C 0.06233 -0.02246 0.06806 -0.02269 0.07362 -0.02408 C 0.0816 -0.0294 0.08507 -0.03218 0.09445 -0.03519 C 0.11372 -0.05047 0.13629 -0.06088 0.15834 -0.06667 C 0.16528 -0.07269 0.17136 -0.08033 0.17778 -0.08704 C 0.18039 -0.08982 0.18369 -0.09121 0.18612 -0.09445 C 0.1974 -0.10949 0.19219 -0.10371 0.20139 -0.11297 C 0.20261 -0.12061 0.20417 -0.12778 0.20556 -0.13519 C 0.20504 -0.14144 0.20556 -0.14769 0.20417 -0.15371 C 0.20313 -0.15834 0.19896 -0.16065 0.19723 -0.16482 C 0.19271 -0.17547 0.18837 -0.18565 0.18056 -0.1926 C 0.17796 -0.20301 0.17084 -0.20324 0.16389 -0.20741 C 0.14619 -0.21783 0.12882 -0.2301 0.10973 -0.23519 C 0.09375 -0.24584 0.07292 -0.24653 0.05556 -0.24815 C 0.04046 -0.25093 0.02657 -0.25741 0.01111 -0.25926 C 0.00469 -0.26204 -0.00173 -0.26343 -0.00834 -0.26482 C -0.08298 -0.26389 -0.13646 -0.26459 -0.20417 -0.25556 C -0.21789 -0.25093 -0.20174 -0.25602 -0.22917 -0.25186 C -0.23733 -0.2507 -0.2441 -0.24746 -0.25278 -0.2463 C -0.25834 -0.24445 -0.26268 -0.24121 -0.26806 -0.23889 C -0.26893 -0.23843 -0.28004 -0.23542 -0.28334 -0.23334 C -0.29306 -0.22732 -0.30244 -0.21968 -0.31251 -0.21482 C -0.31528 -0.21343 -0.31823 -0.21297 -0.32084 -0.21111 C -0.32275 -0.20996 -0.32448 -0.20834 -0.32639 -0.20741 C -0.32917 -0.20602 -0.33195 -0.20486 -0.33473 -0.20371 C -0.33612 -0.20301 -0.33889 -0.20186 -0.33889 -0.20186 C -0.34202 -0.19769 -0.34341 -0.19514 -0.34723 -0.1926 C -0.35261 -0.18912 -0.35122 -0.19283 -0.35695 -0.18704 C -0.35903 -0.18496 -0.3606 -0.18195 -0.36251 -0.17963 C -0.36372 -0.17824 -0.36528 -0.17709 -0.36667 -0.17593 C -0.37067 -0.16783 -0.37379 -0.15973 -0.37778 -0.15186 C -0.37622 -0.13033 -0.37257 -0.10996 -0.36528 -0.09074 C -0.36372 -0.08681 -0.36442 -0.08149 -0.36251 -0.07778 C -0.36112 -0.07524 -0.35869 -0.07431 -0.35695 -0.07223 C -0.34948 -0.06343 -0.34931 -0.05973 -0.34028 -0.05371 C -0.32587 -0.04422 -0.3073 -0.04838 -0.29167 -0.0463 C -0.28976 -0.04561 -0.28803 -0.04514 -0.28612 -0.04445 C -0.28473 -0.04399 -0.28334 -0.04306 -0.28195 -0.0426 C -0.2783 -0.04121 -0.27084 -0.03889 -0.27084 -0.03889 C -0.25817 -0.02755 -0.27101 -0.03774 -0.23751 -0.03334 C -0.22257 -0.03149 -0.20799 -0.02454 -0.19306 -0.02223 C -0.16077 -0.01713 -0.1283 -0.01621 -0.09584 -0.01482 C -0.04375 0.00254 -0.11372 -0.00649 0.00139 -0.00371 C 0.00365 -0.00301 0.00591 -0.00186 0.00834 -0.00186 C 0.01164 -0.00186 0.01806 -0.00371 0.01806 -0.00371 E">
                                      <p:cBhvr>
                                        <p:cTn id="5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-0.0085 0.00371 -0.01302 0.0095 -0.02083 0.01297 C -0.02708 0.02547 -0.01979 0.0132 -0.02777 0.02037 C -0.03819 0.02963 -0.02621 0.02338 -0.03611 0.02778 C -0.04409 0.03612 -0.05052 0.04075 -0.0585 0.04815 C -0.06267 0.05232 -0.06649 0.05926 -0.071 0.06297 C -0.0809 0.0713 -0.09201 0.07477 -0.10295 0.07963 C -0.10902 0.08241 -0.1158 0.08056 -0.12239 0.08149 C -0.12569 0.08195 -0.12882 0.08311 -0.13211 0.08334 C -0.14357 0.08426 -0.15503 0.0845 -0.16666 0.08519 C -0.17812 0.08681 -0.19027 0.08889 -0.20139 0.0926 C -0.26371 0.09098 -0.33923 0.10024 -0.39861 0.08704 C -0.40503 0.08357 -0.41128 0.08195 -0.41805 0.07963 C -0.42482 0.07362 -0.43264 0.07223 -0.44027 0.06852 C -0.45399 0.06181 -0.46614 0.05741 -0.48055 0.05556 C -0.48784 0.05232 -0.49548 0.05116 -0.50277 0.04815 C -0.50989 0.04537 -0.51649 0.04028 -0.52361 0.03704 C -0.53264 0.025 -0.52187 0.03727 -0.53472 0.02963 C -0.54097 0.02593 -0.54305 0.02084 -0.55 0.01852 C -0.55086 0.01598 -0.55156 0.01343 -0.55277 0.01112 C -0.55399 0.00903 -0.5559 0.00764 -0.55694 0.00556 C -0.56007 -0.00069 -0.56111 -0.01296 -0.5625 -0.02037 C -0.56198 -0.03564 -0.56198 -0.08217 -0.54722 -0.09444 C -0.54288 -0.09791 -0.53819 -0.09861 -0.53333 -0.1 C -0.51423 -0.11713 -0.49514 -0.11851 -0.47222 -0.12037 C -0.46441 -0.12291 -0.45642 -0.12523 -0.44861 -0.12777 C -0.4368 -0.13819 -0.4309 -0.13611 -0.41666 -0.13888 C -0.39809 -0.14884 -0.39739 -0.14838 -0.37222 -0.15 C -0.37083 -0.15069 -0.36944 -0.15185 -0.36805 -0.15185 C -0.31996 -0.15532 -0.27361 -0.15648 -0.22517 -0.1574 C -0.19566 -0.15532 -0.16857 -0.14814 -0.13906 -0.14629 C -0.12343 -0.13935 -0.14514 -0.14838 -0.10295 -0.14259 C -0.09757 -0.14189 -0.0927 -0.13842 -0.08767 -0.13703 C -0.08576 -0.13588 -0.08402 -0.13425 -0.08211 -0.13333 C -0.07986 -0.1324 -0.07743 -0.13263 -0.07517 -0.13148 C -0.06649 -0.12708 -0.06267 -0.12314 -0.05434 -0.12037 C -0.04618 -0.11342 -0.04149 -0.10995 -0.03194 -0.1074 C -0.03055 -0.10625 -0.02934 -0.10463 -0.02777 -0.1037 C -0.02517 -0.10208 -0.01944 -0.1 -0.01944 -0.1 C -0.01527 -0.09444 -0.0125 -0.09143 -0.00694 -0.08888 C -0.0026 -0.08009 -0.00069 -0.07407 0.00556 -0.06851 C 0.00643 -0.06481 0.00677 -0.06064 0.00834 -0.0574 C 0.0092 -0.05555 0.01042 -0.05393 0.01111 -0.05185 C 0.01233 -0.04838 0.01389 -0.04074 0.01389 -0.04074 C 0.01372 -0.03611 0.01841 -0.0074 0.00695 -0.0074 E">
                                      <p:cBhvr>
                                        <p:cTn id="506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55556E-006 C -0.00677 -0.00301 -0.01285 -0.00764 -0.01944 -0.01112 C -0.03489 -0.01899 -0.02361 -0.00996 -0.0375 -0.02038 C -0.05521 -0.03357 -0.04566 -0.02894 -0.05555 -0.03334 C -0.15017 -0.03218 -0.24271 -0.03426 -0.33611 -0.02038 C -0.34097 -0.01829 -0.34618 -0.01389 -0.35139 -0.01297 C -0.36146 -0.01135 -0.38194 -0.00926 -0.38194 -0.00926 C -0.39531 -0.00325 -0.40243 0.01342 -0.41389 0.01851 C -0.41892 0.02847 -0.42778 0.03124 -0.43333 0.04074 C -0.43871 0.04999 -0.44097 0.05833 -0.44722 0.06666 C -0.44965 0.08009 -0.45503 0.09074 -0.45833 0.1037 C -0.46128 0.11574 -0.46163 0.12847 -0.46389 0.14074 C -0.46267 0.15023 -0.4618 0.16273 -0.45694 0.17037 C -0.45295 0.17685 -0.45017 0.17824 -0.44444 0.18333 C -0.44045 0.1868 -0.43455 0.18541 -0.43055 0.18888 C -0.41441 0.20324 -0.39271 0.20925 -0.37361 0.21296 C -0.35417 0.22152 -0.33264 0.22361 -0.3125 0.22592 C -0.27691 0.24166 -0.20503 0.23449 -0.18611 0.23518 C -0.15121 0.2456 -0.11441 0.23749 -0.07917 0.23518 C -0.05764 0.22083 -0.03368 0.22106 -0.01111 0.21111 C 0.00504 0.20393 0.01979 0.19236 0.03611 0.18518 C 0.04566 0.18101 0.05677 0.18009 0.06667 0.17777 C 0.075 0.17222 0.08177 0.16365 0.08889 0.15555 C 0.09427 0.14953 0.09236 0.15462 0.09722 0.14629 C 0.09931 0.14282 0.10087 0.13888 0.10278 0.13518 C 0.10365 0.13333 0.10556 0.12962 0.10556 0.12962 C 0.10764 0.11874 0.11198 0.1074 0.11667 0.09814 C 0.11997 0.08055 0.11771 0.08796 0.12222 0.07592 C 0.11823 0.05995 0.11823 0.05763 0.10972 0.04629 C 0.10695 0.03495 0.09965 0.02569 0.09167 0.02037 C 0.08993 0.01921 0.08785 0.01921 0.08611 0.01851 C 0.08368 0.01736 0.08142 0.01643 0.07917 0.01481 C 0.06754 0.00624 0.07952 0.01134 0.06806 0.0074 C 0.06233 -0.00394 0.05243 -0.00255 0.04306 -0.00371 C 0.03767 -0.00602 0.01528 -0.01112 0.00972 -0.00926 C 0.0059 -0.00788 0.0033 -0.00301 -1.11111E-006 -5.55556E-006 Z">
                                      <p:cBhvr>
                                        <p:cTn id="50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C 0.0191 0.00138 0.03785 0.0037 0.05695 0.00555 C 0.08473 0.01296 0.11355 0.01435 0.14167 0.01851 C 0.14653 0.02083 0.15678 0.02407 0.15678 0.02407 C 0.16789 0.03495 0.15799 0.02708 0.17917 0.03333 C 0.19063 0.0368 0.20209 0.04143 0.21389 0.04444 C 0.225 0.05324 0.23125 0.06574 0.24028 0.07777 C 0.24167 0.07962 0.2441 0.08009 0.24584 0.08148 C 0.25087 0.08564 0.2566 0.0912 0.26112 0.09629 C 0.26737 0.10347 0.26632 0.10439 0.27084 0.11666 C 0.27171 0.11921 0.27362 0.12407 0.27362 0.12407 C 0.27605 0.14027 0.27553 0.17175 0.26389 0.18333 C 0.26077 0.18657 0.25712 0.18912 0.25417 0.19259 C 0.24289 0.20601 0.25053 0.20208 0.24028 0.20555 C 0.23403 0.21111 0.22726 0.21412 0.22084 0.21851 C 0.2132 0.22361 0.20938 0.23101 0.19983 0.23148 C 0.17848 0.23263 0.15747 0.23263 0.13612 0.23333 C 0.12674 0.23587 0.11823 0.24328 0.10973 0.24629 C 0.09445 0.25138 0.0783 0.24884 0.0625 0.25 C 0.02969 0.25231 0.0224 0.253 -0.00416 0.25555 C -0.01163 0.25763 -0.01875 0.25972 -0.02638 0.26111 C -0.05555 0.26041 -0.08472 0.26041 -0.11388 0.25925 C -0.11875 0.25902 -0.1243 0.25509 -0.12916 0.2537 C -0.146 0.2493 -0.16024 0.24583 -0.17777 0.24444 C -0.18489 0.2412 -0.19131 0.23888 -0.19861 0.23703 C -0.20329 0.23402 -0.20763 0.22986 -0.2125 0.22777 C -0.21822 0.22523 -0.22899 0.22222 -0.23472 0.21666 C -0.24166 0.21018 -0.24409 0.19791 -0.25 0.19074 C -0.25833 0.18078 -0.26857 0.16921 -0.27777 0.16111 C -0.28246 0.14259 -0.28802 0.12476 -0.29166 0.10555 C -0.29114 0.09699 -0.29184 0.08796 -0.29027 0.07962 C -0.2901 0.07893 -0.28125 0.06412 -0.28055 0.06296 C -0.27569 0.05439 -0.27638 0.05092 -0.26944 0.04629 C -0.26406 0.04259 -0.25555 0.04212 -0.25 0.04074 C -0.22552 0.03425 -0.25225 0.03935 -0.22777 0.03518 C -0.20781 0.02638 -0.19583 0.02546 -0.17361 0.02407 C -0.15503 0.01782 -0.13559 0.02175 -0.11666 0.01851 C -0.09131 0.00717 -0.07343 0.01388 -0.04027 0.01296 C -0.0302 0.01018 -0.01961 0.00902 -0.00972 0.0074 C 0.01146 0.00416 0.00504 0.0118 0.01112 0.0037 E">
                                      <p:cBhvr>
                                        <p:cTn id="510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7.77778E-006 C -0.01685 0.00116 -0.03629 7.77777999999996E-006 -0.05279 0.00556 C -0.05834 0.01112 -0.0797 0.02385 -0.08751 0.02593 C -0.09602 0.03357 -0.08664 0.02616 -0.09862 0.03149 C -0.10504 0.03427 -0.11043 0.03982 -0.11668 0.0426 C -0.13265 0.0639 -0.10817 0.03241 -0.1264 0.05186 C -0.12952 0.0551 -0.13143 0.05996 -0.13473 0.06297 C -0.13612 0.06413 -0.13751 0.06552 -0.1389 0.06667 C -0.14393 0.10649 -0.14272 0.08681 -0.14029 0.16297 C -0.13994 0.1757 -0.12813 0.18774 -0.12084 0.1926 C -0.1165 0.19561 -0.10799 0.20672 -0.10556 0.20741 C -0.09688 0.21019 -0.09168 0.21158 -0.08195 0.21297 C -0.05522 0.222 -0.0389 0.2176 -0.00418 0.21852 C 0.00294 0.22015 0.00989 0.22431 0.01666 0.22593 C 0.03471 0.23056 0.05381 0.22871 0.07221 0.23149 C 0.08037 0.23288 0.08766 0.23774 0.09582 0.2389 C 0.10468 0.24005 0.13298 0.24214 0.14027 0.2426 C 0.17082 0.2419 0.20138 0.2419 0.23194 0.24075 C 0.24253 0.24028 0.25485 0.23427 0.26527 0.23149 C 0.28176 0.22709 0.29895 0.22315 0.31527 0.21667 C 0.32187 0.2139 0.32829 0.20834 0.33454 0.20556 C 0.346 0.20047 0.36023 0.19839 0.37221 0.1963 C 0.38211 0.1919 0.38697 0.17755 0.39721 0.17408 C 0.40694 0.16112 0.41388 0.15556 0.42638 0.15001 C 0.43454 0.13913 0.44183 0.13612 0.44582 0.12038 C 0.44478 0.09769 0.44652 0.09005 0.43749 0.07408 C 0.43662 0.07038 0.43558 0.06667 0.43471 0.06297 C 0.43419 0.06089 0.43176 0.06065 0.43055 0.05927 C 0.42655 0.05487 0.42169 0.05116 0.41805 0.0463 C 0.41232 0.03866 0.40555 0.03496 0.3986 0.02964 C 0.38315 0.01783 0.36492 0.00718 0.34704 0.00371 C 0.3019 -0.01643 0.25485 -0.01851 0.20694 -0.02036 C 0.13957 -0.02939 0.17621 -0.02523 0.02638 -0.02036 C 0.01683 -0.02013 0.00555 -0.00902 -5.27778E-006 7.77778E-006 Z">
                                      <p:cBhvr>
                                        <p:cTn id="512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C 0.0033 -0.00301 0.00607 -0.00694 0.00972 -0.00926 C 0.01528 -0.01296 0.02205 -0.01504 0.02778 -0.01852 C 0.03611 -0.02361 0.04253 -0.02847 0.05139 -0.03148 C 0.06024 -0.03935 0.0691 -0.03935 0.07916 -0.04259 C 0.08385 -0.04421 0.08993 -0.0493 0.09444 -0.05 C 0.10364 -0.05162 0.11302 -0.05115 0.12222 -0.05185 C 0.13142 -0.05602 0.13923 -0.06111 0.14861 -0.06296 C 0.15677 -0.06666 0.16528 -0.06782 0.17361 -0.07037 C 0.17656 -0.07129 0.17882 -0.07546 0.18194 -0.07592 C 0.19392 -0.07754 0.20607 -0.07708 0.21805 -0.07777 C 0.22795 -0.08032 0.23767 -0.08287 0.24722 -0.08703 C 0.27309 -0.08287 0.29896 -0.07777 0.325 -0.07592 C 0.34236 -0.07014 0.36267 -0.07037 0.38055 -0.06852 C 0.39219 -0.06736 0.40364 -0.06597 0.41528 -0.06481 C 0.42083 -0.06412 0.43194 -0.06296 0.43194 -0.06296 C 0.4342 -0.0618 0.43646 -0.06018 0.43889 -0.05926 C 0.44166 -0.05833 0.44462 -0.05879 0.44722 -0.0574 C 0.45347 -0.0544 0.45903 -0.0493 0.46528 -0.04629 C 0.46753 -0.04514 0.46996 -0.04375 0.47222 -0.04259 C 0.475 -0.0412 0.48055 -0.03889 0.48055 -0.03889 C 0.48871 -0.03055 0.50278 -0.02338 0.5125 -0.01852 C 0.51441 -0.01759 0.51614 -0.01574 0.51805 -0.01481 C 0.52083 -0.01342 0.52639 -0.01111 0.52639 -0.01111 C 0.5283 -0.00324 0.53177 -0.00069 0.5375 0.00185 C 0.54809 0.0125 0.53993 0.00209 0.54444 0.01297 C 0.546 0.0169 0.55 0.02408 0.55 0.02408 C 0.55173 0.03357 0.55677 0.03912 0.55972 0.04815 C 0.56094 0.05162 0.5625 0.05926 0.5625 0.05926 C 0.56198 0.06736 0.5625 0.07547 0.56111 0.08334 C 0.56041 0.08727 0.55295 0.0956 0.55139 0.09815 C 0.54653 0.10648 0.54253 0.11736 0.53611 0.12408 C 0.52916 0.13125 0.52118 0.13797 0.51389 0.14445 C 0.51302 0.14514 0.50156 0.14815 0.50139 0.14815 C 0.49166 0.15047 0.4816 0.15139 0.47222 0.15556 C 0.46389 0.16667 0.44705 0.16551 0.43611 0.16667 C 0.42795 0.16945 0.42083 0.175 0.4125 0.17778 C 0.39618 0.19236 0.36736 0.18473 0.35278 0.18519 C 0.33385 0.18588 0.31475 0.18635 0.29583 0.18704 C 0.2835 0.1882 0.27552 0.19028 0.26389 0.1926 C 0.23194 0.20672 0.19375 0.19398 0.15972 0.19074 C 0.15208 0.18727 0.14392 0.18565 0.13611 0.18334 C 0.1316 0.18195 0.12691 0.18079 0.12222 0.17963 C 0.11996 0.17894 0.11528 0.17778 0.11528 0.17778 C 0.10104 0.16505 0.08559 0.15718 0.06944 0.15 C 0.06041 0.14607 0.05087 0.1456 0.04166 0.1426 C 0.03541 0.14051 0.0309 0.13449 0.025 0.13148 C 0.01962 0.12871 0.01406 0.12593 0.00833 0.12408 C 0.00573 0.12176 0.00243 0.12107 2.5E-006 0.11852 C -0.00139 0.11713 -0.00174 0.11459 -0.00278 0.11297 C -0.01441 0.09445 -0.01337 0.0838 -0.01528 0.05926 C -0.01406 0.04306 -0.01285 0.03195 -0.00417 0.02037 C -0.00226 0.01297 0.00156 0.00718 0.00694 0.00371 C 0.01719 -0.00301 0.00885 0.00672 0.01528 -0.00185 E">
                                      <p:cBhvr>
                                        <p:cTn id="514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3.7037E-006 C -0.06667 0.0007 -0.13334 0.0007 -0.20001 0.00185 C -0.2073 0.00208 -0.21632 0.00787 -0.22362 0.00926 C -0.24532 0.01343 -0.26719 0.01528 -0.28889 0.01852 C -0.29688 0.02153 -0.30382 0.02477 -0.31112 0.02963 C -0.31789 0.04329 -0.33056 0.05 -0.34028 0.05926 C -0.34931 0.06782 -0.33976 0.06273 -0.34862 0.06667 C -0.35139 0.06482 -0.35382 0.06111 -0.35695 0.06111 C -0.35869 0.06111 -0.35834 0.06528 -0.35973 0.06667 C -0.3632 0.07037 -0.37396 0.07245 -0.37778 0.07407 C -0.38612 0.07778 -0.39532 0.07523 -0.40417 0.07593 C -0.41164 0.08241 -0.41823 0.08889 -0.42501 0.0963 C -0.43212 0.10417 -0.43646 0.11505 -0.44445 0.12222 C -0.44705 0.13241 -0.45244 0.14097 -0.45695 0.15 C -0.46094 0.15787 -0.46251 0.17431 -0.46389 0.18333 C -0.46337 0.19329 -0.46407 0.20324 -0.46251 0.21273 C -0.46094 0.22153 -0.44757 0.23889 -0.44306 0.2463 C -0.4323 0.26343 -0.4283 0.26852 -0.41389 0.28148 C -0.41112 0.28403 -0.40712 0.2831 -0.40417 0.28519 C -0.39792 0.28935 -0.39115 0.29213 -0.38473 0.2963 C -0.37014 0.30602 -0.35487 0.31505 -0.33889 0.32037 C -0.33351 0.32222 -0.32987 0.32685 -0.32501 0.32963 C -0.3165 0.33449 -0.31823 0.32708 -0.30695 0.33704 C -0.30556 0.3382 -0.30452 0.34051 -0.30278 0.34074 C -0.27657 0.34398 -0.25001 0.34306 -0.22362 0.34445 C -0.20192 0.34769 -0.18351 0.36296 -0.16251 0.36852 C -0.14705 0.3787 -0.16042 0.37107 -0.12501 0.37407 C -0.09063 0.37685 -0.07553 0.37847 -0.03056 0.37963 C -0.01823 0.3838 -0.01737 0.38472 0.0026 0.37963 C 0.00833 0.37824 0.01319 0.36898 0.01944 0.36667 C 0.03558 0.36065 0.05295 0.35995 0.06944 0.35741 C 0.08489 0.35232 0.06024 0.36019 0.08732 0.3537 C 0.09513 0.35185 0.10225 0.34838 0.10954 0.3463 C 0.11423 0.34236 0.11874 0.34097 0.12361 0.33704 C 0.15277 0.31273 0.18611 0.29676 0.22083 0.29259 C 0.2269 0.28727 0.2302 0.28773 0.23749 0.28519 C 0.246 0.28218 0.25468 0.27917 0.26249 0.27384 C 0.27378 0.25417 0.26058 0.27454 0.27083 0.26482 C 0.27291 0.26273 0.2743 0.25926 0.27638 0.25741 C 0.28177 0.25139 0.28854 0.24583 0.29444 0.24074 C 0.29652 0.22963 0.29965 0.22083 0.30416 0.21111 C 0.30711 0.19491 0.31406 0.16181 0.29999 0.15556 C 0.29808 0.15185 0.29548 0.14861 0.29444 0.14445 C 0.29114 0.13148 0.2901 0.11597 0.27916 0.11111 C 0.27812 0.10509 0.27777 0.10162 0.27499 0.0963 C 0.27135 0.08958 0.26631 0.08912 0.26111 0.08519 C 0.25295 0.07894 0.24496 0.07616 0.23611 0.07222 C 0.23298 0.07083 0.23072 0.0669 0.22777 0.06482 C 0.21614 0.05718 0.20416 0.04954 0.19305 0.04074 C 0.18541 0.03449 0.18107 0.03079 0.17222 0.02778 C 0.15329 0.01088 0.17326 0.02662 0.15694 0.01852 C 0.14913 0.01458 0.14149 0.00741 0.13333 0.0037 C 0.11093 -0.00625 0.08906 -0.00625 0.0651 -0.00741 C 0.04427 -0.01435 -0.00591 -0.03935 -8.88889E-006 -3.7037E-006 Z">
                                      <p:cBhvr>
                                        <p:cTn id="51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C -0.00955 -0.00416 -0.01945 -0.00578 -0.02917 -0.00926 C -0.04636 -0.01551 -0.0632 -0.0206 -0.08056 -0.02592 C -0.09584 -0.03055 -0.10799 -0.04328 -0.12361 -0.04629 C -0.14566 -0.05601 -0.19306 -0.0537 -0.19306 -0.0537 C -0.20226 -0.05764 -0.21181 -0.05902 -0.22101 -0.06296 C -0.28038 -0.06088 -0.33976 -0.0625 -0.39861 -0.0537 C -0.41077 -0.04953 -0.43611 -0.04814 -0.43611 -0.04814 C -0.45278 -0.04074 -0.4717 -0.04213 -0.48889 -0.04074 C -0.49636 -0.03819 -0.50347 -0.03541 -0.51111 -0.03333 C -0.5158 -0.02916 -0.52014 -0.02916 -0.525 -0.02592 C -0.53247 -0.02083 -0.54028 -0.01759 -0.54861 -0.01481 C -0.54913 -0.01504 -0.55938 -0.02106 -0.56111 -0.02037 C -0.56459 -0.01898 -0.56597 -0.0125 -0.56945 -0.01111 C -0.57396 -0.00926 -0.58334 -0.0074 -0.58334 -0.0074 C -0.59063 -0.00092 -0.60521 0.00672 -0.61389 0.01111 C -0.61997 0.01412 -0.61927 0.01135 -0.625 0.01667 C -0.63247 0.02385 -0.63802 0.0338 -0.64584 0.04074 C -0.64844 0.05116 -0.64618 0.04491 -0.65556 0.05741 C -0.65695 0.05926 -0.65712 0.0625 -0.65834 0.06482 C -0.66077 0.06945 -0.66337 0.07107 -0.66667 0.07408 C -0.6724 0.08565 -0.67622 0.09769 -0.68195 0.10926 C -0.68143 0.12037 -0.6816 0.13149 -0.68056 0.1426 C -0.67969 0.15162 -0.66511 0.17361 -0.65972 0.17963 C -0.65486 0.18473 -0.64948 0.18936 -0.64445 0.19445 C -0.64288 0.19607 -0.64202 0.19861 -0.64028 0.19977 C -0.63629 0.20255 -0.62778 0.20533 -0.62778 0.20533 C -0.62465 0.20973 -0.61354 0.22176 -0.60972 0.22408 C -0.59827 0.23056 -0.61025 0.22037 -0.59861 0.22963 C -0.59184 0.23496 -0.58542 0.2419 -0.57917 0.24815 C -0.57691 0.25047 -0.57361 0.2507 -0.57084 0.25186 C -0.56163 0.25602 -0.55261 0.26436 -0.54306 0.26667 C -0.52778 0.27061 -0.50972 0.27107 -0.49445 0.27223 C -0.48646 0.2757 -0.49427 0.27269 -0.48334 0.27593 C -0.47969 0.27709 -0.47222 0.27963 -0.47222 0.27963 C -0.4658 0.28542 -0.44184 0.28774 -0.43056 0.28889 C -0.39254 0.29306 -0.35486 0.29769 -0.31667 0.3 C -0.30261 0.30625 -0.31788 0.3 -0.28334 0.30371 C -0.27361 0.30463 -0.26215 0.3088 -0.25278 0.31297 C -0.23299 0.31227 -0.19722 0.31366 -0.17379 0.30741 C -0.15764 0.30324 -0.14254 0.29723 -0.12656 0.29445 C -0.12118 0.29213 -0.11493 0.2919 -0.10972 0.28889 C -0.1007 0.2838 -0.09271 0.27454 -0.08334 0.27037 C -0.07518 0.26227 -0.06528 0.2625 -0.05556 0.25926 C -0.04827 0.25186 -0.04393 0.25186 -0.03472 0.25 C -0.02778 0.24699 -0.02049 0.24699 -0.01389 0.2426 C -0.00278 0.23519 0.0092 0.23172 0.02083 0.22593 C 0.02743 0.22269 0.03333 0.21899 0.04028 0.21667 C 0.04722 0.20301 0.0592 0.19422 0.06944 0.18496 C 0.07135 0.18334 0.07205 0.1801 0.07361 0.17755 C 0.07899 0.16945 0.0835 0.16111 0.09166 0.15741 C 0.09687 0.13681 0.10035 0.15 0.09444 0.11111 C 0.09375 0.10672 0.0908 0.10371 0.08889 0.1 C 0.08628 0.09491 0.08489 0.08912 0.08333 0.08334 C 0.08142 0.07686 0.08281 0.07431 0.07916 0.06852 C 0.07621 0.06389 0.06944 0.05556 0.06944 0.05556 C 0.06666 0.04445 0.07031 0.05486 0.0625 0.0463 C 0.04791 0.03033 0.05868 0.03542 0.04722 0.03149 C 0.04097 0.02639 0.02378 0.00741 0.01666 0.00741 E">
                                      <p:cBhvr>
                                        <p:cTn id="518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C -0.00747 0.00324 -0.01337 0.01226 -0.02083 0.01666 C -0.0309 0.02268 -0.04219 0.02245 -0.05278 0.02592 C -0.06754 0.04051 -0.08299 0.04097 -0.10139 0.04259 C -0.11528 0.04722 -0.10886 0.04467 -0.12083 0.05 C -0.13195 0.05486 -0.12031 0.05347 -0.13472 0.0574 C -0.13837 0.05833 -0.14705 0.06018 -0.15 0.06296 C -0.1566 0.06898 -0.17413 0.07916 -0.18195 0.07963 C -0.19167 0.08032 -0.20139 0.08078 -0.21111 0.08148 C -0.27691 0.08078 -0.34254 0.08078 -0.40833 0.07963 C -0.42448 0.07939 -0.44219 0.06967 -0.45833 0.06666 C -0.47049 0.06134 -0.4816 0.05902 -0.49445 0.0574 C -0.50295 0.05463 -0.51076 0.05347 -0.51945 0.05185 C -0.5375 0.04838 -0.55642 0.04097 -0.57361 0.03333 C -0.58368 0.02893 -0.59375 0.02662 -0.60417 0.02407 C -0.60886 0.02291 -0.61806 0.02037 -0.61806 0.02037 C -0.62396 0.01643 -0.62969 0.01504 -0.63611 0.01296 C -0.64167 0.0081 -0.64531 0.00208 -0.65139 -0.00186 C -0.65903 -0.01713 -0.64896 0.00046 -0.65833 -0.00926 C -0.66302 -0.01412 -0.66667 -0.02037 -0.67083 -0.02593 C -0.67517 -0.03172 -0.67986 -0.04954 -0.68333 -0.05741 C -0.68681 -0.08079 -0.68212 -0.05556 -0.6875 -0.07223 C -0.68993 -0.07963 -0.69028 -0.08866 -0.69167 -0.0963 C -0.69236 -0.1 -0.69392 -0.10348 -0.69445 -0.10741 C -0.69497 -0.11042 -0.69531 -0.11366 -0.69583 -0.11667 C -0.6967 -0.12153 -0.69861 -0.13149 -0.69861 -0.13149 C -0.69809 -0.13635 -0.69826 -0.14144 -0.69722 -0.1463 C -0.69497 -0.15718 -0.68646 -0.16112 -0.68056 -0.16667 C -0.67413 -0.17292 -0.67882 -0.17246 -0.67083 -0.17778 C -0.66354 -0.18264 -0.66267 -0.18056 -0.65556 -0.18334 C -0.64653 -0.18681 -0.6382 -0.19144 -0.63056 -0.19815 C -0.63004 -0.2 -0.63038 -0.20255 -0.62917 -0.20371 C -0.62622 -0.20672 -0.61545 -0.2088 -0.61111 -0.21112 C -0.60313 -0.21528 -0.59497 -0.21829 -0.5875 -0.22408 C -0.58316 -0.22755 -0.58004 -0.23449 -0.575 -0.23519 C -0.55972 -0.2375 -0.56667 -0.23612 -0.55417 -0.23889 C -0.54826 -0.24283 -0.54115 -0.24792 -0.53472 -0.25 C -0.52465 -0.25324 -0.51406 -0.25348 -0.50417 -0.25741 C -0.49826 -0.25973 -0.49375 -0.26598 -0.4875 -0.26667 C -0.47726 -0.26783 -0.46719 -0.26783 -0.45695 -0.26852 C -0.40938 -0.28449 -0.39774 -0.27848 -0.32917 -0.27963 C -0.30417 -0.29074 -0.26875 -0.28311 -0.24167 -0.28149 C -0.22153 -0.27477 -0.25122 -0.28403 -0.19722 -0.27778 C -0.19097 -0.27709 -0.18872 -0.27315 -0.18333 -0.27037 C -0.1724 -0.26482 -0.16146 -0.25672 -0.15 -0.25371 C -0.13594 -0.24445 -0.11892 -0.23079 -0.10278 -0.22963 C -0.0875 -0.22848 -0.07222 -0.22848 -0.05695 -0.22778 C -0.04132 -0.22477 -0.02708 -0.21713 -0.0125 -0.20926 C -0.00295 -0.20417 0.00608 -0.20047 0.01528 -0.19445 C 0.01771 -0.18496 0.02309 -0.1794 0.02917 -0.17408 C 0.03628 -0.15973 0.03368 -0.16713 0.0375 -0.15186 C 0.03819 -0.14931 0.04045 -0.14838 0.04167 -0.1463 C 0.05017 -0.13125 0.05017 -0.13102 0.0625 -0.11852 C 0.06545 -0.11574 0.06719 -0.11112 0.06944 -0.10741 C 0.07153 -0.10394 0.075 -0.0963 0.075 -0.0963 C 0.07448 -0.08889 0.075 -0.08125 0.07361 -0.07408 C 0.07309 -0.07153 0.07066 -0.07061 0.06944 -0.06852 C 0.06493 -0.06135 0.06024 -0.05348 0.05417 -0.04815 C 0.04496 -0.02987 0.03403 -0.01459 0.025 0.0037 C 0.02413 0.00532 0.02222 0.00532 0.02083 0.00555 C 0.01632 0.00648 0.00694 0.0074 0.00694 0.0074 E">
                                      <p:cBhvr>
                                        <p:cTn id="520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0.02691 -0.00394 0.0533 -0.00139 0.07917 -0.01297 C 0.08559 -0.01945 0.09236 -0.02246 0.1 -0.02593 C 0.11215 -0.04213 0.09462 -0.02061 0.11111 -0.03334 C 0.1125 -0.0345 0.11267 -0.0375 0.11389 -0.03889 C 0.11545 -0.04075 0.11771 -0.04098 0.11945 -0.0426 C 0.12847 -0.05116 0.11771 -0.04653 0.13056 -0.05 C 0.13958 -0.05973 0.14931 -0.06806 0.15833 -0.07778 C 0.17153 -0.09213 0.15938 -0.08311 0.17083 -0.09075 C 0.17431 -0.09792 0.17726 -0.09653 0.18195 -0.10186 C 0.18351 -0.10348 0.1849 -0.10533 0.18611 -0.10741 C 0.18715 -0.10903 0.18767 -0.11158 0.18889 -0.11297 C 0.19931 -0.12547 0.21233 -0.13311 0.22222 -0.1463 C 0.22483 -0.15973 0.22222 -0.14769 0.22639 -0.16297 C 0.22743 -0.16667 0.22917 -0.17408 0.22917 -0.17408 C 0.22691 -0.1963 0.22726 -0.20371 0.21806 -0.21852 C 0.21458 -0.22408 0.21545 -0.225 0.2125 -0.23149 C 0.21077 -0.23519 0.20695 -0.2426 0.20695 -0.2426 C 0.20243 -0.26621 0.18889 -0.27593 0.17222 -0.27963 C 0.16163 -0.28658 0.15139 -0.29514 0.14028 -0.3 C 0.13125 -0.30926 0.11945 -0.32477 0.10833 -0.32963 C 0.09184 -0.33704 0.07257 -0.33797 0.05556 -0.3426 C 0.03577 -0.34792 0.01597 -0.35394 -0.00417 -0.35741 C -0.02031 -0.36459 -0.03108 -0.36528 -0.04861 -0.36667 C -0.05816 -0.37084 -0.0691 -0.37223 -0.07917 -0.37408 C -0.12726 -0.37338 -0.17673 -0.38519 -0.22361 -0.37037 C -0.24253 -0.36436 -0.25851 -0.34815 -0.27778 -0.34445 C -0.2941 -0.33565 -0.28108 -0.34144 -0.31389 -0.33889 C -0.32882 -0.33774 -0.3434 -0.33473 -0.35833 -0.33334 C -0.37118 -0.32755 -0.38507 -0.32431 -0.39861 -0.32223 C -0.40712 -0.31459 -0.39774 -0.322 -0.40972 -0.31667 C -0.41684 -0.31343 -0.42309 -0.30811 -0.43055 -0.30556 C -0.43576 -0.29862 -0.44219 -0.29051 -0.44861 -0.28519 C -0.4559 -0.27917 -0.46423 -0.27385 -0.47083 -0.26667 C -0.47396 -0.26343 -0.47639 -0.25926 -0.47917 -0.25556 C -0.48055 -0.25371 -0.48298 -0.25348 -0.48472 -0.25186 C -0.48628 -0.25024 -0.48733 -0.24769 -0.48889 -0.2463 C -0.49236 -0.24306 -0.49757 -0.24144 -0.50139 -0.23889 C -0.50608 -0.23565 -0.51007 -0.23195 -0.51528 -0.22963 C -0.51875 -0.22269 -0.52239 -0.22338 -0.52639 -0.21667 C -0.53298 -0.20579 -0.53489 -0.19792 -0.54028 -0.18704 C -0.54514 -0.16112 -0.54288 -0.1294 -0.52639 -0.11297 C -0.5184 -0.0919 -0.52882 -0.11644 -0.51944 -0.10186 C -0.51441 -0.09399 -0.51354 -0.08681 -0.50555 -0.08334 C -0.49635 -0.07431 -0.48819 -0.06459 -0.47917 -0.05556 C -0.47587 -0.05209 -0.47118 -0.04561 -0.46667 -0.04445 C -0.46128 -0.04306 -0.45555 -0.04329 -0.45 -0.0426 C -0.44462 -0.03797 -0.43923 -0.03681 -0.43333 -0.03334 C -0.41146 -0.02037 -0.38889 -0.01922 -0.36528 -0.01667 C -0.35052 -0.01019 -0.36614 -0.01644 -0.32917 -0.01297 C -0.31562 -0.01158 -0.30226 -0.0044 -0.28889 -0.00186 C -0.27118 0.00162 -0.25399 0.00416 -0.23611 0.00555 C -0.2184 0.01157 -0.20399 0.0118 -0.18472 0.01296 C -0.16701 0.02083 -0.15017 0.01759 -0.13055 0.01851 C -0.00451000000000001 0.01574 -0.07604 0.01944 -0.02222 0.00925 C -0.01476 0.00601 -0.00746 0.00393 2.22222E-006 4.44444E-006 Z">
                                      <p:cBhvr>
                                        <p:cTn id="522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1858 -0.00278 -0.03698 -0.00949 -0.05556 -0.01296 C -0.06285 -0.0162 -0.07032 -0.01643 -0.07778 -0.01852 C -0.08438 -0.02037 -0.09045 -0.02546 -0.09723 -0.02593 C -0.10504 -0.02662 -0.11302 -0.02708 -0.12084 -0.02778 C -0.12223 -0.02847 -0.12361 -0.0287 -0.125 -0.02963 C -0.12657 -0.03056 -0.12761 -0.03264 -0.12917 -0.03333 C -0.13854 -0.03796 -0.15226 -0.03796 -0.16111 -0.03889 C -0.18091 -0.04768 -0.1665 -0.04236 -0.20556 -0.04444 C -0.21545 -0.04699 -0.22466 -0.05579 -0.23334 -0.06296 C -0.23629 -0.06551 -0.24011 -0.0662 -0.24306 -0.06852 C -0.25313 -0.07662 -0.25174 -0.07639 -0.26111 -0.08889 C -0.2625 -0.09074 -0.26493 -0.08981 -0.26667 -0.09074 C -0.27257 -0.09375 -0.28143 -0.10116 -0.28611 -0.10556 C -0.31354 -0.13079 -0.28056 -0.10185 -0.30834 -0.12963 C -0.3217 -0.14306 -0.33698 -0.15208 -0.34723 -0.17037 C -0.34636 -0.1919 -0.34792 -0.21157 -0.33889 -0.22963 C -0.33646 -0.24259 -0.32778 -0.25741 -0.31945 -0.26481 C -0.31111 -0.28704 -0.29358 -0.29977 -0.27639 -0.30741 C -0.27483 -0.3081 -0.27379 -0.31018 -0.27223 -0.31111 C -0.27032 -0.3125 -0.26424 -0.31412 -0.2625 -0.31481 C -0.24792 -0.32778 -0.24479 -0.32268 -0.22084 -0.32407 C -0.20591 -0.33727 -0.1908 -0.33241 -0.17223 -0.33333 C -0.15591 -0.33889 -0.13959 -0.34282 -0.12361 -0.35 C -0.11164 -0.35532 -0.10157 -0.36551 -0.08889 -0.36852 C -0.08143 -0.37037 -0.07414 -0.37245 -0.06667 -0.37407 C -0.06025 -0.37546 -0.04723 -0.37778 -0.04723 -0.37778 C -0.03716 -0.3831 -0.01528 -0.38518 -0.01528 -0.38518 C 0.02031 -0.38449 0.05607 -0.38449 0.09166 -0.38333 C 0.10434 -0.38287 0.11562 -0.37824 0.12777 -0.37407 C 0.14027 -0.36991 0.15364 -0.37292 0.16666 -0.37222 C 0.18437 -0.3662 0.20503 -0.3669 0.22361 -0.36481 C 0.23593 -0.36157 0.246 -0.35324 0.25833 -0.35 C 0.27291 -0.35393 0.28628 -0.33727 0.30139 -0.33333 C 0.30833 -0.32708 0.31684 -0.3213 0.325 -0.31852 C 0.33559 -0.30903 0.34913 -0.30393 0.36111 -0.29815 C 0.36389 -0.29676 0.36701 -0.29653 0.36944 -0.29444 C 0.37691 -0.28773 0.38593 -0.28333 0.39444 -0.27963 C 0.40034 -0.26921 0.4033 -0.2625 0.41111 -0.25556 C 0.41319 -0.24722 0.41718 -0.24375 0.42083 -0.23704 C 0.42205 -0.23472 0.42239 -0.23194 0.42361 -0.22963 C 0.42986 -0.21806 0.4368 -0.20833 0.44027 -0.19444 C 0.43975 -0.18333 0.44045 -0.17199 0.43889 -0.16111 C 0.43784 -0.15417 0.4283 -0.14468 0.425 -0.14074 C 0.40937 -0.12245 0.3901 -0.10926 0.36944 -0.1037 C 0.36146 -0.09676 0.35677 -0.09329 0.34722 -0.09074 C 0.33559 -0.08032 0.32083 -0.07986 0.30833 -0.07222 C 0.29757 -0.06574 0.28646 -0.05625 0.275 -0.05185 C 0.26041 -0.0463 0.24948 -0.04745 0.23333 -0.0463 C 0.22309 -0.04352 0.21284 -0.04398 0.20277 -0.04074 C 0.19809 -0.03657 0.19375 -0.03657 0.18889 -0.03333 C 0.17812 -0.02616 0.16597 -0.02245 0.15416 -0.01852 C 0.14566 -0.01088 0.13055 -0.00949 0.12083 -0.00926 C 0.08107 -0.0081 0.04114 -0.0081 0.00139 -0.00741 C -0.00434 -0.00486 -0.00365 -0.00718 3.33333E-006 4.44444E-006 Z">
                                      <p:cBhvr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1111E-006 1.48148E-006 C 0.0184 0.02454 0.046 0.03102 0.07083 0.03333 C 0.09444 0.04907 0.11944 0.06041 0.14444 0.07037 C 0.15312 0.07384 0.16006 0.08055 0.16944 0.08148 C 0.19357 0.08403 0.21753 0.08588 0.24166 0.08889 C 0.26406 0.09629 0.28802 0.09768 0.31111 0.1 C 0.32517 0.10625 0.31649 0.10347 0.33749 0.10555 C 0.35017 0.10972 0.36336 0.10903 0.37638 0.11111 C 0.40642 0.11041 0.43697 0.11412 0.46666 0.10741 C 0.48819 0.10254 0.50781 0.08935 0.52916 0.08518 C 0.5401 0.08032 0.5434 0.0794 0.55555 0.07778 C 0.56649 0.07291 0.57777 0.07037 0.58888 0.06666 C 0.60225 0.05324 0.62256 0.04791 0.63888 0.04259 C 0.65642 0.0287 0.63576 0.04375 0.65277 0.03518 C 0.65781 0.03264 0.66111 0.02963 0.66666 0.02778 C 0.67725 0.01829 0.6717 0.02106 0.68333 0.01852 C 0.69618 0.00717 0.67638 0.02361 0.69444 0.01296 C 0.71267 0.00208 0.68854 0.01111 0.70555 0.00555 C 0.71493 -0.00278 0.72274 -0.01389 0.73194 -0.02222 C 0.73333 -0.02986 0.73558 -0.03704 0.73749 -0.04445 C 0.73663 -0.06829 0.73975 -0.08403 0.72777 -0.1 C 0.72204 -0.11875 0.71822 -0.13866 0.70694 -0.15371 C 0.69062 -0.17546 0.66666 -0.17685 0.64583 -0.18519 C 0.63437 -0.18982 0.64288 -0.18796 0.63055 -0.1963 C 0.62256 -0.20162 0.61406 -0.20695 0.60555 -0.20926 C 0.58975 -0.22338 0.57899 -0.2257 0.55972 -0.22778 C 0.55208 -0.23125 0.53611 -0.23334 0.53611 -0.23334 C 0.51597 -0.24236 0.49183 -0.24421 0.47083 -0.2463 C 0.45312 -0.25093 0.43576 -0.25533 0.41805 -0.25926 C 0.40972 -0.26366 0.40138 -0.26296 0.39305 -0.26667 C 0.33749 -0.26482 0.28177 -0.26551 0.22638 -0.25741 C 0.21406 -0.25185 0.20173 -0.24977 0.18888 -0.24815 C 0.18298 -0.24607 0.17673 -0.24653 0.17083 -0.24445 C 0.1592 -0.24028 0.15086 -0.23241 0.13888 -0.22963 C 0.12447 -0.22014 0.11006 -0.2125 0.09444 -0.20741 C 0.08888 -0.20232 0.08281 -0.20209 0.07638 -0.2 C 0.06458 -0.19051 0.04982 -0.18959 0.03749 -0.18148 C 0.02986 -0.17639 0.02361 -0.17084 0.01527 -0.16852 C 0.00156 -0.15949 -0.01268 -0.15347 -0.02639 -0.14445 C -0.03195 -0.14074 -0.03542 -0.13426 -0.03889 -0.12778 C -0.04237 -0.12153 -0.0474 -0.11621 -0.05001 -0.10926 C -0.05209 -0.10371 -0.05261 -0.09676 -0.05417 -0.09074 C -0.05365 -0.07755 -0.0573 -0.04722 -0.04584 -0.03704 C -0.04306 -0.02199 -0.03386 -0.02107 -0.02639 -0.01111 C -0.02049 -0.00324 -0.01355 0.00926 -0.00417 0.00926 E">
                                      <p:cBhvr>
                                        <p:cTn id="526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92593E-006 C 0.00659 -0.00441 0.01371 -0.00881 0.02083 -0.01112 C 0.02222 -0.01228 0.02343 -0.0139 0.02499 -0.01482 C 0.02673 -0.01575 0.02881 -0.01552 0.03055 -0.01668 C 0.03229 -0.01806 0.03315 -0.02061 0.03472 -0.02223 C 0.0427 -0.02987 0.06388 -0.04052 0.07361 -0.04445 C 0.08524 -0.04908 0.09774 -0.04746 0.10972 -0.04816 C 0.12361 -0.05186 0.13749 -0.0558 0.15138 -0.06112 C 0.16614 -0.06668 0.14548 -0.05788 0.16527 -0.06668 C 0.16666 -0.06737 0.16927 -0.06853 0.16927 -0.06853 C 0.28142 -0.0676 0.38402 -0.06644 0.49305 -0.05927 C 0.50624 -0.05487 0.49045 -0.05973 0.51649 -0.05556 C 0.52708 -0.05394 0.53802 -0.04955 0.54861 -0.04631 C 0.55052 -0.04584 0.56631 -0.04168 0.56944 -0.0389 C 0.57916 -0.03033 0.5901 -0.02547 0.59999 -0.01668 C 0.61197 -0.00603 0.62326 0.01018 0.63749 0.01481 C 0.64131 0.01828 0.64618 0.01874 0.64999 0.02221 C 0.65138 0.02337 0.6526 0.02499 0.65416 0.02592 C 0.65677 0.02754 0.66249 0.02962 0.66249 0.02962 C 0.66631 0.03726 0.67204 0.04559 0.67499 0.05369 C 0.67829 0.06272 0.68177 0.07244 0.68472 0.08147 C 0.68993 0.09768 0.68402 0.08795 0.69166 0.09814 C 0.69357 0.10601 0.69722 0.11295 0.69982 0.12036 C 0.69947 0.13402 0.69947 0.14744 0.69861 0.1611 C 0.69756 0.17846 0.68472 0.18402 0.67777 0.19629 C 0.67274 0.20532 0.67586 0.20277 0.66944 0.20555 C 0.66163 0.21596 0.65121 0.2243 0.64166 0.23147 C 0.63628 0.23541 0.63055 0.23587 0.62499 0.23888 C 0.61736 0.24305 0.61058 0.25022 0.60277 0.25369 C 0.59201 0.26434 0.57986 0.26619 0.56805 0.27407 C 0.55885 0.28008 0.54878 0.28633 0.53888 0.28888 C 0.52013 0.30555 0.49843 0.29536 0.47499 0.29629 C 0.45833 0.29698 0.44166 0.29744 0.42482 0.29814 C 0.41058 0.30462 0.39496 0.30462 0.38055 0.3111 C 0.31336 0.31041 0.24635 0.31041 0.17916 0.30925 C 0.16284 0.30902 0.14427 0.29721 0.1276 0.29444 C 0.11857 0.29027 0.10937 0.28865 0.09999 0.28518 C 0.09305 0.28263 0.08749 0.27962 0.08055 0.27777 C 0.07552 0.27337 0.06961 0.2692 0.06388 0.26666 C 0.06024 0.26504 0.05277 0.26295 0.05277 0.26295 C 0.04635 0.25717 0.0394 0.25439 0.03194 0.25184 C 0.02621 0.2442 0.01909 0.24189 0.01249 0.23518 C 0.00763 0.23032 0.00555 0.22476 -6.38889E-006 0.22221 C -0.00539 0.21689 -0.01112 0.21411 -0.01667 0.20925 C -0.02014 0.20231 -0.02501 0.19999 -0.02917 0.19444 C -0.03455 0.18726 -0.03907 0.17939 -0.04445 0.17221 C -0.04688 0.16897 -0.05001 0.16735 -0.05278 0.16481 C -0.05417 0.16365 -0.05695 0.1611 -0.05695 0.1611 C -0.0606 0.14652 -0.05504 0.16573 -0.06251 0.14999 C -0.06546 0.14397 -0.06511 0.13564 -0.06806 0.12962 C -0.07257 0.12082 -0.07657 0.11203 -0.07917 0.10184 C -0.07692 0.09027 -0.07587 0.07661 -0.07084 0.06666 C -0.06945 0.05948 -0.0665 0.04791 -0.06251 0.04258 C -0.05678 0.03494 -0.05834 0.04258 -0.05001 0.03518 C -0.04723 0.03263 -0.04445 0.03032 -0.04167 0.02777 C -0.04011 0.02638 -0.03907 0.0236 -0.03751 0.02221 C -0.03629 0.02106 -0.03473 0.02129 -0.03334 0.02036 C -0.02865 0.01712 -0.02431 0.01203 -0.01945 0.00925 C -0.01285 0.00532 -0.00539 0.003 0.00138 -5.92593E-006 C 0.00416 -0.00117 0.00972 -0.00371 0.00972 -0.00371 E">
                                      <p:cBhvr>
                                        <p:cTn id="528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-0.01233 0.00162 -0.0224 0.00463 -0.03473 0.00741 C -0.04045 0.0125 -0.04653 0.0125 -0.05278 0.01667 C -0.0625 0.02315 -0.0724 0.0287 -0.08195 0.03518 C -0.0915 0.04143 -0.10087 0.04907 -0.11111 0.0537 C -0.11754 0.06227 -0.12743 0.0706 -0.13611 0.07407 C -0.14028 0.07569 -0.14445 0.07778 -0.14861 0.07963 C -0.15139 0.08079 -0.15695 0.08333 -0.15695 0.08333 C -0.1632 0.08958 -0.17952 0.09792 -0.1875 0.1 C -0.19375 0.10555 -0.19983 0.10532 -0.20556 0.11296 C -0.21146 0.12083 -0.2158 0.13009 -0.22084 0.13889 C -0.22136 0.14259 -0.22223 0.1463 -0.22223 0.15 C -0.22223 0.20764 -0.22049 0.19097 -0.21667 0.22592 C -0.21563 0.23565 -0.2165 0.24745 -0.21111 0.25555 C -0.19827 0.27454 -0.18473 0.28102 -0.16667 0.28704 C -0.15886 0.28958 -0.15278 0.29375 -0.14445 0.2963 C -0.13473 0.30509 -0.14705 0.29491 -0.13334 0.30185 C -0.13177 0.30255 -0.13073 0.30486 -0.12917 0.30555 C -0.12691 0.30671 -0.12448 0.30671 -0.12223 0.30741 C -0.11216 0.31412 -0.10139 0.3206 -0.09167 0.32778 C -0.07917 0.33704 -0.06077 0.35301 -0.04584 0.35555 C -0.02986 0.35833 -0.01354 0.35949 0.00277 0.36111 C 0.01215 0.36412 0.01718 0.36528 0.02777 0.36667 C 0.12882 0.40046 0.23611 0.36667 0.34027 0.36481 C 0.34774 0.36458 0.36996 0.35347 0.38055 0.35185 C 0.38958 0.34792 0.39826 0.34329 0.40694 0.33889 C 0.41059 0.33704 0.41336 0.3375 0.41666 0.33518 C 0.42309 0.33102 0.42639 0.32639 0.43333 0.32407 C 0.44323 0.3162 0.45295 0.30856 0.4625 0.3 C 0.46458 0.29815 0.475 0.28889 0.475 0.28889 C 0.47986 0.28217 0.4875 0.27963 0.49166 0.27222 C 0.4967 0.26296 0.49357 0.26574 0.5 0.26273 C 0.50538 0.25393 0.51076 0.24537 0.51805 0.23889 C 0.52343 0.22801 0.53021 0.21782 0.53611 0.20741 C 0.53819 0.20393 0.54166 0.1963 0.54166 0.1963 C 0.54114 0.17639 0.54583 0.1368 0.53472 0.11481 C 0.53281 0.10486 0.52725 0.09653 0.52083 0.09074 C 0.51718 0.08333 0.51423 0.07986 0.50833 0.07592 C 0.50451 0.06991 0.50173 0.0625 0.49722 0.05741 C 0.48802 0.04699 0.47257 0.04514 0.46111 0.04259 C 0.45277 0.03704 0.44548 0.03518 0.43611 0.03333 C 0.42604 0.02893 0.41562 0.02801 0.40555 0.02407 C 0.40052 0.02222 0.39027 0.01852 0.39027 0.01852 C 0.38003 0.00949 0.35972 0.00764 0.34722 0.00555 C 0.33333 -0.0007 0.31979 -0.00278 0.30555 -0.00556 C 0.29288 -0.0081 0.27934 -0.01134 0.26666 -0.01482 C 0.26319 -0.01574 0.26024 -0.01806 0.25677 -0.01852 C 0.24791 -0.01968 0.23941 -0.01968 0.23038 -0.02037 C 0.14809 -0.01921 0.09166 -0.01667 0.01389 -0.01482 C 0.00659 -0.01158 0.00399 -0.01296 -0.00157 -0.00556 C -0.0033 0.00116 -0.00417 -1.85185E-006 3.33333E-006 -1.85185E-006 Z">
                                      <p:cBhvr>
                                        <p:cTn id="530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C 0.01302 0.00347 0.02448 0.00926 0.0375 0.01111 C 0.04774 0.01574 0.05382 0.02477 0.0625 0.03148 C 0.0651 0.03334 0.07899 0.03519 0.07917 0.03519 C 0.11285 0.04259 0.14253 0.03982 0.17917 0.04074 C 0.2 0.0463 0.17483 0.04005 0.22361 0.04445 C 0.2526 0.04699 0.2842 0.04815 0.31389 0.05 C 0.34444 0.05579 0.37621 0.05 0.40694 0.04815 C 0.41562 0.04584 0.42274 0.04051 0.43055 0.03519 C 0.43229 0.03403 0.43299 0.03079 0.43472 0.02963 C 0.44132 0.0257 0.45417 0.02176 0.46111 0.02037 C 0.4816 0.01134 0.46927 0.01505 0.49861 0.01297 C 0.50746 0.00903 0.51441 0.0044 0.52361 0.00185 C 0.53194 -0.0037 0.5408 -0.00393 0.55 -0.00555 C 0.55451 -0.00764 0.55955 -0.00856 0.56389 -0.01111 C 0.5691 -0.01412 0.57361 -0.02014 0.57917 -0.02222 C 0.58507 -0.02453 0.59132 -0.02523 0.59722 -0.02778 C 0.59774 -0.02963 0.59722 -0.03264 0.59861 -0.03333 C 0.60226 -0.03565 0.61667 -0.03889 0.62222 -0.04074 C 0.62274 -0.04259 0.62239 -0.04514 0.62361 -0.04629 C 0.62517 -0.04791 0.62743 -0.04722 0.62917 -0.04815 C 0.6368 -0.05254 0.63646 -0.05347 0.64583 -0.05555 C 0.65278 -0.06481 0.66146 -0.06782 0.67083 -0.07037 C 0.67847 -0.07731 0.67847 -0.08796 0.68472 -0.09629 C 0.6875 -0.10717 0.68837 -0.11041 0.69444 -0.11852 C 0.69687 -0.12847 0.70121 -0.13611 0.70555 -0.14444 C 0.70625 -0.1581 0.70833 -0.17153 0.70833 -0.18541 C 0.70833 -0.19491 0.7059 -0.19815 0.70417 -0.20741 C 0.70399 -0.20787 0.70208 -0.21921 0.70139 -0.22037 C 0.69375 -0.23356 0.69375 -0.22685 0.69028 -0.23889 C 0.68698 -0.25092 0.6875 -0.25926 0.67917 -0.26666 C 0.67708 -0.27801 0.67205 -0.28379 0.66667 -0.29259 C 0.66337 -0.29791 0.66059 -0.3044 0.65694 -0.30926 C 0.65226 -0.31551 0.64427 -0.32106 0.63889 -0.32592 C 0.63611 -0.32847 0.63385 -0.33217 0.63055 -0.33333 C 0.62882 -0.33403 0.62274 -0.33565 0.62083 -0.33703 C 0.61476 -0.3412 0.61128 -0.34444 0.60417 -0.34629 C 0.59635 -0.35324 0.58733 -0.35393 0.57917 -0.35926 C 0.57205 -0.36389 0.56632 -0.36643 0.55833 -0.36852 C 0.54566 -0.37685 0.53212 -0.38565 0.51805 -0.38889 C 0.50712 -0.39143 0.49549 -0.39282 0.48472 -0.39629 C 0.46771 -0.40208 0.45035 -0.40717 0.43333 -0.41296 C 0.41354 -0.41967 0.39305 -0.42291 0.37361 -0.43148 C 0.29305 -0.43055 0.2 -0.43588 0.11805 -0.42592 C 0.10208 -0.4206 0.1217 -0.42801 0.10833 -0.42037 C 0.10087 -0.41597 0.09097 -0.41574 0.08333 -0.41481 C 0.07292 -0.41018 0.06198 -0.41273 0.05139 -0.40926 C 0.03559 -0.40393 0.02118 -0.39028 0.00555 -0.38333 C -0.00087 -0.38055 -0.00729 -0.37639 -0.01389 -0.37407 C -0.01754 -0.37291 -0.02136 -0.37153 -0.025 -0.37037 C -0.02691 -0.36967 -0.03056 -0.36852 -0.03056 -0.36852 C -0.03524 -0.36435 -0.03889 -0.36296 -0.04445 -0.36111 C -0.05156 -0.35486 -0.05833 -0.35555 -0.06667 -0.3537 C -0.07153 -0.35254 -0.08177 -0.34768 -0.08472 -0.34629 C -0.09167 -0.34328 -0.09601 -0.33518 -0.10139 -0.32963 C -0.10538 -0.32546 -0.10972 -0.32222 -0.11389 -0.31852 C -0.1158 -0.3169 -0.11649 -0.31319 -0.11806 -0.31111 C -0.11962 -0.30903 -0.12205 -0.30787 -0.12361 -0.30555 C -0.12361 -0.30555 -0.13056 -0.29166 -0.13195 -0.28889 C -0.13386 -0.28518 -0.13472 -0.28032 -0.1375 -0.27778 C -0.14497 -0.27106 -0.14045 -0.27569 -0.15 -0.26296 C -0.1559 -0.25509 -0.15677 -0.24699 -0.16389 -0.24074 C -0.16806 -0.23264 -0.17066 -0.2243 -0.175 -0.21666 C -0.18056 -0.19421 -0.1809 -0.16898 -0.16806 -0.15185 C -0.16597 -0.14328 -0.16024 -0.13611 -0.15556 -0.12963 C -0.15538 -0.12916 -0.1507 -0.10509 -0.15 -0.1037 C -0.14913 -0.10208 -0.14705 -0.10162 -0.14583 -0.1 C -0.14097 -0.09467 -0.13993 -0.09097 -0.13611 -0.08333 C -0.13386 -0.0787 -0.12778 -0.08217 -0.12361 -0.08148 C -0.1184 -0.07685 -0.11285 -0.07477 -0.10695 -0.07222 C -0.10313 -0.0706 -0.1 -0.06389 -0.09722 -0.06111 C -0.09549 -0.05949 -0.0934 -0.05903 -0.09167 -0.05741 C -0.0882 -0.05416 -0.08542 -0.04977 -0.08195 -0.04629 C -0.08004 -0.03889 -0.07847 -0.03588 -0.07361 -0.03148 C -0.07049 -0.01921 -0.06059 -0.02315 -0.05139 -0.02222 C -0.04392 -0.01967 -0.03073 -0.01574 -0.02361 -0.01111 C -0.01771 -0.00717 -0.0125 -0.00301 -0.00695 0.00185 C -0.00504 0.00371 -0.00226 0.0007 -1.11111E-006 1.85185E-006 Z">
                                      <p:cBhvr>
                                        <p:cTn id="532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2B5-B255-4630-84DD-BF7E2F56F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– заряд ядр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= порядковому ном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6"/>
          <p:cNvSpPr/>
          <p:nvPr/>
        </p:nvSpPr>
        <p:spPr>
          <a:xfrm>
            <a:off x="4287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– массов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= р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Характеристики ат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22D-9120-4034-B22E-72EA6DD95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2"/>
          <p:cNvGrpSpPr/>
          <p:nvPr/>
        </p:nvGrpSpPr>
        <p:grpSpPr>
          <a:xfrm>
            <a:off x="785880" y="428760"/>
            <a:ext cx="3428640" cy="2934720"/>
            <a:chOff x="785880" y="428760"/>
            <a:chExt cx="3428640" cy="2934720"/>
          </a:xfrm>
        </p:grpSpPr>
        <p:sp>
          <p:nvSpPr>
            <p:cNvPr id="263" name="Rectangle 23"/>
            <p:cNvSpPr/>
            <p:nvPr/>
          </p:nvSpPr>
          <p:spPr>
            <a:xfrm>
              <a:off x="785880" y="428760"/>
              <a:ext cx="3317400" cy="2871360"/>
            </a:xfrm>
            <a:prstGeom prst="rect">
              <a:avLst/>
            </a:prstGeom>
            <a:solidFill>
              <a:srgbClr val="fa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119600" y="938880"/>
              <a:ext cx="133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2700360" y="598680"/>
              <a:ext cx="71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6"/>
            <p:cNvSpPr/>
            <p:nvPr/>
          </p:nvSpPr>
          <p:spPr>
            <a:xfrm>
              <a:off x="2210760" y="1789560"/>
              <a:ext cx="15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лит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1275480" y="2279160"/>
              <a:ext cx="71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8"/>
            <p:cNvSpPr/>
            <p:nvPr/>
          </p:nvSpPr>
          <p:spPr>
            <a:xfrm>
              <a:off x="3591000" y="2194200"/>
              <a:ext cx="623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9"/>
          <p:cNvGrpSpPr/>
          <p:nvPr/>
        </p:nvGrpSpPr>
        <p:grpSpPr>
          <a:xfrm>
            <a:off x="785880" y="3571920"/>
            <a:ext cx="3571200" cy="2999880"/>
            <a:chOff x="785880" y="3571920"/>
            <a:chExt cx="3571200" cy="2999880"/>
          </a:xfrm>
        </p:grpSpPr>
        <p:sp>
          <p:nvSpPr>
            <p:cNvPr id="270" name="Rectangle 30"/>
            <p:cNvSpPr/>
            <p:nvPr/>
          </p:nvSpPr>
          <p:spPr>
            <a:xfrm>
              <a:off x="785880" y="3571920"/>
              <a:ext cx="3389040" cy="2999880"/>
            </a:xfrm>
            <a:prstGeom prst="rect">
              <a:avLst/>
            </a:prstGeom>
            <a:solidFill>
              <a:srgbClr val="fa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1"/>
            <p:cNvSpPr/>
            <p:nvPr/>
          </p:nvSpPr>
          <p:spPr>
            <a:xfrm>
              <a:off x="831600" y="4215960"/>
              <a:ext cx="166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2"/>
            <p:cNvSpPr/>
            <p:nvPr/>
          </p:nvSpPr>
          <p:spPr>
            <a:xfrm>
              <a:off x="2310120" y="3750120"/>
              <a:ext cx="104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3"/>
            <p:cNvSpPr/>
            <p:nvPr/>
          </p:nvSpPr>
          <p:spPr>
            <a:xfrm>
              <a:off x="2241720" y="4993920"/>
              <a:ext cx="16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тр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4"/>
            <p:cNvSpPr/>
            <p:nvPr/>
          </p:nvSpPr>
          <p:spPr>
            <a:xfrm>
              <a:off x="1285920" y="5505480"/>
              <a:ext cx="10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5"/>
            <p:cNvSpPr/>
            <p:nvPr/>
          </p:nvSpPr>
          <p:spPr>
            <a:xfrm>
              <a:off x="3720240" y="4883040"/>
              <a:ext cx="6368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1"/>
          <p:cNvGrpSpPr/>
          <p:nvPr/>
        </p:nvGrpSpPr>
        <p:grpSpPr>
          <a:xfrm>
            <a:off x="4572000" y="4143240"/>
            <a:ext cx="2877840" cy="771480"/>
            <a:chOff x="4572000" y="4143240"/>
            <a:chExt cx="2877840" cy="771480"/>
          </a:xfrm>
        </p:grpSpPr>
        <p:sp>
          <p:nvSpPr>
            <p:cNvPr id="277" name="Oval 42"/>
            <p:cNvSpPr/>
            <p:nvPr/>
          </p:nvSpPr>
          <p:spPr>
            <a:xfrm>
              <a:off x="4572000" y="4321080"/>
              <a:ext cx="655920" cy="59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43"/>
            <p:cNvGrpSpPr/>
            <p:nvPr/>
          </p:nvGrpSpPr>
          <p:grpSpPr>
            <a:xfrm>
              <a:off x="5380200" y="4143240"/>
              <a:ext cx="2069640" cy="469440"/>
              <a:chOff x="5380200" y="4143240"/>
              <a:chExt cx="2069640" cy="469440"/>
            </a:xfrm>
          </p:grpSpPr>
          <p:sp>
            <p:nvSpPr>
              <p:cNvPr id="279" name="Text Box 44"/>
              <p:cNvSpPr/>
              <p:nvPr/>
            </p:nvSpPr>
            <p:spPr>
              <a:xfrm>
                <a:off x="5811840" y="4143240"/>
                <a:ext cx="16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+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5"/>
              <p:cNvSpPr/>
              <p:nvPr/>
            </p:nvSpPr>
            <p:spPr>
              <a:xfrm>
                <a:off x="5380200" y="4612680"/>
                <a:ext cx="67284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4"/>
          <p:cNvGrpSpPr/>
          <p:nvPr/>
        </p:nvGrpSpPr>
        <p:grpSpPr>
          <a:xfrm>
            <a:off x="5572080" y="1571760"/>
            <a:ext cx="1714680" cy="602640"/>
            <a:chOff x="5572080" y="1571760"/>
            <a:chExt cx="1714680" cy="602640"/>
          </a:xfrm>
        </p:grpSpPr>
        <p:sp>
          <p:nvSpPr>
            <p:cNvPr id="282" name="Text Box 35"/>
            <p:cNvSpPr/>
            <p:nvPr/>
          </p:nvSpPr>
          <p:spPr>
            <a:xfrm>
              <a:off x="5572080" y="171468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3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6500880" y="1571760"/>
              <a:ext cx="1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4"/>
          <p:cNvGrpSpPr/>
          <p:nvPr/>
        </p:nvGrpSpPr>
        <p:grpSpPr>
          <a:xfrm>
            <a:off x="5715000" y="4429080"/>
            <a:ext cx="1714680" cy="602640"/>
            <a:chOff x="5715000" y="4429080"/>
            <a:chExt cx="1714680" cy="602640"/>
          </a:xfrm>
        </p:grpSpPr>
        <p:sp>
          <p:nvSpPr>
            <p:cNvPr id="285" name="Text Box 35"/>
            <p:cNvSpPr/>
            <p:nvPr/>
          </p:nvSpPr>
          <p:spPr>
            <a:xfrm>
              <a:off x="5715000" y="45720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11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6"/>
            <p:cNvSpPr/>
            <p:nvPr/>
          </p:nvSpPr>
          <p:spPr>
            <a:xfrm>
              <a:off x="6643800" y="4429080"/>
              <a:ext cx="1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53"/>
          <p:cNvSpPr/>
          <p:nvPr/>
        </p:nvSpPr>
        <p:spPr>
          <a:xfrm>
            <a:off x="5934240" y="22147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4"/>
          <p:cNvSpPr/>
          <p:nvPr/>
        </p:nvSpPr>
        <p:spPr>
          <a:xfrm>
            <a:off x="6078240" y="51436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41"/>
          <p:cNvGrpSpPr/>
          <p:nvPr/>
        </p:nvGrpSpPr>
        <p:grpSpPr>
          <a:xfrm>
            <a:off x="4429080" y="1285920"/>
            <a:ext cx="2877840" cy="771480"/>
            <a:chOff x="4429080" y="1285920"/>
            <a:chExt cx="2877840" cy="771480"/>
          </a:xfrm>
        </p:grpSpPr>
        <p:sp>
          <p:nvSpPr>
            <p:cNvPr id="290" name="Oval 42"/>
            <p:cNvSpPr/>
            <p:nvPr/>
          </p:nvSpPr>
          <p:spPr>
            <a:xfrm>
              <a:off x="4429080" y="1463760"/>
              <a:ext cx="655920" cy="59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3"/>
            <p:cNvGrpSpPr/>
            <p:nvPr/>
          </p:nvGrpSpPr>
          <p:grpSpPr>
            <a:xfrm>
              <a:off x="5237280" y="1285920"/>
              <a:ext cx="2069640" cy="469440"/>
              <a:chOff x="5237280" y="1285920"/>
              <a:chExt cx="2069640" cy="469440"/>
            </a:xfrm>
          </p:grpSpPr>
          <p:sp>
            <p:nvSpPr>
              <p:cNvPr id="292" name="Text Box 44"/>
              <p:cNvSpPr/>
              <p:nvPr/>
            </p:nvSpPr>
            <p:spPr>
              <a:xfrm>
                <a:off x="5668920" y="1285920"/>
                <a:ext cx="16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+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45"/>
              <p:cNvSpPr/>
              <p:nvPr/>
            </p:nvSpPr>
            <p:spPr>
              <a:xfrm>
                <a:off x="5237280" y="1755360"/>
                <a:ext cx="67284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– наименьшая электронейтральная частица химического элемента, состоящая из положительно заряженного ядра и отрицательно заряженных электронов, сохраняющая все свойства этого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E6FD-F398-4BA4-AFDD-9D94AD8CE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E534-19A4-476A-95FA-258068D2C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33440" y="1266840"/>
            <a:ext cx="8229600" cy="16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. По периодической системе химических элементов найдите заряды ядер  атомо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, P, Br, Cl, N, O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92600" y="373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996640" y="376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573880" y="33177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480920" y="3014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962440" y="33242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1200" y="4873680"/>
            <a:ext cx="433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рь себя!                                                           Правильные ответы:                                                               а) +13, +15, +35, +17, +7, +8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б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P, Cl, O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620640" y="300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. Найдите неправильные отв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13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35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1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08EC-F295-46CD-998D-809623D8A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е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30176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. По периодической системе химических элементов найдите число электронов  атом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, P, Br, Cl, N, O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320760" y="2944800"/>
            <a:ext cx="8076960" cy="1556280"/>
            <a:chOff x="320760" y="2944800"/>
            <a:chExt cx="8076960" cy="1556280"/>
          </a:xfrm>
        </p:grpSpPr>
        <p:sp>
          <p:nvSpPr>
            <p:cNvPr id="311" name="Rectangle 5"/>
            <p:cNvSpPr/>
            <p:nvPr/>
          </p:nvSpPr>
          <p:spPr>
            <a:xfrm>
              <a:off x="320760" y="2944800"/>
              <a:ext cx="8076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). Найдите неправильные ответы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+13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36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17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+7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 е = 8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1405080" y="3903840"/>
              <a:ext cx="24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403280" y="3381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3703320" y="3863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3882960" y="3384720"/>
              <a:ext cx="27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6422760" y="387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6480000" y="3371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2"/>
          <p:cNvSpPr/>
          <p:nvPr/>
        </p:nvSpPr>
        <p:spPr>
          <a:xfrm>
            <a:off x="2770200" y="3222720"/>
            <a:ext cx="3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5003280" y="3745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5081040" y="32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7629120" y="32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34800" y="4973760"/>
            <a:ext cx="42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ь себя!                                                           Правильные ответы:                                                               а) 13, 15, 35, 17, 7, 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, P, Br, N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B2B1-5E8A-4506-B826-35B04E5E3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 5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е таблицу «Состав атомов химических элемент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26880" y="1189080"/>
          <a:ext cx="8485200" cy="4317840"/>
        </p:xfrm>
        <a:graphic>
          <a:graphicData uri="http://schemas.openxmlformats.org/drawingml/2006/table">
            <a:tbl>
              <a:tblPr/>
              <a:tblGrid>
                <a:gridCol w="2737080"/>
                <a:gridCol w="823680"/>
                <a:gridCol w="1030320"/>
                <a:gridCol w="851040"/>
                <a:gridCol w="860400"/>
                <a:gridCol w="812880"/>
                <a:gridCol w="644400"/>
                <a:gridCol w="72540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химического эле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и химических эле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ядковый номер в таблице Д.И. 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6" name="Group 80"/>
          <p:cNvGrpSpPr/>
          <p:nvPr/>
        </p:nvGrpSpPr>
        <p:grpSpPr>
          <a:xfrm>
            <a:off x="3282840" y="2162160"/>
            <a:ext cx="5437440" cy="569880"/>
            <a:chOff x="3282840" y="2162160"/>
            <a:chExt cx="5437440" cy="569880"/>
          </a:xfrm>
        </p:grpSpPr>
        <p:sp>
          <p:nvSpPr>
            <p:cNvPr id="327" name="Text Box 81"/>
            <p:cNvSpPr/>
            <p:nvPr/>
          </p:nvSpPr>
          <p:spPr>
            <a:xfrm>
              <a:off x="3282840" y="216216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2"/>
            <p:cNvSpPr/>
            <p:nvPr/>
          </p:nvSpPr>
          <p:spPr>
            <a:xfrm>
              <a:off x="4067280" y="221148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3"/>
            <p:cNvSpPr/>
            <p:nvPr/>
          </p:nvSpPr>
          <p:spPr>
            <a:xfrm>
              <a:off x="4944960" y="21891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84"/>
            <p:cNvSpPr/>
            <p:nvPr/>
          </p:nvSpPr>
          <p:spPr>
            <a:xfrm>
              <a:off x="5832360" y="217656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5"/>
            <p:cNvSpPr/>
            <p:nvPr/>
          </p:nvSpPr>
          <p:spPr>
            <a:xfrm>
              <a:off x="6672240" y="218916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86"/>
            <p:cNvSpPr/>
            <p:nvPr/>
          </p:nvSpPr>
          <p:spPr>
            <a:xfrm>
              <a:off x="7508880" y="21891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7"/>
            <p:cNvSpPr/>
            <p:nvPr/>
          </p:nvSpPr>
          <p:spPr>
            <a:xfrm>
              <a:off x="8191440" y="216360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88"/>
          <p:cNvGrpSpPr/>
          <p:nvPr/>
        </p:nvGrpSpPr>
        <p:grpSpPr>
          <a:xfrm>
            <a:off x="3270240" y="2779560"/>
            <a:ext cx="5423040" cy="585720"/>
            <a:chOff x="3270240" y="2779560"/>
            <a:chExt cx="5423040" cy="585720"/>
          </a:xfrm>
        </p:grpSpPr>
        <p:sp>
          <p:nvSpPr>
            <p:cNvPr id="335" name="Text Box 89"/>
            <p:cNvSpPr/>
            <p:nvPr/>
          </p:nvSpPr>
          <p:spPr>
            <a:xfrm>
              <a:off x="3270240" y="280512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0"/>
            <p:cNvSpPr/>
            <p:nvPr/>
          </p:nvSpPr>
          <p:spPr>
            <a:xfrm>
              <a:off x="4056120" y="277956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91"/>
            <p:cNvSpPr/>
            <p:nvPr/>
          </p:nvSpPr>
          <p:spPr>
            <a:xfrm>
              <a:off x="4970520" y="28065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2"/>
            <p:cNvSpPr/>
            <p:nvPr/>
          </p:nvSpPr>
          <p:spPr>
            <a:xfrm>
              <a:off x="5870520" y="284472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93"/>
            <p:cNvSpPr/>
            <p:nvPr/>
          </p:nvSpPr>
          <p:spPr>
            <a:xfrm>
              <a:off x="6735600" y="280512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94"/>
            <p:cNvSpPr/>
            <p:nvPr/>
          </p:nvSpPr>
          <p:spPr>
            <a:xfrm>
              <a:off x="7547040" y="27813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95"/>
            <p:cNvSpPr/>
            <p:nvPr/>
          </p:nvSpPr>
          <p:spPr>
            <a:xfrm>
              <a:off x="8164440" y="284472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96"/>
          <p:cNvGrpSpPr/>
          <p:nvPr/>
        </p:nvGrpSpPr>
        <p:grpSpPr>
          <a:xfrm>
            <a:off x="3308400" y="3346560"/>
            <a:ext cx="5370480" cy="558720"/>
            <a:chOff x="3308400" y="3346560"/>
            <a:chExt cx="5370480" cy="558720"/>
          </a:xfrm>
        </p:grpSpPr>
        <p:sp>
          <p:nvSpPr>
            <p:cNvPr id="343" name="Text Box 97"/>
            <p:cNvSpPr/>
            <p:nvPr/>
          </p:nvSpPr>
          <p:spPr>
            <a:xfrm>
              <a:off x="3308400" y="338472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98"/>
            <p:cNvSpPr/>
            <p:nvPr/>
          </p:nvSpPr>
          <p:spPr>
            <a:xfrm>
              <a:off x="4043520" y="337176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99"/>
            <p:cNvSpPr/>
            <p:nvPr/>
          </p:nvSpPr>
          <p:spPr>
            <a:xfrm>
              <a:off x="4956120" y="33591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0"/>
            <p:cNvSpPr/>
            <p:nvPr/>
          </p:nvSpPr>
          <p:spPr>
            <a:xfrm>
              <a:off x="5845320" y="3360600"/>
              <a:ext cx="5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1"/>
            <p:cNvSpPr/>
            <p:nvPr/>
          </p:nvSpPr>
          <p:spPr>
            <a:xfrm>
              <a:off x="6708600" y="335916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02"/>
            <p:cNvSpPr/>
            <p:nvPr/>
          </p:nvSpPr>
          <p:spPr>
            <a:xfrm>
              <a:off x="7532640" y="33465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"/>
            <p:cNvSpPr/>
            <p:nvPr/>
          </p:nvSpPr>
          <p:spPr>
            <a:xfrm>
              <a:off x="8150400" y="3359160"/>
              <a:ext cx="5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4"/>
          <p:cNvGrpSpPr/>
          <p:nvPr/>
        </p:nvGrpSpPr>
        <p:grpSpPr>
          <a:xfrm>
            <a:off x="3125880" y="3913200"/>
            <a:ext cx="5680080" cy="547560"/>
            <a:chOff x="3125880" y="3913200"/>
            <a:chExt cx="5680080" cy="547560"/>
          </a:xfrm>
        </p:grpSpPr>
        <p:sp>
          <p:nvSpPr>
            <p:cNvPr id="351" name="Text Box 105"/>
            <p:cNvSpPr/>
            <p:nvPr/>
          </p:nvSpPr>
          <p:spPr>
            <a:xfrm>
              <a:off x="3125880" y="3936960"/>
              <a:ext cx="6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6"/>
            <p:cNvSpPr/>
            <p:nvPr/>
          </p:nvSpPr>
          <p:spPr>
            <a:xfrm>
              <a:off x="3981600" y="394020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7"/>
            <p:cNvSpPr/>
            <p:nvPr/>
          </p:nvSpPr>
          <p:spPr>
            <a:xfrm>
              <a:off x="4865760" y="3924360"/>
              <a:ext cx="88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08"/>
            <p:cNvSpPr/>
            <p:nvPr/>
          </p:nvSpPr>
          <p:spPr>
            <a:xfrm>
              <a:off x="5802480" y="391320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9"/>
            <p:cNvSpPr/>
            <p:nvPr/>
          </p:nvSpPr>
          <p:spPr>
            <a:xfrm>
              <a:off x="6657840" y="391320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10"/>
            <p:cNvSpPr/>
            <p:nvPr/>
          </p:nvSpPr>
          <p:spPr>
            <a:xfrm>
              <a:off x="7454880" y="3913200"/>
              <a:ext cx="61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11"/>
            <p:cNvSpPr/>
            <p:nvPr/>
          </p:nvSpPr>
          <p:spPr>
            <a:xfrm>
              <a:off x="8148600" y="3938760"/>
              <a:ext cx="6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12"/>
          <p:cNvGrpSpPr/>
          <p:nvPr/>
        </p:nvGrpSpPr>
        <p:grpSpPr>
          <a:xfrm>
            <a:off x="3138480" y="4449600"/>
            <a:ext cx="5459040" cy="552600"/>
            <a:chOff x="3138480" y="4449600"/>
            <a:chExt cx="5459040" cy="552600"/>
          </a:xfrm>
        </p:grpSpPr>
        <p:sp>
          <p:nvSpPr>
            <p:cNvPr id="359" name="Text Box 113"/>
            <p:cNvSpPr/>
            <p:nvPr/>
          </p:nvSpPr>
          <p:spPr>
            <a:xfrm>
              <a:off x="3138480" y="4478400"/>
              <a:ext cx="6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14"/>
            <p:cNvSpPr/>
            <p:nvPr/>
          </p:nvSpPr>
          <p:spPr>
            <a:xfrm>
              <a:off x="4095720" y="445788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5"/>
            <p:cNvSpPr/>
            <p:nvPr/>
          </p:nvSpPr>
          <p:spPr>
            <a:xfrm>
              <a:off x="4984920" y="4471920"/>
              <a:ext cx="6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16"/>
            <p:cNvSpPr/>
            <p:nvPr/>
          </p:nvSpPr>
          <p:spPr>
            <a:xfrm>
              <a:off x="5769000" y="448164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7"/>
            <p:cNvSpPr/>
            <p:nvPr/>
          </p:nvSpPr>
          <p:spPr>
            <a:xfrm>
              <a:off x="6594480" y="448164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8"/>
            <p:cNvSpPr/>
            <p:nvPr/>
          </p:nvSpPr>
          <p:spPr>
            <a:xfrm>
              <a:off x="7380360" y="4468680"/>
              <a:ext cx="6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19"/>
            <p:cNvSpPr/>
            <p:nvPr/>
          </p:nvSpPr>
          <p:spPr>
            <a:xfrm>
              <a:off x="8218800" y="444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20"/>
          <p:cNvGrpSpPr/>
          <p:nvPr/>
        </p:nvGrpSpPr>
        <p:grpSpPr>
          <a:xfrm>
            <a:off x="3305160" y="4965840"/>
            <a:ext cx="5310360" cy="564840"/>
            <a:chOff x="3305160" y="4965840"/>
            <a:chExt cx="5310360" cy="564840"/>
          </a:xfrm>
        </p:grpSpPr>
        <p:sp>
          <p:nvSpPr>
            <p:cNvPr id="367" name="Text Box 121"/>
            <p:cNvSpPr/>
            <p:nvPr/>
          </p:nvSpPr>
          <p:spPr>
            <a:xfrm>
              <a:off x="3305160" y="496584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2"/>
            <p:cNvSpPr/>
            <p:nvPr/>
          </p:nvSpPr>
          <p:spPr>
            <a:xfrm>
              <a:off x="3992400" y="50101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23"/>
            <p:cNvSpPr/>
            <p:nvPr/>
          </p:nvSpPr>
          <p:spPr>
            <a:xfrm>
              <a:off x="4970520" y="497196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24"/>
            <p:cNvSpPr/>
            <p:nvPr/>
          </p:nvSpPr>
          <p:spPr>
            <a:xfrm>
              <a:off x="5884920" y="4983120"/>
              <a:ext cx="6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25"/>
            <p:cNvSpPr/>
            <p:nvPr/>
          </p:nvSpPr>
          <p:spPr>
            <a:xfrm>
              <a:off x="6620040" y="497196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26"/>
            <p:cNvSpPr/>
            <p:nvPr/>
          </p:nvSpPr>
          <p:spPr>
            <a:xfrm>
              <a:off x="7419960" y="499572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27"/>
            <p:cNvSpPr/>
            <p:nvPr/>
          </p:nvSpPr>
          <p:spPr>
            <a:xfrm>
              <a:off x="8228160" y="498492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54C-D52B-4F08-807C-C442E2AD9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20 из 1864"/>
          <p:cNvPicPr/>
          <p:nvPr/>
        </p:nvPicPr>
        <p:blipFill>
          <a:blip r:embed="rId2"/>
          <a:stretch/>
        </p:blipFill>
        <p:spPr>
          <a:xfrm>
            <a:off x="5686560" y="1143000"/>
            <a:ext cx="34574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ом - мельчайшее «неделимое»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D2A-B119-41FB-B829-EF3EB620C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57176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04 г - Модель Дж. Дж. Томсо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Пудинг с изюмом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Thombз"/>
          <p:cNvPicPr/>
          <p:nvPr/>
        </p:nvPicPr>
        <p:blipFill>
          <a:blip r:embed="rId2"/>
          <a:stretch/>
        </p:blipFill>
        <p:spPr>
          <a:xfrm>
            <a:off x="5398920" y="1214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sг"/>
          <p:cNvPicPr/>
          <p:nvPr/>
        </p:nvPicPr>
        <p:blipFill>
          <a:blip r:embed="rId3"/>
          <a:stretch/>
        </p:blipFill>
        <p:spPr>
          <a:xfrm>
            <a:off x="5857920" y="4214880"/>
            <a:ext cx="235728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user\Рабочий стол\6-1-1.gif"/>
          <p:cNvPicPr/>
          <p:nvPr/>
        </p:nvPicPr>
        <p:blipFill>
          <a:blip r:embed="rId4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B691-43D4-45D6-A540-3F4F40B8F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04 г. – Х. Нага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Модель Сатурна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Картинка 3 из 5"/>
          <p:cNvPicPr/>
          <p:nvPr/>
        </p:nvPicPr>
        <p:blipFill>
          <a:blip r:embed="rId2"/>
          <a:stretch/>
        </p:blipFill>
        <p:spPr>
          <a:xfrm>
            <a:off x="357120" y="3429000"/>
            <a:ext cx="423720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 из 96000"/>
          <p:cNvPicPr/>
          <p:nvPr/>
        </p:nvPicPr>
        <p:blipFill>
          <a:blip r:embed="rId3"/>
          <a:stretch/>
        </p:blipFill>
        <p:spPr>
          <a:xfrm>
            <a:off x="4786200" y="3571920"/>
            <a:ext cx="342900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артинка 2 из 2"/>
          <p:cNvPicPr/>
          <p:nvPr/>
        </p:nvPicPr>
        <p:blipFill>
          <a:blip r:embed="rId4"/>
          <a:stretch/>
        </p:blipFill>
        <p:spPr>
          <a:xfrm>
            <a:off x="5786280" y="107172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E219-E821-44C6-BF56-872DB09BE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1 г. – Э. Резерф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етарная модель атома: в центре атома - ядро, вокруг которого вращаются элек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tran10-1"/>
          <p:cNvPicPr/>
          <p:nvPr/>
        </p:nvPicPr>
        <p:blipFill>
          <a:blip r:embed="rId2"/>
          <a:stretch/>
        </p:blipFill>
        <p:spPr>
          <a:xfrm>
            <a:off x="6357960" y="928800"/>
            <a:ext cx="2314440" cy="28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99888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опия 6-1-4"/>
          <p:cNvPicPr/>
          <p:nvPr/>
        </p:nvPicPr>
        <p:blipFill>
          <a:blip r:embed="rId4"/>
          <a:stretch/>
        </p:blipFill>
        <p:spPr>
          <a:xfrm>
            <a:off x="5689440" y="3987720"/>
            <a:ext cx="209736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D04-C738-4021-839D-148ED273A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2. Современная модель строен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71468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дро                  электр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11"/>
          <p:cNvCxnSpPr/>
          <p:nvPr/>
        </p:nvCxnSpPr>
        <p:spPr>
          <a:xfrm flipH="1">
            <a:off x="2642760" y="2284920"/>
            <a:ext cx="92952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>
            <a:off x="4857480" y="2285640"/>
            <a:ext cx="85788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24"/>
          <p:cNvCxnSpPr/>
          <p:nvPr/>
        </p:nvCxnSpPr>
        <p:spPr>
          <a:xfrm flipH="1">
            <a:off x="1285560" y="3643200"/>
            <a:ext cx="714960" cy="572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26"/>
          <p:cNvCxnSpPr/>
          <p:nvPr/>
        </p:nvCxnSpPr>
        <p:spPr>
          <a:xfrm>
            <a:off x="2357280" y="3643200"/>
            <a:ext cx="643320" cy="64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8"/>
          <p:cNvSpPr/>
          <p:nvPr/>
        </p:nvSpPr>
        <p:spPr>
          <a:xfrm>
            <a:off x="434160" y="42148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2799000" y="421488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й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6361200" y="4000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6431760" y="3786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1074960" y="49291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860760" y="492912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1720080" y="507204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6"/>
          <p:cNvSpPr/>
          <p:nvPr/>
        </p:nvSpPr>
        <p:spPr>
          <a:xfrm>
            <a:off x="3504960" y="48578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3289680" y="485784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4146480" y="50007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9"/>
          <p:cNvSpPr/>
          <p:nvPr/>
        </p:nvSpPr>
        <p:spPr>
          <a:xfrm>
            <a:off x="7077240" y="414324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-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9DD-3A5D-4B68-8CFD-0B51AF917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800280" y="4051440"/>
            <a:ext cx="2616120" cy="2616120"/>
            <a:chOff x="800280" y="4051440"/>
            <a:chExt cx="2616120" cy="2616120"/>
          </a:xfrm>
        </p:grpSpPr>
        <p:sp>
          <p:nvSpPr>
            <p:cNvPr id="126" name="Oval 3"/>
            <p:cNvSpPr/>
            <p:nvPr/>
          </p:nvSpPr>
          <p:spPr>
            <a:xfrm>
              <a:off x="800280" y="4051440"/>
              <a:ext cx="2616120" cy="261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/>
            <p:cNvSpPr/>
            <p:nvPr/>
          </p:nvSpPr>
          <p:spPr>
            <a:xfrm>
              <a:off x="1346400" y="4368960"/>
              <a:ext cx="622440" cy="6220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>
              <a:off x="851040" y="500364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2578320" y="5130720"/>
              <a:ext cx="622440" cy="622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1257480" y="5715000"/>
              <a:ext cx="622440" cy="622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1714680" y="513072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2133720" y="5829480"/>
              <a:ext cx="622440" cy="6220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2273400" y="443232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428760" y="1665360"/>
            <a:ext cx="3549600" cy="1616040"/>
            <a:chOff x="428760" y="1665360"/>
            <a:chExt cx="3549600" cy="1616040"/>
          </a:xfrm>
        </p:grpSpPr>
        <p:sp>
          <p:nvSpPr>
            <p:cNvPr id="135" name="Oval 13"/>
            <p:cNvSpPr/>
            <p:nvPr/>
          </p:nvSpPr>
          <p:spPr>
            <a:xfrm>
              <a:off x="428760" y="1733760"/>
              <a:ext cx="3549600" cy="1547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 rot="5400000">
              <a:off x="1764360" y="1370520"/>
              <a:ext cx="933480" cy="224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5"/>
            <p:cNvSpPr/>
            <p:nvPr/>
          </p:nvSpPr>
          <p:spPr>
            <a:xfrm>
              <a:off x="2233800" y="1665360"/>
              <a:ext cx="191880" cy="192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35320" y="2452680"/>
              <a:ext cx="192240" cy="192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1968480" y="2232000"/>
              <a:ext cx="528840" cy="53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18"/>
            <p:cNvSpPr txBox="1"/>
            <p:nvPr/>
          </p:nvSpPr>
          <p:spPr>
            <a:xfrm>
              <a:off x="2065320" y="2309760"/>
              <a:ext cx="34920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1800360" y="1982880"/>
              <a:ext cx="191880" cy="191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0"/>
          <p:cNvSpPr/>
          <p:nvPr/>
        </p:nvSpPr>
        <p:spPr>
          <a:xfrm rot="984600">
            <a:off x="544680" y="2021040"/>
            <a:ext cx="1031760" cy="2612880"/>
          </a:xfrm>
          <a:custGeom>
            <a:avLst/>
            <a:gdLst>
              <a:gd name="textAreaLeft" fmla="*/ 138240 w 1031760"/>
              <a:gd name="textAreaRight" fmla="*/ 893520 w 1031760"/>
              <a:gd name="textAreaTop" fmla="*/ 457200 h 2612880"/>
              <a:gd name="textAreaBottom" fmla="*/ 1894320 h 26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2"/>
          <p:cNvGrpSpPr/>
          <p:nvPr/>
        </p:nvGrpSpPr>
        <p:grpSpPr>
          <a:xfrm>
            <a:off x="1214280" y="500040"/>
            <a:ext cx="820800" cy="874440"/>
            <a:chOff x="1214280" y="500040"/>
            <a:chExt cx="820800" cy="874440"/>
          </a:xfrm>
        </p:grpSpPr>
        <p:sp>
          <p:nvSpPr>
            <p:cNvPr id="144" name="WordArt 23"/>
            <p:cNvSpPr txBox="1"/>
            <p:nvPr/>
          </p:nvSpPr>
          <p:spPr>
            <a:xfrm>
              <a:off x="1485000" y="500040"/>
              <a:ext cx="550080" cy="68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i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5" name="WordArt 24"/>
            <p:cNvSpPr txBox="1"/>
            <p:nvPr/>
          </p:nvSpPr>
          <p:spPr>
            <a:xfrm>
              <a:off x="1214280" y="1091160"/>
              <a:ext cx="151560" cy="28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46" name="Group 25"/>
          <p:cNvGrpSpPr/>
          <p:nvPr/>
        </p:nvGrpSpPr>
        <p:grpSpPr>
          <a:xfrm>
            <a:off x="2786040" y="2357280"/>
            <a:ext cx="5785920" cy="2285640"/>
            <a:chOff x="2786040" y="2357280"/>
            <a:chExt cx="5785920" cy="2285640"/>
          </a:xfrm>
        </p:grpSpPr>
        <p:grpSp>
          <p:nvGrpSpPr>
            <p:cNvPr id="147" name="Group 26"/>
            <p:cNvGrpSpPr/>
            <p:nvPr/>
          </p:nvGrpSpPr>
          <p:grpSpPr>
            <a:xfrm>
              <a:off x="2786040" y="2357280"/>
              <a:ext cx="5785920" cy="2285640"/>
              <a:chOff x="2786040" y="2357280"/>
              <a:chExt cx="5785920" cy="2285640"/>
            </a:xfrm>
          </p:grpSpPr>
          <p:sp>
            <p:nvSpPr>
              <p:cNvPr id="148" name="Line 27"/>
              <p:cNvSpPr/>
              <p:nvPr/>
            </p:nvSpPr>
            <p:spPr>
              <a:xfrm flipV="1">
                <a:off x="2786040" y="2763360"/>
                <a:ext cx="2447640" cy="187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8"/>
              <p:cNvSpPr/>
              <p:nvPr/>
            </p:nvSpPr>
            <p:spPr>
              <a:xfrm>
                <a:off x="5249160" y="2357280"/>
                <a:ext cx="3322800" cy="1191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йтрон не имеет заряда, обозначается букво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29"/>
            <p:cNvSpPr/>
            <p:nvPr/>
          </p:nvSpPr>
          <p:spPr>
            <a:xfrm>
              <a:off x="7215840" y="3286080"/>
              <a:ext cx="2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0"/>
          <p:cNvGrpSpPr/>
          <p:nvPr/>
        </p:nvGrpSpPr>
        <p:grpSpPr>
          <a:xfrm>
            <a:off x="3000240" y="4286160"/>
            <a:ext cx="6142680" cy="1998720"/>
            <a:chOff x="3000240" y="4286160"/>
            <a:chExt cx="6142680" cy="1998720"/>
          </a:xfrm>
        </p:grpSpPr>
        <p:grpSp>
          <p:nvGrpSpPr>
            <p:cNvPr id="152" name="Group 31"/>
            <p:cNvGrpSpPr/>
            <p:nvPr/>
          </p:nvGrpSpPr>
          <p:grpSpPr>
            <a:xfrm>
              <a:off x="3000240" y="4362120"/>
              <a:ext cx="6142680" cy="1922760"/>
              <a:chOff x="3000240" y="4362120"/>
              <a:chExt cx="6142680" cy="1922760"/>
            </a:xfrm>
          </p:grpSpPr>
          <p:sp>
            <p:nvSpPr>
              <p:cNvPr id="153" name="Text Box 32"/>
              <p:cNvSpPr/>
              <p:nvPr/>
            </p:nvSpPr>
            <p:spPr>
              <a:xfrm>
                <a:off x="4658040" y="4362120"/>
                <a:ext cx="4484880" cy="19227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тон, обозначается буквой </a:t>
                </a:r>
                <a:r>
                  <a:rPr b="1" i="1" lang="ru-RU" sz="2400" spc="-1" strike="noStrike">
                    <a:solidFill>
                      <a:srgbClr val="ff33cc"/>
                    </a:solidFill>
                    <a:latin typeface="Times New Roman"/>
                  </a:rPr>
                  <a:t>р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ложительно заряженная частиц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, численно равная порядковому номеру химического элемент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3"/>
              <p:cNvSpPr/>
              <p:nvPr/>
            </p:nvSpPr>
            <p:spPr>
              <a:xfrm flipV="1">
                <a:off x="3000240" y="4744440"/>
                <a:ext cx="1631520" cy="75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34"/>
            <p:cNvSpPr/>
            <p:nvPr/>
          </p:nvSpPr>
          <p:spPr>
            <a:xfrm>
              <a:off x="8715240" y="4286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9810-51C0-4F90-9C5A-B02A29C9DA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водо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2"/>
          <p:cNvSpPr/>
          <p:nvPr/>
        </p:nvSpPr>
        <p:spPr>
          <a:xfrm>
            <a:off x="1197000" y="2303640"/>
            <a:ext cx="6799320" cy="23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4276800" y="3208320"/>
            <a:ext cx="419040" cy="419040"/>
          </a:xfrm>
          <a:prstGeom prst="flowChartOr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1247760" y="2962440"/>
            <a:ext cx="303120" cy="303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511200" y="501480"/>
            <a:ext cx="1202760" cy="1073160"/>
            <a:chOff x="511200" y="501480"/>
            <a:chExt cx="1202760" cy="1073160"/>
          </a:xfrm>
        </p:grpSpPr>
        <p:sp>
          <p:nvSpPr>
            <p:cNvPr id="162" name="WordArt 7"/>
            <p:cNvSpPr txBox="1"/>
            <p:nvPr/>
          </p:nvSpPr>
          <p:spPr>
            <a:xfrm>
              <a:off x="900720" y="615960"/>
              <a:ext cx="813240" cy="84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H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WordArt 8"/>
            <p:cNvSpPr txBox="1"/>
            <p:nvPr/>
          </p:nvSpPr>
          <p:spPr>
            <a:xfrm>
              <a:off x="511200" y="501480"/>
              <a:ext cx="246600" cy="30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4" name="WordArt 9"/>
            <p:cNvSpPr txBox="1"/>
            <p:nvPr/>
          </p:nvSpPr>
          <p:spPr>
            <a:xfrm>
              <a:off x="513000" y="1266840"/>
              <a:ext cx="24732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5" name="Text Box 11"/>
          <p:cNvSpPr/>
          <p:nvPr/>
        </p:nvSpPr>
        <p:spPr>
          <a:xfrm>
            <a:off x="4991040" y="541008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 электрон и 1 про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63 -0.11772 C 0.54566 -0.11772 0.7125 -0.04302 0.7125 0.04879 C 0.7125 0.14084 0.54566 0.21531 0.34063 0.21531 C 0.13577 0.21531 -0.03073 0.14084 -0.03073 0.04879 C -0.03073 -0.04302 0.13577 -0.11772 0.34063 -0.11772 Z">
                                      <p:cBhvr>
                                        <p:cTn id="24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лит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FBF9-CFD7-44BF-8C6E-BA472C0BDC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274840" y="2252520"/>
            <a:ext cx="5992920" cy="2260800"/>
            <a:chOff x="2274840" y="2252520"/>
            <a:chExt cx="5992920" cy="2260800"/>
          </a:xfrm>
        </p:grpSpPr>
        <p:sp>
          <p:nvSpPr>
            <p:cNvPr id="169" name="Oval 5"/>
            <p:cNvSpPr/>
            <p:nvPr/>
          </p:nvSpPr>
          <p:spPr>
            <a:xfrm>
              <a:off x="2274840" y="2252520"/>
              <a:ext cx="5992920" cy="22608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 rot="5400000">
              <a:off x="4561200" y="1513440"/>
              <a:ext cx="1365120" cy="3792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val 7"/>
          <p:cNvSpPr/>
          <p:nvPr/>
        </p:nvSpPr>
        <p:spPr>
          <a:xfrm>
            <a:off x="4017960" y="384660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711760" y="217800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64360" y="276696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00040" y="928800"/>
            <a:ext cx="1604520" cy="1268280"/>
            <a:chOff x="500040" y="928800"/>
            <a:chExt cx="1604520" cy="1268280"/>
          </a:xfrm>
        </p:grpSpPr>
        <p:sp>
          <p:nvSpPr>
            <p:cNvPr id="175" name="WordArt 11"/>
            <p:cNvSpPr txBox="1"/>
            <p:nvPr/>
          </p:nvSpPr>
          <p:spPr>
            <a:xfrm>
              <a:off x="1029240" y="928800"/>
              <a:ext cx="107532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i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WordArt 12"/>
            <p:cNvSpPr txBox="1"/>
            <p:nvPr/>
          </p:nvSpPr>
          <p:spPr>
            <a:xfrm>
              <a:off x="500040" y="1785960"/>
              <a:ext cx="29664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7" name="Oval 13"/>
          <p:cNvSpPr/>
          <p:nvPr/>
        </p:nvSpPr>
        <p:spPr>
          <a:xfrm>
            <a:off x="4932360" y="3008160"/>
            <a:ext cx="693720" cy="690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5076720" y="3152880"/>
            <a:ext cx="45720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728720" y="3581280"/>
            <a:ext cx="3274560" cy="2296440"/>
            <a:chOff x="1728720" y="3581280"/>
            <a:chExt cx="3274560" cy="2296440"/>
          </a:xfrm>
        </p:grpSpPr>
        <p:sp>
          <p:nvSpPr>
            <p:cNvPr id="180" name="Text Box 16"/>
            <p:cNvSpPr/>
            <p:nvPr/>
          </p:nvSpPr>
          <p:spPr>
            <a:xfrm>
              <a:off x="1728720" y="541800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99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990099"/>
                  </a:solidFill>
                  <a:latin typeface="Times New Roman"/>
                </a:rPr>
                <a:t>Z =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3339720" y="3581280"/>
              <a:ext cx="1663560" cy="1917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8"/>
          <p:cNvGrpSpPr/>
          <p:nvPr/>
        </p:nvGrpSpPr>
        <p:grpSpPr>
          <a:xfrm>
            <a:off x="4902120" y="2057400"/>
            <a:ext cx="3560760" cy="3774600"/>
            <a:chOff x="4902120" y="2057400"/>
            <a:chExt cx="3560760" cy="3774600"/>
          </a:xfrm>
        </p:grpSpPr>
        <p:sp>
          <p:nvSpPr>
            <p:cNvPr id="183" name="Text Box 19"/>
            <p:cNvSpPr/>
            <p:nvPr/>
          </p:nvSpPr>
          <p:spPr>
            <a:xfrm>
              <a:off x="8147160" y="537048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00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902120" y="5372280"/>
              <a:ext cx="34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99"/>
                  </a:solidFill>
                  <a:latin typeface="Times New Roman"/>
                </a:rPr>
                <a:t>электронная оболочка 3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1"/>
            <p:cNvSpPr/>
            <p:nvPr/>
          </p:nvSpPr>
          <p:spPr>
            <a:xfrm>
              <a:off x="8267760" y="2057400"/>
              <a:ext cx="190440" cy="2413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62640 h 2413080"/>
                <a:gd name="textAreaBottom" fmla="*/ 2350440 h 24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 flipH="1">
              <a:off x="7467480" y="4533840"/>
              <a:ext cx="736560" cy="9525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C -0.05712 0.00116 -0.10573 0.00417 -0.1625 0.00556 C -0.17882 0.01088 -0.19601 0.01111 -0.2125 0.01667 C -0.21892 0.02523 -0.23142 0.02847 -0.24028 0.03148 C -0.25313 0.03588 -0.26493 0.04398 -0.27778 0.04815 C -0.28507 0.05463 -0.29427 0.05833 -0.30278 0.06111 C -0.31233 0.06435 -0.32431 0.07361 -0.33333 0.07963 C -0.34618 0.08819 -0.35764 0.10023 -0.36945 0.11111 C -0.37604 0.11713 -0.37847 0.11782 -0.38333 0.12593 C -0.38993 0.13704 -0.39323 0.14954 -0.39583 0.16296 C -0.39566 0.1662 -0.39774 0.19768 -0.39028 0.20556 C -0.38715 0.2088 -0.38264 0.20856 -0.37917 0.21111 C -0.37274 0.21597 -0.36632 0.22083 -0.35972 0.22593 C -0.34566 0.23657 -0.33333 0.25278 -0.31945 0.26296 C -0.31649 0.26505 -0.31267 0.26458 -0.30972 0.26667 C -0.30417 0.27037 -0.30035 0.27662 -0.29445 0.27963 C -0.28767 0.2831 -0.28038 0.28356 -0.27361 0.28704 C -0.25451 0.29676 -0.23993 0.3081 -0.21945 0.31111 C -0.20625 0.3169 -0.18733 0.31551 -0.17361 0.31667 C -0.13663 0.31944 -0.1434 0.31875 -0.09583 0.32037 C -0.07014 0.32893 -0.03108 0.32315 -0.00695 0.32222 C 0.01337 0.31319 -0.00851 0.32222 0.04722 0.31852 C 0.05208 0.31829 0.05937 0.31111 0.06389 0.30926 C 0.08142 0.30255 0.07899 0.30532 0.10417 0.3037 C 0.10781 0.30208 0.11163 0.30185 0.11528 0.3 C 0.12465 0.29537 0.11441 0.29699 0.12361 0.29444 C 0.13351 0.2919 0.14305 0.29028 0.15278 0.28704 C 0.16198 0.28403 0.16128 0.2831 0.16944 0.27593 C 0.17569 0.27037 0.1842 0.27199 0.19167 0.27037 C 0.19687 0.26921 0.20174 0.2662 0.20694 0.26481 C 0.21406 0.25532 0.20937 0.26042 0.22222 0.25185 C 0.22847 0.24768 0.23403 0.24931 0.23889 0.24074 C 0.25226 0.21713 0.25295 0.18472 0.25972 0.15741 C 0.25885 0.14375 0.25885 0.13009 0.25694 0.11667 C 0.25538 0.10579 0.2401 0.09861 0.23333 0.0963 C 0.22552 0.09005 0.21719 0.08472 0.20833 0.08148 C 0.20503 0.08032 0.20191 0.07917 0.19861 0.07778 C 0.19583 0.07662 0.19028 0.07407 0.19028 0.07407 C 0.18594 0.06829 0.18246 0.06759 0.17778 0.06296 C 0.16424 0.04954 0.14878 0.04306 0.13333 0.03518 C 0.12257 0.02986 0.13316 0.0331 0.12083 0.02593 C 0.11302 0.02153 0.10712 0.01944 0.1 0.01481 C 0.08924 0.00764 0.07465 0.00764 0.0625 0.00556 C 0.04132 -0.00394 0.0283 0.00093 -8.33333E-007 -1.48148E-006 Z">
                                      <p:cBhvr>
                                        <p:cTn id="300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C -0.00886 0.00301 -0.00677 0.00324 -0.01945 1.11111E-006 C -0.0224 -0.0007 -0.025 -0.00255 -0.02778 -0.0037 C -0.02917 -0.0044 -0.03195 -0.00556 -0.03195 -0.00533 C -0.03993 -0.0162 -0.04792 -0.0257 -0.05695 -0.03519 C -0.05955 -0.03796 -0.0625 -0.0463 -0.0625 -0.04607 C -0.06389 -0.05347 -0.06632 -0.05972 -0.06806 -0.06667 C -0.06893 -0.09028 -0.07691 -0.10718 -0.0625 -0.11667 C -0.06077 -0.12014 -0.06059 -0.12477 -0.05833 -0.12778 C -0.05504 -0.13218 -0.05052 -0.13449 -0.04722 -0.13889 C -0.04427 -0.14283 -0.04236 -0.14838 -0.03889 -0.15185 C -0.03524 -0.15556 -0.03038 -0.15625 -0.02639 -0.15926 C -0.02327 -0.16158 -0.02136 -0.16667 -0.01806 -0.16852 C -0.01719 -0.16898 -0.00018 -0.17222 1.66667E-006 -0.17222 C 0.01007 -0.17662 0.00555 -0.175 0.01389 -0.17778 C 0.02153 -0.18796 0.0243 -0.18357 0.03611 -0.18889 C 0.03889 -0.19005 0.04444 -0.19259 0.04444 -0.19236 C 0.10885 -0.1912 0.17309 -0.18912 0.2375 -0.18704 C 0.25173 -0.18241 0.26684 -0.16829 0.27917 -0.15741 C 0.28524 -0.15208 0.28698 -0.14259 0.29305 -0.13704 C 0.30156 -0.12014 0.30052 -0.10463 0.31805 -0.1 C 0.32274 -0.08102 0.32066 -0.06088 0.30833 -0.05 C 0.29062 -0.01458 0.25798 -0.01968 0.22917 -0.01852 C 0.21875 -0.00926 0.23194 -0.02014 0.21944 -0.01296 C 0.21788 -0.01204 0.21684 -0.01019 0.21528 -0.00926 C 0.21389 -0.00833 0.2125 -0.0081 0.21111 -0.00741 C 0.20417 0.00185 0.19583 1.11111000000025E-006 0.1875 0.00555 C 0.17552 0.01366 0.18559 0.00949 0.175 0.01296 C 0.12413 0.00903 0.07309 0.00717 0.02222 0.00555 C 0.01215 0.00116 0.01667 0.00278 0.00833 1.11111E-006 C 0.00607 -0.00903 0.00816 -0.00648 1.66667E-006 1.11111E-006 Z">
                                      <p:cBhvr>
                                        <p:cTn id="30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C -0.02013 -0.00324 -0.03958 -0.00857 -0.05972 -0.01111 C -0.06718 -0.01435 -0.0743 -0.01505 -0.08194 -0.01667 C -0.09305 -0.01922 -0.10399 -0.02477 -0.11527 -0.02593 C -0.12552 -0.02685 -0.13559 -0.02709 -0.14583 -0.02778 C -0.1559 -0.03218 -0.15138 -0.03056 -0.15972 -0.03334 C -0.1769 -0.03241 -0.19427 -0.0338 -0.21111 -0.02963 C -0.2177 -0.02801 -0.2243 -0.02153 -0.23055 -0.01852 C -0.24565 -0.01134 -0.2559 -0.000229999999999999 -0.26805 0.01296 C -0.27343 0.01875 -0.27986 0.02315 -0.28472 0.02963 C -0.2875 0.03333 -0.29079 0.03634 -0.29305 0.04074 C -0.29843 0.05139 -0.30295 0.06504 -0.31111 0.07222 C -0.31996 0.09004 -0.31788 0.11921 -0.30416 0.13148 C -0.29409 0.15162 -0.27048 0.15671 -0.25416 0.15741 C -0.23472 0.15833 -0.21527 0.15856 -0.19583 0.15926 C -0.15642 0.17685 -0.15538 0.17083 -0.09444 0.17222 C -0.04548 0.17083 -0.03628 0.16991 0.00139 0.16666 C 0.01702 0.16134 0.01719 0.15139 0.02917 0.14074 C 0.03542 0.12824 0.0474 0.11875 0.05695 0.11111 C 0.06337 0.09953 0.0606 0.10671 0.06389 0.08889 L 0.06389 0.08912 C 0.07032 0.07569 0.06702 0.08102 0.07362 0.07222 C 0.07414 0.07037 0.07518 0.06852 0.075 0.06666 C 0.07466 0.05926 0.07362 0.05162 0.07223 0.04444 C 0.07032 0.03541 0.05834 0.03264 0.05278 0.02963 C 0.0375 0.00926 0.02119 0.00532 -4.72222E-006 2.22222E-006 Z">
                                      <p:cBhvr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4:31:47Z</dcterms:created>
  <dc:creator>user</dc:creator>
  <dc:description/>
  <dc:language>en-US</dc:language>
  <cp:lastModifiedBy>Дом</cp:lastModifiedBy>
  <dcterms:modified xsi:type="dcterms:W3CDTF">2015-09-08T21:17:22Z</dcterms:modified>
  <cp:revision>38</cp:revision>
  <dc:subject/>
  <dc:title>Слайд 1</dc:title>
</cp:coreProperties>
</file>