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C493-55B2-4761-9954-EBE379F1E5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58FAE-E7CF-4A6C-8136-078B61AB61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E6625-155F-411B-A794-AB45A2EAFF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96DE3-18CC-4E77-B0DC-21D618CFF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BB92B-E0DD-4710-9FB8-3B6812AE6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A7EC4-223A-459F-A68C-935C0D269B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FA0CB-E54C-4C05-8F6E-AD6C5B4EF1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AD9A8-60F1-412B-947B-3755A45E48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3AA46-AC99-48E3-81D4-7DAABBCD7A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53E36-C6F0-422B-B6EA-A564EF12A4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12469-A5FB-4D17-BA58-10D3C79340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26920" y="446040"/>
            <a:ext cx="5200920" cy="3902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B954D-E6F0-4715-82A6-B570D81D5A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26920" y="446040"/>
            <a:ext cx="5200920" cy="3902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249A4-221F-479C-B4FF-563E3B78DA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AA77C-52DB-47EC-9595-7E7F497894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AC1D8-613B-49DC-958E-9765239AFB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DDFCB-0278-40D4-A6CC-97D3A5565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92CAE-DBE6-4064-9484-5611DCFCD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B2D44-2A36-4730-84C3-5DCC975F88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4ED-186F-4F4E-928A-56E340AD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42E-48A5-4FF8-9598-FB6168BB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A7E-9AC1-4512-86F1-8307C3B1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512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512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356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206-D684-4489-B9FC-281B5A55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E7BC-556D-4086-B158-9E6F9C31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312F-8494-4CB9-8309-001B48CC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FC2E-062E-413B-B4DD-7BAD5C8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9D5C-308F-454B-8129-8AAFBA3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EF8C-D2EF-4911-8651-FAAC742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680" y="-32040"/>
            <a:ext cx="7537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B94-2686-494C-B22E-9F4F2084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33E-BA90-4765-AD57-06A9A1C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0FB-BA70-4342-9CEA-E839956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AFAD-25D0-4038-823F-3793D412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3151-DEF6-411E-AB24-0A39FE8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36FE-423E-4F64-B6CF-424C038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0A9C-5258-44AD-AF78-93847F89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512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512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3560" y="4126680"/>
            <a:ext cx="24267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3164-51B1-4C69-8FC5-E88C973B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90A-56D1-4683-8536-2FC0B7D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B5B-F07B-4815-8D2D-6F584A80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C06-7F1D-4F8D-851D-25A74ECE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680" y="-32040"/>
            <a:ext cx="7537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277-DCD7-4E6E-B035-FEBA3E9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BF3-EE04-4A6A-A8CB-224330B3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9120" y="412668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8F1-5E20-4DB7-A05D-06ECF30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9120" y="1980720"/>
            <a:ext cx="3678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26680"/>
            <a:ext cx="75376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2E7-4D3A-4D65-BFEA-7B75D7E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7160" cy="6847920"/>
            <a:chOff x="0" y="6480"/>
            <a:chExt cx="9137160" cy="6847920"/>
          </a:xfrm>
        </p:grpSpPr>
        <p:sp>
          <p:nvSpPr>
            <p:cNvPr id="1" name="Freeform 2"/>
            <p:cNvSpPr/>
            <p:nvPr/>
          </p:nvSpPr>
          <p:spPr>
            <a:xfrm>
              <a:off x="885600" y="1842480"/>
              <a:ext cx="8251560" cy="501192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1842480"/>
              <a:ext cx="885600" cy="501192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3920" cy="6844680"/>
              <a:chOff x="0" y="6480"/>
              <a:chExt cx="9133920" cy="684468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875880" y="6480"/>
                <a:ext cx="18720" cy="110088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875880" y="2573640"/>
                <a:ext cx="18720" cy="427752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1617120" y="1830960"/>
                <a:ext cx="7516800" cy="1872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75880" y="217368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875880" y="1107360"/>
                <a:ext cx="18720" cy="39960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875880" y="1509120"/>
                <a:ext cx="18720" cy="66636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0" y="1830960"/>
                <a:ext cx="556920" cy="1872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215360" y="1830960"/>
                <a:ext cx="399600" cy="1872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52240" y="1830960"/>
                <a:ext cx="664560" cy="1872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32040"/>
            <a:ext cx="7537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76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F69BA-4B91-48F8-82A7-78872603864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0" y="6480"/>
            <a:ext cx="9137160" cy="6848280"/>
            <a:chOff x="0" y="6480"/>
            <a:chExt cx="9137160" cy="6848280"/>
          </a:xfrm>
        </p:grpSpPr>
        <p:grpSp>
          <p:nvGrpSpPr>
            <p:cNvPr id="55" name="Group 2"/>
            <p:cNvGrpSpPr/>
            <p:nvPr/>
          </p:nvGrpSpPr>
          <p:grpSpPr>
            <a:xfrm>
              <a:off x="0" y="1843200"/>
              <a:ext cx="9137160" cy="5011560"/>
              <a:chOff x="0" y="1843200"/>
              <a:chExt cx="9137160" cy="5011560"/>
            </a:xfrm>
          </p:grpSpPr>
          <p:sp>
            <p:nvSpPr>
              <p:cNvPr id="56" name="Freeform 3"/>
              <p:cNvSpPr/>
              <p:nvPr/>
            </p:nvSpPr>
            <p:spPr>
              <a:xfrm>
                <a:off x="885600" y="1843200"/>
                <a:ext cx="8251560" cy="501156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4"/>
              <p:cNvSpPr/>
              <p:nvPr/>
            </p:nvSpPr>
            <p:spPr>
              <a:xfrm>
                <a:off x="0" y="1843200"/>
                <a:ext cx="885600" cy="501156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5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552600" y="6480"/>
              <a:ext cx="8584560" cy="6847920"/>
              <a:chOff x="552600" y="6480"/>
              <a:chExt cx="8584560" cy="6847920"/>
            </a:xfrm>
          </p:grpSpPr>
          <p:sp>
            <p:nvSpPr>
              <p:cNvPr id="62" name="Freeform 9"/>
              <p:cNvSpPr/>
              <p:nvPr/>
            </p:nvSpPr>
            <p:spPr>
              <a:xfrm>
                <a:off x="875880" y="6480"/>
                <a:ext cx="18720" cy="110268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>
                <a:off x="875880" y="2575800"/>
                <a:ext cx="18720" cy="427860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1617480" y="1831320"/>
                <a:ext cx="7519680" cy="1872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875880" y="2175840"/>
                <a:ext cx="18720" cy="39960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5880" y="110916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552600" y="1831320"/>
                <a:ext cx="664560" cy="1872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318680"/>
            <a:ext cx="708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fld id="{899B9933-0CBE-45D6-B184-949C5A15A1B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162160"/>
            <a:ext cx="82821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У «Ыныргинская СОШ»</a:t>
            </a: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тский сад «Солнышко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 дорогам радуги в школу»</a:t>
            </a:r>
            <a:br>
              <a:rPr sz="40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тоговое занятие в старшейгрупп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00000" y="5730840"/>
            <a:ext cx="7489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одготовила и провела воспита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Мерзляк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201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93080" y="1341360"/>
            <a:ext cx="20415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8920" y="360000"/>
            <a:ext cx="64803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5596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:\Users\1\Pictures\ки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68200"/>
                <a:tab algn="l" pos="3729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8200"/>
                <a:tab algn="l" pos="3729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C:\Users\1\Pictures\береза.png"/>
          <p:cNvPicPr/>
          <p:nvPr/>
        </p:nvPicPr>
        <p:blipFill>
          <a:blip r:embed="rId2"/>
          <a:stretch/>
        </p:blipFill>
        <p:spPr>
          <a:xfrm>
            <a:off x="1042920" y="176040"/>
            <a:ext cx="511344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1\Pictures\тюльпан.jpg"/>
          <p:cNvPicPr/>
          <p:nvPr/>
        </p:nvPicPr>
        <p:blipFill>
          <a:blip r:embed="rId2"/>
          <a:stretch/>
        </p:blipFill>
        <p:spPr>
          <a:xfrm>
            <a:off x="1835280" y="66600"/>
            <a:ext cx="47718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3357360"/>
            <a:ext cx="4068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78200" y="3421080"/>
            <a:ext cx="396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C:\Users\1\Pictures\phoca_thumb_l_Hardhat.jpg"/>
          <p:cNvPicPr/>
          <p:nvPr/>
        </p:nvPicPr>
        <p:blipFill>
          <a:blip r:embed="rId2"/>
          <a:stretch/>
        </p:blipFill>
        <p:spPr>
          <a:xfrm>
            <a:off x="0" y="15840"/>
            <a:ext cx="3203640" cy="259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C:\Users\1\Pictures\rwrsUZI9e1.png"/>
          <p:cNvPicPr/>
          <p:nvPr/>
        </p:nvPicPr>
        <p:blipFill>
          <a:blip r:embed="rId3"/>
          <a:stretch/>
        </p:blipFill>
        <p:spPr>
          <a:xfrm>
            <a:off x="3352680" y="1104840"/>
            <a:ext cx="2438640" cy="241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1\Pictures\i.jpg"/>
          <p:cNvPicPr/>
          <p:nvPr/>
        </p:nvPicPr>
        <p:blipFill>
          <a:blip r:embed="rId4"/>
          <a:stretch/>
        </p:blipFill>
        <p:spPr>
          <a:xfrm>
            <a:off x="5940360" y="2592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:\Users\1\Pictures\1295419871_2011-01-18_122624.jpg"/>
          <p:cNvPicPr/>
          <p:nvPr/>
        </p:nvPicPr>
        <p:blipFill>
          <a:blip r:embed="rId5"/>
          <a:srcRect l="0" t="0" r="0" b="10579"/>
          <a:stretch/>
        </p:blipFill>
        <p:spPr>
          <a:xfrm>
            <a:off x="0" y="3740040"/>
            <a:ext cx="48895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1920"/>
            <a:ext cx="81374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2276280"/>
            <a:ext cx="8064360" cy="31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1" name="Picture 6" descr="C:\Users\1\Pictures\_0083283_image.jpg"/>
          <p:cNvPicPr/>
          <p:nvPr/>
        </p:nvPicPr>
        <p:blipFill>
          <a:blip r:embed="rId2"/>
          <a:stretch/>
        </p:blipFill>
        <p:spPr>
          <a:xfrm>
            <a:off x="5219640" y="201600"/>
            <a:ext cx="3765600" cy="376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1\Pictures\stolovie_pribori.jpg"/>
          <p:cNvPicPr/>
          <p:nvPr/>
        </p:nvPicPr>
        <p:blipFill>
          <a:blip r:embed="rId3"/>
          <a:stretch/>
        </p:blipFill>
        <p:spPr>
          <a:xfrm>
            <a:off x="966960" y="201600"/>
            <a:ext cx="3605040" cy="3605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1\Pictures\T1Yy84Xz0XXXXXXXXX_!!0-item_pic.jpg_310x310.jpg"/>
          <p:cNvPicPr/>
          <p:nvPr/>
        </p:nvPicPr>
        <p:blipFill>
          <a:blip r:embed="rId4"/>
          <a:stretch/>
        </p:blipFill>
        <p:spPr>
          <a:xfrm>
            <a:off x="4572000" y="4040280"/>
            <a:ext cx="2933640" cy="27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Users\1\Pictures\s_819512.jpeg"/>
          <p:cNvPicPr/>
          <p:nvPr/>
        </p:nvPicPr>
        <p:blipFill>
          <a:blip r:embed="rId5"/>
          <a:stretch/>
        </p:blipFill>
        <p:spPr>
          <a:xfrm>
            <a:off x="395280" y="3906720"/>
            <a:ext cx="28670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17928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79640" y="1979640"/>
            <a:ext cx="619272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8" name="Picture 9" descr="C:\Users\1\Pictures\DollBed_K.jpg"/>
          <p:cNvPicPr/>
          <p:nvPr/>
        </p:nvPicPr>
        <p:blipFill>
          <a:blip r:embed="rId2"/>
          <a:stretch/>
        </p:blipFill>
        <p:spPr>
          <a:xfrm>
            <a:off x="395280" y="731880"/>
            <a:ext cx="8280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9768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2" name="Picture 9" descr="C:\Users\1\Pictures\радуга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3203640" y="5467320"/>
            <a:ext cx="21463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116000" y="3328920"/>
            <a:ext cx="7056360" cy="35290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06472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Благодарю за внимание!</a:t>
            </a:r>
            <a:br>
              <a:rPr sz="4400"/>
            </a:br>
            <a:br>
              <a:rPr sz="20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Желаю чтобы ваши воспитанники ежедневно говорили Ва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27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3880"/>
                <a:tab algn="l" pos="2244600"/>
                <a:tab algn="l" pos="2693880"/>
                <a:tab algn="l" pos="3143160"/>
                <a:tab algn="l" pos="3591000"/>
                <a:tab algn="l" pos="4041720"/>
                <a:tab algn="l" pos="4491000"/>
                <a:tab algn="l" pos="4940280"/>
                <a:tab algn="l" pos="5388120"/>
                <a:tab algn="l" pos="5838840"/>
                <a:tab algn="l" pos="6288120"/>
                <a:tab algn="l" pos="6737400"/>
                <a:tab algn="l" pos="7184880"/>
                <a:tab algn="l" pos="7635960"/>
                <a:tab algn="l" pos="8085240"/>
                <a:tab algn="l" pos="85345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Times New Roman"/>
              </a:rPr>
              <a:t>ЦЕЛЬ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4297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57040"/>
                <a:tab algn="l" pos="363600"/>
                <a:tab algn="l" pos="812880"/>
                <a:tab algn="l" pos="1260360"/>
                <a:tab algn="l" pos="1711440"/>
                <a:tab algn="l" pos="2160720"/>
                <a:tab algn="l" pos="2610000"/>
                <a:tab algn="l" pos="3057480"/>
                <a:tab algn="l" pos="3508200"/>
                <a:tab algn="l" pos="3957480"/>
                <a:tab algn="l" pos="4406760"/>
                <a:tab algn="l" pos="4854600"/>
                <a:tab algn="l" pos="5305320"/>
                <a:tab algn="l" pos="5754600"/>
                <a:tab algn="l" pos="6203880"/>
                <a:tab algn="l" pos="6651720"/>
                <a:tab algn="l" pos="7102440"/>
                <a:tab algn="l" pos="7551720"/>
                <a:tab algn="l" pos="8001000"/>
                <a:tab algn="l" pos="8448840"/>
                <a:tab algn="l" pos="8899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cc0099"/>
                </a:solidFill>
                <a:latin typeface="Times New Roman"/>
              </a:rPr>
              <a:t>обобщение и закрепление знаний у детей старшей группы, по пройденному материалу за учебный год через организацию различных видов деятельност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588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57040"/>
                <a:tab algn="l" pos="363600"/>
                <a:tab algn="l" pos="812880"/>
                <a:tab algn="l" pos="1260360"/>
                <a:tab algn="l" pos="1711440"/>
                <a:tab algn="l" pos="2160720"/>
                <a:tab algn="l" pos="2610000"/>
                <a:tab algn="l" pos="3057480"/>
                <a:tab algn="l" pos="3508200"/>
                <a:tab algn="l" pos="3957480"/>
                <a:tab algn="l" pos="4406760"/>
                <a:tab algn="l" pos="4854600"/>
                <a:tab algn="l" pos="5305320"/>
                <a:tab algn="l" pos="5754600"/>
                <a:tab algn="l" pos="6203880"/>
                <a:tab algn="l" pos="6651720"/>
                <a:tab algn="l" pos="7102440"/>
                <a:tab algn="l" pos="7551720"/>
                <a:tab algn="l" pos="8001000"/>
                <a:tab algn="l" pos="8448840"/>
                <a:tab algn="l" pos="8899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95280" y="217440"/>
            <a:ext cx="1725480" cy="11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780320" y="4869000"/>
            <a:ext cx="987480" cy="1731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371520" y="4741920"/>
            <a:ext cx="11952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2278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33" name="Picture 5" descr="C:\Users\1\Pictures\радуга.pn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8" name="Picture 2" descr="C:\Users\1\Pictures\итоговое картинки\3.jpg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1" name="Picture 2" descr="C:\Users\1\Pictures\181717707.jpg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022040"/>
            <a:ext cx="860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4" name="Picture 2" descr="C:\Users\1\Pictures\fonstola.ru-214260.jpg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0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7" name="Picture 7" descr="C:\Users\1\Pictures\поляна с цветами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1\Pictures\яблоко.jpg"/>
          <p:cNvPicPr/>
          <p:nvPr/>
        </p:nvPicPr>
        <p:blipFill>
          <a:blip r:embed="rId2"/>
          <a:stretch/>
        </p:blipFill>
        <p:spPr>
          <a:xfrm>
            <a:off x="2075040" y="765000"/>
            <a:ext cx="4993920" cy="58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20:28Z</dcterms:created>
  <dc:creator>User</dc:creator>
  <dc:description/>
  <dc:language>en-US</dc:language>
  <cp:lastModifiedBy>1</cp:lastModifiedBy>
  <dcterms:modified xsi:type="dcterms:W3CDTF">2023-08-05T07:57:08Z</dcterms:modified>
  <cp:revision>179</cp:revision>
  <dc:subject/>
  <dc:title>Дополнительная образовательная программа</dc:title>
</cp:coreProperties>
</file>