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4.png" ContentType="image/png"/>
  <Override PartName="/ppt/media/image25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1143000" y="673200"/>
            <a:ext cx="4565520" cy="34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47C69-771F-4A54-B828-F3F7646E80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D1B7C-261A-4EA8-BF42-CD926A7E13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4B5CC-95F8-4F3C-9AA7-147FE60849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99DBD-1948-45B4-8507-E36CB53022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BFB1B-26CE-4219-9056-DB7C9AE1EE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E741A-53DF-4FFD-823A-21B2634D11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D0F04-5BDF-4CF6-B006-FC5BE024F2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BC31B-23B9-4185-958F-BEBA6BBC91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9B5B3-CCC6-4518-8810-BE254CF6B1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48C5E-0054-44CE-BF51-15FB055CD0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5CC8D-68F2-435A-9AC6-A54DC525FA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26920" y="446040"/>
            <a:ext cx="5200920" cy="3902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2368E-2891-4035-89C3-E3F16580CA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26920" y="446040"/>
            <a:ext cx="5200920" cy="3902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F6864-FAAB-4959-A77F-543EED1E1B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FDD78-4897-49E0-9AE9-4F29D2E267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EB082-9083-44E2-9FA6-79DA0DFB91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652FD-C2C4-414A-A958-866302E60F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49A1D-BAA7-438B-ABEC-C9823D181B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33604-D2F6-4E64-9D5F-C20F92C792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99DB-C8D6-4E2B-B60E-4E49383B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53768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126680"/>
            <a:ext cx="753768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3D7-888B-4CF0-8B19-03DBC434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2912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12668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29120" y="412668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A8D4-A0A3-4367-91F5-E5AFA25B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5120" y="198072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3560" y="198072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12668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5120" y="412668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3560" y="412668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32B1-87BF-476D-9517-DE77616E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4910-EBA8-4539-B409-246FE6EC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53768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F85F-16FD-46E7-B7C1-AAEE259C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53768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6A1A-A61C-4876-A869-99C6A8EF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9120" y="1980720"/>
            <a:ext cx="3678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E732-658C-49E8-AAB2-D4796C32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8BC1-CA67-4CF9-910B-81AEF8AA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680" y="-32040"/>
            <a:ext cx="753768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2A8E-658B-4BEE-8130-7C047196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9120" y="1980720"/>
            <a:ext cx="3678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12668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E14A-D4D1-419C-92DF-163FAA82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53768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6530-B309-48FD-9899-6BA4BD48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912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29120" y="412668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E5B6-40A5-436D-B881-71D17416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2912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126680"/>
            <a:ext cx="753768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A6DB-9316-41CB-90E1-2826A954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53768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126680"/>
            <a:ext cx="753768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9ADC-538D-4828-A77E-003085BC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912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12668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29120" y="412668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CEAF-7F93-4AB2-9F79-4957CEFF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5120" y="198072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3560" y="198072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12668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5120" y="412668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3560" y="412668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7443-6EEB-40EB-9306-825DCA1F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53768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51FE-AD57-4519-B752-D766B0C6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9120" y="1980720"/>
            <a:ext cx="3678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F32-B9D8-4E1D-AFD9-7D658BEF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B359-BF9D-424F-98A8-DFDEB5FC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680" y="-32040"/>
            <a:ext cx="753768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6838-F23C-4592-843D-6CBFAFBC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9120" y="1980720"/>
            <a:ext cx="3678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12668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6EB-FFF2-4E13-85CF-650E48C1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912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29120" y="412668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F38C-C016-4946-B0D0-A13D2656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912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126680"/>
            <a:ext cx="753768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E127-4BB4-4E50-9F0A-E77A1AC5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6480"/>
            <a:ext cx="9137160" cy="6847920"/>
            <a:chOff x="0" y="6480"/>
            <a:chExt cx="9137160" cy="6847920"/>
          </a:xfrm>
        </p:grpSpPr>
        <p:sp>
          <p:nvSpPr>
            <p:cNvPr id="1" name="Freeform 2"/>
            <p:cNvSpPr/>
            <p:nvPr/>
          </p:nvSpPr>
          <p:spPr>
            <a:xfrm>
              <a:off x="885600" y="1842480"/>
              <a:ext cx="8251560" cy="501192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1842480"/>
              <a:ext cx="885600" cy="501192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4"/>
            <p:cNvGrpSpPr/>
            <p:nvPr/>
          </p:nvGrpSpPr>
          <p:grpSpPr>
            <a:xfrm>
              <a:off x="0" y="6480"/>
              <a:ext cx="9133920" cy="6844680"/>
              <a:chOff x="0" y="6480"/>
              <a:chExt cx="9133920" cy="684468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875880" y="6480"/>
                <a:ext cx="18720" cy="110088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875880" y="2573640"/>
                <a:ext cx="18720" cy="427752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1617120" y="1830960"/>
                <a:ext cx="7516800" cy="1872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875880" y="2173680"/>
                <a:ext cx="1872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875880" y="1107360"/>
                <a:ext cx="18720" cy="39960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875880" y="1509120"/>
                <a:ext cx="18720" cy="66636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0" y="1830960"/>
                <a:ext cx="556920" cy="1872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1215360" y="1830960"/>
                <a:ext cx="399600" cy="1872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552240" y="1830960"/>
                <a:ext cx="664560" cy="1872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53768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900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72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2CC85-E878-4CF1-8F17-73FDA8D8131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"/>
          <p:cNvGrpSpPr/>
          <p:nvPr/>
        </p:nvGrpSpPr>
        <p:grpSpPr>
          <a:xfrm>
            <a:off x="0" y="6480"/>
            <a:ext cx="9137160" cy="6848280"/>
            <a:chOff x="0" y="6480"/>
            <a:chExt cx="9137160" cy="6848280"/>
          </a:xfrm>
        </p:grpSpPr>
        <p:grpSp>
          <p:nvGrpSpPr>
            <p:cNvPr id="55" name="Group 2"/>
            <p:cNvGrpSpPr/>
            <p:nvPr/>
          </p:nvGrpSpPr>
          <p:grpSpPr>
            <a:xfrm>
              <a:off x="0" y="1843200"/>
              <a:ext cx="9137160" cy="5011560"/>
              <a:chOff x="0" y="1843200"/>
              <a:chExt cx="9137160" cy="5011560"/>
            </a:xfrm>
          </p:grpSpPr>
          <p:sp>
            <p:nvSpPr>
              <p:cNvPr id="56" name="Freeform 3"/>
              <p:cNvSpPr/>
              <p:nvPr/>
            </p:nvSpPr>
            <p:spPr>
              <a:xfrm>
                <a:off x="885600" y="1843200"/>
                <a:ext cx="8251560" cy="501156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4"/>
              <p:cNvSpPr/>
              <p:nvPr/>
            </p:nvSpPr>
            <p:spPr>
              <a:xfrm>
                <a:off x="0" y="1843200"/>
                <a:ext cx="885600" cy="501156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Freeform 5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8"/>
            <p:cNvGrpSpPr/>
            <p:nvPr/>
          </p:nvGrpSpPr>
          <p:grpSpPr>
            <a:xfrm>
              <a:off x="552600" y="6480"/>
              <a:ext cx="8584560" cy="6847920"/>
              <a:chOff x="552600" y="6480"/>
              <a:chExt cx="8584560" cy="6847920"/>
            </a:xfrm>
          </p:grpSpPr>
          <p:sp>
            <p:nvSpPr>
              <p:cNvPr id="62" name="Freeform 9"/>
              <p:cNvSpPr/>
              <p:nvPr/>
            </p:nvSpPr>
            <p:spPr>
              <a:xfrm>
                <a:off x="875880" y="6480"/>
                <a:ext cx="18720" cy="110268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0"/>
              <p:cNvSpPr/>
              <p:nvPr/>
            </p:nvSpPr>
            <p:spPr>
              <a:xfrm>
                <a:off x="875880" y="2575800"/>
                <a:ext cx="18720" cy="427860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1"/>
              <p:cNvSpPr/>
              <p:nvPr/>
            </p:nvSpPr>
            <p:spPr>
              <a:xfrm>
                <a:off x="1617480" y="1831320"/>
                <a:ext cx="7519680" cy="1872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2"/>
              <p:cNvSpPr/>
              <p:nvPr/>
            </p:nvSpPr>
            <p:spPr>
              <a:xfrm>
                <a:off x="875880" y="2175840"/>
                <a:ext cx="18720" cy="39960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3"/>
              <p:cNvSpPr/>
              <p:nvPr/>
            </p:nvSpPr>
            <p:spPr>
              <a:xfrm>
                <a:off x="875880" y="1109160"/>
                <a:ext cx="1872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4"/>
              <p:cNvSpPr/>
              <p:nvPr/>
            </p:nvSpPr>
            <p:spPr>
              <a:xfrm>
                <a:off x="552600" y="1831320"/>
                <a:ext cx="664560" cy="1872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1318680"/>
            <a:ext cx="7080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72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</a:tabLst>
            </a:pPr>
            <a:fld id="{C673D22B-6722-4519-852D-F916B6AC021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2162160"/>
            <a:ext cx="82821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3880"/>
                <a:tab algn="l" pos="2244600"/>
                <a:tab algn="l" pos="2693880"/>
                <a:tab algn="l" pos="3143160"/>
                <a:tab algn="l" pos="3591000"/>
                <a:tab algn="l" pos="4041720"/>
                <a:tab algn="l" pos="4491000"/>
                <a:tab algn="l" pos="4940280"/>
                <a:tab algn="l" pos="5388120"/>
                <a:tab algn="l" pos="5838840"/>
                <a:tab algn="l" pos="6288120"/>
                <a:tab algn="l" pos="6737400"/>
                <a:tab algn="l" pos="7184880"/>
                <a:tab algn="l" pos="7635960"/>
                <a:tab algn="l" pos="8085240"/>
                <a:tab algn="l" pos="85345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ОУ «Ыныргинская СОШ»</a:t>
            </a:r>
            <a:br>
              <a:rPr sz="3600"/>
            </a:br>
            <a:r>
              <a:rPr b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етский сад «Солнышко»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</a:t>
            </a:r>
            <a:r>
              <a:rPr b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 дорогам радуги в школу»</a:t>
            </a:r>
            <a:br>
              <a:rPr sz="40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тоговое занятие в старшейгрупп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900000" y="5730840"/>
            <a:ext cx="74898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3880"/>
                <a:tab algn="l" pos="2244600"/>
                <a:tab algn="l" pos="2693880"/>
                <a:tab algn="l" pos="3143160"/>
                <a:tab algn="l" pos="3591000"/>
                <a:tab algn="l" pos="4041720"/>
                <a:tab algn="l" pos="4491000"/>
                <a:tab algn="l" pos="4940280"/>
                <a:tab algn="l" pos="5388120"/>
                <a:tab algn="l" pos="5838840"/>
                <a:tab algn="l" pos="6288120"/>
                <a:tab algn="l" pos="6737400"/>
                <a:tab algn="l" pos="7184880"/>
                <a:tab algn="l" pos="7635960"/>
                <a:tab algn="l" pos="8085240"/>
                <a:tab algn="l" pos="85345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Подготовила и провела воспитател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3880"/>
                <a:tab algn="l" pos="2244600"/>
                <a:tab algn="l" pos="2693880"/>
                <a:tab algn="l" pos="3143160"/>
                <a:tab algn="l" pos="3591000"/>
                <a:tab algn="l" pos="4041720"/>
                <a:tab algn="l" pos="4491000"/>
                <a:tab algn="l" pos="4940280"/>
                <a:tab algn="l" pos="5388120"/>
                <a:tab algn="l" pos="5838840"/>
                <a:tab algn="l" pos="6288120"/>
                <a:tab algn="l" pos="6737400"/>
                <a:tab algn="l" pos="7184880"/>
                <a:tab algn="l" pos="7635960"/>
                <a:tab algn="l" pos="8085240"/>
                <a:tab algn="l" pos="85345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Мерзлякова Наталья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3880"/>
                <a:tab algn="l" pos="2244600"/>
                <a:tab algn="l" pos="2693880"/>
                <a:tab algn="l" pos="3143160"/>
                <a:tab algn="l" pos="3591000"/>
                <a:tab algn="l" pos="4041720"/>
                <a:tab algn="l" pos="4491000"/>
                <a:tab algn="l" pos="4940280"/>
                <a:tab algn="l" pos="5388120"/>
                <a:tab algn="l" pos="5838840"/>
                <a:tab algn="l" pos="6288120"/>
                <a:tab algn="l" pos="6737400"/>
                <a:tab algn="l" pos="7184880"/>
                <a:tab algn="l" pos="7635960"/>
                <a:tab algn="l" pos="8085240"/>
                <a:tab algn="l" pos="85345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2016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7093080" y="1341360"/>
            <a:ext cx="204156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18920" y="360000"/>
            <a:ext cx="648036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99640" y="2060640"/>
            <a:ext cx="75596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6" descr="C:\Users\1\Pictures\кит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352440"/>
            <a:ext cx="91440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68200"/>
                <a:tab algn="l" pos="3729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68200"/>
                <a:tab algn="l" pos="3729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6" descr="C:\Users\1\Pictures\береза.png"/>
          <p:cNvPicPr/>
          <p:nvPr/>
        </p:nvPicPr>
        <p:blipFill>
          <a:blip r:embed="rId2"/>
          <a:stretch/>
        </p:blipFill>
        <p:spPr>
          <a:xfrm>
            <a:off x="1042920" y="176040"/>
            <a:ext cx="5113440" cy="65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Users\1\Pictures\тюльпан.jpg"/>
          <p:cNvPicPr/>
          <p:nvPr/>
        </p:nvPicPr>
        <p:blipFill>
          <a:blip r:embed="rId2"/>
          <a:stretch/>
        </p:blipFill>
        <p:spPr>
          <a:xfrm>
            <a:off x="1835280" y="66600"/>
            <a:ext cx="47718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3357360"/>
            <a:ext cx="406872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678200" y="3421080"/>
            <a:ext cx="396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C:\Users\1\Pictures\phoca_thumb_l_Hardhat.jpg"/>
          <p:cNvPicPr/>
          <p:nvPr/>
        </p:nvPicPr>
        <p:blipFill>
          <a:blip r:embed="rId2"/>
          <a:stretch/>
        </p:blipFill>
        <p:spPr>
          <a:xfrm>
            <a:off x="0" y="15840"/>
            <a:ext cx="3203640" cy="2598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C:\Users\1\Pictures\rwrsUZI9e1.png"/>
          <p:cNvPicPr/>
          <p:nvPr/>
        </p:nvPicPr>
        <p:blipFill>
          <a:blip r:embed="rId3"/>
          <a:stretch/>
        </p:blipFill>
        <p:spPr>
          <a:xfrm>
            <a:off x="3352680" y="1104840"/>
            <a:ext cx="2438640" cy="2419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C:\Users\1\Pictures\i.jpg"/>
          <p:cNvPicPr/>
          <p:nvPr/>
        </p:nvPicPr>
        <p:blipFill>
          <a:blip r:embed="rId4"/>
          <a:stretch/>
        </p:blipFill>
        <p:spPr>
          <a:xfrm>
            <a:off x="5940360" y="259236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C:\Users\1\Pictures\1295419871_2011-01-18_122624.jpg"/>
          <p:cNvPicPr/>
          <p:nvPr/>
        </p:nvPicPr>
        <p:blipFill>
          <a:blip r:embed="rId5"/>
          <a:srcRect l="0" t="0" r="0" b="10579"/>
          <a:stretch/>
        </p:blipFill>
        <p:spPr>
          <a:xfrm>
            <a:off x="0" y="3740040"/>
            <a:ext cx="488952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331920"/>
            <a:ext cx="81374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280" y="2276280"/>
            <a:ext cx="8064360" cy="31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71" name="Picture 6" descr="C:\Users\1\Pictures\_0083283_image.jpg"/>
          <p:cNvPicPr/>
          <p:nvPr/>
        </p:nvPicPr>
        <p:blipFill>
          <a:blip r:embed="rId2"/>
          <a:stretch/>
        </p:blipFill>
        <p:spPr>
          <a:xfrm>
            <a:off x="5219640" y="201600"/>
            <a:ext cx="3765600" cy="3765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Users\1\Pictures\stolovie_pribori.jpg"/>
          <p:cNvPicPr/>
          <p:nvPr/>
        </p:nvPicPr>
        <p:blipFill>
          <a:blip r:embed="rId3"/>
          <a:stretch/>
        </p:blipFill>
        <p:spPr>
          <a:xfrm>
            <a:off x="966960" y="201600"/>
            <a:ext cx="3605040" cy="3605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C:\Users\1\Pictures\T1Yy84Xz0XXXXXXXXX_!!0-item_pic.jpg_310x310.jpg"/>
          <p:cNvPicPr/>
          <p:nvPr/>
        </p:nvPicPr>
        <p:blipFill>
          <a:blip r:embed="rId4"/>
          <a:stretch/>
        </p:blipFill>
        <p:spPr>
          <a:xfrm>
            <a:off x="4572000" y="4040280"/>
            <a:ext cx="2933640" cy="2714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C:\Users\1\Pictures\s_819512.jpeg"/>
          <p:cNvPicPr/>
          <p:nvPr/>
        </p:nvPicPr>
        <p:blipFill>
          <a:blip r:embed="rId5"/>
          <a:stretch/>
        </p:blipFill>
        <p:spPr>
          <a:xfrm>
            <a:off x="395280" y="3906720"/>
            <a:ext cx="28670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4920" y="17928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79640" y="1979640"/>
            <a:ext cx="6192720" cy="46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78" name="Picture 9" descr="C:\Users\1\Pictures\DollBed_K.jpg"/>
          <p:cNvPicPr/>
          <p:nvPr/>
        </p:nvPicPr>
        <p:blipFill>
          <a:blip r:embed="rId2"/>
          <a:stretch/>
        </p:blipFill>
        <p:spPr>
          <a:xfrm>
            <a:off x="395280" y="731880"/>
            <a:ext cx="828036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99768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1280" y="220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82" name="Picture 9" descr="C:\Users\1\Pictures\радуга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3203640" y="5467320"/>
            <a:ext cx="214632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1116000" y="3328920"/>
            <a:ext cx="7056360" cy="35290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06472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3880"/>
                <a:tab algn="l" pos="2244600"/>
                <a:tab algn="l" pos="2693880"/>
                <a:tab algn="l" pos="3143160"/>
                <a:tab algn="l" pos="3591000"/>
                <a:tab algn="l" pos="4041720"/>
                <a:tab algn="l" pos="4491000"/>
                <a:tab algn="l" pos="4940280"/>
                <a:tab algn="l" pos="5388120"/>
                <a:tab algn="l" pos="5838840"/>
                <a:tab algn="l" pos="6288120"/>
                <a:tab algn="l" pos="6737400"/>
                <a:tab algn="l" pos="7184880"/>
                <a:tab algn="l" pos="7635960"/>
                <a:tab algn="l" pos="8085240"/>
                <a:tab algn="l" pos="85345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ru-RU" sz="4400" spc="-1" strike="noStrike">
                <a:solidFill>
                  <a:srgbClr val="ff5050"/>
                </a:solidFill>
                <a:latin typeface="Times New Roman"/>
              </a:rPr>
              <a:t>Благодарю за внимание!</a:t>
            </a:r>
            <a:br>
              <a:rPr sz="4400"/>
            </a:br>
            <a:br>
              <a:rPr sz="2000"/>
            </a:b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Желаю чтобы ваши воспитанники ежедневно говорили Вам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-27360"/>
            <a:ext cx="8227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3880"/>
                <a:tab algn="l" pos="2244600"/>
                <a:tab algn="l" pos="2693880"/>
                <a:tab algn="l" pos="3143160"/>
                <a:tab algn="l" pos="3591000"/>
                <a:tab algn="l" pos="4041720"/>
                <a:tab algn="l" pos="4491000"/>
                <a:tab algn="l" pos="4940280"/>
                <a:tab algn="l" pos="5388120"/>
                <a:tab algn="l" pos="5838840"/>
                <a:tab algn="l" pos="6288120"/>
                <a:tab algn="l" pos="6737400"/>
                <a:tab algn="l" pos="7184880"/>
                <a:tab algn="l" pos="7635960"/>
                <a:tab algn="l" pos="8085240"/>
                <a:tab algn="l" pos="85345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ru-RU" sz="4800" spc="-1" strike="noStrike">
                <a:solidFill>
                  <a:srgbClr val="cc0099"/>
                </a:solidFill>
                <a:latin typeface="Times New Roman"/>
              </a:rPr>
              <a:t>ЦЕЛЬ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57120" y="1700280"/>
            <a:ext cx="842976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57040"/>
                <a:tab algn="l" pos="363600"/>
                <a:tab algn="l" pos="812880"/>
                <a:tab algn="l" pos="1260360"/>
                <a:tab algn="l" pos="1711440"/>
                <a:tab algn="l" pos="2160720"/>
                <a:tab algn="l" pos="2610000"/>
                <a:tab algn="l" pos="3057480"/>
                <a:tab algn="l" pos="3508200"/>
                <a:tab algn="l" pos="3957480"/>
                <a:tab algn="l" pos="4406760"/>
                <a:tab algn="l" pos="4854600"/>
                <a:tab algn="l" pos="5305320"/>
                <a:tab algn="l" pos="5754600"/>
                <a:tab algn="l" pos="6203880"/>
                <a:tab algn="l" pos="6651720"/>
                <a:tab algn="l" pos="7102440"/>
                <a:tab algn="l" pos="7551720"/>
                <a:tab algn="l" pos="8001000"/>
                <a:tab algn="l" pos="8448840"/>
                <a:tab algn="l" pos="8899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800" spc="-1" strike="noStrike">
                <a:solidFill>
                  <a:srgbClr val="cc0099"/>
                </a:solidFill>
                <a:latin typeface="Times New Roman"/>
              </a:rPr>
              <a:t>обобщение и закрепление знаний у детей старшей группы, по пройденному материалу за учебный год через организацию различных видов деятельности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588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57040"/>
                <a:tab algn="l" pos="363600"/>
                <a:tab algn="l" pos="812880"/>
                <a:tab algn="l" pos="1260360"/>
                <a:tab algn="l" pos="1711440"/>
                <a:tab algn="l" pos="2160720"/>
                <a:tab algn="l" pos="2610000"/>
                <a:tab algn="l" pos="3057480"/>
                <a:tab algn="l" pos="3508200"/>
                <a:tab algn="l" pos="3957480"/>
                <a:tab algn="l" pos="4406760"/>
                <a:tab algn="l" pos="4854600"/>
                <a:tab algn="l" pos="5305320"/>
                <a:tab algn="l" pos="5754600"/>
                <a:tab algn="l" pos="6203880"/>
                <a:tab algn="l" pos="6651720"/>
                <a:tab algn="l" pos="7102440"/>
                <a:tab algn="l" pos="7551720"/>
                <a:tab algn="l" pos="8001000"/>
                <a:tab algn="l" pos="8448840"/>
                <a:tab algn="l" pos="8899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395280" y="217440"/>
            <a:ext cx="1725480" cy="1195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3"/>
          <a:stretch/>
        </p:blipFill>
        <p:spPr>
          <a:xfrm>
            <a:off x="7780320" y="4869000"/>
            <a:ext cx="987480" cy="1731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4"/>
          <a:stretch/>
        </p:blipFill>
        <p:spPr>
          <a:xfrm>
            <a:off x="7696080" y="0"/>
            <a:ext cx="1447920" cy="184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5"/>
          <a:stretch/>
        </p:blipFill>
        <p:spPr>
          <a:xfrm>
            <a:off x="371520" y="4741920"/>
            <a:ext cx="11952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227800" cy="58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32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133" name="Picture 5" descr="C:\Users\1\Pictures\радуга.png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1022040"/>
            <a:ext cx="86040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1022040"/>
            <a:ext cx="86040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38" name="Picture 2" descr="C:\Users\1\Pictures\итоговое картинки\3.jpg"/>
          <p:cNvPicPr/>
          <p:nvPr/>
        </p:nvPicPr>
        <p:blipFill>
          <a:blip r:embed="rId2"/>
          <a:stretch/>
        </p:blipFill>
        <p:spPr>
          <a:xfrm>
            <a:off x="0" y="-9216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022040"/>
            <a:ext cx="86040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41" name="Picture 2" descr="C:\Users\1\Pictures\181717707.jpg"/>
          <p:cNvPicPr/>
          <p:nvPr/>
        </p:nvPicPr>
        <p:blipFill>
          <a:blip r:embed="rId2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1022040"/>
            <a:ext cx="86040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1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44" name="Picture 2" descr="C:\Users\1\Pictures\fonstola.ru-214260.jpg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04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47" name="Picture 7" descr="C:\Users\1\Pictures\поляна с цветами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C:\Users\1\Pictures\яблоко.jpg"/>
          <p:cNvPicPr/>
          <p:nvPr/>
        </p:nvPicPr>
        <p:blipFill>
          <a:blip r:embed="rId2"/>
          <a:stretch/>
        </p:blipFill>
        <p:spPr>
          <a:xfrm>
            <a:off x="2075040" y="765000"/>
            <a:ext cx="4993920" cy="589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2:20:28Z</dcterms:created>
  <dc:creator>User</dc:creator>
  <dc:description/>
  <dc:language>en-US</dc:language>
  <cp:lastModifiedBy>1</cp:lastModifiedBy>
  <dcterms:modified xsi:type="dcterms:W3CDTF">2023-08-05T07:57:08Z</dcterms:modified>
  <cp:revision>179</cp:revision>
  <dc:subject/>
  <dc:title>Дополнительная образовательная программа</dc:title>
</cp:coreProperties>
</file>