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EF44F-615E-45CC-A89A-1A6148DDE6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8BC81-D14F-4E7A-A5D2-03D7F4EA5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6BAE-AAB9-438D-A729-0D2FBF95E3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0AA80-A1D3-4C56-886D-663E82A48A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FE17A-1AC6-4204-9E32-44A2CDC4EF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4646D-0444-4720-972F-3E63A17FE9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C0700-5CA7-45B5-8872-D3C2C1E887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2EFC-E6A1-4349-8CBA-E9188EED6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BED72-C34E-4153-97E8-2314B31D39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DFFB6-CFEA-489C-AD0E-D94D4C80F0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61BF8-7E07-47C7-8B35-182F3C8ADE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26920" y="446040"/>
            <a:ext cx="5200920" cy="3902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2A707-7DDB-4548-8051-A27C3E4ED0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26920" y="446040"/>
            <a:ext cx="5200920" cy="3902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BA39-C6AC-4535-9537-90456A0CF9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80680-15D7-493E-AA04-286D98ADF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87FE0-6378-4CDC-8434-41383E9A3F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345B-80DA-4476-8AED-A748E52286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7C57B-8BA0-4329-9212-09AEA3B827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755B1-C94A-449D-93D7-5819DC9733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20D-1AD0-4229-A0D3-7DB3EE08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703-997B-45DC-ABF5-64594A00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6C3-E676-4C71-9466-A826DD37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512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512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356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7DE-5ED1-4AC0-B675-3F3E87D9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7175-5501-4B35-839F-D6D097FA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3371-66A9-40F5-B84D-17EAEDF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A04E-DD7D-40D3-83C1-352E5367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4817-4B0B-4A8A-AC51-FF4E34A5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216D-D228-4A4D-949C-458F10D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680" y="-32040"/>
            <a:ext cx="7537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D87C-813A-4CE0-8867-809F152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E37F-CE77-4913-AB48-87469FB3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B68-7190-4CD9-AA66-39A689F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3068-C78A-4762-A15E-643EA1FF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0679-36FE-4149-8035-0B6CD3B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FB31-92A8-4AD2-90E6-8BA2F57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364-56FF-4988-8B93-EE3751B5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512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512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356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8FF5-AA66-4BF8-8BA6-36F28425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1FA-5765-4935-A1A3-7D611102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FD5-3C71-4BD3-AEA5-FD1A7C62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833-F716-447E-9F69-4A0AE13A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680" y="-32040"/>
            <a:ext cx="7537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02C-48C3-49B3-BA3B-372AD82F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2FA-0F96-4625-86D7-9BBD2FE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703-559E-46AD-A987-89E6765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CAC-1FF7-4383-96D3-8AC1341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7160" cy="6847920"/>
            <a:chOff x="0" y="6480"/>
            <a:chExt cx="9137160" cy="6847920"/>
          </a:xfrm>
        </p:grpSpPr>
        <p:sp>
          <p:nvSpPr>
            <p:cNvPr id="1" name="Freeform 2"/>
            <p:cNvSpPr/>
            <p:nvPr/>
          </p:nvSpPr>
          <p:spPr>
            <a:xfrm>
              <a:off x="885600" y="1842480"/>
              <a:ext cx="8251560" cy="501192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1842480"/>
              <a:ext cx="885600" cy="501192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3920" cy="6844680"/>
              <a:chOff x="0" y="6480"/>
              <a:chExt cx="9133920" cy="684468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875880" y="6480"/>
                <a:ext cx="18720" cy="110088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875880" y="2573640"/>
                <a:ext cx="18720" cy="427752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1617120" y="1830960"/>
                <a:ext cx="7516800" cy="1872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75880" y="217368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875880" y="1107360"/>
                <a:ext cx="18720" cy="39960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875880" y="1509120"/>
                <a:ext cx="18720" cy="66636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0" y="1830960"/>
                <a:ext cx="556920" cy="1872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215360" y="1830960"/>
                <a:ext cx="399600" cy="1872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52240" y="1830960"/>
                <a:ext cx="664560" cy="1872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529E2-6E38-4302-9D25-5FC4796CCCA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0" y="6480"/>
            <a:ext cx="9137160" cy="6848280"/>
            <a:chOff x="0" y="6480"/>
            <a:chExt cx="9137160" cy="6848280"/>
          </a:xfrm>
        </p:grpSpPr>
        <p:grpSp>
          <p:nvGrpSpPr>
            <p:cNvPr id="55" name="Group 2"/>
            <p:cNvGrpSpPr/>
            <p:nvPr/>
          </p:nvGrpSpPr>
          <p:grpSpPr>
            <a:xfrm>
              <a:off x="0" y="1843200"/>
              <a:ext cx="9137160" cy="5011560"/>
              <a:chOff x="0" y="1843200"/>
              <a:chExt cx="9137160" cy="5011560"/>
            </a:xfrm>
          </p:grpSpPr>
          <p:sp>
            <p:nvSpPr>
              <p:cNvPr id="56" name="Freeform 3"/>
              <p:cNvSpPr/>
              <p:nvPr/>
            </p:nvSpPr>
            <p:spPr>
              <a:xfrm>
                <a:off x="885600" y="1843200"/>
                <a:ext cx="8251560" cy="501156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4"/>
              <p:cNvSpPr/>
              <p:nvPr/>
            </p:nvSpPr>
            <p:spPr>
              <a:xfrm>
                <a:off x="0" y="1843200"/>
                <a:ext cx="885600" cy="501156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5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552600" y="6480"/>
              <a:ext cx="8584560" cy="6847920"/>
              <a:chOff x="552600" y="6480"/>
              <a:chExt cx="8584560" cy="6847920"/>
            </a:xfrm>
          </p:grpSpPr>
          <p:sp>
            <p:nvSpPr>
              <p:cNvPr id="62" name="Freeform 9"/>
              <p:cNvSpPr/>
              <p:nvPr/>
            </p:nvSpPr>
            <p:spPr>
              <a:xfrm>
                <a:off x="875880" y="6480"/>
                <a:ext cx="18720" cy="110268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"/>
              <p:cNvSpPr/>
              <p:nvPr/>
            </p:nvSpPr>
            <p:spPr>
              <a:xfrm>
                <a:off x="875880" y="2575800"/>
                <a:ext cx="18720" cy="427860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1617480" y="1831320"/>
                <a:ext cx="7519680" cy="1872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875880" y="2175840"/>
                <a:ext cx="18720" cy="39960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5880" y="110916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552600" y="1831320"/>
                <a:ext cx="664560" cy="1872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318680"/>
            <a:ext cx="708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7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fld id="{70D61EE8-3D1E-41B5-9DA2-0739648D2B2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162160"/>
            <a:ext cx="82821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У «Ыныргинская СОШ»</a:t>
            </a: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етский сад «Солнышко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 дорогам радуги в школу»</a:t>
            </a:r>
            <a:br>
              <a:rPr sz="40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тоговое занятие в старшейгрупп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00000" y="5730840"/>
            <a:ext cx="7489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одготовила и провела воспита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Мерзляков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201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93080" y="1341360"/>
            <a:ext cx="20415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8920" y="360000"/>
            <a:ext cx="64803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5596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C:\Users\1\Pictures\кит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68200"/>
                <a:tab algn="l" pos="3729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8200"/>
                <a:tab algn="l" pos="3729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C:\Users\1\Pictures\береза.png"/>
          <p:cNvPicPr/>
          <p:nvPr/>
        </p:nvPicPr>
        <p:blipFill>
          <a:blip r:embed="rId2"/>
          <a:stretch/>
        </p:blipFill>
        <p:spPr>
          <a:xfrm>
            <a:off x="1042920" y="176040"/>
            <a:ext cx="511344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1\Pictures\тюльпан.jpg"/>
          <p:cNvPicPr/>
          <p:nvPr/>
        </p:nvPicPr>
        <p:blipFill>
          <a:blip r:embed="rId2"/>
          <a:stretch/>
        </p:blipFill>
        <p:spPr>
          <a:xfrm>
            <a:off x="1835280" y="66600"/>
            <a:ext cx="47718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3357360"/>
            <a:ext cx="4068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78200" y="3421080"/>
            <a:ext cx="396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C:\Users\1\Pictures\phoca_thumb_l_Hardhat.jpg"/>
          <p:cNvPicPr/>
          <p:nvPr/>
        </p:nvPicPr>
        <p:blipFill>
          <a:blip r:embed="rId2"/>
          <a:stretch/>
        </p:blipFill>
        <p:spPr>
          <a:xfrm>
            <a:off x="0" y="15840"/>
            <a:ext cx="3203640" cy="259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C:\Users\1\Pictures\rwrsUZI9e1.png"/>
          <p:cNvPicPr/>
          <p:nvPr/>
        </p:nvPicPr>
        <p:blipFill>
          <a:blip r:embed="rId3"/>
          <a:stretch/>
        </p:blipFill>
        <p:spPr>
          <a:xfrm>
            <a:off x="3352680" y="1104840"/>
            <a:ext cx="2438640" cy="241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C:\Users\1\Pictures\i.jpg"/>
          <p:cNvPicPr/>
          <p:nvPr/>
        </p:nvPicPr>
        <p:blipFill>
          <a:blip r:embed="rId4"/>
          <a:stretch/>
        </p:blipFill>
        <p:spPr>
          <a:xfrm>
            <a:off x="5940360" y="2592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C:\Users\1\Pictures\1295419871_2011-01-18_122624.jpg"/>
          <p:cNvPicPr/>
          <p:nvPr/>
        </p:nvPicPr>
        <p:blipFill>
          <a:blip r:embed="rId5"/>
          <a:srcRect l="0" t="0" r="0" b="10579"/>
          <a:stretch/>
        </p:blipFill>
        <p:spPr>
          <a:xfrm>
            <a:off x="0" y="3740040"/>
            <a:ext cx="48895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1920"/>
            <a:ext cx="81374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2276280"/>
            <a:ext cx="8064360" cy="31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1" name="Picture 6" descr="C:\Users\1\Pictures\_0083283_image.jpg"/>
          <p:cNvPicPr/>
          <p:nvPr/>
        </p:nvPicPr>
        <p:blipFill>
          <a:blip r:embed="rId2"/>
          <a:stretch/>
        </p:blipFill>
        <p:spPr>
          <a:xfrm>
            <a:off x="5219640" y="201600"/>
            <a:ext cx="3765600" cy="3765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1\Pictures\stolovie_pribori.jpg"/>
          <p:cNvPicPr/>
          <p:nvPr/>
        </p:nvPicPr>
        <p:blipFill>
          <a:blip r:embed="rId3"/>
          <a:stretch/>
        </p:blipFill>
        <p:spPr>
          <a:xfrm>
            <a:off x="966960" y="201600"/>
            <a:ext cx="3605040" cy="3605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1\Pictures\T1Yy84Xz0XXXXXXXXX_!!0-item_pic.jpg_310x310.jpg"/>
          <p:cNvPicPr/>
          <p:nvPr/>
        </p:nvPicPr>
        <p:blipFill>
          <a:blip r:embed="rId4"/>
          <a:stretch/>
        </p:blipFill>
        <p:spPr>
          <a:xfrm>
            <a:off x="4572000" y="4040280"/>
            <a:ext cx="2933640" cy="27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Users\1\Pictures\s_819512.jpeg"/>
          <p:cNvPicPr/>
          <p:nvPr/>
        </p:nvPicPr>
        <p:blipFill>
          <a:blip r:embed="rId5"/>
          <a:stretch/>
        </p:blipFill>
        <p:spPr>
          <a:xfrm>
            <a:off x="395280" y="3906720"/>
            <a:ext cx="28670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17928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79640" y="1979640"/>
            <a:ext cx="619272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8" name="Picture 9" descr="C:\Users\1\Pictures\DollBed_K.jpg"/>
          <p:cNvPicPr/>
          <p:nvPr/>
        </p:nvPicPr>
        <p:blipFill>
          <a:blip r:embed="rId2"/>
          <a:stretch/>
        </p:blipFill>
        <p:spPr>
          <a:xfrm>
            <a:off x="395280" y="731880"/>
            <a:ext cx="8280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9768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2" name="Picture 9" descr="C:\Users\1\Pictures\радуга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3203640" y="5467320"/>
            <a:ext cx="21463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116000" y="3328920"/>
            <a:ext cx="7056360" cy="35290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06472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Благодарю за внимание!</a:t>
            </a:r>
            <a:br>
              <a:rPr sz="4400"/>
            </a:br>
            <a:br>
              <a:rPr sz="20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Желаю чтобы ваши воспитанники ежедневно говорили Вам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227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Times New Roman"/>
              </a:rPr>
              <a:t>ЦЕЛЬ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4297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57040"/>
                <a:tab algn="l" pos="363600"/>
                <a:tab algn="l" pos="812880"/>
                <a:tab algn="l" pos="1260360"/>
                <a:tab algn="l" pos="1711440"/>
                <a:tab algn="l" pos="2160720"/>
                <a:tab algn="l" pos="2610000"/>
                <a:tab algn="l" pos="3057480"/>
                <a:tab algn="l" pos="3508200"/>
                <a:tab algn="l" pos="3957480"/>
                <a:tab algn="l" pos="4406760"/>
                <a:tab algn="l" pos="4854600"/>
                <a:tab algn="l" pos="5305320"/>
                <a:tab algn="l" pos="5754600"/>
                <a:tab algn="l" pos="6203880"/>
                <a:tab algn="l" pos="6651720"/>
                <a:tab algn="l" pos="7102440"/>
                <a:tab algn="l" pos="7551720"/>
                <a:tab algn="l" pos="8001000"/>
                <a:tab algn="l" pos="8448840"/>
                <a:tab algn="l" pos="8899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cc0099"/>
                </a:solidFill>
                <a:latin typeface="Times New Roman"/>
              </a:rPr>
              <a:t>обобщение и закрепление знаний у детей старшей группы, по пройденному материалу за учебный год через организацию различных видов деятельност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588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57040"/>
                <a:tab algn="l" pos="363600"/>
                <a:tab algn="l" pos="812880"/>
                <a:tab algn="l" pos="1260360"/>
                <a:tab algn="l" pos="1711440"/>
                <a:tab algn="l" pos="2160720"/>
                <a:tab algn="l" pos="2610000"/>
                <a:tab algn="l" pos="3057480"/>
                <a:tab algn="l" pos="3508200"/>
                <a:tab algn="l" pos="3957480"/>
                <a:tab algn="l" pos="4406760"/>
                <a:tab algn="l" pos="4854600"/>
                <a:tab algn="l" pos="5305320"/>
                <a:tab algn="l" pos="5754600"/>
                <a:tab algn="l" pos="6203880"/>
                <a:tab algn="l" pos="6651720"/>
                <a:tab algn="l" pos="7102440"/>
                <a:tab algn="l" pos="7551720"/>
                <a:tab algn="l" pos="8001000"/>
                <a:tab algn="l" pos="8448840"/>
                <a:tab algn="l" pos="8899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95280" y="217440"/>
            <a:ext cx="1725480" cy="119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780320" y="4869000"/>
            <a:ext cx="987480" cy="1731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371520" y="4741920"/>
            <a:ext cx="11952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2278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33" name="Picture 5" descr="C:\Users\1\Pictures\радуга.png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8" name="Picture 2" descr="C:\Users\1\Pictures\итоговое картинки\3.jpg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1" name="Picture 2" descr="C:\Users\1\Pictures\181717707.jpg"/>
          <p:cNvPicPr/>
          <p:nvPr/>
        </p:nvPicPr>
        <p:blipFill>
          <a:blip r:embed="rId2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4" name="Picture 2" descr="C:\Users\1\Pictures\fonstola.ru-214260.jpg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0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7" name="Picture 7" descr="C:\Users\1\Pictures\поляна с цветами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1\Pictures\яблоко.jpg"/>
          <p:cNvPicPr/>
          <p:nvPr/>
        </p:nvPicPr>
        <p:blipFill>
          <a:blip r:embed="rId2"/>
          <a:stretch/>
        </p:blipFill>
        <p:spPr>
          <a:xfrm>
            <a:off x="2075040" y="765000"/>
            <a:ext cx="4993920" cy="58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20:28Z</dcterms:created>
  <dc:creator>User</dc:creator>
  <dc:description/>
  <dc:language>en-US</dc:language>
  <cp:lastModifiedBy>1</cp:lastModifiedBy>
  <dcterms:modified xsi:type="dcterms:W3CDTF">2023-08-05T07:57:08Z</dcterms:modified>
  <cp:revision>179</cp:revision>
  <dc:subject/>
  <dc:title>Дополнительная образовательная программа</dc:title>
</cp:coreProperties>
</file>