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applause.wav" ContentType="audio/x-wav"/>
  <Override PartName="/ppt/media/image8.gif" ContentType="image/gif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126C-76D1-4AD8-82EC-49C4DB18A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BC8-950B-40D2-B258-42C87431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4FE7-AFE6-466C-9CD3-E2EBDE9C9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5E30-F5B7-45DD-88C8-43CE010B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1E32-82A7-445F-920B-6F8C35A88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0E7-A745-40D7-BBFA-D89A99658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47A5-6E0C-4BBA-B14A-6FA5981D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9785-E98E-4D41-8C24-135B13477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022B-468C-416B-AB93-C0D15E288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A76-272D-4B2F-A1EC-502FFE66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BDFD-0605-4E18-AFF8-7B9E9D756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4910-F6AE-4708-9826-5B91E00E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12599-B308-4677-B4FA-C3F33EFC838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2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7.xml"/><Relationship Id="rId13" Type="http://schemas.openxmlformats.org/officeDocument/2006/relationships/slide" Target="slide16.xml"/><Relationship Id="rId14" Type="http://schemas.openxmlformats.org/officeDocument/2006/relationships/slide" Target="slide15.xml"/><Relationship Id="rId15" Type="http://schemas.openxmlformats.org/officeDocument/2006/relationships/slide" Target="slide14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4.xml"/><Relationship Id="rId20" Type="http://schemas.openxmlformats.org/officeDocument/2006/relationships/slide" Target="slide23.xml"/><Relationship Id="rId21" Type="http://schemas.openxmlformats.org/officeDocument/2006/relationships/slide" Target="slide22.xml"/><Relationship Id="rId22" Type="http://schemas.openxmlformats.org/officeDocument/2006/relationships/slide" Target="slide21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31.xml"/><Relationship Id="rId27" Type="http://schemas.openxmlformats.org/officeDocument/2006/relationships/slide" Target="slide30.xml"/><Relationship Id="rId28" Type="http://schemas.openxmlformats.org/officeDocument/2006/relationships/slide" Target="slide29.xml"/><Relationship Id="rId29" Type="http://schemas.openxmlformats.org/officeDocument/2006/relationships/slide" Target="slide28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8.xml"/><Relationship Id="rId34" Type="http://schemas.openxmlformats.org/officeDocument/2006/relationships/slide" Target="slide37.xml"/><Relationship Id="rId35" Type="http://schemas.openxmlformats.org/officeDocument/2006/relationships/slide" Target="slide36.xml"/><Relationship Id="rId36" Type="http://schemas.openxmlformats.org/officeDocument/2006/relationships/slide" Target="slide35.xml"/><Relationship Id="rId37" Type="http://schemas.openxmlformats.org/officeDocument/2006/relationships/slide" Target="slide39.xml"/><Relationship Id="rId38" Type="http://schemas.openxmlformats.org/officeDocument/2006/relationships/slide" Target="slide41.xml"/><Relationship Id="rId39" Type="http://schemas.openxmlformats.org/officeDocument/2006/relationships/slide" Target="slide40.xml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abc.net.au/radionational/image/5537162-3x4-700x933.jpg"/>
          <p:cNvPicPr/>
          <p:nvPr/>
        </p:nvPicPr>
        <p:blipFill>
          <a:blip r:embed="rId1"/>
          <a:stretch/>
        </p:blipFill>
        <p:spPr>
          <a:xfrm>
            <a:off x="396720" y="0"/>
            <a:ext cx="172404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активная викторина «Что вы знаете о Шекспир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7. Shakespeare’s first name was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Joh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e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ill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Ham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8. Shakespeare’s mother wa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Ann Hatha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ary Ar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usanna Shakespe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Elisabeth Tu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9. The English for “Укрощение строптивой” 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aving of the C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Craving of the St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aming of the Sh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Raving of the Queu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0. How many plays were written by Shakespear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1. Romeo was from the family of …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ontec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ont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apu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Capulett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2. Juliet was from the family of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ontec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ont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apu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Capuletti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3. The words “Brevity is the soul of wit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Haml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Lear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4. The words “All the world’s a stage, and all the men and women merely players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Haml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Lear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5. The words “But love is blind, and lovers cannot see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Romeo and Juli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The Merchant of Venice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6. The words “A horse! a horse! My kingdom for a horse!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Richard III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Henry V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Julius Caesar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Henry IV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2050920" y="558972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rench Script MT"/>
              </a:rPr>
              <a:t>William Shakespear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</p:txBody>
      </p:sp>
      <p:pic>
        <p:nvPicPr>
          <p:cNvPr id="44" name="Picture 5" descr="http://www.abc.net.au/radionational/image/5537162-3x4-700x933.jpg"/>
          <p:cNvPicPr/>
          <p:nvPr/>
        </p:nvPicPr>
        <p:blipFill>
          <a:blip r:embed="rId1"/>
          <a:stretch/>
        </p:blipFill>
        <p:spPr>
          <a:xfrm>
            <a:off x="2193840" y="0"/>
            <a:ext cx="4322880" cy="576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7. Shakespeare was born on th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7th of Aug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3rd of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1st of Sept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29th of Febru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8. Shakespeare died on th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7th of Aug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3rd of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1st of Sept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29th of Febru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9. In his will Shakespeare left most of his fortu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o his s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o his w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o his younger daugh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o his elder daughter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0. Shakespeare got married at the age of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ix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eigh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we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wenty one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1. The publisher dedicated the first edition of Shakespeare’s sonnets 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H.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.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.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W.S.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2. Finish the line: “To be or not to be -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hat is a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at is the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hat is a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it doesn’t matter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3. Finish the line: “What’s in a name? That which we call a rose by any other name would smell as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t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w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rotten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4. The line “Tired with all this, for restful death I cry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шекспир">
            <a:hlinkClick r:id="rId4" action="ppaction://hlinksldjump"/>
          </p:cNvPr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5. The line “Than hate me when thou wilt!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Sonnet 130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6. The line “My mistress’ eyes are nothing like the sun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30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5" descr="шекспи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44360"/>
            <a:ext cx="5861160" cy="6524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09">
            <a:hlinkClick r:id="rId2" action="ppaction://hlinksldjump"/>
          </p:cNvPr>
          <p:cNvSpPr/>
          <p:nvPr/>
        </p:nvSpPr>
        <p:spPr>
          <a:xfrm>
            <a:off x="250920" y="260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10">
            <a:hlinkClick r:id="rId3" action="ppaction://hlinksldjump"/>
          </p:cNvPr>
          <p:cNvSpPr/>
          <p:nvPr/>
        </p:nvSpPr>
        <p:spPr>
          <a:xfrm>
            <a:off x="1509840" y="260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11">
            <a:hlinkClick r:id="rId4" action="ppaction://hlinksldjump"/>
          </p:cNvPr>
          <p:cNvSpPr/>
          <p:nvPr/>
        </p:nvSpPr>
        <p:spPr>
          <a:xfrm>
            <a:off x="273528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13">
            <a:hlinkClick r:id="rId5" action="ppaction://hlinksldjump"/>
          </p:cNvPr>
          <p:cNvSpPr/>
          <p:nvPr/>
        </p:nvSpPr>
        <p:spPr>
          <a:xfrm>
            <a:off x="784692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14">
            <a:hlinkClick r:id="rId6" action="ppaction://hlinksldjump"/>
          </p:cNvPr>
          <p:cNvSpPr/>
          <p:nvPr/>
        </p:nvSpPr>
        <p:spPr>
          <a:xfrm>
            <a:off x="655164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>
            <a:hlinkClick r:id="rId7" action="ppaction://hlinksldjump"/>
          </p:cNvPr>
          <p:cNvSpPr/>
          <p:nvPr/>
        </p:nvSpPr>
        <p:spPr>
          <a:xfrm>
            <a:off x="525456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>
            <a:hlinkClick r:id="rId8" action="ppaction://hlinksldjump"/>
          </p:cNvPr>
          <p:cNvSpPr/>
          <p:nvPr/>
        </p:nvSpPr>
        <p:spPr>
          <a:xfrm>
            <a:off x="403056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>
            <a:hlinkClick r:id="rId9" action="ppaction://hlinksldjump"/>
          </p:cNvPr>
          <p:cNvSpPr/>
          <p:nvPr/>
        </p:nvSpPr>
        <p:spPr>
          <a:xfrm>
            <a:off x="324000" y="1268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>
            <a:hlinkClick r:id="rId10" action="ppaction://hlinksldjump"/>
          </p:cNvPr>
          <p:cNvSpPr/>
          <p:nvPr/>
        </p:nvSpPr>
        <p:spPr>
          <a:xfrm>
            <a:off x="158256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>
            <a:hlinkClick r:id="rId11" action="ppaction://hlinksldjump"/>
          </p:cNvPr>
          <p:cNvSpPr/>
          <p:nvPr/>
        </p:nvSpPr>
        <p:spPr>
          <a:xfrm>
            <a:off x="280836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>
            <a:hlinkClick r:id="rId12" action="ppaction://hlinksldjump"/>
          </p:cNvPr>
          <p:cNvSpPr/>
          <p:nvPr/>
        </p:nvSpPr>
        <p:spPr>
          <a:xfrm>
            <a:off x="792000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>
            <a:hlinkClick r:id="rId13" action="ppaction://hlinksldjump"/>
          </p:cNvPr>
          <p:cNvSpPr/>
          <p:nvPr/>
        </p:nvSpPr>
        <p:spPr>
          <a:xfrm>
            <a:off x="662472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>
            <a:hlinkClick r:id="rId14" action="ppaction://hlinksldjump"/>
          </p:cNvPr>
          <p:cNvSpPr/>
          <p:nvPr/>
        </p:nvSpPr>
        <p:spPr>
          <a:xfrm>
            <a:off x="532764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>
            <a:hlinkClick r:id="rId15" action="ppaction://hlinksldjump"/>
          </p:cNvPr>
          <p:cNvSpPr/>
          <p:nvPr/>
        </p:nvSpPr>
        <p:spPr>
          <a:xfrm>
            <a:off x="410364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24">
            <a:hlinkClick r:id="rId16" action="ppaction://hlinksldjump"/>
          </p:cNvPr>
          <p:cNvSpPr/>
          <p:nvPr/>
        </p:nvSpPr>
        <p:spPr>
          <a:xfrm>
            <a:off x="324000" y="2421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5">
            <a:hlinkClick r:id="rId17" action="ppaction://hlinksldjump"/>
          </p:cNvPr>
          <p:cNvSpPr/>
          <p:nvPr/>
        </p:nvSpPr>
        <p:spPr>
          <a:xfrm>
            <a:off x="158256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26">
            <a:hlinkClick r:id="rId18" action="ppaction://hlinksldjump"/>
          </p:cNvPr>
          <p:cNvSpPr/>
          <p:nvPr/>
        </p:nvSpPr>
        <p:spPr>
          <a:xfrm>
            <a:off x="280836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7">
            <a:hlinkClick r:id="rId19" action="ppaction://hlinksldjump"/>
          </p:cNvPr>
          <p:cNvSpPr/>
          <p:nvPr/>
        </p:nvSpPr>
        <p:spPr>
          <a:xfrm>
            <a:off x="792000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8">
            <a:hlinkClick r:id="rId20" action="ppaction://hlinksldjump"/>
          </p:cNvPr>
          <p:cNvSpPr/>
          <p:nvPr/>
        </p:nvSpPr>
        <p:spPr>
          <a:xfrm>
            <a:off x="662472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9">
            <a:hlinkClick r:id="rId21" action="ppaction://hlinksldjump"/>
          </p:cNvPr>
          <p:cNvSpPr/>
          <p:nvPr/>
        </p:nvSpPr>
        <p:spPr>
          <a:xfrm>
            <a:off x="532764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0">
            <a:hlinkClick r:id="rId22" action="ppaction://hlinksldjump"/>
          </p:cNvPr>
          <p:cNvSpPr/>
          <p:nvPr/>
        </p:nvSpPr>
        <p:spPr>
          <a:xfrm>
            <a:off x="410364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8">
            <a:hlinkClick r:id="rId23" action="ppaction://hlinksldjump"/>
          </p:cNvPr>
          <p:cNvSpPr/>
          <p:nvPr/>
        </p:nvSpPr>
        <p:spPr>
          <a:xfrm>
            <a:off x="324000" y="3645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39">
            <a:hlinkClick r:id="rId24" action="ppaction://hlinksldjump"/>
          </p:cNvPr>
          <p:cNvSpPr/>
          <p:nvPr/>
        </p:nvSpPr>
        <p:spPr>
          <a:xfrm>
            <a:off x="158256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40">
            <a:hlinkClick r:id="rId25" action="ppaction://hlinksldjump"/>
          </p:cNvPr>
          <p:cNvSpPr/>
          <p:nvPr/>
        </p:nvSpPr>
        <p:spPr>
          <a:xfrm>
            <a:off x="280836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1">
            <a:hlinkClick r:id="rId26" action="ppaction://hlinksldjump"/>
          </p:cNvPr>
          <p:cNvSpPr/>
          <p:nvPr/>
        </p:nvSpPr>
        <p:spPr>
          <a:xfrm>
            <a:off x="792000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2">
            <a:hlinkClick r:id="rId27" action="ppaction://hlinksldjump"/>
          </p:cNvPr>
          <p:cNvSpPr/>
          <p:nvPr/>
        </p:nvSpPr>
        <p:spPr>
          <a:xfrm>
            <a:off x="662472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43">
            <a:hlinkClick r:id="rId28" action="ppaction://hlinksldjump"/>
          </p:cNvPr>
          <p:cNvSpPr/>
          <p:nvPr/>
        </p:nvSpPr>
        <p:spPr>
          <a:xfrm>
            <a:off x="532764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44">
            <a:hlinkClick r:id="rId29" action="ppaction://hlinksldjump"/>
          </p:cNvPr>
          <p:cNvSpPr/>
          <p:nvPr/>
        </p:nvSpPr>
        <p:spPr>
          <a:xfrm>
            <a:off x="410364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45">
            <a:hlinkClick r:id="rId30" action="ppaction://hlinksldjump"/>
          </p:cNvPr>
          <p:cNvSpPr/>
          <p:nvPr/>
        </p:nvSpPr>
        <p:spPr>
          <a:xfrm>
            <a:off x="324000" y="4869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6">
            <a:hlinkClick r:id="rId31" action="ppaction://hlinksldjump"/>
          </p:cNvPr>
          <p:cNvSpPr/>
          <p:nvPr/>
        </p:nvSpPr>
        <p:spPr>
          <a:xfrm>
            <a:off x="158256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7">
            <a:hlinkClick r:id="rId32" action="ppaction://hlinksldjump"/>
          </p:cNvPr>
          <p:cNvSpPr/>
          <p:nvPr/>
        </p:nvSpPr>
        <p:spPr>
          <a:xfrm>
            <a:off x="284328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48">
            <a:hlinkClick r:id="rId33" action="ppaction://hlinksldjump"/>
          </p:cNvPr>
          <p:cNvSpPr/>
          <p:nvPr/>
        </p:nvSpPr>
        <p:spPr>
          <a:xfrm>
            <a:off x="792000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9">
            <a:hlinkClick r:id="rId34" action="ppaction://hlinksldjump"/>
          </p:cNvPr>
          <p:cNvSpPr/>
          <p:nvPr/>
        </p:nvSpPr>
        <p:spPr>
          <a:xfrm>
            <a:off x="662472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50">
            <a:hlinkClick r:id="rId35" action="ppaction://hlinksldjump"/>
          </p:cNvPr>
          <p:cNvSpPr/>
          <p:nvPr/>
        </p:nvSpPr>
        <p:spPr>
          <a:xfrm>
            <a:off x="532764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51">
            <a:hlinkClick r:id="rId36" action="ppaction://hlinksldjump"/>
          </p:cNvPr>
          <p:cNvSpPr/>
          <p:nvPr/>
        </p:nvSpPr>
        <p:spPr>
          <a:xfrm>
            <a:off x="410364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52">
            <a:hlinkClick r:id="rId37" action="ppaction://hlinksldjump"/>
          </p:cNvPr>
          <p:cNvSpPr/>
          <p:nvPr/>
        </p:nvSpPr>
        <p:spPr>
          <a:xfrm>
            <a:off x="2916360" y="580536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53">
            <a:hlinkClick r:id="rId38" action="ppaction://hlinksldjump"/>
          </p:cNvPr>
          <p:cNvSpPr/>
          <p:nvPr/>
        </p:nvSpPr>
        <p:spPr>
          <a:xfrm>
            <a:off x="5400720" y="580536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54">
            <a:hlinkClick r:id="rId39" action="ppaction://hlinksldjump"/>
          </p:cNvPr>
          <p:cNvSpPr/>
          <p:nvPr/>
        </p:nvSpPr>
        <p:spPr>
          <a:xfrm>
            <a:off x="4176720" y="580536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7. Shakespeare wro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37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54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82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98 sonnets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8. Most of Shakespeare’s sonnets are addressed t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Dark L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air L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ri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Himself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9. Sometimes Shakespeare’s plays are attributed 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Geoffrey Chau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rancis Bac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Philip Sidn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homas More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0. Shakespeare’s tragedy is entitled “Hamlet, Prince of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W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Ver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enm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Ireland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1. The tragedy “Romeo and Juliet” is set in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Ve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Ver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or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London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2. The name of Juliet’s cousin w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yb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ar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Benv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rcutio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3. Juliet’s parents wanted her to mar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yb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ar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Benv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rcutio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4. How old was Julie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6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5. At the end of the play Juli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soned he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lled herself with a da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ed he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t married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шекспир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6. At the end of the play Rome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isoned him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lled himself with a da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ed him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t married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. Shakespeare was born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56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6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5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59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entury Gothic"/>
              </a:rPr>
              <a:t>37</a:t>
            </a: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. Shakespeare died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4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8. The name of Romeo’s beloved w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he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dem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the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4"/>
          <p:cNvSpPr txBox="1"/>
          <p:nvPr/>
        </p:nvSpPr>
        <p:spPr>
          <a:xfrm>
            <a:off x="1908000" y="549360"/>
            <a:ext cx="48960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9" name="AutoShape 16">
            <a:hlinkClick r:id="" action="ppaction://hlinkshowjump?jump=previousslide"/>
          </p:cNvPr>
          <p:cNvSpPr/>
          <p:nvPr/>
        </p:nvSpPr>
        <p:spPr>
          <a:xfrm>
            <a:off x="7164360" y="5084640"/>
            <a:ext cx="1511280" cy="1413000"/>
          </a:xfrm>
          <a:custGeom>
            <a:avLst/>
            <a:gdLst>
              <a:gd name="textAreaLeft" fmla="*/ 91440 w 1511280"/>
              <a:gd name="textAreaRight" fmla="*/ 1419840 w 1511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3102" h="21600">
                <a:moveTo>
                  <a:pt x="0" y="0"/>
                </a:moveTo>
                <a:lnTo>
                  <a:pt x="23102" y="0"/>
                </a:lnTo>
                <a:lnTo>
                  <a:pt x="23102" y="21600"/>
                </a:lnTo>
                <a:lnTo>
                  <a:pt x="0" y="21600"/>
                </a:lnTo>
                <a:close/>
              </a:path>
              <a:path fill="lightenLess" w="23102" h="21600">
                <a:moveTo>
                  <a:pt x="0" y="0"/>
                </a:moveTo>
                <a:lnTo>
                  <a:pt x="23102" y="0"/>
                </a:lnTo>
                <a:lnTo>
                  <a:pt x="21702" y="1400"/>
                </a:lnTo>
                <a:lnTo>
                  <a:pt x="1400" y="1400"/>
                </a:lnTo>
                <a:close/>
              </a:path>
              <a:path fill="darken" w="23102" h="21600">
                <a:moveTo>
                  <a:pt x="23102" y="0"/>
                </a:moveTo>
                <a:lnTo>
                  <a:pt x="23102" y="21600"/>
                </a:lnTo>
                <a:lnTo>
                  <a:pt x="21702" y="20200"/>
                </a:lnTo>
                <a:lnTo>
                  <a:pt x="21702" y="1400"/>
                </a:lnTo>
                <a:close/>
              </a:path>
              <a:path fill="darkenLess" w="23102" h="21600">
                <a:moveTo>
                  <a:pt x="23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2" y="20200"/>
                </a:lnTo>
                <a:close/>
              </a:path>
              <a:path fill="lighten" w="23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2" h="21600">
                <a:moveTo>
                  <a:pt x="4545" y="7493"/>
                </a:moveTo>
                <a:lnTo>
                  <a:pt x="8052" y="7493"/>
                </a:lnTo>
                <a:lnTo>
                  <a:pt x="8052" y="12828"/>
                </a:lnTo>
                <a:cubicBezTo>
                  <a:pt x="8052" y="13751"/>
                  <a:pt x="8853" y="14482"/>
                  <a:pt x="9889" y="14482"/>
                </a:cubicBezTo>
                <a:lnTo>
                  <a:pt x="11551" y="14482"/>
                </a:lnTo>
                <a:cubicBezTo>
                  <a:pt x="12587" y="14482"/>
                  <a:pt x="13387" y="13751"/>
                  <a:pt x="13387" y="12828"/>
                </a:cubicBezTo>
                <a:lnTo>
                  <a:pt x="13387" y="7493"/>
                </a:lnTo>
                <a:lnTo>
                  <a:pt x="11551" y="7493"/>
                </a:lnTo>
                <a:lnTo>
                  <a:pt x="15059" y="3985"/>
                </a:lnTo>
                <a:lnTo>
                  <a:pt x="18732" y="7493"/>
                </a:lnTo>
                <a:lnTo>
                  <a:pt x="16895" y="7493"/>
                </a:lnTo>
                <a:lnTo>
                  <a:pt x="16895" y="12828"/>
                </a:lnTo>
                <a:cubicBezTo>
                  <a:pt x="16895" y="15596"/>
                  <a:pt x="14319" y="18155"/>
                  <a:pt x="11551" y="18155"/>
                </a:cubicBezTo>
                <a:lnTo>
                  <a:pt x="9889" y="18155"/>
                </a:lnTo>
                <a:cubicBezTo>
                  <a:pt x="7121" y="18155"/>
                  <a:pt x="4545" y="15596"/>
                  <a:pt x="4545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http://img-fotki.yandex.ru/get/9109/181450557.7c/0_acb63_1348ec07_orig.gif"/>
          <p:cNvPicPr/>
          <p:nvPr/>
        </p:nvPicPr>
        <p:blipFill>
          <a:blip r:embed="rId1"/>
          <a:stretch/>
        </p:blipFill>
        <p:spPr>
          <a:xfrm>
            <a:off x="2843280" y="1844640"/>
            <a:ext cx="3889440" cy="4025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274320"/>
            <a:ext cx="8229600" cy="20746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applaus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3"/>
          <p:cNvSpPr txBox="1"/>
          <p:nvPr/>
        </p:nvSpPr>
        <p:spPr>
          <a:xfrm>
            <a:off x="2050920" y="620640"/>
            <a:ext cx="48960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Sorr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3" name="AutoShape 7">
            <a:hlinkClick r:id="" action="ppaction://hlinkshowjump?jump=previousslide"/>
          </p:cNvPr>
          <p:cNvSpPr/>
          <p:nvPr/>
        </p:nvSpPr>
        <p:spPr>
          <a:xfrm>
            <a:off x="7164360" y="5084640"/>
            <a:ext cx="1511280" cy="1413000"/>
          </a:xfrm>
          <a:custGeom>
            <a:avLst/>
            <a:gdLst>
              <a:gd name="textAreaLeft" fmla="*/ 91440 w 1511280"/>
              <a:gd name="textAreaRight" fmla="*/ 1419840 w 1511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3102" h="21600">
                <a:moveTo>
                  <a:pt x="0" y="0"/>
                </a:moveTo>
                <a:lnTo>
                  <a:pt x="23102" y="0"/>
                </a:lnTo>
                <a:lnTo>
                  <a:pt x="23102" y="21600"/>
                </a:lnTo>
                <a:lnTo>
                  <a:pt x="0" y="21600"/>
                </a:lnTo>
                <a:close/>
              </a:path>
              <a:path fill="lightenLess" w="23102" h="21600">
                <a:moveTo>
                  <a:pt x="0" y="0"/>
                </a:moveTo>
                <a:lnTo>
                  <a:pt x="23102" y="0"/>
                </a:lnTo>
                <a:lnTo>
                  <a:pt x="21702" y="1400"/>
                </a:lnTo>
                <a:lnTo>
                  <a:pt x="1400" y="1400"/>
                </a:lnTo>
                <a:close/>
              </a:path>
              <a:path fill="darken" w="23102" h="21600">
                <a:moveTo>
                  <a:pt x="23102" y="0"/>
                </a:moveTo>
                <a:lnTo>
                  <a:pt x="23102" y="21600"/>
                </a:lnTo>
                <a:lnTo>
                  <a:pt x="21702" y="20200"/>
                </a:lnTo>
                <a:lnTo>
                  <a:pt x="21702" y="1400"/>
                </a:lnTo>
                <a:close/>
              </a:path>
              <a:path fill="darkenLess" w="23102" h="21600">
                <a:moveTo>
                  <a:pt x="23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2" y="20200"/>
                </a:lnTo>
                <a:close/>
              </a:path>
              <a:path fill="lighten" w="23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2" h="21600">
                <a:moveTo>
                  <a:pt x="4545" y="7493"/>
                </a:moveTo>
                <a:lnTo>
                  <a:pt x="8052" y="7493"/>
                </a:lnTo>
                <a:lnTo>
                  <a:pt x="8052" y="12828"/>
                </a:lnTo>
                <a:cubicBezTo>
                  <a:pt x="8052" y="13751"/>
                  <a:pt x="8853" y="14482"/>
                  <a:pt x="9889" y="14482"/>
                </a:cubicBezTo>
                <a:lnTo>
                  <a:pt x="11551" y="14482"/>
                </a:lnTo>
                <a:cubicBezTo>
                  <a:pt x="12587" y="14482"/>
                  <a:pt x="13387" y="13751"/>
                  <a:pt x="13387" y="12828"/>
                </a:cubicBezTo>
                <a:lnTo>
                  <a:pt x="13387" y="7493"/>
                </a:lnTo>
                <a:lnTo>
                  <a:pt x="11551" y="7493"/>
                </a:lnTo>
                <a:lnTo>
                  <a:pt x="15059" y="3985"/>
                </a:lnTo>
                <a:lnTo>
                  <a:pt x="18732" y="7493"/>
                </a:lnTo>
                <a:lnTo>
                  <a:pt x="16895" y="7493"/>
                </a:lnTo>
                <a:lnTo>
                  <a:pt x="16895" y="12828"/>
                </a:lnTo>
                <a:cubicBezTo>
                  <a:pt x="16895" y="15596"/>
                  <a:pt x="14319" y="18155"/>
                  <a:pt x="11551" y="18155"/>
                </a:cubicBezTo>
                <a:lnTo>
                  <a:pt x="9889" y="18155"/>
                </a:lnTo>
                <a:cubicBezTo>
                  <a:pt x="7121" y="18155"/>
                  <a:pt x="4545" y="15596"/>
                  <a:pt x="4545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img-fotki.yandex.ru/get/6701/181450557.7c/0_acb64_83e438c0_orig.gif"/>
          <p:cNvPicPr/>
          <p:nvPr/>
        </p:nvPicPr>
        <p:blipFill>
          <a:blip r:embed="rId3"/>
          <a:stretch/>
        </p:blipFill>
        <p:spPr>
          <a:xfrm>
            <a:off x="3419640" y="2133720"/>
            <a:ext cx="2781000" cy="33336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. Shakespeare was born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ond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ratford-upon-Av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Edinbur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Oxford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. The names of Shakespeare's father and mother were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Abraham and Sara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illiam and An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John and Ma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George and Elisabe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812000" y="5373720"/>
            <a:ext cx="103356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4. Shakespeare marrie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ry Ar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usanna Hal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Anne Hathaw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ary Queen of Sco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96360" y="5157720"/>
            <a:ext cx="1293480" cy="14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5. Shakespeare was the father of how many children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3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0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шекспир">
            <a:hlinkClick r:id="rId7" action="ppaction://hlinksldjump"/>
          </p:cNvPr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6. In what year was the Globe Theater built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5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5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6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6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10:16Z</dcterms:created>
  <dc:creator>Медведева Е.С.</dc:creator>
  <dc:description/>
  <dc:language>en-US</dc:language>
  <cp:lastModifiedBy>Teacher</cp:lastModifiedBy>
  <dcterms:modified xsi:type="dcterms:W3CDTF">2023-08-09T08:56:38Z</dcterms:modified>
  <cp:revision>27</cp:revision>
  <dc:subject/>
  <dc:title>Слайд 1</dc:title>
</cp:coreProperties>
</file>