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media/image5.gif" ContentType="image/gif"/>
  <Override PartName="/ppt/media/image6.png" ContentType="image/png"/>
  <Override PartName="/ppt/media/image7.jpeg" ContentType="image/jpeg"/>
  <Override PartName="/ppt/media/applause.wav" ContentType="audio/x-wav"/>
  <Override PartName="/ppt/media/image8.gif" ContentType="image/gif"/>
  <Override PartName="/ppt/media/hammer.wav" ContentType="audio/x-wav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29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37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6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43EA4-3939-447A-8628-CD3F3A93BE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54A07-B9EA-4EE5-B3F1-0071EBF87D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71869-F83C-45B2-97C8-AF7AB4B302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8418-164B-4439-80BA-CE7C07429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FF4B5-686F-4400-98D8-5E2146D276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63504C-4876-4753-B893-055077BE0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91A4-74BB-4308-B4AA-233E1DE05A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ABCFB4-EC20-4222-B29C-1D9BF78A1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32FDA-C127-446F-A180-8D88D8ADF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7E562-135F-4AD5-9B65-A6E5624095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905C-7308-44E6-9E7E-D6E19A8018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C7AA5-4B24-4BD6-B1CA-C403EC858F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A90B06-872C-4D44-9160-6382FB428365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2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3.xml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2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" Target="slide4.xml"/><Relationship Id="rId3" Type="http://schemas.openxmlformats.org/officeDocument/2006/relationships/slide" Target="slide5.xml"/><Relationship Id="rId4" Type="http://schemas.openxmlformats.org/officeDocument/2006/relationships/slide" Target="slide6.xml"/><Relationship Id="rId5" Type="http://schemas.openxmlformats.org/officeDocument/2006/relationships/slide" Target="slide10.xml"/><Relationship Id="rId6" Type="http://schemas.openxmlformats.org/officeDocument/2006/relationships/slide" Target="slide9.xml"/><Relationship Id="rId7" Type="http://schemas.openxmlformats.org/officeDocument/2006/relationships/slide" Target="slide8.xml"/><Relationship Id="rId8" Type="http://schemas.openxmlformats.org/officeDocument/2006/relationships/slide" Target="slide7.xml"/><Relationship Id="rId9" Type="http://schemas.openxmlformats.org/officeDocument/2006/relationships/slide" Target="slide11.xml"/><Relationship Id="rId10" Type="http://schemas.openxmlformats.org/officeDocument/2006/relationships/slide" Target="slide12.xml"/><Relationship Id="rId11" Type="http://schemas.openxmlformats.org/officeDocument/2006/relationships/slide" Target="slide13.xml"/><Relationship Id="rId12" Type="http://schemas.openxmlformats.org/officeDocument/2006/relationships/slide" Target="slide17.xml"/><Relationship Id="rId13" Type="http://schemas.openxmlformats.org/officeDocument/2006/relationships/slide" Target="slide16.xml"/><Relationship Id="rId14" Type="http://schemas.openxmlformats.org/officeDocument/2006/relationships/slide" Target="slide15.xml"/><Relationship Id="rId15" Type="http://schemas.openxmlformats.org/officeDocument/2006/relationships/slide" Target="slide14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20.xml"/><Relationship Id="rId19" Type="http://schemas.openxmlformats.org/officeDocument/2006/relationships/slide" Target="slide24.xml"/><Relationship Id="rId20" Type="http://schemas.openxmlformats.org/officeDocument/2006/relationships/slide" Target="slide23.xml"/><Relationship Id="rId21" Type="http://schemas.openxmlformats.org/officeDocument/2006/relationships/slide" Target="slide22.xml"/><Relationship Id="rId22" Type="http://schemas.openxmlformats.org/officeDocument/2006/relationships/slide" Target="slide21.xml"/><Relationship Id="rId23" Type="http://schemas.openxmlformats.org/officeDocument/2006/relationships/slide" Target="slide25.xml"/><Relationship Id="rId24" Type="http://schemas.openxmlformats.org/officeDocument/2006/relationships/slide" Target="slide26.xml"/><Relationship Id="rId25" Type="http://schemas.openxmlformats.org/officeDocument/2006/relationships/slide" Target="slide27.xml"/><Relationship Id="rId26" Type="http://schemas.openxmlformats.org/officeDocument/2006/relationships/slide" Target="slide31.xml"/><Relationship Id="rId27" Type="http://schemas.openxmlformats.org/officeDocument/2006/relationships/slide" Target="slide30.xml"/><Relationship Id="rId28" Type="http://schemas.openxmlformats.org/officeDocument/2006/relationships/slide" Target="slide29.xml"/><Relationship Id="rId29" Type="http://schemas.openxmlformats.org/officeDocument/2006/relationships/slide" Target="slide28.xml"/><Relationship Id="rId30" Type="http://schemas.openxmlformats.org/officeDocument/2006/relationships/slide" Target="slide32.xml"/><Relationship Id="rId31" Type="http://schemas.openxmlformats.org/officeDocument/2006/relationships/slide" Target="slide33.xml"/><Relationship Id="rId32" Type="http://schemas.openxmlformats.org/officeDocument/2006/relationships/slide" Target="slide34.xml"/><Relationship Id="rId33" Type="http://schemas.openxmlformats.org/officeDocument/2006/relationships/slide" Target="slide38.xml"/><Relationship Id="rId34" Type="http://schemas.openxmlformats.org/officeDocument/2006/relationships/slide" Target="slide37.xml"/><Relationship Id="rId35" Type="http://schemas.openxmlformats.org/officeDocument/2006/relationships/slide" Target="slide36.xml"/><Relationship Id="rId36" Type="http://schemas.openxmlformats.org/officeDocument/2006/relationships/slide" Target="slide35.xml"/><Relationship Id="rId37" Type="http://schemas.openxmlformats.org/officeDocument/2006/relationships/slide" Target="slide39.xml"/><Relationship Id="rId38" Type="http://schemas.openxmlformats.org/officeDocument/2006/relationships/slide" Target="slide41.xml"/><Relationship Id="rId39" Type="http://schemas.openxmlformats.org/officeDocument/2006/relationships/slide" Target="slide40.xml"/><Relationship Id="rId40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image" Target="../media/image6.png"/><Relationship Id="rId3" Type="http://schemas.openxmlformats.org/officeDocument/2006/relationships/audio" Target="../media/applause.wav"/><Relationship Id="rId4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7.jpeg"/><Relationship Id="rId3" Type="http://schemas.openxmlformats.org/officeDocument/2006/relationships/image" Target="../media/image8.gif"/><Relationship Id="rId4" Type="http://schemas.openxmlformats.org/officeDocument/2006/relationships/audio" Target="../media/hammer.wav"/><Relationship Id="rId5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2.xml"/><Relationship Id="rId5" Type="http://schemas.openxmlformats.org/officeDocument/2006/relationships/slide" Target="slide43.xml"/><Relationship Id="rId6" Type="http://schemas.openxmlformats.org/officeDocument/2006/relationships/slide" Target="slide3.xml"/><Relationship Id="rId7" Type="http://schemas.openxmlformats.org/officeDocument/2006/relationships/image" Target="../media/image4.png"/><Relationship Id="rId8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3.xml"/><Relationship Id="rId3" Type="http://schemas.openxmlformats.org/officeDocument/2006/relationships/slide" Target="slide42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slide42.xml"/><Relationship Id="rId2" Type="http://schemas.openxmlformats.org/officeDocument/2006/relationships/slide" Target="slide43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43.xml"/><Relationship Id="rId6" Type="http://schemas.openxmlformats.org/officeDocument/2006/relationships/slide" Target="slide43.xml"/><Relationship Id="rId7" Type="http://schemas.openxmlformats.org/officeDocument/2006/relationships/slide" Target="slide3.xml"/><Relationship Id="rId8" Type="http://schemas.openxmlformats.org/officeDocument/2006/relationships/image" Target="../media/image4.png"/><Relationship Id="rId9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slide43.xml"/><Relationship Id="rId2" Type="http://schemas.openxmlformats.org/officeDocument/2006/relationships/slide" Target="slide42.xml"/><Relationship Id="rId3" Type="http://schemas.openxmlformats.org/officeDocument/2006/relationships/slide" Target="slide43.xml"/><Relationship Id="rId4" Type="http://schemas.openxmlformats.org/officeDocument/2006/relationships/slide" Target="slide43.xml"/><Relationship Id="rId5" Type="http://schemas.openxmlformats.org/officeDocument/2006/relationships/slide" Target="slide3.xml"/><Relationship Id="rId6" Type="http://schemas.openxmlformats.org/officeDocument/2006/relationships/image" Target="../media/image4.png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5" descr="http://www.abc.net.au/radionational/image/5537162-3x4-700x933.jpg"/>
          <p:cNvPicPr/>
          <p:nvPr/>
        </p:nvPicPr>
        <p:blipFill>
          <a:blip r:embed="rId1"/>
          <a:stretch/>
        </p:blipFill>
        <p:spPr>
          <a:xfrm>
            <a:off x="396720" y="0"/>
            <a:ext cx="1724040" cy="230508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4000" y="2133360"/>
            <a:ext cx="827532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Интерактивная викторина «Что вы знаете о Шекспире»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7. Shakespeare’s first name was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Joh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e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illia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Ham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8. Shakespeare’s mother was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Ann Hathawa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ary Ar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usanna Shakespear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Elisabeth Tudo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7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11280" y="404640"/>
            <a:ext cx="8075520" cy="1224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9. The English for “Укрощение строптивой” is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28280"/>
            <a:ext cx="8229600" cy="4497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aving of the C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Craving of the St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aming of the Shrew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Raving of the Queu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0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0. How many plays were written by Shakespeare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5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37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0" y="620640"/>
            <a:ext cx="9144000" cy="782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1. Romeo was from the family of … 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ontec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ont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apu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Capuletti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6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2. Juliet was from the family of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onteck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Montagu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Capul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Capuletti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3. The words “Brevity is the soul of wit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Haml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Lear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23640" y="764640"/>
            <a:ext cx="85690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4. The words “All the world’s a stage, and all the men and women merely players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421000"/>
            <a:ext cx="8229600" cy="3705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Haml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Lear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5" name="Picture 5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5. The words “But love is blind, and lovers cannot see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Romeo and Julie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As You Like It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Othello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The Merchant of Venice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68680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6. The words “A horse! a horse! My kingdom for a horse!” are from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“Richard III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“Henry V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“Julius Caesar”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“King Henry IV”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WordArt 6"/>
          <p:cNvSpPr txBox="1"/>
          <p:nvPr/>
        </p:nvSpPr>
        <p:spPr>
          <a:xfrm>
            <a:off x="2050920" y="5589720"/>
            <a:ext cx="5472360" cy="86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gradFill rotWithShape="0">
                  <a:gsLst>
                    <a:gs pos="0">
                      <a:srgbClr val="aaaaaa"/>
                    </a:gs>
                    <a:gs pos="100000">
                      <a:srgbClr val="ffffff"/>
                    </a:gs>
                  </a:gsLst>
                  <a:lin ang="5400000"/>
                </a:gradFill>
                <a:effectLst>
                  <a:outerShdw dist="40186" dir="4303641" blurRad="0" rotWithShape="0">
                    <a:srgbClr val="4d4d4d">
                      <a:alpha val="80000"/>
                    </a:srgbClr>
                  </a:outerShdw>
                </a:effectLst>
                <a:latin typeface="French Script MT"/>
              </a:rPr>
              <a:t>William Shakespeare</a:t>
            </a:r>
            <a:endParaRPr b="1" lang="en-US" sz="1800" spc="1" strike="noStrike">
              <a:ln w="0">
                <a:noFill/>
              </a:ln>
              <a:gradFill rotWithShape="0">
                <a:gsLst>
                  <a:gs pos="0">
                    <a:srgbClr val="aaaaaa"/>
                  </a:gs>
                  <a:gs pos="100000">
                    <a:srgbClr val="ffffff"/>
                  </a:gs>
                </a:gsLst>
                <a:lin ang="5400000"/>
              </a:gradFill>
              <a:effectLst>
                <a:outerShdw dist="40186" dir="4303641" blurRad="0" rotWithShape="0">
                  <a:srgbClr val="4d4d4d">
                    <a:alpha val="80000"/>
                  </a:srgbClr>
                </a:outerShdw>
              </a:effectLst>
              <a:latin typeface="French Script MT"/>
              <a:ea typeface="French Script MT"/>
            </a:endParaRPr>
          </a:p>
        </p:txBody>
      </p:sp>
      <p:pic>
        <p:nvPicPr>
          <p:cNvPr id="44" name="Picture 5" descr="http://www.abc.net.au/radionational/image/5537162-3x4-700x933.jpg"/>
          <p:cNvPicPr/>
          <p:nvPr/>
        </p:nvPicPr>
        <p:blipFill>
          <a:blip r:embed="rId1"/>
          <a:stretch/>
        </p:blipFill>
        <p:spPr>
          <a:xfrm>
            <a:off x="2193840" y="0"/>
            <a:ext cx="4322880" cy="576756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7. Shakespeare was born on th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7th of Aug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3rd of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1st of Sept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29th of Febru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4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8. Shakespeare died on th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7th of Augus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23rd of Apri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1st of Septemb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29th of Februar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7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395280" y="404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19. In his will Shakespeare left most of his fortun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o his so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o his wif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o his younger daught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o his elder daughter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6836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0. Shakespeare got married at the age of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ix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eighte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went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wenty one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3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9528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1. The publisher dedicated the first edition of Shakespeare’s sonnets 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060280"/>
            <a:ext cx="82296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H.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.W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.H.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W.S.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6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3964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2. Finish the line: “To be or not to be -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hat is a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that is the questi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that is a problem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it doesn’t matter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0" y="620280"/>
            <a:ext cx="9144000" cy="15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3. Finish the line: “What’s in a name? That which we call a rose by any other name would smell as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457200" y="2133720"/>
            <a:ext cx="8229600" cy="424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trang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we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rotten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425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4. The line “Tired with all this, for restful death I cry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lvl="1" marL="990720" indent="-53352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3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5" name="Picture 4" descr="шекспир">
            <a:hlinkClick r:id="rId4" action="ppaction://hlinksldjump"/>
          </p:cNvPr>
          <p:cNvPicPr/>
          <p:nvPr/>
        </p:nvPicPr>
        <p:blipFill>
          <a:blip r:embed="rId5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324000" y="4759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5. The line “Than hate me when thou wilt!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Sonnet 130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50560" y="620280"/>
            <a:ext cx="8893080" cy="863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6. The line “My mistress’ eyes are nothing like the sun” is from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Sonnet 6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onnet 90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Sonnet 1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Sonnet 130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1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Picture 355" descr="шекспир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763640" y="144360"/>
            <a:ext cx="5861160" cy="6524640"/>
          </a:xfrm>
          <a:prstGeom prst="rect">
            <a:avLst/>
          </a:prstGeom>
          <a:ln w="0">
            <a:noFill/>
          </a:ln>
        </p:spPr>
      </p:pic>
      <p:sp>
        <p:nvSpPr>
          <p:cNvPr id="46" name="AutoShape 309">
            <a:hlinkClick r:id="rId2" action="ppaction://hlinksldjump"/>
          </p:cNvPr>
          <p:cNvSpPr/>
          <p:nvPr/>
        </p:nvSpPr>
        <p:spPr>
          <a:xfrm>
            <a:off x="250920" y="260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AutoShape 310">
            <a:hlinkClick r:id="rId3" action="ppaction://hlinksldjump"/>
          </p:cNvPr>
          <p:cNvSpPr/>
          <p:nvPr/>
        </p:nvSpPr>
        <p:spPr>
          <a:xfrm>
            <a:off x="1509840" y="260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AutoShape 311">
            <a:hlinkClick r:id="rId4" action="ppaction://hlinksldjump"/>
          </p:cNvPr>
          <p:cNvSpPr/>
          <p:nvPr/>
        </p:nvSpPr>
        <p:spPr>
          <a:xfrm>
            <a:off x="273528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AutoShape 313">
            <a:hlinkClick r:id="rId5" action="ppaction://hlinksldjump"/>
          </p:cNvPr>
          <p:cNvSpPr/>
          <p:nvPr/>
        </p:nvSpPr>
        <p:spPr>
          <a:xfrm>
            <a:off x="784692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AutoShape 314">
            <a:hlinkClick r:id="rId6" action="ppaction://hlinksldjump"/>
          </p:cNvPr>
          <p:cNvSpPr/>
          <p:nvPr/>
        </p:nvSpPr>
        <p:spPr>
          <a:xfrm>
            <a:off x="655164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315">
            <a:hlinkClick r:id="rId7" action="ppaction://hlinksldjump"/>
          </p:cNvPr>
          <p:cNvSpPr/>
          <p:nvPr/>
        </p:nvSpPr>
        <p:spPr>
          <a:xfrm>
            <a:off x="525456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AutoShape 316">
            <a:hlinkClick r:id="rId8" action="ppaction://hlinksldjump"/>
          </p:cNvPr>
          <p:cNvSpPr/>
          <p:nvPr/>
        </p:nvSpPr>
        <p:spPr>
          <a:xfrm>
            <a:off x="4030560" y="260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AutoShape 317">
            <a:hlinkClick r:id="rId9" action="ppaction://hlinksldjump"/>
          </p:cNvPr>
          <p:cNvSpPr/>
          <p:nvPr/>
        </p:nvSpPr>
        <p:spPr>
          <a:xfrm>
            <a:off x="324000" y="126828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AutoShape 318">
            <a:hlinkClick r:id="rId10" action="ppaction://hlinksldjump"/>
          </p:cNvPr>
          <p:cNvSpPr/>
          <p:nvPr/>
        </p:nvSpPr>
        <p:spPr>
          <a:xfrm>
            <a:off x="158256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319">
            <a:hlinkClick r:id="rId11" action="ppaction://hlinksldjump"/>
          </p:cNvPr>
          <p:cNvSpPr/>
          <p:nvPr/>
        </p:nvSpPr>
        <p:spPr>
          <a:xfrm>
            <a:off x="280836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AutoShape 320">
            <a:hlinkClick r:id="rId12" action="ppaction://hlinksldjump"/>
          </p:cNvPr>
          <p:cNvSpPr/>
          <p:nvPr/>
        </p:nvSpPr>
        <p:spPr>
          <a:xfrm>
            <a:off x="792000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AutoShape 321">
            <a:hlinkClick r:id="rId13" action="ppaction://hlinksldjump"/>
          </p:cNvPr>
          <p:cNvSpPr/>
          <p:nvPr/>
        </p:nvSpPr>
        <p:spPr>
          <a:xfrm>
            <a:off x="662472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AutoShape 322">
            <a:hlinkClick r:id="rId14" action="ppaction://hlinksldjump"/>
          </p:cNvPr>
          <p:cNvSpPr/>
          <p:nvPr/>
        </p:nvSpPr>
        <p:spPr>
          <a:xfrm>
            <a:off x="532764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323">
            <a:hlinkClick r:id="rId15" action="ppaction://hlinksldjump"/>
          </p:cNvPr>
          <p:cNvSpPr/>
          <p:nvPr/>
        </p:nvSpPr>
        <p:spPr>
          <a:xfrm>
            <a:off x="4103640" y="126828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AutoShape 324">
            <a:hlinkClick r:id="rId16" action="ppaction://hlinksldjump"/>
          </p:cNvPr>
          <p:cNvSpPr/>
          <p:nvPr/>
        </p:nvSpPr>
        <p:spPr>
          <a:xfrm>
            <a:off x="324000" y="2421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AutoShape 325">
            <a:hlinkClick r:id="rId17" action="ppaction://hlinksldjump"/>
          </p:cNvPr>
          <p:cNvSpPr/>
          <p:nvPr/>
        </p:nvSpPr>
        <p:spPr>
          <a:xfrm>
            <a:off x="158256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AutoShape 326">
            <a:hlinkClick r:id="rId18" action="ppaction://hlinksldjump"/>
          </p:cNvPr>
          <p:cNvSpPr/>
          <p:nvPr/>
        </p:nvSpPr>
        <p:spPr>
          <a:xfrm>
            <a:off x="280836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327">
            <a:hlinkClick r:id="rId19" action="ppaction://hlinksldjump"/>
          </p:cNvPr>
          <p:cNvSpPr/>
          <p:nvPr/>
        </p:nvSpPr>
        <p:spPr>
          <a:xfrm>
            <a:off x="792000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AutoShape 328">
            <a:hlinkClick r:id="rId20" action="ppaction://hlinksldjump"/>
          </p:cNvPr>
          <p:cNvSpPr/>
          <p:nvPr/>
        </p:nvSpPr>
        <p:spPr>
          <a:xfrm>
            <a:off x="662472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AutoShape 329">
            <a:hlinkClick r:id="rId21" action="ppaction://hlinksldjump"/>
          </p:cNvPr>
          <p:cNvSpPr/>
          <p:nvPr/>
        </p:nvSpPr>
        <p:spPr>
          <a:xfrm>
            <a:off x="532764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AutoShape 330">
            <a:hlinkClick r:id="rId22" action="ppaction://hlinksldjump"/>
          </p:cNvPr>
          <p:cNvSpPr/>
          <p:nvPr/>
        </p:nvSpPr>
        <p:spPr>
          <a:xfrm>
            <a:off x="4103640" y="2421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1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AutoShape 338">
            <a:hlinkClick r:id="rId23" action="ppaction://hlinksldjump"/>
          </p:cNvPr>
          <p:cNvSpPr/>
          <p:nvPr/>
        </p:nvSpPr>
        <p:spPr>
          <a:xfrm>
            <a:off x="324000" y="3645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339">
            <a:hlinkClick r:id="rId24" action="ppaction://hlinksldjump"/>
          </p:cNvPr>
          <p:cNvSpPr/>
          <p:nvPr/>
        </p:nvSpPr>
        <p:spPr>
          <a:xfrm>
            <a:off x="158256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AutoShape 340">
            <a:hlinkClick r:id="rId25" action="ppaction://hlinksldjump"/>
          </p:cNvPr>
          <p:cNvSpPr/>
          <p:nvPr/>
        </p:nvSpPr>
        <p:spPr>
          <a:xfrm>
            <a:off x="280836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AutoShape 341">
            <a:hlinkClick r:id="rId26" action="ppaction://hlinksldjump"/>
          </p:cNvPr>
          <p:cNvSpPr/>
          <p:nvPr/>
        </p:nvSpPr>
        <p:spPr>
          <a:xfrm>
            <a:off x="792000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AutoShape 342">
            <a:hlinkClick r:id="rId27" action="ppaction://hlinksldjump"/>
          </p:cNvPr>
          <p:cNvSpPr/>
          <p:nvPr/>
        </p:nvSpPr>
        <p:spPr>
          <a:xfrm>
            <a:off x="662472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343">
            <a:hlinkClick r:id="rId28" action="ppaction://hlinksldjump"/>
          </p:cNvPr>
          <p:cNvSpPr/>
          <p:nvPr/>
        </p:nvSpPr>
        <p:spPr>
          <a:xfrm>
            <a:off x="532764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AutoShape 344">
            <a:hlinkClick r:id="rId29" action="ppaction://hlinksldjump"/>
          </p:cNvPr>
          <p:cNvSpPr/>
          <p:nvPr/>
        </p:nvSpPr>
        <p:spPr>
          <a:xfrm>
            <a:off x="4103640" y="3645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utoShape 345">
            <a:hlinkClick r:id="rId30" action="ppaction://hlinksldjump"/>
          </p:cNvPr>
          <p:cNvSpPr/>
          <p:nvPr/>
        </p:nvSpPr>
        <p:spPr>
          <a:xfrm>
            <a:off x="324000" y="4869000"/>
            <a:ext cx="971280" cy="79200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87" h="21600">
                <a:moveTo>
                  <a:pt x="0" y="0"/>
                </a:moveTo>
                <a:lnTo>
                  <a:pt x="26487" y="0"/>
                </a:lnTo>
                <a:lnTo>
                  <a:pt x="26487" y="21600"/>
                </a:lnTo>
                <a:lnTo>
                  <a:pt x="0" y="21600"/>
                </a:lnTo>
                <a:close/>
              </a:path>
              <a:path fill="lightenLess" w="26487" h="21600">
                <a:moveTo>
                  <a:pt x="0" y="0"/>
                </a:moveTo>
                <a:lnTo>
                  <a:pt x="26487" y="0"/>
                </a:lnTo>
                <a:lnTo>
                  <a:pt x="25087" y="1400"/>
                </a:lnTo>
                <a:lnTo>
                  <a:pt x="1400" y="1400"/>
                </a:lnTo>
                <a:close/>
              </a:path>
              <a:path fill="darken" w="26487" h="21600">
                <a:moveTo>
                  <a:pt x="26487" y="0"/>
                </a:moveTo>
                <a:lnTo>
                  <a:pt x="26487" y="21600"/>
                </a:lnTo>
                <a:lnTo>
                  <a:pt x="25087" y="20200"/>
                </a:lnTo>
                <a:lnTo>
                  <a:pt x="25087" y="1400"/>
                </a:lnTo>
                <a:close/>
              </a:path>
              <a:path fill="darkenLess" w="26487" h="21600">
                <a:moveTo>
                  <a:pt x="2648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7" y="20200"/>
                </a:lnTo>
                <a:close/>
              </a:path>
              <a:path fill="lighten" w="2648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29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utoShape 346">
            <a:hlinkClick r:id="rId31" action="ppaction://hlinksldjump"/>
          </p:cNvPr>
          <p:cNvSpPr/>
          <p:nvPr/>
        </p:nvSpPr>
        <p:spPr>
          <a:xfrm>
            <a:off x="158256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0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347">
            <a:hlinkClick r:id="rId32" action="ppaction://hlinksldjump"/>
          </p:cNvPr>
          <p:cNvSpPr/>
          <p:nvPr/>
        </p:nvSpPr>
        <p:spPr>
          <a:xfrm>
            <a:off x="284328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AutoShape 348">
            <a:hlinkClick r:id="rId33" action="ppaction://hlinksldjump"/>
          </p:cNvPr>
          <p:cNvSpPr/>
          <p:nvPr/>
        </p:nvSpPr>
        <p:spPr>
          <a:xfrm>
            <a:off x="792000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5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49">
            <a:hlinkClick r:id="rId34" action="ppaction://hlinksldjump"/>
          </p:cNvPr>
          <p:cNvSpPr/>
          <p:nvPr/>
        </p:nvSpPr>
        <p:spPr>
          <a:xfrm>
            <a:off x="662472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350">
            <a:hlinkClick r:id="rId35" action="ppaction://hlinksldjump"/>
          </p:cNvPr>
          <p:cNvSpPr/>
          <p:nvPr/>
        </p:nvSpPr>
        <p:spPr>
          <a:xfrm>
            <a:off x="532764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351">
            <a:hlinkClick r:id="rId36" action="ppaction://hlinksldjump"/>
          </p:cNvPr>
          <p:cNvSpPr/>
          <p:nvPr/>
        </p:nvSpPr>
        <p:spPr>
          <a:xfrm>
            <a:off x="4103640" y="4869000"/>
            <a:ext cx="971640" cy="79200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000"/>
              <a:gd name="textAreaBottom" fmla="*/ 740880 h 792000"/>
            </a:gdLst>
            <a:ahLst/>
            <a:rect l="textAreaLeft" t="textAreaTop" r="textAreaRight" b="textAreaBottom"/>
            <a:pathLst>
              <a:path w="26497" h="21600">
                <a:moveTo>
                  <a:pt x="0" y="0"/>
                </a:moveTo>
                <a:lnTo>
                  <a:pt x="26497" y="0"/>
                </a:lnTo>
                <a:lnTo>
                  <a:pt x="26497" y="21600"/>
                </a:lnTo>
                <a:lnTo>
                  <a:pt x="0" y="21600"/>
                </a:lnTo>
                <a:close/>
              </a:path>
              <a:path fill="lightenLess" w="26497" h="21600">
                <a:moveTo>
                  <a:pt x="0" y="0"/>
                </a:moveTo>
                <a:lnTo>
                  <a:pt x="26497" y="0"/>
                </a:lnTo>
                <a:lnTo>
                  <a:pt x="25097" y="1400"/>
                </a:lnTo>
                <a:lnTo>
                  <a:pt x="1400" y="1400"/>
                </a:lnTo>
                <a:close/>
              </a:path>
              <a:path fill="darken" w="26497" h="21600">
                <a:moveTo>
                  <a:pt x="26497" y="0"/>
                </a:moveTo>
                <a:lnTo>
                  <a:pt x="26497" y="21600"/>
                </a:lnTo>
                <a:lnTo>
                  <a:pt x="25097" y="20200"/>
                </a:lnTo>
                <a:lnTo>
                  <a:pt x="25097" y="1400"/>
                </a:lnTo>
                <a:close/>
              </a:path>
              <a:path fill="darkenLess" w="26497" h="21600">
                <a:moveTo>
                  <a:pt x="264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97" y="20200"/>
                </a:lnTo>
                <a:close/>
              </a:path>
              <a:path fill="lighten" w="264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AutoShape 352">
            <a:hlinkClick r:id="rId37" action="ppaction://hlinksldjump"/>
          </p:cNvPr>
          <p:cNvSpPr/>
          <p:nvPr/>
        </p:nvSpPr>
        <p:spPr>
          <a:xfrm>
            <a:off x="2916360" y="5805360"/>
            <a:ext cx="971280" cy="792360"/>
          </a:xfrm>
          <a:custGeom>
            <a:avLst/>
            <a:gdLst>
              <a:gd name="textAreaLeft" fmla="*/ 51120 w 971280"/>
              <a:gd name="textAreaRight" fmla="*/ 920160 w 97128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75" h="21600">
                <a:moveTo>
                  <a:pt x="0" y="0"/>
                </a:moveTo>
                <a:lnTo>
                  <a:pt x="26475" y="0"/>
                </a:lnTo>
                <a:lnTo>
                  <a:pt x="26475" y="21600"/>
                </a:lnTo>
                <a:lnTo>
                  <a:pt x="0" y="21600"/>
                </a:lnTo>
                <a:close/>
              </a:path>
              <a:path fill="lightenLess" w="26475" h="21600">
                <a:moveTo>
                  <a:pt x="0" y="0"/>
                </a:moveTo>
                <a:lnTo>
                  <a:pt x="26475" y="0"/>
                </a:lnTo>
                <a:lnTo>
                  <a:pt x="25075" y="1400"/>
                </a:lnTo>
                <a:lnTo>
                  <a:pt x="1400" y="1400"/>
                </a:lnTo>
                <a:close/>
              </a:path>
              <a:path fill="darken" w="26475" h="21600">
                <a:moveTo>
                  <a:pt x="26475" y="0"/>
                </a:moveTo>
                <a:lnTo>
                  <a:pt x="26475" y="21600"/>
                </a:lnTo>
                <a:lnTo>
                  <a:pt x="25075" y="20200"/>
                </a:lnTo>
                <a:lnTo>
                  <a:pt x="25075" y="1400"/>
                </a:lnTo>
                <a:close/>
              </a:path>
              <a:path fill="darkenLess" w="26475" h="21600">
                <a:moveTo>
                  <a:pt x="2647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75" y="20200"/>
                </a:lnTo>
                <a:close/>
              </a:path>
              <a:path fill="lighten" w="2647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6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AutoShape 353">
            <a:hlinkClick r:id="rId38" action="ppaction://hlinksldjump"/>
          </p:cNvPr>
          <p:cNvSpPr/>
          <p:nvPr/>
        </p:nvSpPr>
        <p:spPr>
          <a:xfrm>
            <a:off x="5400720" y="580536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8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354">
            <a:hlinkClick r:id="rId39" action="ppaction://hlinksldjump"/>
          </p:cNvPr>
          <p:cNvSpPr/>
          <p:nvPr/>
        </p:nvSpPr>
        <p:spPr>
          <a:xfrm>
            <a:off x="4176720" y="5805360"/>
            <a:ext cx="971640" cy="792360"/>
          </a:xfrm>
          <a:custGeom>
            <a:avLst/>
            <a:gdLst>
              <a:gd name="textAreaLeft" fmla="*/ 51120 w 971640"/>
              <a:gd name="textAreaRight" fmla="*/ 920520 w 971640"/>
              <a:gd name="textAreaTop" fmla="*/ 51120 h 792360"/>
              <a:gd name="textAreaBottom" fmla="*/ 741240 h 792360"/>
            </a:gdLst>
            <a:ahLst/>
            <a:rect l="textAreaLeft" t="textAreaTop" r="textAreaRight" b="textAreaBottom"/>
            <a:pathLst>
              <a:path w="26485" h="21600">
                <a:moveTo>
                  <a:pt x="0" y="0"/>
                </a:moveTo>
                <a:lnTo>
                  <a:pt x="26485" y="0"/>
                </a:lnTo>
                <a:lnTo>
                  <a:pt x="26485" y="21600"/>
                </a:lnTo>
                <a:lnTo>
                  <a:pt x="0" y="21600"/>
                </a:lnTo>
                <a:close/>
              </a:path>
              <a:path fill="lightenLess" w="26485" h="21600">
                <a:moveTo>
                  <a:pt x="0" y="0"/>
                </a:moveTo>
                <a:lnTo>
                  <a:pt x="26485" y="0"/>
                </a:lnTo>
                <a:lnTo>
                  <a:pt x="25085" y="1400"/>
                </a:lnTo>
                <a:lnTo>
                  <a:pt x="1400" y="1400"/>
                </a:lnTo>
                <a:close/>
              </a:path>
              <a:path fill="darken" w="26485" h="21600">
                <a:moveTo>
                  <a:pt x="26485" y="0"/>
                </a:moveTo>
                <a:lnTo>
                  <a:pt x="26485" y="21600"/>
                </a:lnTo>
                <a:lnTo>
                  <a:pt x="25085" y="20200"/>
                </a:lnTo>
                <a:lnTo>
                  <a:pt x="25085" y="1400"/>
                </a:lnTo>
                <a:close/>
              </a:path>
              <a:path fill="darkenLess" w="26485" h="21600">
                <a:moveTo>
                  <a:pt x="2648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5085" y="20200"/>
                </a:lnTo>
                <a:close/>
              </a:path>
              <a:path fill="lighten" w="2648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660033"/>
                </a:solidFill>
                <a:latin typeface="Arial"/>
              </a:rPr>
              <a:t>37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7. Shakespeare wrote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37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54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82 sonnet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98 sonnets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title"/>
          </p:nvPr>
        </p:nvSpPr>
        <p:spPr>
          <a:xfrm>
            <a:off x="456840" y="691920"/>
            <a:ext cx="8147160" cy="865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8. Most of Shakespeare’s sonnets are addressed to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Dark L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air Lad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rien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Himself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7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395280" y="691920"/>
            <a:ext cx="8291520" cy="725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9. Sometimes Shakespeare’s plays are attributed t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Geoffrey Chauc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Francis Bac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Philip Sidney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Thomas More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0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0. Shakespeare’s tragedy is entitled “Hamlet, Prince of …”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Wale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Ver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Denmark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Ireland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3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57200" y="620640"/>
            <a:ext cx="829152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1. The tragedy “Romeo and Juliet” is set in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Veni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Ver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Florence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London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6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3539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2. The name of Juliet’s cousin wa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yb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ar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Benv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rcutio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684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3. Juliet’s parents wanted her to marry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Tybald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Paris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Benvoli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ercutio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2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4. How old was Juliet?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5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6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5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5. At the end of the play Juliet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poisoned he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lled herself with a da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ed her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t married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8" name="Picture 4" descr="шекспир"/>
          <p:cNvPicPr/>
          <p:nvPr/>
        </p:nvPicPr>
        <p:blipFill>
          <a:blip r:embed="rId2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0" y="27432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6. At the end of the play Romeo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poisoned him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killed himself with a dagger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hanged himself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got married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1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620280"/>
            <a:ext cx="8229600" cy="57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Arial"/>
              </a:rPr>
              <a:t>1</a:t>
            </a: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. Shakespeare was born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56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6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55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592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660033"/>
                </a:solidFill>
                <a:latin typeface="Century Gothic"/>
              </a:rPr>
              <a:t>37</a:t>
            </a: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. Shakespeare died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5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16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2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1642</a:t>
            </a:r>
            <a:r>
              <a:rPr b="0" lang="ru-RU" sz="5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468000" y="620640"/>
            <a:ext cx="8218440" cy="797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8. The name of Romeo’s beloved was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pheli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Desdemona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Juliet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lnSpc>
                <a:spcPct val="90000"/>
              </a:lnSpc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000000"/>
                </a:solidFill>
                <a:latin typeface="Arial"/>
              </a:rPr>
              <a:t>Othello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lnSpc>
                <a:spcPct val="90000"/>
              </a:lnSpc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7" name="Picture 4" descr="шекспир"/>
          <p:cNvPicPr/>
          <p:nvPr/>
        </p:nvPicPr>
        <p:blipFill>
          <a:blip r:embed="rId1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WordArt 14"/>
          <p:cNvSpPr txBox="1"/>
          <p:nvPr/>
        </p:nvSpPr>
        <p:spPr>
          <a:xfrm>
            <a:off x="1908000" y="549360"/>
            <a:ext cx="48960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Impact"/>
              </a:rPr>
              <a:t>Well Done!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Impact"/>
              <a:ea typeface="Impact"/>
            </a:endParaRPr>
          </a:p>
        </p:txBody>
      </p:sp>
      <p:sp>
        <p:nvSpPr>
          <p:cNvPr id="199" name="AutoShape 16">
            <a:hlinkClick r:id="" action="ppaction://hlinkshowjump?jump=previousslide"/>
          </p:cNvPr>
          <p:cNvSpPr/>
          <p:nvPr/>
        </p:nvSpPr>
        <p:spPr>
          <a:xfrm>
            <a:off x="7164360" y="5084640"/>
            <a:ext cx="1511280" cy="1413000"/>
          </a:xfrm>
          <a:custGeom>
            <a:avLst/>
            <a:gdLst>
              <a:gd name="textAreaLeft" fmla="*/ 91440 w 1511280"/>
              <a:gd name="textAreaRight" fmla="*/ 1419840 w 1511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3102" h="21600">
                <a:moveTo>
                  <a:pt x="0" y="0"/>
                </a:moveTo>
                <a:lnTo>
                  <a:pt x="23102" y="0"/>
                </a:lnTo>
                <a:lnTo>
                  <a:pt x="23102" y="21600"/>
                </a:lnTo>
                <a:lnTo>
                  <a:pt x="0" y="21600"/>
                </a:lnTo>
                <a:close/>
              </a:path>
              <a:path fill="lightenLess" w="23102" h="21600">
                <a:moveTo>
                  <a:pt x="0" y="0"/>
                </a:moveTo>
                <a:lnTo>
                  <a:pt x="23102" y="0"/>
                </a:lnTo>
                <a:lnTo>
                  <a:pt x="21702" y="1400"/>
                </a:lnTo>
                <a:lnTo>
                  <a:pt x="1400" y="1400"/>
                </a:lnTo>
                <a:close/>
              </a:path>
              <a:path fill="darken" w="23102" h="21600">
                <a:moveTo>
                  <a:pt x="23102" y="0"/>
                </a:moveTo>
                <a:lnTo>
                  <a:pt x="23102" y="21600"/>
                </a:lnTo>
                <a:lnTo>
                  <a:pt x="21702" y="20200"/>
                </a:lnTo>
                <a:lnTo>
                  <a:pt x="21702" y="1400"/>
                </a:lnTo>
                <a:close/>
              </a:path>
              <a:path fill="darkenLess" w="23102" h="21600">
                <a:moveTo>
                  <a:pt x="23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2" y="20200"/>
                </a:lnTo>
                <a:close/>
              </a:path>
              <a:path fill="lighten" w="23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2" h="21600">
                <a:moveTo>
                  <a:pt x="4545" y="7493"/>
                </a:moveTo>
                <a:lnTo>
                  <a:pt x="8052" y="7493"/>
                </a:lnTo>
                <a:lnTo>
                  <a:pt x="8052" y="12828"/>
                </a:lnTo>
                <a:cubicBezTo>
                  <a:pt x="8052" y="13751"/>
                  <a:pt x="8853" y="14482"/>
                  <a:pt x="9889" y="14482"/>
                </a:cubicBezTo>
                <a:lnTo>
                  <a:pt x="11551" y="14482"/>
                </a:lnTo>
                <a:cubicBezTo>
                  <a:pt x="12587" y="14482"/>
                  <a:pt x="13387" y="13751"/>
                  <a:pt x="13387" y="12828"/>
                </a:cubicBezTo>
                <a:lnTo>
                  <a:pt x="13387" y="7493"/>
                </a:lnTo>
                <a:lnTo>
                  <a:pt x="11551" y="7493"/>
                </a:lnTo>
                <a:lnTo>
                  <a:pt x="15059" y="3985"/>
                </a:lnTo>
                <a:lnTo>
                  <a:pt x="18732" y="7493"/>
                </a:lnTo>
                <a:lnTo>
                  <a:pt x="16895" y="7493"/>
                </a:lnTo>
                <a:lnTo>
                  <a:pt x="16895" y="12828"/>
                </a:lnTo>
                <a:cubicBezTo>
                  <a:pt x="16895" y="15596"/>
                  <a:pt x="14319" y="18155"/>
                  <a:pt x="11551" y="18155"/>
                </a:cubicBezTo>
                <a:lnTo>
                  <a:pt x="9889" y="18155"/>
                </a:lnTo>
                <a:cubicBezTo>
                  <a:pt x="7121" y="18155"/>
                  <a:pt x="4545" y="15596"/>
                  <a:pt x="4545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Picture 7" descr="http://img-fotki.yandex.ru/get/9109/181450557.7c/0_acb63_1348ec07_orig.gif"/>
          <p:cNvPicPr/>
          <p:nvPr/>
        </p:nvPicPr>
        <p:blipFill>
          <a:blip r:embed="rId1"/>
          <a:stretch/>
        </p:blipFill>
        <p:spPr>
          <a:xfrm>
            <a:off x="2843280" y="1844640"/>
            <a:ext cx="3889440" cy="40258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57200" y="274320"/>
            <a:ext cx="8229600" cy="207468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3" name="applause.wav"/>
      </p:stSnd>
    </p:sndAc>
  </p:transition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WordArt 3"/>
          <p:cNvSpPr txBox="1"/>
          <p:nvPr/>
        </p:nvSpPr>
        <p:spPr>
          <a:xfrm>
            <a:off x="2050920" y="620640"/>
            <a:ext cx="4896000" cy="1522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455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1"/>
                  <a:srcRect/>
                  <a:tile tx="0" ty="0" sx="100000" sy="100000" algn="ctr"/>
                </a:blipFill>
                <a:latin typeface="Arial"/>
              </a:rPr>
              <a:t>Sorry...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2"/>
                <a:srcRect/>
                <a:tile tx="0" ty="0" sx="100000" sy="100000" algn="ctr"/>
              </a:blipFill>
              <a:latin typeface="Arial"/>
              <a:ea typeface="Arial"/>
            </a:endParaRPr>
          </a:p>
        </p:txBody>
      </p:sp>
      <p:sp>
        <p:nvSpPr>
          <p:cNvPr id="203" name="AutoShape 7">
            <a:hlinkClick r:id="" action="ppaction://hlinkshowjump?jump=previousslide"/>
          </p:cNvPr>
          <p:cNvSpPr/>
          <p:nvPr/>
        </p:nvSpPr>
        <p:spPr>
          <a:xfrm>
            <a:off x="7164360" y="5084640"/>
            <a:ext cx="1511280" cy="1413000"/>
          </a:xfrm>
          <a:custGeom>
            <a:avLst/>
            <a:gdLst>
              <a:gd name="textAreaLeft" fmla="*/ 91440 w 1511280"/>
              <a:gd name="textAreaRight" fmla="*/ 1419840 w 1511280"/>
              <a:gd name="textAreaTop" fmla="*/ 91440 h 1413000"/>
              <a:gd name="textAreaBottom" fmla="*/ 1321560 h 1413000"/>
            </a:gdLst>
            <a:ahLst/>
            <a:rect l="textAreaLeft" t="textAreaTop" r="textAreaRight" b="textAreaBottom"/>
            <a:pathLst>
              <a:path w="23102" h="21600">
                <a:moveTo>
                  <a:pt x="0" y="0"/>
                </a:moveTo>
                <a:lnTo>
                  <a:pt x="23102" y="0"/>
                </a:lnTo>
                <a:lnTo>
                  <a:pt x="23102" y="21600"/>
                </a:lnTo>
                <a:lnTo>
                  <a:pt x="0" y="21600"/>
                </a:lnTo>
                <a:close/>
              </a:path>
              <a:path fill="lightenLess" w="23102" h="21600">
                <a:moveTo>
                  <a:pt x="0" y="0"/>
                </a:moveTo>
                <a:lnTo>
                  <a:pt x="23102" y="0"/>
                </a:lnTo>
                <a:lnTo>
                  <a:pt x="21702" y="1400"/>
                </a:lnTo>
                <a:lnTo>
                  <a:pt x="1400" y="1400"/>
                </a:lnTo>
                <a:close/>
              </a:path>
              <a:path fill="darken" w="23102" h="21600">
                <a:moveTo>
                  <a:pt x="23102" y="0"/>
                </a:moveTo>
                <a:lnTo>
                  <a:pt x="23102" y="21600"/>
                </a:lnTo>
                <a:lnTo>
                  <a:pt x="21702" y="20200"/>
                </a:lnTo>
                <a:lnTo>
                  <a:pt x="21702" y="1400"/>
                </a:lnTo>
                <a:close/>
              </a:path>
              <a:path fill="darkenLess" w="23102" h="21600">
                <a:moveTo>
                  <a:pt x="2310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702" y="20200"/>
                </a:lnTo>
                <a:close/>
              </a:path>
              <a:path fill="lighten" w="2310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102" h="21600">
                <a:moveTo>
                  <a:pt x="4545" y="7493"/>
                </a:moveTo>
                <a:lnTo>
                  <a:pt x="8052" y="7493"/>
                </a:lnTo>
                <a:lnTo>
                  <a:pt x="8052" y="12828"/>
                </a:lnTo>
                <a:cubicBezTo>
                  <a:pt x="8052" y="13751"/>
                  <a:pt x="8853" y="14482"/>
                  <a:pt x="9889" y="14482"/>
                </a:cubicBezTo>
                <a:lnTo>
                  <a:pt x="11551" y="14482"/>
                </a:lnTo>
                <a:cubicBezTo>
                  <a:pt x="12587" y="14482"/>
                  <a:pt x="13387" y="13751"/>
                  <a:pt x="13387" y="12828"/>
                </a:cubicBezTo>
                <a:lnTo>
                  <a:pt x="13387" y="7493"/>
                </a:lnTo>
                <a:lnTo>
                  <a:pt x="11551" y="7493"/>
                </a:lnTo>
                <a:lnTo>
                  <a:pt x="15059" y="3985"/>
                </a:lnTo>
                <a:lnTo>
                  <a:pt x="18732" y="7493"/>
                </a:lnTo>
                <a:lnTo>
                  <a:pt x="16895" y="7493"/>
                </a:lnTo>
                <a:lnTo>
                  <a:pt x="16895" y="12828"/>
                </a:lnTo>
                <a:cubicBezTo>
                  <a:pt x="16895" y="15596"/>
                  <a:pt x="14319" y="18155"/>
                  <a:pt x="11551" y="18155"/>
                </a:cubicBezTo>
                <a:lnTo>
                  <a:pt x="9889" y="18155"/>
                </a:lnTo>
                <a:cubicBezTo>
                  <a:pt x="7121" y="18155"/>
                  <a:pt x="4545" y="15596"/>
                  <a:pt x="4545" y="12828"/>
                </a:cubicBez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4" name="Picture 6" descr="http://img-fotki.yandex.ru/get/6701/181450557.7c/0_acb64_83e438c0_orig.gif"/>
          <p:cNvPicPr/>
          <p:nvPr/>
        </p:nvPicPr>
        <p:blipFill>
          <a:blip r:embed="rId3"/>
          <a:stretch/>
        </p:blipFill>
        <p:spPr>
          <a:xfrm>
            <a:off x="3419640" y="2133720"/>
            <a:ext cx="2781000" cy="3333600"/>
          </a:xfrm>
          <a:prstGeom prst="rect">
            <a:avLst/>
          </a:prstGeom>
          <a:ln w="0">
            <a:noFill/>
          </a:ln>
        </p:spPr>
      </p:pic>
    </p:spTree>
  </p:cSld>
  <p:transition>
    <p:fade/>
    <p:sndAc>
      <p:stSnd>
        <p:snd r:embed="rId4" name="hammer.wav"/>
      </p:stSnd>
    </p:sndAc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2. Shakespeare was born in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Lond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tratford-upon-Avo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Edinburgh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Oxford</a:t>
            </a:r>
            <a:r>
              <a:rPr b="0" lang="ru-RU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4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3. The names of Shakespeare's father and mother were: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Abraham and Sara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William and Anne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John and Mar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George and Elisabeth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2" name="Picture 5" descr="шекспир">
            <a:hlinkClick r:id="rId6" action="ppaction://hlinksldjump"/>
          </p:cNvPr>
          <p:cNvPicPr/>
          <p:nvPr/>
        </p:nvPicPr>
        <p:blipFill>
          <a:blip r:embed="rId7">
            <a:lum contrast="18000"/>
          </a:blip>
          <a:stretch/>
        </p:blipFill>
        <p:spPr>
          <a:xfrm>
            <a:off x="7812000" y="5373720"/>
            <a:ext cx="1033560" cy="115092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4. Shakespeare married …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Mary Arden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Susanna Hall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Anne Hathaway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Mary Queen of Scots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96360" y="5157720"/>
            <a:ext cx="1293480" cy="144000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91520" cy="164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5. Shakespeare was the father of how many children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16280"/>
            <a:ext cx="8229600" cy="42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3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2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0</a:t>
            </a: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5" action="ppaction://hlinksldjump"/>
              </a:rPr>
              <a:t>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6" action="ppaction://hlinksldjump"/>
              </a:rPr>
              <a:t>1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шекспир">
            <a:hlinkClick r:id="rId7" action="ppaction://hlinksldjump"/>
          </p:cNvPr>
          <p:cNvPicPr/>
          <p:nvPr/>
        </p:nvPicPr>
        <p:blipFill>
          <a:blip r:embed="rId8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274320"/>
            <a:ext cx="8218440" cy="14986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0033"/>
                </a:solidFill>
                <a:latin typeface="Century Gothic"/>
              </a:rPr>
              <a:t>6. In what year was the Globe Theater built? 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1" action="ppaction://hlinksldjump"/>
              </a:rPr>
              <a:t>1594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2" action="ppaction://hlinksldjump"/>
              </a:rPr>
              <a:t>1599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3" action="ppaction://hlinksldjump"/>
              </a:rPr>
              <a:t>1608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-609480">
              <a:spcBef>
                <a:spcPts val="1349"/>
              </a:spcBef>
              <a:buClr>
                <a:srgbClr val="000000"/>
              </a:buClr>
              <a:buFont typeface="Arial"/>
              <a:buAutoNum type="alphaL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 u="sng">
                <a:solidFill>
                  <a:srgbClr val="800000"/>
                </a:solidFill>
                <a:uFillTx/>
                <a:latin typeface="Arial"/>
                <a:hlinkClick r:id="rId4" action="ppaction://hlinksldjump"/>
              </a:rPr>
              <a:t>1613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marL="609480" indent="0">
              <a:spcBef>
                <a:spcPts val="1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1" name="Picture 4" descr="шекспир">
            <a:hlinkClick r:id="rId5" action="ppaction://hlinksldjump"/>
          </p:cNvPr>
          <p:cNvPicPr/>
          <p:nvPr/>
        </p:nvPicPr>
        <p:blipFill>
          <a:blip r:embed="rId6">
            <a:lum contrast="18000"/>
          </a:blip>
          <a:stretch/>
        </p:blipFill>
        <p:spPr>
          <a:xfrm>
            <a:off x="7507440" y="4869000"/>
            <a:ext cx="1293840" cy="1439640"/>
          </a:xfrm>
          <a:prstGeom prst="rect">
            <a:avLst/>
          </a:prstGeom>
          <a:ln w="0">
            <a:noFill/>
          </a:ln>
        </p:spPr>
      </p:pic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8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3-02T17:10:16Z</dcterms:created>
  <dc:creator>Медведева Е.С.</dc:creator>
  <dc:description/>
  <dc:language>en-US</dc:language>
  <cp:lastModifiedBy>Teacher</cp:lastModifiedBy>
  <dcterms:modified xsi:type="dcterms:W3CDTF">2023-08-09T08:56:38Z</dcterms:modified>
  <cp:revision>27</cp:revision>
  <dc:subject/>
  <dc:title>Слайд 1</dc:title>
</cp:coreProperties>
</file>