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312-2C0F-4B76-9E46-F9629100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02F-95A5-4701-B280-4D6AA83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1B7-D16D-48DB-9F54-626BC82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19D-0660-49A4-8A91-A6325DB6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2CE-2AEA-4902-B126-23D7A075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06C-4B13-40E9-B8F9-2E520F4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707D-BDA8-4DB2-920F-592C5F9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C1EA-0FF8-45A9-91AF-62C136F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D4B5-4FA9-45A4-9756-786DE19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1A4-4F0F-4DE4-B5A8-25148725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63BA-B759-420F-8EFA-68FFED47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2AA-51C8-43C7-BA39-590451C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E46-22E0-476F-B36F-5CB3087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2A3-2725-4F04-B4CA-57D3DE2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5711-B5F3-4A8F-93E4-A09736B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4CFD-9F51-4B4F-9E40-1C7BA396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AC5-9884-4B6B-830E-979CC6A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5B23-5A7E-4DB3-BF14-97208744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C954-71B5-4762-875C-BA8A1DD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E7EA-591B-4DC1-9FE2-CC17F384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DDCD-864E-458A-BB2A-1F0A495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7659-A2DC-408E-999C-03D0240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D57-5C92-44CB-9FBB-CD43001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B25C-9A2E-482A-A1FB-248EE619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D025-4EE2-4556-8D78-965349F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9D1C-6ED6-4B78-BF4C-68BAAFC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4744-DE9D-4BDE-ADC2-380E1C1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C043-ED27-4ECD-991B-297998E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ECC5-4268-44EF-8D9F-8A230318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F86A-0B2D-4FC9-9857-3BCF9BB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D5F-D541-4738-86A5-249E2A5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EB4-3965-4125-8373-FD8B35C4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F3A-E537-46DD-9DC8-0B63B703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0FA-CA4A-45DF-B7C8-66A9254D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0A7-E370-4D71-98CF-9902314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435-23A4-428D-B158-26A066E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08A-A60E-4F3A-9127-F5081400B868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754-01FD-4984-9D94-718CC73698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0C2F-E290-4660-BAE4-F051D43E76A4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813600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ЕЗЕНТАЦИЯ ПО ТЕМЕ: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«МАГНИТОГОРСК-ГОРОД МЕТАЛЛУРГОВ»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( К 85-ЛЕТИЮ ОАО ММК)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ДГОТОВИЛА-ВОСПИТАТЕЛЬ МДОУ «ЦРР Д.С.№ 132»,</a:t>
            </a: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Р.№7 «ДРУЖНЫЕ ПУТЕШЕСТВЕННИКИ»-РОМАНЧЕНКО Е.Х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.МАГНИТОГОРСК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 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29" name="Picture 10" descr="http://vmagnitogorske.ru/sites/vmagnitogorske.ru/files/styles/dk_large/public/349997226.jpg?itok=QdFPMy-6"/>
          <p:cNvPicPr/>
          <p:nvPr/>
        </p:nvPicPr>
        <p:blipFill>
          <a:blip r:embed="rId1"/>
          <a:stretch/>
        </p:blipFill>
        <p:spPr>
          <a:xfrm>
            <a:off x="539640" y="404640"/>
            <a:ext cx="4491000" cy="300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Картинки по запросу фото магнитогорский металлургический комбинат"/>
          <p:cNvPicPr/>
          <p:nvPr/>
        </p:nvPicPr>
        <p:blipFill>
          <a:blip r:embed="rId2"/>
          <a:stretch/>
        </p:blipFill>
        <p:spPr>
          <a:xfrm>
            <a:off x="6300720" y="372960"/>
            <a:ext cx="20163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07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пособствовать формированию целостной картины мира у детей старшего дошкольного возраста с нарушением зрения на основе ознакомления с трудом взрослых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: расширять представления детей о труде своих родителей(на основе беседы о трудовой деятельности металлургов, работников ОАО ММК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активизировать в речи детей понятия: труд, профессия, металлург, доменщик(горновой),сталевар, мастер-крановщик (машинист мостового крана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способствовать развитию  познавательно-творческих способностей детей в ходе совместной  занимательной познавательно-творческой и игровой деятельности; 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воспитывать уважительное отношение к труду взрослых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2" name="Picture 8" descr="P1040351"/>
          <p:cNvPicPr/>
          <p:nvPr/>
        </p:nvPicPr>
        <p:blipFill>
          <a:blip r:embed="rId1"/>
          <a:stretch/>
        </p:blipFill>
        <p:spPr>
          <a:xfrm>
            <a:off x="2552760" y="4570560"/>
            <a:ext cx="3476520" cy="1957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P1300294.JPG"/>
          <p:cNvPicPr/>
          <p:nvPr/>
        </p:nvPicPr>
        <p:blipFill>
          <a:blip r:embed="rId2"/>
          <a:stretch/>
        </p:blipFill>
        <p:spPr>
          <a:xfrm>
            <a:off x="6568920" y="495000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ртинки по запросу картинки дидактических материалов по теме профессии"/>
          <p:cNvPicPr/>
          <p:nvPr/>
        </p:nvPicPr>
        <p:blipFill>
          <a:blip r:embed="rId3"/>
          <a:stretch/>
        </p:blipFill>
        <p:spPr>
          <a:xfrm>
            <a:off x="7236000" y="404640"/>
            <a:ext cx="1542960" cy="11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и по запросу картинки дидактических материалов по теме профессии"/>
          <p:cNvPicPr/>
          <p:nvPr/>
        </p:nvPicPr>
        <p:blipFill>
          <a:blip r:embed="rId4"/>
          <a:stretch/>
        </p:blipFill>
        <p:spPr>
          <a:xfrm>
            <a:off x="7418520" y="1851120"/>
            <a:ext cx="1114200" cy="15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и по запросу картинки пособия кем быть"/>
          <p:cNvPicPr/>
          <p:nvPr/>
        </p:nvPicPr>
        <p:blipFill>
          <a:blip r:embed="rId5"/>
          <a:stretch/>
        </p:blipFill>
        <p:spPr>
          <a:xfrm>
            <a:off x="7091280" y="3652920"/>
            <a:ext cx="1463760" cy="1054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P1300263.JPG"/>
          <p:cNvPicPr/>
          <p:nvPr/>
        </p:nvPicPr>
        <p:blipFill>
          <a:blip r:embed="rId6"/>
          <a:stretch/>
        </p:blipFill>
        <p:spPr>
          <a:xfrm>
            <a:off x="576360" y="4478400"/>
            <a:ext cx="13507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42480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г. –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юбилейный день рождения  ОАО ММК.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ому Металлургическому Комбинату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полнилось 85 лет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!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 этот день-1 февраля 1932 года на первой доменной печи Магнитки был получен первый чугун.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ы гордимся трудом наших родителей-металлургов, работающих на ОАО ММК!</a:t>
            </a:r>
            <a:br>
              <a:rPr sz="24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9" name="Picture 4" descr="http://vmagnitogorske.ru/sites/vmagnitogorske.ru/files/styles/dk_large/public/img_5142.jpg?itok=mg9weZ3h"/>
          <p:cNvPicPr/>
          <p:nvPr/>
        </p:nvPicPr>
        <p:blipFill>
          <a:blip r:embed="rId1"/>
          <a:stretch/>
        </p:blipFill>
        <p:spPr>
          <a:xfrm>
            <a:off x="4859280" y="36576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gmetall.ru/photo_b/121085.jpg"/>
          <p:cNvPicPr/>
          <p:nvPr/>
        </p:nvPicPr>
        <p:blipFill>
          <a:blip r:embed="rId2"/>
          <a:stretch/>
        </p:blipFill>
        <p:spPr>
          <a:xfrm>
            <a:off x="4859280" y="47628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333360"/>
            <a:ext cx="3781440" cy="61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то же такие Металлурги?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аллурги-это люди, которые принимают участие в добыче и производстве металла (добывают и перерабатывают металлы):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елают инженерные и химико-технологические расчеты; разрабатывают процессы производства; плавят чугун, варят сталь, из которой потом делают листы металла, который  затем используется для производства разных рабочих механизмов, легковых автомобилей, железных конструкций, водопроводных труб и т.д.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, но очень нужная для развития нашей страны работа!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2" name="Picture 10" descr="http://magmetall.ru/photo_b/121092.jpg"/>
          <p:cNvPicPr/>
          <p:nvPr/>
        </p:nvPicPr>
        <p:blipFill>
          <a:blip r:embed="rId1"/>
          <a:stretch/>
        </p:blipFill>
        <p:spPr>
          <a:xfrm>
            <a:off x="4284720" y="3500280"/>
            <a:ext cx="4491000" cy="29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magmetall.ru/photo_b/121090.jpg"/>
          <p:cNvPicPr/>
          <p:nvPr/>
        </p:nvPicPr>
        <p:blipFill>
          <a:blip r:embed="rId2"/>
          <a:stretch/>
        </p:blipFill>
        <p:spPr>
          <a:xfrm>
            <a:off x="4284720" y="431640"/>
            <a:ext cx="4390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и:«Доменщик» и «Сталевар».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оменная печь это «сердце металлургического комбината»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а производит чугун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,из которого делают водопроводные трубы,радиаторы и другие изделия.З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е работой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леди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енщик(горновой):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н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водит профилактические работы, чистит от шлака, следит за «летками» (специальными каналами для выпуска продукции).В момент, когда содержимое печи выпускается наружу-горновые должны направить по разным желобам чугун и шлак. Затем они закрывают летки и ожидают следующую партию продукци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-это человек,который варит сталь(удаляет из чугунного сырья ненужные примес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и придает полученному продукту-«стали»: прочность, износостойкость, эластичность).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 работает-на мартене, конвекторе, вакуумной печ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доменщик, и сталевар-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 работа вблизи горячего металла,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ребующая физической выносливости и крепкого здоровья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5" name="Picture 10" descr="Картинки по запросу картинки с оао ммк"/>
          <p:cNvPicPr/>
          <p:nvPr/>
        </p:nvPicPr>
        <p:blipFill>
          <a:blip r:embed="rId1"/>
          <a:stretch/>
        </p:blipFill>
        <p:spPr>
          <a:xfrm>
            <a:off x="684360" y="4340160"/>
            <a:ext cx="1733400" cy="216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sdelanounas.ru/i/b/w/1/bW1rLnJ1L3VwbG9hZC9pYmxvY2svMjgxL2x5b3N0cSUyMDEwLmpwZz9fX2lkPTU0NzM4.jpg"/>
          <p:cNvPicPr/>
          <p:nvPr/>
        </p:nvPicPr>
        <p:blipFill>
          <a:blip r:embed="rId2"/>
          <a:stretch/>
        </p:blipFill>
        <p:spPr>
          <a:xfrm>
            <a:off x="6218280" y="4797360"/>
            <a:ext cx="2262240" cy="149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ttps://kirovpravda.ru/wp-content/uploads/2022/07/metallurgi.jpg"/>
          <p:cNvPicPr/>
          <p:nvPr/>
        </p:nvPicPr>
        <p:blipFill>
          <a:blip r:embed="rId3"/>
          <a:stretch/>
        </p:blipFill>
        <p:spPr>
          <a:xfrm>
            <a:off x="3132000" y="444816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я «Машинист мостового крана»(мастер-крановщик).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шинист крана-это человек, управляющий работой подъемного мостового крана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. Это очень сложная и ответственная работа,требующая больших знаний и профессионального мастерства. 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ашинист крана-помогает поднимать и перемещать  тяжелые, многотонные грузы до их места назначения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035600" cy="3228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"/>
          <p:cNvPicPr/>
          <p:nvPr/>
        </p:nvPicPr>
        <p:blipFill>
          <a:blip r:embed="rId2"/>
          <a:stretch/>
        </p:blipFill>
        <p:spPr>
          <a:xfrm>
            <a:off x="4724280" y="3500280"/>
            <a:ext cx="402444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стовой кран специального назнач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55480" y="1700280"/>
            <a:ext cx="80089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Нелегкий труд металлургов высоко ценит вся страна.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-«Стальное сердце России».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к уважительно называют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наш город-труженик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4" name="Picture 2" descr="http://magmetall.ru/photo_b/121078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087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6" name="Picture 8" descr="http://magmetall.ru/img/dr_mmk_2017.jpg"/>
          <p:cNvPicPr/>
          <p:nvPr/>
        </p:nvPicPr>
        <p:blipFill>
          <a:blip r:embed="rId1"/>
          <a:stretch/>
        </p:blipFill>
        <p:spPr>
          <a:xfrm>
            <a:off x="544680" y="404640"/>
            <a:ext cx="8054640" cy="163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«Магнитогорский металлургический комбинат» (ММК)"/>
          <p:cNvPicPr/>
          <p:nvPr/>
        </p:nvPicPr>
        <p:blipFill>
          <a:blip r:embed="rId2"/>
          <a:stretch/>
        </p:blipFill>
        <p:spPr>
          <a:xfrm>
            <a:off x="2158920" y="3232080"/>
            <a:ext cx="4826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8:30:19Z</dcterms:created>
  <dc:creator>Владимир</dc:creator>
  <dc:description/>
  <dc:language>en-US</dc:language>
  <cp:lastModifiedBy>Пользователь</cp:lastModifiedBy>
  <dcterms:modified xsi:type="dcterms:W3CDTF">2023-08-10T09:00:15Z</dcterms:modified>
  <cp:revision>1136</cp:revision>
  <dc:subject/>
  <dc:title>Слайд 1</dc:title>
</cp:coreProperties>
</file>