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F83-863A-4E24-B7AD-A706B0B0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CD4-9116-480B-A77D-1BC955C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65F-A4FA-4B1F-A06C-EE769EB6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46D-E83B-453D-A771-F2C3EE89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93D3-9754-45F4-B6DB-BE6C0CCC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27D1-A7F8-4FDC-AFCE-04E5E4BB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B6F7-7E0F-4D56-86E1-130A18A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33E7-FD36-4904-9D19-4B554B82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FC75-56E0-476F-B833-2D9DDA42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2274-7BA5-435F-8ABE-E127BC84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EFC-DE91-4F54-9B79-57F0752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18A-46AB-46A4-8E1D-E3B50B5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9559-33B1-40B6-99D6-0FEBCA6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3F28-8449-4CAA-97CB-8F011ECE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FAFF-D723-4D58-9E6F-6A29A4EB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4485-89A0-4819-81B2-E154827A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FC17-34FB-466E-A965-424C7EC9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269C-1D17-4209-B996-4182C1F3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F39F-4FD0-4B12-B4DC-99C49D29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4016-7777-4B12-A70E-29F91FF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1686-B3C4-4720-92E0-343AA968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81A11-1F45-45D5-93C1-F3FD87BB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426-1F38-4C01-9C3E-CEA17576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27EA-B062-4226-B2E2-3CF806CD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74B8-42DD-42BF-AB4D-E8FCE66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204C-AD9E-4566-AE16-D74E79F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69C7-D95D-45CF-915A-2618121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66F7-EC7B-410B-9A76-1036234B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872E-C4D7-4669-93A1-F7D65733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F3CB-B290-45FC-89B8-4A31249C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A24-E6B5-4D98-A86F-FAA9C40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340-E845-46BE-864F-F376FF5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E88-0C0B-4F78-8FD5-EB714ED8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0F6-04D8-4041-A139-421EA42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BDF-9B68-460F-BC11-519BE62C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5E7-F9F9-4419-8A51-00A612C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FA1-A5E9-4792-8E01-68E2BB7869A4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8256-C368-43FD-8CD6-73162FE439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385A-DA58-44F6-8492-D9EF20DF345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149360"/>
            <a:ext cx="813600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ЕЗЕНТАЦИЯ ПО ТЕМЕ: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«МАГНИТОГОРСК-ГОРОД МЕТАЛЛУРГОВ»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( К 85-ЛЕТИЮ ОАО ММК)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ОДГОТОВИЛА-ВОСПИТАТЕЛЬ МДОУ «ЦРР Д.С.№ 132»,</a:t>
            </a: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Р.№7 «ДРУЖНЫЕ ПУТЕШЕСТВЕННИКИ»-РОМАНЧЕНКО Е.Х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.МАГНИТОГОРСК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ФЕВРАЛЯ 2017 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29" name="Picture 10" descr="http://vmagnitogorske.ru/sites/vmagnitogorske.ru/files/styles/dk_large/public/349997226.jpg?itok=QdFPMy-6"/>
          <p:cNvPicPr/>
          <p:nvPr/>
        </p:nvPicPr>
        <p:blipFill>
          <a:blip r:embed="rId1"/>
          <a:stretch/>
        </p:blipFill>
        <p:spPr>
          <a:xfrm>
            <a:off x="539640" y="404640"/>
            <a:ext cx="4491000" cy="300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Картинки по запросу фото магнитогорский металлургический комбинат"/>
          <p:cNvPicPr/>
          <p:nvPr/>
        </p:nvPicPr>
        <p:blipFill>
          <a:blip r:embed="rId2"/>
          <a:stretch/>
        </p:blipFill>
        <p:spPr>
          <a:xfrm>
            <a:off x="6300720" y="372960"/>
            <a:ext cx="20163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07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пособствовать формированию целостной картины мира у детей старшего дошкольного возраста с нарушением зрения на основе ознакомления с трудом взрослых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: расширять представления детей о труде своих родителей(на основе беседы о трудовой деятельности металлургов, работников ОАО ММК);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активизировать в речи детей понятия: труд, профессия, металлург, доменщик(горновой),сталевар, мастер-крановщик (машинист мостового крана);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способствовать развитию  познавательно-творческих способностей детей в ходе совместной  занимательной познавательно-творческой и игровой деятельности; 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воспитывать уважительное отношение к труду взрослых.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2" name="Picture 8" descr="P1040351"/>
          <p:cNvPicPr/>
          <p:nvPr/>
        </p:nvPicPr>
        <p:blipFill>
          <a:blip r:embed="rId1"/>
          <a:stretch/>
        </p:blipFill>
        <p:spPr>
          <a:xfrm>
            <a:off x="2552760" y="4570560"/>
            <a:ext cx="3476520" cy="1957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P1300294.JPG"/>
          <p:cNvPicPr/>
          <p:nvPr/>
        </p:nvPicPr>
        <p:blipFill>
          <a:blip r:embed="rId2"/>
          <a:stretch/>
        </p:blipFill>
        <p:spPr>
          <a:xfrm>
            <a:off x="6568920" y="4950000"/>
            <a:ext cx="2210040" cy="147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артинки по запросу картинки дидактических материалов по теме профессии"/>
          <p:cNvPicPr/>
          <p:nvPr/>
        </p:nvPicPr>
        <p:blipFill>
          <a:blip r:embed="rId3"/>
          <a:stretch/>
        </p:blipFill>
        <p:spPr>
          <a:xfrm>
            <a:off x="7236000" y="404640"/>
            <a:ext cx="1542960" cy="112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артинки по запросу картинки дидактических материалов по теме профессии"/>
          <p:cNvPicPr/>
          <p:nvPr/>
        </p:nvPicPr>
        <p:blipFill>
          <a:blip r:embed="rId4"/>
          <a:stretch/>
        </p:blipFill>
        <p:spPr>
          <a:xfrm>
            <a:off x="7418520" y="1851120"/>
            <a:ext cx="1114200" cy="15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и по запросу картинки пособия кем быть"/>
          <p:cNvPicPr/>
          <p:nvPr/>
        </p:nvPicPr>
        <p:blipFill>
          <a:blip r:embed="rId5"/>
          <a:stretch/>
        </p:blipFill>
        <p:spPr>
          <a:xfrm>
            <a:off x="7091280" y="3652920"/>
            <a:ext cx="1463760" cy="1054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P1300263.JPG"/>
          <p:cNvPicPr/>
          <p:nvPr/>
        </p:nvPicPr>
        <p:blipFill>
          <a:blip r:embed="rId6"/>
          <a:stretch/>
        </p:blipFill>
        <p:spPr>
          <a:xfrm>
            <a:off x="576360" y="4478400"/>
            <a:ext cx="13507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4248000" cy="604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Февраля 2017г. –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юбилейный день рождения  ОАО ММК.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нитогорскому Металлургическому Комбинату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полнилось 85 лет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!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 этот день-1 февраля 1932 года на первой доменной печи Магнитки был получен первый чугун.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ы гордимся трудом наших родителей-металлургов, работающих на ОАО ММК!</a:t>
            </a:r>
            <a:br>
              <a:rPr sz="24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9" name="Picture 4" descr="http://vmagnitogorske.ru/sites/vmagnitogorske.ru/files/styles/dk_large/public/img_5142.jpg?itok=mg9weZ3h"/>
          <p:cNvPicPr/>
          <p:nvPr/>
        </p:nvPicPr>
        <p:blipFill>
          <a:blip r:embed="rId1"/>
          <a:stretch/>
        </p:blipFill>
        <p:spPr>
          <a:xfrm>
            <a:off x="4859280" y="3657600"/>
            <a:ext cx="3816360" cy="286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magmetall.ru/photo_b/121085.jpg"/>
          <p:cNvPicPr/>
          <p:nvPr/>
        </p:nvPicPr>
        <p:blipFill>
          <a:blip r:embed="rId2"/>
          <a:stretch/>
        </p:blipFill>
        <p:spPr>
          <a:xfrm>
            <a:off x="4859280" y="476280"/>
            <a:ext cx="3816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333360"/>
            <a:ext cx="3781440" cy="616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то же такие Металлурги?</a:t>
            </a: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аллурги-это люди, которые принимают участие в добыче и производстве металла (добывают и перерабатывают металлы):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елают инженерные и химико-технологические расчеты; разрабатывают процессы производства; плавят чугун, варят сталь, из которой потом делают листы металла, который  затем используется для производства разных рабочих механизмов, легковых автомобилей, железных конструкций, водопроводных труб и т.д.</a:t>
            </a:r>
            <a:br>
              <a:rPr sz="2000"/>
            </a:b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Это очень тяжелая, но очень нужная для развития нашей страны работа!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2" name="Picture 10" descr="http://magmetall.ru/photo_b/121092.jpg"/>
          <p:cNvPicPr/>
          <p:nvPr/>
        </p:nvPicPr>
        <p:blipFill>
          <a:blip r:embed="rId1"/>
          <a:stretch/>
        </p:blipFill>
        <p:spPr>
          <a:xfrm>
            <a:off x="4284720" y="3500280"/>
            <a:ext cx="4491000" cy="29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magmetall.ru/photo_b/121090.jpg"/>
          <p:cNvPicPr/>
          <p:nvPr/>
        </p:nvPicPr>
        <p:blipFill>
          <a:blip r:embed="rId2"/>
          <a:stretch/>
        </p:blipFill>
        <p:spPr>
          <a:xfrm>
            <a:off x="4284720" y="431640"/>
            <a:ext cx="4390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и:«Доменщик» и «Сталевар».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оменная печь это «сердце металлургического комбината»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а производит чугун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,из которого делают водопроводные трубы,радиаторы и другие изделия.З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ее работой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леди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енщик(горновой):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н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оводит профилактические работы, чистит от шлака, следит за «летками» (специальными каналами для выпуска продукции).В момент, когда содержимое печи выпускается наружу-горновые должны направить по разным желобам чугун и шлак. Затем они закрывают летки и ожидают следующую партию продукции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левар-это человек,который варит сталь(удаляет из чугунного сырья ненужные примеси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и придает полученному продукту-«стали»: прочность, износостойкость, эластичность).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левар работает-на мартене, конвекторе, вакуумной печи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доменщик, и сталевар-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это очень тяжелая работа вблизи горячего металла,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ребующая физической выносливости и крепкого здоровья.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5" name="Picture 10" descr="Картинки по запросу картинки с оао ммк"/>
          <p:cNvPicPr/>
          <p:nvPr/>
        </p:nvPicPr>
        <p:blipFill>
          <a:blip r:embed="rId1"/>
          <a:stretch/>
        </p:blipFill>
        <p:spPr>
          <a:xfrm>
            <a:off x="684360" y="4340160"/>
            <a:ext cx="1733400" cy="216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sdelanounas.ru/i/b/w/1/bW1rLnJ1L3VwbG9hZC9pYmxvY2svMjgxL2x5b3N0cSUyMDEwLmpwZz9fX2lkPTU0NzM4.jpg"/>
          <p:cNvPicPr/>
          <p:nvPr/>
        </p:nvPicPr>
        <p:blipFill>
          <a:blip r:embed="rId2"/>
          <a:stretch/>
        </p:blipFill>
        <p:spPr>
          <a:xfrm>
            <a:off x="6218280" y="4797360"/>
            <a:ext cx="2262240" cy="149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ttps://kirovpravda.ru/wp-content/uploads/2022/07/metallurgi.jpg"/>
          <p:cNvPicPr/>
          <p:nvPr/>
        </p:nvPicPr>
        <p:blipFill>
          <a:blip r:embed="rId3"/>
          <a:stretch/>
        </p:blipFill>
        <p:spPr>
          <a:xfrm>
            <a:off x="3132000" y="444816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я «Машинист мостового крана»(мастер-крановщик).</a:t>
            </a: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шинист крана-это человек, управляющий работой подъемного мостового крана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. Это очень сложная и ответственная работа,требующая больших знаний и профессионального мастерства. </a:t>
            </a:r>
            <a:br>
              <a:rPr sz="2000"/>
            </a:b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ашинист крана-помогает поднимать и перемещать  тяжелые, многотонные грузы до их места назначения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035600" cy="32288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"/>
          <p:cNvPicPr/>
          <p:nvPr/>
        </p:nvPicPr>
        <p:blipFill>
          <a:blip r:embed="rId2"/>
          <a:stretch/>
        </p:blipFill>
        <p:spPr>
          <a:xfrm>
            <a:off x="4724280" y="3500280"/>
            <a:ext cx="402444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стовой кран специального назнач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555480" y="1700280"/>
            <a:ext cx="80089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Нелегкий труд металлургов высоко ценит вся страна.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нитогорск-«Стальное сердце России».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ак уважительно называют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наш город-труженик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4" name="Picture 2" descr="http://magmetall.ru/photo_b/121078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087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6" name="Picture 8" descr="http://magmetall.ru/img/dr_mmk_2017.jpg"/>
          <p:cNvPicPr/>
          <p:nvPr/>
        </p:nvPicPr>
        <p:blipFill>
          <a:blip r:embed="rId1"/>
          <a:stretch/>
        </p:blipFill>
        <p:spPr>
          <a:xfrm>
            <a:off x="544680" y="404640"/>
            <a:ext cx="8054640" cy="163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«Магнитогорский металлургический комбинат» (ММК)"/>
          <p:cNvPicPr/>
          <p:nvPr/>
        </p:nvPicPr>
        <p:blipFill>
          <a:blip r:embed="rId2"/>
          <a:stretch/>
        </p:blipFill>
        <p:spPr>
          <a:xfrm>
            <a:off x="2158920" y="3232080"/>
            <a:ext cx="48261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08:30:19Z</dcterms:created>
  <dc:creator>Владимир</dc:creator>
  <dc:description/>
  <dc:language>en-US</dc:language>
  <cp:lastModifiedBy>Пользователь</cp:lastModifiedBy>
  <dcterms:modified xsi:type="dcterms:W3CDTF">2023-08-10T09:00:15Z</dcterms:modified>
  <cp:revision>1136</cp:revision>
  <dc:subject/>
  <dc:title>Слайд 1</dc:title>
</cp:coreProperties>
</file>