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EE9-98C8-4E21-8CD0-2F0E0113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A1D-790A-4FF8-9D9A-2AAD2AE4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F22-8C86-4FB9-A712-10EDBB22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B1F-EED3-4A89-A3AC-4A6D518A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BF6D-B083-4243-90B4-2B7042CE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73B-EDCB-4A9F-9FBE-4AC26415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7901-78A2-4229-BF9D-D1FEA38A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6078-6F22-4856-A475-1F7C01FB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5EA2-910D-4B82-8BCD-4149E4ED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277D-59FD-4E8E-B1FA-ADD75905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8E24-9A33-441D-ABA5-596708B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519-D4E3-4417-A608-B91F5383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1F2E-4813-45CA-9910-10107F2F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C6AE-EDA6-4235-B8CC-5B3FC660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C1C7-5DFC-4F37-B7E2-4734037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9E1D-7DC2-4E99-9CEF-D3BF2695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E76-6474-4792-8D3D-F71B5BF4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2B49-3005-4707-9EBD-64A95F53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61C6-4408-41B6-87AB-8D173597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F751-F128-46C8-843C-9AF28C41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1018-F2E7-422E-A0EB-FA26B71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FF25-658C-44A8-BAAB-28F6A204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AFF-0D41-4CCB-B121-52F698F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8792-85DE-475F-84B4-C5FE4717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F06A-C538-419F-86AF-7C4B5A8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0151-D113-4B32-96A9-664AD14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A082-CBA3-4C35-88FD-5BE0DFB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DD10-DDB2-47F6-BAFB-3865FA13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6106A-753D-4CDF-B19B-AA548901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B6D1-4016-4ADA-A76D-E0CEB976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DEA-25D4-43EB-83A3-9FA3B4B4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F02-1C69-466E-8E2F-A5F901C0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C0E-1DFC-4BD5-BAFD-ECC3E893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215-F7CD-41AC-B3DD-38A1068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306-F18E-40A1-9A8F-DD5B47A1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399-F1C4-4305-A76E-7E59F51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ED53-02F3-47F5-A461-1C83F484A1E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DDE-CA91-4A72-AB47-8AA8DF7E05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AD8-6E02-454B-96EF-AF37B87AFFFA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149360"/>
            <a:ext cx="813600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ЕЗЕНТАЦИЯ ПО ТЕМЕ: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«МАГНИТОГОРСК-ГОРОД МЕТАЛЛУРГОВ»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( К 85-ЛЕТИЮ ОАО ММК)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ОДГОТОВИЛА-ВОСПИТАТЕЛЬ МДОУ «ЦРР Д.С.№ 132»,</a:t>
            </a:r>
            <a:br>
              <a:rPr sz="1600"/>
            </a:br>
            <a:r>
              <a:rPr b="1" lang="ru-RU" sz="1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ГР.№7 «ДРУЖНЫЕ ПУТЕШЕСТВЕННИКИ»-РОМАНЧЕНКО Е.Х.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.МАГНИТОГОРСК</a:t>
            </a:r>
            <a:br>
              <a:rPr sz="1600"/>
            </a:b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ФЕВРАЛЯ 2017 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29" name="Picture 10" descr="http://vmagnitogorske.ru/sites/vmagnitogorske.ru/files/styles/dk_large/public/349997226.jpg?itok=QdFPMy-6"/>
          <p:cNvPicPr/>
          <p:nvPr/>
        </p:nvPicPr>
        <p:blipFill>
          <a:blip r:embed="rId1"/>
          <a:stretch/>
        </p:blipFill>
        <p:spPr>
          <a:xfrm>
            <a:off x="539640" y="404640"/>
            <a:ext cx="4491000" cy="300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Картинки по запросу фото магнитогорский металлургический комбинат"/>
          <p:cNvPicPr/>
          <p:nvPr/>
        </p:nvPicPr>
        <p:blipFill>
          <a:blip r:embed="rId2"/>
          <a:stretch/>
        </p:blipFill>
        <p:spPr>
          <a:xfrm>
            <a:off x="6300720" y="372960"/>
            <a:ext cx="20163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07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пособствовать формированию целостной картины мира у детей старшего дошкольного возраста с нарушением зрения на основе ознакомления с трудом взрослых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: расширять представления детей о труде своих родителей(на основе беседы о трудовой деятельности металлургов, работников ОАО ММК);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активизировать в речи детей понятия: труд, профессия, металлург, доменщик(горновой),сталевар, мастер-крановщик (машинист мостового крана);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способствовать развитию  познавательно-творческих способностей детей в ходе совместной  занимательной познавательно-творческой и игровой деятельности; 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-воспитывать уважительное отношение к труду взрослых.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2" name="Picture 8" descr="P1040351"/>
          <p:cNvPicPr/>
          <p:nvPr/>
        </p:nvPicPr>
        <p:blipFill>
          <a:blip r:embed="rId1"/>
          <a:stretch/>
        </p:blipFill>
        <p:spPr>
          <a:xfrm>
            <a:off x="2552760" y="4570560"/>
            <a:ext cx="3476520" cy="1957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P1300294.JPG"/>
          <p:cNvPicPr/>
          <p:nvPr/>
        </p:nvPicPr>
        <p:blipFill>
          <a:blip r:embed="rId2"/>
          <a:stretch/>
        </p:blipFill>
        <p:spPr>
          <a:xfrm>
            <a:off x="6568920" y="4950000"/>
            <a:ext cx="2210040" cy="147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артинки по запросу картинки дидактических материалов по теме профессии"/>
          <p:cNvPicPr/>
          <p:nvPr/>
        </p:nvPicPr>
        <p:blipFill>
          <a:blip r:embed="rId3"/>
          <a:stretch/>
        </p:blipFill>
        <p:spPr>
          <a:xfrm>
            <a:off x="7236000" y="404640"/>
            <a:ext cx="1542960" cy="112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артинки по запросу картинки дидактических материалов по теме профессии"/>
          <p:cNvPicPr/>
          <p:nvPr/>
        </p:nvPicPr>
        <p:blipFill>
          <a:blip r:embed="rId4"/>
          <a:stretch/>
        </p:blipFill>
        <p:spPr>
          <a:xfrm>
            <a:off x="7418520" y="1851120"/>
            <a:ext cx="1114200" cy="15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и по запросу картинки пособия кем быть"/>
          <p:cNvPicPr/>
          <p:nvPr/>
        </p:nvPicPr>
        <p:blipFill>
          <a:blip r:embed="rId5"/>
          <a:stretch/>
        </p:blipFill>
        <p:spPr>
          <a:xfrm>
            <a:off x="7091280" y="3652920"/>
            <a:ext cx="1463760" cy="1054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P1300263.JPG"/>
          <p:cNvPicPr/>
          <p:nvPr/>
        </p:nvPicPr>
        <p:blipFill>
          <a:blip r:embed="rId6"/>
          <a:stretch/>
        </p:blipFill>
        <p:spPr>
          <a:xfrm>
            <a:off x="576360" y="4478400"/>
            <a:ext cx="13507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4248000" cy="604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Февраля 2017г. –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юбилейный день рождения  ОАО ММК.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нитогорскому Металлургическому Комбинату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полнилось 85 лет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!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 этот день-1 февраля 1932 года на первой доменной печи Магнитки был получен первый чугун.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ы гордимся трудом наших родителей-металлургов, работающих на ОАО ММК!</a:t>
            </a:r>
            <a:br>
              <a:rPr sz="24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39" name="Picture 4" descr="http://vmagnitogorske.ru/sites/vmagnitogorske.ru/files/styles/dk_large/public/img_5142.jpg?itok=mg9weZ3h"/>
          <p:cNvPicPr/>
          <p:nvPr/>
        </p:nvPicPr>
        <p:blipFill>
          <a:blip r:embed="rId1"/>
          <a:stretch/>
        </p:blipFill>
        <p:spPr>
          <a:xfrm>
            <a:off x="4859280" y="3657600"/>
            <a:ext cx="3816360" cy="286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magmetall.ru/photo_b/121085.jpg"/>
          <p:cNvPicPr/>
          <p:nvPr/>
        </p:nvPicPr>
        <p:blipFill>
          <a:blip r:embed="rId2"/>
          <a:stretch/>
        </p:blipFill>
        <p:spPr>
          <a:xfrm>
            <a:off x="4859280" y="476280"/>
            <a:ext cx="3816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333360"/>
            <a:ext cx="3781440" cy="616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то же такие Металлурги?</a:t>
            </a: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аллурги-это люди, которые принимают участие в добыче и производстве металла (добывают и перерабатывают металлы):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елают инженерные и химико-технологические расчеты; разрабатывают процессы производства; плавят чугун, варят сталь, из которой потом делают листы металла, который  затем используется для производства разных рабочих механизмов, легковых автомобилей, железных конструкций, водопроводных труб и т.д.</a:t>
            </a:r>
            <a:br>
              <a:rPr sz="2000"/>
            </a:b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Это очень тяжелая, но очень нужная для развития нашей страны работа!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2" name="Picture 10" descr="http://magmetall.ru/photo_b/121092.jpg"/>
          <p:cNvPicPr/>
          <p:nvPr/>
        </p:nvPicPr>
        <p:blipFill>
          <a:blip r:embed="rId1"/>
          <a:stretch/>
        </p:blipFill>
        <p:spPr>
          <a:xfrm>
            <a:off x="4284720" y="3500280"/>
            <a:ext cx="4491000" cy="29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magmetall.ru/photo_b/121090.jpg"/>
          <p:cNvPicPr/>
          <p:nvPr/>
        </p:nvPicPr>
        <p:blipFill>
          <a:blip r:embed="rId2"/>
          <a:stretch/>
        </p:blipFill>
        <p:spPr>
          <a:xfrm>
            <a:off x="4284720" y="431640"/>
            <a:ext cx="4390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и:«Доменщик» и «Сталевар».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оменная печь это «сердце металлургического комбината»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на производит чугун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,из которого делают водопроводные трубы,радиаторы и другие изделия.З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ее работой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леди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енщик(горновой):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н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оводит профилактические работы, чистит от шлака, следит за «летками» (специальными каналами для выпуска продукции).В момент, когда содержимое печи выпускается наружу-горновые должны направить по разным желобам чугун и шлак. Затем они закрывают летки и ожидают следующую партию продукции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левар-это человек,который варит сталь(удаляет из чугунного сырья ненужные примеси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и придает полученному продукту-«стали»: прочность, износостойкость, эластичность).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левар работает-на мартене, конвекторе, вакуумной печи.</a:t>
            </a: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доменщик, и сталевар-</a:t>
            </a: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это очень тяжелая работа вблизи горячего металла,</a:t>
            </a:r>
            <a:br>
              <a:rPr sz="1800"/>
            </a:b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ребующая физической выносливости и крепкого здоровья.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5" name="Picture 10" descr="Картинки по запросу картинки с оао ммк"/>
          <p:cNvPicPr/>
          <p:nvPr/>
        </p:nvPicPr>
        <p:blipFill>
          <a:blip r:embed="rId1"/>
          <a:stretch/>
        </p:blipFill>
        <p:spPr>
          <a:xfrm>
            <a:off x="684360" y="4340160"/>
            <a:ext cx="1733400" cy="216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sdelanounas.ru/i/b/w/1/bW1rLnJ1L3VwbG9hZC9pYmxvY2svMjgxL2x5b3N0cSUyMDEwLmpwZz9fX2lkPTU0NzM4.jpg"/>
          <p:cNvPicPr/>
          <p:nvPr/>
        </p:nvPicPr>
        <p:blipFill>
          <a:blip r:embed="rId2"/>
          <a:stretch/>
        </p:blipFill>
        <p:spPr>
          <a:xfrm>
            <a:off x="6218280" y="4797360"/>
            <a:ext cx="2262240" cy="149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ttps://kirovpravda.ru/wp-content/uploads/2022/07/metallurgi.jpg"/>
          <p:cNvPicPr/>
          <p:nvPr/>
        </p:nvPicPr>
        <p:blipFill>
          <a:blip r:embed="rId3"/>
          <a:stretch/>
        </p:blipFill>
        <p:spPr>
          <a:xfrm>
            <a:off x="3132000" y="444816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я «Машинист мостового крана»(мастер-крановщик).</a:t>
            </a: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шинист крана-это человек, управляющий работой подъемного мостового крана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. Это очень сложная и ответственная работа,требующая больших знаний и профессионального мастерства. </a:t>
            </a:r>
            <a:br>
              <a:rPr sz="2000"/>
            </a:b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ашинист крана-помогает поднимать и перемещать  тяжелые, многотонные грузы до их места назначения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035600" cy="32288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"/>
          <p:cNvPicPr/>
          <p:nvPr/>
        </p:nvPicPr>
        <p:blipFill>
          <a:blip r:embed="rId2"/>
          <a:stretch/>
        </p:blipFill>
        <p:spPr>
          <a:xfrm>
            <a:off x="4724280" y="3500280"/>
            <a:ext cx="402444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стовой кран специального назначения.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555480" y="1700280"/>
            <a:ext cx="80089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Нелегкий труд металлургов высоко ценит вся страна.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гнитогорск-«Стальное сердце России».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ак уважительно называют </a:t>
            </a:r>
            <a:br>
              <a:rPr sz="2400"/>
            </a:b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наш город-труженик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4" name="Picture 2" descr="http://magmetall.ru/photo_b/121078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0876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56" name="Picture 8" descr="http://magmetall.ru/img/dr_mmk_2017.jpg"/>
          <p:cNvPicPr/>
          <p:nvPr/>
        </p:nvPicPr>
        <p:blipFill>
          <a:blip r:embed="rId1"/>
          <a:stretch/>
        </p:blipFill>
        <p:spPr>
          <a:xfrm>
            <a:off x="544680" y="404640"/>
            <a:ext cx="8054640" cy="163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«Магнитогорский металлургический комбинат» (ММК)"/>
          <p:cNvPicPr/>
          <p:nvPr/>
        </p:nvPicPr>
        <p:blipFill>
          <a:blip r:embed="rId2"/>
          <a:stretch/>
        </p:blipFill>
        <p:spPr>
          <a:xfrm>
            <a:off x="2158920" y="3232080"/>
            <a:ext cx="48261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08:30:19Z</dcterms:created>
  <dc:creator>Владимир</dc:creator>
  <dc:description/>
  <dc:language>en-US</dc:language>
  <cp:lastModifiedBy>Пользователь</cp:lastModifiedBy>
  <dcterms:modified xsi:type="dcterms:W3CDTF">2023-08-10T09:00:15Z</dcterms:modified>
  <cp:revision>1136</cp:revision>
  <dc:subject/>
  <dc:title>Слайд 1</dc:title>
</cp:coreProperties>
</file>