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CD6D9-376E-44AF-A3DD-A2FA552672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2A040-59B7-40A0-9D81-E454E865B4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95605-3D17-4D7A-A0FA-09342DC4F8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7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18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FDE11-9426-4D07-A9CC-A7130C8F91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18AF0-185E-4A5E-AB14-063A365B74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9F4E8-3C7C-4663-92FC-1A82A61F52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788DE-EB10-41A7-B8AE-4F04C1E66A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8E3B9-1865-4BFC-8668-DC5EADF3C5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58ECD-CCF0-47E5-BC87-92128F2DBB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6840" y="1303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382DD-6580-49FB-8BD5-1B38ABBF97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D0876-0588-4D77-B56D-A816FC4D1C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721DE-8295-4B7A-9AB7-2C40B01F3E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47D7F-9C75-4000-9F89-4B4E0DD80A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29A21-EDEB-4149-B8D2-76C055835B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F25D2-7989-452C-A3B6-EE3623CF0E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B8D33-BE99-4F3B-9958-348B68C696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7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18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05F2B-704E-4771-8160-72D59B605F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F2D46-145D-4DB8-8DFF-5CC606E8AA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4C1CE-670B-4AD6-A416-EFB888299E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9E7CC-89C7-4F26-AD23-A15440679D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6840" y="1303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FDCB6-4749-43F7-A673-30775F3482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EFC74-6F6C-4E8A-A237-E7CE7B36E7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F0E7A-EF06-4ED7-9342-07A10AEB2D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63C06-E993-4E76-B3F0-0BC4A2BD85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ldNum" idx="1"/>
          </p:nvPr>
        </p:nvSpPr>
        <p:spPr>
          <a:xfrm>
            <a:off x="6553080" y="6243120"/>
            <a:ext cx="21290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25DC7-8E03-42AE-9C8D-4E324A44D058}" type="slidenum">
              <a:rPr b="0" lang="ru-RU" sz="18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2"/>
          </p:nvPr>
        </p:nvSpPr>
        <p:spPr>
          <a:xfrm>
            <a:off x="6553080" y="6243120"/>
            <a:ext cx="21290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522A2CA-F5A5-4448-9F9B-A4D1BA4FCF68}" type="slidenum">
              <a:rPr b="0" lang="ru-RU" sz="12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-357120"/>
            <a:ext cx="9144000" cy="721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500880" y="285840"/>
            <a:ext cx="1638360" cy="1576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39800" y="4968720"/>
            <a:ext cx="1474920" cy="962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857160" y="428760"/>
            <a:ext cx="5357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171717"/>
                </a:solidFill>
                <a:latin typeface="Calibri"/>
                <a:ea typeface="Calibri"/>
              </a:rPr>
              <a:t>Тема акции «Покорми зимующих птиц» в средней логопедической группе.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 advTm="6000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00040" y="0"/>
            <a:ext cx="8358120" cy="32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2a04cc"/>
                </a:solidFill>
                <a:latin typeface="Calibri"/>
                <a:ea typeface="Calibri"/>
              </a:rPr>
              <a:t>Вывод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Дети и родители ответственно отнеслись к серьёзному и нужному делу – изготовлению кормушек. В ходе Акции было изготовлено и развешено на территории детского сада 15 кормушек для птиц, из различного материала. Дети заботливо отнеслись к птицам и ежедневно дежурили в «птичьей столовой», чистили, подправляли кормушки, пополняли их кормом. В ходе проведения Акции дети поняли, что они делают хорошее дело – помогают выжить птицам в трудное время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 advTm="6000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8160" y="882720"/>
            <a:ext cx="9144000" cy="5138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539640" y="360360"/>
            <a:ext cx="3424320" cy="6087960"/>
            <a:chOff x="539640" y="360360"/>
            <a:chExt cx="3424320" cy="608796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539640" y="360360"/>
              <a:ext cx="3424320" cy="608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39640" y="360360"/>
              <a:ext cx="3424320" cy="60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602240" y="-198360"/>
            <a:ext cx="38574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357720" y="25718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357120" y="1071720"/>
            <a:ext cx="8143920" cy="22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2a04cc"/>
                </a:solidFill>
                <a:latin typeface="Calibri"/>
                <a:ea typeface="Calibri"/>
              </a:rPr>
              <a:t>Актуальность Акции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Calibri"/>
                <a:ea typeface="Calibri"/>
              </a:rPr>
              <a:t>Подкормка</a:t>
            </a: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 </a:t>
            </a:r>
            <a:r>
              <a:rPr b="0" lang="ru-RU" sz="2000" spc="-1" strike="noStrike">
                <a:solidFill>
                  <a:srgbClr val="171717"/>
                </a:solidFill>
                <a:latin typeface="Calibri"/>
                <a:ea typeface="Calibri"/>
              </a:rPr>
              <a:t>зимующих птиц приносит пользу не только пернатым, но и в немалой степени в  обучении и воспитании детей. Дети через беседы, познавательные занятия и наблюдения узнают о различных видах птиц своей местности, узнают характерные особенности внешнего вида, поведения, учатся заботиться о птицах, испытывают радость от осознания того, что, делясь крохами, подкармливая птиц, можно спасти их от гибел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2a04cc"/>
                </a:solidFill>
                <a:latin typeface="Calibri"/>
                <a:ea typeface="Calibri"/>
              </a:rPr>
              <a:t> </a:t>
            </a:r>
            <a:br>
              <a:rPr sz="2800"/>
            </a:br>
            <a:r>
              <a:rPr b="0" i="1" lang="ru-RU" sz="2800" spc="-1" strike="noStrike">
                <a:solidFill>
                  <a:srgbClr val="009999"/>
                </a:solidFill>
                <a:latin typeface="Constantia"/>
                <a:ea typeface="Constantia"/>
              </a:rPr>
              <a:t>       </a:t>
            </a:r>
            <a:br>
              <a:rPr sz="2400"/>
            </a:b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947880" y="3425760"/>
            <a:ext cx="2050920" cy="14781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00040" y="428760"/>
            <a:ext cx="8429760" cy="61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2a04cc"/>
                </a:solidFill>
                <a:latin typeface="Calibri"/>
                <a:ea typeface="Calibri"/>
              </a:rPr>
              <a:t>Цель акции</a:t>
            </a:r>
            <a:r>
              <a:rPr b="0" lang="ru-RU" sz="2800" spc="-1" strike="noStrike">
                <a:solidFill>
                  <a:srgbClr val="009999"/>
                </a:solidFill>
                <a:latin typeface="Calibri"/>
                <a:ea typeface="Calibri"/>
              </a:rPr>
              <a:t>:</a:t>
            </a:r>
            <a:r>
              <a:rPr b="0" lang="ru-RU" sz="2400" spc="-1" strike="noStrike">
                <a:solidFill>
                  <a:srgbClr val="009999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закрепить представления дошкольников о зимующих птицах, их образе жизни, о связи с окружающей средой, роли человека в жизни птиц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2a04cc"/>
                </a:solidFill>
                <a:latin typeface="Calibri"/>
                <a:ea typeface="Calibri"/>
              </a:rPr>
              <a:t>Задачи акции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1) формировать у детей представления об особенностях жизни и поведения птиц в холодное время года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2) вызвать у детей сочувствие к птицам, которые страдают зимой от холода и голода, желание и готовность им помогать;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3) развивать познавательный интерес к родной природе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4) развивать коммуникативные способности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5) развивать творческие способности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6) развитие гуманного отношения к птицам, мотивации и интереса к их охране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7) вовлекать воспитанников и их родителей в активную природоохранную деятельность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2a04cc"/>
                </a:solidFill>
                <a:latin typeface="Constantia"/>
                <a:ea typeface="Constanti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 advTm="6000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68200" indent="-268200">
              <a:lnSpc>
                <a:spcPct val="100000"/>
              </a:lnSpc>
              <a:buClr>
                <a:srgbClr val="eec85e"/>
              </a:buClr>
              <a:buSzPct val="78000"/>
              <a:buFont typeface="Wingdings" charset="2"/>
              <a:buChar char="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Calibri"/>
                <a:ea typeface="Calibri"/>
              </a:rPr>
              <a:t>- </a:t>
            </a: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у детей сформируется система знаний о зимующих птицах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268200" indent="-268200">
              <a:lnSpc>
                <a:spcPct val="100000"/>
              </a:lnSpc>
              <a:spcBef>
                <a:spcPts val="476"/>
              </a:spcBef>
              <a:buClr>
                <a:srgbClr val="eec85e"/>
              </a:buClr>
              <a:buSzPct val="95000"/>
              <a:buFont typeface="Wingdings" charset="2"/>
              <a:buChar char="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- развитие гуманного отношения к птицам, мотивации и интереса к их охране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268200" indent="-268200">
              <a:lnSpc>
                <a:spcPct val="100000"/>
              </a:lnSpc>
              <a:spcBef>
                <a:spcPts val="476"/>
              </a:spcBef>
              <a:buClr>
                <a:srgbClr val="eec85e"/>
              </a:buClr>
              <a:buSzPct val="95000"/>
              <a:buFont typeface="Wingdings" charset="2"/>
              <a:buChar char="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-появится желание помогать птицам в трудное для них  время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57120" y="857160"/>
            <a:ext cx="82296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i="1" lang="ru-RU" sz="3600" spc="-1" strike="noStrike">
                <a:solidFill>
                  <a:srgbClr val="0070c0"/>
                </a:solidFill>
                <a:latin typeface="Calibri"/>
                <a:ea typeface="Calibri"/>
              </a:rPr>
              <a:t>Ожидаемый результа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979640" y="4149720"/>
            <a:ext cx="4041720" cy="21700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3328c8"/>
                </a:solidFill>
                <a:latin typeface="Calibri"/>
                <a:ea typeface="Calibri"/>
              </a:rPr>
              <a:t>Этапы реализации акции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alibri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71717"/>
                </a:solidFill>
                <a:latin typeface="Calibri"/>
                <a:ea typeface="Calibri"/>
              </a:rPr>
              <a:t>Подготовительны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alibri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71717"/>
                </a:solidFill>
                <a:latin typeface="Calibri"/>
                <a:ea typeface="Calibri"/>
              </a:rPr>
              <a:t>Основной (практический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alibri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71717"/>
                </a:solidFill>
                <a:latin typeface="Calibri"/>
                <a:ea typeface="Calibri"/>
              </a:rPr>
              <a:t>Заключительны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14240" y="4143240"/>
            <a:ext cx="2857680" cy="2214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28760" y="642960"/>
            <a:ext cx="835812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2a04cc"/>
                </a:solidFill>
                <a:latin typeface="Calibri"/>
                <a:ea typeface="Calibri"/>
              </a:rPr>
              <a:t>I этап –подготовительный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785880" y="1684440"/>
            <a:ext cx="76438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1. </a:t>
            </a: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Изучение методического материала по реализации экологических акций в ДОУ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2. Определение содержания, форм и методов организации работы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3. Подборка художественной литературы, дидактических игр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4. Размещение в информационном уголке обращения к родителям и детям принять активное участие в реализации Акци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 advTm="6000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00040" y="142920"/>
            <a:ext cx="8072640" cy="59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2a04cc"/>
                </a:solidFill>
                <a:latin typeface="Constantia"/>
                <a:ea typeface="Constantia"/>
              </a:rPr>
              <a:t>                           </a:t>
            </a:r>
            <a:r>
              <a:rPr b="1" i="1" lang="ru-RU" sz="4800" spc="-1" strike="noStrike">
                <a:solidFill>
                  <a:srgbClr val="2a04cc"/>
                </a:solidFill>
                <a:latin typeface="Calibri"/>
                <a:ea typeface="Calibri"/>
              </a:rPr>
              <a:t>II этап – основной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Calibri"/>
                <a:ea typeface="Calibri"/>
              </a:rPr>
              <a:t>      </a:t>
            </a:r>
            <a:r>
              <a:rPr b="1" lang="ru-RU" sz="2400" spc="-1" strike="noStrike" u="sng">
                <a:solidFill>
                  <a:srgbClr val="171717"/>
                </a:solidFill>
                <a:uFillTx/>
                <a:latin typeface="Calibri"/>
                <a:ea typeface="Calibri"/>
              </a:rPr>
              <a:t>Работа с родителями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-Призыв к участию в экологической акции «Покормите птиц зимой!»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-Участие в конкурсе   «Лучшая кормушка»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-Изготовление кормушек для птиц совместно с детьм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171717"/>
                </a:solidFill>
                <a:uFillTx/>
                <a:latin typeface="Calibri"/>
                <a:ea typeface="Calibri"/>
              </a:rPr>
              <a:t>     </a:t>
            </a:r>
            <a:r>
              <a:rPr b="1" lang="ru-RU" sz="2400" spc="-1" strike="noStrike" u="sng">
                <a:solidFill>
                  <a:srgbClr val="171717"/>
                </a:solidFill>
                <a:uFillTx/>
                <a:latin typeface="Calibri"/>
                <a:ea typeface="Calibri"/>
              </a:rPr>
              <a:t>Работа с детьми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AutoNum type="arabi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Цикл занятий по ознакомлению с миром природы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AutoNum type="arabi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Чтение художественной литературы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3)     Цикл наблюдение за птицами на прогулк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4      Дидактические и подвижные игры 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5)    Продуктивная деятельность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AutoNum type="arabi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Рассматривание репродукций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иллюстраций, альбомов «Зимующие птицы»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 advTm="6000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14240" y="285840"/>
            <a:ext cx="77868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2a04cc"/>
                </a:solidFill>
                <a:latin typeface="Calibri"/>
                <a:ea typeface="Calibri"/>
              </a:rPr>
              <a:t>          </a:t>
            </a:r>
            <a:r>
              <a:rPr b="1" i="1" lang="ru-RU" sz="3600" spc="-1" strike="noStrike">
                <a:solidFill>
                  <a:srgbClr val="2a04cc"/>
                </a:solidFill>
                <a:latin typeface="Calibri"/>
                <a:ea typeface="Calibri"/>
              </a:rPr>
              <a:t>III этап –заключительный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Оформление выставки «Зимующие птицы»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Оформление результата проекта в виде презентаци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- Анализ результативности Акци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nstantia"/>
                <a:ea typeface="Constanti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nstantia"/>
                <a:ea typeface="Constantia"/>
              </a:rPr>
              <a:t>                                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68360" y="2565360"/>
            <a:ext cx="6624720" cy="3672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00040" y="0"/>
            <a:ext cx="835812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2a04cc"/>
                </a:solidFill>
                <a:latin typeface="Calibri"/>
                <a:ea typeface="Calibri"/>
              </a:rPr>
              <a:t>Результаты реализации Акци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•</a:t>
            </a:r>
            <a:r>
              <a:rPr b="0" i="1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Расширен кругозор детей о зимующих птицах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•</a:t>
            </a:r>
            <a:r>
              <a:rPr b="0" i="1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Улучшилась предметно –развивающая среда: литературой, фотографиями, иллюстрациями, стихотворениями, рассказами о птицах, загадкам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•</a:t>
            </a:r>
            <a:r>
              <a:rPr b="0" i="1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У детей продолжилось формирование   любознательности, творческих способностей, познавательной активности, коммуникативных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 </a:t>
            </a:r>
            <a:r>
              <a:rPr b="0" i="1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навыков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•</a:t>
            </a:r>
            <a:r>
              <a:rPr b="0" i="1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Воспитанники и их родители приняли активно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 </a:t>
            </a:r>
            <a:r>
              <a:rPr b="0" i="1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участие в оказании помощи птицам в трудных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условиях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 advTm="6000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7:36:32Z</dcterms:created>
  <dc:creator>User</dc:creator>
  <dc:description/>
  <dc:language>en-US</dc:language>
  <cp:lastModifiedBy/>
  <cp:lastPrinted>2022-03-22T14:20:31Z</cp:lastPrinted>
  <dcterms:modified xsi:type="dcterms:W3CDTF">2023-08-11T11:04:55Z</dcterms:modified>
  <cp:revision>45</cp:revision>
  <dc:subject/>
  <dc:title>Слайд 1</dc:title>
</cp:coreProperties>
</file>