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F7DC-C4AA-48FD-B128-ACCA3C946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D3C9A-2EF4-4E8E-BB14-5001CAAF8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81C6-4A1A-4CA8-A1FB-EEC83D1E1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3D38-067C-4AB5-9AEA-14CD0694F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84296-6360-4DFB-8D87-346A2A1365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963A4-AA25-4DDA-8BBB-90779FF68B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0231F-ED3F-4D8F-A53B-45EF921E41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42B9E-6BAB-403F-9F4A-790DB9331B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E858C-555C-4C18-89F3-FA35CBE180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B76E0-1B2C-435C-897B-24BC9A6CFB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9BA9E-1ED5-4FB4-B8E9-865CC1C175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2918-753E-47DA-8907-81820608F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AD78F-F2DB-4051-9CEA-20B27AF105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987E2-298E-4683-B0BD-0B19A6616F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D1B46-5CA8-42AB-911F-4FB22C57FB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FBE61-CFEE-4344-B632-3E1BD2E3A4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EFAD7-5881-42F7-941E-0506CE4D37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F965-A33C-49A4-BCC2-807B1C53F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8C1D-B8F8-42F8-BDA8-BEBE10A7D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874A-9B17-40B6-9192-F9AEBEB0C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E77A-07E1-478B-B498-31292FFE3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D520-A9D7-4D47-96FE-E1C61EBAE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2382-0397-434B-9F13-11CF0019C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9FF1-32FA-4894-B6A6-0CCE8123A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ldNum" idx="1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CFB32-BF75-48E6-933C-5DFA4363B513}" type="slidenum">
              <a:rPr b="0" lang="ru-RU" sz="18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2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BB0D2FC-D694-4FB2-9C5C-C64AC99EDF9D}" type="slidenum">
              <a:rPr b="0" lang="ru-RU" sz="12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357120"/>
            <a:ext cx="9144000" cy="721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500880" y="285840"/>
            <a:ext cx="1638360" cy="1576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39800" y="4968720"/>
            <a:ext cx="1474920" cy="962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57160" y="428760"/>
            <a:ext cx="5357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171717"/>
                </a:solidFill>
                <a:latin typeface="Calibri"/>
                <a:ea typeface="Calibri"/>
              </a:rPr>
              <a:t>Тема акции «Покорми зимующих птиц» в средней логопедической группе.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6000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00040" y="0"/>
            <a:ext cx="8358120" cy="32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a04cc"/>
                </a:solidFill>
                <a:latin typeface="Calibri"/>
                <a:ea typeface="Calibri"/>
              </a:rPr>
              <a:t>Вывод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Дети и родители ответственно отнеслись к серьёзному и нужному делу – изготовлению кормушек. В ходе Акции было изготовлено и развешено на территории детского сада 15 кормушек для птиц, из различного материала. Дети заботливо отнеслись к птицам и ежедневно дежурили в «птичьей столовой», чистили, подправляли кормушки, пополняли их кормом. В ходе проведения Акции дети поняли, что они делают хорошее дело – помогают выжить птицам в трудное время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600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160" y="882720"/>
            <a:ext cx="9144000" cy="5138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539640" y="360360"/>
            <a:ext cx="3424320" cy="6087960"/>
            <a:chOff x="539640" y="360360"/>
            <a:chExt cx="3424320" cy="608796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539640" y="360360"/>
              <a:ext cx="3424320" cy="60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39640" y="360360"/>
              <a:ext cx="3424320" cy="60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02240" y="-198360"/>
            <a:ext cx="3857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357720" y="25718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357120" y="1071720"/>
            <a:ext cx="8143920" cy="22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a04cc"/>
                </a:solidFill>
                <a:latin typeface="Calibri"/>
                <a:ea typeface="Calibri"/>
              </a:rPr>
              <a:t>Актуальность Акции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Calibri"/>
                <a:ea typeface="Calibri"/>
              </a:rPr>
              <a:t>Подкормка</a:t>
            </a: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171717"/>
                </a:solidFill>
                <a:latin typeface="Calibri"/>
                <a:ea typeface="Calibri"/>
              </a:rPr>
              <a:t>зимующих птиц приносит пользу не только пернатым, но и в немалой степени в  обучении и воспитании детей. Дети через беседы, познавательные занятия и наблюдения узнают о различных видах птиц своей местности, узнают характерные особенности внешнего вида, поведения, учатся заботиться о птицах, испытывают радость от осознания того, что, делясь крохами, подкармливая птиц, можно спасти их от гибел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a04cc"/>
                </a:solidFill>
                <a:latin typeface="Calibri"/>
                <a:ea typeface="Calibri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009999"/>
                </a:solidFill>
                <a:latin typeface="Constantia"/>
                <a:ea typeface="Constantia"/>
              </a:rPr>
              <a:t>       </a:t>
            </a:r>
            <a:br>
              <a:rPr sz="24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47880" y="3425760"/>
            <a:ext cx="2050920" cy="1478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00040" y="428760"/>
            <a:ext cx="8429760" cy="61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a04cc"/>
                </a:solidFill>
                <a:latin typeface="Calibri"/>
                <a:ea typeface="Calibri"/>
              </a:rPr>
              <a:t>Цель акции</a:t>
            </a:r>
            <a:r>
              <a:rPr b="0" lang="ru-RU" sz="2800" spc="-1" strike="noStrike">
                <a:solidFill>
                  <a:srgbClr val="009999"/>
                </a:solidFill>
                <a:latin typeface="Calibri"/>
                <a:ea typeface="Calibri"/>
              </a:rPr>
              <a:t>:</a:t>
            </a:r>
            <a:r>
              <a:rPr b="0" lang="ru-RU" sz="2400" spc="-1" strike="noStrike">
                <a:solidFill>
                  <a:srgbClr val="009999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закрепить представления дошкольников о зимующих птицах, их образе жизни, о связи с окружающей средой, роли человека в жизни птиц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a04cc"/>
                </a:solidFill>
                <a:latin typeface="Calibri"/>
                <a:ea typeface="Calibri"/>
              </a:rPr>
              <a:t>Задачи акции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1) формировать у детей представления об особенностях жизни и поведения птиц в холодное время года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2) вызвать у детей сочувствие к птицам, которые страдают зимой от холода и голода, желание и готовность им помогать;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3) развивать познавательный интерес к родной природе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4) развивать коммуникативные способности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5) развивать творческие способности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6) развитие гуманного отношения к птицам, мотивации и интереса к их охране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7) вовлекать воспитанников и их родителей в активную природоохранную деятельност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a04cc"/>
                </a:solidFill>
                <a:latin typeface="Constantia"/>
                <a:ea typeface="Constanti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6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8200" indent="-268200">
              <a:lnSpc>
                <a:spcPct val="100000"/>
              </a:lnSpc>
              <a:buClr>
                <a:srgbClr val="eec85e"/>
              </a:buClr>
              <a:buSzPct val="78000"/>
              <a:buFont typeface="Wingdings" charset="2"/>
              <a:buChar char="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Calibri"/>
                <a:ea typeface="Calibri"/>
              </a:rPr>
              <a:t>- </a:t>
            </a: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у детей сформируется система знаний о зимующих птицах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68200" indent="-268200">
              <a:lnSpc>
                <a:spcPct val="100000"/>
              </a:lnSpc>
              <a:spcBef>
                <a:spcPts val="476"/>
              </a:spcBef>
              <a:buClr>
                <a:srgbClr val="eec85e"/>
              </a:buClr>
              <a:buSzPct val="95000"/>
              <a:buFont typeface="Wingdings" charset="2"/>
              <a:buChar char="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- развитие гуманного отношения к птицам, мотивации и интереса к их охране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68200" indent="-268200">
              <a:lnSpc>
                <a:spcPct val="100000"/>
              </a:lnSpc>
              <a:spcBef>
                <a:spcPts val="476"/>
              </a:spcBef>
              <a:buClr>
                <a:srgbClr val="eec85e"/>
              </a:buClr>
              <a:buSzPct val="95000"/>
              <a:buFont typeface="Wingdings" charset="2"/>
              <a:buChar char="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-появится желание помогать птицам в трудное для них  врем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57120" y="857160"/>
            <a:ext cx="8229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0070c0"/>
                </a:solidFill>
                <a:latin typeface="Calibri"/>
                <a:ea typeface="Calibri"/>
              </a:rPr>
              <a:t>Ожидаемый результа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979640" y="4149720"/>
            <a:ext cx="4041720" cy="2170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3328c8"/>
                </a:solidFill>
                <a:latin typeface="Calibri"/>
                <a:ea typeface="Calibri"/>
              </a:rPr>
              <a:t>Этапы реализации акции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71717"/>
                </a:solidFill>
                <a:latin typeface="Calibri"/>
                <a:ea typeface="Calibri"/>
              </a:rPr>
              <a:t>Подготовительны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71717"/>
                </a:solidFill>
                <a:latin typeface="Calibri"/>
                <a:ea typeface="Calibri"/>
              </a:rPr>
              <a:t>Основной (практический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71717"/>
                </a:solidFill>
                <a:latin typeface="Calibri"/>
                <a:ea typeface="Calibri"/>
              </a:rPr>
              <a:t>Заключительны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14240" y="4143240"/>
            <a:ext cx="2857680" cy="2214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28760" y="642960"/>
            <a:ext cx="835812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2a04cc"/>
                </a:solidFill>
                <a:latin typeface="Calibri"/>
                <a:ea typeface="Calibri"/>
              </a:rPr>
              <a:t>I этап –подготовительный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785880" y="1684440"/>
            <a:ext cx="7643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1. </a:t>
            </a: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Изучение методического материала по реализации экологических акций в ДОУ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2. Определение содержания, форм и методов организации работ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3. Подборка художественной литературы, дидактических игр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4. Размещение в информационном уголке обращения к родителям и детям принять активное участие в реализации Акци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6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00040" y="142920"/>
            <a:ext cx="8072640" cy="59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a04cc"/>
                </a:solidFill>
                <a:latin typeface="Constantia"/>
                <a:ea typeface="Constantia"/>
              </a:rPr>
              <a:t>                           </a:t>
            </a:r>
            <a:r>
              <a:rPr b="1" i="1" lang="ru-RU" sz="4800" spc="-1" strike="noStrike">
                <a:solidFill>
                  <a:srgbClr val="2a04cc"/>
                </a:solidFill>
                <a:latin typeface="Calibri"/>
                <a:ea typeface="Calibri"/>
              </a:rPr>
              <a:t>II этап – основной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      </a:t>
            </a:r>
            <a:r>
              <a:rPr b="1" lang="ru-RU" sz="2400" spc="-1" strike="noStrike" u="sng">
                <a:solidFill>
                  <a:srgbClr val="171717"/>
                </a:solidFill>
                <a:uFillTx/>
                <a:latin typeface="Calibri"/>
                <a:ea typeface="Calibri"/>
              </a:rPr>
              <a:t>Работа с родителями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-Призыв к участию в экологической акции «Покормите птиц зимой!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-Участие в конкурсе   «Лучшая кормушка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-Изготовление кормушек для птиц совместно с детьм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171717"/>
                </a:solidFill>
                <a:uFillTx/>
                <a:latin typeface="Calibri"/>
                <a:ea typeface="Calibri"/>
              </a:rPr>
              <a:t>     </a:t>
            </a:r>
            <a:r>
              <a:rPr b="1" lang="ru-RU" sz="2400" spc="-1" strike="noStrike" u="sng">
                <a:solidFill>
                  <a:srgbClr val="171717"/>
                </a:solidFill>
                <a:uFillTx/>
                <a:latin typeface="Calibri"/>
                <a:ea typeface="Calibri"/>
              </a:rPr>
              <a:t>Работа с детьми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Цикл занятий по ознакомлению с миром природы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Чтение художественной литератур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3)     Цикл наблюдение за птицами на прогулк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4      Дидактические и подвижные игры 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5)    Продуктивная деятельност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Рассматривание репродукций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иллюстраций, альбомов «Зимующие птицы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6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14240" y="285840"/>
            <a:ext cx="7786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a04cc"/>
                </a:solidFill>
                <a:latin typeface="Calibri"/>
                <a:ea typeface="Calibri"/>
              </a:rPr>
              <a:t>          </a:t>
            </a:r>
            <a:r>
              <a:rPr b="1" i="1" lang="ru-RU" sz="3600" spc="-1" strike="noStrike">
                <a:solidFill>
                  <a:srgbClr val="2a04cc"/>
                </a:solidFill>
                <a:latin typeface="Calibri"/>
                <a:ea typeface="Calibri"/>
              </a:rPr>
              <a:t>III этап –заключительны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Оформление выставки «Зимующие птицы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Оформление результата проекта в виде презентаци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- Анализ результативности Акци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nstantia"/>
                <a:ea typeface="Constanti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nstantia"/>
                <a:ea typeface="Constantia"/>
              </a:rPr>
              <a:t>                     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6624720" cy="3672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00040" y="0"/>
            <a:ext cx="835812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a04cc"/>
                </a:solidFill>
                <a:latin typeface="Calibri"/>
                <a:ea typeface="Calibri"/>
              </a:rPr>
              <a:t>Результаты реализации Акци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•</a:t>
            </a: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Расширен кругозор детей о зимующих птица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•</a:t>
            </a: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Улучшилась предметно –развивающая среда: литературой, фотографиями, иллюстрациями, стихотворениями, рассказами о птицах, загадкам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•</a:t>
            </a: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У детей продолжилось формирование   любознательности, творческих способностей, познавательной активности, коммуникативных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 </a:t>
            </a: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навык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•</a:t>
            </a: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Воспитанники и их родители приняли активно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 </a:t>
            </a: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участие в оказании помощи птицам в трудных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условия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600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7:36:32Z</dcterms:created>
  <dc:creator>User</dc:creator>
  <dc:description/>
  <dc:language>en-US</dc:language>
  <cp:lastModifiedBy/>
  <cp:lastPrinted>2022-03-22T14:20:31Z</cp:lastPrinted>
  <dcterms:modified xsi:type="dcterms:W3CDTF">2023-08-11T11:04:55Z</dcterms:modified>
  <cp:revision>45</cp:revision>
  <dc:subject/>
  <dc:title>Слайд 1</dc:title>
</cp:coreProperties>
</file>