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C6EB6-7FDD-4D02-B5B8-EA0C939089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6352-89DC-4D34-9EDF-EB7A87A308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7801E-B03A-44E1-BC30-8D0D957CE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8A7D5-5327-403D-91B8-0DC3B5DA1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AD520-D441-4C86-BC06-390437374F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82841-9A44-4C1A-8A25-4EE5BC44E1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A9CF2-F28C-4958-921F-2C6683B19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E1B16-D67D-4330-B026-8CCDE87F61F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BB865-B19B-43B1-8F77-024C3FEB72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7A610-BD0E-4DD4-8404-B1E38B0E1D1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779A1-02BC-43D3-9633-FEE816385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5B053-72EA-4EF8-81FD-B528F150BC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3136B-3818-4DE4-97AC-CFFD337C1D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8E83-8091-4E12-957A-ED62D45B72A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F017-29CA-4AB5-922C-17F418FF8F4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3CBE3-F21C-4690-8D14-1155901A97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7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18840" y="160020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7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18840" y="3964320"/>
            <a:ext cx="26481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65B2-EB1D-48C1-B4DD-AACD8E7B2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8E9D0-2C39-445D-A8F9-61B37055F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35DD3-7899-473B-8D4E-EED639FFBB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A121-A516-4E1D-8027-12C4D15B4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49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A2B0B-5A5A-4F9D-940C-9CC6410C5B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BDE9D-615F-4F3F-8C99-A47A7DEF21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1720" y="396432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B12E-5C88-46F7-B175-C35057A8A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600200"/>
            <a:ext cx="4013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822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27767-ECDD-4522-819D-2206C3622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ldNum" idx="1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E4E90-37BB-4C93-8279-1A430761484C}" type="slidenum">
              <a:rPr b="0" lang="ru-RU" sz="18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0" bIns="-180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49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2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2"/>
          </p:nvPr>
        </p:nvSpPr>
        <p:spPr>
          <a:xfrm>
            <a:off x="6553080" y="6243120"/>
            <a:ext cx="212904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969B57-1690-4FA7-B343-19E961B5C58E}" type="slidenum">
              <a:rPr b="0" lang="ru-RU" sz="1200" spc="-1" strike="noStrike">
                <a:solidFill>
                  <a:srgbClr val="eaeaea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-357120"/>
            <a:ext cx="9144000" cy="721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500880" y="285840"/>
            <a:ext cx="1638360" cy="1576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39800" y="4968720"/>
            <a:ext cx="1474920" cy="962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57160" y="428760"/>
            <a:ext cx="5357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171717"/>
                </a:solidFill>
                <a:latin typeface="Calibri"/>
                <a:ea typeface="Calibri"/>
              </a:rPr>
              <a:t>Тема акции «Покорми зимующих птиц» в средней логопедической группе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0112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00040" y="0"/>
            <a:ext cx="8358120" cy="32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Вывод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Дети и родители ответственно отнеслись к серьёзному и нужному делу – изготовлению кормушек. В ходе Акции было изготовлено и развешено на территории детского сада 15 кормушек для птиц, из различного материала. Дети заботливо отнеслись к птицам и ежедневно дежурили в «птичьей столовой», чистили, подправляли кормушки, пополняли их кормом. В ходе проведения Акции дети поняли, что они делают хорошее дело – помогают выжить птицам в трудное время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160" y="882720"/>
            <a:ext cx="9144000" cy="51386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"/>
          <p:cNvGrpSpPr/>
          <p:nvPr/>
        </p:nvGrpSpPr>
        <p:grpSpPr>
          <a:xfrm>
            <a:off x="539640" y="360360"/>
            <a:ext cx="3424320" cy="6087960"/>
            <a:chOff x="539640" y="360360"/>
            <a:chExt cx="3424320" cy="6087960"/>
          </a:xfrm>
        </p:grpSpPr>
        <p:pic>
          <p:nvPicPr>
            <p:cNvPr id="154" name="" descr=""/>
            <p:cNvPicPr/>
            <p:nvPr/>
          </p:nvPicPr>
          <p:blipFill>
            <a:blip r:embed="rId1"/>
            <a:stretch/>
          </p:blipFill>
          <p:spPr>
            <a:xfrm>
              <a:off x="539640" y="360360"/>
              <a:ext cx="3424320" cy="608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39640" y="360360"/>
              <a:ext cx="3424320" cy="608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602240" y="-198360"/>
            <a:ext cx="38574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 fill="hold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357720" y="25718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" name=""/>
          <p:cNvSpPr/>
          <p:nvPr/>
        </p:nvSpPr>
        <p:spPr>
          <a:xfrm>
            <a:off x="357120" y="1071720"/>
            <a:ext cx="814392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Актуальность Акции: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171717"/>
                </a:solidFill>
                <a:latin typeface="Calibri"/>
                <a:ea typeface="Calibri"/>
              </a:rPr>
              <a:t>Подкормка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lang="ru-RU" sz="2000" spc="-1" strike="noStrike">
                <a:solidFill>
                  <a:srgbClr val="171717"/>
                </a:solidFill>
                <a:latin typeface="Calibri"/>
                <a:ea typeface="Calibri"/>
              </a:rPr>
              <a:t>зимующих птиц приносит пользу не только пернатым, но и в немалой степени в  обучении и воспитании детей. Дети через беседы, познавательные занятия и наблюдения узнают о различных видах птиц своей местности, узнают характерные особенности внешнего вида, поведения, учатся заботиться о птицах, испытывают радость от осознания того, что, делясь крохами, подкармливая птиц, можно спасти их от гибели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009999"/>
                </a:solidFill>
                <a:latin typeface="Constantia"/>
                <a:ea typeface="Constantia"/>
              </a:rPr>
              <a:t>       </a:t>
            </a:r>
            <a:br>
              <a:rPr sz="2400"/>
            </a:b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947880" y="3425760"/>
            <a:ext cx="2050920" cy="14781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500040" y="428760"/>
            <a:ext cx="8429760" cy="61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Цель акции</a:t>
            </a:r>
            <a:r>
              <a:rPr b="0" lang="ru-RU" sz="2800" spc="-1" strike="noStrike">
                <a:solidFill>
                  <a:srgbClr val="009999"/>
                </a:solidFill>
                <a:latin typeface="Calibri"/>
                <a:ea typeface="Calibri"/>
              </a:rPr>
              <a:t>:</a:t>
            </a:r>
            <a:r>
              <a:rPr b="0" lang="ru-RU" sz="2400" spc="-1" strike="noStrike">
                <a:solidFill>
                  <a:srgbClr val="009999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закрепить представления дошкольников о зимующих птицах, их образе жизни, о связи с окружающей средой, роли человека в жизни птиц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alibri"/>
                <a:ea typeface="Calibri"/>
              </a:rPr>
              <a:t>Задачи акции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1) формировать у детей представления об особенностях жизни и поведения птиц в холодное время года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2) вызвать у детей сочувствие к птицам, которые страдают зимой от холода и голода, желание и готовность им помогать;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3) развивать познавательный интерес к родной природ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4) развивать коммуникативные способност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5) развивать творческие способности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6) развитие гуманного отношения к птицам, мотивации и интереса к их охран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7) вовлекать воспитанников и их родителей в активную природоохранную деятельнос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a04cc"/>
                </a:solidFill>
                <a:latin typeface="Constantia"/>
                <a:ea typeface="Constanti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buClr>
                <a:srgbClr val="eec85e"/>
              </a:buClr>
              <a:buSzPct val="78000"/>
              <a:buFont typeface="Wingdings" charset="2"/>
              <a:buChar char="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Calibri"/>
                <a:ea typeface="Calibri"/>
              </a:rPr>
              <a:t>-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 детей сформируется система знаний о зимующих птицах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eec85e"/>
              </a:buClr>
              <a:buSzPct val="95000"/>
              <a:buFont typeface="Wingdings" charset="2"/>
              <a:buChar char="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 развитие гуманного отношения к птицам, мотивации и интереса к их охране;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268200" indent="-268200">
              <a:lnSpc>
                <a:spcPct val="100000"/>
              </a:lnSpc>
              <a:spcBef>
                <a:spcPts val="476"/>
              </a:spcBef>
              <a:buClr>
                <a:srgbClr val="eec85e"/>
              </a:buClr>
              <a:buSzPct val="95000"/>
              <a:buFont typeface="Wingdings" charset="2"/>
              <a:buChar char="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появится желание помогать птицам в трудное для них  время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57120" y="857160"/>
            <a:ext cx="8229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i="1" lang="ru-RU" sz="3600" spc="-1" strike="noStrike">
                <a:solidFill>
                  <a:srgbClr val="0070c0"/>
                </a:solidFill>
                <a:latin typeface="Calibri"/>
                <a:ea typeface="Calibri"/>
              </a:rPr>
              <a:t>Ожидаемый результат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979640" y="4149720"/>
            <a:ext cx="4041720" cy="217008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8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3328c8"/>
                </a:solidFill>
                <a:latin typeface="Calibri"/>
                <a:ea typeface="Calibri"/>
              </a:rPr>
              <a:t>Этапы реализации акции: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Calibri"/>
                <a:ea typeface="Calibri"/>
              </a:rPr>
              <a:t>Подготов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Calibri"/>
                <a:ea typeface="Calibri"/>
              </a:rPr>
              <a:t>Основной (практический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3840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Calibri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171717"/>
                </a:solidFill>
                <a:latin typeface="Calibri"/>
                <a:ea typeface="Calibri"/>
              </a:rPr>
              <a:t>Заключительный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714240" y="4143240"/>
            <a:ext cx="2857680" cy="221472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428760" y="642960"/>
            <a:ext cx="835812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2a04cc"/>
                </a:solidFill>
                <a:latin typeface="Calibri"/>
                <a:ea typeface="Calibri"/>
              </a:rPr>
              <a:t>I этап –подготовительный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785880" y="1684440"/>
            <a:ext cx="7643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1.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Изучение методического материала по реализации экологических акций в ДОУ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2. Определение содержания, форм и методов организации работ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3. Подборка художественной литературы, дидактических игр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4. Размещение в информационном уголке обращения к родителям и детям принять активное участие в реализации Акции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00040" y="142920"/>
            <a:ext cx="8072640" cy="59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2a04cc"/>
                </a:solidFill>
                <a:latin typeface="Constantia"/>
                <a:ea typeface="Constantia"/>
              </a:rPr>
              <a:t>                           </a:t>
            </a:r>
            <a:r>
              <a:rPr b="1" i="1" lang="ru-RU" sz="4800" spc="-1" strike="noStrike">
                <a:solidFill>
                  <a:srgbClr val="2a04cc"/>
                </a:solidFill>
                <a:latin typeface="Calibri"/>
                <a:ea typeface="Calibri"/>
              </a:rPr>
              <a:t>II этап – основной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      </a:t>
            </a:r>
            <a:r>
              <a:rPr b="1" lang="ru-RU" sz="2400" spc="-1" strike="noStrike" u="sng">
                <a:solidFill>
                  <a:srgbClr val="171717"/>
                </a:solidFill>
                <a:uFillTx/>
                <a:latin typeface="Calibri"/>
                <a:ea typeface="Calibri"/>
              </a:rPr>
              <a:t>Работа с родителям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Призыв к участию в экологической акции «Покормите птиц зимой!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Участие в конкурсе   «Лучшая кормушка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Изготовление кормушек для птиц совместно с деть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171717"/>
                </a:solidFill>
                <a:uFillTx/>
                <a:latin typeface="Calibri"/>
                <a:ea typeface="Calibri"/>
              </a:rPr>
              <a:t>     </a:t>
            </a:r>
            <a:r>
              <a:rPr b="1" lang="ru-RU" sz="2400" spc="-1" strike="noStrike" u="sng">
                <a:solidFill>
                  <a:srgbClr val="171717"/>
                </a:solidFill>
                <a:uFillTx/>
                <a:latin typeface="Calibri"/>
                <a:ea typeface="Calibri"/>
              </a:rPr>
              <a:t>Работа с детьми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Цикл занятий по ознакомлению с миром природы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Чтение художественной литературы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3)     Цикл наблюдение за птицами на прогулке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4      Дидактические и подвижные игры 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5)    Продуктивная деятельность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Calibri"/>
              <a:buAutoNum type="arabicParenR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Рассматривание репродукций,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иллюстраций, альбомов «Зимующие птицы»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14240" y="285840"/>
            <a:ext cx="7786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2a04cc"/>
                </a:solidFill>
                <a:latin typeface="Calibri"/>
                <a:ea typeface="Calibri"/>
              </a:rPr>
              <a:t>          </a:t>
            </a:r>
            <a:r>
              <a:rPr b="1" i="1" lang="ru-RU" sz="3600" spc="-1" strike="noStrike">
                <a:solidFill>
                  <a:srgbClr val="2a04cc"/>
                </a:solidFill>
                <a:latin typeface="Calibri"/>
                <a:ea typeface="Calibri"/>
              </a:rPr>
              <a:t>III этап –заключительный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Оформление выставки «Зимующие птицы»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Calibri"/>
              <a:buChar char="-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Оформление результата проекта в виде презента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- Анализ результативности Ак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nstantia"/>
                <a:ea typeface="Constanti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9999"/>
                </a:solidFill>
                <a:latin typeface="Constantia"/>
                <a:ea typeface="Constantia"/>
              </a:rPr>
              <a:t>                                       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6624720" cy="3672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d9e9e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00040" y="0"/>
            <a:ext cx="8358120" cy="59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2a04cc"/>
                </a:solidFill>
                <a:latin typeface="Calibri"/>
                <a:ea typeface="Calibri"/>
              </a:rPr>
              <a:t>Результаты реализации Акци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Расширен кругозор детей о зимующих птица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лучшилась предметно –развивающая среда: литературой, фотографиями, иллюстрациями, стихотворениями, рассказами о птицах, загадками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 детей продолжилось формирование   любознательности, творческих способностей, познавательной активности, коммуникативных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навыков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•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Воспитанники и их родители приняли активное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 </a:t>
            </a: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частие в оказании помощи птицам в трудных 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171717"/>
                </a:solidFill>
                <a:latin typeface="Calibri"/>
                <a:ea typeface="Calibri"/>
              </a:rPr>
              <a:t>условиях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slow" advTm="6000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7:36:32Z</dcterms:created>
  <dc:creator>User</dc:creator>
  <dc:description/>
  <dc:language>en-US</dc:language>
  <cp:lastModifiedBy/>
  <cp:lastPrinted>2022-03-22T14:20:31Z</cp:lastPrinted>
  <dcterms:modified xsi:type="dcterms:W3CDTF">2023-08-11T11:04:55Z</dcterms:modified>
  <cp:revision>45</cp:revision>
  <dc:subject/>
  <dc:title>Слайд 1</dc:title>
</cp:coreProperties>
</file>