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D56D-BEFF-4352-80EA-DB52C96E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9791-535B-4FA0-BEEA-0B894CF3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98F6-C93A-4BC4-9D0D-177579C89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E65A-34B8-4391-80B2-0FF4555E2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3C3A-BFD9-42F0-A7C4-AC480435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AE54-E2E8-4422-B7A7-2257D5D5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0E85-B38F-45B6-BAB4-0B8DCB09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409A-CB0B-4280-B010-D81D4E4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C56-8825-4879-AC8D-6AEBCB37D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D9CD-0B24-4D26-858B-F828CAA9A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47B-A3A3-4641-8183-7C8B051B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96C6-D616-4F30-902E-C4FEFB552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67AE-1FBF-413E-A186-CB7AE38A67D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униципальное бюджетное дошкольное образовате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ский сад № 272 «Берёзка»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лан взаимодействия инструктора по физической культуре с воспитателями и специалистам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2023-2024 учебный год</a:t>
            </a: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структор по физической культу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4920" y="152280"/>
          <a:ext cx="8229600" cy="7686720"/>
        </p:xfrm>
        <a:graphic>
          <a:graphicData uri="http://schemas.openxmlformats.org/drawingml/2006/table">
            <a:tbl>
              <a:tblPr/>
              <a:tblGrid>
                <a:gridCol w="609480"/>
                <a:gridCol w="3505320"/>
                <a:gridCol w="2057400"/>
                <a:gridCol w="2057400"/>
              </a:tblGrid>
              <a:tr h="81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заимодействие с воспитателя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ветствен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нтябр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формление папок с рекомендациями инструктора по физической культуре для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гностика во всех возрастных группах детского сада по метанию, бегу; прыжках с места, разбега, в высоту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ступление на родительском собрании (по необходимост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кт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работать рекомендации по индивидуальной работе на учебный год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0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Одежда, обувь на занятиях физической культуры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«Подвижные игры  как эффективное средство повышения двигательной активности детей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я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е рекомендации по проведению дыхательной гимнасти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228600"/>
          <a:ext cx="8229600" cy="589752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Использование считалок при организации подвижных игр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екаб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дготовка комплексов утренней гимнастики для возрастны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чечный массаж при ОРЗ 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нвар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омендации «Физкультурно-оздоровительная работа с детьми 2- 3 группы здоровь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. медсест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нтья О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айд – шоу «Русские народные игры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вра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380880"/>
          <a:ext cx="8229600" cy="574524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стер – класс « Комплексы упражнений для профилактики плоскостоп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мощь воспитателям в оформлении наглядной информации для роди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Играем вместе с ребенком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дический материал «Гимнастика пробуждения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 Музыкальные игры малой подвижности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уз.руководит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прел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сультация «Физкультурные уголки и их значение в физическом развитии детей»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Оздоровительные игры» -обсуждение плана мероприят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762120"/>
          <a:ext cx="8229600" cy="3886200"/>
        </p:xfrm>
        <a:graphic>
          <a:graphicData uri="http://schemas.openxmlformats.org/drawingml/2006/table">
            <a:tbl>
              <a:tblPr/>
              <a:tblGrid>
                <a:gridCol w="380880"/>
                <a:gridCol w="3733920"/>
                <a:gridCol w="2057400"/>
                <a:gridCol w="2057400"/>
              </a:tblGrid>
              <a:tr h="97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актикум- «Использование нестандартного оборудования в физкультурно- оздоровительной работе ДОУ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оги физического развития детей всех возрастных групп ( карты развити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«Двигательная активность детей в летний период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спитатели всех груп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ищенко Ю.П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8-15T04:19:24Z</dcterms:created>
  <dc:creator>домашний</dc:creator>
  <dc:description/>
  <dc:language>en-US</dc:language>
  <cp:lastModifiedBy>Home</cp:lastModifiedBy>
  <cp:lastPrinted>2023-08-17T13:23:58Z</cp:lastPrinted>
  <dcterms:modified xsi:type="dcterms:W3CDTF">2023-08-17T13:53:05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