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EA32-0B4F-4C9D-8B29-097B66BC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FD4B-2EAD-4BFA-9FE9-96264CA5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2F60-7594-4856-9502-9DFA0FF37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19E7-C825-4D56-BCFB-5F1D6676F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727B-A093-4C01-AE31-5B3E7ADC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F4BC-C3DB-4544-AAC8-A09436F5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CC17-F149-4BF3-BA36-CBFCA73E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D97B-E466-44CC-829C-2813DA80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F2BC-6246-447F-B02E-6AAB0A3D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ABE4-9907-4FB9-B588-DF214D9F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78E0-E380-4C7E-9FE3-C49CEFC5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DF72-7EB3-47A7-B8F6-34AD98FD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F629-FB85-45EA-9BC8-4B11A3ABD0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ниципальное бюджетное дошкольное образовательное учреждени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ский сад № 272 «Берёзка»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ан взаимодействия инструктора по физической культуре с воспитателями и специалистам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2023-2024 учебный год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структор по физической культу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4920" y="152280"/>
          <a:ext cx="8229600" cy="7686720"/>
        </p:xfrm>
        <a:graphic>
          <a:graphicData uri="http://schemas.openxmlformats.org/drawingml/2006/table">
            <a:tbl>
              <a:tblPr/>
              <a:tblGrid>
                <a:gridCol w="609480"/>
                <a:gridCol w="3505320"/>
                <a:gridCol w="2057400"/>
                <a:gridCol w="2057400"/>
              </a:tblGrid>
              <a:tr h="81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одействие с воспитател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стве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тябр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формление папок с рекомендациями инструктора по физической культуре для воспита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гностика во всех возрастных группах детского сада по метанию, бегу; прыжках с места, разбега, в высот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тупление на родительском собрании (по необходим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аботать рекомендации по индивидуальной работе на учебный го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ультация «Одежда, обувь на занятиях физической культуры»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ические рекомендации «Подвижные игры  как эффективное средство повышения двигательной активности детей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ические рекомендации по проведению дыхательной гимнаст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228600"/>
          <a:ext cx="8229600" cy="5897520"/>
        </p:xfrm>
        <a:graphic>
          <a:graphicData uri="http://schemas.openxmlformats.org/drawingml/2006/table">
            <a:tbl>
              <a:tblPr/>
              <a:tblGrid>
                <a:gridCol w="380880"/>
                <a:gridCol w="3733920"/>
                <a:gridCol w="2057400"/>
                <a:gridCol w="205740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ультация «Использование считалок при организации подвижных игр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ка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готовка комплексов утренней гимнастики для возрастны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ечный массаж при ОРЗ 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ку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. медсес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нва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омендации «Физкультурно-оздоровительная работа с детьми 2- 3 группы здоровь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. медсес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нтья О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йд – шоу «Русские народные игры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вра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380880"/>
          <a:ext cx="8229600" cy="5745240"/>
        </p:xfrm>
        <a:graphic>
          <a:graphicData uri="http://schemas.openxmlformats.org/drawingml/2006/table">
            <a:tbl>
              <a:tblPr/>
              <a:tblGrid>
                <a:gridCol w="380880"/>
                <a:gridCol w="3733920"/>
                <a:gridCol w="2057400"/>
                <a:gridCol w="2057400"/>
              </a:tblGrid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тер – класс « Комплексы упражнений для профилактики плоскостопи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ощь воспитателям в оформлении наглядной информации для роди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Играем вместе с ребенком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ический материал «Гимнастика пробуждени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ультация « Музыкальные игры малой подвижност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.руковод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ультация «Физкультурные уголки и их значение в физическом развитии детей»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Оздоровительные игры» -обсуждение плана мероприя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762120"/>
          <a:ext cx="8229600" cy="3886200"/>
        </p:xfrm>
        <a:graphic>
          <a:graphicData uri="http://schemas.openxmlformats.org/drawingml/2006/table">
            <a:tbl>
              <a:tblPr/>
              <a:tblGrid>
                <a:gridCol w="380880"/>
                <a:gridCol w="3733920"/>
                <a:gridCol w="2057400"/>
                <a:gridCol w="2057400"/>
              </a:tblGrid>
              <a:tr h="97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кум- «Использование нестандартного оборудования в физкультурно- оздоровительной работе ДОУ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и физического развития детей всех возрастных групп ( карты развит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вигательная активность детей в летний период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8-15T04:19:24Z</dcterms:created>
  <dc:creator>домашний</dc:creator>
  <dc:description/>
  <dc:language>en-US</dc:language>
  <cp:lastModifiedBy>Home</cp:lastModifiedBy>
  <cp:lastPrinted>2023-08-17T13:23:58Z</cp:lastPrinted>
  <dcterms:modified xsi:type="dcterms:W3CDTF">2023-08-17T13:53:05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