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91F9-AFA5-49D3-9730-F0709F603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63E5-CF7B-4253-AE9B-FEA5312AB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BF1E-9E9D-4D45-B8B5-5DD863AFE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4161-7437-4BAE-80D5-F6EFAA380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28AC-BDCD-4732-AE51-F7C8DD942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E931-1F7F-4BC4-A859-FC811B9CF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05C0-3403-4129-B72E-29DB6EFBC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05AA-6056-46A9-8F06-E6DC7EB38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A453-7689-48B9-9148-9CEA51490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DDAD-5353-41E0-98BB-171E646A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CE51-26F1-46BD-9D87-21F48EE10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1C56-DCDB-4EBA-9A22-50B41B73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14FAA-281A-4DA3-B38B-954B54E3F0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униципальное бюджетное дошкольное образовательное учреждение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тский сад № 272 «Берёзка»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лан взаимодействия инструктора по физической культуре с воспитателями и специалистами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2023-2024 учебный год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структор по физической культур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4920" y="152280"/>
          <a:ext cx="8229600" cy="7686720"/>
        </p:xfrm>
        <a:graphic>
          <a:graphicData uri="http://schemas.openxmlformats.org/drawingml/2006/table">
            <a:tbl>
              <a:tblPr/>
              <a:tblGrid>
                <a:gridCol w="609480"/>
                <a:gridCol w="3505320"/>
                <a:gridCol w="2057400"/>
                <a:gridCol w="2057400"/>
              </a:tblGrid>
              <a:tr h="817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роприя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заимодействие с воспитател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ветствен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нтябр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формление папок с рекомендациями инструктора по физической культуре для воспитате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питатели всех груп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ищенко Ю.П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агностика во всех возрастных группах детского сада по метанию, бегу; прыжках с места, разбега, в высоту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питатели всех груп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ищенко Ю.П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питат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тупление на родительском собрании (по необходимост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тяб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работать рекомендации по индивидуальной работе на учебный год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питатели всех груп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ищенко Ю.П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сультация «Одежда, обувь на занятиях физической культуры»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ищенко Ю.П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ические рекомендации «Подвижные игры  как эффективное средство повышения двигательной активности детей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питатели всех груп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ищенко Ю.П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яб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питатели всех груп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ищенко Ю.П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ические рекомендации по проведению дыхательной гимнаст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228600"/>
          <a:ext cx="8229600" cy="5897520"/>
        </p:xfrm>
        <a:graphic>
          <a:graphicData uri="http://schemas.openxmlformats.org/drawingml/2006/table">
            <a:tbl>
              <a:tblPr/>
              <a:tblGrid>
                <a:gridCol w="380880"/>
                <a:gridCol w="3733920"/>
                <a:gridCol w="2057400"/>
                <a:gridCol w="205740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сультация «Использование считалок при организации подвижных игр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питатели всех груп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ищенко Ю.П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каб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готовка комплексов утренней гимнастики для возрастных груп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питатели всех груп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ищенко Ю.П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чечный массаж при ОРЗ 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ктику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питатели всех груп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. медсест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ищенко Ю.П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нва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комендации «Физкультурно-оздоровительная работа с детьми 2- 3 группы здоровья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. медсест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питатели всех груп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ищенко Ю.П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нтья О.П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йд – шоу «Русские народные игры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питатели всех груп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ищенко Ю.П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вра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380880"/>
          <a:ext cx="8229600" cy="5745240"/>
        </p:xfrm>
        <a:graphic>
          <a:graphicData uri="http://schemas.openxmlformats.org/drawingml/2006/table">
            <a:tbl>
              <a:tblPr/>
              <a:tblGrid>
                <a:gridCol w="380880"/>
                <a:gridCol w="3733920"/>
                <a:gridCol w="2057400"/>
                <a:gridCol w="2057400"/>
              </a:tblGrid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стер – класс « Комплексы упражнений для профилактики плоскостопия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питатели всех груп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ищенко Ю.П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мощь воспитателям в оформлении наглядной информации для родите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Играем вместе с ребенком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питатели всех груп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ищенко Ю.П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ический материал «Гимнастика пробуждения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питатели всех груп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ищенко Ю.П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сультация « Музыкальные игры малой подвижности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з.руководит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ищенко Ю.П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пр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сультация «Физкультурные уголки и их значение в физическом развитии детей»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питатели всех груп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ищенко Ю.П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Оздоровительные игры» -обсуждение плана мероприят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питатели всех груп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ищенко Ю.П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762120"/>
          <a:ext cx="8229600" cy="3886200"/>
        </p:xfrm>
        <a:graphic>
          <a:graphicData uri="http://schemas.openxmlformats.org/drawingml/2006/table">
            <a:tbl>
              <a:tblPr/>
              <a:tblGrid>
                <a:gridCol w="380880"/>
                <a:gridCol w="3733920"/>
                <a:gridCol w="2057400"/>
                <a:gridCol w="2057400"/>
              </a:tblGrid>
              <a:tr h="97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ктикум- «Использование нестандартного оборудования в физкультурно- оздоровительной работе ДОУ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питатели всех груп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ищенко Ю.П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и физического развития детей всех возрастных групп ( карты развит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питатели всех груп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ищенко Ю.П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питат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Двигательная активность детей в летний период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питатели всех груп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ищенко Ю.П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8-15T04:19:24Z</dcterms:created>
  <dc:creator>домашний</dc:creator>
  <dc:description/>
  <dc:language>en-US</dc:language>
  <cp:lastModifiedBy>Home</cp:lastModifiedBy>
  <cp:lastPrinted>2023-08-17T13:23:58Z</cp:lastPrinted>
  <dcterms:modified xsi:type="dcterms:W3CDTF">2023-08-17T13:53:05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