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8EF-312A-4316-B0B5-E9584CED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139-65C2-48F2-A63F-B084986D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60D-53B4-4258-AE79-3DE3BCF2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548-5C8B-4010-A0AF-2D3EA49E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119-FE29-475C-9168-94E34C94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AF5-8B41-4A53-A682-7E84290B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309-3430-401D-820F-358177DB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9CB-4E3A-4725-9B1F-0E990060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03F-A600-4418-91D8-B3591A90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2B6-69B2-453F-9654-6F50E340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CDC-F878-4A01-A78C-75BB843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B05-CCE8-4795-BE54-06E4EE41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5EE1-8AA1-49C6-B5D0-A82EFED9B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ds04.infourok.ru/uploads/ex/0631/000388a0-f7fd8827/img0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17680" y="1195200"/>
            <a:ext cx="41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он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21924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71520" y="-122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252960" y="3516480"/>
            <a:ext cx="5848200" cy="326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3760" y="42840"/>
            <a:ext cx="4908600" cy="341640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-1440" y="4508640"/>
            <a:ext cx="323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антелее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440" y="249192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еонид Пантелее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268880" y="-20520"/>
            <a:ext cx="4875120" cy="688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05:19Z</dcterms:modified>
  <cp:revision>66</cp:revision>
  <dc:subject/>
  <dc:title>Слайд 1</dc:title>
</cp:coreProperties>
</file>