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2331-BB39-4947-969F-B24492D2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6DA7-CBD9-45A1-A8B7-152F42B2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2BB6-2799-4A90-9963-25BC590D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BF5F-7929-46C3-84D5-9C88A57D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33A1-F5D5-4A2C-B2E9-B780AA83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0F27-25AD-45AC-B959-1B06BEAE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E01D-E36F-4A32-9949-7980159B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E939-8B97-4AD0-9E2F-0A02BD48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5F95-FF95-42F6-8F25-B94A84CC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0E5A-853D-44C2-A496-C7CA8364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9434-132D-460A-A307-D0B371BD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A5AE-958B-4F47-91AA-1CFFFF7E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D34F-ECEB-43F1-B2B4-4FA5889D38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s://ds04.infourok.ru/uploads/ex/0631/000388a0-f7fd8827/img0.jpg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17680" y="1195200"/>
            <a:ext cx="412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он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219240" y="-2746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371520" y="-122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3252960" y="3516480"/>
            <a:ext cx="5848200" cy="3268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23760" y="42840"/>
            <a:ext cx="4908600" cy="341640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1"/>
          <p:cNvSpPr/>
          <p:nvPr/>
        </p:nvSpPr>
        <p:spPr>
          <a:xfrm>
            <a:off x="-1440" y="4508640"/>
            <a:ext cx="323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антелее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440" y="2491920"/>
            <a:ext cx="427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Леонид Пантелее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268880" y="-20520"/>
            <a:ext cx="4875120" cy="6886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6:53:26Z</dcterms:created>
  <dc:creator>Колян</dc:creator>
  <dc:description/>
  <dc:language>en-US</dc:language>
  <cp:lastModifiedBy>Ксения Тетеревлёва</cp:lastModifiedBy>
  <dcterms:modified xsi:type="dcterms:W3CDTF">2023-08-20T17:05:19Z</dcterms:modified>
  <cp:revision>66</cp:revision>
  <dc:subject/>
  <dc:title>Слайд 1</dc:title>
</cp:coreProperties>
</file>