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299-25D0-418E-A82C-4DF0CFAB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CAA-523F-4CFE-B2A5-986BDDD1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EC9-3D75-40C7-9E8E-E9A43EE1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849-BAB6-401B-AE53-58F2EE29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D1E-6E8A-4923-A6B0-32F92548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45B-919E-4617-98C0-5C772D22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962-A95A-41D1-9DED-03AF9D7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9C3-A10C-4EC6-977B-308E2A5D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EE7-E64C-4205-8A2E-F7A04403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795-68CE-41F0-AC0B-17768D0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356-04A2-4F1F-85B3-E04D868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98B-F907-4F40-8707-9597414C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68F-0639-4B9C-B536-DC4BE837C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ds04.infourok.ru/uploads/ex/0631/000388a0-f7fd8827/img0.jpg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17680" y="1195200"/>
            <a:ext cx="41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он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219240" y="-2746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71520" y="-122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252960" y="3516480"/>
            <a:ext cx="5848200" cy="326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3760" y="42840"/>
            <a:ext cx="4908600" cy="341640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-1440" y="4508640"/>
            <a:ext cx="323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антелее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440" y="249192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еонид Пантеле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268880" y="-20520"/>
            <a:ext cx="4875120" cy="688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6:53:26Z</dcterms:created>
  <dc:creator>Колян</dc:creator>
  <dc:description/>
  <dc:language>en-US</dc:language>
  <cp:lastModifiedBy>Ксения Тетеревлёва</cp:lastModifiedBy>
  <dcterms:modified xsi:type="dcterms:W3CDTF">2023-08-20T17:05:19Z</dcterms:modified>
  <cp:revision>66</cp:revision>
  <dc:subject/>
  <dc:title>Слайд 1</dc:title>
</cp:coreProperties>
</file>