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2EB-83C3-49C9-B93E-9D8795F3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11D-9807-48F7-98C6-AE2DEBA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E12-76FB-4A77-A750-2D9F0AC8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352-69D9-491D-8223-42565E8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8A2-26EF-48F6-9C18-A017C3A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AFA-FDF5-4013-94D9-860C6666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181-11F8-4B23-AA57-8DE8977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E53-20D0-4F41-A96E-9E62AF1A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69B-7B0F-4D2B-AB8C-EE4B5AD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776-831B-4EC2-91DC-24CF6EB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5E5-5FC8-4F60-A969-8E87450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46D-0CE1-4AD0-B8D1-F0282AA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A55D-FAFE-424F-8AF6-567797706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10200" y="3144960"/>
            <a:ext cx="90324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541600" y="2998800"/>
            <a:ext cx="950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3638520"/>
            <a:ext cx="10238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24492" t="0" r="22449" b="0"/>
          <a:stretch/>
        </p:blipFill>
        <p:spPr>
          <a:xfrm>
            <a:off x="4643280" y="3740040"/>
            <a:ext cx="8654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356000" y="2583000"/>
            <a:ext cx="11289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13:48Z</dcterms:modified>
  <cp:revision>76</cp:revision>
  <dc:subject/>
  <dc:title>Слайд 1</dc:title>
</cp:coreProperties>
</file>