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AE6-7830-48CD-931B-926F6142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B23-D6BE-4520-8978-18D2DD76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364-CAE9-4D46-871B-8F973E45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530-4EC9-47AB-AFE6-60C44EE7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A1A-6AA9-48B3-A275-F486DCFC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610-3B32-4567-8285-8C77D46B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10F-0C60-465E-8D71-99C51200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354-F763-403A-9F3F-BA7C7580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7D2-4F3A-4F25-9D0A-FD02428F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37D-1DF3-43C7-B165-3D1BAF66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7A2-AFC1-4C50-AEC1-667A4718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C47-300A-4505-A61B-3D71D87A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0553-DE07-419D-AB8F-63FDDD660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6010200" y="3144960"/>
            <a:ext cx="903240" cy="131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541600" y="2998800"/>
            <a:ext cx="9507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4572000" y="3638520"/>
            <a:ext cx="10238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rcRect l="24492" t="0" r="22449" b="0"/>
          <a:stretch/>
        </p:blipFill>
        <p:spPr>
          <a:xfrm>
            <a:off x="4643280" y="3740040"/>
            <a:ext cx="86544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356000" y="2583000"/>
            <a:ext cx="112896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13:48Z</dcterms:modified>
  <cp:revision>76</cp:revision>
  <dc:subject/>
  <dc:title>Слайд 1</dc:title>
</cp:coreProperties>
</file>