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E5B-50D4-4FD5-8C01-47CDE6D6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E8C-C0DB-44EB-9419-B8F1A681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39E-ABF6-4696-8666-FD80C643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2FE7-03D4-4A7F-A1B1-CCE3358C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FE6-9CC8-44FB-A98C-B21C4DBE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2EF-A615-4634-8912-85E63B7A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0C3-887A-4DA6-BB6C-3EB2BD6E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8E2-8897-4EC0-9401-FB042ACF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A9A-B1A6-494B-9FB7-10AB52DF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691-16DE-4946-B471-C04B8C2F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35F-82BE-4FFB-8C99-3F608665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393-9754-4E34-93D3-A30C6DF2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2433-D967-40E3-917D-12266B299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6010200" y="3144960"/>
            <a:ext cx="903240" cy="131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541600" y="2998800"/>
            <a:ext cx="9507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4572000" y="3638520"/>
            <a:ext cx="10238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rcRect l="24492" t="0" r="22449" b="0"/>
          <a:stretch/>
        </p:blipFill>
        <p:spPr>
          <a:xfrm>
            <a:off x="4643280" y="3740040"/>
            <a:ext cx="86544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4356000" y="2583000"/>
            <a:ext cx="112896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13:48Z</dcterms:modified>
  <cp:revision>76</cp:revision>
  <dc:subject/>
  <dc:title>Слайд 1</dc:title>
</cp:coreProperties>
</file>