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551-42BB-44F0-AF9D-8E47C1AD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426-469D-491E-9536-362B5304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FD9-1F6C-420F-874C-9BD53CBA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4C6-D592-4564-ABA0-0CE3E470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9CF-1AF6-4555-8181-0878A878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E89-6DA1-4B56-96A8-535F9689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214-AA4C-4E91-9A68-77F1CABA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C9A-8FE4-46AE-9786-E5A49A87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DA4-953B-4EDD-B178-617C5D0B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245A-C561-4CF9-A730-0675CADB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9B6-E31F-4208-AB55-9EAAEB99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0AF-E850-48DA-A4AE-983F9517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DCD5-758F-41AE-A07B-B9619A4B0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120760" y="1773360"/>
            <a:ext cx="103032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1158840" y="4797360"/>
            <a:ext cx="7621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6303960" y="1785960"/>
            <a:ext cx="81612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6035760" y="4797360"/>
            <a:ext cx="109044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260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ве лягуш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924360" y="2706840"/>
            <a:ext cx="17636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едполож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блако 5"/>
          <p:cNvSpPr/>
          <p:nvPr/>
        </p:nvSpPr>
        <p:spPr>
          <a:xfrm>
            <a:off x="1290600" y="1959120"/>
            <a:ext cx="6626160" cy="3695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6"/>
          <p:cNvSpPr/>
          <p:nvPr/>
        </p:nvSpPr>
        <p:spPr>
          <a:xfrm>
            <a:off x="2125800" y="3429000"/>
            <a:ext cx="461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7"/>
          <p:cNvSpPr/>
          <p:nvPr/>
        </p:nvSpPr>
        <p:spPr>
          <a:xfrm>
            <a:off x="2124000" y="3781440"/>
            <a:ext cx="461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8"/>
          <p:cNvSpPr/>
          <p:nvPr/>
        </p:nvSpPr>
        <p:spPr>
          <a:xfrm>
            <a:off x="2125800" y="4118040"/>
            <a:ext cx="461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nukadeti.ru/content/images/essence/tale/6340/1029.jpg"/>
          <p:cNvPicPr/>
          <p:nvPr/>
        </p:nvPicPr>
        <p:blipFill>
          <a:blip r:embed="rId1"/>
          <a:stretch/>
        </p:blipFill>
        <p:spPr>
          <a:xfrm>
            <a:off x="3924360" y="981000"/>
            <a:ext cx="94140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576440" y="4148280"/>
            <a:ext cx="907920" cy="70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6210360" y="4130640"/>
            <a:ext cx="10364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35:54Z</dcterms:modified>
  <cp:revision>68</cp:revision>
  <dc:subject/>
  <dc:title>Слайд 1</dc:title>
</cp:coreProperties>
</file>