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3C26-C1F6-44E1-A62F-9BD1A8C5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8D6-6298-423D-A681-F7F256F0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E80E-5957-4B69-A981-7EC9B26B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4F8C-5D05-4C9E-8DE1-4D2B59DC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A73E-315C-4953-A154-BBDC88B3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3BD1-9D2B-4B5E-B0B6-29B48798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C532-DAB3-4880-AD98-D31F4FC9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ACD4-EED9-457E-AD63-1F47EE04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3483-A0E7-454A-8EC4-1CABDFFA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E480-89F0-4681-AAB4-033ACC07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2D43-FE2C-4663-8161-D52F80A7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A3FE-B24C-486E-AC58-9317547F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A49B-D362-477B-973E-1F87DC5E29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2120760" y="1773360"/>
            <a:ext cx="103032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1158840" y="4797360"/>
            <a:ext cx="7621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>
            <a:off x="6303960" y="1785960"/>
            <a:ext cx="81612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5"/>
          <a:stretch/>
        </p:blipFill>
        <p:spPr>
          <a:xfrm>
            <a:off x="6035760" y="4797360"/>
            <a:ext cx="109044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12600" y="10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Две лягуш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3924360" y="2706840"/>
            <a:ext cx="17636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едполож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блако 5"/>
          <p:cNvSpPr/>
          <p:nvPr/>
        </p:nvSpPr>
        <p:spPr>
          <a:xfrm>
            <a:off x="1290600" y="1959120"/>
            <a:ext cx="6626160" cy="3695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6"/>
          <p:cNvSpPr/>
          <p:nvPr/>
        </p:nvSpPr>
        <p:spPr>
          <a:xfrm>
            <a:off x="2125800" y="3429000"/>
            <a:ext cx="461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7"/>
          <p:cNvSpPr/>
          <p:nvPr/>
        </p:nvSpPr>
        <p:spPr>
          <a:xfrm>
            <a:off x="2124000" y="3781440"/>
            <a:ext cx="461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8"/>
          <p:cNvSpPr/>
          <p:nvPr/>
        </p:nvSpPr>
        <p:spPr>
          <a:xfrm>
            <a:off x="2125800" y="4118040"/>
            <a:ext cx="461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nukadeti.ru/content/images/essence/tale/6340/1029.jpg"/>
          <p:cNvPicPr/>
          <p:nvPr/>
        </p:nvPicPr>
        <p:blipFill>
          <a:blip r:embed="rId1"/>
          <a:stretch/>
        </p:blipFill>
        <p:spPr>
          <a:xfrm>
            <a:off x="3924360" y="981000"/>
            <a:ext cx="941400" cy="72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1576440" y="4148280"/>
            <a:ext cx="907920" cy="70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6210360" y="4130640"/>
            <a:ext cx="103644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6:53:26Z</dcterms:created>
  <dc:creator>Колян</dc:creator>
  <dc:description/>
  <dc:language>en-US</dc:language>
  <cp:lastModifiedBy>Ксения Тетеревлёва</cp:lastModifiedBy>
  <dcterms:modified xsi:type="dcterms:W3CDTF">2023-08-20T17:35:54Z</dcterms:modified>
  <cp:revision>68</cp:revision>
  <dc:subject/>
  <dc:title>Слайд 1</dc:title>
</cp:coreProperties>
</file>