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564-330C-4124-BDB9-CC405391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2B3-1CBD-465F-A736-06B59D90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899-AF4D-40D8-9D20-D9532226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A28-8599-44B1-8E60-5E9841CB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6E2-2A7B-4051-8167-9941E33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31C-3CD9-40EB-BBCA-70681578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ABB-FF42-4E02-AE93-C728618D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64B-77B6-4BA6-BAB8-767A4DBB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B2D-1738-476E-B102-21230B14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DD8-DC6A-455F-AAA7-9ACA084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A3D-E45F-4071-858C-792EECE6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0BE-2238-4048-BBEE-9E5D143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913-5AE8-421A-AFEE-393F69810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120760" y="1773360"/>
            <a:ext cx="103032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158840" y="4797360"/>
            <a:ext cx="7621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6303960" y="1785960"/>
            <a:ext cx="8161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6035760" y="4797360"/>
            <a:ext cx="10904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260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ве лягуш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924360" y="2706840"/>
            <a:ext cx="17636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едполож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блако 5"/>
          <p:cNvSpPr/>
          <p:nvPr/>
        </p:nvSpPr>
        <p:spPr>
          <a:xfrm>
            <a:off x="1290600" y="1959120"/>
            <a:ext cx="6626160" cy="3695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>
            <a:off x="2125800" y="3429000"/>
            <a:ext cx="461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7"/>
          <p:cNvSpPr/>
          <p:nvPr/>
        </p:nvSpPr>
        <p:spPr>
          <a:xfrm>
            <a:off x="2124000" y="3781440"/>
            <a:ext cx="461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8"/>
          <p:cNvSpPr/>
          <p:nvPr/>
        </p:nvSpPr>
        <p:spPr>
          <a:xfrm>
            <a:off x="2125800" y="4118040"/>
            <a:ext cx="461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nukadeti.ru/content/images/essence/tale/6340/1029.jpg"/>
          <p:cNvPicPr/>
          <p:nvPr/>
        </p:nvPicPr>
        <p:blipFill>
          <a:blip r:embed="rId1"/>
          <a:stretch/>
        </p:blipFill>
        <p:spPr>
          <a:xfrm>
            <a:off x="3924360" y="981000"/>
            <a:ext cx="94140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576440" y="4148280"/>
            <a:ext cx="907920" cy="70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6210360" y="4130640"/>
            <a:ext cx="1036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35:54Z</dcterms:modified>
  <cp:revision>68</cp:revision>
  <dc:subject/>
  <dc:title>Слайд 1</dc:title>
</cp:coreProperties>
</file>