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C46-C72A-4633-9CD4-2FE2DBEA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A27-FDF7-499D-A555-856AC343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56726-7CAE-4AE6-AFA5-80E27427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2FC1E-D628-4048-8352-851278F6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47A9C-9D44-495B-AE72-AE187FB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29172-003F-4716-BBBA-75BE8849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548A6-766E-4F69-B334-02852AB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9CB6F-24AB-4614-AEF8-9E9EB443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213FF-5E3F-47D7-B3B5-CFA5230E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82F6D-1181-4101-9E81-E487FF74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67F2F-3B32-484B-AEC2-00B3E62B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9DA59-696A-48D3-8D7C-E36B9FAC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9EE-ACC1-448F-A705-DBF98BC6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083A6-4665-4EB5-835B-3F0D0F64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B4F14-8789-4873-B1E8-B573967B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8B75A-EDD3-4F08-A628-DEBABAFA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6E7CF-B1F9-44CC-844F-CFF78AA3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F056C-E259-493A-8E14-6ADE2A08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54267-1FB0-432B-B2C9-07DBB918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4B7AC-918C-40A8-9765-FF85BA8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40023-C0E4-405B-9D96-31DAA2BB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D052F-E2A6-4057-9CBC-EDCBF9B6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62463-6957-4AA1-8569-68E8E0CA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D1E-E2DF-4947-82CD-D17A06AD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4FFA4-ADB8-46BB-839D-1F3884CD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A84DD-C9A7-459B-9043-6BFDC32B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7417D-48AD-4ADF-9059-028EE3D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60691-904F-42AC-B101-1BF443E2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B7674-4B8B-4F67-88DE-B0075317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88699-5353-47E1-8143-F6FA9A58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08D72-AD81-4FD3-A22B-5380216F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84700-4257-43F5-A3EC-695536FB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09E99-23C8-4AE3-90AE-724E3224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B1B44-B7FC-4B9E-9147-16D32993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2FE1-E664-422F-B6A3-242B0BD1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F057F-C15C-4DE5-8278-6B99CC1C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C4A9D-E1E7-4FCE-96BB-BB35C75A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B5F65-A3D1-43A5-88E8-5271B1BB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D301C-0CE0-4AE8-BF2F-46AB8720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103D4-0C80-42F1-AE01-C4CE05CA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33420-8047-42D3-985F-777562B5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D5AB0-7868-4412-94D6-982947E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245B8-48F4-4135-A72D-49435138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F3D32-A4C1-471D-A540-83F5A91F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F5FD3-C4DB-413E-9480-24101F75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D3D0-AB81-43D7-B47C-4250C041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673CC-DF39-4BB7-B314-8E0883EC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D333B-D801-4D46-859B-CD5225D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339BC-F1D9-4E96-92FC-9253D289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DBB7D-DA6B-45C4-A0C4-A9AA4009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348D3-F7B3-4440-8B46-A3EA8A2F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EB157-8B9B-4DB2-9168-A11ED7B6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D68E7-09E2-480B-9852-CDBED0E6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AB819-8B7A-4576-898D-53FC5C9B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5765E-B72F-4646-B83F-F419F74F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501A3-21E7-40F7-B62E-F0C568E2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01B1-5C98-441A-9384-6167EC69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91F75-D512-4EF6-A7D6-EB02D117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7D35D-D3B8-48DD-A697-9544C417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B533F-0BB0-4F2B-A398-4D99AB23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B892A-28E9-44CF-9EC8-E8027475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34B20-6B78-40A1-851D-C021F5A6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E14EB-43D5-4B4A-9EAD-F0AD13B7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9FC49-A908-49E2-8449-8FD6FEB6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94432-1558-4688-A28A-C03F35D5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2D12E-A7CE-4E6C-ABBA-1466EDB9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51FA6-65EF-43CC-8259-67A7595D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5CE6-679E-43AD-B828-6DE0747B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D4E84-43E0-42BE-8C82-63E439B3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8D707-941E-4E4C-A6B0-F315D2C9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3D129-AC24-4EF6-86DF-A99BCF27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62851-D847-4171-8680-F60F8FD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857A7-2222-4DF1-BC3E-D2D83FE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70D66-7ED6-4E76-9990-94BACEB1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C64CA-811F-460E-BB96-FB0A7D21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F6466-5EA1-456C-9FB3-10FE40E5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1E40B-09BD-49DB-ADAC-3BBBD926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BF319-B730-4B2A-BF65-5EF1F628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A675-DD0F-4AC2-806E-93C8F3AB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593D2-2523-4D3C-84A2-9E6B115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0ACF2-0262-48BC-B1B7-E46CF2DA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DB963-BC19-4E73-BF8A-4A881E4C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3D15A-1B3B-4372-9998-54B5EE87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5B8AD-424E-4D36-AB32-27989D2C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6680F-227E-413D-8FA6-23E14E80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AD2BB-0AAA-44FB-A730-A9368165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D4A6A-E6BD-4C7B-81D2-EF371F07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8C3E4-0D5D-4D81-A1F5-722EEDAC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FD0A1-B0AA-491D-B29B-D71E572F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27BB-518C-4FC7-95CB-E8295C2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AAA69-8F43-4591-BAC4-1B716784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613A6-997F-43C1-A713-188531F1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9AB59-79FE-4438-9B50-9EB7862A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5872D-E4C0-4CA9-A39C-C6E8B6C4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185AF-67E5-40EC-B300-901D8406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636C3-08C0-4773-97F1-E2826A1C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C1E20-E342-4B2D-9B7B-DE1BB11D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19A4E-5863-4097-A5A5-7978FF40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B6AAF-D651-46A1-8FEB-57E53D24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9731A-F7E6-41FC-BD53-4C36FD5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2D36-6100-4B20-A6BD-96946ADC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983F2-3F18-4EE1-9924-7F282E67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48E59-969A-4DAF-8D36-D8DBBB33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F2BBD-3015-4175-9804-2C7A1176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BBF8A-F6A0-4558-A97D-9FF3B3EF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E37D3-ECD8-4B47-B7CD-8C16B3B5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0C958-4ED8-4C0B-8624-B64B3EE5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79FA0-F4CD-4137-85D2-689CA77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C34B6-90F5-4890-A700-DF083140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40424-0DEF-472F-A5E2-10A15889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BE05C-5198-4BE9-975E-8D6C761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4C3-95DE-4E7A-A6C0-86E90926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BF97-81E9-4D98-9D04-2863692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52801-E108-47DE-8C32-03B35B6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C9BCD-E40B-4F29-BF7F-F8971ADF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7E3D2-EAF3-49DD-AC4E-4ACD58A8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20A7C6-11CC-42AB-AA19-50A3CA7B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369C4-ABBC-43C6-BDB1-85791951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8C76D-48E3-483B-BECD-4B08A4C3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68CD9-7566-4E79-AE86-5E2E11AA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01FFD-08F6-4D1F-9B53-A94BD915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47D8A-082E-45B3-923F-CBD18F77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872F7-7B57-49EE-8D35-4200173D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092A-2252-44BC-B6C4-6C33B721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78083-AE35-4AF4-AEFD-5D2B380F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2C54F-EE80-4020-AA41-6A8CE2B3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9626B-87BD-4E6A-B4DA-E365155E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022FA-3C6A-40B7-9EAD-57309D4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39741-4121-47B5-856E-DE1CBFAF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64B02-4E52-4101-8759-150DF6B8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65532-2A64-411D-9D75-C05EF97A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D3E1B-EC93-4529-A86A-D09CA91F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16DBB-B814-4C58-B5D3-19873C9B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CF923-F275-45C3-8DD7-A0D49D43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8119-3BB0-4F53-9233-D15A5886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CECA0-B657-43F8-A9B3-DE7EB371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00A82-51E1-498F-9EA4-461D352D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5F19AE-A5BB-46E1-8A5A-2C752CE8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96DD8-350E-47F6-8026-0FC1D118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8047E-7255-49A1-B1A1-0A2B21F0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E60AB-3FDD-403F-BB23-30E9A6E4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0D7A3-584A-4603-B57E-1697D344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E11BC0-0B0B-4BB3-9884-F69991F6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DD9DD-9DAD-4150-9AD1-86666923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5303DF-F2F7-43E3-8793-DCD97609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A8C1-3F13-4094-A3C9-A1B679AC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B7FEE-D890-437C-9880-A370C0A4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729AC-FBF1-4A84-BC6A-1AECAC47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AAC38-A3BA-4450-9E94-CC6C0D74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4A82F-582C-454B-8B68-2DEADD2D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28165-0921-48BA-87E1-C3542805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627C2-D7FF-4C8C-944B-397BF9F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04843-FBCF-450E-B0E5-B0DBE2E8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4C429-513E-41DA-ACE1-184B6A3E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B1447-CA72-4217-B0EA-22B74F9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468E5-0E77-4318-B606-2034834A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651D-49FD-4FD6-B882-23106480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6FF94C-8769-4640-AB5A-9D0BA1A0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7B586-C052-4DBF-B46A-ED8BC3A1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1F43E4-E763-4C4D-86F8-E4C71E4A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40174E-621C-4476-963A-2D3D2FA7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AE2834-B74F-44FA-8E87-06E4E10A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BB73C-ED7B-4267-B560-7C1A21AF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B1564C-B454-42F4-8599-319787C0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667B70-DFBF-441E-8A85-D56FE4A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4313C-AF0C-42B8-A003-E699ED5E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741B0-06FA-4E5D-B9B2-D17804DE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A50B-0230-4B8B-B896-045B83C9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FC1C95-8016-43FA-90B1-B2400AB9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7E70C-7AE4-4E5C-AD1E-8850AEE2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C3536-44F7-4D90-8DAC-21D2FE03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43871A-F2B4-4F71-B0FC-B965919D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3F6567-0B15-4004-AF72-C626893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C1B959-C252-43A0-8154-20439CA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BD74AF-38B9-4ED1-9CBD-4A0A812B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50F309-115C-40F3-8300-24C61F00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789BD7-9236-4204-85D6-3EF01A11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F93A15-F4B1-43F2-A74A-7B1FBD4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4BD7-04CE-4340-ACFF-A6400740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239CD-0858-4AB7-962E-33DF0DA8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A5130-E8B9-4C8D-83B7-8BA107A7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2D2C98-CE76-4BF7-B414-2B4BA953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AF4DAA-F64F-4D17-987F-0A31383D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BF9A54-C8CA-464D-BBA5-2F7E9B6E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992D14-4D9A-4588-B8D0-4918F5F6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8B91AC-CA3A-4255-B864-AB4996B5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251D15-6804-4A5D-A333-3568E2EE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83D163-ED27-4A57-981A-174091AA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AEB6AC-2628-4372-940B-37135900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7003-155C-4FEA-BE01-D4AD5839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0D7DAD-79A9-4AB3-8C15-0B626153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E2A30A-502A-45E7-96AB-F3981101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870073-56E3-4EC7-BE73-B3B94F82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0733A3-CCF6-470D-8EC2-6AE18B5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404DF3-5626-4626-9025-E3B8D567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8D0220-8AAB-4E9A-B98C-BA812203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BEDC90-CABA-446A-90D6-ECFAC8FF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BEB832-139B-4B07-BD2C-1E52C115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1EDBB7-B2B3-43BE-A754-466791EA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B712D-225D-4FFD-A899-12C66C63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6766-E577-483D-8451-0C7B36FF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97B6B3-2033-41CA-8378-E7E0271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81D47B-23B4-4D36-BAC8-DE9ABAA0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20522C-B3E1-4FD9-BCD1-F9FFAB27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E6AF88-3B81-441B-BC7D-176A316D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1C94A8-5750-4D1E-84DA-00066EFC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B2FE0-4DB8-45AC-846A-D2C4B1F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90512D-0D6D-4646-A65B-7C007505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4013EE-9A9D-46C3-BA30-41EB9BAD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712EE6-04BA-4A8D-B6A7-88308AA4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9D3604-E3F5-404E-9010-8EEC4DED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5A7D4-92B4-46C2-B9C3-2BAAB7A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7E285A-94C4-4215-9710-8215CF4E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32AE71-F1B3-400D-A78E-FDF9CF76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ABA702-85E8-46C3-95D1-A2B5295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073A0C-1EF8-4059-99A7-5FDF86EC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D81B88-0419-4F7E-B927-78446106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F4841B-A361-4E51-BDE6-188B8CBF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E006DA-55BD-4588-9D65-31A96D20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1F2981-B2E3-4C4A-B479-FDA7C944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5ABB56-89FF-4D30-973E-998C0F57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D4C57E-C381-4942-A48C-6CD7F3B2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8C1-323C-4AAC-ACC1-A5319BB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F73B-C221-48E1-8BF1-C261E736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356362-98B1-48DE-AA41-7B0EAB0D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BD329-F8A8-4E3B-8E9F-850CC882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3655-D556-4B8E-AC29-75E510D2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CFFF-B86E-432A-8718-CF7AFF58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EDF5-BEFB-4B11-8AC9-5748F8A2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D0690-200E-47AC-B7E2-1707BDCD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974F-14FA-4E19-AAD7-EB74BC54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ABAFD-DC97-4834-8EC1-DB2CC882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CA138-7F0A-4D37-AB40-1688FC49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AF41E-43FD-4D8F-B08F-45DBB0EB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55B-5E58-4E5D-8B73-4E48E2E9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3A82-55A0-4DC6-A552-26C74949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5C4B-6BAB-4691-80DE-E7A7C2C2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C48C-5E56-4289-A935-0EB0516E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D854-5F77-43E2-BF90-1719BC92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A1436-7562-4D1B-9308-4EE49B92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B60C-9416-42F0-910E-6106A246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0E34-325B-455D-96FC-60CB1928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EFAA-E6D0-418D-9673-B4991494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D0BA6-E25E-4134-B993-BE6FD3F0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CF251-4629-4113-B40A-EAD0E4A8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9DC-9E77-4397-B0F1-6FCE1FD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83AA6-161C-446F-9919-CED67775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7AD7-4854-4FC1-B331-EC63A348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D35D-9F3A-42AF-ACD9-87DA96F4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2661-1AEC-4A9F-95BD-00FDC01E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B063-211D-4859-A04B-6C580C7A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780F-F104-43B6-A6E2-BA217D84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32D25-5C2E-4B07-BC67-AC55E7AD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46F54-41AE-4EBF-9DF0-4ABE1254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42C3-9D95-48D6-88E6-D3B4A685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2E4AF-A208-45F1-B847-A6901D73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E4B-DED2-4D33-867D-ED59B81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C79E-69D9-4BA5-BF79-D1CAF6EE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2B02-D8D1-48E5-B503-21E31297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D9819-CB82-495F-B332-4C605F34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7CFF-1724-4D15-9616-09AF3501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7EC19-61B3-4C8E-A969-C93F4AC8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FF838-B9C0-48BB-8954-291FAD8E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25B5-0A37-4FAE-8ED8-CC8D1770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26BB-E02B-4CDD-ACA4-0274C4A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560C2-90B3-4F77-B292-897F039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D47A-A4A6-4971-93CD-803084B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EDA-E8BA-4AE4-B281-96669BB0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EAAA5-3753-413D-9D3B-95C75146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7BA9D-9EB2-4A69-8BE2-260EE25F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04AB6-FD25-4D61-8CC8-66CCE70D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10BDE-E05C-41DA-9202-AEF5EC5A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10D68-A970-497E-95D1-05A0F6D4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EA923-CF73-4D32-A246-44DCFE46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BED58-00F2-44DD-B8AA-BAA2B0E0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4756B-D9DB-464D-95A0-D839B0B6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3324-2586-4DB1-9FAF-E243197B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D6F38-2BBF-4556-B321-54B536E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77F-DF32-4091-958A-275B8C6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D0470-A50C-42E5-B0CC-CB600FAC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2781B-9674-4DAE-ADBE-FA93DB6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4BF11-DE61-4E8E-BBB1-2CA5DFE7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B6679-13AB-4BA3-9BE4-8F2D98BF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44878-234F-44DF-B21C-705E6C2B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A1E69-7E3B-4C43-941F-1F15E586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3414A-5D99-4973-8D16-6B13AC75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844F-0692-4EAC-8E27-49F2BCCF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9F9F9-C83A-4250-AB42-51566791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BE95D-DEC8-4DB0-B9EE-4AF09556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690-813A-421C-AD9A-81D46D3D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3EBA-A84A-4FF9-8389-AFA0B21C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7660D-DF8E-4F7E-984E-1ACB2A6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CDA79-3BB8-442D-BF0B-AD1A9F3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3E775-A3A7-48D3-9C24-F3F30CEF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16711-BF6C-40C8-A5FF-A74193CE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FB0FB-641B-4704-94BA-10A106F9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C4435-D4F9-4F83-B00B-3344B675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2C71B-AE9C-463A-BC9E-8738C7EB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7F055-DE9F-4143-A53D-32E9973C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09400-C754-4F24-B318-15899998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CF40-B2F0-4BFE-BCF1-7010C79C8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2C14-FD0E-4694-B6C1-B78AAD383E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9110-DD1F-4DF9-9840-A5B8F779F1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9BD7-96E6-4820-9211-F8CDCA4A75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08E1-6F95-44E4-A655-0A5F1FA3FA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F7ED-8048-4384-ADF9-DABCA846CB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F6A9-13C9-4023-91D9-6982C04779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DBB8-0934-4651-8095-FCB91F4CB7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6688-941D-4720-9EF8-944942EEE2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1FA7-D401-4552-B4CB-85FCFC535A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B79-9C28-429F-88D1-78E3841DB0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6191-1E7E-4474-AF3C-A271AE2A4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8825-9EE2-470C-BD74-EB74D438A3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8FB1-8E03-4934-85CC-0CCC7D3642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C5C8-E305-4A89-8DF6-3578561CD0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49D1-4A86-491A-95A9-D5A28CFDE7F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1194-B0EB-4074-9D3B-441F505468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0FC-623A-4515-8A52-4740461DFB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6414-67BB-4559-BA1E-3DC276EBD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E147-81C7-4158-85D1-0AD3AEEE17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9BB3-2184-4608-A24D-D05E3E9949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418F-369F-4CD2-93BE-FD9EE61A93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7730-120E-4D72-8BE4-24A1DC3282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44C-2F07-48DB-9B66-C529C01486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16E3-55A2-4FF3-98FA-821FE78B3C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76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239760" y="189000"/>
            <a:ext cx="871380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83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39:14Z</dcterms:modified>
  <cp:revision>72</cp:revision>
  <dc:subject/>
  <dc:title>Слайд 1</dc:title>
</cp:coreProperties>
</file>