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0F5-4056-41F3-9B60-8F7E162A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B28-8E33-4B37-9946-236DFDF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5922-4E0E-4EDC-9B22-7676538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A46D-47E5-4730-93A7-7A3A872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6CF0-306E-4844-9395-614327C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EB644-C529-4149-9A13-E3868C9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9CB47-C9E5-4DEB-AF04-CCF8C64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07EF-E7DE-4D63-9410-088B547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35280-1F63-4B17-BC4A-D5530304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8EB5-07AB-45E3-885C-3A80B199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5D2B1-FDE0-4E00-A9B3-AEACDC77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2990C-9544-40D8-8EF3-A51CC163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982-1FD7-4CE8-AAD1-75C09F7E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B19E8-B7ED-4C90-8ABB-8E6030D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7F5B6-70DA-4CE1-B326-0CB1495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A6210-6A0F-47E6-A141-CD707CF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77D57-30AA-4F1B-A85E-C3C48764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65F24-BEAA-4B4A-9F5C-A31A200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B1A98-CBEB-4FB4-B35E-8EF6E94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37859-E9F9-4B36-AF14-F30D432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41DE7-8136-4328-812C-45A9FB7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80D5-0B65-4888-830F-49ABC69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B087-69C9-463E-8BAE-D357C2A7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E54-504B-4ABA-A77E-133E5711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52810-61DE-48DA-BDF7-C4AB3EC9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1C872-D8AA-4B55-AC6B-BBF7F77F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E7BF5-5002-4733-BF27-5D2EB19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898D9-9D86-4403-A7E4-5BC794B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4483-2535-459C-9F9D-BF47DED9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65F36-6646-4828-8665-A5026FB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72DCD-E415-4E8F-A8EA-294AC54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DA6C-9E29-498E-9CD0-6E58386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33584-D382-47E2-870F-0D6FEE5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8E553-78C5-4AB7-9AF9-031D9287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89F9-B4D4-42A0-AB74-B40E1AC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DBF2-24C1-44FA-8A44-FEAAE9A8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09FA-6FB5-4E16-9E69-F48C1BA2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3AC0B-2A18-427C-9EB5-F170E197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47CB8-441E-4F61-BB37-BF83B410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52636-40CC-4718-8C38-0AA712C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F120C-5CD4-4E8A-BF76-9F0FF10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EFD32-8FB9-4560-8F26-5E33AE36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05634-EAF6-4B0E-B415-4F10A1A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CC747-7919-4432-928B-B3363EC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93AC1-0C4A-4F37-B06B-CB7E811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7CD-8CE0-4BE8-9296-7B1AB2D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2BE21-F11F-4A5B-9924-0C05544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273DB-BEDF-42FD-9677-B9505D3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0A2EA-A858-488A-8787-B7C34EE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33E4-0DDA-41BA-B3A1-37AEE803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1B340-E654-4E4D-935D-5F5F8F4E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12995-891B-4492-B9AF-B013DC2E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37065-0441-474C-BAFD-35019804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9859D-E392-4E2E-868A-C2329C1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D0840-43B2-46C2-9BE2-AC0A237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3CB70-A211-41E3-A77A-F53B671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A35-6AB5-4776-8B86-C624731A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F7385-D42D-4F90-BF04-F19C55AC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552FE-4683-4F63-A0FD-415DE63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97181-6A4D-44B4-A91B-6763386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81BCB-0176-49CE-AEFB-2015BAC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CEC7A-590F-4FBF-844E-AE840D6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4DBC8-80FE-492E-89FD-B31B901A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78CF9-B0A7-495C-8997-ACFEE2C4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408D8-A26D-4B10-8304-B66AFFFB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B53FD-7F38-4A20-9AFA-3673F49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7209C-8750-4C1F-B9DE-8FBADD4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BCE-B070-4FAF-9C67-D88474F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8421A-51E3-44BA-B069-14BA2B9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1C0C1-11DF-4F8E-8882-56751FFA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3D907-CE9F-4773-A24F-62BC21D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4B7C7-6EA2-4EEA-82C4-94A0923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7776B-301C-408F-A351-BBF7570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5461B-38E6-4E3B-B335-19558BF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6C37F-D50E-4CDE-AB7E-D32D8C8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C8602-C32A-4BF6-8E84-E0A96B43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5B901-56D5-4744-8B65-BE368617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9D742-A85F-4173-8B6D-16B38E33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957-EF05-48E6-A071-76A4978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2D783-16B6-458D-A847-B6B5063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18FB4-67CB-4C69-A54D-4021EB9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67F21-1317-416A-A9E0-CA9C54C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8DB73-F378-4FAA-A190-C6192527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3A917-C578-43E5-AF10-D6EE865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56506-DEC7-482E-B044-BBF5A83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A963A-4A0B-45E9-87A7-065E534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F12D7-763A-4564-A182-7EBAFE9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D53CD-2DAF-41DE-93E3-56EF0A4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716D6-C8FC-4420-ADA8-4F868747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DD0-33D1-4135-B93D-AC767E84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55AA7-3592-437F-85A6-695B1256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3D5FD-E1A8-4B1C-A6EC-6292D4A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8A0F6-A435-4FDA-A76A-FF08E2E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636F1-42B9-4AFB-ACFC-1587B5DC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A9F37-55C0-4560-9158-EE0DD909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F8D08-614E-4A15-9E2C-7D7B504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769D8-21E3-4161-8C96-CE4ED895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98679-2542-4B5B-9C61-C9FDDC4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AB80B-FF76-426E-96D5-04293786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F5247-3C2A-4D7D-AC9A-D3009DE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B16C-7D6B-4CC9-BBA6-C7C15C5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EE862-7CA2-4AC1-AC5C-0D6E868D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F6275-39B3-49DB-B26B-D6D3DE39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B4BCF-10D4-44A6-8361-AA05486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1DCEF-0BA8-42B9-9F1A-F22EE0B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E56BB-FE71-44C1-A53B-096A286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12493-2987-4D04-83F9-0F2D2DB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C2115-691B-45C2-8DCF-0574DC37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D26C7-E202-4C9E-A9D5-E5A6092D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F7C7E-81BC-4E68-A61D-65155FF6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459A3-38A6-44C4-972F-920ACCA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3D5-939A-46D5-9CA0-EA4B15D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FEA-100E-4E2E-95C4-5811911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924A3-6F3F-45AA-93BA-CAA6DBE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8AC1A-7B05-4914-B8EB-AB12601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1582C-26F2-4FC9-9DD0-DDF962E8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8E67F-D3CC-402A-B8AB-4393CE5B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C1E06-1534-48C1-98DE-DD9B9B2C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A2084-513B-4431-B23C-3C3B3DEF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08E36-65C8-4622-B339-C2AC945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20096-5E79-4107-B31E-D3DD1B7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E90AC-0518-42F0-A49D-DC9D46C4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D4521-92E6-4A60-B071-50514F3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48C-2B66-4B6A-9BA8-76E8BF4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BD66E-7438-4AD6-A331-6478651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DA82F-A6D1-4256-BBD5-78B473F8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FDA8C-FED3-4989-84B4-4A15A2F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1E9F8-5358-42C4-8CC6-FC87524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C61D0-CBDA-4E79-B93E-EE58900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19DCB-F9E0-433D-873A-614F6277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EC744-82C5-4777-A526-5F634404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D268C-AC85-41C1-851D-CE08CE5D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9FC2E-56E0-43DE-B376-CA241F1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1B2FD-D930-4E3A-AA25-735EA97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34B5-970E-474F-B872-0CCB61CF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43404-A781-48D0-AA56-17E2CAD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73B5D-6AB4-4A3F-81CE-694EA89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C1450-B254-4004-B633-D6ACEE3D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64911A-023D-432E-B25A-F7F9C7C9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5C416-5D40-42CA-B47A-E5A086A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991E9-E604-405A-9BDD-45082EE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1C000-6F7A-4DBB-A3F0-DE64B05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042ED-C09A-45BA-8F7C-6816DAAB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DCC6F-11A7-48E1-A710-10FC3483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BD78D-F82D-4096-8AFA-CE39C3AD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07D-6AF1-4582-B818-A3D0DB26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75F91-B721-4996-9708-B838F8B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38B1A-2E0F-43B0-A561-AE921F3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BA97F-EC13-461E-915D-84AFCDE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A87F1-3004-43AB-9E3D-9C24D250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7F7CF-3DED-40C6-AF55-C78938DD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70195-2893-46E4-A750-D9863F31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834C9-53CB-4D9D-BE5D-CB80FE7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E1173-0969-428D-9A7D-A63E2B3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83D8D-C9F0-401D-99B0-8CDC23C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2DBDF-8BE8-4A0A-A4D8-ABE9FEBD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FD9-1640-40BE-AF77-187172B2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BEC3A-F79B-4571-9A9F-4063E834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4F192-A910-4A4D-B365-3F4CF2B8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146F2-922E-4713-A5F5-EBFA34F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FBEF8-6EDF-4F4C-8FF0-12733F27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F0ABF-1FA7-4CA6-A3F1-C684EB5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E1F8E-02E1-4B2D-A1BE-D751C429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A3DDB-0FC8-48FE-82CB-904E5C1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427C0-D03F-473F-984F-6DB49B7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EE2AF-7DD4-4DEE-91FE-573EB40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805CD-20FB-459C-97CC-9D56A95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7030-015A-43DB-8787-B89D7EF3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74D50-74BE-42D6-BA06-D2FCFE7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C33F0-1605-4D5E-8DAC-FD367E88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5E1EA-B6FF-443D-897F-41B1D3F1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FD96B0-9DCA-4FA3-A1FE-C10F536F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6B680-611E-4643-815F-57E155D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47F55-6B8D-45C4-9A96-90C9228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5029E-8306-46DF-9A74-7DEC7D1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D2FEE1-DB5A-45CE-B6E6-6CFD414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FB266-4EA8-48F6-BB98-6E4D7D3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D172B-BF91-4747-89CF-26AC5EC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7A31-EE22-4425-98AF-093BE853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36BDE1-7885-4D26-8F4F-E1436F65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5A877-389A-4C61-8630-E368A7E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B96D96-EB81-4293-B062-08B53D5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8872A-4C10-4241-B5A1-1F671555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DEC27-AFEF-426A-AF92-622F8C4C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44E41C-0BC4-4B59-AA39-F37299B8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084D3-5B8C-4D9D-82D8-DC3929A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949A3-33F9-4698-B4F8-41D1FAD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486F8-B827-41D3-AC53-DE66364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FD4C1-C7CC-498A-B4D0-1CDC45D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8C8A-1C6A-48EF-AC19-321AEA68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5F38C-181F-4B1B-BFD1-1D33913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EFD33A-F559-422B-9F8D-87D2CA5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EE8D1-267A-4BA4-B8EB-F72BD34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C8113-5C93-4EA2-A5DF-A732039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1926A-8AC7-4902-B29B-DB954BF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5BD85-44BA-429D-BAE4-A905BA82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D5B9CB-CD4B-4F41-80B6-B76D7D3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30417-98BC-4BA8-8FFC-4BA6ABED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210BB7-922D-41D9-88DC-5503500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31BCD-C0DE-4313-8E49-6473DB4E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F60B-B3B0-470F-B47C-547B6E9A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04B55-A4DC-4E06-9010-3D38416E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42FFD-1C47-40DC-97DE-114E397C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AB81A-F724-4EA3-97A8-0B80512F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CEBD70-D3B5-4B76-87F0-D32FBC1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ED689-CDAE-4ABB-8D65-EC0187D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F9B44D-D6F4-4266-A0EA-9355BD5B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F1C603-EA75-4A5C-B56B-2BFC9BB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40C8A-B445-44DF-9B05-55A93BA3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342BA-7ED1-46A5-B49B-8A923C7D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63820B-03A7-4076-BC86-5AF77786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10EA-26EF-4BCD-88FC-F87833E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0CE5A8-6D80-4005-915B-FA893E3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44C40F-652C-4439-8216-CF545A91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377489-6DE6-4455-99E5-0E5DC185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1B78F-86C0-4558-AB55-37D9075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A28AD2-CFDE-440A-890E-B55ECE0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2940E0-C8D0-4C7C-AB08-6506C71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39B3AC-7703-4315-BD37-6EAC90F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DF50AD-2A18-49D5-8BAB-C701827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A6938-D23B-4A07-B23F-801E4413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B30D0-C26B-4295-B0C3-BF2026AE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256-E7C6-426F-A3B8-6DF3A51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C741-E1F0-4E3A-B741-D85C090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008472-8C44-4A12-B694-CBC95B27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6CC1-A980-4970-833B-775CD94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1FE6-46C1-4D12-AC52-36CBBFD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CBA1-C729-457B-8F42-1F2C1ED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723A-770E-4A5C-82CE-83C5C965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A41F-9DE3-4C4C-A752-37A5BF70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25E7-24A5-43E3-AE3D-B3F5701B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2D1C-20D4-4933-9231-25C2A12A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597F-1F15-4BB7-A939-FCBF6DDA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CCCF-C0A1-4327-9D65-16F1C27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D71-48DE-4BA7-AE1C-7BC403F9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332D-CC20-451D-85D9-4803215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4A5A-9262-458D-A75E-891328BC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5EEF-A991-4AE2-A040-39ED5C45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1BC4-D433-4BAF-8B9E-D9C1399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B9C2-8601-41EA-A232-DA8AC39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C299-D3A4-4D58-805D-C239628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4B92-DE5E-412E-9253-852080C3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23D3-6C67-4777-9CFC-5AC16CDB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CE45-38C4-4389-AA72-E415159D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2C46-18A4-45EB-BDE3-6E628450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0B1-A7DD-4E6B-A83B-13DCBC5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C3B0-6A19-4457-919B-C52A5AC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4FC2-0E96-43D2-9AF3-21FA93E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BC48-06C6-4344-A39E-0058B8A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D596-63F1-449E-A3C3-4629E1B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A7A8-61BA-4CE9-B39A-CB943CE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9529-8E93-422D-AEEB-415A319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AE7D0-A265-41CB-A4B4-1ED5889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2ED63-6316-48CF-B148-E992681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7476-B2A6-48C9-BA31-19F87FA3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A75B-B7B0-46D9-9B26-8B17B94F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1E6-8540-4B78-8A71-1A2E77A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BEEF-F629-420C-8C6C-B77A3C3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A8A7-EDA3-4A15-8E1F-A08205F2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F66B-34E5-41B7-A5F3-62638CD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0B0B-AB58-4552-A0FB-076427E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4F34-3ECC-447B-90EF-8D6B1C0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3E82-7843-4562-8B9B-DC48418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457FF-4A42-4182-8390-D7AD140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1F89-C2D2-443E-B0F2-E7554C8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F41B8-E675-46E8-879D-D99D946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DB86-3B98-4077-A9C3-A68B27E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2DA-5A26-4B62-B401-75AA20E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5FD8-9DC1-4486-8854-3D7D5B3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708F5-4D92-4359-AFD9-7B5240FB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3C35-C21C-4FDD-87DE-E7B82BD7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B108-F666-452F-B351-6C6A1E49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44FD-D0D8-43FA-9D79-A952F6C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0FA36-7623-4115-960B-DF7337D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4A28-A970-4A67-8913-E91650E5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C3BA5-4D2F-42A7-948B-B0AD936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879A7-971D-4ECF-BC41-26C0D12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8690-14F1-4E30-888C-97D7FA1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988-34D5-4598-9BE6-EA4F513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D9CB-5AE5-4B5A-99E3-A8454DD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2DCB-0703-4A17-A532-FDDFC7C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6ACB-8F95-4D55-996D-1CA5CB80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F318-9BA6-4DDF-9282-DCF9FD85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C526-E179-4ABE-A930-B64CC2A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9901-321B-4256-B9F1-48E28D65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DA59A-1D9F-403A-B25A-D3BE65D2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6B64-9BBA-4F1A-BF6B-B2B56C09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1817-5BF1-4773-A828-F59718F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F291A-D47A-43AE-BA0C-426A6C09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CF4-9A31-4CEF-B398-7B25402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50E5-6B97-45D9-921C-BCA9794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84AF-D63D-43CB-B16F-F72689D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EFE4D-A2C0-473E-A018-723C445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E2E8-EC2A-4413-A3D0-12A4CA2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16BCE-4952-4323-AB2F-E43348D9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22A3A-B116-48D0-86C7-DC0D51F1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DF88-6729-4081-BF17-A97406F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78E9B-EA98-4AAF-8F2A-3BBD4DCC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F803D-D78B-42AD-9BB8-20FDE83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3CCA5-0038-48CF-9D3E-2CA36EDC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457-6AF7-4DBB-9601-619109632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116-1FBF-4B3B-BCB2-94A0B007F3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79D-051A-4680-A861-592E08C872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85B-847F-4802-A6CC-49FD383A62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886-F466-467E-9FD2-23B43CB1A4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2EA1-2752-4165-BF09-9196FE4899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90F-443B-425E-90D8-29A2BEC0D8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480A-9D21-4CAD-BCF1-8D04918614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035-D8AD-4D01-BB27-7B6313BA69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14DD-F9C7-4279-B4F2-C8B4117B12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9A4-5432-4B42-B654-39C3DA0661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97F-878A-4E55-98CD-7320F4A82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09D-AE35-4DDD-84DA-444340F738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2BA-1E02-4CE2-953F-C55D48EF08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6BB-4CF0-4D9F-8B55-E549E2374C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BAB8-346D-435F-BB91-023206BB0F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174-5EE3-47A7-86D6-C4A3D0A15D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A9D-467D-4CC5-92D1-F604D104EF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57F-DB82-40DF-94FA-DB857B26B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9B95-020F-4A8B-89B7-BFEE7D7F57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27A-A27B-4933-816A-37335D6AB0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94A-E0A6-48FC-9714-7D0D9BAD70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214-9B18-481D-8C46-D8467AB299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0DEA-CC65-45D9-B10E-53D9F7EB9D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C02-9842-42EF-9A67-3457A2C0EE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76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239760" y="189000"/>
            <a:ext cx="871380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9:14Z</dcterms:modified>
  <cp:revision>72</cp:revision>
  <dc:subject/>
  <dc:title>Слайд 1</dc:title>
</cp:coreProperties>
</file>