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018-2F4C-4322-83DF-F85C4083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33D-1BFB-4DDE-91DB-0E8C056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21FE-CEA4-4084-AEBA-577660A9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FB8D-4214-44BE-BA10-C860889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69B29-06BD-4812-964C-8EFF6C37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2F8BC-9F40-4EF4-AF7B-8E4C8EE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CF5A-DAA7-4993-BA9B-B5CAEF5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8BF11-9CCB-4E88-97BB-43A93C6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C0083-BA65-408E-9B3E-9FFCA6D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BBD6-CBE7-45C8-A4FE-A111AA4C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289F-A917-40E8-B1FE-5908AE9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166E7-38F0-49AF-B59A-E6823A03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4AD-5928-452B-8B9A-44E876BD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44D4C-E551-436C-8ECE-40320BB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58F85-E448-43EC-A5C0-845E830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5082D-55B5-4865-B3B6-AC32B3B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85DFE-90A4-4A07-92CA-08F41DF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568CE-A437-4B0F-A3D3-3045525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3083-E2C2-4A52-BD92-F6BA857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3D5E7-52D8-4520-98EE-C664966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D2AB7-4A1B-4C5F-836D-6DA3C14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0B1F7-F0F7-4DF9-A5D1-F9F9AA4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09CB-D217-4B16-A8B8-E76BCDAB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CB8-1089-4FA6-B0B2-7A9389A2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444D-06B4-4CD4-958E-8E49D882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5943F-AC7B-44F4-AB7A-BB36B5F8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705B6-BC45-466C-AE49-B788965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65196-AD8A-48C1-94AD-5173644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F103-9ABC-46C5-9B45-93716823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AC8CE-FCFB-4718-B871-4A26148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96D1-20C8-4C1F-A86B-96B5AD5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16E7F-CAF0-4934-913D-412B0F2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812A6-0CB1-4058-A59C-667A9E4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3702-F460-4BC7-B90B-54B3C2D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821B-0130-4910-BDBA-F953017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9DF6D-BFDD-4BFD-984E-029A1BE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0BEF-8490-44C9-B4B3-D120B9DB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56E36-A57B-41FF-BA76-62992987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EA9BA-FF61-4E06-8580-5F89D881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398C0-2DD3-46DA-92C8-F4A5D480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5A647-3A24-471C-83A6-0AC1AAE6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A132C-0421-41BF-BCC3-A9A9BE69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F0538-C21A-426F-9A7A-32CC39C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C60D-A7FD-49A9-94AE-E2803F7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0C033-98C0-4AE9-B214-56EBE1A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2C5-2760-4705-9286-1DF7793A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E9C6D-2E1B-4995-AAD8-F0ED20C4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B03C6-F330-474D-AE0E-3AE307E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05E6E-F4A1-42E5-9F25-3173591F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DF068-5235-4A2A-BC4E-21C54111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DCA7A-70E4-467E-A385-1B67039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8974F-23EE-46EF-87FA-8003F488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0147D-8524-4DBE-A5AC-BCF9585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D7548-7D60-46CF-BD8B-0D0DF91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9358E-3E18-4254-AE0F-64A1F8B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00203-F50B-445E-9EA8-5C2AED5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0DE7-C90B-4C9F-807B-DCE6DBD5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E011E-F48E-47E9-88E2-A8EA3E66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23726-E3AA-4CB7-B3FA-76202418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A381C-9F20-45E4-8782-76181B3F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23697-1482-475F-ADA0-24FA165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86A42-11D3-45EB-A724-EA79B1B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C9B80-4993-444A-A837-0FB4137B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E5075-FEB4-4806-9850-1A3CDC4E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ADF16-0A77-4F86-8D7A-F15D5C91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09E82-61D6-4A83-8740-9BC41BA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2599E-9E1B-4551-A8EC-2186D2D9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5C9C-6C0B-48B4-AA01-9575A5A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6B29B-C32E-4007-ACF5-D7000E56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6AF73-5518-48CC-8DF3-BD92146F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E623F-7086-4467-BA05-BB0A205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A475D-0363-4559-B45B-E360B6B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5F72F-70A4-447E-AB3D-C8E611B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0765B-E3A9-46B6-93E9-6310C87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A5024-9B55-42F3-9270-BA13A37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511A9-CA84-4484-8D55-2F74A24B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5FB53-1780-4546-AA95-A5CCA05F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BD907-E595-48BF-BA14-56D9A634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6359-8CCB-40CC-9F02-937F978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90172-AE8A-45B0-8924-D19F9F5B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27BC0-882F-430F-B364-EF7137C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B572D-4535-426E-9E16-9FB5BF31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8428C-3521-4B50-834F-72342C0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D0B40-EC3E-4C95-8F05-DBE00AB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B4942-686C-4144-A7DA-EF239D3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487C0-9E88-4B23-9DB5-EC0EE3C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2CAC5-7EB3-4B7D-B3A6-2CF1E415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CDF60-E76B-49EF-8E7C-CB204E3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EEB3D-9CD2-4C88-B9AF-B7290CE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64A7-DA8B-44CC-9C53-7E257EF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7B36D-14DF-4638-B668-CC360E83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33C0A-F693-4992-B308-1C688E04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4840E-97A6-4C90-9F50-0B962CB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C5D42-BBA6-4EE9-9283-FEDDB0E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2A47A-28F7-44B2-9778-2D70504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631D9-F00C-446A-A3BD-1C4459F8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562D7-A299-45D2-BE9B-8E0F3A24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89A11-CA94-4E0C-BDB1-9AB548C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5FB9D-9D54-4EA4-9186-2864FC9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F9833-FDDB-434F-88F6-91BBABC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BD7-0F18-44D0-8BE6-1975460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C3F5D-2C0F-4805-977A-4471152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54D00-0281-4B12-B598-CA977BA3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2D81B-F44E-42F9-99E8-5248D3FD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7602B-2B06-44B8-B3B3-5C60A676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B36E8-2982-4B96-A90E-3B1FD45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2EF22-8F19-4718-A623-0A9157FE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F2531-F92A-465D-8387-CB4EBF42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0E9A2-D98D-485D-AD9E-16F9789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A01A6-A6EE-4220-801D-BB649AF0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CE0DF-0A78-465E-AA45-5F367FD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ADC-F8EE-475D-A80B-580DC2D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F38D-076E-4D93-99E0-0B0B5A9A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5FA0E-3E5A-4549-AFAC-8B4A857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135C5-E25A-4052-BCAB-80DA3B5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B1F8C-FE65-4A68-ADD7-8F6D33DB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AFADD-DFC3-4FDE-BF77-71480E0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25CF3-727A-4BFC-8FB2-0E317735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D8491-6B90-418D-B713-B86AF3E9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4FBF8-6285-4301-8DCA-848D8B7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98AAF-C103-4086-B430-7C575C4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0B5FD-710B-4FC7-9E74-93AC196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D3BA7-7FE4-44D9-9A7C-195C774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2AF-8AE1-4233-B96E-0CF262A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63F77-3B7E-4BB1-BACF-035ED85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FC557-D8B6-4CE9-976A-D82CBD9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4B087-4D0D-495F-A03B-E88A6AC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55096-68D2-4921-88C6-730D199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05E36-A527-4FB9-88CF-854CDD5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37C3C-014C-4139-9B72-6FDAD734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3AAF1-A09A-4828-9BD2-C4AD331A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D4A85-1FE8-4FC1-96EC-45129EC7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78D8D-AEC3-4FD5-8678-825C301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14AF9-A9D5-4DE5-BAF7-EF1482F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A4D-2839-4B66-9345-5D33DC7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D1D62-D093-4FEA-B8CA-37B2D649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E4D09-F66F-4B71-AD54-CD1D483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6FEEC-0CA1-471E-ACE1-DA06658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B6409-908C-4507-9D20-B897FBA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D5BE9-5908-43AC-9D9F-9ABC6F4C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8339C-CC62-40B6-BB03-1D5B0F2E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688FC-5824-4BF2-B42E-4FD3832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FFC66-6264-461F-B6BB-66B17133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B9665-19E8-461F-8393-DF70B056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E1B51-CB7D-429B-8D02-BEE18F1B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2C0-42A5-487B-A44B-9F2FA537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B11C2-216A-481B-B3C3-F1BB026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32D4F-E08D-40DA-88E9-507871B0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DF975-38BF-4B55-8880-5748CA8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327BB-B8CC-4097-A575-95ED0B05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E2C45-DAF0-4251-8CB3-DEAF0BA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1A58C-4DFF-4B6F-B69C-8C6609B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289A0-C38F-4B2D-9128-790C9D5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EA7FB7-1EC2-48C1-AE2E-6888187F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47F68-EF66-4F82-987B-32999EB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88CE7-23BB-458E-A9F5-6C694AB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F0BD-A6B9-4690-9A4E-4F51D2A1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95B2A-935B-4E97-BB81-3E6E008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ECB82-D797-4382-83D8-C0AD7A2C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D3A6AC-F543-42E1-86CF-8D6312E4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B82A9-7F9B-46DD-A25D-379F958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882F4-4343-4304-A858-2142C5D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73FAA-727A-4432-99DE-EA872F5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84A86-D00F-411F-89F6-8D57259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9B739-B0A5-448D-B3E3-4AA97F2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F0B652-756C-49B2-83D1-8E4A738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2663F-5C75-49E8-AF2D-E2ADB03F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3F18-D197-4176-A27A-2B70F01C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C3410-3FA1-4C3E-BBE2-A2949B1B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ACC60-836E-4C46-8FD2-62987DF9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7E740-9FDD-4889-9127-D9D41E47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39A03-0E8A-45DC-ACD6-52752D9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90370-E1DF-4317-8E25-1F82FF09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0273C0-E687-4BB3-BE38-3358BA58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07258F-6843-4C97-80BA-9C7944A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1628D-E63A-4C48-8495-936CFF4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D18A4B-C054-4C9B-A87A-8E694A51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B50152-1303-4F06-A25D-01A6300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896B-1070-4335-9A00-0A81BF1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5F960-ACA7-48BF-9DCE-86CEA9A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D3ED2D-612F-4EF8-943F-8778013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A8D31-C2F9-42E3-A1B9-578B42F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2FD098-8CF1-4EF7-9A79-44A4AFFF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ACE62-4E07-4560-B60B-BC64B037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0DF76-C2AE-4237-B7D4-8AE497DA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E39F53-792B-44FE-B17F-82A0927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774FF9-E7CB-446E-A31F-3149D7DE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1398AC-4E03-457E-A46B-E0FE8D4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D08C7-215C-4D90-B162-1D7CA67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8F69-7A12-439F-9979-2955826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43F230-CF88-4B6A-89F2-9129EE00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6DE3F-5DA8-404C-B948-E768736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349786-2349-4A1D-91F6-29208B6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63BF6-9E40-4263-BC52-9670E99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78FA5A-8EF5-4E6D-8F8C-04828282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8E39BF-C77D-40C2-B3B0-740C391E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6B8DB-DDA5-4966-B3C8-E8F1BC61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134588-10C2-4E09-92A7-AEC5625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D5B6C7-08AB-4DE0-9920-1EB5D70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BCC221-AD5D-4E3F-BE5A-4B14BC0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4357-3081-4713-AE99-A1710E1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A7C82E-F74A-4416-8B0F-18D69A9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832C6-ADB7-4F17-8C78-30D46778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8074D-AFBC-4479-8AB6-7962FB5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A025CF-A50D-4878-B7BF-1372C4F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31F9C5-CDE8-4A78-95C4-ECAAB78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54BAD-B78C-4158-A43E-CFB8281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B0E813-9B9D-4AEA-920E-AEC57DF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D1EAB4-572D-4819-8491-D23F2F70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1D481-0B0A-4C50-8E1E-09A8B45C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7A8996-814F-494D-A37D-130C7073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C463-9D53-4E3F-AF2B-C11AE76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FB93E9-D7CE-4568-BFDF-1ACBE52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E44862-C728-4D81-9A98-C4E2FFDE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B39146-8DFF-400C-B66D-367F386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0063FE-1D83-4B96-A492-B42A321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919646-B4C2-4E0B-985C-052D749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3FA701-FB3B-4F5F-AD08-338419A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4CBC51-A8BD-4F9B-8393-C38D3AA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B8245D-F678-4E91-A212-E275B4D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668688-0D4C-4150-8A89-5128AE3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EF2B25-F494-4E12-BED6-CE3E7871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3E6-3772-4DF2-90AA-42F20E68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C1CA-2B36-46D0-88FC-FDD1E62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E725DD-2EE4-4179-A7BB-9F664F99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8A2A-0198-40B8-92CB-9EA9330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01EF-404F-46E5-A9E2-DB1AFBF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81FE-459E-4C45-9B28-87A4EEA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9FD9-AF3D-47B5-98D0-6B0468A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2CBD-DF1B-416F-B43E-1AC0C4E0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073D-4120-47CD-97C5-939A35B2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CD684-4D51-46AA-80DF-F31FC9CA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C86B-41C2-4CAF-98FD-E72D223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5F97-3B5A-4B26-9CAC-1CE7E0C1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647-C515-4004-B251-13A7FBB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B1FD-9463-4644-9D95-927F5C15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B702-0EFC-44B2-A253-510A6CBF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71A3-B85E-448D-8F7C-8FF524D3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2B7D-35CE-41C5-9DCF-979B80F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ACF6-C87B-4D1C-93B5-1C8D602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CA44-1F34-4C0F-8FF9-D2A5389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197F-FE77-408F-9B9A-FC9C3C4E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1D87-C5EC-4261-9B83-E87E2563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E2A7-A62D-428D-8036-DF91D13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FB29-89A1-448A-A6E8-C17CB769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69A-B01D-4DFB-9A66-6B823BD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01C3-E394-4A0A-A26D-B74D849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91C1-6773-4BDF-BA7A-C419DC3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C30A-669E-431C-ADBC-F910D49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4393-608E-4372-8E96-FE99524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1DD1-F3B1-4E8B-B73A-A2FDFCC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C1F2-61C9-49E7-B859-D095342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E072-6ABF-4F20-BD69-0516110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44840-975A-4987-86D2-B29E6A2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BF13-A22E-4FC1-A297-62943E5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6FFF-D648-4DAB-9CD8-FB94AE63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05E-50F3-4ABF-B12A-7091B5B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7F03-BB21-4EE8-BB4B-B59B341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3B86-BC57-4A89-A651-E36A0249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E8B8-EC23-4E65-B85E-96FBCBFC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627E-E5FD-4F61-BCD7-185EDCA4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B01E-128F-4CBB-8EC9-3E7BC88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8357-2E4E-436A-8B6B-4739E33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9602-62E9-404B-BF01-3A287AF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F1A5-BD80-4FB1-9DE6-8B1468D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D691-8E9A-46ED-829B-73B3E9A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C6DB-51D3-409B-8E43-B361F60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77C-605A-4B98-97A1-0E7FDD6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B91E-8087-46F5-8B66-65D772EB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E4A8-38CF-4037-8BF2-3EAD59B1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6D6B-BA64-4BF9-B6E6-1205AE9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9F7F9-91F4-4523-BC69-C25F2F8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DB2B-FDD9-4207-9411-181422A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A1B0E-5BA7-4CE5-9BFD-9EAA9DF4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CF6D-5F61-4576-8CC4-7427C403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BCD59-3CFB-4C28-AF98-9B40066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2B1C-211C-4209-BECB-2E962E02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0576-BDE8-4B9F-B2E6-6B0EAEA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566-AF8E-4D55-A358-D0A69A0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F5C8-C584-4FA2-A948-AFE512A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626E6-AF4A-48CE-B5DC-7CD07DC5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20A53-5AE0-4C8B-AE9A-3D85F906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FC2B2-FCFC-467A-9AD1-ECEF5979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5AE6-8B70-4C29-B4E9-A18B3EE6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A9CC-582F-4F23-BB4A-B4EE6513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677B-A981-4A73-9EE5-FFF9791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1E96-98D1-4B31-988C-8165EB6F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5112-317D-40E2-86E8-9220CC3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567A-2015-419F-ACEF-38CDBE9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34C-8722-4B19-B88F-9163C95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2B40-5351-40B3-9F40-9DDFCFEB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3589-5B09-49EA-A323-51A29B9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55DB-7871-4F7C-8A47-44FCB7C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729C-DF15-4781-A239-D4CB8B5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FCE23-368D-47DA-9365-E9C9673A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5DC35-A9E2-4A36-AECF-C0BFC1BE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4B66-D88A-4B08-911E-51F03E9B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4E0FF-F70C-469E-A70B-F221C005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38F2-75D4-4E44-B37C-BDBE16C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71BCF-A014-459F-B4C4-7B39A46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2E63-2DB1-407D-81D2-0FA9AD56F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5CE-1F31-4606-898C-081999EC31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058-0811-4CE8-A720-14F194A6B2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89E-5C01-41AE-9755-493CEAED89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960-F48B-4F0A-B400-B3D7689CCF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FAC-7C4C-4884-9F1E-EBF21BD0AC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CE05-AE19-40E0-98C1-C549F048CB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253-6762-4B91-A150-A0269B6C90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7659-B31D-4CFE-AAA6-E705328CE9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00FC-9FBB-4946-B7FF-231E5F1AED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EB3-9996-4EF0-8FD0-C4C12CD65D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AE0-3DCF-4143-92C3-C277FEC52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C99-C78D-4AE4-B5D1-4126B0A696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0BE-39A8-45D9-8A3E-C61D265D3F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814-01E5-41F1-8596-C11CBC987F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3A2-038B-4F3C-A06A-F5490FF33F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771-9F4C-480A-9910-8CE97478A0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C7E-DEEB-47A9-AB5A-5170912175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8A8-8672-4A3C-90B9-3C10F9AB4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128C-CD99-4B06-AD06-A345118B89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785-0ED0-407F-B28C-2FBD982FBC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554-9DD8-4ABC-AB8D-98FEDFCACC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DA16-1E5A-4DAD-9DE4-2697B3E326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880E-A940-40C0-8704-1FFC07AD21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4B3-17F3-43B2-841D-B78486B140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76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239760" y="189000"/>
            <a:ext cx="871380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9:14Z</dcterms:modified>
  <cp:revision>72</cp:revision>
  <dc:subject/>
  <dc:title>Слайд 1</dc:title>
</cp:coreProperties>
</file>