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1C8-1B87-47BE-AD11-F688DDBB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AB7-6B84-4A59-99B6-B8B8DC1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586-D96D-47E8-A74E-4504A445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8C2-5E00-4E5E-AE50-0EC12F70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07E-F56E-463E-A0A1-6DC5D65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234-9247-436A-9283-6F70FAE9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709-FC84-4FA0-A53F-C73777B8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B24-A032-4B22-B6C4-DD9364A3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03E-FCC5-4E0C-A627-D0010EFF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D18-3615-42AA-B1CF-E6B7DA3B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68E-794A-424F-A85B-DD458881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183-AC8D-491D-893E-5DD9E95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142D-6C0A-4CDE-A3BF-D9BF9D4D1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77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4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27080" y="115920"/>
            <a:ext cx="888048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80480" cy="78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41:09Z</dcterms:modified>
  <cp:revision>70</cp:revision>
  <dc:subject/>
  <dc:title>Слайд 1</dc:title>
</cp:coreProperties>
</file>