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097-D7EF-4294-96F5-8ABDF8A5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5592-D8A3-4DEE-8D11-A4A16AD7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988-A056-42AB-82FF-5302644C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99A-6789-4D7C-80F7-DB320349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93C-EF09-4E50-85A9-C35FE587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F3D2-8700-491D-AAB2-2F12B27C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E18-F75A-404A-92CD-A49559C6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231-174C-4C7B-B4FE-770BFCCA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F1A-E8F6-40FD-BDB6-BF93CA76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E57-9FE6-4922-A077-960C0B5C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BC0-5565-4670-A676-0A1BF57D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DE97-FBC5-4A47-9BE7-A04E62CE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E1E6-9831-4767-A0B0-F2FBE498D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77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77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842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27080" y="115920"/>
            <a:ext cx="8880480" cy="74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89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80480" cy="78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6:53:26Z</dcterms:created>
  <dc:creator>Колян</dc:creator>
  <dc:description/>
  <dc:language>en-US</dc:language>
  <cp:lastModifiedBy>Ксения Тетеревлёва</cp:lastModifiedBy>
  <dcterms:modified xsi:type="dcterms:W3CDTF">2023-08-20T17:41:09Z</dcterms:modified>
  <cp:revision>70</cp:revision>
  <dc:subject/>
  <dc:title>Слайд 1</dc:title>
</cp:coreProperties>
</file>