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D063-C9DB-468C-87C5-128F5A10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D9F9-2073-4929-87A9-C5BA3ADF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73C-C098-4FCF-A5EA-F1E739AD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DD1-16C6-466E-AF5E-C6D58E5F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1CF-F49E-4EC5-8BB3-C81E0DB2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0AA-8F95-4F93-A740-930C6529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C2C5-4C24-49D9-A2CF-8DF5B851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0E7-4A62-44F7-8BE7-1CA5FA52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3C5-76FB-423E-9BDD-D04CA905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09E-DE1A-43AF-A1A8-EC9E2E52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624C-C850-4C44-A589-7E54CBE1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1C1-ED5E-49A5-A260-FE68EA65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0A16-8861-4320-8019-4E763869A6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77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77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842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27080" y="115920"/>
            <a:ext cx="8880480" cy="74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89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80480" cy="78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6:53:26Z</dcterms:created>
  <dc:creator>Колян</dc:creator>
  <dc:description/>
  <dc:language>en-US</dc:language>
  <cp:lastModifiedBy>Ксения Тетеревлёва</cp:lastModifiedBy>
  <dcterms:modified xsi:type="dcterms:W3CDTF">2023-08-20T17:41:09Z</dcterms:modified>
  <cp:revision>70</cp:revision>
  <dc:subject/>
  <dc:title>Слайд 1</dc:title>
</cp:coreProperties>
</file>