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B8D-9922-433D-8CEC-8C890B4F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490-F830-4CF5-A8BB-C2C9F10F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9D3-22EF-4CA0-A883-202D4E97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F1D-BF08-4A6B-A5E3-C17B9132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F85-1D25-486D-88E8-6F456A9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DEB-7201-48FC-9462-E812FB17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ABC-1865-4579-8536-0B55F094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560-B8A9-4E54-A874-0FFC2EDB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86B-423F-4A66-B8B8-B8782520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D13-F75D-43BB-8B73-DE83D1E9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63F-07A7-463C-945D-226ADFD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1DA-12C5-49B3-88CE-87567F4E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878A-8134-4D72-B7BE-5ACF6002C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8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80480" cy="79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4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79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thumbs.dreamstime.com/b/frog-lifts-dumbbell-sports-illustration-doing-gymnastics-sport-dumbbells-63221200.jpg"/>
          <p:cNvPicPr/>
          <p:nvPr/>
        </p:nvPicPr>
        <p:blipFill>
          <a:blip r:embed="rId1"/>
          <a:stretch/>
        </p:blipFill>
        <p:spPr>
          <a:xfrm>
            <a:off x="3925800" y="2494080"/>
            <a:ext cx="1633680" cy="2181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дохнём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47:41Z</dcterms:modified>
  <cp:revision>71</cp:revision>
  <dc:subject/>
  <dc:title>Слайд 1</dc:title>
</cp:coreProperties>
</file>