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5CB-6D27-4DAE-8C9F-6607A514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59D-5A3D-4F7F-858B-646E8512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B81-DC2B-465C-8B9E-841F1B40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579-3118-4F7A-AC45-462EC37A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627-9B69-456A-BF51-922BBEA2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931-E3C6-4C5F-93BE-26478307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59F-A85F-4085-BD4E-88050F2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B71-6B8A-471D-A8F4-238E670F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116-7A9C-4BFC-A8B6-D65C2B5A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17F-538D-4A71-834E-7808382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D94-EEA5-4C67-9ACF-3320F707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7F8-2C1E-4D98-B279-88228B2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881-6176-49B1-97DC-A30DB0F22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8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80480" cy="79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4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79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thumbs.dreamstime.com/b/frog-lifts-dumbbell-sports-illustration-doing-gymnastics-sport-dumbbells-63221200.jpg"/>
          <p:cNvPicPr/>
          <p:nvPr/>
        </p:nvPicPr>
        <p:blipFill>
          <a:blip r:embed="rId1"/>
          <a:stretch/>
        </p:blipFill>
        <p:spPr>
          <a:xfrm>
            <a:off x="3925800" y="2494080"/>
            <a:ext cx="1633680" cy="2181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дохнём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47:41Z</dcterms:modified>
  <cp:revision>71</cp:revision>
  <dc:subject/>
  <dc:title>Слайд 1</dc:title>
</cp:coreProperties>
</file>