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F822-14FD-40CC-B09D-C2F7A5967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CDA6-4280-4877-926D-7CE2B43D3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ECFB-F5C0-4171-91CC-27E6765D0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237B-4BAB-4737-90F8-99C24F728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F13A-CC24-479F-ABBD-666057924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4A7F-BFC6-47FA-9DF7-C625D3006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A5D8-FDDF-4273-9C04-8A5887AE0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54E4-79B7-4BA9-9F23-34156777F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848C-B998-4C95-B07B-B006D7D50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7FE1-CEA2-49C8-BAC7-B3F9614A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319D-9797-4F79-929A-54D1E433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46EC-32C6-48A1-89DD-7849D19D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DAEDF-EAB9-4C0B-8590-B083DA44A8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55520" y="115920"/>
            <a:ext cx="8809200" cy="885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155520" y="115920"/>
            <a:ext cx="8880480" cy="79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155520" y="115920"/>
            <a:ext cx="8809200" cy="842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55520" y="115920"/>
            <a:ext cx="8809200" cy="79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77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155520" y="115920"/>
            <a:ext cx="8880480" cy="66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s://thumbs.dreamstime.com/b/frog-lifts-dumbbell-sports-illustration-doing-gymnastics-sport-dumbbells-63221200.jpg"/>
          <p:cNvPicPr/>
          <p:nvPr/>
        </p:nvPicPr>
        <p:blipFill>
          <a:blip r:embed="rId1"/>
          <a:stretch/>
        </p:blipFill>
        <p:spPr>
          <a:xfrm>
            <a:off x="3925800" y="2494080"/>
            <a:ext cx="1633680" cy="2181240"/>
          </a:xfrm>
          <a:prstGeom prst="rect">
            <a:avLst/>
          </a:prstGeom>
          <a:ln w="0">
            <a:noFill/>
          </a:ln>
        </p:spPr>
      </p:pic>
      <p:sp>
        <p:nvSpPr>
          <p:cNvPr id="48" name="TextBox 1"/>
          <p:cNvSpPr/>
          <p:nvPr/>
        </p:nvSpPr>
        <p:spPr>
          <a:xfrm>
            <a:off x="0" y="333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Отдохнём!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0T16:53:26Z</dcterms:created>
  <dc:creator>Колян</dc:creator>
  <dc:description/>
  <dc:language>en-US</dc:language>
  <cp:lastModifiedBy>Ксения Тетеревлёва</cp:lastModifiedBy>
  <dcterms:modified xsi:type="dcterms:W3CDTF">2023-08-20T17:47:41Z</dcterms:modified>
  <cp:revision>71</cp:revision>
  <dc:subject/>
  <dc:title>Слайд 1</dc:title>
</cp:coreProperties>
</file>