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4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4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4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095-8971-4844-9119-80BB9D6C4E5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вы можете сказать о лягушке, которая спаслась и лягушке, которая погиб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ая лягушка вам больше понравилась и 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черты характера лягушек сказались на их жизни? А сейчас скажите, от кого зависит исход сложной ситуации, в которую попали лягуш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ти разные по характеру лягушки повели себя в одинаков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се 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 слов – помощников описывают, как лягушки нашли выход из слож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A48-9855-4D85-80B1-F17E67766DC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B83-CFDC-4186-9A38-2C9321E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D3F-EF53-48EC-8FBE-0BD5ED13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0609C-548E-4E95-8E1E-080945C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CE0FD-E612-47AA-BE71-4E0B7D5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DEE5C-866D-4139-8F7F-8E2FC567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3D7BE-BD73-4353-A06A-5000792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279E4-BA22-4A03-B8CA-0535E15D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A87D4-8368-4EC1-9E36-4DA00879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17FB3-9317-4F13-A79C-F37A65E0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9238-5452-4CEE-8A98-FE07BD02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7AA00-832B-4FF8-BF0D-4922851B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88850-9408-468F-9904-652C59B7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78B-9993-41F6-BF21-110A19CF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0430-4B4F-42C9-B6CB-2F656627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9A43D-5F20-43D2-881B-0E82E2D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86D1-0625-4256-854A-95BA55DB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5C40-7402-4E55-8BA9-A099777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55ACF-FB54-4AEA-A2C7-3504744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FAD3F-CCA5-410A-ABE4-A1B28BA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7D2BB-31D0-482F-96D1-02334F6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9A1D2-7E25-4C67-85FC-AA4775B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70930-4A3A-40E8-A7A8-3BB87C0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3A110-A646-4516-85C3-4BC11A9C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009-B09E-49E5-94E2-78764657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869FF-79AE-4E1E-812B-BB818902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35F9-A498-46E6-B68B-6FCAEA3F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BF335-9867-4F2F-B526-9EB49377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F4FA-D74E-4338-80F9-AC31F667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B2E3-728A-4FD0-A0BA-A7252169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09B11-1E96-4560-B5EE-6552856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EF5A-6970-44DF-9C48-F2DA4C1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58A3-3A27-498E-AF8B-CCE655E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74BDA-4709-4A9C-8CC4-EBB0880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25415-153D-41D6-8BDB-932F2BF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025-CDB7-40EA-A305-37BCF72F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D940A-E172-4EEE-A5BC-D4292444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4AA41-07B7-4004-8BA4-A7245697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5761B-1156-43FE-BA22-AB6BEE97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603A8-A9FB-4B34-BF11-A776C408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E6DE5-0E01-4DD2-BFD1-F11DD33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6229-4B5B-4297-85D8-17F58B8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3C6A1-4A16-4097-A914-5C2F79BE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A0C72-B4D6-4F64-BCB2-B0215E6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821C3-675F-4DC2-A2F9-FD3DD4C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A5515-A72C-414A-8438-7E03D96C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6EAE-CCC1-4273-ADF9-D94414BA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95852-2CE6-46F7-AED2-61322C9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10BCF-CCE5-4A25-BF58-A66002B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65D10-98A4-4C98-B2E4-3800F410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91584-7DD8-45D4-8AD8-DE130773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C34BD-DE76-4F9F-86C4-D80AC979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39245-D735-42DF-BD5C-9161D625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F845D-D655-4513-8115-DFE40295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DED87-8E88-4B53-A3DA-544FA422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AF4D7-C06C-4B4A-9B6A-D91794B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86C80-3037-43A5-9556-87F314A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EA7-251B-4F4F-95B0-704BE450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1CA4A-3D83-4070-953A-558FB15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F78EA-7FAA-4A1A-B826-3A83688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1A860-1D1A-4E9F-9F46-9E4D9C4C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8BF38-5519-45D0-8D94-4D6788E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4ABCA-253D-4D7E-A6B3-6853503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3FBB2-D719-4E44-9865-2847D974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F19AF-F526-4021-BFB3-52A57E50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4D5-3E4E-4DA9-BCCB-AFBC61A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5240-F28B-4635-ADFD-549F7FD6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12C6-6C3E-43A7-B4CF-32E6E6AB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34DC-9BC4-4F21-BE60-1E4C84D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4D4-6FD0-4BA2-8713-4B8E9B86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B952-8F34-45AA-8A78-03AB1C4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8A87-898D-4DB4-8AA9-C3C6D05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A6F-BB4F-48F7-A09B-7F39088F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88E2-FB0C-4800-8BE4-7C54537D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449A-6C03-49A4-AF8C-1262974D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7247-81CA-45D8-8775-5843B42A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57BC-9BED-4739-ACBD-527FD1EC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50CC-2883-4E5C-BC1A-6A453194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75A8-81A5-439B-AE26-8F994E9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577E-8609-4175-9AA5-D87F56A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A27-2B92-4FB6-9C2E-80DFB77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562D-EFCC-4267-9292-AD50CCE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56EA-9DE7-4957-AEDE-AB71C249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278B-3234-4B0C-A9FB-64165B1B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000D-DCE2-4068-AFA2-1D9B8A6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E6FF-AE2F-4569-8285-7652A10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A346-05D2-4B31-A4C4-E097613E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6A52-F181-42F6-A4D7-CA9F7F84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8957-B63E-4DC1-B8E3-80CCB5C9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4C22-8A6D-459A-B9B4-A1EE1447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66B5-F2FC-48A8-8949-E8823FB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2BE-906D-4A03-856A-FB408F80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9464-A391-48F0-BD4A-CD53DE9C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2A5B-3CF5-45F0-8A42-74DEDE00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5A90-67EF-4324-BCA7-A377BD8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0828E-AE79-4248-B400-0E0C8DA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4996-E1C7-490A-8947-064098CC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5B90-D123-4516-A741-273327C0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4897-88E3-431B-86BA-1251B20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8E5A-5C29-4805-AFEF-2BAF1B5D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4608-0189-49BD-8813-A87866A8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F279-4452-4A58-AEC4-DC46F62A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F63-05D6-4B32-86D2-9F0765C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88A2C-60FE-42C0-9763-7DB5D130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2924-F866-44F7-8AA3-53E00EC2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132C-95FB-4B3E-8F6D-1355DC9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C221-9D4E-4F08-98B4-6D2A7FC6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7EE6-0FEE-466B-971D-A7477AB7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11AA-5D93-4028-902E-B8B305A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2778-837E-42FA-A827-C14738E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8587-8FBA-477C-B2A4-6954999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C7C4-5821-4D4D-9440-51CC7D38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059C-5DF4-47C0-84C9-A62D4206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0EC-7E9A-45F0-9361-85162FE2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2240-4557-45F2-8E1E-5B481167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9B1E4-47F0-4154-B68D-1A069309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8C7B-CAF5-4403-B53D-EFF458B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38E37-EF38-4590-87A6-DA92729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3262C-1400-4A15-8B5A-C5EF9A97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933E3-41CC-4E49-BB96-72B7E17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9943-A134-4440-B7EB-1DD84CC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5046-E145-4361-948B-7138A86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5D104-1862-4DE7-9E21-ED5DD2C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14E2-2484-49C7-9094-3B2F7FE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351-97A3-4827-927A-D3BA956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2E83-40BC-4B3E-A5D3-191A582A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FC139-EF51-45D7-8703-A98A48B2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703E-9F6E-44C9-BF98-23BD0CD0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B093E-02BB-478A-8D87-F113F3EB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D051B-5EB6-48F7-9749-4EBFFA0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D2FC-5D57-4D3D-AC39-CDA71A57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FC43-12C9-4747-B88C-31B3B890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33EC1-1AE5-4350-819D-7EF99888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F998-0BCD-4F0D-83EA-0A32A4B4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EEAF-188C-44E3-9DA6-97A460C9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56B-BF63-45AE-B456-62F748C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164B-0E96-48A9-99B7-5F4C008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CBC1B-9573-4BAC-B782-B1F3446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A7F0-3AE7-4BF9-88B2-2774808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82AB-2503-4BB1-BC06-9888D16A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C664B-C02D-4694-9BA3-501C532B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06CF7-2FA6-43DE-8EBD-F04910DA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14429-F7D0-447E-9F66-18487F0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C9E3-9F7A-488A-AC57-F96F47B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2F52D-AD0B-4921-A69A-3CE63CF7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AC3D-7A02-4741-A6FE-4CEC5026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113-9C05-4143-8CA6-163EEC4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77EBD-8B6A-4C49-977F-67D62A91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0019-D0EE-4495-9A23-10A6DE8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9DDF-972F-44FA-8A66-5824FA9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0F5F-61D6-4962-AF54-4C996C7A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333A0-FAD9-47EF-89D9-2E371EB3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6286D-BDE1-418D-AA2D-E7582C1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8055-396E-4634-9BDB-F170EE77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93F2-948E-45A4-9DD7-EEF2708B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7CD9E-EB3D-4C4D-ACA1-FE8FAA7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A5B8E-2398-4D5F-A675-6834D0CD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69.xml"/><Relationship Id="rId15" Type="http://schemas.openxmlformats.org/officeDocument/2006/relationships/slideLayout" Target="../slideLayouts/slideLayout170.xml"/><Relationship Id="rId16" Type="http://schemas.openxmlformats.org/officeDocument/2006/relationships/slideLayout" Target="../slideLayouts/slideLayout171.xml"/><Relationship Id="rId17" Type="http://schemas.openxmlformats.org/officeDocument/2006/relationships/slideLayout" Target="../slideLayouts/slideLayout172.xml"/><Relationship Id="rId18" Type="http://schemas.openxmlformats.org/officeDocument/2006/relationships/slideLayout" Target="../slideLayouts/slideLayout173.xml"/><Relationship Id="rId19" Type="http://schemas.openxmlformats.org/officeDocument/2006/relationships/slideLayout" Target="../slideLayouts/slideLayout174.xml"/><Relationship Id="rId20" Type="http://schemas.openxmlformats.org/officeDocument/2006/relationships/slideLayout" Target="../slideLayouts/slideLayout175.xml"/><Relationship Id="rId21" Type="http://schemas.openxmlformats.org/officeDocument/2006/relationships/slideLayout" Target="../slideLayouts/slideLayout176.xml"/><Relationship Id="rId22" Type="http://schemas.openxmlformats.org/officeDocument/2006/relationships/slideLayout" Target="../slideLayouts/slideLayout177.xml"/><Relationship Id="rId23" Type="http://schemas.openxmlformats.org/officeDocument/2006/relationships/slideLayout" Target="../slideLayouts/slideLayout178.xml"/><Relationship Id="rId24" Type="http://schemas.openxmlformats.org/officeDocument/2006/relationships/slideLayout" Target="../slideLayouts/slideLayout179.xml"/><Relationship Id="rId2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6B2-81BE-47CF-8CA4-ECEE34FEC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B70-8C90-4C9E-B894-2423104298E1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32F-3D33-48E3-8A1B-AA4B7400201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C66-1D03-4EFC-A29A-6487DDB38D65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C0C-9E9D-4C0D-B253-D9A4D7A149E1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4" descr="http://img-fotki.yandex.ru/get/6101/16969765.224/0_8eba4_2ea295c4_orig.png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5572080" y="0"/>
            <a:ext cx="3317760" cy="952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4" descr="http://img-fotki.yandex.ru/get/6101/16969765.224/0_8eba4_2ea295c4_orig.png"/>
          <p:cNvPicPr/>
          <p:nvPr/>
        </p:nvPicPr>
        <p:blipFill>
          <a:blip r:embed="rId7">
            <a:lum contrast="-10000"/>
          </a:blip>
          <a:stretch/>
        </p:blipFill>
        <p:spPr>
          <a:xfrm>
            <a:off x="8399520" y="0"/>
            <a:ext cx="744480" cy="4613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4" descr="http://img-fotki.yandex.ru/get/6101/16969765.224/0_8eba4_2ea295c4_orig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254160" y="5905440"/>
            <a:ext cx="3317760" cy="952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4" descr="http://img-fotki.yandex.ru/get/6101/16969765.224/0_8eba4_2ea295c4_orig.png"/>
          <p:cNvPicPr/>
          <p:nvPr/>
        </p:nvPicPr>
        <p:blipFill>
          <a:blip r:embed="rId9">
            <a:lum contrast="-10000"/>
          </a:blip>
          <a:stretch/>
        </p:blipFill>
        <p:spPr>
          <a:xfrm>
            <a:off x="0" y="2244600"/>
            <a:ext cx="744480" cy="4613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9" descr="shutterstock_1115233553.pn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214200" y="19044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0" descr="happy-children-reading-a-imaginative-book_23-2147533259.png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500040" y="1714680"/>
            <a:ext cx="3357720" cy="4570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http://img-fotki.yandex.ru/get/6101/16969765.224/0_8eba4_2ea295c4_orig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4500720" y="552456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4" descr="http://img-fotki.yandex.ru/get/6101/16969765.224/0_8eba4_2ea295c4_orig.png"/>
          <p:cNvPicPr/>
          <p:nvPr/>
        </p:nvPicPr>
        <p:blipFill>
          <a:blip r:embed="rId9">
            <a:lum contrast="-10000"/>
          </a:blip>
          <a:stretch/>
        </p:blipFill>
        <p:spPr>
          <a:xfrm>
            <a:off x="0" y="552456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4" descr="http://img-fotki.yandex.ru/get/6101/16969765.224/0_8eba4_2ea295c4_orig.png"/>
          <p:cNvPicPr/>
          <p:nvPr/>
        </p:nvPicPr>
        <p:blipFill>
          <a:blip r:embed="rId10">
            <a:lum contrast="-10000"/>
          </a:blip>
          <a:stretch/>
        </p:blipFill>
        <p:spPr>
          <a:xfrm>
            <a:off x="0" y="190440"/>
            <a:ext cx="1000080" cy="6191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4" descr="http://img-fotki.yandex.ru/get/6101/16969765.224/0_8eba4_2ea295c4_orig.png"/>
          <p:cNvPicPr/>
          <p:nvPr/>
        </p:nvPicPr>
        <p:blipFill>
          <a:blip r:embed="rId11">
            <a:lum contrast="-10000"/>
          </a:blip>
          <a:stretch/>
        </p:blipFill>
        <p:spPr>
          <a:xfrm>
            <a:off x="8143920" y="476280"/>
            <a:ext cx="1000080" cy="6191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4" descr="http://img-fotki.yandex.ru/get/6101/16969765.224/0_8eba4_2ea295c4_orig.png"/>
          <p:cNvPicPr/>
          <p:nvPr/>
        </p:nvPicPr>
        <p:blipFill>
          <a:blip r:embed="rId12">
            <a:lum contrast="-10000"/>
          </a:blip>
          <a:stretch/>
        </p:blipFill>
        <p:spPr>
          <a:xfrm>
            <a:off x="0" y="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4" descr="http://img-fotki.yandex.ru/get/6101/16969765.224/0_8eba4_2ea295c4_orig.png"/>
          <p:cNvPicPr/>
          <p:nvPr/>
        </p:nvPicPr>
        <p:blipFill>
          <a:blip r:embed="rId13">
            <a:lum contrast="-10000"/>
          </a:blip>
          <a:stretch/>
        </p:blipFill>
        <p:spPr>
          <a:xfrm>
            <a:off x="4500720" y="0"/>
            <a:ext cx="4643280" cy="133344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4"/>
    <p:sldLayoutId id="2147483832" r:id="rId15"/>
    <p:sldLayoutId id="2147483833" r:id="rId16"/>
    <p:sldLayoutId id="2147483834" r:id="rId17"/>
    <p:sldLayoutId id="2147483835" r:id="rId18"/>
    <p:sldLayoutId id="2147483836" r:id="rId19"/>
    <p:sldLayoutId id="2147483837" r:id="rId20"/>
    <p:sldLayoutId id="2147483838" r:id="rId21"/>
    <p:sldLayoutId id="2147483839" r:id="rId22"/>
    <p:sldLayoutId id="2147483840" r:id="rId23"/>
    <p:sldLayoutId id="2147483841" r:id="rId24"/>
    <p:sldLayoutId id="2147483842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252-1E8F-4E84-9A32-2EC9B92139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графика\asadal\scool\scool\38 [Converted].png"/>
          <p:cNvPicPr/>
          <p:nvPr/>
        </p:nvPicPr>
        <p:blipFill>
          <a:blip r:embed="rId6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графика\asadal\scool\scool\23\10101010.png"/>
          <p:cNvPicPr/>
          <p:nvPr/>
        </p:nvPicPr>
        <p:blipFill>
          <a:blip r:embed="rId7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FAEC-2ED7-4633-8EE4-6BC4D191A513}" type="slidenum">
              <a:rPr b="1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155B-492A-4321-9114-6C01C43AA3C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F5D7-F052-41B9-841E-C51908226CBC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3B11-8C59-4580-8BFA-754BCB91472F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5FC-8807-46D5-B1B5-8FC12A197FEB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06EF-CA94-4FA0-BF93-C5388F006BFD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C442-944D-4B07-B70D-DA13D5D54D00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ёл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ойчи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сон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абр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тяй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сих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е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ыл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во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дра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1327320" y="2765520"/>
            <a:ext cx="344160" cy="2444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"/>
          <p:cNvPicPr/>
          <p:nvPr/>
        </p:nvPicPr>
        <p:blipFill>
          <a:blip r:embed="rId2"/>
          <a:stretch/>
        </p:blipFill>
        <p:spPr>
          <a:xfrm>
            <a:off x="7788240" y="2765520"/>
            <a:ext cx="209520" cy="152280"/>
          </a:xfrm>
          <a:prstGeom prst="rect">
            <a:avLst/>
          </a:prstGeom>
          <a:ln w="0">
            <a:noFill/>
          </a:ln>
        </p:spPr>
      </p:pic>
      <p:cxnSp>
        <p:nvCxnSpPr>
          <p:cNvPr id="675" name="Прямая со стрелкой 2"/>
          <p:cNvCxnSpPr/>
          <p:nvPr/>
        </p:nvCxnSpPr>
        <p:spPr>
          <a:xfrm>
            <a:off x="5508360" y="691920"/>
            <a:ext cx="1585080" cy="1081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6" name="Прямая со стрелкой 6"/>
          <p:cNvCxnSpPr/>
          <p:nvPr/>
        </p:nvCxnSpPr>
        <p:spPr>
          <a:xfrm>
            <a:off x="5881320" y="1233000"/>
            <a:ext cx="1067400" cy="756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7" name="Прямая со стрелкой 8"/>
          <p:cNvCxnSpPr/>
          <p:nvPr/>
        </p:nvCxnSpPr>
        <p:spPr>
          <a:xfrm>
            <a:off x="5495760" y="2696760"/>
            <a:ext cx="86616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8" name="Прямая со стрелкой 10"/>
          <p:cNvCxnSpPr/>
          <p:nvPr/>
        </p:nvCxnSpPr>
        <p:spPr>
          <a:xfrm>
            <a:off x="5508360" y="2150640"/>
            <a:ext cx="7196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9" name="Прямая со стрелкой 12"/>
          <p:cNvCxnSpPr/>
          <p:nvPr/>
        </p:nvCxnSpPr>
        <p:spPr>
          <a:xfrm flipV="1">
            <a:off x="5508720" y="3607920"/>
            <a:ext cx="1080000" cy="5421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0" name="Прямая со стрелкой 14"/>
          <p:cNvCxnSpPr/>
          <p:nvPr/>
        </p:nvCxnSpPr>
        <p:spPr>
          <a:xfrm flipV="1">
            <a:off x="5414760" y="3877560"/>
            <a:ext cx="2686680" cy="1639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1" name="Прямая со стрелкой 13"/>
          <p:cNvCxnSpPr/>
          <p:nvPr/>
        </p:nvCxnSpPr>
        <p:spPr>
          <a:xfrm flipH="1">
            <a:off x="2986920" y="1698120"/>
            <a:ext cx="864360" cy="11487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2" name="Прямая со стрелкой 18"/>
          <p:cNvCxnSpPr/>
          <p:nvPr/>
        </p:nvCxnSpPr>
        <p:spPr>
          <a:xfrm flipH="1">
            <a:off x="2986920" y="3166560"/>
            <a:ext cx="577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3" name="Прямая со стрелкой 20"/>
          <p:cNvCxnSpPr/>
          <p:nvPr/>
        </p:nvCxnSpPr>
        <p:spPr>
          <a:xfrm flipH="1" flipV="1">
            <a:off x="2987280" y="3499560"/>
            <a:ext cx="720000" cy="1962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4" name="Прямая со стрелкой 22"/>
          <p:cNvCxnSpPr/>
          <p:nvPr/>
        </p:nvCxnSpPr>
        <p:spPr>
          <a:xfrm flipH="1" flipV="1">
            <a:off x="2448720" y="3607560"/>
            <a:ext cx="1296360" cy="9738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5" name="Прямая со стрелкой 24"/>
          <p:cNvCxnSpPr/>
          <p:nvPr/>
        </p:nvCxnSpPr>
        <p:spPr>
          <a:xfrm flipH="1" flipV="1">
            <a:off x="2231640" y="3715920"/>
            <a:ext cx="1116720" cy="12261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686" name="Прямоугольник 7"/>
          <p:cNvSpPr/>
          <p:nvPr/>
        </p:nvSpPr>
        <p:spPr>
          <a:xfrm>
            <a:off x="498600" y="16286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а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9"/>
          <p:cNvSpPr/>
          <p:nvPr/>
        </p:nvSpPr>
        <p:spPr>
          <a:xfrm>
            <a:off x="6534720" y="32846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есна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5"/>
          <p:cNvSpPr/>
          <p:nvPr/>
        </p:nvSpPr>
        <p:spPr>
          <a:xfrm>
            <a:off x="179280" y="364500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Не сдавалась,  не унывала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боролось,  преодолевала труд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179280" y="4221000"/>
            <a:ext cx="47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Пока силы есть, буду бороться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Я ведь ещё живая, значит надо жить!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C:\Users\Андрей\Desktop\Урок\Ляг.jpg"/>
          <p:cNvPicPr/>
          <p:nvPr/>
        </p:nvPicPr>
        <p:blipFill>
          <a:blip r:embed="rId1"/>
          <a:stretch/>
        </p:blipFill>
        <p:spPr>
          <a:xfrm>
            <a:off x="8388360" y="2590920"/>
            <a:ext cx="285840" cy="26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C:\Users\Андрей\Desktop\Урок\Ляг.jpg"/>
          <p:cNvPicPr/>
          <p:nvPr/>
        </p:nvPicPr>
        <p:blipFill>
          <a:blip r:embed="rId2"/>
          <a:srcRect l="0" t="-3438" r="0" b="0"/>
          <a:stretch/>
        </p:blipFill>
        <p:spPr>
          <a:xfrm>
            <a:off x="992160" y="2557440"/>
            <a:ext cx="318960" cy="27936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13"/>
          <p:cNvSpPr/>
          <p:nvPr/>
        </p:nvSpPr>
        <p:spPr>
          <a:xfrm>
            <a:off x="5076720" y="364500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Унывала, трусила, не боролась, сдалась,  не преодолела труд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5867280" y="1700280"/>
            <a:ext cx="24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Лен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онл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Уныл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лаб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Безволь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Трусл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5"/>
          <p:cNvSpPr/>
          <p:nvPr/>
        </p:nvSpPr>
        <p:spPr>
          <a:xfrm>
            <a:off x="1547640" y="1700280"/>
            <a:ext cx="20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Трудолюб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иль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Весёл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Настойч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Воле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Храбр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6"/>
          <p:cNvSpPr/>
          <p:nvPr/>
        </p:nvSpPr>
        <p:spPr>
          <a:xfrm>
            <a:off x="5003640" y="4221000"/>
            <a:ext cx="39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Зачем же я буду напрасно барахтаться? Только нервы даром трепать!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Двойная стрелка влево/вправо 19"/>
          <p:cNvSpPr/>
          <p:nvPr/>
        </p:nvSpPr>
        <p:spPr>
          <a:xfrm>
            <a:off x="3132000" y="1989000"/>
            <a:ext cx="2880000" cy="863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Прямоугольник 20" descr=""/>
          <p:cNvPicPr/>
          <p:nvPr/>
        </p:nvPicPr>
        <p:blipFill>
          <a:blip r:embed="rId3"/>
          <a:stretch/>
        </p:blipFill>
        <p:spPr>
          <a:xfrm>
            <a:off x="3852720" y="2133720"/>
            <a:ext cx="1712880" cy="523800"/>
          </a:xfrm>
          <a:prstGeom prst="rect">
            <a:avLst/>
          </a:prstGeom>
          <a:ln w="0">
            <a:noFill/>
          </a:ln>
        </p:spPr>
      </p:pic>
      <p:sp>
        <p:nvSpPr>
          <p:cNvPr id="698" name="Двойная стрелка влево/вправо 21"/>
          <p:cNvSpPr/>
          <p:nvPr/>
        </p:nvSpPr>
        <p:spPr>
          <a:xfrm>
            <a:off x="2411280" y="4724280"/>
            <a:ext cx="4248360" cy="11527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Прямоугольник 23" descr=""/>
          <p:cNvPicPr/>
          <p:nvPr/>
        </p:nvPicPr>
        <p:blipFill>
          <a:blip r:embed="rId4"/>
          <a:stretch/>
        </p:blipFill>
        <p:spPr>
          <a:xfrm>
            <a:off x="2627280" y="5084640"/>
            <a:ext cx="4035600" cy="462240"/>
          </a:xfrm>
          <a:prstGeom prst="rect">
            <a:avLst/>
          </a:prstGeom>
          <a:ln w="0">
            <a:noFill/>
          </a:ln>
        </p:spPr>
      </p:pic>
      <p:sp>
        <p:nvSpPr>
          <p:cNvPr id="700" name="TextBox 24"/>
          <p:cNvSpPr/>
          <p:nvPr/>
        </p:nvSpPr>
        <p:spPr>
          <a:xfrm>
            <a:off x="6804000" y="5084640"/>
            <a:ext cx="223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А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108000" y="5084640"/>
            <a:ext cx="21956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БЕ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1619280" y="333360"/>
            <a:ext cx="576108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Л. Пантелеев «Две лягушки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Стрелка вниз 22"/>
          <p:cNvSpPr/>
          <p:nvPr/>
        </p:nvSpPr>
        <p:spPr>
          <a:xfrm>
            <a:off x="4356000" y="2637000"/>
            <a:ext cx="484200" cy="237636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1"/>
          <p:cNvSpPr/>
          <p:nvPr/>
        </p:nvSpPr>
        <p:spPr>
          <a:xfrm>
            <a:off x="6646680" y="125748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ородск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18"/>
          <p:cNvSpPr/>
          <p:nvPr/>
        </p:nvSpPr>
        <p:spPr>
          <a:xfrm>
            <a:off x="827280" y="1257480"/>
            <a:ext cx="13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Лес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-11160" y="3492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якая помощь хороша воврем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рпение и труд всё перетру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а не узнаешь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ка не понадобится его помощь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д лежачий камень и вода не течё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ам погибай, а товарища выручай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лу – время, а потехе – час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1"/>
          <p:cNvSpPr/>
          <p:nvPr/>
        </p:nvSpPr>
        <p:spPr>
          <a:xfrm>
            <a:off x="0" y="692280"/>
            <a:ext cx="911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лан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Неожиданное спасени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Шалости в погреб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Кто настоящий боец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Такие разные подруги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"/>
          <p:cNvSpPr/>
          <p:nvPr/>
        </p:nvSpPr>
        <p:spPr>
          <a:xfrm>
            <a:off x="11088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3"/>
          <p:cNvSpPr/>
          <p:nvPr/>
        </p:nvSpPr>
        <p:spPr>
          <a:xfrm>
            <a:off x="110880" y="162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4"/>
          <p:cNvSpPr/>
          <p:nvPr/>
        </p:nvSpPr>
        <p:spPr>
          <a:xfrm>
            <a:off x="107640" y="39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5"/>
          <p:cNvSpPr/>
          <p:nvPr/>
        </p:nvSpPr>
        <p:spPr>
          <a:xfrm>
            <a:off x="107640" y="278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6560" y="37440"/>
            <a:ext cx="3030840" cy="66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____________________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жили две лягуш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болот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канав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ородском парк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да лягушки забра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кухню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погреб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сарай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они свали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горшок со сметаной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бутылку с кефиром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блюдце с молок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чем  подумала ленив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есть силы, буду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ремя даром трат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лучше я сразу утон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чем думала лесн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мне отсюда не вылез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я буду напрасно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дам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случилось со сметаной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на высохла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нее получился сыр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з нее сбилось масл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их словах выражена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мысль сказ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дай духом!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взялось масло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буд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2160" y="27360"/>
            <a:ext cx="3030840" cy="66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____________________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жили две лягуш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болот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в канав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ородском парк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да лягушки забра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кухню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в погреб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сарай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они свали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в горшок со сметаной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бутылку с кефиром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блюдце с молок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чем  подумала ленив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есть силы, буду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ремя даром трат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ж лучше я сразу утону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чем думала лесн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мне отсюда не вылез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я буду напрасно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, не сдамс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случилось со сметаной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на высохла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нее получился сыр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из нее сбилось масл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их словах выражена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мысль сказ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адай духом!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взялось масло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буд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3635280" y="278136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 ошибок – «5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 ошибка – «4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 – 3 ошибки – «3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4 и более ошибок – «2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53:46Z</dcterms:modified>
  <cp:revision>74</cp:revision>
  <dc:subject/>
  <dc:title>Слайд 1</dc:title>
</cp:coreProperties>
</file>