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4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ftr" idx="41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 type="sldNum" idx="42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03DE-BB20-45F9-92EA-1AE05B26EECD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вы можете сказать о лягушке, которая спаслась и лягушке, которая погиб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ая лягушка вам больше понравилась и 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черты характера лягушек сказались на их жизни? А сейчас скажите, от кого зависит исход сложной ситуации, в которую попали лягуш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ти разные по характеру лягушки повели себя в одинаков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се 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 слов – помощников описывают, как лягушки нашли выход из слож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A135-95CE-4534-9EE8-BE604DB57ED7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0E1-7B1C-4FD6-B9F7-EC1DA60B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87F-B145-4B78-8599-591310D1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4AE27-84EE-437B-8D5A-08683917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43507-4755-4DC1-92DF-65A3CF2C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D486E-E3CC-452A-8892-F1811620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CC573-B03F-4DC6-8E8F-4496310A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321E2-AEF9-461A-A53E-0487B936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E290E-ADE5-499E-977E-007D3DB3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D3B7A-FE0C-4B62-BC4C-EDEAE26B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FFBC0-3CA8-4AA3-AC5F-1D971226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2B7E3-30B8-4CC3-BE2D-8437DEC2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C7688-BB90-4458-A61C-EFB32163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246-0C70-47A9-B6FC-60759BA7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74736-E3A0-49B5-B3AA-D0158A22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895E6-860B-4BE2-96C7-475DF4E4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B471B-9939-48D9-9BFB-C5CDB601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2D31E-6338-4125-A779-F2AFDC67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C2253-C6C8-4AAC-87A1-F7B0C8B2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7FAC5-CDA7-4333-B79B-9A4D9F2B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06DB8-A112-4E82-8629-DB54443E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E8969-9575-4BC7-9E6F-BEAA7472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ACFC5-CABF-4596-9181-D7D504A8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880FE-816A-432B-8F44-55671734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7FB-AAAD-4B97-A747-6EFCC5DA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59082-7812-42C1-84D7-957C43E4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2E384-7E6D-4022-A0C0-9DBD059F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225BE-7CF3-461E-A520-1EC67D17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1BDDF-9E3E-433F-AED1-A5D3A678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DAAA8-78A2-4CBA-94AF-F827A2DC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C280C-E762-40D5-B491-F8A7B815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FE532-20FA-4D7B-8644-0FB6FAB0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7E2DA-2C21-456F-8959-745B0FA7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AED99-CA5B-449B-9611-7A42E174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0758C-2D0E-4074-9234-F201FFFB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6C7A-067A-4949-BF23-B37BCB33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A820B-5741-447C-A56E-ACC8DA72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64FE3-F2C3-4998-8EDE-260089A0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2C242-31D3-4CE0-8242-5DA4F1BB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985E7-EF9B-4310-A057-990C639D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26A4E-9717-431E-A018-CC63ABC3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70DF1-1E6D-4703-A0F0-8131F285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BDA16-964C-473B-83F7-1E6407BD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D05D2-F426-47BC-A740-5069617B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75E50-BC8F-40BE-BAFD-8CCC4A34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B658F-F2B9-4BCD-A44E-3DE432F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DD94-E70D-4ADC-8BE7-49A7D7F6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EBD55-BCB0-474F-934D-57C409BC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47934-5817-4497-BF66-483C2CFF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36245-0122-42E3-8423-AB1A0AC8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7377A-B80C-4C5F-B6E6-8A8F9024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C9C72-1301-434B-BB47-741D0D32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2BD58-F050-4200-8818-015C99AB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8CAAD-A357-4430-83F9-A3D5AAB0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2B8F8-0FA3-47DA-889D-7FC00410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3EA29-B906-4FBA-935E-56E876A4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0B143-815E-4AC0-BF76-CE28CF9B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FB72-BEE2-407B-A8F3-3BF97AE3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928FE-8E24-481D-ADFB-0B7A3AE4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5179A-D594-4873-B877-D3A1A503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908E1-92B5-400D-ACA3-7978158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172A8-E8B7-4677-8EA9-13421506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C2920-0F65-4D59-B50C-073154FB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82133-3A46-4D4D-AA26-0BC7B688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EECEB-6A35-4527-A8D4-A0873879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922F-B509-48C6-9452-64A6CCEC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4D28-EA64-434C-87A7-6F338A17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60A2-02A3-4248-9CE5-EAD41FEC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820D-BC50-45BE-A58D-6C732C3C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F59-C181-4F56-ACBF-16EB30DC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16A3-5C08-49C7-931E-1E121AD9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8C3B-8CCC-4E75-ADAF-36FB45E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2B78-8D5E-446F-A386-86BB4C92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CDA2-B2B5-4608-AF69-18A173A4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82AC-FF02-4545-A469-439A1F08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EBF4B-37F8-4AF1-AC31-8533E3DA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7F12-730E-4974-8C98-950E8A93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A7B6-9E1A-4CBC-AAB1-D3286E56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F06BF-F365-4DFD-ADBA-BB59B5A8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8F48-59CF-47FD-A722-43C5E79C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DBF-1C4B-4359-8F68-93DEA099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3FE2-FD56-4F82-9762-F626CC81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F287-2232-457B-93C0-EED3C4D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DF2B-3C33-4401-8313-2F2020AC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0E12-73DB-4475-9F4B-7EDA8DA6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0287-3E06-4323-98EB-06EA167F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9349-A8C7-48DB-B788-6D6FA01B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8989-B01B-4176-8201-E2212735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EC38-0905-4DD7-9A05-3E494025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47B9-2211-48A6-845E-6ED7518C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5D07-CBC9-4E06-AB24-EDAED49E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0C8-08D2-4436-B5DC-08A48B72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CB786-B916-474C-A314-BF17BE6D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7F73D-93BE-4840-874A-2323DD0F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12A17-01AD-47D1-A076-79189002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8130-407A-4F26-BB09-BDC9D2E7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C4B8-78D0-4698-AAF0-21A644B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B02E3-896D-4CA6-88BD-8555D9AF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C6F8-4DE5-4CBC-9C95-702CC5CC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6CA5D-6E41-406C-A6EC-59B7CFD3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FA96-E355-4763-A0FC-158B28D1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DE5E1-7290-42DA-BD19-5EB1ADED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779-DF0F-4C25-88EF-1CFF00A0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7A6B3-E845-4585-AC74-052259DA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4AC67-F0AB-4F15-AEDE-3B3CBAB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FA21D-97E3-4A28-B98D-C3DA0D7E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8F18E-A2D9-48B2-B255-C3423C57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6FDAF-95E2-4E7C-9705-017111AE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03D6D-848C-4608-9854-FFBEC4C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338DE-395F-4189-A698-FC956D9A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6D82-A68F-49A5-8E62-38D3FABE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F8E27-AA8C-4FB1-A4DB-F00616F1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92878-5EE8-4E70-9DF4-5F3BD660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28D-5E67-4B30-8502-1C444D5E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E4E55-E85B-4BA1-8667-E77F250B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229A5-11FE-4A2F-9CC7-A02466E8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8806A-39A5-439B-A5A3-DB4E542E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E29FD-BAAB-46B8-B74E-821E8B23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A9412-2073-4308-BFE8-B2458A83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CCB6-0055-4034-B9AC-7974A783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D5B9A-DCDB-4F11-9378-A8EDD0B2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4A0ED-8DB7-4663-A8B4-934E3B7B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169B1-8DB8-445D-B9FE-C3003BF2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A383F-3A39-4503-A0AA-07B13CB3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0A4-966E-4A44-9EB5-3698A1DF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F48B4-85D8-4476-82B9-2A7A2A33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E1BE5-5733-4D97-8C49-00C68799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09E3B-66F5-4270-92E7-AA9D52D5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BB110-E18C-4D1D-BE3E-188C2F73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7D6D9-E49C-49C1-A581-1C8195A0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0E976-0187-4CAE-9B2E-EF8206EC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D277F-63CB-4B0E-886A-BFCEEC5A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93F8A-3DC2-49C8-9475-756CBFF7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A70BB-3408-4E61-9E30-6E8336A9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D4F82-7182-4CD6-BEF7-B3ED0B92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937-58F7-4817-B5EA-3785F1D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D531A-1BDA-4A48-B9FA-3262C626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0D69-A899-4C3F-8D5B-8A1FA45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36EBE-9F60-44C2-A165-5658B825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4BD42-833C-4D8D-B2C7-94981C2A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E62A0-5AD5-45C9-B452-D0363B85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B2C05-248D-4356-91C1-38388D8A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CD08D-8D35-47F4-9918-2DA26D42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E7206-B649-474B-89AA-D0E1FA36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6C7EA-CF08-4CCB-9CCF-8BCF2B10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9B041-0A9E-4C74-A1B1-77AC968C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533-32FE-487D-AE82-944489E4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17886-B8DD-418B-8B42-178DF5B0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7EB45-E9A4-4CB7-8A88-B68CC5D5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BD995-BE87-46E7-A06C-0AD312A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A5738-BFA1-4332-BF9B-B2E44B71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13245-11B0-4500-B316-1F21035A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D4548-B71A-455F-B243-392BD2BE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B4104-BDED-4469-AD72-F11F7332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B830A-243D-4613-AECB-5ABCF5C6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61F9B-551F-4C74-8ED8-A31D27F7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E330A-9726-4873-8F14-9386F31D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69.xml"/><Relationship Id="rId15" Type="http://schemas.openxmlformats.org/officeDocument/2006/relationships/slideLayout" Target="../slideLayouts/slideLayout170.xml"/><Relationship Id="rId16" Type="http://schemas.openxmlformats.org/officeDocument/2006/relationships/slideLayout" Target="../slideLayouts/slideLayout171.xml"/><Relationship Id="rId17" Type="http://schemas.openxmlformats.org/officeDocument/2006/relationships/slideLayout" Target="../slideLayouts/slideLayout172.xml"/><Relationship Id="rId18" Type="http://schemas.openxmlformats.org/officeDocument/2006/relationships/slideLayout" Target="../slideLayouts/slideLayout173.xml"/><Relationship Id="rId19" Type="http://schemas.openxmlformats.org/officeDocument/2006/relationships/slideLayout" Target="../slideLayouts/slideLayout174.xml"/><Relationship Id="rId20" Type="http://schemas.openxmlformats.org/officeDocument/2006/relationships/slideLayout" Target="../slideLayouts/slideLayout175.xml"/><Relationship Id="rId21" Type="http://schemas.openxmlformats.org/officeDocument/2006/relationships/slideLayout" Target="../slideLayouts/slideLayout176.xml"/><Relationship Id="rId22" Type="http://schemas.openxmlformats.org/officeDocument/2006/relationships/slideLayout" Target="../slideLayouts/slideLayout177.xml"/><Relationship Id="rId23" Type="http://schemas.openxmlformats.org/officeDocument/2006/relationships/slideLayout" Target="../slideLayouts/slideLayout178.xml"/><Relationship Id="rId24" Type="http://schemas.openxmlformats.org/officeDocument/2006/relationships/slideLayout" Target="../slideLayouts/slideLayout179.xml"/><Relationship Id="rId2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338A-2445-493D-96E9-318909668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4925-8E2C-4BB9-A731-4AF1E3D4385A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9384-FC80-44A2-AF35-DA62C6E60D34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7199-3C4E-4122-A74E-9624E9464D0C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0EE6-CFDC-4C8B-8E14-98105894EE13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4" descr="http://img-fotki.yandex.ru/get/6101/16969765.224/0_8eba4_2ea295c4_orig.png"/>
          <p:cNvPicPr/>
          <p:nvPr/>
        </p:nvPicPr>
        <p:blipFill>
          <a:blip r:embed="rId6">
            <a:lum contrast="-10000"/>
          </a:blip>
          <a:stretch/>
        </p:blipFill>
        <p:spPr>
          <a:xfrm>
            <a:off x="5572080" y="0"/>
            <a:ext cx="3317760" cy="952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4" descr="http://img-fotki.yandex.ru/get/6101/16969765.224/0_8eba4_2ea295c4_orig.png"/>
          <p:cNvPicPr/>
          <p:nvPr/>
        </p:nvPicPr>
        <p:blipFill>
          <a:blip r:embed="rId7">
            <a:lum contrast="-10000"/>
          </a:blip>
          <a:stretch/>
        </p:blipFill>
        <p:spPr>
          <a:xfrm>
            <a:off x="8399520" y="0"/>
            <a:ext cx="744480" cy="46134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4" descr="http://img-fotki.yandex.ru/get/6101/16969765.224/0_8eba4_2ea295c4_orig.png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254160" y="5905440"/>
            <a:ext cx="3317760" cy="9525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4" descr="http://img-fotki.yandex.ru/get/6101/16969765.224/0_8eba4_2ea295c4_orig.png"/>
          <p:cNvPicPr/>
          <p:nvPr/>
        </p:nvPicPr>
        <p:blipFill>
          <a:blip r:embed="rId9">
            <a:lum contrast="-10000"/>
          </a:blip>
          <a:stretch/>
        </p:blipFill>
        <p:spPr>
          <a:xfrm>
            <a:off x="0" y="2244600"/>
            <a:ext cx="744480" cy="4613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9" descr="shutterstock_1115233553.png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214200" y="190440"/>
            <a:ext cx="4000680" cy="533412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0" descr="happy-children-reading-a-imaginative-book_23-2147533259.png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500040" y="1714680"/>
            <a:ext cx="3357720" cy="4570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4" descr="http://img-fotki.yandex.ru/get/6101/16969765.224/0_8eba4_2ea295c4_orig.png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4500720" y="5524560"/>
            <a:ext cx="4643280" cy="1333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4" descr="http://img-fotki.yandex.ru/get/6101/16969765.224/0_8eba4_2ea295c4_orig.png"/>
          <p:cNvPicPr/>
          <p:nvPr/>
        </p:nvPicPr>
        <p:blipFill>
          <a:blip r:embed="rId9">
            <a:lum contrast="-10000"/>
          </a:blip>
          <a:stretch/>
        </p:blipFill>
        <p:spPr>
          <a:xfrm>
            <a:off x="0" y="5524560"/>
            <a:ext cx="4643280" cy="1333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4" descr="http://img-fotki.yandex.ru/get/6101/16969765.224/0_8eba4_2ea295c4_orig.png"/>
          <p:cNvPicPr/>
          <p:nvPr/>
        </p:nvPicPr>
        <p:blipFill>
          <a:blip r:embed="rId10">
            <a:lum contrast="-10000"/>
          </a:blip>
          <a:stretch/>
        </p:blipFill>
        <p:spPr>
          <a:xfrm>
            <a:off x="0" y="190440"/>
            <a:ext cx="1000080" cy="6191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4" descr="http://img-fotki.yandex.ru/get/6101/16969765.224/0_8eba4_2ea295c4_orig.png"/>
          <p:cNvPicPr/>
          <p:nvPr/>
        </p:nvPicPr>
        <p:blipFill>
          <a:blip r:embed="rId11">
            <a:lum contrast="-10000"/>
          </a:blip>
          <a:stretch/>
        </p:blipFill>
        <p:spPr>
          <a:xfrm>
            <a:off x="8143920" y="476280"/>
            <a:ext cx="1000080" cy="61912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4" descr="http://img-fotki.yandex.ru/get/6101/16969765.224/0_8eba4_2ea295c4_orig.png"/>
          <p:cNvPicPr/>
          <p:nvPr/>
        </p:nvPicPr>
        <p:blipFill>
          <a:blip r:embed="rId12">
            <a:lum contrast="-10000"/>
          </a:blip>
          <a:stretch/>
        </p:blipFill>
        <p:spPr>
          <a:xfrm>
            <a:off x="0" y="0"/>
            <a:ext cx="4643280" cy="13334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4" descr="http://img-fotki.yandex.ru/get/6101/16969765.224/0_8eba4_2ea295c4_orig.png"/>
          <p:cNvPicPr/>
          <p:nvPr/>
        </p:nvPicPr>
        <p:blipFill>
          <a:blip r:embed="rId13">
            <a:lum contrast="-10000"/>
          </a:blip>
          <a:stretch/>
        </p:blipFill>
        <p:spPr>
          <a:xfrm>
            <a:off x="4500720" y="0"/>
            <a:ext cx="4643280" cy="133344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4"/>
    <p:sldLayoutId id="2147483832" r:id="rId15"/>
    <p:sldLayoutId id="2147483833" r:id="rId16"/>
    <p:sldLayoutId id="2147483834" r:id="rId17"/>
    <p:sldLayoutId id="2147483835" r:id="rId18"/>
    <p:sldLayoutId id="2147483836" r:id="rId19"/>
    <p:sldLayoutId id="2147483837" r:id="rId20"/>
    <p:sldLayoutId id="2147483838" r:id="rId21"/>
    <p:sldLayoutId id="2147483839" r:id="rId22"/>
    <p:sldLayoutId id="2147483840" r:id="rId23"/>
    <p:sldLayoutId id="2147483841" r:id="rId24"/>
    <p:sldLayoutId id="2147483842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0B6D-544E-4815-89FE-841E28F5B4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:\графика\asadal\scool\scool\38 [Converted].png"/>
          <p:cNvPicPr/>
          <p:nvPr/>
        </p:nvPicPr>
        <p:blipFill>
          <a:blip r:embed="rId6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:\графика\asadal\scool\scool\23\10101010.png"/>
          <p:cNvPicPr/>
          <p:nvPr/>
        </p:nvPicPr>
        <p:blipFill>
          <a:blip r:embed="rId7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A750-044A-458E-A698-2BB90BFFDDAC}" type="slidenum">
              <a:rPr b="1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A295-CCBB-45B8-B957-402892596C1F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26AB-9B70-4D7E-AFCC-7B5694B76BEB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A587-2876-47D1-B099-48469A4A08D4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3A3E-F072-44E6-84A3-80B9329BAD28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280D-139A-4B90-BFF0-DE2576BF8534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AC58-5033-4160-AEEC-ED69005BC508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ёл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тойчив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сон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рабр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ь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нтяй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усих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ев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ыл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воль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дра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1327320" y="2765520"/>
            <a:ext cx="344160" cy="2444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"/>
          <p:cNvPicPr/>
          <p:nvPr/>
        </p:nvPicPr>
        <p:blipFill>
          <a:blip r:embed="rId2"/>
          <a:stretch/>
        </p:blipFill>
        <p:spPr>
          <a:xfrm>
            <a:off x="7788240" y="2765520"/>
            <a:ext cx="209520" cy="152280"/>
          </a:xfrm>
          <a:prstGeom prst="rect">
            <a:avLst/>
          </a:prstGeom>
          <a:ln w="0">
            <a:noFill/>
          </a:ln>
        </p:spPr>
      </p:pic>
      <p:cxnSp>
        <p:nvCxnSpPr>
          <p:cNvPr id="675" name="Прямая со стрелкой 2"/>
          <p:cNvCxnSpPr/>
          <p:nvPr/>
        </p:nvCxnSpPr>
        <p:spPr>
          <a:xfrm>
            <a:off x="5508360" y="691920"/>
            <a:ext cx="1585080" cy="1081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6" name="Прямая со стрелкой 6"/>
          <p:cNvCxnSpPr/>
          <p:nvPr/>
        </p:nvCxnSpPr>
        <p:spPr>
          <a:xfrm>
            <a:off x="5881320" y="1233000"/>
            <a:ext cx="1067400" cy="756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7" name="Прямая со стрелкой 8"/>
          <p:cNvCxnSpPr/>
          <p:nvPr/>
        </p:nvCxnSpPr>
        <p:spPr>
          <a:xfrm>
            <a:off x="5495760" y="2696760"/>
            <a:ext cx="86616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8" name="Прямая со стрелкой 10"/>
          <p:cNvCxnSpPr/>
          <p:nvPr/>
        </p:nvCxnSpPr>
        <p:spPr>
          <a:xfrm>
            <a:off x="5508360" y="2150640"/>
            <a:ext cx="7196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9" name="Прямая со стрелкой 12"/>
          <p:cNvCxnSpPr/>
          <p:nvPr/>
        </p:nvCxnSpPr>
        <p:spPr>
          <a:xfrm flipV="1">
            <a:off x="5508720" y="3607920"/>
            <a:ext cx="1080000" cy="5421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80" name="Прямая со стрелкой 14"/>
          <p:cNvCxnSpPr/>
          <p:nvPr/>
        </p:nvCxnSpPr>
        <p:spPr>
          <a:xfrm flipV="1">
            <a:off x="5414760" y="3877560"/>
            <a:ext cx="2686680" cy="1639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81" name="Прямая со стрелкой 13"/>
          <p:cNvCxnSpPr/>
          <p:nvPr/>
        </p:nvCxnSpPr>
        <p:spPr>
          <a:xfrm flipH="1">
            <a:off x="2986920" y="1698120"/>
            <a:ext cx="864360" cy="11487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2" name="Прямая со стрелкой 18"/>
          <p:cNvCxnSpPr/>
          <p:nvPr/>
        </p:nvCxnSpPr>
        <p:spPr>
          <a:xfrm flipH="1">
            <a:off x="2986920" y="3166560"/>
            <a:ext cx="577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3" name="Прямая со стрелкой 20"/>
          <p:cNvCxnSpPr/>
          <p:nvPr/>
        </p:nvCxnSpPr>
        <p:spPr>
          <a:xfrm flipH="1" flipV="1">
            <a:off x="2987280" y="3499560"/>
            <a:ext cx="720000" cy="1962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4" name="Прямая со стрелкой 22"/>
          <p:cNvCxnSpPr/>
          <p:nvPr/>
        </p:nvCxnSpPr>
        <p:spPr>
          <a:xfrm flipH="1" flipV="1">
            <a:off x="2448720" y="3607560"/>
            <a:ext cx="1296360" cy="9738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5" name="Прямая со стрелкой 24"/>
          <p:cNvCxnSpPr/>
          <p:nvPr/>
        </p:nvCxnSpPr>
        <p:spPr>
          <a:xfrm flipH="1" flipV="1">
            <a:off x="2231640" y="3715920"/>
            <a:ext cx="1116720" cy="12261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686" name="Прямоугольник 7"/>
          <p:cNvSpPr/>
          <p:nvPr/>
        </p:nvSpPr>
        <p:spPr>
          <a:xfrm>
            <a:off x="498600" y="162864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ородска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9"/>
          <p:cNvSpPr/>
          <p:nvPr/>
        </p:nvSpPr>
        <p:spPr>
          <a:xfrm>
            <a:off x="6534720" y="32846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есна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5"/>
          <p:cNvSpPr/>
          <p:nvPr/>
        </p:nvSpPr>
        <p:spPr>
          <a:xfrm>
            <a:off x="179280" y="364500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0783"/>
                </a:solidFill>
                <a:latin typeface="Times New Roman"/>
              </a:rPr>
              <a:t>Не сдавалась,  не унывала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0783"/>
                </a:solidFill>
                <a:latin typeface="Times New Roman"/>
              </a:rPr>
              <a:t>боролось,  преодолевала трудн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6"/>
          <p:cNvSpPr/>
          <p:nvPr/>
        </p:nvSpPr>
        <p:spPr>
          <a:xfrm>
            <a:off x="179280" y="4221000"/>
            <a:ext cx="47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«Пока силы есть, буду бороться!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Я ведь ещё живая, значит надо жить!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C:\Users\Андрей\Desktop\Урок\Ляг.jpg"/>
          <p:cNvPicPr/>
          <p:nvPr/>
        </p:nvPicPr>
        <p:blipFill>
          <a:blip r:embed="rId1"/>
          <a:stretch/>
        </p:blipFill>
        <p:spPr>
          <a:xfrm>
            <a:off x="8388360" y="2590920"/>
            <a:ext cx="285840" cy="2617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" descr="C:\Users\Андрей\Desktop\Урок\Ляг.jpg"/>
          <p:cNvPicPr/>
          <p:nvPr/>
        </p:nvPicPr>
        <p:blipFill>
          <a:blip r:embed="rId2"/>
          <a:srcRect l="0" t="-3438" r="0" b="0"/>
          <a:stretch/>
        </p:blipFill>
        <p:spPr>
          <a:xfrm>
            <a:off x="992160" y="2557440"/>
            <a:ext cx="318960" cy="279360"/>
          </a:xfrm>
          <a:prstGeom prst="rect">
            <a:avLst/>
          </a:prstGeom>
          <a:ln w="0">
            <a:noFill/>
          </a:ln>
        </p:spPr>
      </p:pic>
      <p:sp>
        <p:nvSpPr>
          <p:cNvPr id="692" name="Прямоугольник 13"/>
          <p:cNvSpPr/>
          <p:nvPr/>
        </p:nvSpPr>
        <p:spPr>
          <a:xfrm>
            <a:off x="5076720" y="3645000"/>
            <a:ext cx="40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0783"/>
                </a:solidFill>
                <a:latin typeface="Times New Roman"/>
              </a:rPr>
              <a:t>Унывала, трусила, не боролась, сдалась,  не преодолела трудн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4"/>
          <p:cNvSpPr/>
          <p:nvPr/>
        </p:nvSpPr>
        <p:spPr>
          <a:xfrm>
            <a:off x="5867280" y="1700280"/>
            <a:ext cx="244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Лен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Сонл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Уныл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Слаб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Безволь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Трусл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5"/>
          <p:cNvSpPr/>
          <p:nvPr/>
        </p:nvSpPr>
        <p:spPr>
          <a:xfrm>
            <a:off x="1547640" y="1700280"/>
            <a:ext cx="20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Трудолюб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Силь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Весёл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Настойч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Воле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Храбр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6"/>
          <p:cNvSpPr/>
          <p:nvPr/>
        </p:nvSpPr>
        <p:spPr>
          <a:xfrm>
            <a:off x="5003640" y="4221000"/>
            <a:ext cx="39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«Зачем же я буду напрасно барахтаться? Только нервы даром трепать!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Двойная стрелка влево/вправо 19"/>
          <p:cNvSpPr/>
          <p:nvPr/>
        </p:nvSpPr>
        <p:spPr>
          <a:xfrm>
            <a:off x="3132000" y="1989000"/>
            <a:ext cx="2880000" cy="86364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Прямоугольник 20" descr=""/>
          <p:cNvPicPr/>
          <p:nvPr/>
        </p:nvPicPr>
        <p:blipFill>
          <a:blip r:embed="rId3"/>
          <a:stretch/>
        </p:blipFill>
        <p:spPr>
          <a:xfrm>
            <a:off x="3852720" y="2133720"/>
            <a:ext cx="1712880" cy="523800"/>
          </a:xfrm>
          <a:prstGeom prst="rect">
            <a:avLst/>
          </a:prstGeom>
          <a:ln w="0">
            <a:noFill/>
          </a:ln>
        </p:spPr>
      </p:pic>
      <p:sp>
        <p:nvSpPr>
          <p:cNvPr id="698" name="Двойная стрелка влево/вправо 21"/>
          <p:cNvSpPr/>
          <p:nvPr/>
        </p:nvSpPr>
        <p:spPr>
          <a:xfrm>
            <a:off x="2411280" y="4724280"/>
            <a:ext cx="4248360" cy="11527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Прямоугольник 23" descr=""/>
          <p:cNvPicPr/>
          <p:nvPr/>
        </p:nvPicPr>
        <p:blipFill>
          <a:blip r:embed="rId4"/>
          <a:stretch/>
        </p:blipFill>
        <p:spPr>
          <a:xfrm>
            <a:off x="2627280" y="5084640"/>
            <a:ext cx="4035600" cy="462240"/>
          </a:xfrm>
          <a:prstGeom prst="rect">
            <a:avLst/>
          </a:prstGeom>
          <a:ln w="0">
            <a:noFill/>
          </a:ln>
        </p:spPr>
      </p:pic>
      <p:sp>
        <p:nvSpPr>
          <p:cNvPr id="700" name="TextBox 24"/>
          <p:cNvSpPr/>
          <p:nvPr/>
        </p:nvSpPr>
        <p:spPr>
          <a:xfrm>
            <a:off x="6804000" y="5084640"/>
            <a:ext cx="223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А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25"/>
          <p:cNvSpPr/>
          <p:nvPr/>
        </p:nvSpPr>
        <p:spPr>
          <a:xfrm>
            <a:off x="108000" y="5084640"/>
            <a:ext cx="21956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БЕ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Заголовок 1"/>
          <p:cNvSpPr/>
          <p:nvPr/>
        </p:nvSpPr>
        <p:spPr>
          <a:xfrm>
            <a:off x="1619280" y="333360"/>
            <a:ext cx="5761080" cy="46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Л. Пантелеев «Две лягушки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Стрелка вниз 22"/>
          <p:cNvSpPr/>
          <p:nvPr/>
        </p:nvSpPr>
        <p:spPr>
          <a:xfrm>
            <a:off x="4356000" y="2637000"/>
            <a:ext cx="484200" cy="237636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1"/>
          <p:cNvSpPr/>
          <p:nvPr/>
        </p:nvSpPr>
        <p:spPr>
          <a:xfrm>
            <a:off x="6646680" y="1257480"/>
            <a:ext cx="18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Городск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оугольник 18"/>
          <p:cNvSpPr/>
          <p:nvPr/>
        </p:nvSpPr>
        <p:spPr>
          <a:xfrm>
            <a:off x="827280" y="1257480"/>
            <a:ext cx="13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Лесн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1"/>
          <p:cNvSpPr/>
          <p:nvPr/>
        </p:nvSpPr>
        <p:spPr>
          <a:xfrm>
            <a:off x="-11160" y="3492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сякая помощь хороша вовремя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рпение и труд всё перетрут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руга не узнаешь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ка не понадобится его помощь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д лежачий камень и вода не течёт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ам погибай, а товарища выручай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елу – время, а потехе – час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Прямоугольник 1"/>
          <p:cNvSpPr/>
          <p:nvPr/>
        </p:nvSpPr>
        <p:spPr>
          <a:xfrm>
            <a:off x="0" y="692280"/>
            <a:ext cx="911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лан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Неожиданное спасение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Шалости в погребе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Кто настоящий боец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Такие разные подруги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2"/>
          <p:cNvSpPr/>
          <p:nvPr/>
        </p:nvSpPr>
        <p:spPr>
          <a:xfrm>
            <a:off x="110880" y="501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3"/>
          <p:cNvSpPr/>
          <p:nvPr/>
        </p:nvSpPr>
        <p:spPr>
          <a:xfrm>
            <a:off x="110880" y="162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4"/>
          <p:cNvSpPr/>
          <p:nvPr/>
        </p:nvSpPr>
        <p:spPr>
          <a:xfrm>
            <a:off x="107640" y="393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5"/>
          <p:cNvSpPr/>
          <p:nvPr/>
        </p:nvSpPr>
        <p:spPr>
          <a:xfrm>
            <a:off x="107640" y="2782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6560" y="37440"/>
            <a:ext cx="3030840" cy="66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____________________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де жили две лягуш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болот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канав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городском парк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уда лягушки забра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кухню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погреб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сарай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да они свали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горшок со сметаной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бутылку с кефиром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блюдце с молок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чем  подумала ленив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есть силы, буду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ремя даром трат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 лучше я сразу утон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 чем думала лесн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мне отсюда не вылез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 я буду напрасно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дам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случилось со сметаной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на высохла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нее получился сыр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з нее сбилось масло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их словах выражена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мысль сказ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адай духом!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взялось масло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буд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2160" y="27360"/>
            <a:ext cx="3030840" cy="66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____________________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де жили две лягуш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болот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в канав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городском парк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уда лягушки забра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кухню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в погреб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сарай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да они свали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в горшок со сметаной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бутылку с кефиром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блюдце с молок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чем  подумала ленив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есть силы, буду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ремя даром трат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ж лучше я сразу утону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 чем думала лесн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мне отсюда не вылез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 я буду напрасно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т, не сдамс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случилось со сметаной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на высохла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нее получился сыр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из нее сбилось масло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их словах выражена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мысль сказ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адай духом!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взялось масло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буд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3635280" y="2781360"/>
            <a:ext cx="55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 ошибок – «5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 ошибка – «4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2 – 3 ошибки – «3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4 и более ошибок – «2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53:46Z</dcterms:modified>
  <cp:revision>74</cp:revision>
  <dc:subject/>
  <dc:title>Слайд 1</dc:title>
</cp:coreProperties>
</file>