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4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4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4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5F1-C225-4034-A7F0-B24C1171E0C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вы можете сказать о лягушке, которая спаслась и лягушке, которая погиб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ая лягушка вам больше понравилась и 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черты характера лягушек сказались на их жизни? А сейчас скажите, от кого зависит исход сложной ситуации, в которую попали лягуш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ти разные по характеру лягушки повели себя в одинаков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се 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 слов – помощников описывают, как лягушки нашли выход из слож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D3E6-04AE-4E16-8AA8-34848C4B503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012-CDCC-462A-AD1A-DCE2EF25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0F8-3573-4B30-ABF7-35267DB0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9CE02-9F64-4817-9DE7-6AFB936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8D52B-5FA7-4638-8059-0E9D859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8A40D-EA81-47CD-B545-84B0F7A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B2A3-AB5E-430E-AA24-742CB8D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05C24-36B0-42F3-AF02-23F0FA7B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37973-0CDB-4F3E-ABFE-9FD049D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845E-B5AC-4F8F-B8F6-A9FA94D5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A76AD-85EC-48EA-845C-AA1CAA7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C347A-3BFC-4909-A026-7912A4B4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C7BA5-B643-4A07-9238-596D9E7A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8AA-054D-45AE-BDD9-97265677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D2CD-26A9-4CD7-AF40-81E6EC7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0F188-6300-4043-AC21-AB2427A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0E924-9821-4144-8823-BF2EC60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66DE5-05BA-4638-9238-9634ECF8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1A9EF-D99B-4C08-AC62-2C7F1D7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387F7-603E-4BEF-AE1C-D406FCB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8ECDE-A483-4901-987C-272FD1D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0A6E9-D58D-4999-BD52-924981C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E020E-DD08-4256-B69E-FE32C81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60FC5-21B7-4E9D-9A94-8F9D6CD1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768-76D7-45E5-9961-C8A9816E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08489-76C0-45B8-B226-915B3E41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0F6F-6A35-47A1-B5AB-EFCAA2BB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F28B-77FF-43A4-9A46-6F44DA8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D0691-33AF-42B3-A3C1-1B16B21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1996A-C208-4F8D-B10E-9B937C8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A62DC-75D3-4FD3-9B20-1A00611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3E344-B13E-4B7A-A647-5306110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965F-590F-4835-A004-E842CCC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BD8FA-4439-4200-8982-5D8053D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0C39-EE91-480B-84F8-0E6B7FA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A13-0DBD-4D72-A9C4-13650594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2983-0E12-40F8-B75A-CE0ED738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07B21-1C7C-49E4-8BEF-104DDAD3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651C0-E681-4888-BDFF-D8F72EC7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B16D3-1974-4664-B1F3-AD8CFF14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BBD5C-DCB9-430E-A2D1-ABF970B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7A590-4030-4164-9477-ADE7B58E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E609F-A70F-4E30-842F-8E0E4A02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3D568-7243-450F-8126-9D5D52F4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7592A-8DF8-4AD7-BC53-423FB853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630C1-5B59-48EA-8152-88F4504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CE83-0D23-4EAC-A889-13EB2D1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DE68A-E2EC-46F7-AFF4-935AA6D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44342-971D-4AD6-9AA7-17C037E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CA75D-58BE-43F9-B33C-93E1A68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47139-5B5F-4422-B4E3-7A0A0AD4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8BBE2-EFDF-4F50-AF20-2B67166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7AA7B-108B-4D59-88B9-9E4F33AA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3AF59-2666-4931-81D4-8365CEC1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DFDA5-74BF-4EBD-AD11-FD66D27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D931B-0A0F-437A-B62E-42FC72F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CFB97-8033-4778-AF87-4215A25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DCB-CD4D-4100-9F05-3508BD00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C759A-3992-4ACB-8418-5A1C4A09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3C2D5-8D70-44BA-ACD8-6BEDBEC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00E98-6CFB-43FB-A7CC-A310671F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55F52-87EE-4795-9105-FA3217F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AE2C-B5EE-4483-B443-9385F5FB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96002-491C-4433-9BA2-7E1A8C8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2F692-8BF8-429A-B847-CEE05291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DE8-1C58-4AEE-AE4C-40589B7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CCE-C759-446D-BD77-8208E84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F27-1488-4541-9B8C-1FE4C05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476C-0359-4818-B0D8-2B43FB21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6CC-E136-4FBB-8F6D-EBD16DFB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4396-8FBD-4C0B-AFE8-B40FEB44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A2B-A5AD-49B2-AC60-E4B7A1B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FC57-2DA7-4B9B-BC31-93BA7309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CBEE-B738-47B1-B80B-A803EBB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3915-1603-400D-B3D0-EF07A059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C697-3EE6-40C8-9A8D-FA219C94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3E69-4171-4311-BA19-A4CFFCA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0009-0707-452A-BBBE-E9006307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B3C3-02D9-442B-A0BB-9D3260EA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3F13-D501-45E5-B3C5-41E2B9F5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72E-2145-4246-83A2-6CEEF27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BC90-125B-4736-B508-F96E1F1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7AEA-CE3A-4631-8C03-66AFED9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1F75-591F-474B-B74B-3592E17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AD55-5625-4845-BC7A-EEB7EF7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3AFD-E09D-4D11-A10E-2ADB7DA0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F8E9-3E67-4DB5-B4D1-D280C237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16C3-706F-490D-801D-DAF8BDFA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2020-C38A-4681-A4AE-904BF20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FE9C-289A-4EBB-BE03-21BA50C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2F7F-E771-4C4C-95E4-6028C09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9CA-D87D-4DCC-99E5-9C947BD1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49A6-ED6B-4CCF-817E-C3B094BA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8355-7953-4279-82A4-ED48555A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27E7-87EC-4AA0-A17C-68509D10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8690-60ED-40E9-9F42-E0F5973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719B-4A1A-44D2-B771-1093D43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7D5E-89A3-4E05-B9EC-E1416DE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5FA0-3371-44EC-B594-EE27C37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C7B2-583A-47EF-A247-C76AEDE9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00A8-E627-446F-97AE-BCD33342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EA41-BED0-45BA-96C8-FDFC354C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493-42D2-4D99-B6F3-C7FD883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2FD4-E8E9-4F3C-9A60-D900E94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C828-24D4-4ED3-86BB-3D959D7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6281-D9FD-47A7-9FC5-8CFACFE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EE93-C76E-4406-99C5-953B1340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8245-BD47-4D03-B9C5-E521A08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F6A8-AC49-448D-BB6C-119B7B7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2BF8-B28F-44B7-AC4C-80FA416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D901-EF96-4732-9689-AD35BCF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0001-66DC-4C1E-8D1B-6AE977C4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3FAA-A506-4D9B-91E5-E642A61A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66E-AF53-4DEA-8669-5788F98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B614-5867-46D7-9DEE-A0B76257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A39D-85DC-428A-8F74-888801D4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1DAB-CCBA-4451-8D59-CAC3F7BD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38C92-7D71-4ABA-8452-0868421E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BF25-3C17-4E38-B52C-ED5E198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EA54A-27EC-417D-96C4-0CDB275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B0BB-4044-48C2-9C30-4FA97B2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A7D9-83BA-465B-9F14-46F4F34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953C-59EB-4943-8D87-CFF25B8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1D58-4CFC-41AB-BDB1-E6AFF3C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CBD-68A4-426D-A661-787F841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70EC-A8C8-4571-BDA6-DB6F957A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D838-2FBA-47DA-99E9-0AE0AC07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0EBEB-85F5-416A-97EE-4788EE9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EF444-A1A6-4614-8813-7B8AB0F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03A8-7967-4097-9793-7DC2607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DB3F8-E634-4C15-83CC-8459722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270F-8BA0-46FC-8817-C067358C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4A73-2E7C-4B69-B226-39B2991C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7168-A8D5-40D1-ACCB-FB9A67A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F41BC-7C0F-4F74-AD2A-5BAC308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0E3-0F81-4569-984E-F76880C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C2C28-66AF-447A-AED5-D9CCBEA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66784-B156-46F2-9AC7-0ECE8A7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645F-C6F4-49A5-B137-84DC701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D71B-294E-4515-BB73-C9D3D004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D4DB-6F57-418F-8E5E-432F17B0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A6B34-5D58-4AEF-A209-2E69B3C0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ED8C-8CD7-4EBA-B050-04D12DB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7D37-E811-418F-90F9-568C025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4D39-29B2-4815-A99E-52F3B13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D121-9E76-4D69-A6F7-E1011E9C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8DD-ACB3-4C35-B9CD-D87D6FF0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E9FF-3E84-4EB0-99C3-5A0E1B7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B66C-687D-4C20-8659-5B863DD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A6AB7-D185-4FA4-BE93-06C39F4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9AD5-B3F5-4DAE-A352-1A8EC2A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1ED7-CA5F-49EE-A029-AF17AF85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9606B-D3BC-47AA-B9C1-8525306D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39C59-0E37-4FBC-A4E8-10BD5A80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D3EE6-8BE2-44BC-80BE-5BEFC9BD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6BB40-AD64-485B-A17C-6F40E091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E6FD6-059E-44FC-82F6-36A17434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69.xml"/><Relationship Id="rId15" Type="http://schemas.openxmlformats.org/officeDocument/2006/relationships/slideLayout" Target="../slideLayouts/slideLayout170.xml"/><Relationship Id="rId16" Type="http://schemas.openxmlformats.org/officeDocument/2006/relationships/slideLayout" Target="../slideLayouts/slideLayout171.xml"/><Relationship Id="rId17" Type="http://schemas.openxmlformats.org/officeDocument/2006/relationships/slideLayout" Target="../slideLayouts/slideLayout172.xml"/><Relationship Id="rId18" Type="http://schemas.openxmlformats.org/officeDocument/2006/relationships/slideLayout" Target="../slideLayouts/slideLayout173.xml"/><Relationship Id="rId19" Type="http://schemas.openxmlformats.org/officeDocument/2006/relationships/slideLayout" Target="../slideLayouts/slideLayout174.xml"/><Relationship Id="rId20" Type="http://schemas.openxmlformats.org/officeDocument/2006/relationships/slideLayout" Target="../slideLayouts/slideLayout175.xml"/><Relationship Id="rId21" Type="http://schemas.openxmlformats.org/officeDocument/2006/relationships/slideLayout" Target="../slideLayouts/slideLayout176.xml"/><Relationship Id="rId22" Type="http://schemas.openxmlformats.org/officeDocument/2006/relationships/slideLayout" Target="../slideLayouts/slideLayout177.xml"/><Relationship Id="rId23" Type="http://schemas.openxmlformats.org/officeDocument/2006/relationships/slideLayout" Target="../slideLayouts/slideLayout178.xml"/><Relationship Id="rId24" Type="http://schemas.openxmlformats.org/officeDocument/2006/relationships/slideLayout" Target="../slideLayouts/slideLayout179.xml"/><Relationship Id="rId2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78EC-6A2B-433A-890E-ABD3D4D77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3388-98EA-449F-A86F-D428535B48E1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57F-F7E5-4093-A227-CA8BF7DFE2A8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323-6349-4C55-9055-372C446DC88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3CE0-2391-43A1-B8A1-4CE7775FAF54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4" descr="http://img-fotki.yandex.ru/get/6101/16969765.224/0_8eba4_2ea295c4_orig.pn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5572080" y="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4" descr="http://img-fotki.yandex.ru/get/6101/16969765.224/0_8eba4_2ea295c4_orig.png"/>
          <p:cNvPicPr/>
          <p:nvPr/>
        </p:nvPicPr>
        <p:blipFill>
          <a:blip r:embed="rId7">
            <a:lum contrast="-10000"/>
          </a:blip>
          <a:stretch/>
        </p:blipFill>
        <p:spPr>
          <a:xfrm>
            <a:off x="8399520" y="0"/>
            <a:ext cx="744480" cy="4613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254160" y="5905440"/>
            <a:ext cx="3317760" cy="952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2244600"/>
            <a:ext cx="744480" cy="4613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9" descr="shutterstock_1115233553.png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214200" y="19044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0" descr="happy-children-reading-a-imaginative-book_23-2147533259.png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500040" y="1714680"/>
            <a:ext cx="3357720" cy="4570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http://img-fotki.yandex.ru/get/6101/16969765.224/0_8eba4_2ea295c4_orig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450072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4" descr="http://img-fotki.yandex.ru/get/6101/16969765.224/0_8eba4_2ea295c4_orig.png"/>
          <p:cNvPicPr/>
          <p:nvPr/>
        </p:nvPicPr>
        <p:blipFill>
          <a:blip r:embed="rId9">
            <a:lum contrast="-10000"/>
          </a:blip>
          <a:stretch/>
        </p:blipFill>
        <p:spPr>
          <a:xfrm>
            <a:off x="0" y="552456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4" descr="http://img-fotki.yandex.ru/get/6101/16969765.224/0_8eba4_2ea295c4_orig.png"/>
          <p:cNvPicPr/>
          <p:nvPr/>
        </p:nvPicPr>
        <p:blipFill>
          <a:blip r:embed="rId10">
            <a:lum contrast="-10000"/>
          </a:blip>
          <a:stretch/>
        </p:blipFill>
        <p:spPr>
          <a:xfrm>
            <a:off x="0" y="19044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4" descr="http://img-fotki.yandex.ru/get/6101/16969765.224/0_8eba4_2ea295c4_orig.png"/>
          <p:cNvPicPr/>
          <p:nvPr/>
        </p:nvPicPr>
        <p:blipFill>
          <a:blip r:embed="rId11">
            <a:lum contrast="-10000"/>
          </a:blip>
          <a:stretch/>
        </p:blipFill>
        <p:spPr>
          <a:xfrm>
            <a:off x="8143920" y="476280"/>
            <a:ext cx="1000080" cy="6191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http://img-fotki.yandex.ru/get/6101/16969765.224/0_8eba4_2ea295c4_orig.png"/>
          <p:cNvPicPr/>
          <p:nvPr/>
        </p:nvPicPr>
        <p:blipFill>
          <a:blip r:embed="rId12">
            <a:lum contrast="-10000"/>
          </a:blip>
          <a:stretch/>
        </p:blipFill>
        <p:spPr>
          <a:xfrm>
            <a:off x="0" y="0"/>
            <a:ext cx="4643280" cy="13334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4" descr="http://img-fotki.yandex.ru/get/6101/16969765.224/0_8eba4_2ea295c4_orig.png"/>
          <p:cNvPicPr/>
          <p:nvPr/>
        </p:nvPicPr>
        <p:blipFill>
          <a:blip r:embed="rId13">
            <a:lum contrast="-10000"/>
          </a:blip>
          <a:stretch/>
        </p:blipFill>
        <p:spPr>
          <a:xfrm>
            <a:off x="4500720" y="0"/>
            <a:ext cx="4643280" cy="133344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4"/>
    <p:sldLayoutId id="2147483832" r:id="rId15"/>
    <p:sldLayoutId id="2147483833" r:id="rId16"/>
    <p:sldLayoutId id="2147483834" r:id="rId17"/>
    <p:sldLayoutId id="2147483835" r:id="rId18"/>
    <p:sldLayoutId id="2147483836" r:id="rId19"/>
    <p:sldLayoutId id="2147483837" r:id="rId20"/>
    <p:sldLayoutId id="2147483838" r:id="rId21"/>
    <p:sldLayoutId id="2147483839" r:id="rId22"/>
    <p:sldLayoutId id="2147483840" r:id="rId23"/>
    <p:sldLayoutId id="2147483841" r:id="rId24"/>
    <p:sldLayoutId id="2147483842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C2A-08E6-4F25-9869-B0B54415B1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графика\asadal\scool\scool\38 [Converted].png"/>
          <p:cNvPicPr/>
          <p:nvPr/>
        </p:nvPicPr>
        <p:blipFill>
          <a:blip r:embed="rId6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графика\asadal\scool\scool\23\10101010.png"/>
          <p:cNvPicPr/>
          <p:nvPr/>
        </p:nvPicPr>
        <p:blipFill>
          <a:blip r:embed="rId7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C02-3B88-4E27-85D9-49F32EECFADC}" type="slidenum">
              <a:rPr b="1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159-EC54-47A1-B21D-3D187189C38C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F2A-9643-4B75-BE1E-32B799572AE2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707-ABC8-4B5B-AA1E-E17B95145A82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1786-B857-4E34-A706-C022DEFC46C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EAD-D08D-4439-9A4F-D9F6B8A9D1D3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H:\графика\asadal\scool\scool\38 [Converted].png"/>
          <p:cNvPicPr/>
          <p:nvPr/>
        </p:nvPicPr>
        <p:blipFill>
          <a:blip r:embed="rId4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:\графика\asadal\scool\scool\23\10101010.png"/>
          <p:cNvPicPr/>
          <p:nvPr/>
        </p:nvPicPr>
        <p:blipFill>
          <a:blip r:embed="rId5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0BE-5D02-4C54-B611-9905E7F4AE36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ё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ойчи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сон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абр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тяй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сих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е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ыл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во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дра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1327320" y="2765520"/>
            <a:ext cx="344160" cy="2444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"/>
          <p:cNvPicPr/>
          <p:nvPr/>
        </p:nvPicPr>
        <p:blipFill>
          <a:blip r:embed="rId2"/>
          <a:stretch/>
        </p:blipFill>
        <p:spPr>
          <a:xfrm>
            <a:off x="7788240" y="2765520"/>
            <a:ext cx="209520" cy="152280"/>
          </a:xfrm>
          <a:prstGeom prst="rect">
            <a:avLst/>
          </a:prstGeom>
          <a:ln w="0">
            <a:noFill/>
          </a:ln>
        </p:spPr>
      </p:pic>
      <p:cxnSp>
        <p:nvCxnSpPr>
          <p:cNvPr id="675" name="Прямая со стрелкой 2"/>
          <p:cNvCxnSpPr/>
          <p:nvPr/>
        </p:nvCxnSpPr>
        <p:spPr>
          <a:xfrm>
            <a:off x="5508360" y="691920"/>
            <a:ext cx="1585080" cy="1081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6" name="Прямая со стрелкой 6"/>
          <p:cNvCxnSpPr/>
          <p:nvPr/>
        </p:nvCxnSpPr>
        <p:spPr>
          <a:xfrm>
            <a:off x="5881320" y="1233000"/>
            <a:ext cx="1067400" cy="756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7" name="Прямая со стрелкой 8"/>
          <p:cNvCxnSpPr/>
          <p:nvPr/>
        </p:nvCxnSpPr>
        <p:spPr>
          <a:xfrm>
            <a:off x="5495760" y="2696760"/>
            <a:ext cx="86616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8" name="Прямая со стрелкой 10"/>
          <p:cNvCxnSpPr/>
          <p:nvPr/>
        </p:nvCxnSpPr>
        <p:spPr>
          <a:xfrm>
            <a:off x="5508360" y="2150640"/>
            <a:ext cx="7196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79" name="Прямая со стрелкой 12"/>
          <p:cNvCxnSpPr/>
          <p:nvPr/>
        </p:nvCxnSpPr>
        <p:spPr>
          <a:xfrm flipV="1">
            <a:off x="5508720" y="3607920"/>
            <a:ext cx="1080000" cy="5421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0" name="Прямая со стрелкой 14"/>
          <p:cNvCxnSpPr/>
          <p:nvPr/>
        </p:nvCxnSpPr>
        <p:spPr>
          <a:xfrm flipV="1">
            <a:off x="5414760" y="3877560"/>
            <a:ext cx="2686680" cy="1639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81" name="Прямая со стрелкой 13"/>
          <p:cNvCxnSpPr/>
          <p:nvPr/>
        </p:nvCxnSpPr>
        <p:spPr>
          <a:xfrm flipH="1">
            <a:off x="2986920" y="1698120"/>
            <a:ext cx="864360" cy="11487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2" name="Прямая со стрелкой 18"/>
          <p:cNvCxnSpPr/>
          <p:nvPr/>
        </p:nvCxnSpPr>
        <p:spPr>
          <a:xfrm flipH="1">
            <a:off x="2986920" y="3166560"/>
            <a:ext cx="57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3" name="Прямая со стрелкой 20"/>
          <p:cNvCxnSpPr/>
          <p:nvPr/>
        </p:nvCxnSpPr>
        <p:spPr>
          <a:xfrm flipH="1" flipV="1">
            <a:off x="2987280" y="3499560"/>
            <a:ext cx="720000" cy="1962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4" name="Прямая со стрелкой 22"/>
          <p:cNvCxnSpPr/>
          <p:nvPr/>
        </p:nvCxnSpPr>
        <p:spPr>
          <a:xfrm flipH="1" flipV="1">
            <a:off x="2448720" y="3607560"/>
            <a:ext cx="1296360" cy="9738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85" name="Прямая со стрелкой 24"/>
          <p:cNvCxnSpPr/>
          <p:nvPr/>
        </p:nvCxnSpPr>
        <p:spPr>
          <a:xfrm flipH="1" flipV="1">
            <a:off x="2231640" y="3715920"/>
            <a:ext cx="1116720" cy="12261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686" name="Прямоугольник 7"/>
          <p:cNvSpPr/>
          <p:nvPr/>
        </p:nvSpPr>
        <p:spPr>
          <a:xfrm>
            <a:off x="498600" y="16286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9"/>
          <p:cNvSpPr/>
          <p:nvPr/>
        </p:nvSpPr>
        <p:spPr>
          <a:xfrm>
            <a:off x="6534720" y="32846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есна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5"/>
          <p:cNvSpPr/>
          <p:nvPr/>
        </p:nvSpPr>
        <p:spPr>
          <a:xfrm>
            <a:off x="179280" y="364500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Не сдавалась,  не унывала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боролось,  преодолева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179280" y="4221000"/>
            <a:ext cx="47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Пока силы есть, буду бороться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Я ведь ещё живая, значит надо жи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C:\Users\Андрей\Desktop\Урок\Ляг.jpg"/>
          <p:cNvPicPr/>
          <p:nvPr/>
        </p:nvPicPr>
        <p:blipFill>
          <a:blip r:embed="rId1"/>
          <a:stretch/>
        </p:blipFill>
        <p:spPr>
          <a:xfrm>
            <a:off x="8388360" y="2590920"/>
            <a:ext cx="285840" cy="26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C:\Users\Андрей\Desktop\Урок\Ляг.jpg"/>
          <p:cNvPicPr/>
          <p:nvPr/>
        </p:nvPicPr>
        <p:blipFill>
          <a:blip r:embed="rId2"/>
          <a:srcRect l="0" t="-3438" r="0" b="0"/>
          <a:stretch/>
        </p:blipFill>
        <p:spPr>
          <a:xfrm>
            <a:off x="992160" y="2557440"/>
            <a:ext cx="318960" cy="27936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13"/>
          <p:cNvSpPr/>
          <p:nvPr/>
        </p:nvSpPr>
        <p:spPr>
          <a:xfrm>
            <a:off x="5076720" y="364500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0783"/>
                </a:solidFill>
                <a:latin typeface="Times New Roman"/>
              </a:rPr>
              <a:t>Унывала, трусила, не боролась, сдалась,  не преодолела трудн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5867280" y="1700280"/>
            <a:ext cx="24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Лен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он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Уны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лаб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Безво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сл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5"/>
          <p:cNvSpPr/>
          <p:nvPr/>
        </p:nvSpPr>
        <p:spPr>
          <a:xfrm>
            <a:off x="1547640" y="1700280"/>
            <a:ext cx="20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Трудолюб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Силь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есёл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Настойчи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Волев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70783"/>
                </a:solidFill>
                <a:latin typeface="Times New Roman"/>
              </a:rPr>
              <a:t>Храбр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6"/>
          <p:cNvSpPr/>
          <p:nvPr/>
        </p:nvSpPr>
        <p:spPr>
          <a:xfrm>
            <a:off x="5003640" y="4221000"/>
            <a:ext cx="39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«Зачем же я буду напрасно барахтаться? Только нервы даром трепать!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Двойная стрелка влево/вправо 19"/>
          <p:cNvSpPr/>
          <p:nvPr/>
        </p:nvSpPr>
        <p:spPr>
          <a:xfrm>
            <a:off x="3132000" y="1989000"/>
            <a:ext cx="2880000" cy="863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Прямоугольник 20" descr=""/>
          <p:cNvPicPr/>
          <p:nvPr/>
        </p:nvPicPr>
        <p:blipFill>
          <a:blip r:embed="rId3"/>
          <a:stretch/>
        </p:blipFill>
        <p:spPr>
          <a:xfrm>
            <a:off x="3852720" y="2133720"/>
            <a:ext cx="1712880" cy="523800"/>
          </a:xfrm>
          <a:prstGeom prst="rect">
            <a:avLst/>
          </a:prstGeom>
          <a:ln w="0">
            <a:noFill/>
          </a:ln>
        </p:spPr>
      </p:pic>
      <p:sp>
        <p:nvSpPr>
          <p:cNvPr id="698" name="Двойная стрелка влево/вправо 21"/>
          <p:cNvSpPr/>
          <p:nvPr/>
        </p:nvSpPr>
        <p:spPr>
          <a:xfrm>
            <a:off x="2411280" y="4724280"/>
            <a:ext cx="4248360" cy="11527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Прямоугольник 23" descr=""/>
          <p:cNvPicPr/>
          <p:nvPr/>
        </p:nvPicPr>
        <p:blipFill>
          <a:blip r:embed="rId4"/>
          <a:stretch/>
        </p:blipFill>
        <p:spPr>
          <a:xfrm>
            <a:off x="2627280" y="5084640"/>
            <a:ext cx="4035600" cy="4622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24"/>
          <p:cNvSpPr/>
          <p:nvPr/>
        </p:nvSpPr>
        <p:spPr>
          <a:xfrm>
            <a:off x="6804000" y="5084640"/>
            <a:ext cx="223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А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108000" y="5084640"/>
            <a:ext cx="21956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БЕ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1619280" y="333360"/>
            <a:ext cx="576108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Л. Пантелеев «Две лягушки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Стрелка вниз 22"/>
          <p:cNvSpPr/>
          <p:nvPr/>
        </p:nvSpPr>
        <p:spPr>
          <a:xfrm>
            <a:off x="4356000" y="2637000"/>
            <a:ext cx="484200" cy="237636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1"/>
          <p:cNvSpPr/>
          <p:nvPr/>
        </p:nvSpPr>
        <p:spPr>
          <a:xfrm>
            <a:off x="6646680" y="125748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ородск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18"/>
          <p:cNvSpPr/>
          <p:nvPr/>
        </p:nvSpPr>
        <p:spPr>
          <a:xfrm>
            <a:off x="827280" y="1257480"/>
            <a:ext cx="13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Лес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11160" y="3492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сякая помощь хороша вовремя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рпение и труд всё перетру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руга не узнаешь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ка не понадобится его помощь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д лежачий камень и вода не течё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ам погибай, а товарища выручай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 – время, а потехе – час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1"/>
          <p:cNvSpPr/>
          <p:nvPr/>
        </p:nvSpPr>
        <p:spPr>
          <a:xfrm>
            <a:off x="0" y="692280"/>
            <a:ext cx="91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лан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Неожиданное спасени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Шалости в погреб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Кто настоящий боец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__ Такие разные подруги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"/>
          <p:cNvSpPr/>
          <p:nvPr/>
        </p:nvSpPr>
        <p:spPr>
          <a:xfrm>
            <a:off x="11088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3"/>
          <p:cNvSpPr/>
          <p:nvPr/>
        </p:nvSpPr>
        <p:spPr>
          <a:xfrm>
            <a:off x="11088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4"/>
          <p:cNvSpPr/>
          <p:nvPr/>
        </p:nvSpPr>
        <p:spPr>
          <a:xfrm>
            <a:off x="107640" y="39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5"/>
          <p:cNvSpPr/>
          <p:nvPr/>
        </p:nvSpPr>
        <p:spPr>
          <a:xfrm>
            <a:off x="107640" y="2782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6560" y="3744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160" y="27360"/>
            <a:ext cx="3030840" cy="66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____________________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де жили две лягуш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болот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канаве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городском парк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да лягушки забра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кухню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в погреб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сарай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они свалились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в горшок со сметаной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бутылку с кефиром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блюдце с молок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чем  подумала ленив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есть силы, буду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ремя даром трати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ж лучше я сразу утону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чем думала лесная лягушка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мне отсюда не вылез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я буду напрасно барахта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, не сдамс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случилось со сметаной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на высохла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нее получился сыр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из нее сбилось масло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их словах выражена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мысль сказки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адай духом!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взялось масло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буд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3635280" y="278136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 ошибок – «5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 ошибка – «4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 – 3 ошибки – «3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4 и более ошибок – «2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53:46Z</dcterms:modified>
  <cp:revision>74</cp:revision>
  <dc:subject/>
  <dc:title>Слайд 1</dc:title>
</cp:coreProperties>
</file>