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790-DBAA-4815-8F82-67687F73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1EA-2C71-42C5-BA2E-9BA3B450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3D2-40FF-464D-8236-9C5C979D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D652-A3DC-4AD5-A8AF-B01D9DFC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B179-7C4F-4550-A083-FFA8EEC0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62C8-12AA-4B1D-96E7-DE52D080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1BA5-7E49-4A5A-8FDF-18AA2F0D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1D70-D34D-4BC6-9289-0F595FC7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D38B-DB6D-4881-8178-A8FF1B09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F951-17CD-4B1F-B791-E20BE147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9E32-3D74-4A5E-97A1-39E921C1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4E8-8962-41DF-98FB-A978E01A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E28D-CD01-40D2-A95E-4575A64A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F529-E961-4A1C-BD10-792D461D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BFC4-2C90-498F-88BB-33889BD6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85EC-6837-4867-9BED-6D22D57E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D491-96A8-4C98-8615-CD50B024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AB06-E7EB-4B84-B20A-9521E311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AED-61BA-4AA1-ADB2-A00F290B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0395-EA0F-4A57-8DB7-53641025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2A5-0749-4E24-B709-D09A05DF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716B-5DCA-4821-8714-049773D2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DD2-F12E-4B7C-8B9C-C18E6841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4C4-E90F-4FE1-93CC-798C47F7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1936-AEEE-400B-A812-47FB9EBB15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B572-2324-45AE-9DD0-FC74A0D108F7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144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формулируйте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му  и цель урока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-27000" y="476280"/>
            <a:ext cx="7983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Тема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«Употребление имён прилагательных в речи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332000" y="3716280"/>
            <a:ext cx="51051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0" y="133920"/>
            <a:ext cx="7596360" cy="58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Calibri"/>
                <a:ea typeface="Calibri"/>
              </a:rPr>
              <a:t>       </a:t>
            </a: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Calibri"/>
              </a:rPr>
              <a:t>Цели урока: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Times New Roman"/>
                <a:ea typeface="Calibri"/>
              </a:rPr>
              <a:t>  </a:t>
            </a:r>
            <a:r>
              <a:rPr b="1" lang="ru-RU" sz="4000" spc="-1" strike="noStrike">
                <a:solidFill>
                  <a:srgbClr val="2f1311"/>
                </a:solidFill>
                <a:latin typeface="Times New Roman"/>
                <a:ea typeface="Calibri"/>
              </a:rPr>
              <a:t>Повторим…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Times New Roman"/>
                <a:ea typeface="Calibri"/>
              </a:rPr>
              <a:t>  </a:t>
            </a:r>
            <a:r>
              <a:rPr b="1" lang="ru-RU" sz="4000" spc="-1" strike="noStrike">
                <a:solidFill>
                  <a:srgbClr val="2f1311"/>
                </a:solidFill>
                <a:latin typeface="Times New Roman"/>
                <a:ea typeface="Calibri"/>
              </a:rPr>
              <a:t>Проверим…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Times New Roman"/>
                <a:ea typeface="Calibri"/>
              </a:rPr>
              <a:t>  </a:t>
            </a:r>
            <a:r>
              <a:rPr b="1" lang="ru-RU" sz="4000" spc="-1" strike="noStrike">
                <a:solidFill>
                  <a:srgbClr val="2f1311"/>
                </a:solidFill>
                <a:latin typeface="Times New Roman"/>
                <a:ea typeface="Calibri"/>
              </a:rPr>
              <a:t>Узнаем…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2"/>
          <p:cNvSpPr/>
          <p:nvPr/>
        </p:nvSpPr>
        <p:spPr>
          <a:xfrm>
            <a:off x="395280" y="141300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ветит солнце.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468360" y="3357720"/>
            <a:ext cx="7199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Задание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аспространите предложение,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спользуя имена прилагательные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250920" y="1246320"/>
            <a:ext cx="695016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Матрёшка – русская народная игрушка, поэтому она стала символом нашей страны, России. Она - добрая посланница дружбы и любви, счастья и благополучия. Кукла выступает в роли  уникального произведения искус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250920" y="1199520"/>
            <a:ext cx="6985080" cy="44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Продолжите предложения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 я научился (ась)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ё я понял (а), что прилагательные необходимы в речи , потому что они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Выразите свои ощущения по уроку  при помощи имен прилагательны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250920" y="0"/>
            <a:ext cx="770580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ние на дом: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«Письма с Особым заданием»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1)  к данным именам существительным нужно подобрать подходящие имена прилагатель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груш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имво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укл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сланница дружб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скусство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)  с получившимися словосочетаниями составить предложе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) написать небольшое сочинение на тему «Русская матрешк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6:53:43Z</dcterms:created>
  <dc:creator>Admin</dc:creator>
  <dc:description/>
  <dc:language>en-US</dc:language>
  <cp:lastModifiedBy>корп центр</cp:lastModifiedBy>
  <dcterms:modified xsi:type="dcterms:W3CDTF">2017-11-22T10:08:30Z</dcterms:modified>
  <cp:revision>149</cp:revision>
  <dc:subject/>
  <dc:title>Слайд 1</dc:title>
</cp:coreProperties>
</file>