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E24-97A9-45F9-B539-3FCFBF73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8EB-217A-4D9E-9AF0-6E51C1F8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81D-0A6A-499A-A094-93B186A0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500-9596-4A23-9DFD-35E0F4C8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4446-FFEA-40FF-B67F-F8DA73C4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C0C1-BCB1-43DD-B208-098948CA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6BED-05C5-4DCF-9DFA-84323C79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FF94-0D14-4F62-9CDE-2466E7DE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C998-F128-4060-A566-C558E0C6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336A-EB27-436C-BE8D-5801438E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EBCC-7B84-4F8F-8FB8-3AE738F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EC0-8F69-4789-9CAD-73AA7FF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EC0E-EE09-4B9D-ABA3-F6DFB336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4490-C31A-4F7D-B39E-697255B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E0AC-CD4B-45B2-BAB3-4581C969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EF97-9DD1-4FBC-B346-E6AD60D4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4B9F-2AE9-46E9-BE35-20FAFF99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944-54D6-469D-9C57-1827C672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5FE-F116-48E4-93E9-36D263D4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3FE-2DA3-4A3F-935A-9DA6C62E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3EE-6E96-4CE1-9C9B-235D3430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570-136E-4B5A-B86A-76B9266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180-DE54-44CA-869E-DE82165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2A1-EA8A-4F69-98F2-826A804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178F-CF62-49C4-A6C9-7993D83111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F70D-DB28-4758-A9D5-14BF57C2ACB6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формулируйте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у  и цель урока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-27000" y="476280"/>
            <a:ext cx="798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Тема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Употребление имён прилагательных в речи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332000" y="3716280"/>
            <a:ext cx="51051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0" y="133920"/>
            <a:ext cx="759636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Calibri"/>
                <a:ea typeface="Calibri"/>
              </a:rPr>
              <a:t>       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Цели урока: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Повторим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Проверим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Узнаем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2"/>
          <p:cNvSpPr/>
          <p:nvPr/>
        </p:nvSpPr>
        <p:spPr>
          <a:xfrm>
            <a:off x="395280" y="141300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ветит солнце.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468360" y="3357720"/>
            <a:ext cx="719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дание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спространите предложение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спользуя имена прилагательны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250920" y="1246320"/>
            <a:ext cx="695016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Матрёшка – русская народная игрушка, поэтому она стала символом нашей страны, России. Она - добрая посланница дружбы и любви, счастья и благополучия. Кукла выступает в роли  уникального произведения искус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250920" y="1199520"/>
            <a:ext cx="698508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Продолжите предложения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научился (ась)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я понял (а), что прилагательные необходимы в речи , потому что они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Выразите свои ощущения по уроку  при помощи имен прилагатель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250920" y="0"/>
            <a:ext cx="77058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на дом: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Письма с Особым заданием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 к данным именам существительным нужно подобрать подходящие имена прилага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груш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имво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ук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сланница дружб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скусств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 с получившимися словосочетаниями составить предлож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написать небольшое сочинение на тему «Русская матреш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6:53:43Z</dcterms:created>
  <dc:creator>Admin</dc:creator>
  <dc:description/>
  <dc:language>en-US</dc:language>
  <cp:lastModifiedBy>корп центр</cp:lastModifiedBy>
  <dcterms:modified xsi:type="dcterms:W3CDTF">2017-11-22T10:08:30Z</dcterms:modified>
  <cp:revision>149</cp:revision>
  <dc:subject/>
  <dc:title>Слайд 1</dc:title>
</cp:coreProperties>
</file>