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899F-D952-4B27-BC1E-5921E303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813A-C409-4E85-8743-05023BC1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77B2-66BC-4F54-889D-79C26328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2E8E-21C7-40DE-B95A-91087F2C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0439-34E1-493E-BFF3-9802EEC6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0AA5-DD4F-4DE7-925C-4CAAD8DE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8634-18E9-4072-9F3F-248F6D50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ECFF-4742-4FF0-9A63-779AD58A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FDEE-0471-4B9A-8D81-35E818DF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B4C6-C2CC-4AE1-9D7D-CC32B2D0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B8DA-19C6-4BC1-A663-9617A0DB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A7B2-8B2F-4216-AAEB-A9E5F476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E332-46B9-4960-89B1-13A28590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270C-E3F6-4F26-9177-07329FE1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017F-7B18-47F2-BA52-A38C04B7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8490-D273-4442-AC52-CA64FC5C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303D-A6E6-4496-8CC9-3A5F6CAB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E707-93B9-4731-B028-BFABFD0F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944-1ECB-45ED-8375-C11CA3C7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D3A-8260-477E-BEBC-AC5D24A9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DC12-5A37-4593-B41A-970CC376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FDE-43E0-486D-9D97-49DF2723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B4C-838E-448F-88D4-69757E71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7727-09AC-4A2E-A22F-3A7BC5EC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67C8-EAC2-4FC1-93FA-EE17846F5E7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439C-9916-4772-BC8C-97651C51B2B6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144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формулируйте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му  и цель урока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-27000" y="476280"/>
            <a:ext cx="7983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Тема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«Употребление имён прилагательных в речи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332000" y="3716280"/>
            <a:ext cx="51051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0" y="133920"/>
            <a:ext cx="7596360" cy="58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Calibri"/>
                <a:ea typeface="Calibri"/>
              </a:rPr>
              <a:t>       </a:t>
            </a: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Calibri"/>
              </a:rPr>
              <a:t>Цели урока: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Times New Roman"/>
                <a:ea typeface="Calibri"/>
              </a:rPr>
              <a:t>  </a:t>
            </a:r>
            <a:r>
              <a:rPr b="1" lang="ru-RU" sz="4000" spc="-1" strike="noStrike">
                <a:solidFill>
                  <a:srgbClr val="2f1311"/>
                </a:solidFill>
                <a:latin typeface="Times New Roman"/>
                <a:ea typeface="Calibri"/>
              </a:rPr>
              <a:t>Повторим…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Times New Roman"/>
                <a:ea typeface="Calibri"/>
              </a:rPr>
              <a:t>  </a:t>
            </a:r>
            <a:r>
              <a:rPr b="1" lang="ru-RU" sz="4000" spc="-1" strike="noStrike">
                <a:solidFill>
                  <a:srgbClr val="2f1311"/>
                </a:solidFill>
                <a:latin typeface="Times New Roman"/>
                <a:ea typeface="Calibri"/>
              </a:rPr>
              <a:t>Проверим…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Times New Roman"/>
                <a:ea typeface="Calibri"/>
              </a:rPr>
              <a:t>  </a:t>
            </a:r>
            <a:r>
              <a:rPr b="1" lang="ru-RU" sz="4000" spc="-1" strike="noStrike">
                <a:solidFill>
                  <a:srgbClr val="2f1311"/>
                </a:solidFill>
                <a:latin typeface="Times New Roman"/>
                <a:ea typeface="Calibri"/>
              </a:rPr>
              <a:t>Узнаем…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2"/>
          <p:cNvSpPr/>
          <p:nvPr/>
        </p:nvSpPr>
        <p:spPr>
          <a:xfrm>
            <a:off x="395280" y="141300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ветит солнце.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468360" y="3357720"/>
            <a:ext cx="7199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Задание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аспространите предложение,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спользуя имена прилагательные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250920" y="1246320"/>
            <a:ext cx="695016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Матрёшка – русская народная игрушка, поэтому она стала символом нашей страны, России. Она - добрая посланница дружбы и любви, счастья и благополучия. Кукла выступает в роли  уникального произведения искус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250920" y="1199520"/>
            <a:ext cx="6985080" cy="44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Продолжите предложения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 я научился (ась)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ё я понял (а), что прилагательные необходимы в речи , потому что они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Выразите свои ощущения по уроку  при помощи имен прилагательны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250920" y="0"/>
            <a:ext cx="770580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ние на дом: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«Письма с Особым заданием»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1)  к данным именам существительным нужно подобрать подходящие имена прилагатель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груш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имво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укл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сланница дружб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скусство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)  с получившимися словосочетаниями составить предложе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) написать небольшое сочинение на тему «Русская матрешк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6:53:43Z</dcterms:created>
  <dc:creator>Admin</dc:creator>
  <dc:description/>
  <dc:language>en-US</dc:language>
  <cp:lastModifiedBy>корп центр</cp:lastModifiedBy>
  <dcterms:modified xsi:type="dcterms:W3CDTF">2017-11-22T10:08:30Z</dcterms:modified>
  <cp:revision>149</cp:revision>
  <dc:subject/>
  <dc:title>Слайд 1</dc:title>
</cp:coreProperties>
</file>