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E46-EBC7-4A88-A495-62D0E7B8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787-EF9C-4926-BEA8-40CFD4E7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F19-6C8A-4B47-A52F-D3A82B8C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64F-0BCE-4E85-A31B-366AF670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3CD-9F68-4953-8814-5FEB299B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985-C31A-4D9B-B6D1-C4EC811D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B01-51D6-4F66-BC60-FE24CB5F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570-E868-45C0-9267-028D186C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7AC-6D04-4ABD-B924-827414BE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BDC-CC9F-4E40-AA14-FA0C511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CBD-AB9D-4C1D-B08B-048FE38B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4B6-23EA-4B33-9BA9-3E68DBD3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0EA3-F2B5-4CE4-8241-4A615F485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jpeg"/><Relationship Id="rId3" Type="http://schemas.openxmlformats.org/officeDocument/2006/relationships/image" Target="../media/image28.jpeg"/><Relationship Id="rId4" Type="http://schemas.openxmlformats.org/officeDocument/2006/relationships/image" Target="../media/image25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jpeg"/><Relationship Id="rId3" Type="http://schemas.openxmlformats.org/officeDocument/2006/relationships/image" Target="../media/image31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img1.liveinternet.ru/images/attach/c/0/52/495/52495239_baksi.jpg"/>
          <p:cNvPicPr/>
          <p:nvPr/>
        </p:nvPicPr>
        <p:blipFill>
          <a:blip r:embed="rId1"/>
          <a:stretch/>
        </p:blipFill>
        <p:spPr>
          <a:xfrm rot="780000">
            <a:off x="4674960" y="3398400"/>
            <a:ext cx="4114800" cy="274176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380880" y="533520"/>
            <a:ext cx="8534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85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ности нашей жизни. В чем они?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trud-ost.ru/wp-content/uploads/2011/12/%D0%A0%D1%83%D0%BA%D0%B8-450x298.jpg"/>
          <p:cNvPicPr/>
          <p:nvPr/>
        </p:nvPicPr>
        <p:blipFill>
          <a:blip r:embed="rId2"/>
          <a:stretch/>
        </p:blipFill>
        <p:spPr>
          <a:xfrm rot="20820000">
            <a:off x="390600" y="3525480"/>
            <a:ext cx="38606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55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Седьм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04920" y="4572000"/>
            <a:ext cx="396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Предприятие, приносящее большую прибы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4876920" y="4495680"/>
            <a:ext cx="373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Уважение окруж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724280" y="990720"/>
            <a:ext cx="3886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http://2.bp.blogspot.com/-flwOZx6Oo2U/TrYt0wPU0eI/AAAAAAAAAns/CXdB0DUlnlI/s1600/%25D0%25B8%25D0%25BD%25D0%25B2%25D0%25B5%25D1%2581%25D1%2582%25D0%25B8%25D1%2586%25D0%25B8%25D0%25B8.jpg"/>
          <p:cNvPicPr/>
          <p:nvPr/>
        </p:nvPicPr>
        <p:blipFill>
          <a:blip r:embed="rId1"/>
          <a:srcRect l="0" t="0" r="3134" b="2505"/>
          <a:stretch/>
        </p:blipFill>
        <p:spPr>
          <a:xfrm>
            <a:off x="304920" y="12193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http://glob-news.ru/uploads/posts/2012-06/1340534971_uvazhenie.jpg"/>
          <p:cNvPicPr/>
          <p:nvPr/>
        </p:nvPicPr>
        <p:blipFill>
          <a:blip r:embed="rId2"/>
          <a:srcRect l="0" t="0" r="0" b="14664"/>
          <a:stretch/>
        </p:blipFill>
        <p:spPr>
          <a:xfrm>
            <a:off x="4724280" y="1295280"/>
            <a:ext cx="421020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1"/>
          <p:cNvSpPr/>
          <p:nvPr/>
        </p:nvSpPr>
        <p:spPr>
          <a:xfrm>
            <a:off x="1066680" y="152280"/>
            <a:ext cx="65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Восьм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04920" y="495288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емь дополнит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лет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3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Артем"/>
          <p:cNvPicPr/>
          <p:nvPr/>
        </p:nvPicPr>
        <p:blipFill>
          <a:blip r:embed="rId1"/>
          <a:srcRect l="0" t="5312" r="0" b="4486"/>
          <a:stretch/>
        </p:blipFill>
        <p:spPr>
          <a:xfrm>
            <a:off x="5105520" y="990720"/>
            <a:ext cx="2514600" cy="3375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4952880" y="487692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Умение добиваться успеха во вс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http://cs624428.vk.me/v624428403/6ddf/53DKQYiW7QI.jpg"/>
          <p:cNvPicPr/>
          <p:nvPr/>
        </p:nvPicPr>
        <p:blipFill>
          <a:blip r:embed="rId2"/>
          <a:stretch/>
        </p:blipFill>
        <p:spPr>
          <a:xfrm>
            <a:off x="609480" y="1600200"/>
            <a:ext cx="38102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Заголовок 1"/>
          <p:cNvSpPr/>
          <p:nvPr/>
        </p:nvSpPr>
        <p:spPr>
          <a:xfrm>
            <a:off x="1066680" y="152280"/>
            <a:ext cx="65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Девят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04920" y="5105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ласть 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724280" y="472428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сутствие заболев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ttp://1.bp.blogspot.com/-Yxyb8ltwrBE/UMHHaofwk0I/AAAAAAAABQg/KuzV3GNt7Xs/s1600/img224973_2-1_Simvol_vlasti.jpg"/>
          <p:cNvPicPr/>
          <p:nvPr/>
        </p:nvPicPr>
        <p:blipFill>
          <a:blip r:embed="rId1"/>
          <a:srcRect l="0" t="4083" r="0" b="6113"/>
          <a:stretch/>
        </p:blipFill>
        <p:spPr>
          <a:xfrm>
            <a:off x="457200" y="1143000"/>
            <a:ext cx="2743200" cy="335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http://energiya-zdorovya.ru/wp-content/uploads/2011/04/Obraz-zdorovya.jpg"/>
          <p:cNvPicPr/>
          <p:nvPr/>
        </p:nvPicPr>
        <p:blipFill>
          <a:blip r:embed="rId2"/>
          <a:stretch/>
        </p:blipFill>
        <p:spPr>
          <a:xfrm>
            <a:off x="4800600" y="1219320"/>
            <a:ext cx="3695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1066680" y="152280"/>
            <a:ext cx="65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Десят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4572000" y="556596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олный кошелек де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533520" y="5486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Найти кла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http://glavred.info/images/o-00075069-a-00015452.jpg"/>
          <p:cNvPicPr/>
          <p:nvPr/>
        </p:nvPicPr>
        <p:blipFill>
          <a:blip r:embed="rId1"/>
          <a:stretch/>
        </p:blipFill>
        <p:spPr>
          <a:xfrm>
            <a:off x="152280" y="1828800"/>
            <a:ext cx="4299120" cy="3505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http://1.bp.blogspot.com/-Q5l593cjmf4/UJOtKpOhHDI/AAAAAAAAAvY/sbkaTSuM60o/s1600/1329783881_koshelek.jpg"/>
          <p:cNvPicPr/>
          <p:nvPr/>
        </p:nvPicPr>
        <p:blipFill>
          <a:blip r:embed="rId2"/>
          <a:stretch/>
        </p:blipFill>
        <p:spPr>
          <a:xfrm>
            <a:off x="4876920" y="1981080"/>
            <a:ext cx="4006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33520" y="685800"/>
            <a:ext cx="79246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Обсуждени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1. Какой покупкой вы более всего довольны? </a:t>
            </a:r>
            <a:br>
              <a:rPr sz="3600"/>
            </a:b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2. Пришлось ли вам пожалеть о том, что вы чего-то не приобрели? </a:t>
            </a:r>
            <a:br>
              <a:rPr sz="3600"/>
            </a:br>
            <a:r>
              <a:rPr b="1" i="1" lang="ru-RU" sz="3600" spc="-1" strike="noStrike">
                <a:solidFill>
                  <a:srgbClr val="4c216d"/>
                </a:solidFill>
                <a:latin typeface="Times New Roman Cyr"/>
              </a:rPr>
              <a:t>3. Хотели бы вы что-нибудь изменить в правилах иг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2"/>
          <p:cNvSpPr/>
          <p:nvPr/>
        </p:nvSpPr>
        <p:spPr>
          <a:xfrm>
            <a:off x="1066680" y="10666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карная квартира - Богат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609480" y="2438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13372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495680" y="2666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7162920" y="2209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3352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6172200" y="3733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5486400" y="4876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2209680" y="4724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жизненных ценн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Равнобедренный треугольник 2"/>
          <p:cNvSpPr/>
          <p:nvPr/>
        </p:nvSpPr>
        <p:spPr>
          <a:xfrm>
            <a:off x="4800600" y="2438280"/>
            <a:ext cx="3505320" cy="2667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5181480" y="4572000"/>
            <a:ext cx="274320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8"/>
          <p:cNvSpPr/>
          <p:nvPr/>
        </p:nvSpPr>
        <p:spPr>
          <a:xfrm>
            <a:off x="5486400" y="4038480"/>
            <a:ext cx="205740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9"/>
          <p:cNvSpPr/>
          <p:nvPr/>
        </p:nvSpPr>
        <p:spPr>
          <a:xfrm>
            <a:off x="5867280" y="3505320"/>
            <a:ext cx="1371600" cy="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380880" y="41911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важная ц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14"/>
          <p:cNvSpPr/>
          <p:nvPr/>
        </p:nvSpPr>
        <p:spPr>
          <a:xfrm>
            <a:off x="3429000" y="4648320"/>
            <a:ext cx="838080" cy="3045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4920" y="46764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чем заключаются главные жизненные ценности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http://wordassociations.ru/image/600x/svg_to_png/jean_victor_balin_unknown_red.png"/>
          <p:cNvPicPr/>
          <p:nvPr/>
        </p:nvPicPr>
        <p:blipFill>
          <a:blip r:embed="rId1"/>
          <a:stretch/>
        </p:blipFill>
        <p:spPr>
          <a:xfrm>
            <a:off x="518148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09480" y="354600"/>
            <a:ext cx="6096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на уроке б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ельно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чнова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t3.gstatic.com/images?q=tbn:ANd9GcTyLx4XLIRQDBZZDfVBvAUjDhyWTUW4bioEyKbBHBfH6uHdk9Xc"/>
          <p:cNvPicPr/>
          <p:nvPr/>
        </p:nvPicPr>
        <p:blipFill>
          <a:blip r:embed="rId1"/>
          <a:stretch/>
        </p:blipFill>
        <p:spPr>
          <a:xfrm>
            <a:off x="6781680" y="27432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http://t0.gstatic.com/images?q=tbn:ANd9GcS-FDts8fLtSTnW4kCuIhrvf5DKmoCr1MBJHVAE4K-A1TD2lnhIZA"/>
          <p:cNvPicPr/>
          <p:nvPr/>
        </p:nvPicPr>
        <p:blipFill>
          <a:blip r:embed="rId2"/>
          <a:stretch/>
        </p:blipFill>
        <p:spPr>
          <a:xfrm>
            <a:off x="6095880" y="457200"/>
            <a:ext cx="1384560" cy="12952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http://t1.gstatic.com/images?q=tbn:ANd9GcTsnChHJhcf8Y-fum9OykGA6bF9mlWpjq27KrmkTXOJ7bx1ah7AAw"/>
          <p:cNvPicPr/>
          <p:nvPr/>
        </p:nvPicPr>
        <p:blipFill>
          <a:blip r:embed="rId3"/>
          <a:stretch/>
        </p:blipFill>
        <p:spPr>
          <a:xfrm>
            <a:off x="3581280" y="1752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http://static.freepik.com/free-photo/smiley-with-glasses_17-303130130.jpg"/>
          <p:cNvPicPr/>
          <p:nvPr/>
        </p:nvPicPr>
        <p:blipFill>
          <a:blip r:embed="rId4"/>
          <a:stretch/>
        </p:blipFill>
        <p:spPr>
          <a:xfrm>
            <a:off x="2209680" y="3124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http://t0.gstatic.com/images?q=tbn:ANd9GcQfsiPo7ic9529cIi20yLEyHO4OofgZGF1eod6D68C3SzWPxQnoFQ"/>
          <p:cNvPicPr/>
          <p:nvPr/>
        </p:nvPicPr>
        <p:blipFill>
          <a:blip r:embed="rId5"/>
          <a:srcRect l="12266" t="0" r="8051" b="14897"/>
          <a:stretch/>
        </p:blipFill>
        <p:spPr>
          <a:xfrm>
            <a:off x="2819520" y="4724280"/>
            <a:ext cx="1584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228600" y="951840"/>
            <a:ext cx="655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м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 свое 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дился в своем мн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л какое-то для себя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3651120" y="-165240"/>
            <a:ext cx="2073240" cy="164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http://t0.gstatic.com/images?q=tbn:ANd9GcQfsiPo7ic9529cIi20yLEyHO4OofgZGF1eod6D68C3SzWPxQnoFQ"/>
          <p:cNvPicPr/>
          <p:nvPr/>
        </p:nvPicPr>
        <p:blipFill>
          <a:blip r:embed="rId2"/>
          <a:srcRect l="12266" t="0" r="8051" b="14897"/>
          <a:stretch/>
        </p:blipFill>
        <p:spPr>
          <a:xfrm>
            <a:off x="2209680" y="762120"/>
            <a:ext cx="1584360" cy="121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http://static.freepik.com/free-photo/smiley-with-glasses_17-303130130.jpg"/>
          <p:cNvPicPr/>
          <p:nvPr/>
        </p:nvPicPr>
        <p:blipFill>
          <a:blip r:embed="rId3"/>
          <a:stretch/>
        </p:blipFill>
        <p:spPr>
          <a:xfrm>
            <a:off x="4191120" y="1752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ttp://t3.gstatic.com/images?q=tbn:ANd9GcTyLx4XLIRQDBZZDfVBvAUjDhyWTUW4bioEyKbBHBfH6uHdk9Xc"/>
          <p:cNvPicPr/>
          <p:nvPr/>
        </p:nvPicPr>
        <p:blipFill>
          <a:blip r:embed="rId4"/>
          <a:stretch/>
        </p:blipFill>
        <p:spPr>
          <a:xfrm>
            <a:off x="5562720" y="3276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http://t1.gstatic.com/images?q=tbn:ANd9GcTsnChHJhcf8Y-fum9OykGA6bF9mlWpjq27KrmkTXOJ7bx1ah7AAw"/>
          <p:cNvPicPr/>
          <p:nvPr/>
        </p:nvPicPr>
        <p:blipFill>
          <a:blip r:embed="rId5"/>
          <a:stretch/>
        </p:blipFill>
        <p:spPr>
          <a:xfrm>
            <a:off x="6019920" y="4876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28600" y="887040"/>
            <a:ext cx="5562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е ценности – это предметы и явления или их свойства, которые имеют определенное значение для человека и удовлетворение его потреб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 Cyr"/>
                <a:ea typeface="Times New Roman"/>
              </a:rPr>
              <a:t>Толковый словар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 Cyr"/>
                <a:ea typeface="Times New Roman"/>
              </a:rPr>
              <a:t>С.И. Оже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improve-me.ru/wp-content/uploads/2009/01/our_values-287x300.jpg"/>
          <p:cNvPicPr/>
          <p:nvPr/>
        </p:nvPicPr>
        <p:blipFill>
          <a:blip r:embed="rId1"/>
          <a:stretch/>
        </p:blipFill>
        <p:spPr>
          <a:xfrm>
            <a:off x="5867280" y="3429000"/>
            <a:ext cx="2733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685800" y="380880"/>
            <a:ext cx="75438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седы я чувствовал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олнов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душ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http://t1.gstatic.com/images?q=tbn:ANd9GcTsnChHJhcf8Y-fum9OykGA6bF9mlWpjq27KrmkTXOJ7bx1ah7AAw"/>
          <p:cNvPicPr/>
          <p:nvPr/>
        </p:nvPicPr>
        <p:blipFill>
          <a:blip r:embed="rId1"/>
          <a:stretch/>
        </p:blipFill>
        <p:spPr>
          <a:xfrm>
            <a:off x="3124080" y="3200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http://t0.gstatic.com/images?q=tbn:ANd9GcQfsiPo7ic9529cIi20yLEyHO4OofgZGF1eod6D68C3SzWPxQnoFQ"/>
          <p:cNvPicPr/>
          <p:nvPr/>
        </p:nvPicPr>
        <p:blipFill>
          <a:blip r:embed="rId2"/>
          <a:srcRect l="12266" t="0" r="8051" b="14897"/>
          <a:stretch/>
        </p:blipFill>
        <p:spPr>
          <a:xfrm>
            <a:off x="6400800" y="1905120"/>
            <a:ext cx="207972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http://static.freepik.com/free-photo/smiley-with-glasses_17-303130130.jpg"/>
          <p:cNvPicPr/>
          <p:nvPr/>
        </p:nvPicPr>
        <p:blipFill>
          <a:blip r:embed="rId3"/>
          <a:stretch/>
        </p:blipFill>
        <p:spPr>
          <a:xfrm>
            <a:off x="3886200" y="1143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t0.gstatic.com/images?q=tbn:ANd9GcS-FDts8fLtSTnW4kCuIhrvf5DKmoCr1MBJHVAE4K-A1TD2lnhIZA"/>
          <p:cNvPicPr/>
          <p:nvPr/>
        </p:nvPicPr>
        <p:blipFill>
          <a:blip r:embed="rId4"/>
          <a:stretch/>
        </p:blipFill>
        <p:spPr>
          <a:xfrm>
            <a:off x="6553080" y="4114800"/>
            <a:ext cx="18288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304920" y="46764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чем заключаются главные жизненные ценности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http://wordassociations.ru/image/600x/svg_to_png/jean_victor_balin_unknown_red.png"/>
          <p:cNvPicPr/>
          <p:nvPr/>
        </p:nvPicPr>
        <p:blipFill>
          <a:blip r:embed="rId1"/>
          <a:stretch/>
        </p:blipFill>
        <p:spPr>
          <a:xfrm>
            <a:off x="518148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Первая пара акций -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5562360"/>
            <a:ext cx="441936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1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Чистая сове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1 долла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04920" y="510552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Шикарная кварт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1 долла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800600" y="121932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http://islamdag.ru/sites/img/stati/2012/1kv/sovest01.jpg"/>
          <p:cNvPicPr/>
          <p:nvPr/>
        </p:nvPicPr>
        <p:blipFill>
          <a:blip r:embed="rId1"/>
          <a:stretch/>
        </p:blipFill>
        <p:spPr>
          <a:xfrm>
            <a:off x="5029200" y="2057400"/>
            <a:ext cx="383364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http://www.decormag.ru/sites/default/files/images/3/armani-9.jpg"/>
          <p:cNvPicPr/>
          <p:nvPr/>
        </p:nvPicPr>
        <p:blipFill>
          <a:blip r:embed="rId2"/>
          <a:srcRect l="0" t="0" r="0" b="6441"/>
          <a:stretch/>
        </p:blipFill>
        <p:spPr>
          <a:xfrm>
            <a:off x="152280" y="1600200"/>
            <a:ext cx="4797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http://www.naekran.ru/oboi/naekran_ru_lyubov_k_prirode_1440_6424.jpg"/>
          <p:cNvPicPr/>
          <p:nvPr/>
        </p:nvPicPr>
        <p:blipFill>
          <a:blip r:embed="rId1"/>
          <a:stretch/>
        </p:blipFill>
        <p:spPr>
          <a:xfrm>
            <a:off x="4572000" y="1219320"/>
            <a:ext cx="438948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Втор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724280" y="1523880"/>
            <a:ext cx="3657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04920" y="1523880"/>
            <a:ext cx="3657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28600" y="43434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Бесплатное кругосветное путешест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105520" y="457200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Любовь к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(2 долла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http://globorama.ru/wp-content/uploads/2009/07/kruis.jpg"/>
          <p:cNvPicPr/>
          <p:nvPr/>
        </p:nvPicPr>
        <p:blipFill>
          <a:blip r:embed="rId2"/>
          <a:srcRect l="0" t="0" r="0" b="9524"/>
          <a:stretch/>
        </p:blipFill>
        <p:spPr>
          <a:xfrm>
            <a:off x="152280" y="1143000"/>
            <a:ext cx="4267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Треть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609480" y="51814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опулярность среди однокласс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1 долл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105520" y="18288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181480" y="1828800"/>
            <a:ext cx="381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53341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дин верный др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http://yarreg.ru/wp-content/uploads/2012/08/DSC_0804-590x390.jpg"/>
          <p:cNvPicPr/>
          <p:nvPr/>
        </p:nvPicPr>
        <p:blipFill>
          <a:blip r:embed="rId1"/>
          <a:srcRect l="0" t="0" r="17367" b="0"/>
          <a:stretch/>
        </p:blipFill>
        <p:spPr>
          <a:xfrm>
            <a:off x="533520" y="1523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http://cs421430.vk.me/v421430203/27d5/VE-gOvPGBII.jpg"/>
          <p:cNvPicPr/>
          <p:nvPr/>
        </p:nvPicPr>
        <p:blipFill>
          <a:blip r:embed="rId2"/>
          <a:srcRect l="6709" t="13247" r="11408" b="0"/>
          <a:stretch/>
        </p:blipFill>
        <p:spPr>
          <a:xfrm>
            <a:off x="5181480" y="1066680"/>
            <a:ext cx="3691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1923840" y="15228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Четвертая пара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4800600" y="510552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ашина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80880" y="492624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личные оценки по всем предме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http://img.1001mem.ru/posts/1553000/1552512.jpg"/>
          <p:cNvPicPr/>
          <p:nvPr/>
        </p:nvPicPr>
        <p:blipFill>
          <a:blip r:embed="rId1"/>
          <a:srcRect l="0" t="0" r="40396" b="7279"/>
          <a:stretch/>
        </p:blipFill>
        <p:spPr>
          <a:xfrm>
            <a:off x="533520" y="838080"/>
            <a:ext cx="3349440" cy="410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xn--80aqafcrtq.cc/img/4/8/8/%D0%9D%D0%B0%D0%B7%D0%B0%D0%B4%20%D0%B2%20%D0%B1%D1%83%D0%B4%D1%83%D1%89%D0%B5%D0%B5,%20%D0%BC%D0%B0%D1%88%D0%B8%D0%BD%D0%B0%20%D0%B2%D1%80%D0%B5%D0%BC%D0%B5%D0%BD%D0%B8,%20%D0%B4%D0%B5%D0%BB%D0%BE%D1%80%D0%B8%D0%B0%D0%BD,%202560x1600.jpg"/>
          <p:cNvPicPr/>
          <p:nvPr/>
        </p:nvPicPr>
        <p:blipFill>
          <a:blip r:embed="rId2"/>
          <a:srcRect l="6100" t="0" r="914" b="9756"/>
          <a:stretch/>
        </p:blipFill>
        <p:spPr>
          <a:xfrm>
            <a:off x="4038480" y="1447920"/>
            <a:ext cx="47959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Пят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228600" y="4880160"/>
            <a:ext cx="448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одственники и роди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57200" y="1523880"/>
            <a:ext cx="3124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029200" y="49528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 Cyr"/>
              </a:rPr>
              <a:t>Всемирная слава (3 долла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http://www.matrony.ru/wp-content/uploads/141.jpg"/>
          <p:cNvPicPr/>
          <p:nvPr/>
        </p:nvPicPr>
        <p:blipFill>
          <a:blip r:embed="rId1"/>
          <a:stretch/>
        </p:blipFill>
        <p:spPr>
          <a:xfrm>
            <a:off x="152280" y="1523880"/>
            <a:ext cx="4262400" cy="281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http://www.euromag.ru/storage/c/2010/04/22/1271916729.506066_54.jpg"/>
          <p:cNvPicPr/>
          <p:nvPr/>
        </p:nvPicPr>
        <p:blipFill>
          <a:blip r:embed="rId2"/>
          <a:stretch/>
        </p:blipFill>
        <p:spPr>
          <a:xfrm>
            <a:off x="4800600" y="1447920"/>
            <a:ext cx="4062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 Cyr"/>
              </a:rPr>
              <a:t>Шестая пара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04920" y="49528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Хорошие зн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</a:rPr>
              <a:t>(1 долл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4952880" y="45720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портивный автомобил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2 долл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http://cs309216.userapi.com/v309216596/4515/1yqz5Q9b3bg.jpg"/>
          <p:cNvPicPr/>
          <p:nvPr/>
        </p:nvPicPr>
        <p:blipFill>
          <a:blip r:embed="rId1"/>
          <a:srcRect l="0" t="0" r="20831" b="15560"/>
          <a:stretch/>
        </p:blipFill>
        <p:spPr>
          <a:xfrm>
            <a:off x="380880" y="1523880"/>
            <a:ext cx="3505320" cy="289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://www.salon.su/images/stories/articles/promenad/auto/SportCar4_salon.jpg"/>
          <p:cNvPicPr/>
          <p:nvPr/>
        </p:nvPicPr>
        <p:blipFill>
          <a:blip r:embed="rId2"/>
          <a:stretch/>
        </p:blipFill>
        <p:spPr>
          <a:xfrm>
            <a:off x="4495680" y="1676520"/>
            <a:ext cx="4453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ьнара</cp:lastModifiedBy>
  <dcterms:modified xsi:type="dcterms:W3CDTF">2015-03-29T08:26:40Z</dcterms:modified>
  <cp:revision>66</cp:revision>
  <dc:subject/>
  <dc:title>Классный час – игра  “На что потратить жизнь?”  </dc:title>
</cp:coreProperties>
</file>