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280-B68E-46ED-94B0-2DE16492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0B7-8A6A-4ED1-8C63-156B10F0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D02E-3D46-44EF-9CB7-1176FFBC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25E-DB69-4DE4-A8E6-0E80ED79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7B4-7429-4B2B-B433-9ACB6D6F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215-49C7-4589-905F-A0A9CF22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504-ABF2-4C6C-9264-A80D75FB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06DD-2131-4672-972F-D29EC5F6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27F-A25E-4AD7-BBF4-87F508CF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C62D-D692-4CCE-BE9E-D263CA5D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668-B49F-4011-8577-800938D5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F74-9E85-4858-AC44-CCF56D15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F1CC-56DA-4B7C-8CAF-907930773B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кажи наркотикам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НЕТ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295280" y="548640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учащихся 11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рф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водой морфин образует водородные связи, поэтому очень хорошо растворяется в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фин вводят в организм в виде водного раствора в кровь. Наркотический эффект наступает через несколько минут и длится 4 – 6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знаки токсического отравления наблюдаются при дозе морфина 60 мг, при вводе 100 мг морфина может быть тяжёлое отравление, а 250 мг – смертельная доза дл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895480" y="5145120"/>
            <a:ext cx="32767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ро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оин – опиат, наркотик природного происхо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пав в организм человека, героин превращается в морфин. Героин «сильнее» морфина в 5 ра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героин производится почти во всех регионах Земли. В Россию героин завозят из Афганист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271296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76360" y="1143000"/>
            <a:ext cx="5715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ще всего среде наркоманов встречаются вещества, изготавливаемые из индийской конопли –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ашиш, анаша, марихуан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906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9917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гашишном опьянении первые затяжки могут вызвать головную боль, ощущение тревоги, страха, необычности происходящего. Затем настроение резко повышается, наблюдается веселое состояние, неудержимые приступы см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3048120" y="3962520"/>
            <a:ext cx="3809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9917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Экстаз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тносится к синтезированным препарат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яв наркотик, можно танцевать без перерыва 6 – 8 часов. Но потом может начаться обезвоживание, повышение дав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связь между приемом экстази и возникновением шизофр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352680" y="4822920"/>
            <a:ext cx="2057400" cy="1877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3200400" y="4818240"/>
            <a:ext cx="259092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19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ем опасны наркоти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Наркотики вызывают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ую зависим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привыкание. Человеческий организм требует все больших и больших доз наркотика (толерантность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 быстро происходит привыкание при использова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геро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за 2-5 инъекц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истого морф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коло 10 инъекц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астойки оп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о 2-3 недел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одеи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о 1 меся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ем опасны наркоти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Если наркотики становятся недоступными, человек заболевает испытывает муки (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бстиненц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. Отсутствие наркотика приводит к агр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Наркотик создаёт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сихическую зависимос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пристрастие к эйф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ем опасны наркоти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поражению мозг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истощению нервной систем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разрушению всех внутренних орг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преждевременной смерти (продолжительность жизни наркомана после первого укола героина – 3-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генетическим изменением потомства (уродства, умственная отсталость, смертность). Известно, что грудные дети , отцы которых курили марихуану могут внезапно умереть во время сна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26208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3352680" y="1371600"/>
            <a:ext cx="5791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Наркотик – это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Он оказывает токсическое воздействие. Это привод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ем опасны наркоти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Наркоманы могут заразиться различными инфекционными заболеваниями (СПИД, гепатит и др.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68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зраст нарком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241360"/>
            <a:ext cx="868680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 60-х годов 20 века наркоманией заболевали люди в основном молодого и среднего возра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960-х годах употреблять марихуану стали не только взрослые, но и учащиеся всех возрастов, включая младших школь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годня все чаще встречается употребление наркотиков с 12-15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ркозависимыми  являются 185 миллионов человек. Это около 3% всего населения план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mph" presetID="18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8640" y="5331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ркотик – греческое слово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kotikys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значает «онемени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352680" cy="2459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0" y="365760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Юридическое поня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ркотики – это любое вещество, которое вызывает привыкание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потребление таких веществ ограничено зако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38098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Химическое поня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ркотики –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щества, которые выделяют из оп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ий – высохший на воздухе сок опийного м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36576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Медицинское поня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ркотик используется для наркоза (вызывает потерю сознания) и для обезболи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ступления, совершенные в состоянии наркотического опья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сколько подростков 11, 12 и 13 лет в состоянии наркотического опьянения попытались заставить своего товарища понюхать пары бензина из полиэтиленового пак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гда мальчик отказался, наркоманы облили его одежду бензином и бросили в него зажженные спички. Одежда на мальчике мгновенно вспыхнула. Он стал сбивать с себя пламя и побежал к бочке с водой. Пламя было потуш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езультате происшествия мальчик получил 30% ожогов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741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28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головная  ответств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осс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оответствии со ст. 228 УК РФ от 15.10 97г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законные приобретение или хранение наркотических средств наказываются лишением свободы на срок до 3 л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законные изготовление, переработка, перевозка, пересылка, сбыт наркотических средств наказываются  лишением свободы на срок от 3 до 15 лет с конфискацией имущ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2298600"/>
          </a:xfrm>
          <a:prstGeom prst="rect">
            <a:avLst/>
          </a:prstGeom>
          <a:ln w="0">
            <a:noFill/>
          </a:ln>
        </p:spPr>
      </p:pic>
    </p:spTree>
  </p:cSld>
  <p:transition spd="slow" advTm="0"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головная  ответств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оссии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лицо, добровольно  сдавшее наркотических средства освобождается от уголовной ответств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клонение к потреблению наркотических средств наказывается лишением свободы на срок от 2 до 12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 spd="slow" advTm="0"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19807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Ш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обнаружение у человека 30 г марихуаны гарантирует тюремное заключение сроком от 5 лет или штраф до 250 000 долларов. 1 г кокаина обеспечивает тюремное заключение сроком от 5 до 40 лет плюс штраф до 2 миллионов долл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52280" y="2057400"/>
            <a:ext cx="8686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еликобритан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за обнаружение 30 г марихуаны – тюремное заключение сроком на 5 лет и штраф, 1 г кокаина – тюремное заключение до 7 лет и штраф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28600" y="2057400"/>
            <a:ext cx="8686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Таиланд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за 30 г марихуаны можно заплатить штраф в размере 100 000 долларов, за 1 г кокаина - от 20 лет тюрьмы до пожизненного заключения плюс штраф 21 000 долларов или смертная ка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52280" y="2133720"/>
            <a:ext cx="88394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Герман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бнаружение 30 г марихуаны обеспечивает тюремное заключение сроком на 6 месяцев и штраф, 1 г кокаина – тюремн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лючение от 5 лет до пожизнен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3200400" y="152280"/>
            <a:ext cx="2438280" cy="1706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2"/>
          <a:stretch/>
        </p:blipFill>
        <p:spPr>
          <a:xfrm>
            <a:off x="6705720" y="5532480"/>
            <a:ext cx="220968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ечение нарком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ЕРВЫЙ ЭТАП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нейтрализация ядов в организме человека. С помощью специальных растворов и медикаментов осуществляется выведение избавление организма от наркотических вещ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490840" cy="1881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6248520" y="4495680"/>
            <a:ext cx="2643120" cy="20336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0" y="2133720"/>
            <a:ext cx="9144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роятность излечения человека обычным способом – 5 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ругой способ – это операция на мозге (выздоравливает 65%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609480" y="23623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ТОРОЙ ЭТАП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это восстановление нормальной работы всех органов и 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228600" y="2133720"/>
            <a:ext cx="82296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ТРЕТИЙ ЭТАП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отвыкание от наркот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ЕТВЕРТЫЙ ЭТАП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социальная помочь человека. Вернуть человека к семье , труду – задача трудная и не всегда выполним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62320" y="2743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евять причин сказать «НЕТ» наркотик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котики дают фальшивое представление о счаст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котики не дают человеку мыс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котики часто проводят к несчастным случа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котики уничтожают друж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187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6858000" y="4600440"/>
            <a:ext cx="22860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евять причин сказать «НЕТ» наркотик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Наркотики делают человека слабым и безво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Наркотики толкают людей на кражи и насил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Наркотики являются источником многих заболеваний (СПИД, гепатит и друг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Наркотики разрушают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. Наркотики приводят к уродствам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5098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комания среди глухи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истика по нашей школе за 1992 – 2007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0" y="1447920"/>
            <a:ext cx="9182160" cy="472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28600" y="59436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последние 2 года явления наркомании в нашей школе обнаружено не бы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к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к ты относишься к курени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я не кур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я пробовал(а) курить, но мне не понравилос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я курю и мне это нрав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к ты относишься к алкогольным напитк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я никогда не употреблял(а) алкогольные напи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мне нравится пи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спиртные напитки улучшают настроение, поэтому я их п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3. Как ты относишься к наркотик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я не знаю, что это тако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я не пробовал(а) нарко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употреблять наркотики – это не страшно, и я их пробовал(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ствовало 58 (из 70) учеников старше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558720" y="914400"/>
            <a:ext cx="8344080" cy="4419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380880" y="5029200"/>
            <a:ext cx="3124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я не кур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я пробовал(а) курить, но мне не понравилос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я курю и мне это нравит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581280" y="4800600"/>
            <a:ext cx="2667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я никогда не употреблял(а) алкогольные напит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мне нравится пив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спиртные напитки улучшают настроение, поэтому я их п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324480" y="4809960"/>
            <a:ext cx="2819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я не знаю, что это тако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я не пробовал(а) наркот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употреблять наркотики – это не страшно, и я их пробовал(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12193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388620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655308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71629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449568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182880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243828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8229600" y="35053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51055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Типы   наркоти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аба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наркот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ящие – это не «взрослые» люди, а рабы привычки. Основное вещество в табаке –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икоти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В одной сигарете содержится 10-15 мг никоти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икотин – сильный я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ждёт курильщиков? Инфаркт, заболевания сосудов и мозга, экзема, больные д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д проектом работа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3276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1 класс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ушков Максим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рпов Ми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пов Са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ыжак Серг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банов Ил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1 класс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икова Ю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кушкина Ма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лдушкин Ден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ошкарев Алек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нин Влади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1 класс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лгов Вале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ндарь Наст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исенко Серг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ванян 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трова Ан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"/>
          <p:cNvSpPr/>
          <p:nvPr/>
        </p:nvSpPr>
        <p:spPr>
          <a:xfrm>
            <a:off x="5340600" y="1258920"/>
            <a:ext cx="266652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1 класс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ганова Екате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рий Над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ванюк Фед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огинова И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алимов Андр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нтрохина Наст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ынзарь 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1 класс 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вашкова Ма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убенко Иго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йнетдинов Ри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ачатрян Лу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5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5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5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5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5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5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5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5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50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5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5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50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50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50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50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5000" fill="hold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5000" fill="hold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5000" fill="hold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5000" fill="hold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5000" fill="hold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5000" fill="hold"/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5000" fill="hold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000" fill="hold"/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5000" fill="hold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5000" fill="hold"/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5000" fill="hold"/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5000" fill="hold"/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rcRect l="0" t="13892" r="71452" b="-30"/>
          <a:stretch/>
        </p:blipFill>
        <p:spPr>
          <a:xfrm>
            <a:off x="1143000" y="838080"/>
            <a:ext cx="2676600" cy="4724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rcRect l="82098" t="0" r="20" b="40258"/>
          <a:stretch/>
        </p:blipFill>
        <p:spPr>
          <a:xfrm>
            <a:off x="4952880" y="1066680"/>
            <a:ext cx="2729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Типы 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наркоти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лкоголизм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а болезнь известна давно. На 1 тыс. человек приходится 100 алкоголиков. Спиртные напитки содержат не только этиловый спирт (С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), но и ядовитые сивушные масла. Метиловый спирт (СН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) – яд, который вызывает не только отравление, но и слепоту, смер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400800" y="4782960"/>
            <a:ext cx="2743200" cy="2075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3429000" cy="2627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380880" y="2895480"/>
            <a:ext cx="853452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лкогольные напит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спирт, водка, вино, пиво, коктейл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ипы   наркот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520" y="1219320"/>
            <a:ext cx="63244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оксикома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вдыхание паров растворителей (толуол, бензол, бензин) и различных средств бытовой химии (клеи, лаки и п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47800" cy="3886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0" y="5638680"/>
            <a:ext cx="8610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ркома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потребление нарко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3886200"/>
            <a:ext cx="8915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первых вдохах появляются головная боль, тошнота, может быть рвота, нарушение координации, насморк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стория   возникновения наркот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6400г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до н.э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люди знали психоактивные вещества: алкоголь (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ив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 и растения (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пиумный мак, листья кустарника коки, гашиш, листья кофейного дерева, гриб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6781680" y="43434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rcRect l="0" t="0" r="-49" b="0"/>
          <a:stretch/>
        </p:blipFill>
        <p:spPr>
          <a:xfrm>
            <a:off x="0" y="4389480"/>
            <a:ext cx="2743200" cy="2468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3"/>
          <a:stretch/>
        </p:blipFill>
        <p:spPr>
          <a:xfrm>
            <a:off x="3505320" y="4419720"/>
            <a:ext cx="25905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стория   возникновения наркот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388620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ередина 19 век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ачались опиумные вой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До начала 20 ве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е существовало ограничений на покупку и использование наркот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0 век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большинстве стран наркотики разрешены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олько в медицин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549520" cy="3809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2590920" y="2438280"/>
            <a:ext cx="6553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2700год до н.э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Китае уже использовали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онопл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в виде ча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Хи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80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у немецкий химик Сертурнер выделил из опия алкалоид, который назвал в честь греческого бога сновидений Морфи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83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у французский химик П.Ж. Робике выделил из опия кодеин. Весовое содержание морфина в опии составляет 10 и 0,5% соответственно. Химическим путем из морфина можно получить героин и другие наркотики, что  впервые было осуществлено в  1870-х год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стоящее время получено несколько синтетических наркотиков, в том числе метадон, экст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1128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рф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сильнодействующий наркот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первые получен в 1803 году Сертурн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рфин – это твёрдое органическое вещество. Кристаллы морфина белого ц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124080" y="4737240"/>
            <a:ext cx="29703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ла</cp:lastModifiedBy>
  <dcterms:modified xsi:type="dcterms:W3CDTF">2023-08-25T20:48:53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0d00000000000102a0010207f7000400038000</vt:lpwstr>
  </property>
  <property fmtid="{D5CDD505-2E9C-101B-9397-08002B2CF9AE}" pid="3" name="Version">
    <vt:r8>1</vt:r8>
  </property>
</Properties>
</file>