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A3C-EA99-46F5-AB3D-4FCAA7E6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899-200A-4DB6-BA12-08C6A8AA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BA7-A0C3-4009-BECC-BF366BD1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7E8-2DF9-4438-AC65-E5A1DACB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CF9-4E49-4135-96E9-2C5284E5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6D4-0DCC-4A75-8C7E-469D2BBD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14D-68E4-4BA9-AB22-0F32293C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AC9-354B-48AF-ADE6-EAF90A25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4EE-CC20-44BE-B2E8-56847719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8E1-0FEF-4559-9CEE-B8F9B3E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208-1A7A-4940-AC98-4FA15316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621-F97E-4CC3-A28A-46BB8595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8752-4036-4E17-BF79-CF705241A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кажи наркотикам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НЕТ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95280" y="54864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учащихся 11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рф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водой морфин образует водородные связи, поэтому очень хорошо растворяется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фин вводят в организм в виде водного раствора в кровь. Наркотический эффект наступает через несколько минут и длится 4 – 6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знаки токсического отравления наблюдаются при дозе морфина 60 мг, при вводе 100 мг морфина может быть тяжёлое отравление, а 250 мг – смертельная доза дл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95480" y="5145120"/>
            <a:ext cx="32767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о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оин – опиат, наркотик природн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пав в организм человека, героин превращается в морфин. Героин «сильнее» морфина в 5 ра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героин производится почти во всех регионах Земли. В Россию героин завозят из Афганист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271296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76360" y="1143000"/>
            <a:ext cx="5715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ще всего среде наркоманов встречаются вещества, изготавливаемые из индийской конопли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ашиш, анаша, марихуан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906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917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гашишном опьянении первые затяжки могут вызвать головную боль, ощущение тревоги, страха, необычности происходящего. Затем настроение резко повышается, наблюдается веселое состояние, неудержимые приступы см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3809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917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кстаз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тносится к синтезированным препара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яв наркотик, можно танцевать без перерыва 6 – 8 часов. Но потом может начаться обезвоживание, повышение дав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связь между приемом экстази и возникновением шизофр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352680" y="4822920"/>
            <a:ext cx="2057400" cy="187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3200400" y="4818240"/>
            <a:ext cx="259092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м опасны наркоти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Наркотики вызывают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ую зависим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ривыкание. Человеческий организм требует все больших и больших доз наркотика (толерантност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быстро происходит привыкание при использов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еро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а 2-5 инъекц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истого морф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коло 10 инъекц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стойки оп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 2-3 неде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оде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 1 меся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м опасны наркоти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Если наркотики становятся недоступными, человек заболевает испытывает муки (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бстиненц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 Отсутствие наркотика приводит к агр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ркотик создаёт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сихическую зависимос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пристрастие к эйф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ем опасны наркот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поражению моз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истощению нервной систем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разрушению всех внутренни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преждевременной смерти (продолжительность жизни наркомана после первого укола героина – 3-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генетическим изменением потомства (уродства, умственная отсталость, смертность). Известно, что грудные дети , отцы которых курили марихуану могут внезапно умереть во время сна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620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3352680" y="1371600"/>
            <a:ext cx="5791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Наркотик – это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Он оказывает токсическое воздействие. Это привод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ем опасны наркот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Наркоманы могут заразиться различными инфекционными заболеваниями (СПИД, гепатит и др.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зраст нарком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241360"/>
            <a:ext cx="86868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60-х годов 20 века наркоманией заболевали люди в основном молодого и среднего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960-х годах употреблять марихуану стали не только взрослые, но и учащиеся всех возрастов, включая младших шк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годня все чаще встречается употребление наркотиков с 12-1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козависимыми  являются 185 миллионов человек. Это около 3% всего населения план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mph" presetID="18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8640" y="5331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ркотик – греческое слово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kotikys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значает «онеме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2459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0" y="365760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Юридическое поня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тики – это любое вещество, которое вызывает привыкание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потребление таких веществ ограничено зако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38098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Химическое поня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тики –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щества, которые выделяют из о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ий – высохший на воздухе сок опийного м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3657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едицинское поня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тик используется для наркоза (вызывает потерю сознания) и для обезбол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ступления, совершенные в состоянии наркотического опья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колько подростков 11, 12 и 13 лет в состоянии наркотического опьянения попытались заставить своего товарища понюхать пары бензина из полиэтиленового пак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гда мальчик отказался, наркоманы облили его одежду бензином и бросили в него зажженные спички. Одежда на мальчике мгновенно вспыхнула. Он стал сбивать с себя пламя и побежал к бочке с водой. Пламя было потуш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зультате происшествия мальчик получил 30% ожогов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741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2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головная  ответ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оответствии со ст. 228 УК РФ от 15.10 97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законные приобретение или хранение наркотических средств наказываются лишением свободы на срок до 3 л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законные изготовление, переработка, перевозка, пересылка, сбыт наркотических средств наказываются  лишением свободы на срок от 3 до 15 лет с конфискацией имущ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229860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головная  ответ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оссии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лицо, добровольно  сдавшее наркотических средства освобождается от уголовной ответ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клонение к потреблению наркотических средств наказывается лишением свободы на срок от 2 до 12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Ш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обнаружение у человека 30 г марихуаны гарантирует тюремное заключение сроком от 5 лет или штраф до 250 000 долларов. 1 г кокаина обеспечивает тюремное заключение сроком от 5 до 40 лет плюс штраф до 2 миллионов долл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52280" y="205740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еликобритан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за обнаружение 30 г марихуаны – тюремное заключение сроком на 5 лет и штраф, 1 г кокаина – тюремное заключение до 7 лет и штраф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28600" y="2057400"/>
            <a:ext cx="8686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Таиланд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за 30 г марихуаны можно заплатить штраф в размере 100 000 долларов, за 1 г кокаина - от 20 лет тюрьмы до пожизненного заключения плюс штраф 21 000 долларов или смертная ка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ерман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бнаружение 30 г марихуаны обеспечивает тюремное заключение сроком на 6 месяцев и штраф, 1 г кокаина – тюрем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лючение от 5 лет до пожизнен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3200400" y="152280"/>
            <a:ext cx="2438280" cy="170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6705720" y="5532480"/>
            <a:ext cx="22096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ечение нарком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ЕРВЫЙ ЭТАП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нейтрализация ядов в организме человека. С помощью специальных растворов и медикаментов осуществляется выведение избавление организма от наркотических ве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490840" cy="188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6248520" y="4495680"/>
            <a:ext cx="2643120" cy="2033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2133720"/>
            <a:ext cx="9144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роятность излечения человека обычным способом – 5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гой способ – это операция на мозге (выздоравливает 65%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09480" y="23623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ТОРОЙ ЭТАП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это восстановление нормальной работы всех органов и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228600" y="2133720"/>
            <a:ext cx="82296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РЕТИЙ ЭТАП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твыкание от нарко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ЕТВЕРТЫЙ ЭТАП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социальная помочь человека. Вернуть человека к семье , труду – задача трудная и не всегда выполним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232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вять причин сказать «НЕТ» наркотик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котики дают фальшивое представление о счаст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котики не дают человеку мыс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котики часто проводят к несчастным случа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котики уничтожают друж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87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6858000" y="4600440"/>
            <a:ext cx="22860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вять причин сказать «НЕТ» наркотик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Наркотики делают человека слабым и безво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Наркотики толкают людей на кражи и насил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Наркотики являются источником многих заболеваний (СПИД, гепатит и друг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Наркотики разрушают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Наркотики приводят к уродствам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509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комания среди глухи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стика по нашей школе за 1992 – 2007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1447920"/>
            <a:ext cx="9182160" cy="472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28600" y="59436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последние 2 года явления наркомании в нашей школе обнаружено не б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к ты относишься к курен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я не кур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я пробовал(а) курить, но мне не понравило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я курю и мне это нрав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к ты относишься к алкогольным напитк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я никогда не употреблял(а) алкогольные напи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мне нравится пи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спиртные напитки улучшают настроение, поэтому я их п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3. Как ты относишься к наркотик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я не знаю, что это так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я не пробовал(а) нарко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употреблять наркотики – это не страшно, и я их пробовал(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вовало 58 (из 70) учеников старше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558720" y="914400"/>
            <a:ext cx="8344080" cy="4419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380880" y="5029200"/>
            <a:ext cx="3124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я не кур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я пробовал(а) курить, но мне не понравилос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я курю и мне это нравит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581280" y="4800600"/>
            <a:ext cx="2667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я никогда не употреблял(а) алкогольные напит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мне нравится пив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спиртные напитки улучшают настроение, поэтому я их п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324480" y="4809960"/>
            <a:ext cx="2819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я не знаю, что это тако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я не пробовал(а) нарко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употреблять наркотики – это не страшно, и я их пробовал(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2193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88620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655308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162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449568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182880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243828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8229600" y="35053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51055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ипы   наркот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ба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наркот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ящие – это не «взрослые» люди, а рабы привычки. Основное вещество в табаке –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икоти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В одной сигарете содержится 10-15 мг никоти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котин – сильный я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ждёт курильщиков? Инфаркт, заболевания сосудов и мозга, экзема, больные д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д проектом работа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276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1 класс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ушков Максим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пов Ми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ов Са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ыжак Серг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банов Ил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1 класс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икова Ю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кушкина Ма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лдушкин Ден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шкарев Алек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нин Влади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1 класс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гов Вале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ндарь Нас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исенко Серг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ванян 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трова Ан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5340600" y="1258920"/>
            <a:ext cx="266652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1 класс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ганова Екате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рий Над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ванюк Фе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гинова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лимов Андр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трохина Нас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ынзарь 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1 класс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вашкова Ма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убенко Иго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йнетдинов Ри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чатрян Лу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5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5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5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5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5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5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5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5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5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5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5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5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50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50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5000" fill="hold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5000" fill="hold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5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5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50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50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rcRect l="0" t="13892" r="71452" b="-30"/>
          <a:stretch/>
        </p:blipFill>
        <p:spPr>
          <a:xfrm>
            <a:off x="1143000" y="838080"/>
            <a:ext cx="2676600" cy="4724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rcRect l="82098" t="0" r="20" b="40258"/>
          <a:stretch/>
        </p:blipFill>
        <p:spPr>
          <a:xfrm>
            <a:off x="4952880" y="1066680"/>
            <a:ext cx="2729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ипы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наркот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лкоголиз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а болезнь известна давно. На 1 тыс. человек приходится 100 алкоголиков. Спиртные напитки содержат не только этиловый спирт (С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), но и ядовитые сивушные масла. Метиловый спирт (С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) – яд, который вызывает не только отравление, но и слепоту, смер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400800" y="4782960"/>
            <a:ext cx="2743200" cy="207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3429000" cy="2627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380880" y="2895480"/>
            <a:ext cx="853452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лкогольные напит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спирт, водка, вино, пиво, коктейл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ипы   наркот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520" y="1219320"/>
            <a:ext cx="6324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ксикома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вдыхание паров растворителей (толуол, бензол, бензин) и различных средств бытовой химии (клеи, лаки и п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4780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0" y="5638680"/>
            <a:ext cx="8610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ркома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потребление нарко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3886200"/>
            <a:ext cx="8915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первых вдохах появляются головная боль, тошнота, может быть рвота, нарушение координации, насморк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я   возникновения наркот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6400г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о н.э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люди знали психоактивные вещества: алкоголь (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ив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и растения (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пиумный мак, листья кустарника коки, гашиш, листья кофейного дерева, гриб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781680" y="43434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rcRect l="0" t="0" r="-49" b="0"/>
          <a:stretch/>
        </p:blipFill>
        <p:spPr>
          <a:xfrm>
            <a:off x="0" y="4389480"/>
            <a:ext cx="2743200" cy="246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3505320" y="4419720"/>
            <a:ext cx="25905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я   возникновения наркот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38862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ередина 19 век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чались опиумные вой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о начала 20 ве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 существовало ограничений на покупку и использование наркот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0 век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большинстве стран наркотики разрешены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лько в медицин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549520" cy="3809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2590920" y="2438280"/>
            <a:ext cx="6553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700год до н.э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Китае уже использовали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нопл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в виде ча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80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у немецкий химик Сертурнер выделил из опия алкалоид, который назвал в честь греческого бога сновидений Морфи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83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у французский химик П.Ж. Робике выделил из опия кодеин. Весовое содержание морфина в опии составляет 10 и 0,5% соответственно. Химическим путем из морфина можно получить героин и другие наркотики, что  впервые было осуществлено в  1870-х го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стоящее время получено несколько синтетических наркотиков, в том числе метадон, экст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112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рф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сильнодействующий нарко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первые получен в 1803 году Сертурн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фин – это твёрдое органическое вещество. Кристаллы морфина белого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124080" y="4737240"/>
            <a:ext cx="29703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ла</cp:lastModifiedBy>
  <dcterms:modified xsi:type="dcterms:W3CDTF">2023-08-25T20:48:53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d00000000000102a0010207f7000400038000</vt:lpwstr>
  </property>
  <property fmtid="{D5CDD505-2E9C-101B-9397-08002B2CF9AE}" pid="3" name="Version">
    <vt:r8>1</vt:r8>
  </property>
</Properties>
</file>