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56C-F7CB-4495-8DCD-3DBC4442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B8A-9DA6-4706-84D0-01E43B1E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224C1-9E61-4BA5-909B-6652855F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5524D-97B5-457A-B085-74BC85AF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A511D-775D-4E3B-93EC-68C23A4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5ED80-E0C7-43DD-BE49-1C4B13B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E1775-9371-4A0A-91F1-1D490B8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64D30-998C-4F59-B0E3-3BAD0E06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BF931-58AF-4CFD-8E55-FEC2EC8C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9F827-13A4-43A5-9BBF-1A538EA9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F0FA-41BC-49CB-A66F-993A4FF3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5AAFE-118A-419D-9578-5FA375E6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055-6597-4036-8BAE-778735B6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78B5C-C1F2-463E-8D9C-C61C28D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B688F-8C19-4718-B402-151D4622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F9A78-33CB-4C86-B908-E19318F6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39ABC-9C1B-4E11-AA5B-79929531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CB251-8310-49B0-BC77-0A5D4B3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446E3-C331-4536-B327-228F2BEE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C3029-A97D-457E-A5AE-DDEC808D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4BC2B-91C0-4893-9E5E-BF280E3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3FA5E-B5F4-40C2-9536-0F2CA47C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1F351-1DF1-47F8-B1DC-C026FDB2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74C-2610-492C-BD5F-4393BCC0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C8501-0134-43AD-A1F1-DF62E5EF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F71A-CCF4-44A8-BC8F-BC66B9FC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2849D-D186-4FD3-A1F2-1A714563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A4B1A-A4CE-4B87-87DB-AB8CE003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BE705-7A0F-4ED1-89E5-05517D15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3E44E-BF43-4731-A249-01E0EDF3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57B6-12F7-4C57-96A7-E7478F8C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C5A3A-FAEE-4838-82D5-D40B77B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407B-8A30-4469-84D8-014C09D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989FF-BCF0-4BA2-BDE2-0C65B13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40E8-7F5A-4263-8A74-495C689A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A27BE-6911-4BF7-9C81-709FD284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5DE1D-A8F7-4B45-9A36-5AACC6C7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A031D-F27B-4D94-9FD1-32DF110F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ED3EE-124B-4A59-B524-8C32B62E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D6742-17B8-489B-931A-396FB72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FA498-F6E8-4323-B949-415459D4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940EC-C1FE-4104-8D37-5B008794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EDD07-5D37-48C7-B67D-464546BE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0236E-C10B-4D4E-8866-4970ED04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943F9-C4EE-4545-86E3-230AD0B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9CD-C4FE-47F2-B11A-61D0A6F3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23B10-5475-4967-8E9B-D8CCC3CA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651BD-768F-4196-A006-93B7C10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3778F-1371-4B61-8188-ADC2BB2B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7214E-4629-402B-B5FC-FE3205FC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15092-88C5-4AB2-B7D6-F8920567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44291-567E-47BB-98EE-1039EEAA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077A2-C529-4E05-81ED-1B8A2F4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92C6F-0401-4DC5-B333-AADF376B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CF1E6-2416-4351-87D9-0D92F9D6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9E03A-1936-4EA4-BE76-EDD2CA90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ACD0-4423-49D6-8B62-950FD23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8C32F-B211-46BF-8D4B-CB4B0C31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5092B-B169-4166-853E-CE9C7239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D4F29-A6F7-4CF5-AF6E-C4947498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0D6BE-7313-49BD-80D1-B3BD089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1CB16-94A9-4DE5-A516-DEA9C7D4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7C32B-8A52-457F-A9FA-276C5ABF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14268-00E9-45CB-84E6-05738DA9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3CEAE-0F67-47C6-AF21-A806EB42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98C80-6AD2-4BC2-89FC-91722A9E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8FF8E-E166-4AD7-A5EF-BD5B0C31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A3CF-1E39-4E9E-9526-27493DF6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18418-DA2B-488C-9228-E428DF71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8AAED2-8738-4698-850A-326CBB51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217A6-69AF-4AF3-8545-4012F14E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7E63A-C9D2-498D-9ADF-DE41543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6D0D9-8801-48BB-B721-CF4D9D5B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C031B-31FB-4283-A5A8-17669B3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96084-7FCC-4649-AFE0-7D97A241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BAA3B-8961-4A9C-A52D-7E4F58A5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7C212-C5E1-4A0A-A6CF-C4674D3F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19557-1C41-490A-8A2E-8022FA94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4CC1-9ED2-4A16-A316-18E2B0F6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7E21B-BE02-4097-9E2A-EF48208A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10138-EC11-47C4-885B-8F38F555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DB567E-F8C8-45C3-B93E-4A956262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37937-7D89-4FB4-A36F-253D5468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6E952-D502-4105-B95B-33266EE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0A82F-9BFA-4208-BBA4-989C4122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F49FD-AE6F-4A47-9F35-64E9328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300A9-038C-4239-A5BB-14F047F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9425C-BD98-4D88-A820-94901BA5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599ADC-16EB-47CC-9B0D-551289F8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1DD-9A31-4D7C-B0D9-E66D6180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29ADE-732C-4C07-B4E2-10D528D9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DCB3A-1D30-44CD-B8BC-A3026123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963355-0F7F-494F-8F71-BD12FE1F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08F44-415E-4EC9-8181-0182C69E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5E153-5C57-4F58-9ABC-1A87626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90ABE-3F99-4D2D-954A-696686CF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1570C-8199-4E58-937F-C50BCBF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6F5FE8-9CF8-4A7A-BF24-6940DA8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62527-1319-4E5D-B20B-8465F87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59B6B-1A5A-4B6A-AA47-D7C2641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C6E-9EA1-477B-8A1C-E071DFBE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7F36C-D2E8-4CEC-8FF0-53762F52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FD7BE-7EED-4FFC-8472-0436C002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4A4E8-0254-4589-8B4C-61F08911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2842C5-D31F-4DCD-8C37-393E03BE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9D1FB-BBE0-4012-BCD3-7A09B031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EAB60B-13B3-4840-AD09-66459949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F6968-9F14-455F-A0D1-D05BDC33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CB846-8406-4DB6-9D05-9CF550D4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EA42D-EE7D-490A-A2C0-87635BD8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3D1F0-E17D-4985-802B-ACA8AE2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BEB-8D38-440A-99E0-DA2D3629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4E6-04F9-4259-BF02-DE5BFE5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DFF76-DD8E-4DF2-92AD-6C680A61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75E46-5927-48E7-8B85-5D00AED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DE86E-0CC6-40E1-850D-F1A488C3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76D49-C203-4223-9C0E-7F2223A6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7F024-CAA3-4FA1-8055-CFD39836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32D-1B91-4E58-9A5E-6B4714E4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721C-B559-47B5-B6D1-E346C677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040E-D635-48DC-9A86-75249667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F37E-A7B7-4ED1-8020-DC494204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35C88-7E18-412B-8B58-A8D9C9AE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3223-F854-49E2-9CD4-840DB382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2AAE-F214-4E06-8CB6-703136B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8FF1-F5F8-4112-B6EE-B1508DD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BD5E-EA03-4503-9E4E-2B634D6F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C1F-AAC3-433F-8194-B4B2282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990A-8D0F-47B0-B619-86FE18B3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99BB3-D159-4ED0-94C5-929D8E63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064C-F31B-4E34-8028-19DA5355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A581-1B8D-49F6-A149-74FC7D0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C275D-65F0-491A-8DEF-C6D8D98E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758D-6D5D-43BB-8C72-214288EC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93FB-B97B-4502-AC9A-ED5492B9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8363-25FD-4B1A-BC43-9F72A8C8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5AA6E-0D57-49B5-9572-40399583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F1EE-3C9F-425D-883F-67DDC6C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DEF-2C20-491A-9238-6BE280B8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4301-7B36-425B-A108-5344085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92AC5-5160-43B4-8194-65629B17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8848-FBF7-4B0C-B302-FE037321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321E-3D4F-40CA-8D6E-4D101E3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77B2-3CC2-4142-A4B3-EBAF9FE8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0A67-7A0E-45B8-B558-50EB50F8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020D-AEF6-4142-A217-27CE35A6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1BB2-D005-46C8-84C8-262E51D7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17E3-62BA-47AC-8A93-69D88093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1CE79-870A-42A3-ADC0-0262D203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5C3-4BF6-481D-A7AC-57A44A5D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BEFD8-E5FB-42CD-8780-5E8589E8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6C9E-5A0F-4A24-B2A8-711DA81D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090F-B537-4867-83A2-72A5702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5A253-BC96-4470-B9AB-891D410D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2398-26D6-4A64-B365-49A2C4F8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D7DD-2E40-47B3-9ACF-FD1907E6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ECEE0-71C7-45DC-8392-931BF45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2A077-71A3-42E3-B3F7-43738941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88718-E85D-4174-91C2-E0FBD762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967E-A68B-4DFB-B25D-9430A8F6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5992-7BC8-4252-89AA-EA4643EB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EE29-82EF-487A-B90B-2B2A6A98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7584-C58E-4A18-8A84-CD5C6A2A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A78C-BDBF-48EA-AB08-7570EC47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99BF0-C15E-469A-9246-1B7F86CD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6940F-07DA-491C-8BEC-B83F094A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DCF7F-EAB8-4AFC-A1BB-A6E55B1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F2F8-4C7F-4069-B7C3-F159760C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9ACAB-2C29-48F5-A7CB-31AEDC7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D45DE-22A2-426A-9B53-5754375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68D4-E0F8-4CFC-B4FB-AB7C8D5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958-0BB3-49BE-878C-D673DDA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82A56-8E03-4E88-A40C-0B05126D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B270D-5C63-4BA1-A33F-B80EC5CC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E60A9-98C3-4EDD-B2CF-FDCEF67B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FC910-BFD5-4C16-BDB1-DB1B6601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95690-2787-4839-8CD4-85B3AD02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AC59-E35B-49BF-858B-31405BA0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E458-86B1-45E1-BC43-F44CA021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19EE2-48ED-48E9-AE96-9AFB4E8F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0A59-E202-40D0-892B-41E034BC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D8B3-179A-47DF-AD53-5FE98631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B35-C7CE-4ECC-BDA5-BCD3EBB8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5902-A2FF-4016-B147-B68591D8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A3D97-0EA5-471C-B0C3-51D8DD1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DF464-9619-4CB9-9378-F4DA38F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4BE1-3294-4130-B4E6-028DCD65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8CAF-D6C0-4E45-9C17-0B2387D6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86BA9-273D-4D03-9210-617DCECE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BACCC-2293-47EC-A9F0-F142B2FC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CF747-5F1E-48FE-A09A-AAAD1E2D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650D5-24D1-4631-AF6E-0E9747ED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A4FC-628D-4D53-B746-34F21ECD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594-4AB7-44D0-A9AE-13B45D6C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6F5F4-99EF-4ABD-A539-647E95C5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A54F3-5BC7-4EFC-A68B-B18D455C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798D9-3393-43E5-BE1F-508A044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E96C1-4BD8-45F2-A762-DB1D821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F2A50-BDEE-4F15-9E64-A05B189D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09719-A487-40F3-99DA-BFBB9E06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A16EC-465C-4D92-8BCD-3E4772A7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DD093-3C40-481E-AD42-8BE3C247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9ECC8-CB07-4B60-883B-12EF294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F425-7C96-4F42-88E7-D87016B6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D57-93AB-4B19-92FE-44761F28B91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C6E-A88C-43F3-9F72-891AB5E9FF5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0EB2-6586-4C7A-91B3-89EA40945CF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519-EFD2-43EE-BDCB-E8768227AB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394F-7098-4E5D-8D0E-630C6531B5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5136-5F29-4262-B3E8-6C219DB2C54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BF4F-0260-43CE-A834-D0E28404F3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49D4-71B0-4AEE-9340-BB913DD69C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4549-ACBA-4179-ABD1-7114F5D8CA2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2A0-95D7-40CA-B78D-C47347643D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D28D-0B5E-450D-8C3E-FBD0DA61FC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9875-79C3-4DB2-8258-95B23FA3CF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FAE-6047-4626-9C7F-63D5855397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64B-920A-40CA-9D52-8AF72D797B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4E25-BCE1-4CC4-8AE1-0C85941279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F490-B476-42F9-A71B-7CA9806040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6.10.200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2FC0-FBF4-489F-B7EB-3D7BB63205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10"/>
          <p:cNvSpPr/>
          <p:nvPr/>
        </p:nvSpPr>
        <p:spPr>
          <a:xfrm>
            <a:off x="684360" y="765000"/>
            <a:ext cx="81374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Методическое объединение  №3</a:t>
            </a:r>
            <a:r>
              <a:rPr b="1" i="1" lang="ru-RU" sz="36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новационные педагогические технологии и цифровые инструмент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24 марта 2022 го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7" name="Picture 12" descr="http://tbn0.google.com/images?q=tbn:FZDYl34h5YpXrM:http://www.treningi.ru/private/treningi/images_load/1/9.jpg"/>
          <p:cNvPicPr/>
          <p:nvPr/>
        </p:nvPicPr>
        <p:blipFill>
          <a:blip r:embed="rId1"/>
          <a:stretch/>
        </p:blipFill>
        <p:spPr>
          <a:xfrm>
            <a:off x="395280" y="5329080"/>
            <a:ext cx="1955880" cy="144648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0" descr="http://tbn0.google.com/images?q=tbn:2SNg-Dh6eyT7hM:http://www.npstoik.ru/vio/img/article/114_pic_04_13_02.jpg"/>
          <p:cNvPicPr/>
          <p:nvPr/>
        </p:nvPicPr>
        <p:blipFill>
          <a:blip r:embed="rId2"/>
          <a:stretch/>
        </p:blipFill>
        <p:spPr>
          <a:xfrm>
            <a:off x="6505560" y="5329080"/>
            <a:ext cx="2168640" cy="144648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7" descr="http://im4-tub-ru.yandex.net/i?id=127251397-31-72&amp;n=21"/>
          <p:cNvPicPr/>
          <p:nvPr/>
        </p:nvPicPr>
        <p:blipFill>
          <a:blip r:embed="rId3"/>
          <a:srcRect l="3723" t="10003" r="2990" b="14991"/>
          <a:stretch/>
        </p:blipFill>
        <p:spPr>
          <a:xfrm>
            <a:off x="3276720" y="5329080"/>
            <a:ext cx="200664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32120" y="754200"/>
            <a:ext cx="658944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 к ВсОШ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022 – 2023 уч. год 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31760" y="263664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заданий ШЭ ВсОШ в августе на МО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лимпиада по Русскому языку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F490-BE46-495E-B9D9-BA08BBEEB841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Отчёт за 2021 – 2022 уч.</a:t>
            </a:r>
            <a:r>
              <a:rPr b="1" lang="en-US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год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дать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20 ма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слать на электронную почту: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yablokova.nadezhda2014@yandex.ru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F9C3-9233-4DF5-8F54-913EA377BA69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63840" y="2204640"/>
            <a:ext cx="6589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9FC-7F66-45DD-A0D3-CB2CFD262124}" type="slidenum">
              <a:rPr b="1" lang="ru-RU" sz="2000" spc="-1" strike="noStrike">
                <a:solidFill>
                  <a:srgbClr val="feffff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9040" y="1413000"/>
            <a:ext cx="6589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рассмотреть сущность и пути использования образовательных технологий в современной начальной школе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3B9-5168-4D2E-B253-46BF79BDDE27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490400" y="293760"/>
            <a:ext cx="7057800" cy="5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21808"/>
                </a:solidFill>
                <a:latin typeface="Times New Roman"/>
                <a:ea typeface="Times New Roman"/>
              </a:rPr>
              <a:t>План работы: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Номер слайда 3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DD7-E849-4678-80EB-4B7203E7D2E7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Прямоугольник 4"/>
          <p:cNvSpPr/>
          <p:nvPr/>
        </p:nvSpPr>
        <p:spPr>
          <a:xfrm>
            <a:off x="1187280" y="981000"/>
            <a:ext cx="743904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ые педагогические технологии и цифровые инструмент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чёт по методическим темам)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функциональной грамотности – основное направление работы МО в 2022 – 2023 учебном году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экспертных комиссий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ка к ВсОШ 2022 – 2023 уч.год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чёт за 2021 – 2022 уч.год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213840" y="999720"/>
            <a:ext cx="8642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ятие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инновация“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ереводе с латинского языка означает “обновление, новшество или изменение“. 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Picture 7" descr="http://dl9.glitter-graphics.net/pub/619/619589ga2upyu3st.gif"/>
          <p:cNvPicPr/>
          <p:nvPr/>
        </p:nvPicPr>
        <p:blipFill>
          <a:blip r:embed="rId1"/>
          <a:stretch/>
        </p:blipFill>
        <p:spPr>
          <a:xfrm>
            <a:off x="457200" y="4363920"/>
            <a:ext cx="1792440" cy="215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1"/>
          <p:cNvSpPr/>
          <p:nvPr/>
        </p:nvSpPr>
        <p:spPr>
          <a:xfrm>
            <a:off x="714240" y="876600"/>
            <a:ext cx="7871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SimSun"/>
              </a:rPr>
              <a:t>Педагогическая инновац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— это нововведение в области педагогик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целенаправленное прогрессивн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изменение, вносящее в образовательную среду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стабильные элемен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(новшества)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улучшающие характеристик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, как отдельных ее компонентов, так и само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образовательной систем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в целом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3" descr="http://im8-tub-ru.yandex.net/i?id=130116505-36-72&amp;n=21"/>
          <p:cNvPicPr/>
          <p:nvPr/>
        </p:nvPicPr>
        <p:blipFill>
          <a:blip r:embed="rId1"/>
          <a:stretch/>
        </p:blipFill>
        <p:spPr>
          <a:xfrm>
            <a:off x="4000680" y="507204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Picture 2" descr="http://im5-tub-ru.yandex.net/i?id=334362625-13-72&amp;n=21"/>
          <p:cNvPicPr/>
          <p:nvPr/>
        </p:nvPicPr>
        <p:blipFill>
          <a:blip r:embed="rId1"/>
          <a:stretch/>
        </p:blipFill>
        <p:spPr>
          <a:xfrm>
            <a:off x="428760" y="1214280"/>
            <a:ext cx="2428920" cy="284652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3"/>
          <p:cNvSpPr/>
          <p:nvPr/>
        </p:nvSpPr>
        <p:spPr>
          <a:xfrm>
            <a:off x="3000240" y="947880"/>
            <a:ext cx="5715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первый план выходит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ли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ученика, готовность его к самостоятельной деятельности по сбору, обработке, анализу и организации информации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мение принимать решения и доводить их до исполн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763280" y="78696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тчёт по методическим темам</a:t>
            </a:r>
            <a:br>
              <a:rPr sz="4400"/>
            </a:b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еспечение эффективности методической работы для совершенствования профессиональной компетентности и повышения уровня квалификации педагогов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577E-9620-41B7-BA81-4D02A0EACE57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6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a1f0d"/>
                </a:solidFill>
                <a:latin typeface="Times New Roman"/>
                <a:ea typeface="Calibri"/>
              </a:rPr>
              <a:t>Формирование функциональной грамотности – основное направление работы МО в 2022 – 2023 учебном году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61128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овать методические темы в 2022 – 2023 году с учётом этого направления к МО в августе 2022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 для самообразования (ссылки на ресурсы по ФГ размещены на сайтах ММЦ и ИРО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банком заданий по формированию ФГ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диагностическая работа по оценке функциональной грамотности обучающихся, освоивших образовательную программу начального общего образования (естественнонаучная грамотность, 4 класс, в течение 2022)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3FCC-F478-42C9-B0CD-4D78FBE0BC3B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Calibri"/>
              </a:rPr>
              <a:t>Формирование экспертных комисси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a1f0d"/>
                </a:solidFill>
                <a:latin typeface="Times New Roman"/>
                <a:ea typeface="Times New Roman"/>
              </a:rPr>
              <a:t>на муниципальную учебно-исследовательскую конференцию школьников на предметные и межпредметные секции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a1f0d"/>
                </a:solidFill>
                <a:latin typeface="Times New Roman"/>
                <a:ea typeface="Times New Roman"/>
              </a:rPr>
              <a:t>29 апреля 2022 год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1a1f0d"/>
                </a:solidFill>
                <a:latin typeface="Times New Roman"/>
                <a:ea typeface="Times New Roman"/>
              </a:rPr>
              <a:t>на базе МОУ СОШ № 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8" name="Номер слайда 4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8AC8-0706-4837-B5E7-F88BD39EE9C4}" type="slidenum">
              <a:rPr b="1" lang="ru-RU" sz="2000" spc="-1" strike="noStrike">
                <a:solidFill>
                  <a:srgbClr val="feffff"/>
                </a:solidFill>
                <a:latin typeface="Arial"/>
                <a:ea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42:44Z</dcterms:created>
  <dc:creator>Admin</dc:creator>
  <dc:description/>
  <dc:language>en-US</dc:language>
  <cp:lastModifiedBy>User</cp:lastModifiedBy>
  <dcterms:modified xsi:type="dcterms:W3CDTF">2022-03-23T18:30:40Z</dcterms:modified>
  <cp:revision>180</cp:revision>
  <dc:subject/>
  <dc:title>Слайд 1</dc:title>
</cp:coreProperties>
</file>