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97A-4864-4319-9060-66ADD9E0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BE6-6B9F-4D45-BF98-A840A901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8E8DF-0D2F-4559-8FEE-DABA64CA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CF5D1-4EB7-4575-8C92-A4E12A4B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1718F-56E8-4C3F-9DA4-A2C58B30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77B29-6A1F-4C1A-BEF1-37E4C192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9CC0A-E469-40DB-9D85-F4B3E98F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53892-DBAA-496A-B08E-6343FE83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C45C2-46A6-4400-ABC6-8A43B0CA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35EC0-EAFD-428B-8A00-01F909D1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1ECFF-798B-4F0A-92A5-6E27AA0F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55C2B-9B11-43C8-9926-55441D4B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D08-B609-4AA1-A468-23AEE439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0B789-5143-4DA5-8080-A6A7DEA1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6D026-08AA-491E-80C4-5C92C7CB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28C88-B070-4070-AB9A-E7328C39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D632D-6567-45F7-AC08-97D87461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CBBD7-1CD5-4D25-A09E-B38B6AA2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0CD08-4F6F-4AB8-9C35-731FDC48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5FB35-CB04-4D85-A075-65EEB64E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F3EF5-125A-40D7-A4E8-53F865E3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45E52-0FEA-489E-8842-C2992988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9D977-CEC9-47B3-892E-B5639229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706-153E-4768-80D5-9EDAD64E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A8D01-3F0C-4A32-AD45-0576563F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A19A6-EEA5-401F-9A01-0E88BFC3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C8D57-A192-492A-ACFE-B9E548C3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57FF0-C45D-4851-871D-D77C754D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C29CE-C960-4111-BA92-DCBC735E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4AEC2-305C-4E33-ADD9-6AC7AD29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5B9A4-3D42-4CBD-BA92-ADB402A1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783CA-BE0B-41C6-9D16-C0B7B222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DF68C-BD9D-4B4E-BD7D-9D06D754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C0928-B428-43B2-957B-97407716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01D3-5C19-4122-AE40-60844763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913C1-2142-4413-9BD0-740CF209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B3A54-7581-4BA8-9881-49146774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DEF5A-B66F-4C2E-AFE3-E66A3955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9423B-FA88-4554-82C8-A2BCA829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78291-7BF9-480C-8F8F-61793C7C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D4A56-DCFB-4369-86C0-55A544C9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7E8D2-0CF7-4B4A-966D-6282FE51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5441D-62EE-41DE-9147-2431937E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1ACC9-3838-4F94-B0C7-FB6C74C7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B5F04-877E-4693-A4AF-DC11882B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5FB2-7964-4588-B30D-2E7EE123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5B0A3-AEC2-49C8-BA32-EB494304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69465-093F-45F7-AE5A-DDF31278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3857F-DD66-491B-A0E2-26560CD9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EC815-D6D1-4743-BEF2-6B023FF0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F4801-67A7-4307-ADAD-29B3F8EF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92131-BC68-4B78-A31A-0256D8F1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E7C0C-521D-4960-865C-24D1AAF3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0258D-D2DF-4F4F-9980-E8CE651F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F0D29-714F-450D-ACDF-04719BB2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6CEBC-748F-43EC-B0C1-B6228A75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2865-7A69-4E40-A3C9-E0CE78D3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4B3DF-1EF7-4594-BD6D-2E341C08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A477A-EF8F-4842-89E7-FE987CF6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AEC3B-0DCC-4BE9-8275-FB1EABBF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D9729-27D8-42CC-A6F4-93497069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978C2-6A91-40E3-BB3F-E81467D7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36D4D-1BF9-4E9A-A2D8-62E7B895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D807A-87E1-4F97-A2B6-60B166B2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93339-F01B-4977-966F-7366540B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58313-30F1-4FA5-B06C-AF57E9B6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6F419-17C7-4D99-9B4F-CA67A87D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1EBC-E94E-4D9B-8BC7-28D7A906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C6241-AE2D-4C7F-A703-0A46A01A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99B6A-4632-4C9D-B378-5A7B9BBB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9C209-46B5-48BA-B5B0-8A7C0A5A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9A101-1E63-4A5B-923B-BB6617C8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22B45-5C50-4786-A1C1-027AF26E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03089-72BD-4499-B0CD-D62A8A32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27945-041E-4AAA-A501-1C9F8052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3ECA9-7136-48E8-87CF-67ED7FF3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16C20-7961-41C5-97E7-4D69AEAA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167B3-7C1C-40EA-998B-A6F7A82A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056E-4937-41B8-9DAF-0601A3B2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7139D-B1E4-45B1-9019-14C0E56A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52896-3629-4D87-AB0D-3C2B1DAB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7C4A75-FC28-4315-82E2-9D3CF353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973DF9-46BF-48AD-9878-B4802E03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FFFA40-0BAC-47F4-A8FA-504B62A7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01AA6B-353D-4AE0-A5F0-8CF43A2E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EA64C-1A67-4418-BFF0-4787F860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3EAEDC-9600-44AE-8E9A-83D8023F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8EE820-077C-472D-A8E9-30237FCB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BC3C0-4E8E-41D8-B45D-470F3FF3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CE53-F2F5-4A14-95B1-A2A19912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2C43A-073E-4CAA-A462-71EDE914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3554B-2C54-43D3-8F32-FD4514E8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CC319F-2F9C-45DE-B7BB-78F48EAF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C23A81-D532-45FA-91B7-033A59D6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075853-8F2F-474F-838A-167C43C2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C9F9AA-BD7D-4F96-A64E-6930F25A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2BF47-F64F-4DAF-A2FD-72435AAD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91C6F-6706-4284-A252-2CBB4DF2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CC33E-B205-4239-940F-19E039D7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7C097-8476-4D77-AB4B-D68A5967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0750-9AAB-432B-8A63-307A29DB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1B1AA-B35C-4DD5-9CB5-8CA9A825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7DAFDD-0DEB-455B-A252-CEDC626F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5337BF-14B3-4A2C-82FD-4FA85657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947B1B-D1CD-4A99-AAC6-212DFEFC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DA3867-D4AE-4189-9FAC-2D536513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67E64F-10D7-4FC3-BFEF-9053BA14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671A7D-F258-4BE8-969A-04FC14AC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4C1361-00C1-4785-8B1A-61DE9961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170135-3F74-4006-9782-C0E778D3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53B2CF-41E5-4AC3-95F1-F33D47A5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1FF-FDAF-474E-9F62-FBE125A5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81DB-EDD5-47F6-85B4-2256F086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617C65-26E1-4BCE-B4F3-921697C3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F77F9B-416E-4B42-8CA6-43D755A3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D9C72B-5EEB-47AA-91D1-211B99F8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15435-1C64-4896-A2B0-725A2A16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B1025-9B70-45F4-8B4C-D14A7CE8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81B1-4396-427E-B3C8-12D0BA7A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CF13-0708-47CC-81D9-B10F02C6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D630-6FAC-498F-886C-863E8BF3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07DE-09CC-414F-BF2C-A1EBD51E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49B79-68D4-4A3D-A321-3C4C126D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29C4-38D0-4E04-B188-E61ABA7C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5316-0882-4E8B-8BF7-67CC79A9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BCA7F-E34A-46AF-AE09-9BBFB542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47B35-1059-401A-87BC-304E2239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CAC-6600-490C-8775-36AD3C58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67514-BB45-49FC-9975-546359FA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2C068-DF64-4F1C-BECE-59879C8B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6ACF9-FB86-4CEF-A641-B385AA39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FCF8-F071-466F-A5C6-0688BB7C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C1AC0-ACA7-45AB-BE59-98E659F4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FC0CF-7E92-42FE-BE19-F37CCEF1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33AC6-A010-48A6-AF61-FDE21388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A3D7B-B5D1-4355-B05C-F300091D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AFB7E-CA2B-4678-A33A-CE7CF03F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8088-6998-4402-B1B7-DB22227B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2C0-EC39-4F9C-B09A-66E347F7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71EFB-F83A-4DC2-857A-95357BE8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961C0-AE53-43A9-AD51-DDC2815C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99804-B397-41E0-9F6C-1C02F794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53182-50F1-4F56-94DF-329E0F8D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6A20A-D017-4538-8582-6F6E6B78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AD3CC-A833-404C-AB13-7F31DE85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FE4B1-62EE-4FD6-930F-8336A17E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01688-726B-4AC8-8796-1608F5E0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1E6CE-6C23-4E54-974F-BBC6435B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3EEC0-35A7-4817-A7E0-CBD7E88E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2C0-EAC8-4D8C-A880-41A09FDC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1B849-375A-413A-B1E6-A3FD86E3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FB04C-7003-48B0-A058-21194C70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76A1F-53D7-45A4-81C6-FA9C99B8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ECAD1-6C32-4987-AA02-4D5415E3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F6B39-893C-4898-8469-E8998075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ED9FE-E5CD-4B7C-BC38-7747328C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B2328-4F60-4190-AC50-6B96F10B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0A4EC-2A0F-4314-ADC9-48E8103A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95FA5-97EB-498B-80C8-48FCC312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BFF0A-476F-439D-A984-817F1616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51F-1E90-4E6D-BB4A-65D04175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32B50-2D50-4887-B0D5-C7F36749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BA6F8-7A76-40D2-AC8A-FAAC7D82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8CBBB-42EE-42BD-A90C-9E73502D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DFC60-63A0-4FD2-8594-B6EF0E23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F5A53-DBEB-484C-B13D-D93FB268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97C73-4B73-4A8A-BC8A-97C56FEB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27600-8F50-4AA8-95C7-B63B62E8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04756-D627-46F7-9F28-E9F59A90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7D86A-A7B9-4C28-8B09-37853D70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F9B7A-B8FB-47BA-AD3E-DB7B18E9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FE5-1CCF-443F-A747-BDB80696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9F808-4B98-4F9E-8D7E-199B3A05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C7480-6344-4BDE-989B-14D7D097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C3261-D26C-4DA4-B396-712FB33C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53370-9E0B-42C2-8292-D33EDE6B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9CB67-E3A3-4812-82E1-DE8368D9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41669-1BFF-4189-BB9A-C55872C1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09828-9505-45EB-92A6-77876662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21FE9-AF30-419F-90CF-F42753AC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33A70-05D3-4E2A-85AF-BF437B2E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D957A-ECF0-4C2B-ABBA-4213FC43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457-37AE-42CC-80DA-EB1F81C4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9292F-E2CC-41CA-850C-BE5423E2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10449-0D5B-4372-B2A0-F31527AF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AA84E-ED00-49C1-8900-8B466131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01DFF-E12E-49DE-9990-2A400514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FC661-3B25-478E-B505-E75E2546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C3DBC-BC60-4CCE-9D68-03C501D7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939F8-AB8C-47E2-A27B-7616E659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71B79-8069-47DE-AB04-C6EC712E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E35A4-86BC-4457-B496-B1DAFACE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7F756-3D1F-4075-B3D3-270050A9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A08-6E6C-4678-ABB0-3B080B4C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D77C9-917C-407A-8EF1-2A918AD7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849E8-25F8-4B0A-945B-86A45D9C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AB840-A6A4-49FF-BA4A-CD568EF3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91CEE-0D51-4CCF-A3C9-419DC008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EAFAC-FEA7-492C-95A9-F4CD5F62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6416F-1EC3-485E-A098-5F987251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02357-F3B9-4AF2-8C19-EE3130DE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413A5-5858-44C4-A089-BA6C1AA8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D9470-1CA1-4FC0-ACB7-5B01EDCE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4BC0F-323E-45DB-A6E4-638604A7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FE7F-51BE-4873-BA7F-3CB664BDC57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2D9B-BE1B-4B1B-9D5E-09E12B6C2F5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14A9-6B0D-4AAF-AB9F-889662519A3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2B43-23E3-463A-A1AC-050786E8762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D868-CF30-47CC-B6A5-ED530CFDC39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9936-3AFF-4B99-AE5E-B5D8D2E7567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DF2E-7C0D-4B43-A253-6A4CF949A96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0D9F-88CE-490B-99F1-45222D173D9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9D1B-24C4-4B1D-9419-6E92B018750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C02A-EE2D-4E89-A7AD-F93C3A505C3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80F2-E901-49AD-A9B2-89A90258287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8298-486D-404F-B9AE-C638E664973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7E5B-5E0B-430E-9D99-CD6006EF322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4F05-F871-4B7F-8939-009BBBB04EF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05EB-BA42-4501-97B6-F01642FDAB0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698B-E4B8-483C-BF38-0523F25520A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C522-C748-4836-A4D4-DA725C4C7D7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10"/>
          <p:cNvSpPr/>
          <p:nvPr/>
        </p:nvSpPr>
        <p:spPr>
          <a:xfrm>
            <a:off x="684360" y="765000"/>
            <a:ext cx="813744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21808"/>
                </a:solidFill>
                <a:latin typeface="Times New Roman"/>
                <a:ea typeface="Times New Roman"/>
              </a:rPr>
              <a:t>Методическое объединение  №3</a:t>
            </a:r>
            <a:r>
              <a:rPr b="1" i="1" lang="ru-RU" sz="3600" spc="-1" strike="noStrike">
                <a:solidFill>
                  <a:srgbClr val="521808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нновационные педагогические технологии и цифровые инструменты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21808"/>
                </a:solidFill>
                <a:latin typeface="Times New Roman"/>
                <a:ea typeface="Times New Roman"/>
              </a:rPr>
              <a:t>24 марта 2022 го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7" name="Picture 12" descr="http://tbn0.google.com/images?q=tbn:FZDYl34h5YpXrM:http://www.treningi.ru/private/treningi/images_load/1/9.jpg"/>
          <p:cNvPicPr/>
          <p:nvPr/>
        </p:nvPicPr>
        <p:blipFill>
          <a:blip r:embed="rId1"/>
          <a:stretch/>
        </p:blipFill>
        <p:spPr>
          <a:xfrm>
            <a:off x="395280" y="5329080"/>
            <a:ext cx="1955880" cy="144648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0" descr="http://tbn0.google.com/images?q=tbn:2SNg-Dh6eyT7hM:http://www.npstoik.ru/vio/img/article/114_pic_04_13_02.jpg"/>
          <p:cNvPicPr/>
          <p:nvPr/>
        </p:nvPicPr>
        <p:blipFill>
          <a:blip r:embed="rId2"/>
          <a:stretch/>
        </p:blipFill>
        <p:spPr>
          <a:xfrm>
            <a:off x="6505560" y="5329080"/>
            <a:ext cx="2168640" cy="144648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17" descr="http://im4-tub-ru.yandex.net/i?id=127251397-31-72&amp;n=21"/>
          <p:cNvPicPr/>
          <p:nvPr/>
        </p:nvPicPr>
        <p:blipFill>
          <a:blip r:embed="rId3"/>
          <a:srcRect l="3723" t="10003" r="2990" b="14991"/>
          <a:stretch/>
        </p:blipFill>
        <p:spPr>
          <a:xfrm>
            <a:off x="3276720" y="5329080"/>
            <a:ext cx="2006640" cy="1471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32120" y="754200"/>
            <a:ext cx="658944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ка к ВсОШ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022 – 2023 уч. год 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931760" y="2636640"/>
            <a:ext cx="65926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заданий ШЭ ВсОШ в августе на МО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лимпиада по Русскому языку)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1" name="Номер слайда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D97D-7F74-4DF1-9CBD-462DCD7042F4}" type="slidenum">
              <a:rPr b="1" lang="ru-RU" sz="2000" spc="-1" strike="noStrike">
                <a:solidFill>
                  <a:srgbClr val="feffff"/>
                </a:solidFill>
                <a:latin typeface="Arial"/>
                <a:ea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Calibri"/>
              </a:rPr>
              <a:t>Отчёт за 2021 – 2022 уч.</a:t>
            </a:r>
            <a:r>
              <a:rPr b="1" lang="en-US" sz="3600" spc="-1" strike="noStrike">
                <a:solidFill>
                  <a:srgbClr val="262626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Calibri"/>
              </a:rPr>
              <a:t>год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дать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20 мая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слать на электронную почту: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yablokova.nadezhda2014@yandex.ru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Номер слайда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C279-1E77-47B6-8B0F-E6D54105BC7A}" type="slidenum">
              <a:rPr b="1" lang="ru-RU" sz="2000" spc="-1" strike="noStrike">
                <a:solidFill>
                  <a:srgbClr val="feffff"/>
                </a:solidFill>
                <a:latin typeface="Arial"/>
                <a:ea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63840" y="2204640"/>
            <a:ext cx="65894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F1F6-3D10-41AE-9BF7-F7C3AAD6BC92}" type="slidenum">
              <a:rPr b="1" lang="ru-RU" sz="2000" spc="-1" strike="noStrike">
                <a:solidFill>
                  <a:srgbClr val="feffff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9040" y="1413000"/>
            <a:ext cx="658980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: рассмотреть сущность и пути использования образовательных технологий в современной начальной школе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99AC-4154-4468-BF0F-5DDFB9F76306}" type="slidenum">
              <a:rPr b="1" lang="ru-RU" sz="2000" spc="-1" strike="noStrike">
                <a:solidFill>
                  <a:srgbClr val="feffff"/>
                </a:solidFill>
                <a:latin typeface="Arial"/>
                <a:ea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490400" y="293760"/>
            <a:ext cx="70578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21808"/>
                </a:solidFill>
                <a:latin typeface="Times New Roman"/>
                <a:ea typeface="Times New Roman"/>
              </a:rPr>
              <a:t>План работы: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F1A6-4201-4C98-AF1A-94BE3CAA57C5}" type="slidenum">
              <a:rPr b="1" lang="ru-RU" sz="2000" spc="-1" strike="noStrike">
                <a:solidFill>
                  <a:srgbClr val="feffff"/>
                </a:solidFill>
                <a:latin typeface="Arial"/>
                <a:ea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Прямоугольник 4"/>
          <p:cNvSpPr/>
          <p:nvPr/>
        </p:nvSpPr>
        <p:spPr>
          <a:xfrm>
            <a:off x="1187280" y="981000"/>
            <a:ext cx="743904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ые педагогические технологии и цифровые инструмент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чёт по методическим темам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функциональной грамотности – основное направление работы МО в 2022 – 2023 учебном году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экспертных комиссий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ка к ВсОШ 2022 – 2023 уч.год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чёт за 2021 – 2022 уч.год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213840" y="99972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нятие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инновация“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ереводе с латинского языка означает “обновление, новшество или изменение“. 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6" name="Picture 7" descr="http://dl9.glitter-graphics.net/pub/619/619589ga2upyu3st.gif"/>
          <p:cNvPicPr/>
          <p:nvPr/>
        </p:nvPicPr>
        <p:blipFill>
          <a:blip r:embed="rId1"/>
          <a:stretch/>
        </p:blipFill>
        <p:spPr>
          <a:xfrm>
            <a:off x="457200" y="4363920"/>
            <a:ext cx="1792440" cy="2159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1"/>
          <p:cNvSpPr/>
          <p:nvPr/>
        </p:nvSpPr>
        <p:spPr>
          <a:xfrm>
            <a:off x="714240" y="876600"/>
            <a:ext cx="7871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SimSun"/>
              </a:rPr>
              <a:t>Педагогическая инновац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— это нововведение в области педагогики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целенаправленное прогрессивно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изменение, вносящее в образовательную среду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стабильные элемен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(новшества)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улучшающие характеристи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, как отдельных ее компонентов, так и само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образовательной систем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в целом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Picture 3" descr="http://im8-tub-ru.yandex.net/i?id=130116505-36-72&amp;n=21"/>
          <p:cNvPicPr/>
          <p:nvPr/>
        </p:nvPicPr>
        <p:blipFill>
          <a:blip r:embed="rId1"/>
          <a:stretch/>
        </p:blipFill>
        <p:spPr>
          <a:xfrm>
            <a:off x="4000680" y="5072040"/>
            <a:ext cx="16477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Picture 2" descr="http://im5-tub-ru.yandex.net/i?id=334362625-13-72&amp;n=21"/>
          <p:cNvPicPr/>
          <p:nvPr/>
        </p:nvPicPr>
        <p:blipFill>
          <a:blip r:embed="rId1"/>
          <a:stretch/>
        </p:blipFill>
        <p:spPr>
          <a:xfrm>
            <a:off x="428760" y="1214280"/>
            <a:ext cx="2428920" cy="2846520"/>
          </a:xfrm>
          <a:prstGeom prst="rect">
            <a:avLst/>
          </a:prstGeom>
          <a:ln w="0">
            <a:noFill/>
          </a:ln>
        </p:spPr>
      </p:pic>
      <p:sp>
        <p:nvSpPr>
          <p:cNvPr id="1190" name="Rectangle 3"/>
          <p:cNvSpPr/>
          <p:nvPr/>
        </p:nvSpPr>
        <p:spPr>
          <a:xfrm>
            <a:off x="3000240" y="947880"/>
            <a:ext cx="5715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первый план выходит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лич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ученика, готовность его к самостоятельной деятельности по сбору, обработке, анализу и организации информации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мение принимать решения и доводить их до исполне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763280" y="78696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тчёт по методическим темам</a:t>
            </a:r>
            <a:br>
              <a:rPr sz="4400"/>
            </a:b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еспечение эффективности методической работы для совершенствования профессиональной компетентности и повышения уровня квалификации педагогов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5E46-CA11-4D98-B27E-356DDEE6F239}" type="slidenum">
              <a:rPr b="1" lang="ru-RU" sz="2000" spc="-1" strike="noStrike">
                <a:solidFill>
                  <a:srgbClr val="feffff"/>
                </a:solidFill>
                <a:latin typeface="Arial"/>
                <a:ea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16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a1f0d"/>
                </a:solidFill>
                <a:latin typeface="Times New Roman"/>
                <a:ea typeface="Calibri"/>
              </a:rPr>
              <a:t>Формирование функциональной грамотности – основное направление работы МО в 2022 – 2023 учебном году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611280" y="198900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ректировать методические темы в 2022 – 2023 году с учётом этого направления к МО в августе 2022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 для самообразования (ссылки на ресурсы по ФГ размещены на сайтах ММЦ и ИРО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банком заданий по формированию ФГ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диагностическая работа по оценке функциональной грамотности обучающихся, освоивших образовательную программу начального общего образования (естественнонаучная грамотность, 4 класс, в течение 2022)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5" name="Номер слайда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AAAF-D4C3-4529-833F-CF2A2351B9A9}" type="slidenum">
              <a:rPr b="1" lang="ru-RU" sz="2000" spc="-1" strike="noStrike">
                <a:solidFill>
                  <a:srgbClr val="feffff"/>
                </a:solidFill>
                <a:latin typeface="Arial"/>
                <a:ea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Calibri"/>
              </a:rPr>
              <a:t>Формирование экспертных комиссий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a1f0d"/>
                </a:solidFill>
                <a:latin typeface="Times New Roman"/>
                <a:ea typeface="Times New Roman"/>
              </a:rPr>
              <a:t>на муниципальную учебно-исследовательскую конференцию школьников на предметные и межпредметные секции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a1f0d"/>
                </a:solidFill>
                <a:latin typeface="Times New Roman"/>
                <a:ea typeface="Times New Roman"/>
              </a:rPr>
              <a:t>29 апреля 2022 год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a1f0d"/>
                </a:solidFill>
                <a:latin typeface="Times New Roman"/>
                <a:ea typeface="Times New Roman"/>
              </a:rPr>
              <a:t>на базе МОУ СОШ № 8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8" name="Номер слайда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BC19-08E5-4362-A52A-EDDB87C434F7}" type="slidenum">
              <a:rPr b="1" lang="ru-RU" sz="2000" spc="-1" strike="noStrike">
                <a:solidFill>
                  <a:srgbClr val="feffff"/>
                </a:solidFill>
                <a:latin typeface="Arial"/>
                <a:ea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4:42:44Z</dcterms:created>
  <dc:creator>Admin</dc:creator>
  <dc:description/>
  <dc:language>en-US</dc:language>
  <cp:lastModifiedBy>User</cp:lastModifiedBy>
  <dcterms:modified xsi:type="dcterms:W3CDTF">2022-03-23T18:30:40Z</dcterms:modified>
  <cp:revision>180</cp:revision>
  <dc:subject/>
  <dc:title>Слайд 1</dc:title>
</cp:coreProperties>
</file>