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52.png" ContentType="image/png"/>
  <Override PartName="/ppt/media/image3.jpeg" ContentType="image/jpeg"/>
  <Override PartName="/ppt/media/image30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36.png" ContentType="image/png"/>
  <Override PartName="/ppt/media/image18.png" ContentType="image/png"/>
  <Override PartName="/ppt/media/image35.png" ContentType="image/png"/>
  <Override PartName="/ppt/media/image32.jpeg" ContentType="image/jpeg"/>
  <Override PartName="/ppt/media/image43.png" ContentType="image/png"/>
  <Override PartName="/ppt/media/image53.jpeg" ContentType="image/jpeg"/>
  <Override PartName="/ppt/media/image46.png" ContentType="image/png"/>
  <Override PartName="/ppt/media/image41.png" ContentType="image/png"/>
  <Override PartName="/ppt/media/image48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55.jpeg" ContentType="image/jpeg"/>
  <Override PartName="/ppt/media/image56.png" ContentType="image/png"/>
  <Override PartName="/ppt/media/image45.png" ContentType="image/png"/>
  <Override PartName="/ppt/media/image33.jpeg" ContentType="image/jpeg"/>
  <Override PartName="/ppt/media/image57.png" ContentType="image/png"/>
  <Override PartName="/ppt/media/image37.png" ContentType="image/png"/>
  <Override PartName="/ppt/media/image34.jpeg" ContentType="image/jpeg"/>
  <Override PartName="/ppt/media/image31.png" ContentType="image/png"/>
  <Override PartName="/ppt/media/image11.jpeg" ContentType="image/jpeg"/>
  <Override PartName="/ppt/media/image9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B1F-C1A2-491C-AB03-0CB28C95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A2F-E8AF-47F6-B6CF-1BDF514C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DD6-7FFD-4BDD-B073-6F249783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7BD-0BBA-41CB-ADCD-7A05F856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50F-8F24-400F-8A1B-524C0BB1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7B5-E388-413B-AD1B-60FA502A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796-BD43-41B8-8CFC-C0FADD11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CB9-1253-41CD-A3F2-67FC71DB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2F4-D0A5-44BD-90EF-2F6A287B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032-D0F0-499A-8D19-FD7B784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6B7-414F-4BBF-9023-A614405A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7D0-36FD-4720-9786-2EB2A2BE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4F36-3C50-472D-8321-15585DABA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9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50000">
              <a:srgbClr val="ff9933"/>
            </a:gs>
            <a:gs pos="100000">
              <a:srgbClr val="66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1052640"/>
            <a:ext cx="8280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343044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проект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73"/>
                </a:solidFill>
                <a:latin typeface="Times New Roman"/>
              </a:rPr>
              <a:t>учащихся школы-интерната №6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64000" y="5516640"/>
            <a:ext cx="4681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</a:rPr>
              <a:t>2008-2009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</a:rPr>
              <a:t>Руководитель: учитель химии Варламова А.В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541440" y="907920"/>
            <a:ext cx="797724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Химические термины в ребу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Times New Roman"/>
              </a:rPr>
              <a:t>Придумываем с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861080" y="1989000"/>
            <a:ext cx="3456000" cy="2597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448240" y="479736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К = 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384720" cy="26211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5" descr=""/>
          <p:cNvPicPr/>
          <p:nvPr/>
        </p:nvPicPr>
        <p:blipFill>
          <a:blip r:embed="rId3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8c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2386080" cy="2454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2089080" cy="2433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2627640" cy="21826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0" y="1413000"/>
            <a:ext cx="6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484360" y="1413000"/>
            <a:ext cx="5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95280" y="544500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 = 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932360" y="4005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8423280" y="393372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10" descr=""/>
          <p:cNvPicPr/>
          <p:nvPr/>
        </p:nvPicPr>
        <p:blipFill>
          <a:blip r:embed="rId4"/>
          <a:stretch/>
        </p:blipFill>
        <p:spPr>
          <a:xfrm>
            <a:off x="560520" y="517680"/>
            <a:ext cx="9572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b4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19000" y="1955880"/>
            <a:ext cx="2130480" cy="3119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2916360" y="762120"/>
            <a:ext cx="100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816120" y="508968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Ы = 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5435640" y="51228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И = 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956720" y="641520"/>
            <a:ext cx="14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8" descr=""/>
          <p:cNvPicPr/>
          <p:nvPr/>
        </p:nvPicPr>
        <p:blipFill>
          <a:blip r:embed="rId2"/>
          <a:stretch/>
        </p:blipFill>
        <p:spPr>
          <a:xfrm>
            <a:off x="585720" y="517680"/>
            <a:ext cx="914400" cy="927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3"/>
          <a:srcRect l="16384" t="0" r="0" b="14519"/>
          <a:stretch/>
        </p:blipFill>
        <p:spPr>
          <a:xfrm>
            <a:off x="4040280" y="2206800"/>
            <a:ext cx="42130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ef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042920" y="26305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3619440" cy="3229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042920" y="157788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1  2  4  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5" descr=""/>
          <p:cNvPicPr/>
          <p:nvPr/>
        </p:nvPicPr>
        <p:blipFill>
          <a:blip r:embed="rId3"/>
          <a:stretch/>
        </p:blipFill>
        <p:spPr>
          <a:xfrm>
            <a:off x="208080" y="115920"/>
            <a:ext cx="95076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be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248000" cy="2643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19280" y="47973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Л = 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5" descr=""/>
          <p:cNvPicPr/>
          <p:nvPr/>
        </p:nvPicPr>
        <p:blipFill>
          <a:blip r:embed="rId3"/>
          <a:stretch/>
        </p:blipFill>
        <p:spPr>
          <a:xfrm>
            <a:off x="560520" y="517680"/>
            <a:ext cx="9572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763560" y="213372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765520" y="1355760"/>
            <a:ext cx="24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rcRect l="0" t="0" r="-4904" b="14290"/>
          <a:stretch/>
        </p:blipFill>
        <p:spPr>
          <a:xfrm>
            <a:off x="3305160" y="1752480"/>
            <a:ext cx="1523880" cy="1676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3048120" y="1523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724280" y="1295280"/>
            <a:ext cx="46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068800" y="2263680"/>
            <a:ext cx="11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0"/>
          <p:cNvSpPr txBox="1"/>
          <p:nvPr/>
        </p:nvSpPr>
        <p:spPr>
          <a:xfrm>
            <a:off x="2057400" y="4191120"/>
            <a:ext cx="1143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3"/>
          <a:stretch/>
        </p:blipFill>
        <p:spPr>
          <a:xfrm>
            <a:off x="3733920" y="4191120"/>
            <a:ext cx="198108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2" descr=""/>
          <p:cNvPicPr/>
          <p:nvPr/>
        </p:nvPicPr>
        <p:blipFill>
          <a:blip r:embed="rId4"/>
          <a:stretch/>
        </p:blipFill>
        <p:spPr>
          <a:xfrm>
            <a:off x="146160" y="0"/>
            <a:ext cx="95724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58800" y="1370160"/>
            <a:ext cx="2666880" cy="2144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368360" y="360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=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4716360" y="1555920"/>
            <a:ext cx="2667240" cy="22478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886200" y="4572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2209680" y="5257800"/>
            <a:ext cx="1371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Прямоугольник 11" descr=""/>
          <p:cNvPicPr/>
          <p:nvPr/>
        </p:nvPicPr>
        <p:blipFill>
          <a:blip r:embed="rId3"/>
          <a:stretch/>
        </p:blipFill>
        <p:spPr>
          <a:xfrm>
            <a:off x="23760" y="-30240"/>
            <a:ext cx="9511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efe"/>
            </a:gs>
            <a:gs pos="100000">
              <a:srgbClr val="f4f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2" descr=""/>
          <p:cNvPicPr/>
          <p:nvPr/>
        </p:nvPicPr>
        <p:blipFill>
          <a:blip r:embed="rId1"/>
          <a:stretch/>
        </p:blipFill>
        <p:spPr>
          <a:xfrm>
            <a:off x="22320" y="2205000"/>
            <a:ext cx="9099360" cy="318456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" descr=""/>
          <p:cNvPicPr/>
          <p:nvPr/>
        </p:nvPicPr>
        <p:blipFill>
          <a:blip r:embed="rId2"/>
          <a:stretch/>
        </p:blipFill>
        <p:spPr>
          <a:xfrm>
            <a:off x="469800" y="189000"/>
            <a:ext cx="9511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516720" y="2924280"/>
            <a:ext cx="1511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2060640"/>
            <a:ext cx="2158920" cy="2016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050920" y="1341360"/>
            <a:ext cx="10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841400" cy="1297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4284720" y="1700280"/>
            <a:ext cx="43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443640" y="29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3,1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66764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8207280" y="256536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3"/>
          <a:stretch/>
        </p:blipFill>
        <p:spPr>
          <a:xfrm>
            <a:off x="4788000" y="2492280"/>
            <a:ext cx="1625400" cy="11811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6372360" y="170028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20" descr=""/>
          <p:cNvPicPr/>
          <p:nvPr/>
        </p:nvPicPr>
        <p:blipFill>
          <a:blip r:embed="rId4"/>
          <a:stretch/>
        </p:blipFill>
        <p:spPr>
          <a:xfrm>
            <a:off x="23760" y="-30240"/>
            <a:ext cx="9511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109440" y="42840"/>
            <a:ext cx="878544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fb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1619280" y="1341360"/>
            <a:ext cx="12970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D-RW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780000" y="119700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816360" cy="2232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4500720" y="1197000"/>
            <a:ext cx="64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040200" y="6040440"/>
            <a:ext cx="50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042920" y="2060640"/>
            <a:ext cx="2735280" cy="252072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1332000" y="2205000"/>
            <a:ext cx="2087640" cy="2087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3"/>
          <p:cNvSpPr txBox="1"/>
          <p:nvPr/>
        </p:nvSpPr>
        <p:spPr>
          <a:xfrm>
            <a:off x="1690560" y="2781360"/>
            <a:ext cx="1217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Хит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3" name="Прямоугольник 10" descr=""/>
          <p:cNvPicPr/>
          <p:nvPr/>
        </p:nvPicPr>
        <p:blipFill>
          <a:blip r:embed="rId2"/>
          <a:stretch/>
        </p:blipFill>
        <p:spPr>
          <a:xfrm>
            <a:off x="262080" y="-12600"/>
            <a:ext cx="5731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50720" y="249228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751360" y="1949400"/>
            <a:ext cx="2322720" cy="3730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801880" y="2381400"/>
            <a:ext cx="2197080" cy="2962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06200" y="170028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8034480" y="11160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859280" y="134604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8201160" y="285264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 rot="20901600">
            <a:off x="7019640" y="5660640"/>
            <a:ext cx="216000" cy="1081080"/>
          </a:xfrm>
          <a:prstGeom prst="up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1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60200" y="2003400"/>
            <a:ext cx="2532240" cy="266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2916360" y="2235240"/>
            <a:ext cx="2735280" cy="23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6049800" y="1916280"/>
            <a:ext cx="2524320" cy="3259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2711520" y="96372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424480" y="1187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439480" y="9097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8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60440" y="2413080"/>
            <a:ext cx="2527200" cy="216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3174840" y="2398680"/>
            <a:ext cx="2181240" cy="219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6359400" y="2060640"/>
            <a:ext cx="2592360" cy="2736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87560" y="1406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174840" y="4597560"/>
            <a:ext cx="23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К=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948360" y="5157720"/>
            <a:ext cx="194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=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Й=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H="1">
            <a:off x="6648480" y="51004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457960" y="3068640"/>
            <a:ext cx="93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10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99880" y="2387520"/>
            <a:ext cx="2347920" cy="3033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2852640" y="2441520"/>
            <a:ext cx="2951280" cy="2924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6156360" y="2355840"/>
            <a:ext cx="2577960" cy="3240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5531040" y="1442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486160" y="132876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8771040" y="138096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767640" y="573264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=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9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2735280" cy="217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6877080" y="2205000"/>
            <a:ext cx="2063880" cy="3600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2268360" y="1989000"/>
            <a:ext cx="10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0"/>
          <p:cNvSpPr/>
          <p:nvPr/>
        </p:nvSpPr>
        <p:spPr>
          <a:xfrm>
            <a:off x="2700360" y="3716280"/>
            <a:ext cx="115092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987640" y="407664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708360" y="1989000"/>
            <a:ext cx="7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755640" y="57340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=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0" descr=""/>
          <p:cNvPicPr/>
          <p:nvPr/>
        </p:nvPicPr>
        <p:blipFill>
          <a:blip r:embed="rId4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468360" y="275580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608360" cy="345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684360" y="5589720"/>
            <a:ext cx="24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М=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637080" y="1268280"/>
            <a:ext cx="4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6" descr=""/>
          <p:cNvPicPr/>
          <p:nvPr/>
        </p:nvPicPr>
        <p:blipFill>
          <a:blip r:embed="rId3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4092480" y="1909800"/>
            <a:ext cx="2052720" cy="2530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659640" y="307188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7640" y="1341360"/>
            <a:ext cx="15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959280" y="5011560"/>
            <a:ext cx="158436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2 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 flipV="1">
            <a:off x="3289320" y="4003560"/>
            <a:ext cx="5745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V="1">
            <a:off x="5724360" y="4508280"/>
            <a:ext cx="93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9" descr=""/>
          <p:cNvPicPr/>
          <p:nvPr/>
        </p:nvPicPr>
        <p:blipFill>
          <a:blip r:embed="rId3"/>
          <a:stretch/>
        </p:blipFill>
        <p:spPr>
          <a:xfrm>
            <a:off x="755640" y="517680"/>
            <a:ext cx="56664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ла</dc:creator>
  <dc:description/>
  <dc:language>en-US</dc:language>
  <cp:lastModifiedBy>Алла</cp:lastModifiedBy>
  <dcterms:modified xsi:type="dcterms:W3CDTF">2022-11-13T17:20:13Z</dcterms:modified>
  <cp:revision>18</cp:revision>
  <dc:subject/>
  <dc:title>PowerPoint Presentation</dc:title>
</cp:coreProperties>
</file>