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548-D2AF-4F0F-9E5B-62F3100A6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00A6-6CB3-410B-B8C7-10A385DCC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B5FA-CF88-40D6-BDAA-21E4CD8F7E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B40-0137-40C4-927D-1E9886092B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6D8-4C09-41D9-A6B5-5C81087247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730-B3D0-4C2D-8A3A-538836500F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5ED-7162-4B5F-B58E-C1C27DE9E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416F-24E2-4AD3-8CDB-4D8960AC0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A96A-4303-49CB-8298-C4499D67E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F4C-00E5-4192-9D5F-ECBC6F3E46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77B-9618-4DBE-97ED-CE1EB587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286-35B1-418D-AE53-2033E52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85E-7739-4EAF-8F2A-14868CF4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D38-3E21-4328-8228-D54BCBD7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491-0B5C-47FD-B05A-238D3A74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D04-BF19-4B96-9D77-FC5F051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A34-229F-4A05-A5D5-E524680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4EF-43D2-4696-B3D4-D27A887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4CB-1BEE-453A-A6D8-8C5DF056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DE3-605A-4B6C-B383-F87A9F0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8BC-41AA-4083-9625-48D6F66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F24-3459-4790-B33A-4CD9B6D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041-FCAA-4B31-A5FF-5FCD2299E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993600"/>
            <a:ext cx="8302320" cy="3090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929120" y="3643200"/>
            <a:ext cx="3929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Автор: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Кащенко Анастасия Викторовна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4 а класс  МАОУ СОШ №2 им. И.И.Тарасенко                                                                                                        Выселковский район, станица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Научный 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Булгакова  Людмила Александровн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МАОУ СОШ № 2 им. И.И.Тарас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286080" y="578628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85880" y="785880"/>
            <a:ext cx="414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596880" y="463680"/>
            <a:ext cx="3487680" cy="706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428840" y="1500120"/>
            <a:ext cx="664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На примере жизни и подвига Героя Советского Союза Владимира Степановича Стрижака показать героизм, любовь к Родине, стойкость и мужество наше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Подготовить презентацию «Я помню, я горжусь …» и в преддверии годовщины Победы выступить перед учениками начальных классов мое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Заинтересовать моих сверстников  в изучении прошлого нашей Родины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857760" y="585792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585720" y="324000"/>
            <a:ext cx="2260800" cy="706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928800" y="1098000"/>
            <a:ext cx="7929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изучить и систематизировать документальные источники, архивные материалы о В.С. Стрижа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ообщаться с жителями нашей станицы, которые помнят нашего земляка - геро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знать больше о героических людях нашей станицы и определить роль В.С. Стрижака в Великой отечественной вой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ивлечь внимание моих одноклассников, сверстников к изучению исторического прошлого нашей малой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частвовать в сохранении исторического и культурного наслед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наш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96720"/>
            <a:ext cx="5540400" cy="706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357200" y="1444680"/>
            <a:ext cx="6786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зучение и анализ семейных фотографий, документальных  и архивных источ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чтение литературы;  работа с Интернет-ресур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воспоминания дочери Героя Советского Союза В.В. Стриж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нтервьюирование односельчан, лично знавших Владимира Степановича Стрижака.</a:t>
            </a: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523800" y="396720"/>
            <a:ext cx="2809800" cy="706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258920" y="1599480"/>
            <a:ext cx="710244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2804"/>
                </a:solidFill>
                <a:latin typeface="Arial"/>
                <a:ea typeface="Calibri"/>
              </a:rPr>
              <a:t>Человек сам может сделать свое имя бессмертным  не только  в сердцах близких и родных людей, но и вписать  его в историю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Стрижак В.С."/>
          <p:cNvPicPr/>
          <p:nvPr/>
        </p:nvPicPr>
        <p:blipFill>
          <a:blip r:embed="rId2"/>
          <a:stretch/>
        </p:blipFill>
        <p:spPr>
          <a:xfrm>
            <a:off x="857160" y="150012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517680" y="317520"/>
            <a:ext cx="8534160" cy="772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4000680" y="20718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Родился 11.11.19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Звание Героя Советского Союза присвоено 17.10.194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Умер 30.12.1983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70009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603360" y="176040"/>
            <a:ext cx="5748120" cy="708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2357280" y="4357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Всё видел Днепр, неся поток бурливый,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Топил врага и был преградой на пути.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Он проявлял характер свой строптивый,  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Для города защиты лучше не на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000160" y="1000080"/>
            <a:ext cx="535788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609480" y="176040"/>
            <a:ext cx="5346720" cy="708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9"/>
          <p:cNvSpPr/>
          <p:nvPr/>
        </p:nvSpPr>
        <p:spPr>
          <a:xfrm>
            <a:off x="2143080" y="450072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ошло почти 40 лет со дня смерти Владимира Степановича Стрижака, но память о нем жива и всегда будет в наших серд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4824360" cy="3000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421488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407196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2627280" y="1500120"/>
            <a:ext cx="453708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Наш дорогой земляк-сос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много одержал поб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нашу Родину спасал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И в страхе всех врагов держал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ранен был в бою не р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Мы знаем наизусть расск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О том, как танки ты подбил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В разведку как один ходи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Горды тобой мы, наш ге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за страну стоял го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Шагал ты в жизни славный путь.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Примером нам всегда ты буд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7" descr=""/>
          <p:cNvPicPr/>
          <p:nvPr/>
        </p:nvPicPr>
        <p:blipFill>
          <a:blip r:embed="rId2"/>
          <a:stretch/>
        </p:blipFill>
        <p:spPr>
          <a:xfrm>
            <a:off x="615960" y="176040"/>
            <a:ext cx="69008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1:58:33Z</dcterms:created>
  <dc:creator>Елена Кащенко</dc:creator>
  <dc:description/>
  <dc:language>en-US</dc:language>
  <cp:lastModifiedBy>Булгакова Людмила Александровна</cp:lastModifiedBy>
  <dcterms:modified xsi:type="dcterms:W3CDTF">2023-08-30T10:15:36Z</dcterms:modified>
  <cp:revision>53</cp:revision>
  <dc:subject/>
  <dc:title>Слайд 1</dc:title>
</cp:coreProperties>
</file>