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2E1F-529F-4DCC-959B-7BFCD49DDD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1997-A28C-472E-9EE3-5402BD3491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1B3F-DFB3-463A-94AE-076A022AA3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565C-5731-4711-8815-E0F6B57E33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2930-42C1-406F-818C-2EF7EAC5CC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3FC0-91C3-443E-B65F-C98CA1D4EB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D9AA-49AF-4540-B28E-686FE78344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B2FD-5ED7-404D-B8BE-A49A6DFF86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CAD5-8D98-4B80-A094-AF2A089486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E587-6428-4A47-9709-4B31602126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3EC-5457-489F-A516-BFC47F46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29C-63F7-4A62-B1FD-5C6516BC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011-E5FD-4614-BA5E-AE249017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3CE-C110-4E53-900B-D60A329C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889-B31F-4804-8180-0DDAB964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1B6-3DB0-4BBC-A6DC-134878F3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547-86E8-4A4F-AC58-22BEFF27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D85-47C4-4CDB-AB71-6DA9E3D4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BD8-EC61-48C1-AFD8-C0D69C97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A5B-39C9-4DE5-A278-021C37D0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0D9-0E80-4219-822B-BDFA9C63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9EE-4A02-4123-BF80-0A9943EF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C11D-A1C1-45E8-9EAE-C81C6589B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2"/>
          <a:stretch/>
        </p:blipFill>
        <p:spPr>
          <a:xfrm>
            <a:off x="560520" y="993600"/>
            <a:ext cx="8302320" cy="3090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4929120" y="3643200"/>
            <a:ext cx="3929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Автор: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Кащенко Анастасия Викторовна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4 а класс  МАОУ СОШ №2 им. И.И.Тарасенко                                                                                                        Выселковский район, станица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Научный 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Булгакова  Людмила Александровн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МАОУ СОШ № 2 им. И.И.Тарас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286080" y="578628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85880" y="785880"/>
            <a:ext cx="414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5" descr=""/>
          <p:cNvPicPr/>
          <p:nvPr/>
        </p:nvPicPr>
        <p:blipFill>
          <a:blip r:embed="rId2"/>
          <a:stretch/>
        </p:blipFill>
        <p:spPr>
          <a:xfrm>
            <a:off x="596880" y="463680"/>
            <a:ext cx="3487680" cy="706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1428840" y="1500120"/>
            <a:ext cx="664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На примере жизни и подвига Героя Советского Союза Владимира Степановича Стрижака показать героизм, любовь к Родине, стойкость и мужество нашего на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Подготовить презентацию «Я помню, я горжусь …» и в преддверии годовщины Победы выступить перед учениками начальных классов моей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Заинтересовать моих сверстников  в изучении прошлого нашей Родины</a:t>
            </a: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3857760" y="585792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585720" y="324000"/>
            <a:ext cx="2260800" cy="706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928800" y="1098000"/>
            <a:ext cx="7929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изучить и систематизировать документальные источники, архивные материалы о В.С. Стрижа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пообщаться с жителями нашей станицы, которые помнят нашего земляка - геро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узнать больше о героических людях нашей станицы и определить роль В.С. Стрижака в Великой отечественной вой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привлечь внимание моих одноклассников, сверстников к изучению исторического прошлого нашей малой род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участвовать в сохранении исторического и культурного наслед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наш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804"/>
                </a:solidFill>
                <a:latin typeface="Arial"/>
                <a:ea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804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783a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783a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536400" y="396720"/>
            <a:ext cx="5540400" cy="706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1357200" y="1444680"/>
            <a:ext cx="67867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изучение и анализ семейных фотографий, документальных  и архивных источ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чтение литературы;  работа с Интернет-ресурс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воспоминания дочери Героя Советского Союза В.В. Стриж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5428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2804"/>
                </a:solidFill>
                <a:latin typeface="Arial"/>
                <a:ea typeface="Calibri"/>
              </a:rPr>
              <a:t>интервьюирование односельчан, лично знавших Владимира Степановича Стрижака.</a:t>
            </a:r>
            <a:r>
              <a:rPr b="0" lang="ru-RU" sz="2000" spc="-1" strike="noStrike">
                <a:solidFill>
                  <a:srgbClr val="54280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3924360" y="580536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" descr=""/>
          <p:cNvPicPr/>
          <p:nvPr/>
        </p:nvPicPr>
        <p:blipFill>
          <a:blip r:embed="rId2"/>
          <a:stretch/>
        </p:blipFill>
        <p:spPr>
          <a:xfrm>
            <a:off x="523800" y="396720"/>
            <a:ext cx="2809800" cy="7066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1258920" y="1599480"/>
            <a:ext cx="710244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2804"/>
                </a:solidFill>
                <a:latin typeface="Arial"/>
                <a:ea typeface="Calibri"/>
              </a:rPr>
              <a:t>Человек сам может сделать свое имя бессмертным  не только  в сердцах близких и родных людей, но и вписать  его в историю нашей Род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3924360" y="580536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Стрижак В.С."/>
          <p:cNvPicPr/>
          <p:nvPr/>
        </p:nvPicPr>
        <p:blipFill>
          <a:blip r:embed="rId2"/>
          <a:stretch/>
        </p:blipFill>
        <p:spPr>
          <a:xfrm>
            <a:off x="857160" y="150012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6" descr=""/>
          <p:cNvPicPr/>
          <p:nvPr/>
        </p:nvPicPr>
        <p:blipFill>
          <a:blip r:embed="rId3"/>
          <a:stretch/>
        </p:blipFill>
        <p:spPr>
          <a:xfrm>
            <a:off x="517680" y="317520"/>
            <a:ext cx="8534160" cy="772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4000680" y="20718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2804"/>
                </a:solidFill>
                <a:latin typeface="Arial"/>
              </a:rPr>
              <a:t>Родился 11.11.19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2804"/>
                </a:solidFill>
                <a:latin typeface="Arial"/>
              </a:rPr>
              <a:t>Звание Героя Советского Союза присвоено 17.10.194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2804"/>
                </a:solidFill>
                <a:latin typeface="Arial"/>
              </a:rPr>
              <a:t>Умер 30.12.1983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4000680" y="58579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700092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2"/>
          <a:stretch/>
        </p:blipFill>
        <p:spPr>
          <a:xfrm>
            <a:off x="603360" y="176040"/>
            <a:ext cx="5748120" cy="708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2357280" y="4357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Всё видел Днепр, неся поток бурливый, </a:t>
            </a:r>
            <a:br>
              <a:rPr sz="1800"/>
            </a:b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Топил врага и был преградой на пути. </a:t>
            </a:r>
            <a:br>
              <a:rPr sz="1800"/>
            </a:b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Он проявлял характер свой строптивый,  </a:t>
            </a:r>
            <a:br>
              <a:rPr sz="1800"/>
            </a:b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Для города защиты лучше не най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2000160" y="1000080"/>
            <a:ext cx="5357880" cy="31431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000680" y="58579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5" descr=""/>
          <p:cNvPicPr/>
          <p:nvPr/>
        </p:nvPicPr>
        <p:blipFill>
          <a:blip r:embed="rId2"/>
          <a:stretch/>
        </p:blipFill>
        <p:spPr>
          <a:xfrm>
            <a:off x="609480" y="176040"/>
            <a:ext cx="5346720" cy="7081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9"/>
          <p:cNvSpPr/>
          <p:nvPr/>
        </p:nvSpPr>
        <p:spPr>
          <a:xfrm>
            <a:off x="2143080" y="4500720"/>
            <a:ext cx="61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2804"/>
                </a:solidFill>
                <a:latin typeface="Arial"/>
              </a:rPr>
              <a:t>Прошло почти 40 лет со дня смерти Владимира Степановича Стрижака, но память о нем жива и всегда будет в наших сердц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2843280" y="1197000"/>
            <a:ext cx="4824360" cy="30002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1"/>
          <p:cNvSpPr/>
          <p:nvPr/>
        </p:nvSpPr>
        <p:spPr>
          <a:xfrm>
            <a:off x="4214880" y="57150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1"/>
          <p:cNvSpPr/>
          <p:nvPr/>
        </p:nvSpPr>
        <p:spPr>
          <a:xfrm>
            <a:off x="4071960" y="57150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42804"/>
                </a:solidFill>
                <a:latin typeface="Arial"/>
                <a:ea typeface="Arial"/>
              </a:rPr>
              <a:t>ст. Выс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2627280" y="1500120"/>
            <a:ext cx="453708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Наш дорогой земляк-сосед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много одержал побед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нашу Родину спасал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И в страхе всех врагов держал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ранен был в бою не раз,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Мы знаем наизусть рассказ,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О том, как танки ты подбил,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В разведку как один ходил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Горды тобой мы, наш герой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Ты за страну стоял горой!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Шагал ты в жизни славный путь.</a:t>
            </a:r>
            <a:br>
              <a:rPr sz="1600"/>
            </a:br>
            <a:r>
              <a:rPr b="0" lang="ru-RU" sz="1600" spc="-1" strike="noStrike">
                <a:solidFill>
                  <a:srgbClr val="542804"/>
                </a:solidFill>
                <a:latin typeface="Arial"/>
              </a:rPr>
              <a:t>Примером нам всегда ты буд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рямоугольник 17" descr=""/>
          <p:cNvPicPr/>
          <p:nvPr/>
        </p:nvPicPr>
        <p:blipFill>
          <a:blip r:embed="rId2"/>
          <a:stretch/>
        </p:blipFill>
        <p:spPr>
          <a:xfrm>
            <a:off x="615960" y="176040"/>
            <a:ext cx="69008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1:58:33Z</dcterms:created>
  <dc:creator>Елена Кащенко</dc:creator>
  <dc:description/>
  <dc:language>en-US</dc:language>
  <cp:lastModifiedBy>Булгакова Людмила Александровна</cp:lastModifiedBy>
  <dcterms:modified xsi:type="dcterms:W3CDTF">2023-08-30T10:15:36Z</dcterms:modified>
  <cp:revision>53</cp:revision>
  <dc:subject/>
  <dc:title>Слайд 1</dc:title>
</cp:coreProperties>
</file>