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AB0-E3BD-4BA9-89D9-C19ED61B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C8C-A1CF-4930-B74A-13FACB8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CEA-AC66-47FB-880E-6C721355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978-B502-47FF-93D4-CC28AC82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48CE-3679-47C7-A036-12159379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9B8-EB97-457D-8D78-7DBA153B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992-5CE4-4511-985F-E188933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6611-F3E1-4F59-A453-F9F6483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044-C7C8-4ADF-BCAF-051F74B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537-DE8D-4675-A70A-FBC9B14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062-A037-4D0F-8587-9DF0019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E0D-3D3C-4D76-A818-F581DF32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FFA-1B82-4196-A81A-E838551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7EC-2F8A-4875-9F35-68168AA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9452-9948-4961-BC50-6863C14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F91-42FB-4886-90BC-A8E81467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1C7-C4A7-4E93-8FCD-428BCE3C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36981-F9D2-4840-8643-33319EDF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A1E21-1AE4-4111-9CDD-2A2FA4F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6FD38-0D1F-44A9-8145-232829D1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061A8-0FEE-4CE2-8411-4D7D0EDE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FDEFE-EC2B-4334-B18F-0CBFD31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C62-008C-4362-925A-CA24C274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ADA39-418C-4E0C-B40E-9C3295C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3FBA7-A97B-4AA2-A2E7-ECD4850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057B9-1487-4D52-B80F-00D9CA4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2845F-8539-4DCF-BCC8-1E4A2FB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F5FB2-8632-42D2-9E0F-4900C38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1805A-EF62-4F5D-A919-200A0BD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C6AEC-6A8E-41B8-9F51-07C723F3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DD35-D7E3-4A2B-9027-6DB8481C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6BFC-C184-4419-AB2D-6F302714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B60F-5A08-4B62-811F-22E4B7E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32F-C340-4A6F-A774-AEC1C90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439E-ACDB-48FB-A646-F2307E4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F01E-101F-469A-9F5E-DF427615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5C3E-0ACC-46D5-B82A-BA015FC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6550-8C8B-43E8-A428-05246D2F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74FA-E6E5-4558-9862-57B3BD0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7C16-89E0-494A-A11E-0087CD6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5011-4EAF-41B5-A640-B17DB616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341E-9FE0-4B7E-B59E-633F938A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2D8C-DC15-4806-AB34-8DAC3B6D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F1A-88BE-4C35-9345-06352B2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462-358D-4E94-B94C-D8C84A54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EA5-3AB9-4AD9-8A91-9A4CB4C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4D2-A694-4C15-8E1D-A534391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2D2-277A-4377-91F4-B8B04B0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AD0-B020-42D4-83F9-48F1004F79A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031-1425-4684-B3C5-0440E02A12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CC7-8915-4DCC-975E-AD2C62A83A0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C4D-A1EA-4095-A94F-B686D3A7695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Консультация на тему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Инновационные технологии в конструировани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42880" y="4221000"/>
            <a:ext cx="50007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оспитатель: Бажанова А.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природ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4920" y="1773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руирование из природного материала по мнению Л.А. Парамоновой, подразумевает создание разного рода целостностей путем их преобразования или соединения част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родный материал в качестве строительного можно использовать для игр детей, начиная со второй младшей группы. Это, прежде всего песок, снег, вода. Из сырого песка дети строят дорогу, домик, садик, горку, мосты, с помощью форм (песочниц) - пирожки и др. В более старшем возрасте, дети замораживают покрашенную воду, приготавливая цветные льдинки, которыми украшают участок. Из снега делают горку, домик, снеговика, фигурки звер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бросов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060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дача воспитателя показать, как из привычных предметов «на выброс» (стаканчик из-под йогурта, засохший фломастер, пластмассовое яйцо от киндер-сюрприза) что-то оригинальное (цветок в горшочке). Бросовый материал дает детям чувство независимости от взрослых, так приучает ребёнка к бережливости, он никогда не сломает игрушк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струирование из бумаг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77300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струирование из бумаги относится к художественной деятельности. Дети в основном создают художественно-эстетический продукт: сказочные фигурки для игр (сюжетных, театрализованных), поделки для украшения интерьера и т.п. Это могут быть как литературные персонажи (Колобок, Баба Яга, Царевна-лягушка и т.п.), так и придуманные образы (солнечный человек, клякса-вакса, корзинка с волшебными цветами и т.п.). И даже когда дети воплощают в своих поделках реально существующие предметы (кроватка, стулья, веер и др.) и живые образы (лисичка, поросенок, мальчик, девочка и др.), они всегда стараются украсить их, сделать необычной формы ту или иную их часть, сохраняя при этом общую основную структур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уществует разная техника работы с бумагой: сминание, разрывание, разрезание, сгиба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836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2005 году на Российском рынке появился образовательный конструктор нового поколения для 3D-моделирования ТИК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развивающий материал, позволяющий разнообразить процесс обучения дошкольников, а так же замечательный инструмент в области научно-технического моделирования (конструирования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ef0eb9b9a755c64efeeeeb2e6e5202c9-1.jpg"/>
          <p:cNvPicPr/>
          <p:nvPr/>
        </p:nvPicPr>
        <p:blipFill>
          <a:blip r:embed="rId1"/>
          <a:stretch/>
        </p:blipFill>
        <p:spPr>
          <a:xfrm>
            <a:off x="4932360" y="2924280"/>
            <a:ext cx="3720960" cy="37227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img16.jpg"/>
          <p:cNvPicPr/>
          <p:nvPr/>
        </p:nvPicPr>
        <p:blipFill>
          <a:blip r:embed="rId2"/>
          <a:stretch/>
        </p:blipFill>
        <p:spPr>
          <a:xfrm>
            <a:off x="539640" y="342900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Содержимое 6" descr="img24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7" descr="152155_middle.gif"/>
          <p:cNvPicPr/>
          <p:nvPr/>
        </p:nvPicPr>
        <p:blipFill>
          <a:blip r:embed="rId2"/>
          <a:stretch/>
        </p:blipFill>
        <p:spPr>
          <a:xfrm>
            <a:off x="4648320" y="3081240"/>
            <a:ext cx="40384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9640" y="90756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его-конструирование и образовательная робототехника - это новая педагогическая технология, представляет самые передовые направления науки и техники, является относительно новым междисциплинарным направлением обучения, воспитания и развития детей. Объединяет знания о физике, механике, технологии, математике и ИКТ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Рисунок 6" descr="H8cc8d5d050984de18b9550d393ca3b57o.jpg"/>
          <p:cNvPicPr/>
          <p:nvPr/>
        </p:nvPicPr>
        <p:blipFill>
          <a:blip r:embed="rId1"/>
          <a:stretch/>
        </p:blipFill>
        <p:spPr>
          <a:xfrm>
            <a:off x="4932360" y="3213000"/>
            <a:ext cx="364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img18.jpg"/>
          <p:cNvPicPr/>
          <p:nvPr/>
        </p:nvPicPr>
        <p:blipFill>
          <a:blip r:embed="rId1"/>
          <a:stretch/>
        </p:blipFill>
        <p:spPr>
          <a:xfrm>
            <a:off x="0" y="476280"/>
            <a:ext cx="5288040" cy="396720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5" descr="24209335564_f2cee6bb8b_b.jpg"/>
          <p:cNvPicPr/>
          <p:nvPr/>
        </p:nvPicPr>
        <p:blipFill>
          <a:blip r:embed="rId2"/>
          <a:stretch/>
        </p:blipFill>
        <p:spPr>
          <a:xfrm>
            <a:off x="4471920" y="3933720"/>
            <a:ext cx="467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методические разработки по лего-конструированию и образовательной робототехнике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грамма дополнительного образования «Роботенок» - Дымшакова Ольга Николаев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dohcolonoc.ru/programmy-v-dou/9316-programma-robotjonok.html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ект «Развитие конструирования и образовательной робототехник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учреждениях общего и дополнительного образования г. Сочи на период 2014-2016 гг.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sochi-schools.ru/sut/im/d_114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чая программа «Робототехника в детском саду» (http://detsad139.ru/doc/pr_robototechnika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гры с прищепками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гры с прищепками способствуют развитию мелкой моторики, цветовосприятию, фантазии и учат считать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первые игры с деревянными бельевыми прищепками, которые можно было прикреплять к корзине с тонкими краями, использовала М. Монтессори, известный итальянский педагог. Но тогда эти предметы занимали незначительное место в ее педагогической системе. Что изменилось сейчас? В настоящее время промышленность выпускает самые разнообразные прищепки, различающиеся величиной, материалом, широкой цветовой гаммо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Рисунок 6" descr="robot.jpg"/>
          <p:cNvPicPr/>
          <p:nvPr/>
        </p:nvPicPr>
        <p:blipFill>
          <a:blip r:embed="rId1"/>
          <a:stretch/>
        </p:blipFill>
        <p:spPr>
          <a:xfrm>
            <a:off x="3492360" y="4179960"/>
            <a:ext cx="2813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10" descr="pic-023fe9kbpi-004.jpg"/>
          <p:cNvPicPr/>
          <p:nvPr/>
        </p:nvPicPr>
        <p:blipFill>
          <a:blip r:embed="rId1"/>
          <a:stretch/>
        </p:blipFill>
        <p:spPr>
          <a:xfrm>
            <a:off x="324000" y="2558880"/>
            <a:ext cx="4319280" cy="324180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11" descr="imgonline-com-ua-resizePERCIM7BTyCxHzSg.jpg"/>
          <p:cNvPicPr/>
          <p:nvPr/>
        </p:nvPicPr>
        <p:blipFill>
          <a:blip r:embed="rId2"/>
          <a:stretch/>
        </p:blipFill>
        <p:spPr>
          <a:xfrm>
            <a:off x="4778280" y="2249640"/>
            <a:ext cx="37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280"/>
            <a:ext cx="850752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нструирова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— это продуктивная деятельность дошкольников, в процессе которой дети моделируют конструкции разнообразных объект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 инновационными технологиями в образовательном процессе понимается создание нового, ранее не существующего компонен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528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ь конструктивно-модельной деятельности в том, что именно этот вид подготавливает почву для развития умственных и творческих способностей детей, что очень важно для всестороннего развития личности. Конструируя, ребенок учится не только различать внешние качества предмета, но и форму, величину, строение; у него развиваются познавательные и практические действи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ким критериям должен отвечать образовательный конструктор: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первых, конструктор должен стремиться к бесконечности, то есть предлагать такое количество вариантов конструирования, которое только способен придумать педагог и ребенок. Он не должен ограничивать воображ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вторых, в конструкторе должна быть заложена идея усложнения, которая, как правило, обеспечивается составляющими элементами, деталями конструктора, что делает конструирование разнообразным и в перспективе сложным;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третьих, наборы деталей конструкторов должны входить в линейку конструкторов, обеспечивающих возможность последовательной работы с каждым набором в зависимости от возраста детей и задач конструирова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четвертых, нести полноценную смысловую нагрузку и знания, которые выражаются в осмысленном создании и воспроизведении детьми объектов окружающей реальности из деталей конструктора. В результате чего дети демонстрируют степень освоенности ими знания и предметно-чувственного опыт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щий этим критериям конструктор способен выполнить серьезную задачу, связанную с гармоничным и полноценным развитием ребенка. С одной стороны, ребенок увлечен творческой познавательной игрой, с другой применение новой формы игры способствует всестороннему развит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836280"/>
            <a:ext cx="843588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обучении детей конструктивной деятельности в детском саду используются строительный материал, конструкторы, бумага, бросовые и природные материа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д материала определяет и вид конструирова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строительного материал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бумаг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природного материала и т. 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строитель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оительный материал представляет собой набор разнообразных геометрических тел (куб, цилиндр, призма и т.д.). Он делится на мелкий (настольный) и крупный. Во время занятий материала всего должно быть больше, чем требуется для данной постройки (и по элементам, и по количеству), чтобы приучать детей отбирать только необходимые детали, соответствующие их замысл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0T17:35:05Z</dcterms:created>
  <dc:creator>User</dc:creator>
  <dc:description/>
  <dc:language>en-US</dc:language>
  <cp:lastModifiedBy>HP</cp:lastModifiedBy>
  <dcterms:modified xsi:type="dcterms:W3CDTF">2022-03-21T15:51:15Z</dcterms:modified>
  <cp:revision>13</cp:revision>
  <dc:subject/>
  <dc:title>Консультация на тему:  Инновационные технологии в конструировании</dc:title>
</cp:coreProperties>
</file>