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DDD7-16DE-4C3B-8093-0016D867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3300-81AC-443D-BD66-DB1A27CA3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7C70-60A2-42D3-B32C-3286B14B5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A6D-D4C6-4925-8D4C-E71B03C3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D636-5E4D-4F3D-AF74-03569556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13C0-3F05-499D-ABE9-49CE96DE5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4ECB-9BFF-4CC2-AD1D-D50D31B0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D4597-4E23-42B5-987C-11DF8D3CE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655B-5D6D-4E79-AEC0-11E28689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51952-2043-48F3-AAC4-FF8166A5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A1893-BBE0-4897-B106-D11F5532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3E20-D4DB-4C93-B079-F48D5A5F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25F6-6F82-4453-A873-293A1C6DF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7C6E9-452D-4297-BA32-6AFC8B15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37C29-1C8B-49EE-8806-E3BC9B0D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EC7A2-0074-4C7E-9289-D0989BF1C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5B4E-9296-40E2-BA56-ACB40724A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615F7C-D9EB-422F-B621-D727D0EA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D67F7-45BF-4337-951D-808F42B8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39A26-2FAC-48AC-B594-69961F0ED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06302F-69EA-46E1-AA80-38E7FA9D4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5310E-78AE-4998-A0A9-14C2CC5A0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6AF3-CB29-4688-809E-75E353BD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0B9AF5-6FC6-4BCF-8994-0D8CAA155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5AEB76-CEE8-44FF-8650-0D542538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E5872-4D6C-4917-9A51-51485D4A4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471FDB-FB0C-42ED-98B3-0F2B3F15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18C384-BF0D-444A-AB6F-613CB06D9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83199D-18D0-4A5B-9A83-A6E87AC44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5DF50A-15EA-4E80-A9FC-B7C51EF29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80F28-1E15-4D68-91BB-A8D8AD8EA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9C442-F0BB-4A5F-B8F7-F5784460C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20BA88-32EB-4056-989E-2CDE64652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8A7-2755-4440-87E6-CC22E7A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33A89-5C86-4433-A7A8-831194FF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6C94-3F38-4C4B-91C6-2D1BA814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E2FE-C063-4C07-8A10-D81FB0F39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52217-8E0E-41B4-8D96-43DA4F1F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F3988-D236-4E59-9237-12205A50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0C231-41FB-45CA-B557-E77805138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E5AF2-29B2-45B8-AE7C-8263593B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9470B-3474-4E09-92C9-D13699FC7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241B6-E887-4979-94A4-AF558C9F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1F7B-DABA-48B7-A501-5D624CEF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743E-6F0A-4F23-9C75-3C0A226B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BB6C-351D-4BB8-A018-CDCF26C0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D0B-CDD5-492E-9ECF-8350044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8AF2-CBA9-4C84-8108-126A093EB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AB4-89F6-4FDB-982D-528A81D4725B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ямоугольник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ямоугольник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Скругленный прямоугольник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Скругленный прямоугольник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ямоугольник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ямоугольник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ямоугольник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ямоугольник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24C4-826E-46F5-BACB-9FB20B6D0FC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C712-5A13-40E3-9771-48EDAC8ECDB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EAD5F-98CD-4EB9-B146-61BD9468116E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Консультация на тему: 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Trebuchet MS"/>
              </a:rPr>
              <a:t>Инновационные технологии в конструировании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142880" y="4221000"/>
            <a:ext cx="5000760" cy="17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24456"/>
                </a:solidFill>
                <a:latin typeface="Georgia"/>
              </a:rPr>
              <a:t>Воспитатель: Бажанова А.Е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природ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94920" y="1773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Конструирование из природного материала по мнению Л.А. Парамоновой, подразумевает создание разного рода целостностей путем их преобразования или соединения част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Природный материал в качестве строительного можно использовать для игр детей, начиная со второй младшей группы. Это, прежде всего песок, снег, вода. Из сырого песка дети строят дорогу, домик, садик, горку, мосты, с помощью форм (песочниц) - пирожки и др. В более старшем возрасте, дети замораживают покрашенную воду, приготавливая цветные льдинки, которыми украшают участок. Из снега делают горку, домик, снеговика, фигурки зверей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57480" indent="-2502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бросов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68360" y="2060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Задача воспитателя показать, как из привычных предметов «на выброс» (стаканчик из-под йогурта, засохший фломастер, пластмассовое яйцо от киндер-сюрприза) что-то оригинальное (цветок в горшочке). Бросовый материал дает детям чувство независимости от взрослых, так приучает ребёнка к бережливости, он никогда не сломает игрушку,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Конструирование из бумаг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95280" y="1773000"/>
            <a:ext cx="8291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Конструирование из бумаги относится к художественной деятельности. Дети в основном создают художественно-эстетический продукт: сказочные фигурки для игр (сюжетных, театрализованных), поделки для украшения интерьера и т.п. Это могут быть как литературные персонажи (Колобок, Баба Яга, Царевна-лягушка и т.п.), так и придуманные образы (солнечный человек, клякса-вакса, корзинка с волшебными цветами и т.п.). И даже когда дети воплощают в своих поделках реально существующие предметы (кроватка, стулья, веер и др.) и живые образы (лисичка, поросенок, мальчик, девочка и др.), они всегда стараются украсить их, сделать необычной формы ту или иную их часть, сохраняя при этом общую основную структуру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</a:rPr>
              <a:t>Существует разная техника работы с бумагой: сминание, разрывание, разрезание, сгибание.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395280" y="836640"/>
            <a:ext cx="8229600" cy="43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В 2005 году на Российском рынке появился образовательный конструктор нового поколения для 3D-моделирования ТИКО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ЭТО развивающий материал, позволяющий разнообразить процесс обучения дошкольников, а так же замечательный инструмент в области научно-технического моделирования (конструирования)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7" name="Рисунок 3" descr="ef0eb9b9a755c64efeeeeb2e6e5202c9-1.jpg"/>
          <p:cNvPicPr/>
          <p:nvPr/>
        </p:nvPicPr>
        <p:blipFill>
          <a:blip r:embed="rId1"/>
          <a:stretch/>
        </p:blipFill>
        <p:spPr>
          <a:xfrm>
            <a:off x="4932360" y="2924280"/>
            <a:ext cx="3720960" cy="372276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img16.jpg"/>
          <p:cNvPicPr/>
          <p:nvPr/>
        </p:nvPicPr>
        <p:blipFill>
          <a:blip r:embed="rId2"/>
          <a:stretch/>
        </p:blipFill>
        <p:spPr>
          <a:xfrm>
            <a:off x="539640" y="3429000"/>
            <a:ext cx="385128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40" name="Содержимое 6" descr="img24.jpg"/>
          <p:cNvPicPr/>
          <p:nvPr/>
        </p:nvPicPr>
        <p:blipFill>
          <a:blip r:embed="rId1"/>
          <a:stretch/>
        </p:blipFill>
        <p:spPr>
          <a:xfrm>
            <a:off x="457200" y="299880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241" name="Содержимое 7" descr="152155_middle.gif"/>
          <p:cNvPicPr/>
          <p:nvPr/>
        </p:nvPicPr>
        <p:blipFill>
          <a:blip r:embed="rId2"/>
          <a:stretch/>
        </p:blipFill>
        <p:spPr>
          <a:xfrm>
            <a:off x="4648320" y="3081240"/>
            <a:ext cx="403848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539640" y="90756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его-конструирование и образовательная робототехника - это новая педагогическая технология, представляет самые передовые направления науки и техники, является относительно новым междисциплинарным направлением обучения, воспитания и развития детей. Объединяет знания о физике, механике, технологии, математике и ИКТ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43" name="Рисунок 6" descr="H8cc8d5d050984de18b9550d393ca3b57o.jpg"/>
          <p:cNvPicPr/>
          <p:nvPr/>
        </p:nvPicPr>
        <p:blipFill>
          <a:blip r:embed="rId1"/>
          <a:stretch/>
        </p:blipFill>
        <p:spPr>
          <a:xfrm>
            <a:off x="4932360" y="3213000"/>
            <a:ext cx="364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Содержимое 4" descr="img18.jpg"/>
          <p:cNvPicPr/>
          <p:nvPr/>
        </p:nvPicPr>
        <p:blipFill>
          <a:blip r:embed="rId1"/>
          <a:stretch/>
        </p:blipFill>
        <p:spPr>
          <a:xfrm>
            <a:off x="0" y="476280"/>
            <a:ext cx="5288040" cy="3967200"/>
          </a:xfrm>
          <a:prstGeom prst="rect">
            <a:avLst/>
          </a:prstGeom>
          <a:ln w="0">
            <a:noFill/>
          </a:ln>
        </p:spPr>
      </p:pic>
      <p:pic>
        <p:nvPicPr>
          <p:cNvPr id="245" name="Содержимое 5" descr="24209335564_f2cee6bb8b_b.jpg"/>
          <p:cNvPicPr/>
          <p:nvPr/>
        </p:nvPicPr>
        <p:blipFill>
          <a:blip r:embed="rId2"/>
          <a:stretch/>
        </p:blipFill>
        <p:spPr>
          <a:xfrm>
            <a:off x="4471920" y="3933720"/>
            <a:ext cx="4672080" cy="29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11280" y="8362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методические разработки по лего-конструированию и образовательной робототехнике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грамма дополнительного образования «Роботенок» - Дымшакова Ольга Николаевна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dohcolonoc.ru/programmy-v-dou/9316-programma-robotjonok.html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Проект «Развитие конструирования и образовательной робототехники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в учреждениях общего и дополнительного образования г. Сочи на период 2014-2016 гг.»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(http://sochi-schools.ru/sut/im/d_114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Рабочая программа «Робототехника в детском саду» (http://detsad139.ru/doc/pr_robototechnika.pdf)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53880" indent="-24768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4456"/>
                </a:solidFill>
                <a:latin typeface="Trebuchet MS"/>
              </a:rPr>
              <a:t>Игры с прищепками.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250920" y="1341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Игры с прищепками способствуют развитию мелкой моторики, цветовосприятию, фантазии и учат считать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первые игры с деревянными бельевыми прищепками, которые можно было прикреплять к корзине с тонкими краями, использовала М. Монтессори, известный итальянский педагог. Но тогда эти предметы занимали незначительное место в ее педагогической системе. Что изменилось сейчас? В настоящее время промышленность выпускает самые разнообразные прищепки, различающиеся величиной, материалом, широкой цветовой гаммой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0" name="Рисунок 6" descr="robot.jpg"/>
          <p:cNvPicPr/>
          <p:nvPr/>
        </p:nvPicPr>
        <p:blipFill>
          <a:blip r:embed="rId1"/>
          <a:stretch/>
        </p:blipFill>
        <p:spPr>
          <a:xfrm>
            <a:off x="3492360" y="4179960"/>
            <a:ext cx="2813040" cy="26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52" name="Содержимое 10" descr="pic-023fe9kbpi-004.jpg"/>
          <p:cNvPicPr/>
          <p:nvPr/>
        </p:nvPicPr>
        <p:blipFill>
          <a:blip r:embed="rId1"/>
          <a:stretch/>
        </p:blipFill>
        <p:spPr>
          <a:xfrm>
            <a:off x="324000" y="2558880"/>
            <a:ext cx="4319280" cy="3241800"/>
          </a:xfrm>
          <a:prstGeom prst="rect">
            <a:avLst/>
          </a:prstGeom>
          <a:ln w="0">
            <a:noFill/>
          </a:ln>
        </p:spPr>
      </p:pic>
      <p:pic>
        <p:nvPicPr>
          <p:cNvPr id="253" name="Содержимое 11" descr="imgonline-com-ua-resizePERCIM7BTyCxHzSg.jpg"/>
          <p:cNvPicPr/>
          <p:nvPr/>
        </p:nvPicPr>
        <p:blipFill>
          <a:blip r:embed="rId2"/>
          <a:stretch/>
        </p:blipFill>
        <p:spPr>
          <a:xfrm>
            <a:off x="4778280" y="2249640"/>
            <a:ext cx="37782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57200" y="836280"/>
            <a:ext cx="850752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Конструирование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 — это продуктивная деятельность дошкольников, в процессе которой дети моделируют конструкции разнообразных объектов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од инновационными технологиями в образовательном процессе понимается создание нового, ранее не существующего компонент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95280" y="15573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Ценность конструктивно-модельной деятельности в том, что именно этот вид подготавливает почву для развития умственных и творческих способностей детей, что очень важно для всестороннего развития личности. Конструируя, ребенок учится не только различать внешние качества предмета, но и форму, величину, строение; у него развиваются познавательные и практические действия. 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аким критериям должен отвечать образовательный конструктор: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первых, конструктор должен стремиться к бесконечности, то есть предлагать такое количество вариантов конструирования, которое только способен придумать педагог и ребенок. Он не должен ограничивать воображение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о-вторых, в конструкторе должна быть заложена идея усложнения, которая, как правило, обеспечивается составляющими элементами, деталями конструктора, что делает конструирование разнообразным и в перспективе сложным;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третьих, наборы деталей конструкторов должны входить в линейку конструкторов, обеспечивающих возможность последовательной работы с каждым набором в зависимости от возраста детей и задач конструирования;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just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в-четвертых, нести полноценную смысловую нагрузку и знания, которые выражаются в осмысленном создании и воспроизведении детьми объектов окружающей реальности из деталей конструктора. В результате чего дети демонстрируют степень освоенности ими знания и предметно-чувственного опыта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твечающий этим критериям конструктор способен выполнить серьезную задачу, связанную с гармоничным и полноценным развитием ребенка. С одной стороны, ребенок увлечен творческой познавательной игрой, с другой применение новой формы игры способствует всестороннему развитию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6840" y="836280"/>
            <a:ext cx="8435880" cy="57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При обучении детей конструктивной деятельности в детском саду используются строительный материал, конструкторы, бумага, бросовые и природные материалы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Georgia"/>
              </a:rPr>
              <a:t>Вид материала определяет и вид конструирования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строительного материала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бумаги;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- конструирование из природного материала и т. д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24456"/>
                </a:solidFill>
                <a:latin typeface="Trebuchet MS"/>
              </a:rPr>
              <a:t>Конструирование из строительного материала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Строительный материал представляет собой набор разнообразных геометрических тел (куб, цилиндр, призма и т.д.). Он делится на мелкий (настольный) и крупный. Во время занятий материала всего должно быть больше, чем требуется для данной постройки (и по элементам, и по количеству), чтобы приучать детей отбирать только необходимые детали, соответствующие их замыслу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0T17:35:05Z</dcterms:created>
  <dc:creator>User</dc:creator>
  <dc:description/>
  <dc:language>en-US</dc:language>
  <cp:lastModifiedBy>HP</cp:lastModifiedBy>
  <dcterms:modified xsi:type="dcterms:W3CDTF">2022-03-21T15:51:15Z</dcterms:modified>
  <cp:revision>13</cp:revision>
  <dc:subject/>
  <dc:title>Консультация на тему:  Инновационные технологии в конструировании</dc:title>
</cp:coreProperties>
</file>