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2AD4-73AF-4BD0-BCFE-72C83D59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062-7063-4BB4-A64B-4CB9928C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E82-EF01-4753-98A8-18241639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AE15-FA84-47E7-98B2-B84F3A10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9E46-D089-4666-AC51-2F827BCC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72E4-2BC7-4794-A421-717A90BC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1AC2-EDD1-4507-800D-92640673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227A-9A2A-4F96-B9B1-205B3A18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13B1-CF68-43E3-9B01-35EEEA1E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A6DC-109F-442C-9F5B-95DE88C5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33C6-B918-4E78-93B6-58D349B1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602-A8B4-4A5F-98CE-E068E900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DE8B-2A78-43C1-9C44-5FCDC44B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32AB-2706-419E-813B-B55D9421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9944-9441-4086-863C-7051B693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2A86-F547-4AFF-BFA0-EB1790DE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343B-98E8-457A-8FC3-614B8340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09686-852C-4008-9F27-04BDE919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A89EC-EB2E-4091-8B66-5EE9DCBA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83439-E2EF-40BE-BC18-7F0AC890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A9699F-2AC1-4C29-BA4B-EC1CFE5D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6AE1A-3731-4A06-8978-37A837ED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9FA-DEE3-4281-908B-7C6FB0D3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842958-7720-4E03-8B4B-3CA28277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E5E6E4-243C-470F-B66C-07BD2A8F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18B89-BD5A-48F0-BD30-4FA7C09A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DE2BA-510F-4246-B938-271618C2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B33AA-A5BE-4C08-817E-5D257A17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FD185-6F73-4858-AB89-95B1EFA2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01BAD-7A81-4278-933E-54C31BD3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D047F-654D-4390-B275-5A946E26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FDB2D-1B9C-4CAB-A88B-9CD53600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6A5F9-3918-4B0D-89AF-E712B903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0D2-52F8-437E-B821-6C5AD783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B77E5-FD0C-4B7A-A05C-B7D3BE3A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E64CF-F428-4BEE-B685-3457FF8C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63F72-8A92-4FF8-84EC-64BBA8E1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F77F9-AC4C-4E89-AAE0-B23BD230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B1231-7C34-4747-83AA-D3F65384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6C20B-32B8-4389-88A2-59C093FA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79ADF-8155-4945-9EA7-2007BEF0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78897-2E01-4D40-861A-8BDAA51C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2E876-0391-4E7A-B1DB-309ED996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7741-F349-4962-A6F4-85E9B6C7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D99-38CE-4AF9-9BD0-D64ECD7F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A573-2C6F-4960-8932-94623B98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1C1-AECD-4B49-8E58-BF15E715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66DC-1775-4855-A852-B19285AA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A798-6D6E-433A-A07C-2071FE1B3C5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5891-6DF0-4CA8-87E0-22ED829D81F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2095-2CC4-48A2-85D0-A2057DA55A1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93C3-C94F-4FF7-B4BF-807AAD268F0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Консультация на тему: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Инновационные технологии в конструировании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142880" y="4221000"/>
            <a:ext cx="50007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Воспитатель: Бажанова А.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онструирование из природного материал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94920" y="1773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струирование из природного материала по мнению Л.А. Парамоновой, подразумевает создание разного рода целостностей путем их преобразования или соединения часте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иродный материал в качестве строительного можно использовать для игр детей, начиная со второй младшей группы. Это, прежде всего песок, снег, вода. Из сырого песка дети строят дорогу, домик, садик, горку, мосты, с помощью форм (песочниц) - пирожки и др. В более старшем возрасте, дети замораживают покрашенную воду, приготавливая цветные льдинки, которыми украшают участок. Из снега делают горку, домик, снеговика, фигурки звере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онструирование из бросового материал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8360" y="2060640"/>
            <a:ext cx="822960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дача воспитателя показать, как из привычных предметов «на выброс» (стаканчик из-под йогурта, засохший фломастер, пластмассовое яйцо от киндер-сюрприза) что-то оригинальное (цветок в горшочке). Бросовый материал дает детям чувство независимости от взрослых, так приучает ребёнка к бережливости, он никогда не сломает игрушку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онструирование из бумаг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5280" y="1773000"/>
            <a:ext cx="82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Конструирование из бумаги относится к художественной деятельности. Дети в основном создают художественно-эстетический продукт: сказочные фигурки для игр (сюжетных, театрализованных), поделки для украшения интерьера и т.п. Это могут быть как литературные персонажи (Колобок, Баба Яга, Царевна-лягушка и т.п.), так и придуманные образы (солнечный человек, клякса-вакса, корзинка с волшебными цветами и т.п.). И даже когда дети воплощают в своих поделках реально существующие предметы (кроватка, стулья, веер и др.) и живые образы (лисичка, поросенок, мальчик, девочка и др.), они всегда стараются украсить их, сделать необычной формы ту или иную их часть, сохраняя при этом общую основную структуру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уществует разная техника работы с бумагой: сминание, разрывание, разрезание, сгибание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95280" y="836640"/>
            <a:ext cx="822960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2005 году на Российском рынке появился образовательный конструктор нового поколения для 3D-моделирования ТИКО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ТО развивающий материал, позволяющий разнообразить процесс обучения дошкольников, а так же замечательный инструмент в области научно-технического моделирования (конструирования)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Рисунок 3" descr="ef0eb9b9a755c64efeeeeb2e6e5202c9-1.jpg"/>
          <p:cNvPicPr/>
          <p:nvPr/>
        </p:nvPicPr>
        <p:blipFill>
          <a:blip r:embed="rId1"/>
          <a:stretch/>
        </p:blipFill>
        <p:spPr>
          <a:xfrm>
            <a:off x="4932360" y="2924280"/>
            <a:ext cx="3720960" cy="37227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img16.jpg"/>
          <p:cNvPicPr/>
          <p:nvPr/>
        </p:nvPicPr>
        <p:blipFill>
          <a:blip r:embed="rId2"/>
          <a:stretch/>
        </p:blipFill>
        <p:spPr>
          <a:xfrm>
            <a:off x="539640" y="3429000"/>
            <a:ext cx="38512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0" name="Содержимое 6" descr="img24.jpg"/>
          <p:cNvPicPr/>
          <p:nvPr/>
        </p:nvPicPr>
        <p:blipFill>
          <a:blip r:embed="rId1"/>
          <a:stretch/>
        </p:blipFill>
        <p:spPr>
          <a:xfrm>
            <a:off x="457200" y="29988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7" descr="152155_middle.gif"/>
          <p:cNvPicPr/>
          <p:nvPr/>
        </p:nvPicPr>
        <p:blipFill>
          <a:blip r:embed="rId2"/>
          <a:stretch/>
        </p:blipFill>
        <p:spPr>
          <a:xfrm>
            <a:off x="4648320" y="3081240"/>
            <a:ext cx="403848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539640" y="907560"/>
            <a:ext cx="822960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Лего-конструирование и образовательная робототехника - это новая педагогическая технология, представляет самые передовые направления науки и техники, является относительно новым междисциплинарным направлением обучения, воспитания и развития детей. Объединяет знания о физике, механике, технологии, математике и ИКТ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3" name="Рисунок 6" descr="H8cc8d5d050984de18b9550d393ca3b57o.jpg"/>
          <p:cNvPicPr/>
          <p:nvPr/>
        </p:nvPicPr>
        <p:blipFill>
          <a:blip r:embed="rId1"/>
          <a:stretch/>
        </p:blipFill>
        <p:spPr>
          <a:xfrm>
            <a:off x="4932360" y="3213000"/>
            <a:ext cx="3645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Содержимое 4" descr="img18.jpg"/>
          <p:cNvPicPr/>
          <p:nvPr/>
        </p:nvPicPr>
        <p:blipFill>
          <a:blip r:embed="rId1"/>
          <a:stretch/>
        </p:blipFill>
        <p:spPr>
          <a:xfrm>
            <a:off x="0" y="476280"/>
            <a:ext cx="5288040" cy="3967200"/>
          </a:xfrm>
          <a:prstGeom prst="rect">
            <a:avLst/>
          </a:prstGeom>
          <a:ln w="0">
            <a:noFill/>
          </a:ln>
        </p:spPr>
      </p:pic>
      <p:pic>
        <p:nvPicPr>
          <p:cNvPr id="245" name="Содержимое 5" descr="24209335564_f2cee6bb8b_b.jpg"/>
          <p:cNvPicPr/>
          <p:nvPr/>
        </p:nvPicPr>
        <p:blipFill>
          <a:blip r:embed="rId2"/>
          <a:stretch/>
        </p:blipFill>
        <p:spPr>
          <a:xfrm>
            <a:off x="4471920" y="3933720"/>
            <a:ext cx="46720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методические разработки по лего-конструированию и образовательной робототехнике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грамма дополнительного образования «Роботенок» - Дымшакова Ольга Николаевн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http://dohcolonoc.ru/programmy-v-dou/9316-programma-robotjonok.html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ект «Развитие конструирования и образовательной робототехник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учреждениях общего и дополнительного образования г. Сочи на период 2014-2016 гг.»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http://sochi-schools.ru/sut/im/d_114.pdf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бочая программа «Робототехника в детском саду» (http://detsad139.ru/doc/pr_robototechnika.pdf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гры с прищепками.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920" y="1341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Игры с прищепками способствуют развитию мелкой моторики, цветовосприятию, фантазии и учат считать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первые игры с деревянными бельевыми прищепками, которые можно было прикреплять к корзине с тонкими краями, использовала М. Монтессори, известный итальянский педагог. Но тогда эти предметы занимали незначительное место в ее педагогической системе. Что изменилось сейчас? В настоящее время промышленность выпускает самые разнообразные прищепки, различающиеся величиной, материалом, широкой цветовой гаммой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0" name="Рисунок 6" descr="robot.jpg"/>
          <p:cNvPicPr/>
          <p:nvPr/>
        </p:nvPicPr>
        <p:blipFill>
          <a:blip r:embed="rId1"/>
          <a:stretch/>
        </p:blipFill>
        <p:spPr>
          <a:xfrm>
            <a:off x="3492360" y="4179960"/>
            <a:ext cx="28130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2" name="Содержимое 10" descr="pic-023fe9kbpi-004.jpg"/>
          <p:cNvPicPr/>
          <p:nvPr/>
        </p:nvPicPr>
        <p:blipFill>
          <a:blip r:embed="rId1"/>
          <a:stretch/>
        </p:blipFill>
        <p:spPr>
          <a:xfrm>
            <a:off x="324000" y="2558880"/>
            <a:ext cx="4319280" cy="3241800"/>
          </a:xfrm>
          <a:prstGeom prst="rect">
            <a:avLst/>
          </a:prstGeom>
          <a:ln w="0">
            <a:noFill/>
          </a:ln>
        </p:spPr>
      </p:pic>
      <p:pic>
        <p:nvPicPr>
          <p:cNvPr id="253" name="Содержимое 11" descr="imgonline-com-ua-resizePERCIM7BTyCxHzSg.jpg"/>
          <p:cNvPicPr/>
          <p:nvPr/>
        </p:nvPicPr>
        <p:blipFill>
          <a:blip r:embed="rId2"/>
          <a:stretch/>
        </p:blipFill>
        <p:spPr>
          <a:xfrm>
            <a:off x="4778280" y="2249640"/>
            <a:ext cx="3778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836280"/>
            <a:ext cx="8507520" cy="57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онструировани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— это продуктивная деятельность дошкольников, в процессе которой дети моделируют конструкции разнообразных объект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 инновационными технологиями в образовательном процессе понимается создание нового, ранее не существующего компонент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95280" y="15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Ценность конструктивно-модельной деятельности в том, что именно этот вид подготавливает почву для развития умственных и творческих способностей детей, что очень важно для всестороннего развития личности. Конструируя, ребенок учится не только различать внешние качества предмета, но и форму, величину, строение; у него развиваются познавательные и практические действия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аким критериям должен отвечать образовательный конструктор: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-первых, конструктор должен стремиться к бесконечности, то есть предлагать такое количество вариантов конструирования, которое только способен придумать педагог и ребенок. Он не должен ограничивать воображени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-вторых, в конструкторе должна быть заложена идея усложнения, которая, как правило, обеспечивается составляющими элементами, деталями конструктора, что делает конструирование разнообразным и в перспективе сложным;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-третьих, наборы деталей конструкторов должны входить в линейку конструкторов, обеспечивающих возможность последовательной работы с каждым набором в зависимости от возраста детей и задач конструирования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-четвертых, нести полноценную смысловую нагрузку и знания, которые выражаются в осмысленном создании и воспроизведении детьми объектов окружающей реальности из деталей конструктора. В результате чего дети демонстрируют степень освоенности ими знания и предметно-чувственного опыт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вечающий этим критериям конструктор способен выполнить серьезную задачу, связанную с гармоничным и полноценным развитием ребенка. С одной стороны, ребенок увлечен творческой познавательной игрой, с другой применение новой формы игры способствует всестороннему развитию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6840" y="836280"/>
            <a:ext cx="8435880" cy="57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 обучении детей конструктивной деятельности в детском саду используются строительный материал, конструкторы, бумага, бросовые и природные материал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ид материала определяет и вид конструирования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конструирование из строительного материала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конструирование из бумаг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конструирование из природного материала и т. д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онструирование из строительного материал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оительный материал представляет собой набор разнообразных геометрических тел (куб, цилиндр, призма и т.д.). Он делится на мелкий (настольный) и крупный. Во время занятий материала всего должно быть больше, чем требуется для данной постройки (и по элементам, и по количеству), чтобы приучать детей отбирать только необходимые детали, соответствующие их замысл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0T17:35:05Z</dcterms:created>
  <dc:creator>User</dc:creator>
  <dc:description/>
  <dc:language>en-US</dc:language>
  <cp:lastModifiedBy>HP</cp:lastModifiedBy>
  <dcterms:modified xsi:type="dcterms:W3CDTF">2022-03-21T15:51:15Z</dcterms:modified>
  <cp:revision>13</cp:revision>
  <dc:subject/>
  <dc:title>Консультация на тему:  Инновационные технологии в конструировании</dc:title>
</cp:coreProperties>
</file>