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312C-6866-48DE-8200-81F02BB4B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A7F-596F-4AF2-B473-7F5D812F0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5517-D241-420E-9F86-0704D53E8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8C2D-2ED6-4DE3-9C1D-53A419B39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1390F-0FCA-4006-AC27-410B6BB9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CFAA-5580-4B5C-B1F6-7E7B8CE66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EA71-AEFF-4868-9BF3-2DDEE2672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E995-183A-4844-A265-291C3D85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94AC-A0E2-43FC-B2AD-B8FEA566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4436-5079-49AF-8ABE-B40A96B30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F953B-78DB-4FC3-9392-3FEE7818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675-F1A9-430C-88F1-84FF1FB7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8D257-D168-400B-989D-C8F77C44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1764-4FD0-434D-8C7D-139BB788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EAABF-E9F8-485F-A8CA-3B78B51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B8EC-4D78-4D05-8D1C-B8DC9259B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153B-89C2-44D8-B727-8FCF4069C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3C6E9-A5CD-4F5B-B9D2-099F9721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3C3FF-4743-4E2C-AC50-AE8BBD0BB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7E748-2B00-44C2-9E02-94FE3CDB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C4761-5F53-488C-9C99-961FB6C0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294E-82EE-4FA6-A284-A0AC81FE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9A76-07A0-4B60-8335-5AF733C32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8BD51-6E23-47AC-B413-9D3AE72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5C6C1A-E4ED-448F-808F-E7CB5D238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F0968-AC48-422E-B12C-CC035AA6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F4F3A2-5967-4DE1-8FBC-436FE9CC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829ADD-E4FF-47D5-B834-7D2074B0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2851D-8EB5-4030-8571-66F910804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71598-42A7-4984-9000-23D714876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E05B-7B81-424F-8CA1-A373C8525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BAACC-6D5A-447A-919D-986D3168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5DE0C-8AD6-4D44-9B3D-A866F03D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812-2CDA-47C1-A212-89C8E76C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0C9EF-207E-4F79-8C6C-DF1F4985F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04D95C-6D28-4628-A71D-326A41664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B71D6-938E-471C-8657-0FF2C738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8ACFE-ED1F-4A7B-95C3-024BE650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52485-129F-4AF9-8F49-4388957E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18F74-DD7D-4B71-BE75-11AC4A0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66728-338C-4280-86EF-DAC7D3B3C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634C7-1A60-4596-BF6D-5851E1B78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ADE28-A3B1-40CA-8D3B-58D00E710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5BC8A-0728-4B5F-8FBA-BFC2F423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C434-45EC-4F41-BD4E-55B5B5CF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D9CB2-024D-4D34-8C9F-AA2EC24D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A2A0-0B58-434F-A01E-1C885E56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FEE3B-12BE-4426-A214-904B5A48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24C14-D664-4C99-AB10-0092C507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13164-A5B3-4000-99EE-333A8ABDD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8C397-1B8C-4DAB-8F84-BF553DA4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21D480-CF1A-4608-B9C5-A70291CF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76457-1403-4CD9-85E6-B1765B9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9EDEC-4BD5-4466-8400-4E3DD70FA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5BCA6-D405-4774-A1A7-BCE79755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0748-0477-48A8-B546-A662EC4B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5E782-F87C-4B12-AEF7-7D05C0897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8AE70-EA4D-489A-A77C-357EBAB6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D0DB3-2FEC-4460-B24E-4F864740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9AFD9-A85E-460C-AE30-FC74396A0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31E9DB-AF21-468D-AB70-BB517A77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50FCE-F7B7-4C93-AD5C-98D9FFD80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9AFA7-D997-4551-B201-61890D21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2F64F-A8FF-44AA-8F1F-DC296D10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AAF926-2FD6-4B78-97D7-7D6CB2C8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D906A-65C4-44B6-80CB-62167F992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E48-13B7-44DB-B133-FEAA434C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9198CA-45E4-44E4-801F-16203BF3B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A3D0-5BAF-42AA-AAD8-7182102D3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09D30-F91A-4554-AA0B-99D88B01B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FAC80-35EE-42B7-A814-891FB3ED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89679C-2AAD-4E67-B755-470396087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BC101-5B9A-4083-9FB2-48B813EA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1B658-1E05-42CC-9E47-F7601108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6060C-3413-4607-8100-281B313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53DD0-9179-4342-BD31-1838E98F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2D62-0CC7-4196-9E8F-2B4EC532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FC26-C99C-4570-948C-9679A8DE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5A3D55-FAB6-416D-8231-6EB1186E5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469D20-B60E-4263-8ABD-5E25F5AD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940D-B788-4DC6-9E58-9F097CC4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602F-3A8A-47E9-9EEE-3FA58C29A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DCC97-4F18-453A-A9F3-0CCDC1632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A65B68-B20A-4DD9-8D09-433083A3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DE05E-0014-4A66-975C-19B4BDC6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0D20D8-07B6-48B7-A44B-22AABA29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9799C-A0A3-42AA-B5A5-33E54A57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6F6DAD-A256-42AD-822C-A5908CB44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97A7-0B2B-4C9E-AA40-19676804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D3185-EA75-4C3A-8248-736B586BE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54D77-6F53-4DD2-8D01-5F11877EE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E53346-4CFC-4BD7-8424-E278C2324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D3D50-5E7F-4E85-BE84-29464F69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AA846-A20A-45BD-9EE9-03A0E4C9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90279E-D553-472A-A393-AFFCB2DAD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C60EE-76EC-418F-9972-0AE995F6B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DD11F-37A8-404F-81E0-55A1F1090C59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66880"/>
              </a:gs>
              <a:gs pos="50000">
                <a:srgbClr val="54abc5"/>
              </a:gs>
              <a:gs pos="100000">
                <a:srgbClr val="06688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2c2c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EFF7-4653-479B-B262-0C56F0FCDC16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FB4E-7D9E-4523-A480-C2FB6DC44C0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826F-EA53-4D30-ADA2-3477F73419E0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868D-CE68-4741-97FE-D17B9658885D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CFA4-4375-4642-B44A-5FCDE9225CBB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f271c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f271c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EB47-0C13-4596-8A9E-F7A3AE9FAF66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2c2c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f7990"/>
              </a:gs>
              <a:gs pos="100000">
                <a:srgbClr val="85b8ca"/>
              </a:gs>
            </a:gsLst>
            <a:lin ang="16200000"/>
          </a:gradFill>
          <a:ln cap="rnd" w="3240">
            <a:solidFill>
              <a:srgbClr val="26697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7dec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7dec9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BCE-B213-4CF4-A3C1-FBF9FB030655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Заголовок 1" descr=""/>
          <p:cNvPicPr/>
          <p:nvPr/>
        </p:nvPicPr>
        <p:blipFill>
          <a:blip r:embed="rId1"/>
          <a:stretch/>
        </p:blipFill>
        <p:spPr>
          <a:xfrm>
            <a:off x="682560" y="725400"/>
            <a:ext cx="7785000" cy="28656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1371600" y="422100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4f271c"/>
                </a:solidFill>
                <a:latin typeface="Lucida Sans Unicode"/>
              </a:rPr>
              <a:t>Бажанова А.Е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just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Умейте открыть перед ребёнком в окружающем мире что-то одно, но открыть так, чтобы кусочек жизни заиграл перед детьми всеми красками радуги. Оставляйте всегда что-то недосказанное, чтобы ребёнку захотелось ещё и ещё раз возвратиться к тому, что он узнал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Lucida Sans Unicode"/>
              </a:rPr>
              <a:t>Сухомлинский В.А.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Lucida Sans Unicode"/>
              </a:rPr>
              <a:t>Экспериментирование в детском саду </a:t>
            </a: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— это эффективная деятельность, направленная на развитие познавательной активности дошкольников.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Целью опытно-экспериментальной деятельности в ДОУ является развитие стремления к самостоятельному познанию объектов живой и неживой природы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Задачи опытно-экспериментальной деятельности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Формировать интерес дошкольников к окружающему миру, удовлетворять детскую любознательность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Развивать умения получать сведения о новом объекте в процессе его практического исследования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оздавать условия для развития самостоятельности и умения устанавливать причинно-следственные связи в природе.</a:t>
            </a:r>
            <a:br>
              <a:rPr sz="2300"/>
            </a:b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4f271c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9" name="Волшебные спички.mp4" descr=""/>
          <p:cNvPicPr/>
          <p:nvPr/>
        </p:nvPicPr>
        <p:blipFill>
          <a:blip r:embed="rId2"/>
          <a:stretch/>
        </p:blipFill>
        <p:spPr>
          <a:xfrm>
            <a:off x="1187280" y="141300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1" name="Опыт «Лава-лампа в домашних условиях».mp4" descr=""/>
          <p:cNvPicPr/>
          <p:nvPr/>
        </p:nvPicPr>
        <p:blipFill>
          <a:blip r:embed="rId2"/>
          <a:stretch/>
        </p:blipFill>
        <p:spPr>
          <a:xfrm>
            <a:off x="971640" y="1341360"/>
            <a:ext cx="705636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Ребенку-дошкольнику по природе присуща ориентация на познание окружающего мира и экспериментирование с объектами и явлениями реальности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Ценность реального эксперимента, в отличие от мысленного, заключается в том, что наглядно обнаруживаются скрытые от непосредственного наблюдения стороны объекта или явления действительности; развиваются способности ребенка к определению проблемы и самостоятельному выбору путей её решения; создаётся субъективно-новый продукт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Экспериментирование как специально организованная деятельность способствует становлению целостной картины мира ребёнка дошкольного возраста и основ культурного познания и окружающего мира.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3891a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ttps://docs.google.com/forms/d/e/1FAIpQLSdhQiQwfOaXFkJw3Py2B0N_8zE_y5VHCdTHxtB5hsaLLMJvww/viewform?usp=shar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Заголовок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11T13:45:01Z</dcterms:created>
  <dc:creator>User</dc:creator>
  <dc:description/>
  <dc:language>en-US</dc:language>
  <cp:lastModifiedBy>HP</cp:lastModifiedBy>
  <dcterms:modified xsi:type="dcterms:W3CDTF">2023-02-14T15:23:13Z</dcterms:modified>
  <cp:revision>16</cp:revision>
  <dc:subject/>
  <dc:title>Мастер-класс «Опытно- экспериментальная деятельность в ДОУ</dc:title>
</cp:coreProperties>
</file>