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CE0-5587-4A5C-B8A6-271D5E66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FFF-4786-47DE-8950-971CC21C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506-CA6A-42A6-ADA9-744B65B4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1E5-B6A7-40C6-8BC4-578840B4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85FE-9FD3-4AB2-82B1-1FB8324B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0DAF-13D1-41FA-9E26-D458ACBF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83D3-D12A-48FA-90B3-EF0FFC65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E695-36D9-46D7-981A-29536833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6A94-CAAC-46FA-A630-B6E637C3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FC59-3EA9-466E-ABDA-64154A75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2E41-914A-431B-A3B4-760F9CA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002-48B5-43BD-B00D-A32DB4C9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CC85-F105-4D3A-8D89-37AC87D3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805C-FE05-4BBF-BFF1-2BBC0FA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FD92-233E-4290-B1F0-2D59018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60D8-A3AD-44C6-A21B-C374DB53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F9D7-0C2E-4B9C-9A31-C0CF4B8D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AB28-D190-493E-8371-993EC2F6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183A-9725-4A97-B90E-52D9D8B2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51BF-3924-4CDF-A1A4-2464C7B2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736B-3DFE-4E82-9566-B6F96231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E7C7-6369-4A09-8981-23DA4AD0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849-CB88-4CF3-A2FC-C3362F4A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0DDC-847B-4AA2-A078-38EFBAD0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3AAC-EE59-4EAD-8BE4-BDD0D52E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A1FB-C4A4-49B2-9452-196E598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F2C8-397B-4810-BF9C-D0C62771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DB3E-4E8F-4D28-808B-CF54B5F5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A1E5-802C-46C4-B4AF-EEBB8434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D765-57E9-4DC9-AB17-A0014107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56F0-1415-4CB6-B72B-9E0476D5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7E2B6-B25A-4F43-9AF2-8208ABF5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0943-B631-44F5-95CA-5F0EA4A4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A91-D3F9-4B59-87AD-9240BE21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818E-132D-4DB8-B46A-CF0ED18C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6F02-611B-4101-8958-313D8F3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EEE9-5BAC-417F-B53D-88606673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DEBDE-6214-4052-ADD8-ECE9AE79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39C1A-07C9-4307-9D4C-8404B75F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2535-AD1D-41D6-9976-9B860CE0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D6A7-1982-4351-84F7-776CBD1E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A6250-DBF9-464F-B068-219BB8AD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7139C-E818-44D2-8B83-53488B7F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9ED7D-3B69-4DE2-8EF5-E37ADB3A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FFD-B1F8-4B7D-9B06-3BFE8E38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6F77-17D7-403B-B854-B131276A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23779-44C9-4CEE-BB97-FA67E0FA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B00C4-3F97-4885-BF3B-E81213B0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7DDB-00E7-4B42-9FC8-B2EF875F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D664-E373-48F9-A9C2-A06A05A4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09615-014C-4380-8B32-DB063E94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B9C28-632C-4F94-AB6A-7D2C8CA8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C24D7-DD33-4501-9B66-F280FF0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825A8-D0A1-4353-B56C-3BE087B4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442A5-9F16-4903-B2B9-2CB522F6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D3B-4791-4773-A86D-038C19FF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75207-9524-41BF-B7AF-DF447B53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B8682-0D30-46E9-88EA-18A68A6B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095DC-B707-4E00-81F4-D71EC466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3EB76-161E-46EF-8AA1-66DB0C3C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4CC1F-CFC0-49BC-8701-1BEC961C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FE65D-0CCE-47E9-997A-516F1627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778D-FB7C-47DF-B599-45F6009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C5B3B-656B-4088-9183-12BFFC3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70C5-2700-4EEC-8460-09225B5E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18732-D08F-4117-9B31-CD001154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F0D-C03B-4103-8A7C-1E1C583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7FD85-4833-4ACB-8BB2-7A45266A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BB976-5B65-4A99-B8D0-46FB34B3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53AE6-19FB-4A69-BBA3-BF30A0DE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46B31-E085-4963-8A74-03251272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B3EDC-36E8-4E76-9D0D-A18E880D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CD11C-FD6D-45BF-B429-66DAD0D5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DDE27-C4CD-4B4F-B2CD-C57A2FA8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45E52-CF29-4CF1-AC68-3B9A105B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48083-5FC8-4B7C-81D1-53D6D2AC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6A123-2DC8-4E22-9CEB-608BA09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691-8015-4DBB-8E6B-8BE5B9BC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B2867-9A05-4C55-8FAA-5409D4E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EEED-BF82-41CE-A850-CF56D4A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DBBC-57EE-464A-B302-24C23B0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CEA2-5F60-487E-995E-D32634D7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E20DA-D9D1-4401-98A7-B50ABD48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83CC3-9CD0-494F-A7CA-AE91AE22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FBB1-BEAF-49B8-9146-349C41D0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C2989-79FC-4D30-BCA0-9D7EDA82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C467F-9C9C-4DB5-8392-AE6F6790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B8A94-E96F-444E-9932-561F2681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B2B-2026-4EE7-9E56-C22DE7F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68054-95D2-4437-B195-BEF1EB22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F4FCD-570E-40CF-98EB-20C6EF03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5A31-5A7D-457F-9F94-1C24D52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13C04-FCA9-4890-A110-D826E07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51238-ADDE-4A4F-9387-B025394B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D5365-E5AC-4F2D-913B-912027D2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4F04D-61A7-4419-9BBC-3ED9A719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6F9D-B00B-419D-AB9D-CC15B437709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9BA1-05B9-49A4-95FB-610C144C3EF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3B3-293E-4F8E-BDF5-A82259D187D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07F6-EE53-4852-82BD-E7B6244F4B9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AAD9-BEA6-4A92-9F18-8CFBB1A0528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805E-379A-4B32-A92A-A086DDBB52B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D328-C39F-4F4F-958B-E4BFE111594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33DF-98AC-41BA-B212-14321267245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725400"/>
            <a:ext cx="7785000" cy="2865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271c"/>
                </a:solidFill>
                <a:latin typeface="Lucida Sans Unicode"/>
              </a:rPr>
              <a:t>Бажанова А.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йте открыть перед ребё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ёнку захотелось ещё и ещё раз возвратиться к тому, что он узна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хомлинский В.А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f271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Экспериментирование в детском саду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— это эффективная деятельность, направленная на развитие познавательной активности дошкольников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f271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Целью опытно-экспериментальной деятельности в ДОУ является развитие стремления к самостоятельному познанию объектов живой и неживой природы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дачи опытно-экспериментальной деятельности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Формировать интерес дошкольников к окружающему миру, удовлетворять детскую любознательность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вивать умения получать сведения о новом объекте в процессе его практического исследования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здавать условия для развития самостоятельности и умения устанавливать причинно-следственные связи в природ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f271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Волшебные спички.mp4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Опыт «Лава-лампа в домашних условиях».mp4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0563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Ребенку-дошкольнику по природе присуща ориентация на познание окружающего мира и экспериментирование с объектами и явлениями реальности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Ценность реального эксперимента, в отличие от мысленного, заключается в том, что наглядно обнаруживаются скрытые от непосредственного наблюдения стороны объекта или явления действительности; развиваются способности ребенка к определению проблемы и самостоятельному выбору путей её решения; создаётся субъективно-новый продукт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Экспериментирование как специально организованная деятельность способствует становлению целостной картины мира ребёнка дошкольного возраста и основ культурного познания и окружающего мира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docs.google.com/forms/d/e/1FAIpQLSdhQiQwfOaXFkJw3Py2B0N_8zE_y5VHCdTHxtB5hsaLLMJvww/viewform?usp=sha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1T13:45:01Z</dcterms:created>
  <dc:creator>User</dc:creator>
  <dc:description/>
  <dc:language>en-US</dc:language>
  <cp:lastModifiedBy>HP</cp:lastModifiedBy>
  <dcterms:modified xsi:type="dcterms:W3CDTF">2023-02-14T15:23:13Z</dcterms:modified>
  <cp:revision>16</cp:revision>
  <dc:subject/>
  <dc:title>Мастер-класс «Опытно- экспериментальная деятельность в ДОУ</dc:title>
</cp:coreProperties>
</file>