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C8F-2BCD-4424-888B-F888B8C0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3DA-7406-473C-893A-F59AE01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8D0-8BEE-4712-8048-8B914732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285-0B04-4964-8DE0-776A29AD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CACA-4AC8-41DC-B16E-5DEF5235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4E1D-7F70-4A67-A327-825DC7B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14A-5B18-43F3-9819-DED2E01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F122-8E83-4AAB-9E63-DA89099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0F2D-7DC1-4D79-B49A-B691D2F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7BF0-C340-405B-AA53-EA58B60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04A8-3F06-4938-8C35-829FD7E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EBF-4079-4198-B510-51BB1AD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4B8D-A529-46AA-80B7-364BDCA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A573-7F7A-4E19-9031-2C70709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844A-5081-479F-ACC6-299CE23A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1EB-1461-4A7D-82CC-65207BE8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AB8-E724-47A5-96DB-FF465672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BA93-9F0B-425B-82D2-DF47772B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1DE1-865E-4DB0-B2AD-94B3176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6C85-18E2-4BDD-8038-511D712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BA30-B82F-4841-AF7F-AEAC3F84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BD49-C4CE-45E6-94AE-E4EC5EBD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131-31EF-4FBD-911C-D1B2B76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56B0-91FE-4CDC-A47F-28C1D6A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F449-C210-4435-AE29-D2DA1A8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958B-8091-4835-8690-B647B8C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5605-8EAA-440E-B16E-A4CD8C6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AA04-1D91-4AFB-A0F0-B07BD441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911D-9F59-418E-8092-F154249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CEAC-0F00-4C50-9AA7-5F4F8BFD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3A8E-973A-4919-80A5-FD39FC7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3DE5-6BFD-4D6E-BE25-33F4398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655E-9382-4B7D-AB4E-1D4AC94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84C-1074-4B23-B65B-C1405FD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463B-5DCA-4810-9C87-A3A5DF5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6ED8-087C-49ED-9FFD-DFE25981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5D18-2766-4265-A752-FB5B1CD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0B28-858C-49DB-B474-65F0396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D6C5-8A44-4C81-BE4D-DEA31370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2F78-A52B-46B4-929C-2F1D13C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3405-12B9-42DD-9856-7E14F03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D4C3-8594-430C-9AA3-74EB72C6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AB5B-40C9-4AE3-B3FE-18B3FE23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3CB14-F2C7-47DF-AA3E-95224CCF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BC9-BB53-4B3D-A572-2E5B4CFF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F0D3-B1A2-4395-8DC6-D371F9B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1C8C-B1C3-4437-A953-4230142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F757-58F6-4791-A241-D3F9BCE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0DFD-93A9-45FC-9E8E-3BB4829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08DB-C363-43D8-AD8B-2E3F87E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6D1F-7754-490D-BBCF-3AEC514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71F21-795E-431E-9C5C-32402B1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75F0-E936-427A-A0CB-C47E9BC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15A9-5A05-4EAE-863F-763E61F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8014-25F5-4DAD-ADC8-F2BF7E71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B48-4881-42CB-B80E-E1B33A6B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4FEC5-3895-4294-829C-2594A0DA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C1E9-F847-42BC-907F-B96FA31F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9C9C4-0BCC-448C-B378-9E13F4B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A294-A1CC-471C-BE86-A20899B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A613-5E3C-44ED-90F9-BAC38B7D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D391-64C9-4E80-B918-1ADF5980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3A2F-C950-4A04-AD79-7DBCDE9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ABEF-01C6-4A80-97AF-423FAD7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54E8-4C13-46A9-891A-322F0B0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568C-04EA-4704-BFFE-E1D5691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C6E-A139-4D99-9250-015D2F2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900C-870F-4D2F-A5AF-2A5877B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5A20-6524-42CF-8AC4-15AFF90D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8683D-3EFE-432D-9C7A-BB4225A8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37792-AEBB-40B7-B03A-AF9BE80F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5B5F-7600-4B17-91AE-5C0A07CD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6FD1-F2D9-46A7-9112-6853F1B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99991-2BB8-4FD3-8D48-9896BCCB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5B15-3C61-4863-B4D7-593AD48A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0552-C171-4194-ABD8-B2E196A0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3F94-7B6A-4BF4-A86F-C3F5A6A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E42-846E-492D-A658-5727C5E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8934A-7E62-424C-8BEE-AA9F355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ECF7-746C-492D-93FB-39795A7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129A-6925-40B1-890C-C392E3A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6FAF-E200-4BBB-96DF-93A72AB4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1002-4527-4FB3-8FB2-DB0C0F2D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63CD-CBF6-4BFC-8997-34AEAC26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8C73B-5849-4FE4-9CCC-1E0275C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B09E3-2E3E-424B-A88C-50E755AD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CBB9F-6F5A-4054-9BB3-5D9B8BD4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1C3A1-D1E2-484D-BC83-6155113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DCB-6255-472D-A2B1-C5F1862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1CDA-7C03-4B60-A4BB-34C9725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D3CD4-7F49-466F-A925-2770CA9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6C2B-F938-4D1C-931F-0E64789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0AA5D-9925-4B59-BD85-8FBCA70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C2AFF-AA51-4E6F-B3D9-65F42D5C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DA1E-E80D-4B37-9168-1CAC54F6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DB4E6-5C7B-4804-9CAA-E18A2A3D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901-C33D-4627-AED5-5D66B2B9151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DF59-8F5F-4D3D-9F34-82D307E8F65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BF6-A5E7-4418-9285-63209120CA3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5F3F-23AE-4519-AA8B-7DE4BE5028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7594-DE6C-455F-8BD6-B68FD7C073F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8D6-C899-4698-A632-2FCEAD0CBD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231-2A76-4B66-A433-57EC114A6D1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5E6-E053-4FF8-BFCC-55B8F4B3DF9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7785000" cy="2865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Lucida Sans Unicode"/>
              </a:rPr>
              <a:t>Бажанова А.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хомлинский В.А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Экспериментирование в детском саду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— это эффективная деятельность, направленная на развитие познавательной активности дошкольников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Целью опытно-экспериментальной деятельности в ДОУ является развитие стремления к самостоятельному познанию объектов живой и неживой природы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дачи опытно-экспериментальной деятельнос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ть интерес дошкольников к окружающему миру, удовлетворять детскую любознательность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вать умения получать сведения о новом объекте в процессе его практического исследования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здавать условия для развития самостоятельности и умения устанавливать причинно-следственные связи в природ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Волшебные спички.mp4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Опыт «Лава-лампа в домашних условиях».mp4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0563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Ребенку-дошкольнику по природе присуща ориентация на познание окружающего мира и экспериментирование с объектами и явлениями реальност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Ценность реального эксперимента, в отличие от мысленного, заключается в том, что наглядно обнаруживаются скрытые от непосредственного наблюдения стороны объекта или явления действительности; развиваются способности ребенка к определению проблемы и самостоятельному выбору путей её решения; создаётся субъективно-новый продук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Экспериментирование как специально организованная деятельность способствует становлению целостной картины мира ребёнка дошкольного возраста и основ культурного познания и окружающего мира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docs.google.com/forms/d/e/1FAIpQLSdhQiQwfOaXFkJw3Py2B0N_8zE_y5VHCdTHxtB5hsaLLMJvww/viewform?usp=sh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1T13:45:01Z</dcterms:created>
  <dc:creator>User</dc:creator>
  <dc:description/>
  <dc:language>en-US</dc:language>
  <cp:lastModifiedBy>HP</cp:lastModifiedBy>
  <dcterms:modified xsi:type="dcterms:W3CDTF">2023-02-14T15:23:13Z</dcterms:modified>
  <cp:revision>16</cp:revision>
  <dc:subject/>
  <dc:title>Мастер-класс «Опытно- экспериментальная деятельность в ДОУ</dc:title>
</cp:coreProperties>
</file>