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10B-D432-40A1-836B-A2823C83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DA5-B01B-4CA6-93A1-1D5D562E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387-2D08-42BF-9EE5-A58DA3CA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F4B-0985-4BE1-9A06-6E99D867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12A-21D8-4C02-B225-1BA8A86A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22A-1C8B-465A-A123-4198C91A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ABF-6E2C-4634-87B5-230112B4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29C-5296-41CE-9BE0-4541C53A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68B-FB13-4D81-8118-C8090DE1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942-4F1F-42F7-92FD-A2687231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5EC-06E0-42C3-9A4B-617F6DC3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2E2-0559-415C-9366-30584F4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69676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63631C-D5A8-4519-B9DA-DC2C1A499589}" type="slidenum">
              <a:rPr b="0" lang="ru-RU" sz="1100" spc="-1" strike="noStrike">
                <a:solidFill>
                  <a:srgbClr val="6967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a379bb">
                <a:lumMod val="60000"/>
                <a:lumOff val="40000"/>
              </a:srgbClr>
            </a:solidFill>
          </a:ln>
        </p:spPr>
      </p:pic>
      <p:sp>
        <p:nvSpPr>
          <p:cNvPr id="43" name="TextBox 2"/>
          <p:cNvSpPr/>
          <p:nvPr/>
        </p:nvSpPr>
        <p:spPr>
          <a:xfrm>
            <a:off x="0" y="0"/>
            <a:ext cx="91436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БОУ Школа №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едагоги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Художественное – эсте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Бисеропле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азвитие творческих способностей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        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роз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дежда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ск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0" y="332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Что можно сделать из бис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vishenky_iz_bisera.jpg"/>
          <p:cNvPicPr/>
          <p:nvPr/>
        </p:nvPicPr>
        <p:blipFill>
          <a:blip r:embed="rId2"/>
          <a:stretch/>
        </p:blipFill>
        <p:spPr>
          <a:xfrm>
            <a:off x="683640" y="1340640"/>
            <a:ext cx="3042720" cy="214596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6" name="Рисунок 5" descr="710789-712536-original.jpg"/>
          <p:cNvPicPr/>
          <p:nvPr/>
        </p:nvPicPr>
        <p:blipFill>
          <a:blip r:embed="rId3"/>
          <a:stretch/>
        </p:blipFill>
        <p:spPr>
          <a:xfrm>
            <a:off x="3204000" y="3789000"/>
            <a:ext cx="3420360" cy="246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7" name="Рисунок 6" descr="1_525501131af9d525501131b003.jpg"/>
          <p:cNvPicPr/>
          <p:nvPr/>
        </p:nvPicPr>
        <p:blipFill>
          <a:blip r:embed="rId4"/>
          <a:stretch/>
        </p:blipFill>
        <p:spPr>
          <a:xfrm>
            <a:off x="5292000" y="1124640"/>
            <a:ext cx="3357360" cy="2517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0" y="76464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озы из бисер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3204000" y="2277000"/>
            <a:ext cx="31928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0" y="476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0" y="1412640"/>
            <a:ext cx="9143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5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«Бисероплетение» является воспитание творческой личности, проявляющей интерес к художественному творчест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69676d">
                <a:lumMod val="20000"/>
                <a:lumOff val="80000"/>
              </a:srgbClr>
            </a:solidFill>
          </a:ln>
        </p:spPr>
      </p:pic>
      <p:sp>
        <p:nvSpPr>
          <p:cNvPr id="51" name="Прямоугольник 2"/>
          <p:cNvSpPr/>
          <p:nvPr/>
        </p:nvSpPr>
        <p:spPr>
          <a:xfrm>
            <a:off x="0" y="404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Основные 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1443960"/>
            <a:ext cx="9143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1. формирование представлений о необходимости труд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. формирование практических умений в процессе обучения и воспитание привычки точного выполнения правил трудовой культур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3. воспитание трудолюбия, выработка терпения, сосредоточенно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4. развитие творческих способносте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5. развитие мелкой моторики ру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атериал для</a:t>
            </a: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бисеропле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3132000" y="1340640"/>
            <a:ext cx="3209400" cy="2178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Рисунок4.jpg"/>
          <p:cNvPicPr/>
          <p:nvPr/>
        </p:nvPicPr>
        <p:blipFill>
          <a:blip r:embed="rId3"/>
          <a:stretch/>
        </p:blipFill>
        <p:spPr>
          <a:xfrm>
            <a:off x="1331640" y="3861000"/>
            <a:ext cx="660708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0" y="332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Схема розы и лепестков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0389218 (1).jpg"/>
          <p:cNvPicPr/>
          <p:nvPr/>
        </p:nvPicPr>
        <p:blipFill>
          <a:blip r:embed="rId2"/>
          <a:stretch/>
        </p:blipFill>
        <p:spPr>
          <a:xfrm>
            <a:off x="827640" y="1563480"/>
            <a:ext cx="1488960" cy="1386360"/>
          </a:xfrm>
          <a:prstGeom prst="rect">
            <a:avLst/>
          </a:prstGeom>
          <a:ln cap="rnd" w="190500">
            <a:solidFill>
              <a:srgbClr val="9cb084">
                <a:lumMod val="60000"/>
                <a:lumOff val="40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0" name="Рисунок 7" descr="0389218 (2).jpg"/>
          <p:cNvPicPr/>
          <p:nvPr/>
        </p:nvPicPr>
        <p:blipFill>
          <a:blip r:embed="rId3"/>
          <a:stretch/>
        </p:blipFill>
        <p:spPr>
          <a:xfrm>
            <a:off x="2699640" y="3070080"/>
            <a:ext cx="1944000" cy="1465920"/>
          </a:xfrm>
          <a:prstGeom prst="rect">
            <a:avLst/>
          </a:prstGeom>
          <a:ln cap="rnd" w="190500">
            <a:solidFill>
              <a:srgbClr val="ffc00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1" name="Рисунок 8" descr="0389218.jpg"/>
          <p:cNvPicPr/>
          <p:nvPr/>
        </p:nvPicPr>
        <p:blipFill>
          <a:blip r:embed="rId4"/>
          <a:stretch/>
        </p:blipFill>
        <p:spPr>
          <a:xfrm>
            <a:off x="5004000" y="1563480"/>
            <a:ext cx="1823760" cy="1267920"/>
          </a:xfrm>
          <a:prstGeom prst="rect">
            <a:avLst/>
          </a:prstGeom>
          <a:ln cap="rnd" w="190500">
            <a:solidFill>
              <a:srgbClr val="69676d">
                <a:lumMod val="75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2" name="Рисунок 9" descr="1274612919_9.jpg"/>
          <p:cNvPicPr/>
          <p:nvPr/>
        </p:nvPicPr>
        <p:blipFill>
          <a:blip r:embed="rId5"/>
          <a:stretch/>
        </p:blipFill>
        <p:spPr>
          <a:xfrm>
            <a:off x="7308360" y="2787840"/>
            <a:ext cx="1151640" cy="1958400"/>
          </a:xfrm>
          <a:prstGeom prst="rect">
            <a:avLst/>
          </a:prstGeom>
          <a:ln cap="rnd" w="190500">
            <a:solidFill>
              <a:srgbClr val="00b05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0" y="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рием нанизы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 проволочку по схем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DSCN3927.JPG"/>
          <p:cNvPicPr/>
          <p:nvPr/>
        </p:nvPicPr>
        <p:blipFill>
          <a:blip r:embed="rId2"/>
          <a:stretch/>
        </p:blipFill>
        <p:spPr>
          <a:xfrm>
            <a:off x="539640" y="2205000"/>
            <a:ext cx="2138760" cy="165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6" name="Рисунок 4" descr="DSCN3923.JPG"/>
          <p:cNvPicPr/>
          <p:nvPr/>
        </p:nvPicPr>
        <p:blipFill>
          <a:blip r:embed="rId3"/>
          <a:stretch/>
        </p:blipFill>
        <p:spPr>
          <a:xfrm>
            <a:off x="3060000" y="2133000"/>
            <a:ext cx="1842840" cy="1800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7" name="Рисунок 6" descr="DSCN3928.JPG"/>
          <p:cNvPicPr/>
          <p:nvPr/>
        </p:nvPicPr>
        <p:blipFill>
          <a:blip r:embed="rId4"/>
          <a:stretch/>
        </p:blipFill>
        <p:spPr>
          <a:xfrm>
            <a:off x="5220000" y="2133000"/>
            <a:ext cx="1656000" cy="1759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8" name="Рисунок 7" descr="DSCN3931.JPG"/>
          <p:cNvPicPr/>
          <p:nvPr/>
        </p:nvPicPr>
        <p:blipFill>
          <a:blip r:embed="rId5"/>
          <a:stretch/>
        </p:blipFill>
        <p:spPr>
          <a:xfrm>
            <a:off x="7164360" y="2205000"/>
            <a:ext cx="1627920" cy="16570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9" name="Рисунок 8" descr="DSCN3932.JPG"/>
          <p:cNvPicPr/>
          <p:nvPr/>
        </p:nvPicPr>
        <p:blipFill>
          <a:blip r:embed="rId6"/>
          <a:stretch/>
        </p:blipFill>
        <p:spPr>
          <a:xfrm>
            <a:off x="1331640" y="4221000"/>
            <a:ext cx="2160000" cy="2038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0" name="Рисунок 9" descr="DSCN3933.JPG"/>
          <p:cNvPicPr/>
          <p:nvPr/>
        </p:nvPicPr>
        <p:blipFill>
          <a:blip r:embed="rId7"/>
          <a:stretch/>
        </p:blipFill>
        <p:spPr>
          <a:xfrm>
            <a:off x="4068000" y="4293000"/>
            <a:ext cx="2160000" cy="1914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1" name="Рисунок 11" descr="DSCN3921.JPG"/>
          <p:cNvPicPr/>
          <p:nvPr/>
        </p:nvPicPr>
        <p:blipFill>
          <a:blip r:embed="rId8"/>
          <a:stretch/>
        </p:blipFill>
        <p:spPr>
          <a:xfrm>
            <a:off x="6804360" y="4221000"/>
            <a:ext cx="1549800" cy="1831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DSCN3948.JPG"/>
          <p:cNvPicPr/>
          <p:nvPr/>
        </p:nvPicPr>
        <p:blipFill>
          <a:blip r:embed="rId2"/>
          <a:stretch/>
        </p:blipFill>
        <p:spPr>
          <a:xfrm>
            <a:off x="971640" y="836640"/>
            <a:ext cx="3027240" cy="2088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4" name="Рисунок 3" descr="DSCN3954.JPG"/>
          <p:cNvPicPr/>
          <p:nvPr/>
        </p:nvPicPr>
        <p:blipFill>
          <a:blip r:embed="rId3"/>
          <a:stretch/>
        </p:blipFill>
        <p:spPr>
          <a:xfrm>
            <a:off x="899640" y="4587120"/>
            <a:ext cx="2664000" cy="17600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5" name="Рисунок 4" descr="DSCN3963.JPG"/>
          <p:cNvPicPr/>
          <p:nvPr/>
        </p:nvPicPr>
        <p:blipFill>
          <a:blip r:embed="rId4"/>
          <a:stretch/>
        </p:blipFill>
        <p:spPr>
          <a:xfrm>
            <a:off x="5580000" y="836640"/>
            <a:ext cx="3168000" cy="19162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6" name="Рисунок 5" descr="DSCN3960.JPG"/>
          <p:cNvPicPr/>
          <p:nvPr/>
        </p:nvPicPr>
        <p:blipFill>
          <a:blip r:embed="rId5"/>
          <a:stretch/>
        </p:blipFill>
        <p:spPr>
          <a:xfrm>
            <a:off x="6012000" y="4437000"/>
            <a:ext cx="2877480" cy="1894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7" name="Рисунок 6" descr="DSCN3958.JPG"/>
          <p:cNvPicPr/>
          <p:nvPr/>
        </p:nvPicPr>
        <p:blipFill>
          <a:blip r:embed="rId6"/>
          <a:stretch/>
        </p:blipFill>
        <p:spPr>
          <a:xfrm>
            <a:off x="3276000" y="2565000"/>
            <a:ext cx="3096000" cy="21697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отовые р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исунок 8"/>
          <p:cNvSpPr/>
          <p:nvPr/>
        </p:nvSpPr>
        <p:spPr>
          <a:xfrm>
            <a:off x="323640" y="1353240"/>
            <a:ext cx="3096000" cy="437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исунок 9"/>
          <p:cNvSpPr/>
          <p:nvPr/>
        </p:nvSpPr>
        <p:spPr>
          <a:xfrm>
            <a:off x="3852000" y="3085920"/>
            <a:ext cx="2016000" cy="31914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исунок 10"/>
          <p:cNvSpPr/>
          <p:nvPr/>
        </p:nvSpPr>
        <p:spPr>
          <a:xfrm>
            <a:off x="6156000" y="1196640"/>
            <a:ext cx="2615760" cy="46508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2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ffc000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37</TotalTime>
  <Application>LibreOffice/7.4.7.2$Linux_X86_64 LibreOffice_project/40$Build-2</Application>
  <AppVersion>15.0000</AppVersion>
  <Words>70</Words>
  <Paragraphs>3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5:12:38Z</dcterms:created>
  <dc:creator>Надежда Морозова</dc:creator>
  <dc:description/>
  <dc:language>en-US</dc:language>
  <cp:lastModifiedBy>123</cp:lastModifiedBy>
  <dcterms:modified xsi:type="dcterms:W3CDTF">2023-09-05T18:48:50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