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A9AD-10F8-44AC-B247-4B45D8FB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0D01-218C-4704-9535-024C0C60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AD09-0A32-4B82-A827-0CF61F4B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0B4A-81ED-40BB-961D-C9578E3A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EAB-F31B-4265-8201-B972C350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DBB-94D4-445D-A888-F01B5D86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979F-B9C0-4BC7-94AD-D10F4582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75A-76CC-4B28-9FB7-3E589704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C5C-657E-4970-ABC1-75E7CDC2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2665-868A-400C-8BB0-D65896E6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5189-D2E6-4165-B51D-2C002668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6A2-809E-4ECD-8F6B-DF2C50F6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957C-4C01-4597-94AC-E152338A50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ГБОУ Школа №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едагогическая мастер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Художественно- эстетическ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е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иллин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Развитие творческих способностей д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Воспита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Мороз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Надежда Валерь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Моск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2022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397240" y="620640"/>
            <a:ext cx="57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Выполнения закручивание полос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DSCN2997"/>
          <p:cNvPicPr/>
          <p:nvPr/>
        </p:nvPicPr>
        <p:blipFill>
          <a:blip r:embed="rId2"/>
          <a:stretch/>
        </p:blipFill>
        <p:spPr>
          <a:xfrm>
            <a:off x="3059280" y="1413000"/>
            <a:ext cx="1938240" cy="254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DSCN2840"/>
          <p:cNvPicPr/>
          <p:nvPr/>
        </p:nvPicPr>
        <p:blipFill>
          <a:blip r:embed="rId3"/>
          <a:stretch/>
        </p:blipFill>
        <p:spPr>
          <a:xfrm>
            <a:off x="6659640" y="1484280"/>
            <a:ext cx="1974600" cy="2524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DSCN2841"/>
          <p:cNvPicPr/>
          <p:nvPr/>
        </p:nvPicPr>
        <p:blipFill>
          <a:blip r:embed="rId4"/>
          <a:stretch/>
        </p:blipFill>
        <p:spPr>
          <a:xfrm>
            <a:off x="2124000" y="4221000"/>
            <a:ext cx="1685880" cy="2376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DSCN2843"/>
          <p:cNvPicPr/>
          <p:nvPr/>
        </p:nvPicPr>
        <p:blipFill>
          <a:blip r:embed="rId5"/>
          <a:stretch/>
        </p:blipFill>
        <p:spPr>
          <a:xfrm>
            <a:off x="5364000" y="4221000"/>
            <a:ext cx="17319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124000" y="907920"/>
            <a:ext cx="28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Соединение элем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между с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DSCN2850"/>
          <p:cNvPicPr/>
          <p:nvPr/>
        </p:nvPicPr>
        <p:blipFill>
          <a:blip r:embed="rId2"/>
          <a:stretch/>
        </p:blipFill>
        <p:spPr>
          <a:xfrm>
            <a:off x="1908000" y="2997360"/>
            <a:ext cx="3187800" cy="3579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DSCN2998"/>
          <p:cNvPicPr/>
          <p:nvPr/>
        </p:nvPicPr>
        <p:blipFill>
          <a:blip r:embed="rId3"/>
          <a:stretch/>
        </p:blipFill>
        <p:spPr>
          <a:xfrm>
            <a:off x="5940360" y="404640"/>
            <a:ext cx="2800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484720" y="476280"/>
            <a:ext cx="519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Выкладывание элементов на плотную бумагу, 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будущею открыт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DSCN2989"/>
          <p:cNvPicPr/>
          <p:nvPr/>
        </p:nvPicPr>
        <p:blipFill>
          <a:blip r:embed="rId2"/>
          <a:stretch/>
        </p:blipFill>
        <p:spPr>
          <a:xfrm>
            <a:off x="1908000" y="1844640"/>
            <a:ext cx="2864160" cy="3710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DSCN2851"/>
          <p:cNvPicPr/>
          <p:nvPr/>
        </p:nvPicPr>
        <p:blipFill>
          <a:blip r:embed="rId3"/>
          <a:stretch/>
        </p:blipFill>
        <p:spPr>
          <a:xfrm>
            <a:off x="5508720" y="1916280"/>
            <a:ext cx="2984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305080" y="547560"/>
            <a:ext cx="62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ambria"/>
              </a:rPr>
              <a:t>Приклеивание элементов на откры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DSCN2848"/>
          <p:cNvPicPr/>
          <p:nvPr/>
        </p:nvPicPr>
        <p:blipFill>
          <a:blip r:embed="rId2"/>
          <a:stretch/>
        </p:blipFill>
        <p:spPr>
          <a:xfrm>
            <a:off x="1547640" y="1413000"/>
            <a:ext cx="1947960" cy="280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DSCN2849"/>
          <p:cNvPicPr/>
          <p:nvPr/>
        </p:nvPicPr>
        <p:blipFill>
          <a:blip r:embed="rId3"/>
          <a:stretch/>
        </p:blipFill>
        <p:spPr>
          <a:xfrm>
            <a:off x="3708360" y="2133720"/>
            <a:ext cx="2239920" cy="291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DSCN2853"/>
          <p:cNvPicPr/>
          <p:nvPr/>
        </p:nvPicPr>
        <p:blipFill>
          <a:blip r:embed="rId4"/>
          <a:stretch/>
        </p:blipFill>
        <p:spPr>
          <a:xfrm>
            <a:off x="6372360" y="2997360"/>
            <a:ext cx="24159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835280" y="40464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Итог проделанной  работы с детьм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из квиллин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DSCN2899"/>
          <p:cNvPicPr/>
          <p:nvPr/>
        </p:nvPicPr>
        <p:blipFill>
          <a:blip r:embed="rId2"/>
          <a:stretch/>
        </p:blipFill>
        <p:spPr>
          <a:xfrm>
            <a:off x="2124000" y="1557360"/>
            <a:ext cx="6462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338560" y="333360"/>
            <a:ext cx="58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Все то что можно сделать из квиллин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IMG_0002"/>
          <p:cNvPicPr/>
          <p:nvPr/>
        </p:nvPicPr>
        <p:blipFill>
          <a:blip r:embed="rId2"/>
          <a:stretch/>
        </p:blipFill>
        <p:spPr>
          <a:xfrm>
            <a:off x="1692360" y="1413000"/>
            <a:ext cx="2265120" cy="219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IMG_0001"/>
          <p:cNvPicPr/>
          <p:nvPr/>
        </p:nvPicPr>
        <p:blipFill>
          <a:blip r:embed="rId3"/>
          <a:stretch/>
        </p:blipFill>
        <p:spPr>
          <a:xfrm>
            <a:off x="4211640" y="1413000"/>
            <a:ext cx="1952640" cy="2665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IMG"/>
          <p:cNvPicPr/>
          <p:nvPr/>
        </p:nvPicPr>
        <p:blipFill>
          <a:blip r:embed="rId4"/>
          <a:stretch/>
        </p:blipFill>
        <p:spPr>
          <a:xfrm>
            <a:off x="6443640" y="1413000"/>
            <a:ext cx="2432160" cy="2158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MG_0003"/>
          <p:cNvPicPr/>
          <p:nvPr/>
        </p:nvPicPr>
        <p:blipFill>
          <a:blip r:embed="rId5"/>
          <a:stretch/>
        </p:blipFill>
        <p:spPr>
          <a:xfrm>
            <a:off x="1619280" y="4724280"/>
            <a:ext cx="2327400" cy="1625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IMG_0004"/>
          <p:cNvPicPr/>
          <p:nvPr/>
        </p:nvPicPr>
        <p:blipFill>
          <a:blip r:embed="rId6"/>
          <a:stretch/>
        </p:blipFill>
        <p:spPr>
          <a:xfrm>
            <a:off x="4140360" y="4559400"/>
            <a:ext cx="2171520" cy="183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IMG_0005"/>
          <p:cNvPicPr/>
          <p:nvPr/>
        </p:nvPicPr>
        <p:blipFill>
          <a:blip r:embed="rId7"/>
          <a:stretch/>
        </p:blipFill>
        <p:spPr>
          <a:xfrm>
            <a:off x="6832440" y="3860640"/>
            <a:ext cx="1887840" cy="25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124000" y="40464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Литература по квиллинг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обложка"/>
          <p:cNvPicPr/>
          <p:nvPr/>
        </p:nvPicPr>
        <p:blipFill>
          <a:blip r:embed="rId2"/>
          <a:stretch/>
        </p:blipFill>
        <p:spPr>
          <a:xfrm>
            <a:off x="1835280" y="1989000"/>
            <a:ext cx="2904840" cy="4140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IMG"/>
          <p:cNvPicPr/>
          <p:nvPr/>
        </p:nvPicPr>
        <p:blipFill>
          <a:blip r:embed="rId3"/>
          <a:stretch/>
        </p:blipFill>
        <p:spPr>
          <a:xfrm>
            <a:off x="5364000" y="1989000"/>
            <a:ext cx="28814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3276720" y="836640"/>
            <a:ext cx="306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К</a:t>
            </a:r>
            <a:r>
              <a:rPr b="0" lang="ru-RU" sz="4800" spc="-1" strike="noStrike">
                <a:solidFill>
                  <a:srgbClr val="8ef28e"/>
                </a:solidFill>
                <a:latin typeface="Arial"/>
              </a:rPr>
              <a:t>в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4800" spc="-1" strike="noStrike">
                <a:solidFill>
                  <a:srgbClr val="6600cc"/>
                </a:solidFill>
                <a:latin typeface="Arial"/>
              </a:rPr>
              <a:t>лл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4800" spc="-1" strike="noStrike">
                <a:solidFill>
                  <a:srgbClr val="996633"/>
                </a:solidFill>
                <a:latin typeface="Arial"/>
              </a:rPr>
              <a:t>н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0_18f1b_a871cf69_L"/>
          <p:cNvPicPr/>
          <p:nvPr/>
        </p:nvPicPr>
        <p:blipFill>
          <a:blip r:embed="rId2"/>
          <a:stretch/>
        </p:blipFill>
        <p:spPr>
          <a:xfrm>
            <a:off x="2340000" y="1773360"/>
            <a:ext cx="5406840" cy="39700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3780000" y="47628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195640" y="1052640"/>
            <a:ext cx="56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Сделать с детьми праздничные пода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в виде  открытки мамам на 8 мар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908000" y="2133720"/>
            <a:ext cx="6624720" cy="35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знакомить детей с бумажной филигранью и рассказать что такое квиллинг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знакомить с инструментами и материалами  квиллинга.</a:t>
            </a: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Рассказать и рассмотреть элементы квиллин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знакомит со схемами  и иллюстрации из квиллинг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Воспитывать интерес и желания сделать подарок своими рук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1476360" y="620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Cambria"/>
              </a:rPr>
              <a:t>Немного истории о квиллинг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835280" y="1413000"/>
            <a:ext cx="730872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Cambria"/>
              </a:rPr>
              <a:t>Квиллинг — искусство украшения витиева­тыми кружками бумаги предметов интерьера и одежды — насчитывает приблизительно 500 лет. Видимо, первоначально бумажная филигрань была имитацией и одновременно альтернативой традиционной филиграни из золотой и серебряной проволоки и украша­ла предметы религиозного характера. Затем это тонкое искусство вошло в светскую жизнь. Повсеместное распространение маги и ее удешевление (конец XVIII — начало XIX в.) привело к росту декоративны ремесел, особенно в Англ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Cambria"/>
              </a:rPr>
              <a:t>Женщины и высшего общества и среднего класса стали прекрасными мастерицами бумажной филиграни. В журналах того времени публиковались описания техники и модели квиллинг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Cambria"/>
              </a:rPr>
              <a:t>Технология выполнения квиллинга очень простая. Узкие полоски бумаги сначала закру­чивают вокруг иглообразного инструмента! (шила или тонкой спицы). Некогда для этой! цели использовались даже птичьи перья. Затем закрученным катушкам придается нужная форма. Подготовленные детали мон­тируются в композицию. Для удобства рукодельниц в странах, где распространена бумажная филигрань, продаются уже готовые к моделированию бумажные полоски разной ширины и длины и специальные инструмен­ты для закручивания полосок. В нашей стране бумажная филигрань находит все больше последов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2268360" y="7650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979640" y="204840"/>
            <a:ext cx="59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Arial"/>
              </a:rPr>
              <a:t>Что такое квиллинг?</a:t>
            </a: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835280" y="1268280"/>
            <a:ext cx="7057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Cambria"/>
              </a:rPr>
              <a:t>Искусство из скрученных бумажных полосок делать крас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Cambria"/>
              </a:rPr>
              <a:t>Квиллинг - это, проще говоря, бумагокруч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Cambria"/>
              </a:rPr>
              <a:t>Или, как его еще называют, бумажная филигрань. Его смысл состоит в том, что из скрученных длинных бумажных полосок, которым придали некую форму, составляют компози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Cambria"/>
              </a:rPr>
              <a:t>Например, они могут служить картиной или украшением на открытке.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Cambria"/>
              </a:rPr>
              <a:t>Сейчас мы посмотрим несколько открыток из квиллинга.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68981170_1294561251_092"/>
          <p:cNvPicPr/>
          <p:nvPr/>
        </p:nvPicPr>
        <p:blipFill>
          <a:blip r:embed="rId2"/>
          <a:stretch/>
        </p:blipFill>
        <p:spPr>
          <a:xfrm>
            <a:off x="1763640" y="3500280"/>
            <a:ext cx="2189160" cy="277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IMG_0001"/>
          <p:cNvPicPr/>
          <p:nvPr/>
        </p:nvPicPr>
        <p:blipFill>
          <a:blip r:embed="rId3"/>
          <a:stretch/>
        </p:blipFill>
        <p:spPr>
          <a:xfrm>
            <a:off x="4211640" y="3573360"/>
            <a:ext cx="2287440" cy="269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IMG_0002"/>
          <p:cNvPicPr/>
          <p:nvPr/>
        </p:nvPicPr>
        <p:blipFill>
          <a:blip r:embed="rId4"/>
          <a:stretch/>
        </p:blipFill>
        <p:spPr>
          <a:xfrm>
            <a:off x="6732720" y="3500280"/>
            <a:ext cx="197640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2050920" y="54936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Cambria"/>
              </a:rPr>
              <a:t>Инструменты для квиллин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DSC_3147-1024x680"/>
          <p:cNvPicPr/>
          <p:nvPr/>
        </p:nvPicPr>
        <p:blipFill>
          <a:blip r:embed="rId2"/>
          <a:srcRect l="0" t="4764" r="0" b="0"/>
          <a:stretch/>
        </p:blipFill>
        <p:spPr>
          <a:xfrm>
            <a:off x="1692360" y="1484280"/>
            <a:ext cx="7164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2268360" y="112536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7-1024x634 (1)"/>
          <p:cNvPicPr/>
          <p:nvPr/>
        </p:nvPicPr>
        <p:blipFill>
          <a:blip r:embed="rId2"/>
          <a:stretch/>
        </p:blipFill>
        <p:spPr>
          <a:xfrm>
            <a:off x="1908000" y="404640"/>
            <a:ext cx="6985080" cy="2522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7-1024x634"/>
          <p:cNvPicPr/>
          <p:nvPr/>
        </p:nvPicPr>
        <p:blipFill>
          <a:blip r:embed="rId3"/>
          <a:stretch/>
        </p:blipFill>
        <p:spPr>
          <a:xfrm>
            <a:off x="1835280" y="4076640"/>
            <a:ext cx="7022880" cy="2276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3178440" y="3024360"/>
            <a:ext cx="50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Элементы квилл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1908000" y="2133720"/>
            <a:ext cx="662472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1749-1282261967985 (1)"/>
          <p:cNvPicPr/>
          <p:nvPr/>
        </p:nvPicPr>
        <p:blipFill>
          <a:blip r:embed="rId2"/>
          <a:stretch/>
        </p:blipFill>
        <p:spPr>
          <a:xfrm>
            <a:off x="1979640" y="1413000"/>
            <a:ext cx="6480000" cy="4930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411280" y="28116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«Подснежник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on_lista_i_ptic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3780000" y="47628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908000" y="47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Схема: «Подснежни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Рисунок1"/>
          <p:cNvPicPr/>
          <p:nvPr/>
        </p:nvPicPr>
        <p:blipFill>
          <a:blip r:embed="rId2"/>
          <a:stretch/>
        </p:blipFill>
        <p:spPr>
          <a:xfrm>
            <a:off x="1476360" y="1268280"/>
            <a:ext cx="2209680" cy="3162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Рисунок2"/>
          <p:cNvPicPr/>
          <p:nvPr/>
        </p:nvPicPr>
        <p:blipFill>
          <a:blip r:embed="rId3"/>
          <a:stretch/>
        </p:blipFill>
        <p:spPr>
          <a:xfrm>
            <a:off x="3851280" y="2997360"/>
            <a:ext cx="2495520" cy="3638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Рисунок3"/>
          <p:cNvPicPr/>
          <p:nvPr/>
        </p:nvPicPr>
        <p:blipFill>
          <a:blip r:embed="rId4"/>
          <a:stretch/>
        </p:blipFill>
        <p:spPr>
          <a:xfrm>
            <a:off x="6516720" y="1413000"/>
            <a:ext cx="24192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20:53:14Z</dcterms:created>
  <dc:creator>Надежда </dc:creator>
  <dc:description/>
  <dc:language>en-US</dc:language>
  <cp:lastModifiedBy>123</cp:lastModifiedBy>
  <dcterms:modified xsi:type="dcterms:W3CDTF">2023-09-05T19:04:35Z</dcterms:modified>
  <cp:revision>12</cp:revision>
  <dc:subject/>
  <dc:title>Презентация </dc:title>
</cp:coreProperties>
</file>