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3F66-24F1-44AC-803E-B92CF9C5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DE7-D2A8-425B-9DF2-CBF9F715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BE2-7CA1-4894-B228-31614106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532-75F6-4A33-A32B-1D6F88F5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2747-8A77-4A8D-95DC-0C0E4E38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2E1A-B54A-4874-A2D4-C6711684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1300D-4CDD-4058-B880-87A6E14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58AE2-1D72-4BEE-ADE1-8F25C736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00ABA-8F30-4381-AC90-3DD74B1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247A-A81D-4A83-BA23-C41EA3EE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CE511-B57A-4463-83D7-180C3F82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A95-4425-4904-8B80-574DBCB4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D98FB-67F2-421E-845D-DA1CA74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5CFF5-402E-4289-AEC1-F0A79AF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12CDD-4C8E-4831-97A3-011599B3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A741-AF59-4871-81F2-0F85B5CF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0368C-59CE-48E5-9E99-25D12B66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D49-9E03-4384-AE8B-4C5EF9C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BA2-CF41-4123-843B-F90EB307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E9D-B5FD-4FEA-AB94-BED7F731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B64-825A-47C6-B421-E4D22D6D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266-9F91-48B2-B2A8-026CF3BB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E15-17C2-4CBE-A1A4-3FC2B3C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D21-B2E7-4549-A519-0A27C56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67EC-1A84-4C47-9D41-DECDCD2F3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098-5C0E-402A-B681-CF002018C0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Взрослые и де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ли как преодолеть трудности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общени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http://copypast.ru/foto9/0010/mama.jpg"/>
          <p:cNvPicPr/>
          <p:nvPr/>
        </p:nvPicPr>
        <p:blipFill>
          <a:blip r:embed="rId1"/>
          <a:stretch/>
        </p:blipFill>
        <p:spPr>
          <a:xfrm>
            <a:off x="2266920" y="3213000"/>
            <a:ext cx="4822920" cy="58453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840" y="291960"/>
            <a:ext cx="8400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ужно знать, чтобы правильно общаться с деть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5480" y="19288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общие правила взаимодействия с дет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ся с возрастными закономерностями развития личности ребёнка на разных этапах его жизненного пу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умение конструктивного общения с дет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29160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ы любви к ребён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572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ляют три параметра отношений, влияющих на проявление любви к ребёнк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Симпатия – антипат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Уважение – неуваж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Близость – отдалё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     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о « трёх П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723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ма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умение видеть ребенка изнут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ятие</a:t>
            </a:r>
            <a:r>
              <a:rPr b="1" lang="ru-RU" sz="3200" spc="-1" strike="noStrike">
                <a:solidFill>
                  <a:srgbClr val="2b2bfe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положительное отношение к  ребенку, независимо от того, радует ли он в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знание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оставление ребенку права на решение каких-либо проблем, право на совещательный гол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151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а эффективного слуш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еляйте общению с ребёнком специальное врем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храняйте терпение, когда дети не могут что –то сказ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ните о том, какое впечатление и влияние на ребёнка могут оказать ваши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вайте вопросы, чтобы показать свою заинтересованность и участ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йте формулу «Я – сообщ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ые ошибки при общен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азы, коман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преждения, предостережения,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, нравоучения, проповед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ты, готовые реш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тации, «лекции», доказатель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ка, выговоры, обви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зывание, высмеи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прашивание, расслед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увствие на словах, угово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и своего ребенка любым -  неталантливым, неудачливым,  взрослым.  Общаясь с ним - радуйся,  потому что  ребенок -  это  праздник,   который пока с тобой...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0T14:29:58Z</dcterms:created>
  <dc:creator>Админ</dc:creator>
  <dc:description/>
  <dc:language>en-US</dc:language>
  <cp:lastModifiedBy>admin</cp:lastModifiedBy>
  <dcterms:modified xsi:type="dcterms:W3CDTF">2023-09-05T07:44:51Z</dcterms:modified>
  <cp:revision>27</cp:revision>
  <dc:subject/>
  <dc:title>«Взрослые и дети или как преодолеть трудности в общении»</dc:title>
</cp:coreProperties>
</file>