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3366-841F-4A76-8297-5E43C868E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6419-422A-4981-830F-93C9DD6E1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A7B9-F0AD-4E93-BA0A-85A82B3AE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8B52-EF71-4FCF-8F7A-85C27839E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F880E8-4AE6-46FF-AE9A-B32582760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A90FA6-6730-442F-BEA3-7A1A6D339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89577A-52E5-4532-A5E6-407617FDA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DC1BCE-8995-4381-B1FD-1C886E1C3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E8DB64-F0D8-452F-86F5-C2DFEE8AA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7D9447-07F5-4C2A-92E9-C8FC7BE7C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E38704-633F-4C8C-A13C-085384B9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0D16-3710-4DB0-BCA5-D097BCABF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804317-8362-4901-B4ED-FF50396E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0580BB-7E84-4918-8D9E-DE8C3A09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7944C9-CDB1-4F37-9E0D-5123E1AC7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4A4EB9-CE67-4071-8677-747F09E1E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B321B7-EE39-4500-B020-2F224A30B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A253-2E84-4CE9-AA1F-E014D6FD8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7B10-F5A3-4F45-AC34-15890AECF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04D6-E86E-4243-A7B9-F48919ACD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2B58-DCA5-4C6C-8B0E-B3D513E92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E272-A26C-4690-9FCB-A36E6D9F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B6D1-3322-4BEF-89DF-B87CB486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B65B-6AEC-4830-924D-F71D74DD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6B3D8-F755-4FCB-A065-297F2F5CDE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D6FA5-E703-4433-AC52-9A4FF631820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857160"/>
            <a:ext cx="9144000" cy="1928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«Взрослые и дети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или как преодолеть трудности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 общении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5" descr="http://copypast.ru/foto9/0010/mama.jpg"/>
          <p:cNvPicPr/>
          <p:nvPr/>
        </p:nvPicPr>
        <p:blipFill>
          <a:blip r:embed="rId1"/>
          <a:stretch/>
        </p:blipFill>
        <p:spPr>
          <a:xfrm>
            <a:off x="2266920" y="3213000"/>
            <a:ext cx="4822920" cy="584532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5840" y="291960"/>
            <a:ext cx="8400960" cy="12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нужно знать, чтобы правильно общаться с детьми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85480" y="1928880"/>
            <a:ext cx="8643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учить общие правила взаимодействия с деть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знакомиться с возрастными закономерностями развития личности ребёнка на разных этапах его жизненного пу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вать умение конструктивного общения с деть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680" y="291600"/>
            <a:ext cx="811512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раметры любви к ребёнк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5840" y="1071360"/>
            <a:ext cx="857232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деляют три параметра отношений, влияющих на проявление любви к ребёнку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Симпатия – антипат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Уважение – неуваж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Близость – отдалённос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      </a:t>
            </a:r>
            <a:br>
              <a:rPr sz="4000"/>
            </a:b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ило « трёх П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5840" y="1642680"/>
            <a:ext cx="857232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нимани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умение видеть ребенка изнутр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нятие</a:t>
            </a:r>
            <a:r>
              <a:rPr b="1" lang="ru-RU" sz="3200" spc="-1" strike="noStrike">
                <a:solidFill>
                  <a:srgbClr val="2b2bfe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положительное отношение к  ребенку, независимо от того, радует ли он вас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знание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оставление ребенку права на решение каких-либо проблем, право на совещательный голос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811512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ила эффективного слуша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14200" y="1428840"/>
            <a:ext cx="8715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деляйте общению с ребёнком специальное врем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храняйте терпение, когда дети не могут что –то сказа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мните о том, какое впечатление и влияние на ребёнка могут оказать ваши сло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вайте вопросы, чтобы показать свою заинтересованность и участ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пользуйте формулу «Я – сообщение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пичные ошибки при общен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казы, коман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упреждения, предостережения, угроз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раль, нравоучения, проповед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веты, готовые реш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тации, «лекции», доказатель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итика, выговоры, обвин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зывание, высмеива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спрашивание, расследова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чувствие на словах, уговор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169992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юби своего ребенка любым -  неталантливым, неудачливым,  взрослым.  Общаясь с ним - радуйся,  потому что  ребенок -  это  праздник,   который пока с тобой..."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30T14:29:58Z</dcterms:created>
  <dc:creator>Админ</dc:creator>
  <dc:description/>
  <dc:language>en-US</dc:language>
  <cp:lastModifiedBy>admin</cp:lastModifiedBy>
  <dcterms:modified xsi:type="dcterms:W3CDTF">2023-09-05T07:44:51Z</dcterms:modified>
  <cp:revision>27</cp:revision>
  <dc:subject/>
  <dc:title>«Взрослые и дети или как преодолеть трудности в общении»</dc:title>
</cp:coreProperties>
</file>