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3E3-5A74-4624-8B76-8AE6AD05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463-F185-4C5C-B20D-B438301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1FD-2BF1-4C5B-8B4B-5478AD1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ECD-C1FD-4385-868B-4B84B51A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3A88-2D46-42DC-BD9A-04B2A8B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292-5A41-4813-B9F7-20DC44A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25D9-89CF-4708-9CC4-52AB08B5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851-565A-4653-8614-FE6ECA0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B2E-A4A2-4560-9DDE-C418B19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036-FE9B-4192-8E4A-4665EED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8FD-5012-4D12-BBB6-21455F9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7B6-6445-4269-A6BD-FA66552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FEA-5A94-43A4-A2F4-A5DA21E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A6B4-1918-4BBD-BBC7-70AD4A9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94F-6748-4E3D-9F17-A92D4147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14C-2E23-41BA-8AD6-77D7D4D4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4AB-B1DA-4CF9-9025-07D5211A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6826-1514-4D7A-82BC-DB4D4E4D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3750-59A0-46BC-90EA-D7F7A4AA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907E-5E09-4F49-AE76-0890622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AFF0-6FCE-4001-9758-909A7DF0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A323-91D6-4C18-B28A-E7CD921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82C-F5EB-4F82-B0B4-F0426597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54BF-DDDC-43AB-A685-F36B3A6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AD78-08C5-4EE4-B446-1EC3BDD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2599-7D63-4692-B199-4F96059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BA67-57E8-4764-8D0C-64C3865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17F4-5F99-4E8C-A844-10DD74D2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8867-FAB9-4635-89A0-DA58994E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3959-C146-4DB0-819D-B58920E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1697-D41A-48B8-8A44-DB9F429A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F7C7-E8FA-4FBC-9094-D985A85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2C68-F8A5-41E6-B5EE-07A6D93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5EE-FF67-440E-A2FF-DC7EDFE5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C41B-B55E-42DA-ABBA-F24BA7B0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4D5F-5027-4A8A-B6A2-0DC0B831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432D-BF2C-4F67-BFC4-9A058DE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0694-1F70-4F0E-96F6-52C19C6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5F14-B94A-4FBB-A6F9-1EFCA28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A54A-C7E9-4FDC-AE4A-CC87B8D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9A67-48B4-448A-A445-D02D32A1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B52D-41A9-4A49-BFA2-B7A46274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4BC3-C295-4B2F-BB2E-FED925C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178F-4912-428A-AC69-402263B2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78C-1A58-48DA-997C-9395A394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7DF1-71CA-469B-B701-A74B4A2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43D8-2C29-4267-A3EB-8953F97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F518-8A71-40B9-978D-23D17E00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552C-97F5-4944-847D-AC5502E2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B917-480C-4A5D-8238-2CB71C8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EA00-902C-4CDE-A6C1-8A82731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70C5-6666-49AB-86BA-76DA394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3197-525B-4FA6-AE09-2A0C39A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02B8-2B16-4CEA-BB11-5EC99BD5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389A-9467-4429-BFDE-CCF87798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0A9-A7E4-4DF4-8A84-510E50D9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255C-004F-47D3-9040-CB5C520E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7B3E-5461-4425-ABA2-1F6CE83C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FDE0-D22E-42C7-A09A-2D3B9523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2BAF-A754-4339-A46B-ED5ED1C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2D90-C44E-4926-80B3-D381C9AB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5855-932A-4206-8141-F72A27F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2E3B0-BB55-4726-BCD5-77D38EA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D754-04A2-4170-99F7-933FA85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B20E-8518-4A86-99C0-44A1886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60633-2DA9-41F0-A4A2-77FF8FA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4B9-136F-497A-AD83-4F4E12D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3CA49-B4B2-455D-9D13-D893BF1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2E35F-C87D-4E4E-8984-F7574342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6B36-955B-45DC-8BAE-4F4E141E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18EF-2B5C-4584-AEC4-1217E22D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3B4A-38BB-4F96-9DB2-7B65368A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BE395-C644-42EE-9325-F5D79807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4ABB-8595-433B-A963-2039B8A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B71D-4915-4FC8-8B98-01A05CF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0100-3DFB-4739-9286-3F18C426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F7F1-2A7D-46D3-BB51-67FC66D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A88-92CC-4CBD-BDEA-5787CFE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D9BA-AF9F-4567-B2AB-44BBD42D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83D3-CD1B-49D4-82C5-681EC6D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D8C4-1DC2-4D72-BD5D-76CF567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447B-EE4B-4AB4-A46A-00B60397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EF29-BDF3-48B0-A0B2-D47C45F0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F6D-39F0-44F9-91EB-AC6AC62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A29-26FE-4610-A440-8D63CD82F79B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A88-C77D-4795-AE5B-F534F4BAE8E0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DBA8-4132-4C5F-8512-4614002DAB32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665A-48FC-4902-9ACE-2B94F1FD5E56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4B7-2D80-4D72-BC0D-AD60A99E435F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FAA-036F-42CA-9B1D-34985595C703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D62-98D5-463E-8B2A-8EE165161397}" type="slidenum">
              <a:rPr b="0" lang="ru-RU" sz="1200" spc="-1" strike="noStrike">
                <a:solidFill>
                  <a:srgbClr val="d6ec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4" descr="Рисунок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45720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Times New Roman"/>
              </a:rPr>
              <a:t>12 апреля – День космонавт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Picture 6" descr="81472373"/>
          <p:cNvPicPr/>
          <p:nvPr/>
        </p:nvPicPr>
        <p:blipFill>
          <a:blip r:embed="rId2"/>
          <a:stretch/>
        </p:blipFill>
        <p:spPr>
          <a:xfrm>
            <a:off x="1943280" y="144792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сатурн"/>
          <p:cNvPicPr/>
          <p:nvPr/>
        </p:nvPicPr>
        <p:blipFill>
          <a:blip r:embed="rId1"/>
          <a:stretch/>
        </p:blipFill>
        <p:spPr>
          <a:xfrm>
            <a:off x="1905120" y="1371600"/>
            <a:ext cx="6038640" cy="38656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1523880" y="91440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Рисунок 6" descr="kosmos30.gif"/>
          <p:cNvPicPr/>
          <p:nvPr/>
        </p:nvPicPr>
        <p:blipFill>
          <a:blip r:embed="rId2"/>
          <a:srcRect l="0" t="0" r="0" b="12668"/>
          <a:stretch/>
        </p:blipFill>
        <p:spPr>
          <a:xfrm>
            <a:off x="914400" y="2971800"/>
            <a:ext cx="4303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венера"/>
          <p:cNvPicPr/>
          <p:nvPr/>
        </p:nvPicPr>
        <p:blipFill>
          <a:blip r:embed="rId2"/>
          <a:stretch/>
        </p:blipFill>
        <p:spPr>
          <a:xfrm>
            <a:off x="2286000" y="1905120"/>
            <a:ext cx="4724280" cy="4314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4"/>
          <p:cNvSpPr/>
          <p:nvPr/>
        </p:nvSpPr>
        <p:spPr>
          <a:xfrm>
            <a:off x="2286000" y="1066680"/>
            <a:ext cx="5334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марс"/>
          <p:cNvPicPr/>
          <p:nvPr/>
        </p:nvPicPr>
        <p:blipFill>
          <a:blip r:embed="rId1"/>
          <a:stretch/>
        </p:blipFill>
        <p:spPr>
          <a:xfrm>
            <a:off x="838080" y="39625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5"/>
          <p:cNvSpPr/>
          <p:nvPr/>
        </p:nvSpPr>
        <p:spPr>
          <a:xfrm>
            <a:off x="2057400" y="2286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Рисунок 3" descr="iPhone_3GS_3G_Original_NASA_Image_Of_Earth_wallpaper.jpg"/>
          <p:cNvPicPr/>
          <p:nvPr/>
        </p:nvPicPr>
        <p:blipFill>
          <a:blip r:embed="rId2"/>
          <a:stretch/>
        </p:blipFill>
        <p:spPr>
          <a:xfrm>
            <a:off x="3048120" y="17524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2625 C -0.00104 -0.27685 0.00747 -0.31921 0.01615 -0.33935 C 0.02483 -0.35949 0.04149 -0.37037 0.05174 -0.3838 C 0.06198 -0.39722 0.06319 -0.40741 0.07743 -0.4206 C 0.09167 -0.4338 0.11719 -0.45093 0.13698 -0.46343 C 0.15677 -0.47593 0.17431 -0.48727 0.19635 -0.49514 C 0.2184 -0.50301 0.24705 -0.50764 0.26962 -0.51088 C 0.29219 -0.51412 0.31684 -0.51227 0.3316 -0.51412 C 0.34635 -0.51597 0.34566 -0.52176 0.35781 -0.52199 C 0.36997 -0.52222 0.39253 -0.51852 0.40399 -0.51574 C 0.41563 -0.51296 0.41649 -0.51065 0.42795 -0.50602 C 0.43941 -0.50139 0.43785 -0.51412 0.47257 -0.48727 C 0.50712 -0.46042 0.61597 -0.44352 0.63611 -0.34514 C 0.65625 -0.24676 0.65156 0.00971999999999999 0.59323 0.10139 C 0.59323 0.19606 0.35417 0.21852 0.28611 0.21852 C 0.18889 0.22454 0.15156 0.18588 0.11424 0.16134 C 0.07413 0.13842 0.06389 0.11805 0.04531 0.08102 C 0.02986 0.0456 0.01146 -0.00903 0.00295 -0.0632 C -0.00556 -0.11736 -0.00469 -0.21111 -0.00538 -0.24421 C -0.00608 -0.27732 -0.00174 -0.2588 -0.00087 -0.2625 Z">
                                      <p:cBhvr>
                                        <p:cTn id="107" dur="5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уран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6"/>
          <p:cNvSpPr/>
          <p:nvPr/>
        </p:nvSpPr>
        <p:spPr>
          <a:xfrm>
            <a:off x="2133720" y="76212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7" name="Рисунок 4" descr="slide0003_image004.jpg"/>
          <p:cNvPicPr/>
          <p:nvPr/>
        </p:nvPicPr>
        <p:blipFill>
          <a:blip r:embed="rId2"/>
          <a:stretch/>
        </p:blipFill>
        <p:spPr>
          <a:xfrm>
            <a:off x="2286000" y="2438280"/>
            <a:ext cx="1219320" cy="12049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tcvet31.jpg"/>
          <p:cNvPicPr/>
          <p:nvPr/>
        </p:nvPicPr>
        <p:blipFill>
          <a:blip r:embed="rId3"/>
          <a:stretch/>
        </p:blipFill>
        <p:spPr>
          <a:xfrm>
            <a:off x="3505320" y="1981080"/>
            <a:ext cx="1689120" cy="17892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6" descr="_.jpg"/>
          <p:cNvPicPr/>
          <p:nvPr/>
        </p:nvPicPr>
        <p:blipFill>
          <a:blip r:embed="rId4"/>
          <a:srcRect l="50008" t="0" r="0" b="0"/>
          <a:stretch/>
        </p:blipFill>
        <p:spPr>
          <a:xfrm>
            <a:off x="2133720" y="3276720"/>
            <a:ext cx="1600200" cy="21304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7" descr="egg.jpg"/>
          <p:cNvPicPr/>
          <p:nvPr/>
        </p:nvPicPr>
        <p:blipFill>
          <a:blip r:embed="rId5"/>
          <a:stretch/>
        </p:blipFill>
        <p:spPr>
          <a:xfrm>
            <a:off x="3048120" y="4724280"/>
            <a:ext cx="2286000" cy="1568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peas.gif"/>
          <p:cNvPicPr/>
          <p:nvPr/>
        </p:nvPicPr>
        <p:blipFill>
          <a:blip r:embed="rId6"/>
          <a:stretch/>
        </p:blipFill>
        <p:spPr>
          <a:xfrm>
            <a:off x="4572000" y="4191120"/>
            <a:ext cx="1760400" cy="11682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9" descr="fc9990f90373.jpg"/>
          <p:cNvPicPr/>
          <p:nvPr/>
        </p:nvPicPr>
        <p:blipFill>
          <a:blip r:embed="rId7"/>
          <a:stretch/>
        </p:blipFill>
        <p:spPr>
          <a:xfrm>
            <a:off x="4876920" y="1676520"/>
            <a:ext cx="15429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iPhone_3GS_3G_Original_NASA_Image_Of_Earth_wallpaper.jpg"/>
          <p:cNvPicPr/>
          <p:nvPr/>
        </p:nvPicPr>
        <p:blipFill>
          <a:blip r:embed="rId1"/>
          <a:stretch/>
        </p:blipFill>
        <p:spPr>
          <a:xfrm>
            <a:off x="2209680" y="0"/>
            <a:ext cx="4496040" cy="6743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7"/>
          <p:cNvSpPr/>
          <p:nvPr/>
        </p:nvSpPr>
        <p:spPr>
          <a:xfrm>
            <a:off x="2743200" y="6858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2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457200" y="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Юрий Гагарин –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Arial"/>
              </a:rPr>
              <a:t>первый человек в космос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Picture 7" descr="62347833"/>
          <p:cNvPicPr/>
          <p:nvPr/>
        </p:nvPicPr>
        <p:blipFill>
          <a:blip r:embed="rId2"/>
          <a:stretch/>
        </p:blipFill>
        <p:spPr>
          <a:xfrm>
            <a:off x="0" y="1523880"/>
            <a:ext cx="3457440" cy="457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phoca_thumb_m_0110_o"/>
          <p:cNvPicPr/>
          <p:nvPr/>
        </p:nvPicPr>
        <p:blipFill>
          <a:blip r:embed="rId3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2362320" y="2362320"/>
            <a:ext cx="62481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 апреля 1961 год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на космическом корабле “Восток” совершил полет первый космонавт планеты. Им был наш гражданин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Юрий Алексеевич Гагарин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2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Рисунок2"/>
          <p:cNvPicPr/>
          <p:nvPr/>
        </p:nvPicPr>
        <p:blipFill>
          <a:blip r:embed="rId2"/>
          <a:stretch/>
        </p:blipFill>
        <p:spPr>
          <a:xfrm>
            <a:off x="4419720" y="1066680"/>
            <a:ext cx="5095800" cy="5943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ff"/>
                </a:solidFill>
                <a:latin typeface="Consolas"/>
              </a:rPr>
              <a:t>Первые космические корабл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51920" y="2666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2.04.1961. В 6:07 с космодрома Байконур стартовала ракета-носитель 8К72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первые в мире космический корабль с человеком на борту ворвался в просторы Вселенно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800600" y="213372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3 ноября 1957 года на околоземную орбиту вышел «Спутник-2». Вместе с ним за границами земной атмосферы оказалось и первое теплокровное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Picture 6" descr="лайка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297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Лайка –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 первая жизнь в     космосе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Picture 10" descr="92comor6p[1]"/>
          <p:cNvPicPr/>
          <p:nvPr/>
        </p:nvPicPr>
        <p:blipFill>
          <a:blip r:embed="rId3"/>
          <a:stretch/>
        </p:blipFill>
        <p:spPr>
          <a:xfrm rot="20498400">
            <a:off x="152280" y="1218960"/>
            <a:ext cx="208944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2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2895480" y="3808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2362320" y="1447920"/>
            <a:ext cx="457200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9 августа 1960 г.собаки Белка и Стрелка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а вместе с ними - 40 мышей, 2 крысы, различные мухи, растения и микроорганизмы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17 раз облете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6ecff"/>
                </a:solidFill>
                <a:latin typeface="Arial"/>
              </a:rPr>
              <a:t>вокруг Земли и приземлилис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Picture 8" descr="белка и стрелка"/>
          <p:cNvPicPr/>
          <p:nvPr/>
        </p:nvPicPr>
        <p:blipFill>
          <a:blip r:embed="rId2"/>
          <a:stretch/>
        </p:blipFill>
        <p:spPr>
          <a:xfrm>
            <a:off x="0" y="685800"/>
            <a:ext cx="2468520" cy="1927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15_Belka_i_Strelka_NK"/>
          <p:cNvPicPr/>
          <p:nvPr/>
        </p:nvPicPr>
        <p:blipFill>
          <a:blip r:embed="rId3"/>
          <a:stretch/>
        </p:blipFill>
        <p:spPr>
          <a:xfrm>
            <a:off x="152280" y="2743200"/>
            <a:ext cx="2705400" cy="34290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231480" y="5638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Стр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Picture 11" descr="13_Belka_i_Strelka_NK"/>
          <p:cNvPicPr/>
          <p:nvPr/>
        </p:nvPicPr>
        <p:blipFill>
          <a:blip r:embed="rId4"/>
          <a:stretch/>
        </p:blipFill>
        <p:spPr>
          <a:xfrm>
            <a:off x="6705720" y="228600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2"/>
          <p:cNvSpPr/>
          <p:nvPr/>
        </p:nvSpPr>
        <p:spPr>
          <a:xfrm>
            <a:off x="686016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cff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over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Валентина Терешкова –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Consolas"/>
              </a:rPr>
              <a:t>первая женщина-космонавт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6" descr="Терешкова"/>
          <p:cNvPicPr/>
          <p:nvPr/>
        </p:nvPicPr>
        <p:blipFill>
          <a:blip r:embed="rId2"/>
          <a:stretch/>
        </p:blipFill>
        <p:spPr>
          <a:xfrm>
            <a:off x="304920" y="2286000"/>
            <a:ext cx="3047760" cy="4343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Терешкова 2"/>
          <p:cNvPicPr/>
          <p:nvPr/>
        </p:nvPicPr>
        <p:blipFill>
          <a:blip r:embed="rId3"/>
          <a:stretch/>
        </p:blipFill>
        <p:spPr>
          <a:xfrm>
            <a:off x="7620120" y="1523880"/>
            <a:ext cx="152388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3352680" y="2590920"/>
            <a:ext cx="4496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16 июня 1963 г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ecff"/>
                </a:solidFill>
                <a:latin typeface="Arial"/>
              </a:rPr>
              <a:t>на космическом корабле «Восток-6»  свой космический полет совершила первая в мире женщина-космонав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2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солн"/>
          <p:cNvPicPr/>
          <p:nvPr/>
        </p:nvPicPr>
        <p:blipFill>
          <a:blip r:embed="rId2"/>
          <a:stretch/>
        </p:blipFill>
        <p:spPr>
          <a:xfrm>
            <a:off x="-228600" y="-304920"/>
            <a:ext cx="9677520" cy="7315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олнечная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4000" spc="-1" strike="noStrike">
                <a:solidFill>
                  <a:srgbClr val="33ccff"/>
                </a:solidFill>
                <a:latin typeface="Consolas"/>
              </a:rPr>
              <a:t>систе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spd="slow">
    <p:split dir="out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уран"/>
          <p:cNvPicPr/>
          <p:nvPr/>
        </p:nvPicPr>
        <p:blipFill>
          <a:blip r:embed="rId1"/>
          <a:stretch/>
        </p:blipFill>
        <p:spPr>
          <a:xfrm>
            <a:off x="30492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сатурн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34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венера"/>
          <p:cNvPicPr/>
          <p:nvPr/>
        </p:nvPicPr>
        <p:blipFill>
          <a:blip r:embed="rId3"/>
          <a:stretch/>
        </p:blipFill>
        <p:spPr>
          <a:xfrm>
            <a:off x="6629400" y="3200400"/>
            <a:ext cx="2362320" cy="2157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марс"/>
          <p:cNvPicPr/>
          <p:nvPr/>
        </p:nvPicPr>
        <p:blipFill>
          <a:blip r:embed="rId4"/>
          <a:stretch/>
        </p:blipFill>
        <p:spPr>
          <a:xfrm>
            <a:off x="42670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юпитер"/>
          <p:cNvPicPr/>
          <p:nvPr/>
        </p:nvPicPr>
        <p:blipFill>
          <a:blip r:embed="rId5"/>
          <a:stretch/>
        </p:blipFill>
        <p:spPr>
          <a:xfrm>
            <a:off x="4572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земля"/>
          <p:cNvPicPr/>
          <p:nvPr/>
        </p:nvPicPr>
        <p:blipFill>
          <a:blip r:embed="rId6"/>
          <a:stretch/>
        </p:blipFill>
        <p:spPr>
          <a:xfrm>
            <a:off x="3048120" y="1600200"/>
            <a:ext cx="2438280" cy="234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2"/>
          <p:cNvSpPr/>
          <p:nvPr/>
        </p:nvSpPr>
        <p:spPr>
          <a:xfrm>
            <a:off x="152280" y="2209680"/>
            <a:ext cx="3048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изведанная плане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6172200" y="1981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Альфа Центав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6858000" y="5334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вездал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4038480" y="61722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унлянд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380880" y="624852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казоч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3200400" y="12193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ем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9" descr="юпитер"/>
          <p:cNvPicPr/>
          <p:nvPr/>
        </p:nvPicPr>
        <p:blipFill>
          <a:blip r:embed="rId1"/>
          <a:stretch/>
        </p:blipFill>
        <p:spPr>
          <a:xfrm>
            <a:off x="2057400" y="91440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Cartoon-Clipart-Free-02.gif"/>
          <p:cNvPicPr/>
          <p:nvPr/>
        </p:nvPicPr>
        <p:blipFill>
          <a:blip r:embed="rId2"/>
          <a:stretch/>
        </p:blipFill>
        <p:spPr>
          <a:xfrm>
            <a:off x="2664000" y="1517760"/>
            <a:ext cx="38224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1-04-09T10:06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