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4.jpeg" ContentType="image/jpeg"/>
  <Override PartName="/ppt/media/image25.png" ContentType="image/png"/>
  <Override PartName="/ppt/media/image31.jpeg" ContentType="image/jpeg"/>
  <Override PartName="/ppt/media/image5.jpeg" ContentType="image/jpeg"/>
  <Override PartName="/ppt/media/image18.png" ContentType="image/png"/>
  <Override PartName="/ppt/media/image6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2.jpeg" ContentType="image/jpeg"/>
  <Override PartName="/ppt/media/image13.jpeg" ContentType="image/jpeg"/>
  <Override PartName="/ppt/media/image9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FC1-5A3F-4B65-A793-E5BE3BD6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2D5-503F-4593-A5D6-5BFC616A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3E7-90D8-41FF-8395-F6564F3E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931-1789-4FBB-9C94-717335BB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B76D-100A-4F91-B9C3-85861C16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781F-99E6-4F9D-B577-DD317B49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D327-0DBE-4842-B883-5F3D8508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50FD-8FFB-4A94-8FD5-4852D65E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7FF8-C955-4DC0-8495-AA5F031F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E044-E686-4911-9008-19FF1D5A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1B69-406D-4D87-8DEF-B1125766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CFB-B129-4907-8185-EF077C23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518D-0375-4151-B668-B9F4E066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B6B8-B252-4D67-BC66-465140F6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7010-E04B-4024-9123-2B4E9BF4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14EA-CE33-4E77-A335-D0F331F4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9887-4350-4436-9191-63DDF115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1846-1CD9-4523-A5D7-0AC8E278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B77D-626F-49FD-BA5A-068DB704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96E1-B860-41ED-953F-20729565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3E9A5-3AE7-4F28-AD20-A2322387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B084-4D57-4AAF-9122-D54D09CD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504-4EFF-475D-9539-3C8A6E13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1F17-1820-4993-A91A-C4AEF686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E759F-0633-4F64-A7FB-AA62CB83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78F13-AA7A-467A-8097-0465078E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48B6-9FBA-4C4F-B02E-82D0366A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80708-7499-44EA-897F-2D86761F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5C0E-34B5-49E9-A611-BE9FA44E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5D8A7-71AF-4306-91BD-7B5A2A78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C8A18-74E5-4E16-A77F-977C6849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3D3AA-8235-42E3-84AC-FB26F1A7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BD4FF-1845-4218-9CA6-F560474A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3DD-7BC9-4F17-8160-590E7AFB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FA4D0-7914-447B-B704-378BB99C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6668D-A75F-4102-8BDB-083D5A46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DE45F-2E11-4E44-BEA5-BC43207D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C1BBF-4707-4C74-9236-EA4E9E9E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B443-9CD2-4693-A3ED-7352229C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159E7-82E9-41F7-863A-BE359808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9A3AA-9F15-46D4-B878-5C0D21E7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F9E0C-94F1-4F02-B38E-A675F290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480F-B78E-4918-802C-2D7D1AA9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565D4-8EE4-4B1A-93FC-D19C13FC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D31-E65E-47A4-B8E5-9C0069BE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64A7D-C03C-4F2D-8934-EE3B0D0C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B8A97-164B-4D6C-882C-DD84A0E7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E450E-C19D-41DF-8D49-032E39F0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857D9-340C-4F0C-85B4-015731B6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BE212-C9D1-4116-893D-D141E3B0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1FF0A-41A3-4BAB-87CC-D6B7DA2C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3494A-C3DE-41C4-88D6-F050052A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1BDE5-CC4B-4EF5-BD79-2E70321E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A3BFA-C180-45A4-A108-7A65CBB2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E69B2-149C-46EE-B7BD-6A1590BA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3CC-C211-4494-ADE1-0C27C71B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92811-AA5E-4BD3-A471-A954E253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9972C-F4C0-40F7-8155-A71E3CB2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33934-177A-4ADB-8ED0-6FD6F94B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6B03A-A66F-42FD-9FED-814A8A17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389BC-D395-4233-BF20-912E9C93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26C5B-A301-4268-B463-94C0784C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0F7ED-AD4B-4267-BD3C-324727FA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AE056-39C3-476D-86AF-D58A4F5E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67E7E-1589-4F0F-AAFF-A8259A92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2C2AC-4E83-4CDB-A328-2F07E775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5DCC-3C68-4F08-8AE2-B45233E6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ABC75-3910-4720-9DAF-6850ACD6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7B271-671C-4224-8165-074F2E64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AABF9-F6A1-43CE-9F8A-76DE5725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9F35A-CDB8-43EB-8453-1CDC8AF3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6854E-39AA-4735-93D9-8CD27C93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01A71-DDBE-48FF-A35C-48782B96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67873-16DF-420B-B487-7214EB2B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E4BDF-6EEC-42CB-AEEC-639760D4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D98E2-DB8A-4FD2-A4A1-3AE06776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6EEEF-86E1-4E81-8EA0-2A26AFBB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442-9E78-4A28-B456-6D4AF33B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C16A9-3F95-4299-8682-D9365FF0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B61F6-B0E4-4E6B-AE3B-C0593FFB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61593-4CF6-4E3C-9385-24AFB2C2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994C4-7B98-49F7-9EDD-934598D9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E39C2-6285-4620-9535-33CA6D6E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92B-DF8C-4031-B8AE-6F2C287D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1A5F-FD34-49D3-BE69-EEB22A0A88DE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10E8-581B-4173-90A2-1F96964652E2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1D79-6D1E-4AFC-B3A1-9CFC39412D6F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2FA4-014F-4301-BB93-9D31AE9BA508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AF84-47D5-4BD2-AEDB-ADEAA8CBA8F9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DE2B-8C84-4B88-BDD1-BAC064FBF9CD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9CC1-1BA1-4C73-9CB3-A1A65939F545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4" descr="Рисунок1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457200" y="152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ff"/>
                </a:solidFill>
                <a:latin typeface="Times New Roman"/>
              </a:rPr>
              <a:t>12 апреля – День космонавти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2" name="Picture 6" descr="81472373"/>
          <p:cNvPicPr/>
          <p:nvPr/>
        </p:nvPicPr>
        <p:blipFill>
          <a:blip r:embed="rId2"/>
          <a:stretch/>
        </p:blipFill>
        <p:spPr>
          <a:xfrm>
            <a:off x="1943280" y="144792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сатурн"/>
          <p:cNvPicPr/>
          <p:nvPr/>
        </p:nvPicPr>
        <p:blipFill>
          <a:blip r:embed="rId1"/>
          <a:stretch/>
        </p:blipFill>
        <p:spPr>
          <a:xfrm>
            <a:off x="1905120" y="1371600"/>
            <a:ext cx="6038640" cy="38656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13"/>
          <p:cNvSpPr/>
          <p:nvPr/>
        </p:nvSpPr>
        <p:spPr>
          <a:xfrm>
            <a:off x="1523880" y="91440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Альфа Центавра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9" name="Рисунок 6" descr="kosmos30.gif"/>
          <p:cNvPicPr/>
          <p:nvPr/>
        </p:nvPicPr>
        <p:blipFill>
          <a:blip r:embed="rId2"/>
          <a:srcRect l="0" t="0" r="0" b="12668"/>
          <a:stretch/>
        </p:blipFill>
        <p:spPr>
          <a:xfrm>
            <a:off x="914400" y="2971800"/>
            <a:ext cx="4303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6" descr="венера"/>
          <p:cNvPicPr/>
          <p:nvPr/>
        </p:nvPicPr>
        <p:blipFill>
          <a:blip r:embed="rId2"/>
          <a:stretch/>
        </p:blipFill>
        <p:spPr>
          <a:xfrm>
            <a:off x="2286000" y="1905120"/>
            <a:ext cx="4724280" cy="43146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4"/>
          <p:cNvSpPr/>
          <p:nvPr/>
        </p:nvSpPr>
        <p:spPr>
          <a:xfrm>
            <a:off x="2286000" y="1066680"/>
            <a:ext cx="5334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Звездали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7" descr="марс"/>
          <p:cNvPicPr/>
          <p:nvPr/>
        </p:nvPicPr>
        <p:blipFill>
          <a:blip r:embed="rId1"/>
          <a:stretch/>
        </p:blipFill>
        <p:spPr>
          <a:xfrm>
            <a:off x="838080" y="39625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5"/>
          <p:cNvSpPr/>
          <p:nvPr/>
        </p:nvSpPr>
        <p:spPr>
          <a:xfrm>
            <a:off x="2057400" y="228600"/>
            <a:ext cx="541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Лунлянди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Рисунок 3" descr="iPhone_3GS_3G_Original_NASA_Image_Of_Earth_wallpaper.jpg"/>
          <p:cNvPicPr/>
          <p:nvPr/>
        </p:nvPicPr>
        <p:blipFill>
          <a:blip r:embed="rId2"/>
          <a:stretch/>
        </p:blipFill>
        <p:spPr>
          <a:xfrm>
            <a:off x="3048120" y="17524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2625 C -0.00104 -0.27685 0.00747 -0.31921 0.01615 -0.33935 C 0.02483 -0.35949 0.04149 -0.37037 0.05174 -0.3838 C 0.06198 -0.39722 0.06319 -0.40741 0.07743 -0.4206 C 0.09167 -0.4338 0.11719 -0.45093 0.13698 -0.46343 C 0.15677 -0.47593 0.17431 -0.48727 0.19635 -0.49514 C 0.2184 -0.50301 0.24705 -0.50764 0.26962 -0.51088 C 0.29219 -0.51412 0.31684 -0.51227 0.3316 -0.51412 C 0.34635 -0.51597 0.34566 -0.52176 0.35781 -0.52199 C 0.36997 -0.52222 0.39253 -0.51852 0.40399 -0.51574 C 0.41563 -0.51296 0.41649 -0.51065 0.42795 -0.50602 C 0.43941 -0.50139 0.43785 -0.51412 0.47257 -0.48727 C 0.50712 -0.46042 0.61597 -0.44352 0.63611 -0.34514 C 0.65625 -0.24676 0.65156 0.00971999999999999 0.59323 0.10139 C 0.59323 0.19606 0.35417 0.21852 0.28611 0.21852 C 0.18889 0.22454 0.15156 0.18588 0.11424 0.16134 C 0.07413 0.13842 0.06389 0.11805 0.04531 0.08102 C 0.02986 0.0456 0.01146 -0.00903 0.00295 -0.0632 C -0.00556 -0.11736 -0.00469 -0.21111 -0.00538 -0.24421 C -0.00608 -0.27732 -0.00174 -0.2588 -0.00087 -0.2625 Z">
                                      <p:cBhvr>
                                        <p:cTn id="107" dur="5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уран"/>
          <p:cNvPicPr/>
          <p:nvPr/>
        </p:nvPicPr>
        <p:blipFill>
          <a:blip r:embed="rId1"/>
          <a:stretch/>
        </p:blipFill>
        <p:spPr>
          <a:xfrm>
            <a:off x="20574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6"/>
          <p:cNvSpPr/>
          <p:nvPr/>
        </p:nvSpPr>
        <p:spPr>
          <a:xfrm>
            <a:off x="2133720" y="762120"/>
            <a:ext cx="76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Сказочная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7" name="Рисунок 4" descr="slide0003_image004.jpg"/>
          <p:cNvPicPr/>
          <p:nvPr/>
        </p:nvPicPr>
        <p:blipFill>
          <a:blip r:embed="rId2"/>
          <a:stretch/>
        </p:blipFill>
        <p:spPr>
          <a:xfrm>
            <a:off x="2286000" y="2438280"/>
            <a:ext cx="1219320" cy="120492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5" descr="tcvet31.jpg"/>
          <p:cNvPicPr/>
          <p:nvPr/>
        </p:nvPicPr>
        <p:blipFill>
          <a:blip r:embed="rId3"/>
          <a:stretch/>
        </p:blipFill>
        <p:spPr>
          <a:xfrm>
            <a:off x="3505320" y="1981080"/>
            <a:ext cx="1689120" cy="17892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6" descr="_.jpg"/>
          <p:cNvPicPr/>
          <p:nvPr/>
        </p:nvPicPr>
        <p:blipFill>
          <a:blip r:embed="rId4"/>
          <a:srcRect l="50008" t="0" r="0" b="0"/>
          <a:stretch/>
        </p:blipFill>
        <p:spPr>
          <a:xfrm>
            <a:off x="2133720" y="3276720"/>
            <a:ext cx="1600200" cy="21304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7" descr="egg.jpg"/>
          <p:cNvPicPr/>
          <p:nvPr/>
        </p:nvPicPr>
        <p:blipFill>
          <a:blip r:embed="rId5"/>
          <a:stretch/>
        </p:blipFill>
        <p:spPr>
          <a:xfrm>
            <a:off x="3048120" y="4724280"/>
            <a:ext cx="2286000" cy="15685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8" descr="peas.gif"/>
          <p:cNvPicPr/>
          <p:nvPr/>
        </p:nvPicPr>
        <p:blipFill>
          <a:blip r:embed="rId6"/>
          <a:stretch/>
        </p:blipFill>
        <p:spPr>
          <a:xfrm>
            <a:off x="4572000" y="4191120"/>
            <a:ext cx="1760400" cy="116820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9" descr="fc9990f90373.jpg"/>
          <p:cNvPicPr/>
          <p:nvPr/>
        </p:nvPicPr>
        <p:blipFill>
          <a:blip r:embed="rId7"/>
          <a:stretch/>
        </p:blipFill>
        <p:spPr>
          <a:xfrm>
            <a:off x="4876920" y="1676520"/>
            <a:ext cx="15429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iPhone_3GS_3G_Original_NASA_Image_Of_Earth_wallpaper.jpg"/>
          <p:cNvPicPr/>
          <p:nvPr/>
        </p:nvPicPr>
        <p:blipFill>
          <a:blip r:embed="rId1"/>
          <a:stretch/>
        </p:blipFill>
        <p:spPr>
          <a:xfrm>
            <a:off x="2209680" y="0"/>
            <a:ext cx="4496040" cy="67438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7"/>
          <p:cNvSpPr/>
          <p:nvPr/>
        </p:nvSpPr>
        <p:spPr>
          <a:xfrm>
            <a:off x="2743200" y="68580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Земл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2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6"/>
          <p:cNvSpPr/>
          <p:nvPr/>
        </p:nvSpPr>
        <p:spPr>
          <a:xfrm>
            <a:off x="457200" y="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ff"/>
                </a:solidFill>
                <a:latin typeface="Arial"/>
              </a:rPr>
              <a:t>Юрий Гагарин –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ff"/>
                </a:solidFill>
                <a:latin typeface="Arial"/>
              </a:rPr>
              <a:t>первый человек в космосе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Picture 7" descr="62347833"/>
          <p:cNvPicPr/>
          <p:nvPr/>
        </p:nvPicPr>
        <p:blipFill>
          <a:blip r:embed="rId2"/>
          <a:stretch/>
        </p:blipFill>
        <p:spPr>
          <a:xfrm>
            <a:off x="0" y="1523880"/>
            <a:ext cx="3457440" cy="4572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phoca_thumb_m_0110_o"/>
          <p:cNvPicPr/>
          <p:nvPr/>
        </p:nvPicPr>
        <p:blipFill>
          <a:blip r:embed="rId3"/>
          <a:stretch/>
        </p:blipFill>
        <p:spPr>
          <a:xfrm>
            <a:off x="7620120" y="990720"/>
            <a:ext cx="1523880" cy="12952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2362320" y="2362320"/>
            <a:ext cx="624816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12 апреля 1961 года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впервые в мире на космическом корабле “Восток” совершил полет первый космонавт планеты. Им был наш гражданин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d6ecff"/>
                </a:solidFill>
                <a:latin typeface="Arial"/>
              </a:rPr>
              <a:t>Юрий Алексеевич Гагарин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2"/>
          <p:cNvPicPr/>
          <p:nvPr/>
        </p:nvPicPr>
        <p:blipFill>
          <a:blip r:embed="rId1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Рисунок2"/>
          <p:cNvPicPr/>
          <p:nvPr/>
        </p:nvPicPr>
        <p:blipFill>
          <a:blip r:embed="rId2"/>
          <a:stretch/>
        </p:blipFill>
        <p:spPr>
          <a:xfrm>
            <a:off x="4419720" y="1066680"/>
            <a:ext cx="5095800" cy="59436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ff"/>
                </a:solidFill>
                <a:latin typeface="Consolas"/>
              </a:rPr>
              <a:t>Первые космические корабл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51920" y="26668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12.04.1961. В 6:07 с космодрома Байконур стартовала ракета-носитель 8К72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Впервые в мире космический корабль с человеком на борту ворвался в просторы Вселенно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2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4800600" y="2133720"/>
            <a:ext cx="4343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d6ecff"/>
                </a:solidFill>
                <a:latin typeface="Arial"/>
              </a:rPr>
              <a:t>3 ноября 1957 года на околоземную орбиту вышел «Спутник-2». Вместе с ним за границами земной атмосферы оказалось и первое теплокровное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Picture 6" descr="лайка"/>
          <p:cNvPicPr/>
          <p:nvPr/>
        </p:nvPicPr>
        <p:blipFill>
          <a:blip r:embed="rId2"/>
          <a:stretch/>
        </p:blipFill>
        <p:spPr>
          <a:xfrm>
            <a:off x="228600" y="3429000"/>
            <a:ext cx="4343400" cy="29718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ff"/>
                </a:solidFill>
                <a:latin typeface="Consolas"/>
              </a:rPr>
              <a:t>Лайка –</a:t>
            </a:r>
            <a:br>
              <a:rPr sz="3600"/>
            </a:br>
            <a:r>
              <a:rPr b="1" lang="ru-RU" sz="3600" spc="-1" strike="noStrike">
                <a:solidFill>
                  <a:srgbClr val="33ccff"/>
                </a:solidFill>
                <a:latin typeface="Consolas"/>
              </a:rPr>
              <a:t> первая жизнь в     космосе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6" name="Picture 10" descr="92comor6p[1]"/>
          <p:cNvPicPr/>
          <p:nvPr/>
        </p:nvPicPr>
        <p:blipFill>
          <a:blip r:embed="rId3"/>
          <a:stretch/>
        </p:blipFill>
        <p:spPr>
          <a:xfrm rot="20498400">
            <a:off x="152280" y="1218960"/>
            <a:ext cx="2089440" cy="182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68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68" fill="hold"/>
                                        <p:tgtEl>
                                          <p:spTgt spid="3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68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2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5"/>
          <p:cNvSpPr/>
          <p:nvPr/>
        </p:nvSpPr>
        <p:spPr>
          <a:xfrm>
            <a:off x="2895480" y="3808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ff"/>
                </a:solidFill>
                <a:latin typeface="Arial"/>
              </a:rPr>
              <a:t>Белка и Стрел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2362320" y="1447920"/>
            <a:ext cx="457200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19 августа 1960 г.собаки Белка и Стрелка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а вместе с ними - 40 мышей, 2 крысы, различные мухи, растения и микроорганизмы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17 раз облетел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вокруг Земли и приземлились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Picture 8" descr="белка и стрелка"/>
          <p:cNvPicPr/>
          <p:nvPr/>
        </p:nvPicPr>
        <p:blipFill>
          <a:blip r:embed="rId2"/>
          <a:stretch/>
        </p:blipFill>
        <p:spPr>
          <a:xfrm>
            <a:off x="0" y="685800"/>
            <a:ext cx="2468520" cy="1927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9" descr="15_Belka_i_Strelka_NK"/>
          <p:cNvPicPr/>
          <p:nvPr/>
        </p:nvPicPr>
        <p:blipFill>
          <a:blip r:embed="rId3"/>
          <a:stretch/>
        </p:blipFill>
        <p:spPr>
          <a:xfrm>
            <a:off x="152280" y="2743200"/>
            <a:ext cx="2705400" cy="34290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0"/>
          <p:cNvSpPr/>
          <p:nvPr/>
        </p:nvSpPr>
        <p:spPr>
          <a:xfrm>
            <a:off x="231480" y="56386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ecff"/>
                </a:solidFill>
                <a:latin typeface="Arial"/>
              </a:rPr>
              <a:t>Стрелк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Picture 11" descr="13_Belka_i_Strelka_NK"/>
          <p:cNvPicPr/>
          <p:nvPr/>
        </p:nvPicPr>
        <p:blipFill>
          <a:blip r:embed="rId4"/>
          <a:stretch/>
        </p:blipFill>
        <p:spPr>
          <a:xfrm>
            <a:off x="6705720" y="2286000"/>
            <a:ext cx="2286000" cy="31240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12"/>
          <p:cNvSpPr/>
          <p:nvPr/>
        </p:nvSpPr>
        <p:spPr>
          <a:xfrm>
            <a:off x="6860160" y="23623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ecff"/>
                </a:solidFill>
                <a:latin typeface="Arial"/>
              </a:rPr>
              <a:t>Белк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cover dir="l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2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ff"/>
                </a:solidFill>
                <a:latin typeface="Consolas"/>
              </a:rPr>
              <a:t>Валентина Терешкова – </a:t>
            </a:r>
            <a:br>
              <a:rPr sz="3600"/>
            </a:br>
            <a:r>
              <a:rPr b="1" lang="ru-RU" sz="3600" spc="-1" strike="noStrike">
                <a:solidFill>
                  <a:srgbClr val="33ccff"/>
                </a:solidFill>
                <a:latin typeface="Consolas"/>
              </a:rPr>
              <a:t>первая женщина-космонавт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7" name="Picture 6" descr="Терешкова"/>
          <p:cNvPicPr/>
          <p:nvPr/>
        </p:nvPicPr>
        <p:blipFill>
          <a:blip r:embed="rId2"/>
          <a:stretch/>
        </p:blipFill>
        <p:spPr>
          <a:xfrm>
            <a:off x="304920" y="2286000"/>
            <a:ext cx="3047760" cy="4343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Терешкова 2"/>
          <p:cNvPicPr/>
          <p:nvPr/>
        </p:nvPicPr>
        <p:blipFill>
          <a:blip r:embed="rId3"/>
          <a:stretch/>
        </p:blipFill>
        <p:spPr>
          <a:xfrm>
            <a:off x="7620120" y="1523880"/>
            <a:ext cx="1523880" cy="190512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8"/>
          <p:cNvSpPr/>
          <p:nvPr/>
        </p:nvSpPr>
        <p:spPr>
          <a:xfrm>
            <a:off x="3352680" y="2590920"/>
            <a:ext cx="4496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ecff"/>
                </a:solidFill>
                <a:latin typeface="Arial"/>
              </a:rPr>
              <a:t>16 июня 1963 года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ecff"/>
                </a:solidFill>
                <a:latin typeface="Arial"/>
              </a:rPr>
              <a:t>на космическом корабле «Восток-6»  свой космический полет совершила первая в мире женщина-космонав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2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солн"/>
          <p:cNvPicPr/>
          <p:nvPr/>
        </p:nvPicPr>
        <p:blipFill>
          <a:blip r:embed="rId2"/>
          <a:stretch/>
        </p:blipFill>
        <p:spPr>
          <a:xfrm>
            <a:off x="-228600" y="-304920"/>
            <a:ext cx="9677520" cy="73152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ff"/>
                </a:solidFill>
                <a:latin typeface="Consolas"/>
              </a:rPr>
              <a:t>Солнечная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1" lang="ru-RU" sz="4000" spc="-1" strike="noStrike">
                <a:solidFill>
                  <a:srgbClr val="33ccff"/>
                </a:solidFill>
                <a:latin typeface="Consolas"/>
              </a:rPr>
              <a:t>систем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spd="slow">
    <p:split dir="out" orient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уран"/>
          <p:cNvPicPr/>
          <p:nvPr/>
        </p:nvPicPr>
        <p:blipFill>
          <a:blip r:embed="rId1"/>
          <a:stretch/>
        </p:blipFill>
        <p:spPr>
          <a:xfrm>
            <a:off x="304920" y="41911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сатурн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341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венера"/>
          <p:cNvPicPr/>
          <p:nvPr/>
        </p:nvPicPr>
        <p:blipFill>
          <a:blip r:embed="rId3"/>
          <a:stretch/>
        </p:blipFill>
        <p:spPr>
          <a:xfrm>
            <a:off x="6629400" y="3200400"/>
            <a:ext cx="2362320" cy="2157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марс"/>
          <p:cNvPicPr/>
          <p:nvPr/>
        </p:nvPicPr>
        <p:blipFill>
          <a:blip r:embed="rId4"/>
          <a:stretch/>
        </p:blipFill>
        <p:spPr>
          <a:xfrm>
            <a:off x="4267080" y="42670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юпитер"/>
          <p:cNvPicPr/>
          <p:nvPr/>
        </p:nvPicPr>
        <p:blipFill>
          <a:blip r:embed="rId5"/>
          <a:stretch/>
        </p:blipFill>
        <p:spPr>
          <a:xfrm>
            <a:off x="457200" y="2286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земля"/>
          <p:cNvPicPr/>
          <p:nvPr/>
        </p:nvPicPr>
        <p:blipFill>
          <a:blip r:embed="rId6"/>
          <a:stretch/>
        </p:blipFill>
        <p:spPr>
          <a:xfrm>
            <a:off x="3048120" y="1600200"/>
            <a:ext cx="2438280" cy="234144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12"/>
          <p:cNvSpPr/>
          <p:nvPr/>
        </p:nvSpPr>
        <p:spPr>
          <a:xfrm>
            <a:off x="152280" y="2209680"/>
            <a:ext cx="3048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изведанная планет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6172200" y="1981080"/>
            <a:ext cx="2666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Альфа Центавр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Rectangle 14"/>
          <p:cNvSpPr/>
          <p:nvPr/>
        </p:nvSpPr>
        <p:spPr>
          <a:xfrm>
            <a:off x="6858000" y="5334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вездал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4038480" y="6172200"/>
            <a:ext cx="198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Лунлянд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Rectangle 16"/>
          <p:cNvSpPr/>
          <p:nvPr/>
        </p:nvSpPr>
        <p:spPr>
          <a:xfrm>
            <a:off x="380880" y="6248520"/>
            <a:ext cx="198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казочна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Rectangle 17"/>
          <p:cNvSpPr/>
          <p:nvPr/>
        </p:nvSpPr>
        <p:spPr>
          <a:xfrm>
            <a:off x="3200400" y="12193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емл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9" descr="юпитер"/>
          <p:cNvPicPr/>
          <p:nvPr/>
        </p:nvPicPr>
        <p:blipFill>
          <a:blip r:embed="rId1"/>
          <a:stretch/>
        </p:blipFill>
        <p:spPr>
          <a:xfrm>
            <a:off x="2057400" y="914400"/>
            <a:ext cx="5181480" cy="518148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3" descr="Cartoon-Clipart-Free-02.gif"/>
          <p:cNvPicPr/>
          <p:nvPr/>
        </p:nvPicPr>
        <p:blipFill>
          <a:blip r:embed="rId2"/>
          <a:stretch/>
        </p:blipFill>
        <p:spPr>
          <a:xfrm>
            <a:off x="2664000" y="1517760"/>
            <a:ext cx="38224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1-04-09T10:06:3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