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9F22-0589-43AD-8401-33F3AB8E2F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BF1-CC94-44F3-8B62-A086AB4B04F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235-6AFA-4B90-8538-C4DF9D3E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842-A9E4-4A93-B9EC-DE73C7AB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367-6513-4191-B156-A1D064A1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C8C-5181-4E2D-B93D-6BD36005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C9EE-FBE2-46C0-800B-B92045B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4A2-C4A3-4471-83EF-0E3F99AB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2BF8-737C-454A-8B97-0DE3083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F53-CE26-4DB1-9FA0-612FDD9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93D0-15DE-4D5B-A445-29C5AB8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2CF7-0DB8-4B4A-B871-85071BB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F65-4C43-4A56-A406-0329691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2E3-3ACC-4E1B-B2AC-8ED1A38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0B69-5CD6-4B41-8898-FFF8686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00E-DFF8-4EC4-BBC0-AD1DE7C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B56-FDD6-4B48-AD5E-D48C14A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828-F8A6-4625-BEDC-124FF060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4432-49BB-47BE-B838-BFC2C9D5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ED56-3011-4128-9BDC-3246F106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4100-A809-431A-AB47-3F5984B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8DCF-75A9-4916-AFB8-FDB91CE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AB8E-ED83-4FE4-879C-196C902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2C57-648B-4DE6-8C5F-271FF61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836-B193-4206-92C9-E8B35BC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30AB-CD64-4584-A890-0F4FC78E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AD43-1C69-43C1-84C8-935F97B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CFF0-6F6C-4656-AE1A-809C1C3D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E44E-7226-4D03-A0E9-21FEC5A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1394-603E-4AAF-A553-5246F96D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977F-A168-44EC-BDEB-D8A040F7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9E10-7520-4B8B-ABA2-7596A031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1972-08EE-486F-B080-1CF0BD9C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687C-D98B-4690-BBCC-A964E07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F83E-8C40-481D-8D3E-94C70465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87C-7168-4898-923D-3512F75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F82D-AFAC-4E5E-AA6D-BB4D10B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D5DB-9A0B-43F6-B71F-C1153F8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CA3F-FBE1-4C0D-A430-7E594D5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8C0C-67B3-4EF1-B214-4839EF2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5ED4-9E30-4790-AC28-73ED822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D490-74F3-455E-B0A1-E42469D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0822-C90B-41B7-880C-E9334DE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B5CD-C9C6-4855-B580-34E0B156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CD9E-0C6E-4BB4-8642-398696AC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3BA-84C1-4941-8941-6718B84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93A-3F74-4B3A-922A-AAF7AD75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674-7484-4096-8648-BAFCD3E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85F-8481-4345-BB2E-A4780B3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A72-FA2E-4D1A-AF16-7B05E64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620-1C00-41D8-9145-F8585275EB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A9FE-E2B9-4DA1-94B0-DAF5534CA36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6D88-9220-413B-862B-BA93A69FCC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693A-41C4-4BEF-9B7E-F7DAC54020C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1844640"/>
            <a:ext cx="7458120" cy="1155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едагогическая династия Егоров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11280" y="3141720"/>
            <a:ext cx="7921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горов П.И., Баторова (Егорова) М.П., Баторова Т.Б., Попова (Баторова) Т.Б., Попов А.И, Александрова Р.Н., Анатольева В.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(общий педагогический  стаж династии –  133 года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3" name="Picture 6" descr="HP0001"/>
          <p:cNvPicPr/>
          <p:nvPr/>
        </p:nvPicPr>
        <p:blipFill>
          <a:blip r:embed="rId1"/>
          <a:stretch/>
        </p:blipFill>
        <p:spPr>
          <a:xfrm>
            <a:off x="3565440" y="237960"/>
            <a:ext cx="1586160" cy="143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одолжение династ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132000" y="1628280"/>
            <a:ext cx="56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егодня продолжает династию педагогов семьи старшая внучка Маргариты Павловны - Ольга Семенова. Она учится на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урсе в Благовещенском педагогическом университете на факультете «Физическая культура и спорт». Будет учителем физической культуры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24494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Users\Пользователь\Desktop\Егоровы в книгу\фото\3. внучки Егорова П.И..jpg"/>
          <p:cNvPicPr/>
          <p:nvPr/>
        </p:nvPicPr>
        <p:blipFill>
          <a:blip r:embed="rId1"/>
          <a:stretch/>
        </p:blipFill>
        <p:spPr>
          <a:xfrm>
            <a:off x="1968480" y="3378240"/>
            <a:ext cx="4537080" cy="3075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Users\Пользователь\Desktop\Батуровы\DSC_6419.JPG"/>
          <p:cNvPicPr/>
          <p:nvPr/>
        </p:nvPicPr>
        <p:blipFill>
          <a:blip r:embed="rId2"/>
          <a:stretch/>
        </p:blipFill>
        <p:spPr>
          <a:xfrm>
            <a:off x="4716360" y="333360"/>
            <a:ext cx="3816360" cy="2612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Пользователь\Desktop\Егоровы в книгу\Династия Егоровых\Маргарита Павловна.JPG"/>
          <p:cNvPicPr/>
          <p:nvPr/>
        </p:nvPicPr>
        <p:blipFill>
          <a:blip r:embed="rId3"/>
          <a:stretch/>
        </p:blipFill>
        <p:spPr>
          <a:xfrm>
            <a:off x="468360" y="345960"/>
            <a:ext cx="3768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Основатель династии –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Егоров Павел Иванови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6846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снователь династии – Павел Иванович Егоров родился в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06 году 21 мая. Жил он в многодетной бедной семье в п. Джикимда Нюрбинского наслега. В 8 лет со своими братьями и сёстрами остался сиротой. С 9 лет до 1917 года ему пришлось батрачить у местного тойона: пасти скот, косить сено, возить воду. И только Великая Октябрьская Социалистическая Революция перевернула всю его жизнь: она дала дедушке и его братьям возможность получить образование, работ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Picture 4" descr="3 001"/>
          <p:cNvPicPr/>
          <p:nvPr/>
        </p:nvPicPr>
        <p:blipFill>
          <a:blip r:embed="rId1"/>
          <a:srcRect l="5963" t="534" r="3126" b="6281"/>
          <a:stretch/>
        </p:blipFill>
        <p:spPr>
          <a:xfrm>
            <a:off x="539640" y="1798560"/>
            <a:ext cx="1890720" cy="2867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11640" y="981000"/>
            <a:ext cx="44704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Далёкие </a:t>
            </a:r>
            <a:br>
              <a:rPr sz="3600"/>
            </a:b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0 – е годы 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42472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авел Иванович окончил 7 летнюю школу в Нюрбе, вступил в ряды РКСМ. За хорошую учёбу и активное участие в жизни района  был направлен на повышение в Якутский Обком Комсомола, а затем - в Иркутский рабфак.  В 1932 году по направлению Якутского Обкома прибыл в Южную Якутию для ликвидации безграмотности среди коренного населения (эвенков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9" name="Picture 5" descr="3"/>
          <p:cNvPicPr/>
          <p:nvPr/>
        </p:nvPicPr>
        <p:blipFill>
          <a:blip r:embed="rId1"/>
          <a:srcRect l="6881" t="834" r="0" b="3026"/>
          <a:stretch/>
        </p:blipFill>
        <p:spPr>
          <a:xfrm>
            <a:off x="642960" y="642960"/>
            <a:ext cx="3351240" cy="257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842920" y="3141360"/>
            <a:ext cx="6049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годы Великой Отечественной войны, являясь коммунистом, членом КПСС, в 1942 году был призван в ряды Советской Армии, попал на Восточный фронт на Японскую границу с Манчжурие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ернулся домой в 1946 году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1" name="Picture 4" descr="3 00"/>
          <p:cNvPicPr/>
          <p:nvPr/>
        </p:nvPicPr>
        <p:blipFill>
          <a:blip r:embed="rId1"/>
          <a:stretch/>
        </p:blipFill>
        <p:spPr>
          <a:xfrm>
            <a:off x="539640" y="260280"/>
            <a:ext cx="2160720" cy="3022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700360" y="404280"/>
            <a:ext cx="5981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ская деятельность началась с палаток. Преподавание вёл на якутском и русском языках. Часто кочуя с одного стойбища на другое, ему приходилось перевозить на оленях свой ценный груз – книги. Кочуя с места на место, он решил основательно обжиться в Тимптонском  районе. Так и остался жить здесь навсегда, пустив, свои корни. Павел Иванович женился на эвенкийской девушке из рода Бута, у них родилось 7 детей. Продолжая преподавательскую деятельность оставался настоящим борцом за справедливость, активным участником всех преобразова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мер в 1973 году в возрасте 67 ле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3" name="Picture 4" descr="эвенки_1932"/>
          <p:cNvPicPr/>
          <p:nvPr/>
        </p:nvPicPr>
        <p:blipFill>
          <a:blip r:embed="rId1"/>
          <a:stretch/>
        </p:blipFill>
        <p:spPr>
          <a:xfrm>
            <a:off x="395280" y="549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234071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По стопам отца и дедуш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47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 дело, с которого он начал свою жизнь в Южной Якутии, дело учителя, продолжила его дочь Маргарит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1728720" cy="251928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1"/>
          <p:cNvSpPr/>
          <p:nvPr/>
        </p:nvSpPr>
        <p:spPr>
          <a:xfrm>
            <a:off x="2286000" y="750960"/>
            <a:ext cx="646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ргарита Павловна Баторова (Егорова) - учитель начальных классов. Трудовую деятельность начала в 1975 году помощником воспитателя в детском саду «Золотиночка» с. Иенгра. В 1984 году была переведена воспитателем. В 1992 году принята в Золотинскую среднюю общеобразовательную школу - интернат, воспитателем интерната. В 1995 году поступила на заочное отделение «Педагогика и методика начального образования» в ЯГУ им. М.К. Аммосова г. Нерюнгри. В этом же году была переведена учителем начальных классов.  Проработала в школе  20 лет. За достигнутые успехи  в  2006 году Маргарита Павловна награждена Почетной грамотой Министерства Образования РС (Я). С 2010 года находится на заслуженном отдыхе, ветеран труд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6"/>
          <p:cNvSpPr/>
          <p:nvPr/>
        </p:nvSpPr>
        <p:spPr>
          <a:xfrm>
            <a:off x="250920" y="-2295360"/>
            <a:ext cx="8569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0" name="Picture 9" descr="C:\Users\Пользователь\Downloads\IMG_6843.jpg"/>
          <p:cNvPicPr/>
          <p:nvPr/>
        </p:nvPicPr>
        <p:blipFill>
          <a:blip r:embed="rId1"/>
          <a:stretch/>
        </p:blipFill>
        <p:spPr>
          <a:xfrm>
            <a:off x="2484360" y="4381560"/>
            <a:ext cx="1656000" cy="2382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2"/>
          <a:stretch/>
        </p:blipFill>
        <p:spPr>
          <a:xfrm>
            <a:off x="5076720" y="4365720"/>
            <a:ext cx="1667160" cy="23652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"/>
          <p:cNvSpPr/>
          <p:nvPr/>
        </p:nvSpPr>
        <p:spPr>
          <a:xfrm>
            <a:off x="431640" y="177840"/>
            <a:ext cx="8585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 стопам дедушки и мамы профессию учителя выбирают  внучки Павла Ивановича и дочери Маргариты Павловны – Татьяна и Туян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тьяна Батожаповна Баторова после окончания Нерюнгринского гуманитарного колледжа в 2001 году вернулась в родное село, где была принята в ЗСОШИ воспитателем интерната. Год спустя была переведена учителем начальных классов. В родной школе проработала 18 лет. Педагогический стаж - 22 года. В 2020 году была наставником ученицы 10 класса Юхновец Дарьи в проекте «Большая перемена». В 2022 году стала участником II Всероссийского форума классных руководителей (г. Москва). За достигнутые успехи в системе образования награждена нагрудным знаком «Отличник системы образования РС (Я)» в 2017 году. Обладатель нагрудного знака «Династия педагогов Республики Саха (Якутия). Сейчас работает учителем физической культуры в ГБОУ РС (Я) «ЭШИ Арктика» с углубленным изучением предметов гуманитарно – культурологического профиля г. Нерюнгри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уяна Батожаповна Попова (Баторова) в 2008 году после окончания Технического Института (филиала) Якутского Государственного Университета  им. М.К. Аммосова  г. Нерюнгри по специальности «Зарубежная филология» была принята учителем английского языка в родную школу с. Иенгра. Была председателем профсоюзного комитета школы. Сейчас работает в МКУ «Управление образования Нерюнгринского района» главным специалистом. Обладатель нагрудного знака «Династия педагогов Республики Саха (Якутия)». Педагогический стаж – 5 лет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339640" y="254160"/>
            <a:ext cx="634212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ж Туяны Батожаповны – Анатолий Ионович Попов. Закончил в 2007 г. ГОУ ВПО Якутский Государственный Университет имени М. К. Аммосова по специальности « Физическая культура и спорт». Один год после окончания университета по направлению  работал учителем физической культуры. Сейчас работает в спортивной школе единоборств «ЭРЭЛ» тренером - преподавателем по Северному многоборью г. Нерюнгри. Педагогический стаж – 16 лет. Судья республиканской категории. Принимал участие в судействе в соревнованиях муниципального, регионального уровнях в качестве главного судьи. 2013-2016г.г. - старший тренер юниорской сборной команды РС (Я) по северному многоборью. С 2016г. старший тренер сборной команды РС (Я) по северному многоборью. Обладатель нагрудного знака «Династия педагогов Республики Саха (Якутия). Анатолий Ионович за достижения в спорте награжден нагрудными знаками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5г. Нагрудный знак «Отличник образования РС (Я)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7г. Нагрудный знак «Отличник Молодежной политики РС (Я)»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9г. Нагрудный знак «Отличник Физической культуры и спорта РС (Я)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д педагога неоднократно отмечен Почетными грамотами и благодарственными письмами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2021 г. стал  чемпионом 21 спартакиады «игры Манчаары» по северному многоборью. В2021-2022г.г. - емпион РС (Я) по северному многоборью. По итогам  2021 г. в номинации «За выдающиеся достижения в спорте и ФК» награжден Почетной грамотой Главы МО «Нерюнгринский район»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 2021 г. - по настоящее время является главным тренером сборной РС (Я) по Северному многоборь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4" name="Picture 4" descr="C:\Users\Пользователь\Desktop\Егоровы в книгу\Династия Егоровых\Анатолий Ионович.jpg"/>
          <p:cNvPicPr/>
          <p:nvPr/>
        </p:nvPicPr>
        <p:blipFill>
          <a:blip r:embed="rId1"/>
          <a:stretch/>
        </p:blipFill>
        <p:spPr>
          <a:xfrm>
            <a:off x="468360" y="365040"/>
            <a:ext cx="15825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4"/>
          <p:cNvSpPr/>
          <p:nvPr/>
        </p:nvSpPr>
        <p:spPr>
          <a:xfrm>
            <a:off x="324000" y="-1465200"/>
            <a:ext cx="849600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лемянницы Маргариты Павловны, внучки Павла Ивановича Римма и Виктория Николаевны также являются представителями учительской династии. Им характерны такие черты как обязательность, скромность и работоспособность, унаследованные от дедушки – тружени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имма Николаевна Александрова – учитель начальных классов. Окончив Николаевское – на - Амуре педагогическое училище в 1981 году, приехала в родное село Иенгра. Педагогический стаж – 35 лет. Трудовую деятельность начала воспитателем интерната. Некоторое время спустя была переведена учителем начальных классов, проработав до самой пенсии. За многолетний и добросовестный в 2007 году награждена Почетной грамотой Министерства Образования РС (Я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ктория Николаевна Анатольева  - учитель технологии и ИЗО, Училась в Якутском педагогическом училище № 2 в г. Якутске. Педагогический стаж – 37  лет. После окончания училища, в 1981 году,  начала работать воспитателем в детском саду «Золотиночка» с. Иенгра. С 2005 года работает учителем технологии в МОУ им. Г.М. Василевич. Труд учителя неоднократно отмечен благодарственными письмами и Почетными грамотам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6" name="Picture 10" descr="DSC00077"/>
          <p:cNvPicPr/>
          <p:nvPr/>
        </p:nvPicPr>
        <p:blipFill>
          <a:blip r:embed="rId1"/>
          <a:stretch/>
        </p:blipFill>
        <p:spPr>
          <a:xfrm>
            <a:off x="2556000" y="4437000"/>
            <a:ext cx="1655640" cy="2198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Фото006"/>
          <p:cNvPicPr/>
          <p:nvPr/>
        </p:nvPicPr>
        <p:blipFill>
          <a:blip r:embed="rId2"/>
          <a:stretch/>
        </p:blipFill>
        <p:spPr>
          <a:xfrm>
            <a:off x="5076720" y="4437000"/>
            <a:ext cx="158292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4:56:59Z</dcterms:created>
  <dc:creator>Admin</dc:creator>
  <dc:description/>
  <dc:language>en-US</dc:language>
  <cp:lastModifiedBy>Пользователь</cp:lastModifiedBy>
  <dcterms:modified xsi:type="dcterms:W3CDTF">2023-09-09T10:09:06Z</dcterms:modified>
  <cp:revision>54</cp:revision>
  <dc:subject/>
  <dc:title>Семейная династия  учителей</dc:title>
</cp:coreProperties>
</file>