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9E11-4D67-4D28-900E-3336599F20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B3F2-42AE-4BBB-AE3B-5EE13CF364D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890-44FB-48BB-9FB6-4C543E3A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0176-E45F-4E05-9A46-976442FB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EB0-CC16-45F7-A56E-A3FB5EC5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B2F-181D-4EA2-9859-DDB273DC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EE8E-D26E-4796-B264-98F6D1C0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DECA-9FA7-4891-9677-FC60EAA1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B48F-C48C-4780-99CA-BE3D2DC0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A7FC-0AD1-48DD-8A8E-26B7EC51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20DB-A068-4B4F-B0C5-2824A060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A34F-01E4-45AE-98F0-6B45A6F3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CEBD-CA40-424A-A157-E501361E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CE2-21E6-4ABD-A07B-22858909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6919-E247-4DAF-9EF9-442F77E8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8879-9278-4C1E-AAA5-D1E670E0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ECF0-74AF-407F-B789-558843AB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3E6C-3DE1-4954-87D8-2FE6CCA4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3A3D-16F8-4E55-80D1-3AD793C2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09B6-CD0C-414C-B86C-4EF9FCD1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52AC-270F-48D4-A9B5-D1A9237F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040D-CDDF-4EA1-AFF8-6512C3DF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40765-341E-46DD-AA0C-226282BE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F37C-5F08-4884-8A7B-B7DB9127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F9C-EDCA-4929-A472-CD74D3AE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9214-F741-48F2-AF19-3E6346A0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DC54F-6057-427F-9CC1-69C4655F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ED869-2E07-46DA-A1A8-FF711DEE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EF08C-9BB3-4687-A214-E058487E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0C79E-7C47-4395-9285-A09E514A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F4D4B-9F53-4DE9-8419-384505AA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157C0-A238-4268-A03F-EDFE3BA5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1BEEF-4273-4FD8-A0D3-A49DDDC0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82F51-3EF6-4838-B7E4-A6282714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9C501-849B-49EB-8922-5E447463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BA2-27C2-43B6-92BE-44ECE23F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23A6E-67C5-4B1D-95CD-BFDD3EB9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FBCD1-162E-424B-A335-3BA03DBA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EC3BB-3D4B-4CE4-BDD5-DF2AB162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3143D-B486-4DC2-9465-1A3C5B8B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3ACBA-E4FC-4D8C-809C-FFAE743E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7B173-8DA0-424D-9404-A9EE3B6E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0E343-4D93-4E8E-911F-90ED82E1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50E70-CE16-46BC-B0F0-3FC88470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FED09-270C-4D19-89E2-B9E11A96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52C-08C6-4B03-8D4F-1CC5C6F8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FA7-4F23-4112-95C5-8A572C37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0BB-36EB-412B-BC52-27C33D48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09F-1221-4DDF-8BD1-5F5A773A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DD6-04EA-4B89-9F77-BE93D243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0C8A-4568-452B-8FF5-6B6013789D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E081-5ACF-41B1-9025-A5666679BC85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1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1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1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4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4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5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6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BAD0-6994-4CFC-98C7-CB11268EF9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1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2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2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4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4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6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6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8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FF85-7613-4226-A7A7-C7E6E05D7E7C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9720" y="1844640"/>
            <a:ext cx="7458120" cy="1155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Педагогическая династия Егоровы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11280" y="3141720"/>
            <a:ext cx="7921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Егоров П.И., Баторова (Егорова) М.П., Баторова Т.Б., Попова (Баторова) Т.Б., Попов А.И, Александрова Р.Н., Анатольева В.Н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(общий педагогический  стаж династии –  133 года 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3" name="Picture 6" descr="HP0001"/>
          <p:cNvPicPr/>
          <p:nvPr/>
        </p:nvPicPr>
        <p:blipFill>
          <a:blip r:embed="rId1"/>
          <a:stretch/>
        </p:blipFill>
        <p:spPr>
          <a:xfrm>
            <a:off x="3565440" y="237960"/>
            <a:ext cx="1586160" cy="143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родолжение династ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132000" y="1628280"/>
            <a:ext cx="568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Сегодня продолжает династию педагогов семьи старшая внучка Маргариты Павловны - Ольга Семенова. Она учится на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курсе в Благовещенском педагогическом университете на факультете «Физическая культура и спорт». Будет учителем физической культуры.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250920" y="1781280"/>
            <a:ext cx="244944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C:\Users\Пользователь\Desktop\Егоровы в книгу\фото\3. внучки Егорова П.И..jpg"/>
          <p:cNvPicPr/>
          <p:nvPr/>
        </p:nvPicPr>
        <p:blipFill>
          <a:blip r:embed="rId1"/>
          <a:stretch/>
        </p:blipFill>
        <p:spPr>
          <a:xfrm>
            <a:off x="1968480" y="3378240"/>
            <a:ext cx="4537080" cy="30751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C:\Users\Пользователь\Desktop\Батуровы\DSC_6419.JPG"/>
          <p:cNvPicPr/>
          <p:nvPr/>
        </p:nvPicPr>
        <p:blipFill>
          <a:blip r:embed="rId2"/>
          <a:stretch/>
        </p:blipFill>
        <p:spPr>
          <a:xfrm>
            <a:off x="4716360" y="333360"/>
            <a:ext cx="3816360" cy="2612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C:\Users\Пользователь\Desktop\Егоровы в книгу\Династия Егоровых\Маргарита Павловна.JPG"/>
          <p:cNvPicPr/>
          <p:nvPr/>
        </p:nvPicPr>
        <p:blipFill>
          <a:blip r:embed="rId3"/>
          <a:stretch/>
        </p:blipFill>
        <p:spPr>
          <a:xfrm>
            <a:off x="468360" y="345960"/>
            <a:ext cx="37688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Основатель династии – </a:t>
            </a:r>
            <a:br>
              <a:rPr sz="4000"/>
            </a:b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Егоров Павел Иванович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34920" y="1699920"/>
            <a:ext cx="6846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90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снователь династии – Павел Иванович Егоров родился в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906 году 21 мая. Жил он в многодетной бедной семье в п. Джикимда Нюрбинского наслега. В 8 лет со своими братьями и сёстрами остался сиротой. С 9 лет до 1917 года ему пришлось батрачить у местного тойона: пасти скот, косить сено, возить воду. И только Великая Октябрьская Социалистическая Революция перевернула всю его жизнь: она дала дедушке и его братьям возможность получить образование, работу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6" name="Picture 4" descr="3 001"/>
          <p:cNvPicPr/>
          <p:nvPr/>
        </p:nvPicPr>
        <p:blipFill>
          <a:blip r:embed="rId1"/>
          <a:srcRect l="5963" t="534" r="3126" b="6281"/>
          <a:stretch/>
        </p:blipFill>
        <p:spPr>
          <a:xfrm>
            <a:off x="539640" y="1798560"/>
            <a:ext cx="1890720" cy="2867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211640" y="981000"/>
            <a:ext cx="447048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Далёкие </a:t>
            </a:r>
            <a:br>
              <a:rPr sz="3600"/>
            </a:br>
            <a:r>
              <a:rPr b="0" i="1" lang="en-US" sz="3600" spc="-1" strike="noStrike">
                <a:solidFill>
                  <a:srgbClr val="ccecff"/>
                </a:solidFill>
                <a:latin typeface="Arial"/>
              </a:rPr>
              <a:t>3</a:t>
            </a: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0 – е годы …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3715920"/>
            <a:ext cx="8424720" cy="28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авел Иванович окончил 7 летнюю школу в Нюрбе, вступил в ряды РКСМ. За хорошую учёбу и активное участие в жизни района  был направлен на повышение в Якутский Обком Комсомола, а затем - в Иркутский рабфак.  В 1932 году по направлению Якутского Обкома прибыл в Южную Якутию для ликвидации безграмотности среди коренного населения (эвенков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9" name="Picture 5" descr="3"/>
          <p:cNvPicPr/>
          <p:nvPr/>
        </p:nvPicPr>
        <p:blipFill>
          <a:blip r:embed="rId1"/>
          <a:srcRect l="6881" t="834" r="0" b="3026"/>
          <a:stretch/>
        </p:blipFill>
        <p:spPr>
          <a:xfrm>
            <a:off x="642960" y="642960"/>
            <a:ext cx="3351240" cy="2571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842920" y="3141360"/>
            <a:ext cx="60498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годы Великой Отечественной войны, являясь коммунистом, членом КПСС, в 1942 году был призван в ряды Советской Армии, попал на Восточный фронт на Японскую границу с Манчжурие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ернулся домой в 1946 году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1" name="Picture 4" descr="3 00"/>
          <p:cNvPicPr/>
          <p:nvPr/>
        </p:nvPicPr>
        <p:blipFill>
          <a:blip r:embed="rId1"/>
          <a:stretch/>
        </p:blipFill>
        <p:spPr>
          <a:xfrm>
            <a:off x="539640" y="260280"/>
            <a:ext cx="2160720" cy="3022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2700360" y="404280"/>
            <a:ext cx="5981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чительская деятельность началась с палаток. Преподавание вёл на якутском и русском языках. Часто кочуя с одного стойбища на другое, ему приходилось перевозить на оленях свой ценный груз – книги. Кочуя с места на место, он решил основательно обжиться в Тимптонском  районе. Так и остался жить здесь навсегда, пустив, свои корни. Павел Иванович женился на эвенкийской девушке из рода Бута, у них родилось 7 детей. Продолжая преподавательскую деятельность оставался настоящим борцом за справедливость, активным участником всех преобразовани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мер в 1973 году в возрасте 67 ле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3" name="Picture 4" descr="эвенки_1932"/>
          <p:cNvPicPr/>
          <p:nvPr/>
        </p:nvPicPr>
        <p:blipFill>
          <a:blip r:embed="rId1"/>
          <a:stretch/>
        </p:blipFill>
        <p:spPr>
          <a:xfrm>
            <a:off x="395280" y="549360"/>
            <a:ext cx="2232000" cy="2879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" descr="234071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664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По стопам отца и дедуш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470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А дело, с которого он начал свою жизнь в Южной Якутии, дело учителя, продолжила его дочь Маргарита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7" name="Picture 11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1728720" cy="2519280"/>
          </a:xfrm>
          <a:prstGeom prst="rect">
            <a:avLst/>
          </a:prstGeom>
          <a:ln w="0">
            <a:noFill/>
          </a:ln>
        </p:spPr>
      </p:pic>
      <p:sp>
        <p:nvSpPr>
          <p:cNvPr id="448" name="Прямоугольник 1"/>
          <p:cNvSpPr/>
          <p:nvPr/>
        </p:nvSpPr>
        <p:spPr>
          <a:xfrm>
            <a:off x="2286000" y="750960"/>
            <a:ext cx="646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аргарита Павловна Баторова (Егорова) - учитель начальных классов. Трудовую деятельность начала в 1975 году помощником воспитателя в детском саду «Золотиночка» с. Иенгра. В 1984 году была переведена воспитателем. В 1992 году принята в Золотинскую среднюю общеобразовательную школу - интернат, воспитателем интерната. В 1995 году поступила на заочное отделение «Педагогика и методика начального образования» в ЯГУ им. М.К. Аммосова г. Нерюнгри. В этом же году была переведена учителем начальных классов.  Проработала в школе  20 лет. За достигнутые успехи  в  2006 году Маргарита Павловна награждена Почетной грамотой Министерства Образования РС (Я). С 2010 года находится на заслуженном отдыхе, ветеран труд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6"/>
          <p:cNvSpPr/>
          <p:nvPr/>
        </p:nvSpPr>
        <p:spPr>
          <a:xfrm>
            <a:off x="250920" y="-2295360"/>
            <a:ext cx="85690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50" name="Picture 9" descr="C:\Users\Пользователь\Downloads\IMG_6843.jpg"/>
          <p:cNvPicPr/>
          <p:nvPr/>
        </p:nvPicPr>
        <p:blipFill>
          <a:blip r:embed="rId1"/>
          <a:stretch/>
        </p:blipFill>
        <p:spPr>
          <a:xfrm>
            <a:off x="2484360" y="4381560"/>
            <a:ext cx="1656000" cy="23828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8" descr=""/>
          <p:cNvPicPr/>
          <p:nvPr/>
        </p:nvPicPr>
        <p:blipFill>
          <a:blip r:embed="rId2"/>
          <a:stretch/>
        </p:blipFill>
        <p:spPr>
          <a:xfrm>
            <a:off x="5076720" y="4365720"/>
            <a:ext cx="1667160" cy="236520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1"/>
          <p:cNvSpPr/>
          <p:nvPr/>
        </p:nvSpPr>
        <p:spPr>
          <a:xfrm>
            <a:off x="431640" y="177840"/>
            <a:ext cx="85852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о стопам дедушки и мамы профессию учителя выбирают  внучки Павла Ивановича и дочери Маргариты Павловны – Татьяна и Туяна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атьяна Батожаповна Баторова после окончания Нерюнгринского гуманитарного колледжа в 2001 году вернулась в родное село, где была принята в ЗСОШИ воспитателем интерната. Год спустя была переведена учителем начальных классов. В родной школе проработала 18 лет. Педагогический стаж - 22 года. В 2020 году была наставником ученицы 10 класса Юхновец Дарьи в проекте «Большая перемена». В 2022 году стала участником II Всероссийского форума классных руководителей (г. Москва). За достигнутые успехи в системе образования награждена нагрудным знаком «Отличник системы образования РС (Я)» в 2017 году. Обладатель нагрудного знака «Династия педагогов Республики Саха (Якутия). Сейчас работает учителем физической культуры в ГБОУ РС (Я) «ЭШИ Арктика» с углубленным изучением предметов гуманитарно – культурологического профиля г. Нерюнгри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уяна Батожаповна Попова (Баторова) в 2008 году после окончания Технического Института (филиала) Якутского Государственного Университета  им. М.К. Аммосова  г. Нерюнгри по специальности «Зарубежная филология» была принята учителем английского языка в родную школу с. Иенгра. Была председателем профсоюзного комитета школы. Сейчас работает в МКУ «Управление образования Нерюнгринского района» главным специалистом. Обладатель нагрудного знака «Династия педагогов Республики Саха (Якутия)». Педагогический стаж – 5 лет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339640" y="254160"/>
            <a:ext cx="6342120" cy="60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уж Туяны Батожаповны – Анатолий Ионович Попов. Закончил в 2007 г. ГОУ ВПО Якутский Государственный Университет имени М. К. Аммосова по специальности « Физическая культура и спорт». Один год после окончания университета по направлению  работал учителем физической культуры. Сейчас работает в спортивной школе единоборств «ЭРЭЛ» тренером - преподавателем по Северному многоборью г. Нерюнгри. Педагогический стаж – 16 лет. Судья республиканской категории. Принимал участие в судействе в соревнованиях муниципального, регионального уровнях в качестве главного судьи. 2013-2016г.г. - старший тренер юниорской сборной команды РС (Я) по северному многоборью. С 2016г. старший тренер сборной команды РС (Я) по северному многоборью. Обладатель нагрудного знака «Династия педагогов Республики Саха (Якутия). Анатолий Ионович за достижения в спорте награжден нагрудными знаками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15г. Нагрудный знак «Отличник образования РС (Я)»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17г. Нагрудный знак «Отличник Молодежной политики РС (Я)»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019г. Нагрудный знак «Отличник Физической культуры и спорта РС (Я)»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уд педагога неоднократно отмечен Почетными грамотами и благодарственными письмами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2021 г. стал  чемпионом 21 спартакиады «игры Манчаары» по северному многоборью. В2021-2022г.г. - емпион РС (Я) по северному многоборью. По итогам  2021 г. в номинации «За выдающиеся достижения в спорте и ФК» награжден Почетной грамотой Главы МО «Нерюнгринский район»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 2021 г. - по настоящее время является главным тренером сборной РС (Я) по Северному многоборью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54" name="Picture 4" descr="C:\Users\Пользователь\Desktop\Егоровы в книгу\Династия Егоровых\Анатолий Ионович.jpg"/>
          <p:cNvPicPr/>
          <p:nvPr/>
        </p:nvPicPr>
        <p:blipFill>
          <a:blip r:embed="rId1"/>
          <a:stretch/>
        </p:blipFill>
        <p:spPr>
          <a:xfrm>
            <a:off x="468360" y="365040"/>
            <a:ext cx="15825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Прямоугольник 4"/>
          <p:cNvSpPr/>
          <p:nvPr/>
        </p:nvSpPr>
        <p:spPr>
          <a:xfrm>
            <a:off x="324000" y="-1465200"/>
            <a:ext cx="8496000" cy="56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лемянницы Маргариты Павловны, внучки Павла Ивановича Римма и Виктория Николаевны также являются представителями учительской династии. Им характерны такие черты как обязательность, скромность и работоспособность, унаследованные от дедушки – труженик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имма Николаевна Александрова – учитель начальных классов. Окончив Николаевское – на - Амуре педагогическое училище в 1981 году, приехала в родное село Иенгра. Педагогический стаж – 35 лет. Трудовую деятельность начала воспитателем интерната. Некоторое время спустя была переведена учителем начальных классов, проработав до самой пенсии. За многолетний и добросовестный в 2007 году награждена Почетной грамотой Министерства Образования РС (Я)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иктория Николаевна Анатольева  - учитель технологии и ИЗО, Училась в Якутском педагогическом училище № 2 в г. Якутске. Педагогический стаж – 37  лет. После окончания училища, в 1981 году,  начала работать воспитателем в детском саду «Золотиночка» с. Иенгра. С 2005 года работает учителем технологии в МОУ им. Г.М. Василевич. Труд учителя неоднократно отмечен благодарственными письмами и Почетными грамотам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56" name="Picture 10" descr="DSC00077"/>
          <p:cNvPicPr/>
          <p:nvPr/>
        </p:nvPicPr>
        <p:blipFill>
          <a:blip r:embed="rId1"/>
          <a:stretch/>
        </p:blipFill>
        <p:spPr>
          <a:xfrm>
            <a:off x="2556000" y="4437000"/>
            <a:ext cx="1655640" cy="2198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Фото006"/>
          <p:cNvPicPr/>
          <p:nvPr/>
        </p:nvPicPr>
        <p:blipFill>
          <a:blip r:embed="rId2"/>
          <a:stretch/>
        </p:blipFill>
        <p:spPr>
          <a:xfrm>
            <a:off x="5076720" y="4437000"/>
            <a:ext cx="158292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4:56:59Z</dcterms:created>
  <dc:creator>Admin</dc:creator>
  <dc:description/>
  <dc:language>en-US</dc:language>
  <cp:lastModifiedBy>Пользователь</cp:lastModifiedBy>
  <dcterms:modified xsi:type="dcterms:W3CDTF">2023-09-09T10:09:06Z</dcterms:modified>
  <cp:revision>54</cp:revision>
  <dc:subject/>
  <dc:title>Семейная династия  учителей</dc:title>
</cp:coreProperties>
</file>