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5.gif" ContentType="image/gif"/>
  <Override PartName="/ppt/media/image28.gif" ContentType="image/gif"/>
  <Override PartName="/ppt/media/image13.jpeg" ContentType="image/jpeg"/>
  <Override PartName="/ppt/media/image4.png" ContentType="image/png"/>
  <Override PartName="/ppt/media/image24.gif" ContentType="image/gif"/>
  <Override PartName="/ppt/media/image29.gif" ContentType="image/gif"/>
  <Override PartName="/ppt/media/image27.gif" ContentType="image/gif"/>
  <Override PartName="/ppt/media/image1.png" ContentType="image/png"/>
  <Override PartName="/ppt/media/image26.gif" ContentType="image/gif"/>
  <Override PartName="/ppt/media/image14.gif" ContentType="image/gif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482-943C-47E3-8DF2-FEE319AF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8B67-6F9D-4351-81A2-B962CA97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FBC-FC31-44B2-9EC9-ACEF9677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067-A7CC-45B0-BA7D-6FCE0D25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CDDB-A564-4E9C-9257-0FDC9324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D29A-F8E4-4CCB-9369-9C4FE696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6091-C475-4DE7-AE14-D382F49D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7389-96BB-4D5B-95F5-9051F7A8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DD74-4C72-4000-B6D4-0EA210EF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22E8-CEA4-4DC6-A735-424FB50F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ABB9-B653-46E6-B4AC-5D10E8FF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05F-0585-4195-AA0E-D897E585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8606-CEED-4440-B5A2-C5AB216A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5312-1450-42DE-9881-FAC06E38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4849-FC76-46E6-96CB-FA6BBC31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33A8-AFD6-4AA7-8734-FEF9FDCD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EF7A-A53A-4EC2-A01B-935A8209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6AB41-0CF2-4624-AE43-1C02E95C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48BA8-3A51-4884-85D5-514BFF4E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CF864-550F-4E54-9393-4158163F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2AFB7-2597-4850-9E86-F959F664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336E1-3BC3-4183-9C90-DE0EC7D5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C708-44B5-435B-8976-C3DF18F6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A215B-6405-4B94-A781-9B87B177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835E-BC39-4E22-B2C9-6708DC64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01153-939F-4CD1-BA7A-9244D8CF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484A5-2155-4447-BC5B-1A30E6B3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1EC60-983F-45F8-B676-C5C57C17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81CD3-B330-42F6-B0F2-4F9D8289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8775C-097E-495D-A3D7-7295E107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8E79F-E16E-4E65-9C31-8A4BEE6D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06ABE-EBA4-4512-8B72-36C5DA90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A4160-56A8-4D19-B6FC-43D946D2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CB76-2D3E-44A0-8941-77966022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86781-AB1C-4775-8195-56916889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89EB1-22A1-4656-ACE6-2F42D954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00E9E-9B71-4168-AA2D-7D520ECB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A0F1E-FF9A-480A-8C91-1F7A74E6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A0E42-191C-48D9-BB74-FE2EF4F5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6C3C5-EAFB-4348-90AB-BE22EFCF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9C155-E894-4BE4-ABCD-D363A981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DCF43-C6A9-456B-A55F-86805CF3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F2F9E-D6E9-4493-B94B-F802F418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27535-A323-487D-85C1-F0AC44B8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A90-F9CA-420B-B1EF-0C238467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1A40A-551D-4808-9417-6E23D048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65140-01D2-483F-B85E-0EDAEBDC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3F04A-BDF4-4B2A-BBFC-D797369D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07AA1-C678-412B-BE90-323CAA7C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2617F-29E4-45C4-944B-9D181E16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58D98-4D1A-4B6C-AC3E-9C30EFA9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E6BCC-068A-48B3-803F-990394A6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70B9F-0438-4690-AE64-EEF90C1C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7142B-3BE0-4953-AA3E-1B5C1BC0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483F2-CC51-4060-980C-DA959BA2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449-DB7A-40E3-99F8-6C28D79B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7BC80-159E-40D4-9684-D7AF4A60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9C4-1007-45F1-817E-2BE00D51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C6FA-7CE4-43BE-A680-38D5BABE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503-5869-42B8-B25C-E6976B64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176040" y="176040"/>
            <a:ext cx="8791920" cy="6510240"/>
            <a:chOff x="176040" y="176040"/>
            <a:chExt cx="8791920" cy="65102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176040" y="178560"/>
              <a:ext cx="8791920" cy="65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76040" y="176040"/>
              <a:ext cx="8791920" cy="65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8228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6C89-8C40-498C-8880-C4502F8DC254}" type="slidenum">
              <a:rPr b="0" lang="ru-RU" sz="9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Rectangle 9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48" name="Rectangle 9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0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53" name="Straight Connector 16"/>
            <p:cNvSpPr/>
            <p:nvPr/>
          </p:nvSpPr>
          <p:spPr>
            <a:xfrm>
              <a:off x="38862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52578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18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932280" y="13273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104480" y="5211360"/>
            <a:ext cx="4429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454440" y="5211360"/>
            <a:ext cx="1584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B95E-E713-4112-B21F-6975AEA42614}" type="slidenum">
              <a:rPr b="0" lang="ru-RU" sz="9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Rectangle 2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Rectangle 22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101" name="Rectangle 22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23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106" name="Straight Connector 31"/>
            <p:cNvSpPr/>
            <p:nvPr/>
          </p:nvSpPr>
          <p:spPr>
            <a:xfrm>
              <a:off x="38862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32"/>
            <p:cNvSpPr/>
            <p:nvPr/>
          </p:nvSpPr>
          <p:spPr>
            <a:xfrm>
              <a:off x="52578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33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932280" y="13255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104840" y="5211360"/>
            <a:ext cx="443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453360" y="5211360"/>
            <a:ext cx="158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EF65-9A17-433B-90CC-B04824ADA60D}" type="slidenum">
              <a:rPr b="0" lang="ru-RU" sz="9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184320" y="173160"/>
            <a:ext cx="6399000" cy="65116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7794360" y="6310080"/>
            <a:ext cx="1098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B366-5625-4DDE-A157-09187F99771A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7976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4C03-098E-4AE7-B662-BEB047683A5D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6"/>
          <p:cNvSpPr txBox="1"/>
          <p:nvPr/>
        </p:nvSpPr>
        <p:spPr>
          <a:xfrm>
            <a:off x="1258920" y="1341360"/>
            <a:ext cx="6697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cc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перактивность:</a:t>
            </a:r>
            <a:endParaRPr b="0" lang="en-US" sz="1800" spc="1" strike="noStrike">
              <a:ln w="22320">
                <a:solidFill>
                  <a:srgbClr val="ffcc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8" name="Picture 8" descr="KIDS01"/>
          <p:cNvPicPr/>
          <p:nvPr/>
        </p:nvPicPr>
        <p:blipFill>
          <a:blip r:embed="rId1"/>
          <a:stretch/>
        </p:blipFill>
        <p:spPr>
          <a:xfrm>
            <a:off x="5580000" y="4067280"/>
            <a:ext cx="3225960" cy="2232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76000" y="3141360"/>
            <a:ext cx="617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Monotype Corsiva"/>
              </a:rPr>
              <a:t>Как быть?</a:t>
            </a:r>
            <a:endParaRPr b="0" lang="en-US" sz="6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971640" y="1413000"/>
            <a:ext cx="7272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ПОРТРЕТ ГИПЕРАКТИВНОГО РЕБЕНК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55280" y="105228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Гиперактивному ребенку трудно сидеть, он суетлив, много двигается, вертится на месте, иногда чрезмерно говорлив, может раздражать манерой своего поведения. Часто у него плохая координация или недостаточный мышечный контроль. Он неуклюж, роняет или ломает вещи, проливает молоко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му ребенку трудно концентрировать свое внимание, он легко отвлекается, часто задает множество вопросов, но редко дожидается ответов»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В. Оклендер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avb131"/>
          <p:cNvPicPr/>
          <p:nvPr/>
        </p:nvPicPr>
        <p:blipFill>
          <a:blip r:embed="rId2"/>
          <a:stretch/>
        </p:blipFill>
        <p:spPr>
          <a:xfrm>
            <a:off x="3492360" y="505764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Умственная деятельность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7"/>
          <p:cNvSpPr/>
          <p:nvPr/>
        </p:nvSpPr>
        <p:spPr>
          <a:xfrm>
            <a:off x="1187280" y="2349360"/>
            <a:ext cx="4032360" cy="3095640"/>
          </a:xfrm>
          <a:custGeom>
            <a:avLst/>
            <a:gdLst>
              <a:gd name="textAreaLeft" fmla="*/ 0 w 4032360"/>
              <a:gd name="textAreaRight" fmla="*/ 4032720 w 4032360"/>
              <a:gd name="textAreaTop" fmla="*/ 774000 h 3095640"/>
              <a:gd name="textAreaBottom" fmla="*/ 2322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7512" y="18900"/>
                </a:lnTo>
                <a:lnTo>
                  <a:pt x="10800" y="21600"/>
                </a:lnTo>
                <a:lnTo>
                  <a:pt x="14088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4088" y="2700"/>
                </a:lnTo>
                <a:lnTo>
                  <a:pt x="10800" y="0"/>
                </a:lnTo>
                <a:lnTo>
                  <a:pt x="7512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Monotype Corsiva"/>
              </a:rPr>
              <a:t>Циклич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1476360" y="1341360"/>
            <a:ext cx="3600360" cy="9352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5-15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476360" y="5516640"/>
            <a:ext cx="360036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дых 3-7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1" descr="sh04"/>
          <p:cNvPicPr/>
          <p:nvPr/>
        </p:nvPicPr>
        <p:blipFill>
          <a:blip r:embed="rId3"/>
          <a:stretch/>
        </p:blipFill>
        <p:spPr>
          <a:xfrm>
            <a:off x="5435640" y="2565360"/>
            <a:ext cx="3384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«Скорая помощь» при работе с     гиперактивным ребенком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228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5"/>
          <p:cNvSpPr/>
          <p:nvPr/>
        </p:nvSpPr>
        <p:spPr>
          <a:xfrm>
            <a:off x="611280" y="1277640"/>
            <a:ext cx="84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лечь ребенка от его капри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едложить выбор (другую возможную в данный момент деятельно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Задать неожиданный вопр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реагировать неожиданным для ребенка образом (пошутить, повторить действие ребен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е запрещать действие ребенка в категоричн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е приказывать, а просить (но не заискива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слушать то, что хочет сказать ребенок (в противном случае он н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лышит в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Автоматически, одними и теми же словами повторять многократно свою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ьбу (нейтральным тон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фотографировать ребенка или подвести его к зеркалу в тот момен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он капризнич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ставить в комнате одного (если это безопасно для его здоровь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Не настаивать на том, чтобы ребенок во что бы то ни стало прине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ви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е читать нотаций (ребенок все равно их не слыши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1" descr="8f1"/>
          <p:cNvPicPr/>
          <p:nvPr/>
        </p:nvPicPr>
        <p:blipFill>
          <a:blip r:embed="rId2"/>
          <a:stretch/>
        </p:blipFill>
        <p:spPr>
          <a:xfrm>
            <a:off x="611280" y="11592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Правила работы с детьми СДВГ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10920" y="1196640"/>
            <a:ext cx="8281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ть с ребенком в начале дня, а не вечером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ньшать рабочую нагрузку ребенка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ить работу на более короткие, но более частые перерывы, использовать физкультминутки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зить требования к аккуратности в начале работы, чтобы сформировать чувство успеха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тактильный контакт (элементы массажа, прикосновения, поглаживания)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вать короткие, четкие и конкретные инструкции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гибкую систему поощрений и наказаний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ощрять ребенка сразу же, не откладывая на будущее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ять ребенку возможность выбора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таваться спокойным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9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88869"/>
          <p:cNvPicPr/>
          <p:nvPr/>
        </p:nvPicPr>
        <p:blipFill>
          <a:blip r:embed="rId2"/>
          <a:stretch/>
        </p:blipFill>
        <p:spPr>
          <a:xfrm>
            <a:off x="468360" y="189000"/>
            <a:ext cx="8445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228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5"/>
          <p:cNvSpPr/>
          <p:nvPr/>
        </p:nvSpPr>
        <p:spPr>
          <a:xfrm>
            <a:off x="611280" y="1047600"/>
            <a:ext cx="813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ранее договариваться с ребенком о времени игры, о длительности прогулки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 истечении времени ребенку сообщает не взрослый, а заведенный заранее   будильник,   кухонный   таймер,   что   будет   способствовать   снижению агрессии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ботать совместно с ребенком систему поощрений и наказаний за желательное и нежелательное по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ботать 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оложить в удобном для ребенка месте свод правил поведения в группе детского сада, в классе,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ить ребенка вслух проговаривать эти прав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началом занятий ребенок может сказать,  что он хотел бы пожелать себе сам при выполнении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Профилактическая работ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99" name="Picture 8" descr="22M6"/>
          <p:cNvPicPr/>
          <p:nvPr/>
        </p:nvPicPr>
        <p:blipFill>
          <a:blip r:embed="rId2"/>
          <a:stretch/>
        </p:blipFill>
        <p:spPr>
          <a:xfrm>
            <a:off x="7524720" y="5445000"/>
            <a:ext cx="16192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643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Взрослые должны понять, что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836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лед за понесенным наказанием ребенку необходимо позитивное эмоциональное подкрепление, знаки принятия и прощения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возможно добиться исчезновения СДВГ за несколько месяцев и даже лет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дром дефицита внимания и гиперактивности – это патология, требующая своевременной диагностики и комплексной коррекции (психологической, педагогической, медицинской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пешная реабилитация возможна при условии, если она проводится в возрасте до 9 лет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2228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MAN52"/>
          <p:cNvPicPr/>
          <p:nvPr/>
        </p:nvPicPr>
        <p:blipFill>
          <a:blip r:embed="rId2"/>
          <a:stretch/>
        </p:blipFill>
        <p:spPr>
          <a:xfrm>
            <a:off x="7451640" y="393372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5"/>
          <p:cNvSpPr/>
          <p:nvPr/>
        </p:nvSpPr>
        <p:spPr>
          <a:xfrm>
            <a:off x="468360" y="1047240"/>
            <a:ext cx="849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496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 знаковую систему оценивания действий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замечать каждый его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ивайте минутки активного отдыха на занят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эти дети способны удерживать свое внимание очень кратковрем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активный ребенок всегда должен находиться перед глазами. На занятиях его лучше сажать напротив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яйте энергию ребенка в полезное русло. На занятиях давайте поручения раздать что-нибудь, в свободной деятельности мотивируйте его на спокойны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ых этапах избегайте монотонной деятельности, занятия должны быть интересными и увлекательными, с прослеживаемым результа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Рекомендации родителям и педагогам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306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422280" cy="6858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" descr="J0282845"/>
          <p:cNvPicPr/>
          <p:nvPr/>
        </p:nvPicPr>
        <p:blipFill>
          <a:blip r:embed="rId2"/>
          <a:stretch/>
        </p:blipFill>
        <p:spPr>
          <a:xfrm>
            <a:off x="7451640" y="5516640"/>
            <a:ext cx="140976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228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684360" y="907920"/>
            <a:ext cx="806436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вместной деятельности учите ребенка проговаривать свои действия, выстраивать логику и последовательность их выпол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йте элементы игры во всех моментах жизне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давайте многословных инструкций, после 10-ти слов ребенок вас просто не услыш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вайте ситуации успеха, в которых ребенок смог бы проявить свои сильные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всем неусыпном внимании к гиперактивному ребенку внешне относитесь к нему так же, как и к остальным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 его общаться с другими детьми, поощряйте позитивное взаимо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3964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екомендации родителям и педагог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8" descr="J0283074"/>
          <p:cNvPicPr/>
          <p:nvPr/>
        </p:nvPicPr>
        <p:blipFill>
          <a:blip r:embed="rId2"/>
          <a:stretch/>
        </p:blipFill>
        <p:spPr>
          <a:xfrm>
            <a:off x="7837560" y="5649840"/>
            <a:ext cx="13064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228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5"/>
          <p:cNvSpPr/>
          <p:nvPr/>
        </p:nvSpPr>
        <p:spPr>
          <a:xfrm>
            <a:off x="2916360" y="1700280"/>
            <a:ext cx="3817800" cy="2808360"/>
          </a:xfrm>
          <a:prstGeom prst="sun">
            <a:avLst>
              <a:gd name="adj" fmla="val 25000"/>
            </a:avLst>
          </a:prstGeom>
          <a:solidFill>
            <a:srgbClr val="f4c80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раж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684360" y="404640"/>
            <a:ext cx="3166920" cy="1873440"/>
          </a:xfrm>
          <a:prstGeom prst="cloudCallout">
            <a:avLst>
              <a:gd name="adj1" fmla="val -36217"/>
              <a:gd name="adj2" fmla="val 64152"/>
            </a:avLst>
          </a:prstGeom>
          <a:solidFill>
            <a:srgbClr val="1cade4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развитие произвольности и само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5364000" y="4292640"/>
            <a:ext cx="3527640" cy="2160720"/>
          </a:xfrm>
          <a:prstGeom prst="cloudCallout">
            <a:avLst>
              <a:gd name="adj1" fmla="val 36634"/>
              <a:gd name="adj2" fmla="val -60064"/>
            </a:avLst>
          </a:prstGeom>
          <a:solidFill>
            <a:srgbClr val="1cade4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развитие способности к произвольному переключению вни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9"/>
          <p:cNvSpPr/>
          <p:nvPr/>
        </p:nvSpPr>
        <p:spPr>
          <a:xfrm>
            <a:off x="755640" y="4221000"/>
            <a:ext cx="3384720" cy="1944720"/>
          </a:xfrm>
          <a:prstGeom prst="cloudCallout">
            <a:avLst>
              <a:gd name="adj1" fmla="val -43574"/>
              <a:gd name="adj2" fmla="val -58652"/>
            </a:avLst>
          </a:prstGeom>
          <a:solidFill>
            <a:srgbClr val="1cade4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развитие концентрации вни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0"/>
          <p:cNvSpPr/>
          <p:nvPr/>
        </p:nvSpPr>
        <p:spPr>
          <a:xfrm>
            <a:off x="5580000" y="404640"/>
            <a:ext cx="3384720" cy="1800360"/>
          </a:xfrm>
          <a:prstGeom prst="cloudCallout">
            <a:avLst>
              <a:gd name="adj1" fmla="val 40055"/>
              <a:gd name="adj2" fmla="val 51939"/>
            </a:avLst>
          </a:prstGeom>
          <a:solidFill>
            <a:srgbClr val="1cade4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снятия агрессивности и импульс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Объект 1" descr=""/>
          <p:cNvPicPr/>
          <p:nvPr/>
        </p:nvPicPr>
        <p:blipFill>
          <a:blip r:embed="rId1"/>
          <a:stretch/>
        </p:blipFill>
        <p:spPr>
          <a:xfrm>
            <a:off x="1052640" y="1395360"/>
            <a:ext cx="734760" cy="488880"/>
          </a:xfrm>
          <a:prstGeom prst="rect">
            <a:avLst/>
          </a:prstGeom>
          <a:ln w="0">
            <a:noFill/>
          </a:ln>
        </p:spPr>
      </p:pic>
      <p:pic>
        <p:nvPicPr>
          <p:cNvPr id="242" name="Объект 2" descr=""/>
          <p:cNvPicPr/>
          <p:nvPr/>
        </p:nvPicPr>
        <p:blipFill>
          <a:blip r:embed="rId2"/>
          <a:stretch/>
        </p:blipFill>
        <p:spPr>
          <a:xfrm>
            <a:off x="2241720" y="1098720"/>
            <a:ext cx="725400" cy="4888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5" descr=""/>
          <p:cNvPicPr/>
          <p:nvPr/>
        </p:nvPicPr>
        <p:blipFill>
          <a:blip r:embed="rId3"/>
          <a:stretch/>
        </p:blipFill>
        <p:spPr>
          <a:xfrm>
            <a:off x="219240" y="243000"/>
            <a:ext cx="3136680" cy="17636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"/>
          <p:cNvPicPr/>
          <p:nvPr/>
        </p:nvPicPr>
        <p:blipFill>
          <a:blip r:embed="rId4"/>
          <a:stretch/>
        </p:blipFill>
        <p:spPr>
          <a:xfrm>
            <a:off x="3467160" y="243000"/>
            <a:ext cx="3071880" cy="23050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8" descr=""/>
          <p:cNvPicPr/>
          <p:nvPr/>
        </p:nvPicPr>
        <p:blipFill>
          <a:blip r:embed="rId5"/>
          <a:stretch/>
        </p:blipFill>
        <p:spPr>
          <a:xfrm>
            <a:off x="716040" y="2133720"/>
            <a:ext cx="3051000" cy="22287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0" descr=""/>
          <p:cNvPicPr/>
          <p:nvPr/>
        </p:nvPicPr>
        <p:blipFill>
          <a:blip r:embed="rId6"/>
          <a:stretch/>
        </p:blipFill>
        <p:spPr>
          <a:xfrm>
            <a:off x="3552840" y="3573360"/>
            <a:ext cx="5403960" cy="30384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"/>
          <p:cNvPicPr/>
          <p:nvPr/>
        </p:nvPicPr>
        <p:blipFill>
          <a:blip r:embed="rId7"/>
          <a:stretch/>
        </p:blipFill>
        <p:spPr>
          <a:xfrm>
            <a:off x="244440" y="4417920"/>
            <a:ext cx="3803760" cy="21402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2" descr=""/>
          <p:cNvPicPr/>
          <p:nvPr/>
        </p:nvPicPr>
        <p:blipFill>
          <a:blip r:embed="rId8"/>
          <a:stretch/>
        </p:blipFill>
        <p:spPr>
          <a:xfrm>
            <a:off x="6248520" y="1339920"/>
            <a:ext cx="2679480" cy="211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20872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Проблему гиперактивности невозможно решить волевыми усилиями, авторитарными указаниями и убеждениями.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Гиперактивный ребенок имеет нейрофизиологические проблемы, справиться с которыми он самостоятельно не может.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Дисциплинарные меры воздействия в виде постоянных наказаний, замечаний, окриков, нотаций не приведут к улучшению поведения ребенка, а скорее ухудшат его.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50" name="Picture 5" descr="J0254500"/>
          <p:cNvPicPr/>
          <p:nvPr/>
        </p:nvPicPr>
        <p:blipFill>
          <a:blip r:embed="rId1"/>
          <a:stretch/>
        </p:blipFill>
        <p:spPr>
          <a:xfrm>
            <a:off x="611280" y="189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Причины гиперактивност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68360" y="795240"/>
          <a:ext cx="8567640" cy="6039000"/>
        </p:xfrm>
        <a:graphic>
          <a:graphicData uri="http://schemas.openxmlformats.org/drawingml/2006/table">
            <a:tbl>
              <a:tblPr/>
              <a:tblGrid>
                <a:gridCol w="3024000"/>
                <a:gridCol w="5543640"/>
              </a:tblGrid>
              <a:tr h="283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натальная патолог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з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стрение хронических заболеваний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матер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заболев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 в области живо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логическая несовместимость по резус-фактору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пытки прервать беременност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алкоголя и кур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при рода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яция родовой деятельност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е положение плод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фикс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енние кровоизлия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ждевременные, скоротечные или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яжные р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81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социаль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е причи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декватный стиль воспитания в семь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травм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желанный ребе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8"/>
          <p:cNvSpPr/>
          <p:nvPr/>
        </p:nvSpPr>
        <p:spPr>
          <a:xfrm>
            <a:off x="2627280" y="404640"/>
            <a:ext cx="4176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Monotype Corsiva"/>
              </a:rPr>
              <a:t>Формы СДВ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2410920" y="1700280"/>
            <a:ext cx="792360" cy="64908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4643280" y="1700280"/>
            <a:ext cx="0" cy="27367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1"/>
          <p:cNvSpPr/>
          <p:nvPr/>
        </p:nvSpPr>
        <p:spPr>
          <a:xfrm>
            <a:off x="6012000" y="1628640"/>
            <a:ext cx="647640" cy="8654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611280" y="2492280"/>
            <a:ext cx="331308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пера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чет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наруш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им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132000" y="4581360"/>
            <a:ext cx="331308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облад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перакт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5580000" y="2565360"/>
            <a:ext cx="331308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облад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рушение вним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611280" y="1197000"/>
            <a:ext cx="81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 встает со своего места во время уроков или других ситуациях, когда нужно оставаться на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 наблюдаются беспокойные движения в кистях и стопах, вертится, сидя на сту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 проявляет бесцельную двигательную активность: бегает, пытается куда-то залезть в ситуациях, когда это неприемлим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 не может тихо, спокойно играть или заниматься чем-либо на досу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 находится в постоянном движении и ведет себя словно «управляемый двигателем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говорл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539640" y="404640"/>
            <a:ext cx="813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Гипера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" descr="grez1"/>
          <p:cNvPicPr/>
          <p:nvPr/>
        </p:nvPicPr>
        <p:blipFill>
          <a:blip r:embed="rId2"/>
          <a:stretch/>
        </p:blipFill>
        <p:spPr>
          <a:xfrm>
            <a:off x="7740720" y="2133720"/>
            <a:ext cx="1838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5"/>
          <p:cNvSpPr/>
          <p:nvPr/>
        </p:nvSpPr>
        <p:spPr>
          <a:xfrm>
            <a:off x="539640" y="634680"/>
            <a:ext cx="828036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оследователен, ему трудно долго удерживать вним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большим энтузиазмом берется за задание, но так и не заканчивает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ычно избегает, не любит либо сопротивляется вовлечению в выполнение заданий, которые требуют длительного сохранения умственного усилия (домашнее задани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 теряет ве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бегает скучных и требующих усилий   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 бывает забывч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гко отвлекается на посторонние стиму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ытывает трудности в организаци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2627280" y="98100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Дефицит внимания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69" name="Picture 15" descr="girl"/>
          <p:cNvPicPr/>
          <p:nvPr/>
        </p:nvPicPr>
        <p:blipFill>
          <a:blip r:embed="rId2"/>
          <a:stretch/>
        </p:blipFill>
        <p:spPr>
          <a:xfrm>
            <a:off x="7380360" y="4005360"/>
            <a:ext cx="1485720" cy="1549440"/>
          </a:xfrm>
          <a:prstGeom prst="rect">
            <a:avLst/>
          </a:prstGeom>
          <a:ln w="38160">
            <a:solidFill>
              <a:srgbClr val="00ff00"/>
            </a:solidFill>
            <a:miter/>
          </a:ln>
          <a:effectLst>
            <a:outerShdw dist="17819" dir="2700000" blurRad="0" rotWithShape="0">
              <a:srgbClr val="1485a4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611280" y="981000"/>
            <a:ext cx="8281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чинает отвечать, не дослушав вопр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способен дождаться своей очереди, часто вмешивается, прер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может контролировать и регулировать свои действ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едение слабоуправляемо прави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выполнении заданий ведет себя по-разному и показывает разные результаты (на некоторых занятиях ребенок спокоен, на других - н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116000" y="18900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Импульс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131e5c80"/>
          <p:cNvPicPr/>
          <p:nvPr/>
        </p:nvPicPr>
        <p:blipFill>
          <a:blip r:embed="rId2"/>
          <a:stretch/>
        </p:blipFill>
        <p:spPr>
          <a:xfrm>
            <a:off x="7451640" y="5445000"/>
            <a:ext cx="14749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2195640" y="478080"/>
            <a:ext cx="633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статистике, синдром нарушения внимания с гиперактивностью большей частью встреча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Times New Roman"/>
              </a:rPr>
              <a:t>у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990000"/>
                </a:solidFill>
                <a:latin typeface="Times New Roman"/>
              </a:rPr>
              <a:t>светловолосых и голубоглазых дет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Times New Roman"/>
              </a:rPr>
              <a:t>и почти в пять раз чаще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Times New Roman"/>
              </a:rPr>
              <a:t>у мальчиков, чем у девочек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чему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J0308972"/>
          <p:cNvPicPr/>
          <p:nvPr/>
        </p:nvPicPr>
        <p:blipFill>
          <a:blip r:embed="rId2"/>
          <a:stretch/>
        </p:blipFill>
        <p:spPr>
          <a:xfrm>
            <a:off x="539640" y="260280"/>
            <a:ext cx="1528920" cy="2305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avb175"/>
          <p:cNvPicPr/>
          <p:nvPr/>
        </p:nvPicPr>
        <p:blipFill>
          <a:blip r:embed="rId3"/>
          <a:stretch/>
        </p:blipFill>
        <p:spPr>
          <a:xfrm>
            <a:off x="7399440" y="4869000"/>
            <a:ext cx="17445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6:54:35Z</dcterms:created>
  <dc:creator>comp</dc:creator>
  <dc:description/>
  <dc:language>en-US</dc:language>
  <cp:lastModifiedBy>HP</cp:lastModifiedBy>
  <dcterms:modified xsi:type="dcterms:W3CDTF">2023-09-11T10:58:34Z</dcterms:modified>
  <cp:revision>37</cp:revision>
  <dc:subject/>
  <dc:title>Слайд 1</dc:title>
</cp:coreProperties>
</file>