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11.jpeg" ContentType="image/jpeg"/>
  <Override PartName="/ppt/media/image9.jpeg" ContentType="image/jpeg"/>
  <Override PartName="/ppt/media/image7.wmf" ContentType="image/x-wmf"/>
  <Override PartName="/ppt/media/image20.jpeg" ContentType="image/jpeg"/>
  <Override PartName="/ppt/media/image6.wmf" ContentType="image/x-wmf"/>
  <Override PartName="/ppt/media/image19.jpeg" ContentType="image/jpeg"/>
  <Override PartName="/ppt/media/image5.gif" ContentType="image/gif"/>
  <Override PartName="/ppt/media/image28.gif" ContentType="image/gif"/>
  <Override PartName="/ppt/media/image13.jpeg" ContentType="image/jpeg"/>
  <Override PartName="/ppt/media/image4.png" ContentType="image/png"/>
  <Override PartName="/ppt/media/image24.gif" ContentType="image/gif"/>
  <Override PartName="/ppt/media/image29.gif" ContentType="image/gif"/>
  <Override PartName="/ppt/media/image27.gif" ContentType="image/gif"/>
  <Override PartName="/ppt/media/image1.png" ContentType="image/png"/>
  <Override PartName="/ppt/media/image26.gif" ContentType="image/gif"/>
  <Override PartName="/ppt/media/image14.gif" ContentType="image/gif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1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CC8-B919-47A1-B058-5E263FBA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FC2-9467-4532-92AA-C336DCD4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31A-9C7C-43F9-AF73-7CE51565F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68D9-7D17-47C9-8AB9-2626646B1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DA53-B16E-42E9-AA63-27BA20AB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6CEAF-0C4F-458E-92F0-BA1CFE632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B383-F457-4CD0-A2FC-9A6C6431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8136-3369-488F-8CF2-57643191D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23678-1A83-4BB6-9BCD-64555D70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2387-17B7-4977-9D6A-570DFB107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2F477-FA23-4C1B-8E50-54B85C11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B2C1-FE8A-4997-BC7B-F8E344C3B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0A71-9478-452D-97EA-61B21743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257C-34E0-4F1F-9EBE-47926546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66434-558C-4CBA-AAFB-9E2D03849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994FF-C9FB-4A41-966C-EAF42E35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447F-6B06-46BA-AA53-A6BBCA964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42DD3-F63E-4EA6-A3AD-1E18F785A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E6D4E-AA60-4D84-8FC8-72E70C95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83AFA-CCC7-42D1-AA33-C9258039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D687-115C-49E0-A946-9CD1B76C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A52BE-B325-4F98-9128-E6B168CAF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1F70-B430-4F55-84D3-EDB0F3CA4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63273-89FE-4E1B-89B8-8B977DC8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65D95-FE65-435B-9721-E1CC44223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F567-9B66-420A-95FE-987C942E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919549-594B-4B73-B2BA-5B7AAF6F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46E60-F50A-40AA-824B-AD50AA66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C270B-4173-4D60-A4F9-88972EAB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89731-CABD-4536-B6C1-359CEC416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F5363-D654-4037-868F-EF0CC7CE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08604-478B-4FAB-BAC0-395A9A06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58F1A9-3B7C-4423-A798-D4FB955E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24FD-5680-4F70-A9EC-900251C3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6CBB5-9810-4D95-9D28-58D02479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34CB54-9ED6-4AB4-A1C9-96077BB7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0328F-852B-4B67-85A4-594BB3E7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85DA5-895C-4F3D-A19B-4F5521B7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4F287-8B52-4830-ABBB-C994F565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718C9-44CE-4697-AB5B-1BDAA8A7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31088-2A1F-4A9E-81D3-FF8AD891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350AD-3BA6-41CF-A4BC-75F2FA82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C0CED-38B4-4055-A865-564E66DDB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74C6E-A175-41A8-89CF-1C6CD662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1050-2904-47A5-8403-AE550F43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4D6FC-316D-4C01-9C38-221212B07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D079E-ABE4-43EF-B383-DD68DEF8E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9538E-6FC1-4B5F-BF70-3820E0266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6B934-F899-4D9E-985C-128E4F49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1E941-6157-4892-A0F6-93695C33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5ACDD5-E247-4EDF-A31E-A47E2CB4C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7C422-B3FF-4738-B804-15ED5970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309822-AC61-401A-9EB9-A332B581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3AAB0-C4B8-4BAB-B243-3C6E230A6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C3897-0CBB-43DE-BAA5-C7C034E5E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31880" y="642960"/>
            <a:ext cx="768024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B4A-61E2-464A-93FD-43792469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32892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925600" y="210312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73188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32892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5925600" y="4157280"/>
            <a:ext cx="24728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B81E4-F277-4A51-B01F-D84B2A62E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3FDB-E157-4F06-963C-471C8873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7400" y="415728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05EA-71E7-49EB-8B91-91EFE79EF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3188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7400" y="2103120"/>
            <a:ext cx="374760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31880" y="4157280"/>
            <a:ext cx="7680240" cy="187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1029-2547-4E26-B43A-188362E2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176040" y="176040"/>
            <a:ext cx="8791920" cy="6510240"/>
            <a:chOff x="176040" y="176040"/>
            <a:chExt cx="8791920" cy="651024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176040" y="178560"/>
              <a:ext cx="8791920" cy="650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176040" y="176040"/>
              <a:ext cx="8791920" cy="650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8228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8CD8-64FB-46B7-8FD4-15562E81D28E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1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Rectangle 9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48" name="Rectangle 9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Rectangle 10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4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3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53" name="Straight Connector 16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Straight Connector 18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3932280" y="13273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1104480" y="5211360"/>
            <a:ext cx="4429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454440" y="5211360"/>
            <a:ext cx="15843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CA22B-3788-4BCD-8E65-4C7272F52D69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2dbca"/>
            </a:gs>
            <a:gs pos="100000">
              <a:srgbClr val="c1bb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Rectangle 2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8" name="Rectangle 21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tangle 22"/>
          <p:cNvGrpSpPr/>
          <p:nvPr/>
        </p:nvGrpSpPr>
        <p:grpSpPr>
          <a:xfrm>
            <a:off x="927000" y="1219320"/>
            <a:ext cx="7290000" cy="4419360"/>
            <a:chOff x="927000" y="1219320"/>
            <a:chExt cx="7290000" cy="4419360"/>
          </a:xfrm>
        </p:grpSpPr>
        <p:pic>
          <p:nvPicPr>
            <p:cNvPr id="101" name="Rectangle 22" descr=""/>
            <p:cNvPicPr/>
            <p:nvPr/>
          </p:nvPicPr>
          <p:blipFill>
            <a:blip r:embed="rId3"/>
            <a:stretch/>
          </p:blipFill>
          <p:spPr>
            <a:xfrm>
              <a:off x="927000" y="1219320"/>
              <a:ext cx="7290000" cy="441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981000" y="1274760"/>
              <a:ext cx="7182000" cy="430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23"/>
          <p:cNvSpPr/>
          <p:nvPr/>
        </p:nvSpPr>
        <p:spPr>
          <a:xfrm>
            <a:off x="1087560" y="1386000"/>
            <a:ext cx="6968880" cy="4086000"/>
          </a:xfrm>
          <a:prstGeom prst="rect">
            <a:avLst/>
          </a:prstGeom>
          <a:noFill/>
          <a:ln cap="sq" w="648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29"/>
          <p:cNvSpPr/>
          <p:nvPr/>
        </p:nvSpPr>
        <p:spPr>
          <a:xfrm>
            <a:off x="3794040" y="1268280"/>
            <a:ext cx="1555920" cy="63972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Group 30"/>
          <p:cNvGrpSpPr/>
          <p:nvPr/>
        </p:nvGrpSpPr>
        <p:grpSpPr>
          <a:xfrm>
            <a:off x="3886200" y="1268280"/>
            <a:ext cx="1371600" cy="547920"/>
            <a:chOff x="3886200" y="1268280"/>
            <a:chExt cx="1371600" cy="547920"/>
          </a:xfrm>
        </p:grpSpPr>
        <p:sp>
          <p:nvSpPr>
            <p:cNvPr id="106" name="Straight Connector 31"/>
            <p:cNvSpPr/>
            <p:nvPr/>
          </p:nvSpPr>
          <p:spPr>
            <a:xfrm>
              <a:off x="38862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32"/>
            <p:cNvSpPr/>
            <p:nvPr/>
          </p:nvSpPr>
          <p:spPr>
            <a:xfrm>
              <a:off x="5257800" y="1268280"/>
              <a:ext cx="0" cy="54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Straight Connector 33"/>
            <p:cNvSpPr/>
            <p:nvPr/>
          </p:nvSpPr>
          <p:spPr>
            <a:xfrm>
              <a:off x="3886200" y="1816200"/>
              <a:ext cx="1371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3932280" y="1325520"/>
            <a:ext cx="1279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1104840" y="5211360"/>
            <a:ext cx="443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453360" y="5211360"/>
            <a:ext cx="1584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40404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BC61-16AA-4489-A6DC-79B28D0B40CD}" type="slidenum">
              <a:rPr b="0" lang="ru-RU" sz="900" spc="-1" strike="noStrike">
                <a:solidFill>
                  <a:srgbClr val="40404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5"/>
          <p:cNvSpPr/>
          <p:nvPr/>
        </p:nvSpPr>
        <p:spPr>
          <a:xfrm>
            <a:off x="184320" y="173160"/>
            <a:ext cx="6399000" cy="6511680"/>
          </a:xfrm>
          <a:prstGeom prst="rect">
            <a:avLst/>
          </a:prstGeom>
          <a:solidFill>
            <a:srgbClr val="e3de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7794360" y="6310080"/>
            <a:ext cx="1098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ED6D-4CE2-424B-ADDA-D2B569DDE9B0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13"/>
          <p:cNvSpPr/>
          <p:nvPr/>
        </p:nvSpPr>
        <p:spPr>
          <a:xfrm>
            <a:off x="6765840" y="173160"/>
            <a:ext cx="2193840" cy="651168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6867360" y="274680"/>
            <a:ext cx="1989360" cy="6308640"/>
          </a:xfrm>
          <a:prstGeom prst="rect">
            <a:avLst/>
          </a:prstGeom>
          <a:noFill/>
          <a:ln cap="sq"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31880" y="642960"/>
            <a:ext cx="76802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45720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2" marL="73008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3" marL="100476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4" marL="127944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5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6" marL="1279440" indent="-182520">
              <a:spcBef>
                <a:spcPts val="901"/>
              </a:spcBef>
              <a:buClr>
                <a:srgbClr val="000000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13"/>
          </p:nvPr>
        </p:nvSpPr>
        <p:spPr>
          <a:xfrm>
            <a:off x="234720" y="630828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14"/>
          </p:nvPr>
        </p:nvSpPr>
        <p:spPr>
          <a:xfrm>
            <a:off x="2597040" y="6308280"/>
            <a:ext cx="3949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15"/>
          </p:nvPr>
        </p:nvSpPr>
        <p:spPr>
          <a:xfrm>
            <a:off x="7797600" y="6308280"/>
            <a:ext cx="1096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CAFB-ACCA-42A4-895B-2526CF749B3F}" type="slidenum">
              <a:rPr b="0" lang="ru-RU" sz="9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WordArt 6"/>
          <p:cNvSpPr txBox="1"/>
          <p:nvPr/>
        </p:nvSpPr>
        <p:spPr>
          <a:xfrm>
            <a:off x="1258920" y="1341360"/>
            <a:ext cx="66978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cc00"/>
                  </a:solidFill>
                  <a:miter/>
                </a:ln>
                <a:solidFill>
                  <a:srgbClr val="99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иперактивность:</a:t>
            </a:r>
            <a:endParaRPr b="0" lang="en-US" sz="1800" spc="1" strike="noStrike">
              <a:ln w="22320">
                <a:solidFill>
                  <a:srgbClr val="ffcc00"/>
                </a:solidFill>
                <a:miter/>
              </a:ln>
              <a:solidFill>
                <a:srgbClr val="99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8" name="Picture 8" descr="KIDS01"/>
          <p:cNvPicPr/>
          <p:nvPr/>
        </p:nvPicPr>
        <p:blipFill>
          <a:blip r:embed="rId1"/>
          <a:stretch/>
        </p:blipFill>
        <p:spPr>
          <a:xfrm>
            <a:off x="5580000" y="4067280"/>
            <a:ext cx="3225960" cy="223200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76000" y="3141360"/>
            <a:ext cx="6178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990000"/>
                </a:solidFill>
                <a:latin typeface="Monotype Corsiva"/>
              </a:rPr>
              <a:t>Как быть?</a:t>
            </a:r>
            <a:endParaRPr b="0" lang="en-US" sz="6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Rectangle 12"/>
          <p:cNvSpPr/>
          <p:nvPr/>
        </p:nvSpPr>
        <p:spPr>
          <a:xfrm>
            <a:off x="971640" y="1413000"/>
            <a:ext cx="7272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ОРТРЕТ ГИПЕРАКТИВНОГО РЕБЕНК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55280" y="1052280"/>
            <a:ext cx="799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иперактивному ребенку трудно сидеть, он суетлив, много двигается, вертится на месте, иногда чрезмерно говорлив, может раздражать манерой своего поведения. Часто у него плохая координация или недостаточный мышечный контроль. Он неуклюж, роняет или ломает вещи, проливает молоко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кому ребенку трудно концентрировать свое внимание, он легко отвлекается, часто задает множество вопросов, но редко дожидается ответов»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В. Оклендер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80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8" descr="avb131"/>
          <p:cNvPicPr/>
          <p:nvPr/>
        </p:nvPicPr>
        <p:blipFill>
          <a:blip r:embed="rId2"/>
          <a:stretch/>
        </p:blipFill>
        <p:spPr>
          <a:xfrm>
            <a:off x="3492360" y="505764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Умственная деятельность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84" name="AutoShape 7"/>
          <p:cNvSpPr/>
          <p:nvPr/>
        </p:nvSpPr>
        <p:spPr>
          <a:xfrm>
            <a:off x="1187280" y="2349360"/>
            <a:ext cx="4032360" cy="3095640"/>
          </a:xfrm>
          <a:custGeom>
            <a:avLst/>
            <a:gdLst>
              <a:gd name="textAreaLeft" fmla="*/ 0 w 4032360"/>
              <a:gd name="textAreaRight" fmla="*/ 4032720 w 4032360"/>
              <a:gd name="textAreaTop" fmla="*/ 774000 h 3095640"/>
              <a:gd name="textAreaBottom" fmla="*/ 2322000 h 309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7512" y="18900"/>
                </a:lnTo>
                <a:lnTo>
                  <a:pt x="10800" y="21600"/>
                </a:lnTo>
                <a:lnTo>
                  <a:pt x="14088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4088" y="2700"/>
                </a:lnTo>
                <a:lnTo>
                  <a:pt x="10800" y="0"/>
                </a:lnTo>
                <a:lnTo>
                  <a:pt x="7512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Monotype Corsiva"/>
              </a:rPr>
              <a:t>Циклич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8"/>
          <p:cNvSpPr/>
          <p:nvPr/>
        </p:nvSpPr>
        <p:spPr>
          <a:xfrm>
            <a:off x="1476360" y="1341360"/>
            <a:ext cx="3600360" cy="93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абота 5-15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0"/>
          <p:cNvSpPr/>
          <p:nvPr/>
        </p:nvSpPr>
        <p:spPr>
          <a:xfrm>
            <a:off x="1476360" y="5516640"/>
            <a:ext cx="3600360" cy="9144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дых 3-7 мину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1" descr="sh04"/>
          <p:cNvPicPr/>
          <p:nvPr/>
        </p:nvPicPr>
        <p:blipFill>
          <a:blip r:embed="rId3"/>
          <a:stretch/>
        </p:blipFill>
        <p:spPr>
          <a:xfrm>
            <a:off x="5435640" y="2565360"/>
            <a:ext cx="3384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«Скорая помощь» при работе с     гиперактивным ребенком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5"/>
          <p:cNvSpPr/>
          <p:nvPr/>
        </p:nvSpPr>
        <p:spPr>
          <a:xfrm>
            <a:off x="611280" y="1277640"/>
            <a:ext cx="842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твлечь ребенка от его капри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едложить выбор (другую возможную в данный момент деятельнос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Задать неожиданный вопрос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треагировать неожиданным для ребенка образом (пошутить, повторить действие ребенк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запрещать действие ребенка в категоричной фор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приказывать, а просить (но не заискивать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ыслушать то, что хочет сказать ребенок (в противном случае он н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лышит вас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Автоматически, одними и теми же словами повторять многократно сво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сьбу (нейтральным тон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фотографировать ребенка или подвести его к зеркалу в тот момен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огда он капризнича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0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ставить в комнате одного (если это безопасно для его здоровья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Не настаивать на том, чтобы ребенок во что бы то ни стало принес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вин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56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е читать нотаций (ребенок все равно их не слышит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11" descr="8f1"/>
          <p:cNvPicPr/>
          <p:nvPr/>
        </p:nvPicPr>
        <p:blipFill>
          <a:blip r:embed="rId2"/>
          <a:stretch/>
        </p:blipFill>
        <p:spPr>
          <a:xfrm>
            <a:off x="611280" y="11592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2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280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равила работы с детьми СДВГ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10920" y="1196640"/>
            <a:ext cx="8281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ботать с ребенком в начале дня, а не вечером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меньшать рабочую нагрузку ребенк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елить работу на более короткие, но более частые перерывы, использовать физкультминутк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низить требования к аккуратности в начале работы, чтобы сформировать чувство успех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тактильный контакт (элементы массажа, прикосновения, поглаживания)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вать короткие, четкие и конкретные инструкции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овать гибкую систему поощрений и наказаний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ощрять ребенка сразу же, не откладывая на будущее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едоставлять ребенку возможность выбора;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ставаться спокойным.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88869"/>
          <p:cNvPicPr/>
          <p:nvPr/>
        </p:nvPicPr>
        <p:blipFill>
          <a:blip r:embed="rId2"/>
          <a:stretch/>
        </p:blipFill>
        <p:spPr>
          <a:xfrm>
            <a:off x="468360" y="189000"/>
            <a:ext cx="84456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0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2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2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5"/>
          <p:cNvSpPr/>
          <p:nvPr/>
        </p:nvSpPr>
        <p:spPr>
          <a:xfrm>
            <a:off x="611280" y="1047600"/>
            <a:ext cx="81374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анее договариваться с ребенком о времени игры, о длительности прогулки и т. 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 истечении времени ребенку сообщает не взрослый, а заведенный заранее   будильник,   кухонный   таймер,   что   будет   способствовать   снижению агрессии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ботать совместно с ребенком систему поощрений и наказаний за желательное и нежелательное повед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работать 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оложить в удобном для ребенка месте свод правил поведения в группе детского сада, в классе, д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сить ребенка вслух проговаривать эти прави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"/>
              <a:tabLst>
                <a:tab algn="l" pos="0"/>
                <a:tab algn="l" pos="264960"/>
                <a:tab algn="l" pos="530280"/>
                <a:tab algn="l" pos="795240"/>
                <a:tab algn="l" pos="1060560"/>
                <a:tab algn="l" pos="1325520"/>
                <a:tab algn="l" pos="1590840"/>
                <a:tab algn="l" pos="1855800"/>
                <a:tab algn="l" pos="2120760"/>
                <a:tab algn="l" pos="2386080"/>
                <a:tab algn="l" pos="2651040"/>
                <a:tab algn="l" pos="2916360"/>
                <a:tab algn="l" pos="3181320"/>
                <a:tab algn="l" pos="3446640"/>
                <a:tab algn="l" pos="3711600"/>
                <a:tab algn="l" pos="3976560"/>
                <a:tab algn="l" pos="4241880"/>
                <a:tab algn="l" pos="4506840"/>
                <a:tab algn="l" pos="4772160"/>
                <a:tab algn="l" pos="5037120"/>
                <a:tab algn="l" pos="53020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д началом занятий ребенок может сказать,  что он хотел бы пожелать себе сам при выполнении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рофилактическая работа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99" name="Picture 8" descr="22M6"/>
          <p:cNvPicPr/>
          <p:nvPr/>
        </p:nvPicPr>
        <p:blipFill>
          <a:blip r:embed="rId2"/>
          <a:stretch/>
        </p:blipFill>
        <p:spPr>
          <a:xfrm>
            <a:off x="7524720" y="5445000"/>
            <a:ext cx="16192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042560" y="274680"/>
            <a:ext cx="76438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Взрослые должны понять, что: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68360" y="1125360"/>
            <a:ext cx="822960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лед за понесенным наказанием ребенку необходимо позитивное эмоциональное подкрепление, знаки принятия и прощения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возможно добиться исчезновения СДВГ за несколько месяцев и даже лет;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ндром дефицита внимания и гиперактивности – это патология, требующая своевременной диагностики и комплексной коррекции (психологической, педагогической, медицинской)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спешная реабилитация возможна при условии, если она проводится в возрасте до 9 лет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4" descr="MAN52"/>
          <p:cNvPicPr/>
          <p:nvPr/>
        </p:nvPicPr>
        <p:blipFill>
          <a:blip r:embed="rId2"/>
          <a:stretch/>
        </p:blipFill>
        <p:spPr>
          <a:xfrm>
            <a:off x="7451640" y="3933720"/>
            <a:ext cx="142884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468360" y="1047240"/>
            <a:ext cx="8496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дите знаковую систему оценивания действий ребен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райтесь замечать каждый его успе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аивайте минутки активного отдыха на занятия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ните, что эти дети способны удерживать свое внимание очень кратковремен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ерактивный ребенок всегда должен находиться перед глазами. На занятиях его лучше сажать напротив себ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яйте энергию ребенка в полезное русло. На занятиях давайте поручения раздать что-нибудь, в свободной деятельности мотивируйте его на спокойные 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вых этапах избегайте монотонной деятельности, занятия должны быть интересными и увлекательными, с прослеживаемым результа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4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Рекомендации родителям и педагогам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306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10" descr="J0282845"/>
          <p:cNvPicPr/>
          <p:nvPr/>
        </p:nvPicPr>
        <p:blipFill>
          <a:blip r:embed="rId2"/>
          <a:stretch/>
        </p:blipFill>
        <p:spPr>
          <a:xfrm>
            <a:off x="7451640" y="5516640"/>
            <a:ext cx="140976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3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3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Rectangle 5"/>
          <p:cNvSpPr/>
          <p:nvPr/>
        </p:nvSpPr>
        <p:spPr>
          <a:xfrm>
            <a:off x="684360" y="907920"/>
            <a:ext cx="80643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местной деятельности учите ребенка проговаривать свои действия, выстраивать логику и последовательность их выпол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спользуйте элементы игры во всех моментах жизне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давайте многословных инструкций, после 10-ти слов ребенок вас просто не услыши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здавайте ситуации успеха, в которых ребенок смог бы проявить свои сильны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и всем неусыпном внимании к гиперактивному ребенку внешне относитесь к нему так же, как и к остальным дет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чите его общаться с другими детьми, поощряйте позитивное взаимодейств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3964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екомендации родителям и педагог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8" descr="J0283074"/>
          <p:cNvPicPr/>
          <p:nvPr/>
        </p:nvPicPr>
        <p:blipFill>
          <a:blip r:embed="rId2"/>
          <a:stretch/>
        </p:blipFill>
        <p:spPr>
          <a:xfrm>
            <a:off x="7837560" y="5649840"/>
            <a:ext cx="130644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4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2228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AutoShape 5"/>
          <p:cNvSpPr/>
          <p:nvPr/>
        </p:nvSpPr>
        <p:spPr>
          <a:xfrm>
            <a:off x="2916360" y="1700280"/>
            <a:ext cx="3817800" cy="2808360"/>
          </a:xfrm>
          <a:prstGeom prst="sun">
            <a:avLst>
              <a:gd name="adj" fmla="val 25000"/>
            </a:avLst>
          </a:prstGeom>
          <a:solidFill>
            <a:srgbClr val="f4c80c"/>
          </a:solidFill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праж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6"/>
          <p:cNvSpPr/>
          <p:nvPr/>
        </p:nvSpPr>
        <p:spPr>
          <a:xfrm>
            <a:off x="684360" y="404640"/>
            <a:ext cx="3166920" cy="1873440"/>
          </a:xfrm>
          <a:prstGeom prst="cloudCallout">
            <a:avLst>
              <a:gd name="adj1" fmla="val -36217"/>
              <a:gd name="adj2" fmla="val 64152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витие произвольности и само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8"/>
          <p:cNvSpPr/>
          <p:nvPr/>
        </p:nvSpPr>
        <p:spPr>
          <a:xfrm>
            <a:off x="5364000" y="4292640"/>
            <a:ext cx="3527640" cy="2160720"/>
          </a:xfrm>
          <a:prstGeom prst="cloudCallout">
            <a:avLst>
              <a:gd name="adj1" fmla="val 36634"/>
              <a:gd name="adj2" fmla="val -60064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витие способности к произвольному переключению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9"/>
          <p:cNvSpPr/>
          <p:nvPr/>
        </p:nvSpPr>
        <p:spPr>
          <a:xfrm>
            <a:off x="755640" y="4221000"/>
            <a:ext cx="3384720" cy="1944720"/>
          </a:xfrm>
          <a:prstGeom prst="cloudCallout">
            <a:avLst>
              <a:gd name="adj1" fmla="val -43574"/>
              <a:gd name="adj2" fmla="val -58652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 развитие концентрации вним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0"/>
          <p:cNvSpPr/>
          <p:nvPr/>
        </p:nvSpPr>
        <p:spPr>
          <a:xfrm>
            <a:off x="5580000" y="404640"/>
            <a:ext cx="3384720" cy="1800360"/>
          </a:xfrm>
          <a:prstGeom prst="cloudCallout">
            <a:avLst>
              <a:gd name="adj1" fmla="val 40055"/>
              <a:gd name="adj2" fmla="val 51939"/>
            </a:avLst>
          </a:prstGeom>
          <a:solidFill>
            <a:srgbClr val="1cade4"/>
          </a:solidFill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ля снятия агрессивности и импульс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0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Объект 1" descr=""/>
          <p:cNvPicPr/>
          <p:nvPr/>
        </p:nvPicPr>
        <p:blipFill>
          <a:blip r:embed="rId1"/>
          <a:stretch/>
        </p:blipFill>
        <p:spPr>
          <a:xfrm>
            <a:off x="1052640" y="1395360"/>
            <a:ext cx="734760" cy="488880"/>
          </a:xfrm>
          <a:prstGeom prst="rect">
            <a:avLst/>
          </a:prstGeom>
          <a:ln w="0">
            <a:noFill/>
          </a:ln>
        </p:spPr>
      </p:pic>
      <p:pic>
        <p:nvPicPr>
          <p:cNvPr id="242" name="Объект 2" descr=""/>
          <p:cNvPicPr/>
          <p:nvPr/>
        </p:nvPicPr>
        <p:blipFill>
          <a:blip r:embed="rId2"/>
          <a:stretch/>
        </p:blipFill>
        <p:spPr>
          <a:xfrm>
            <a:off x="2241720" y="1098720"/>
            <a:ext cx="725400" cy="48888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5" descr=""/>
          <p:cNvPicPr/>
          <p:nvPr/>
        </p:nvPicPr>
        <p:blipFill>
          <a:blip r:embed="rId3"/>
          <a:stretch/>
        </p:blipFill>
        <p:spPr>
          <a:xfrm>
            <a:off x="219240" y="243000"/>
            <a:ext cx="3136680" cy="176364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7" descr=""/>
          <p:cNvPicPr/>
          <p:nvPr/>
        </p:nvPicPr>
        <p:blipFill>
          <a:blip r:embed="rId4"/>
          <a:stretch/>
        </p:blipFill>
        <p:spPr>
          <a:xfrm>
            <a:off x="3467160" y="243000"/>
            <a:ext cx="3071880" cy="2305080"/>
          </a:xfrm>
          <a:prstGeom prst="rect">
            <a:avLst/>
          </a:prstGeom>
          <a:ln w="0">
            <a:noFill/>
          </a:ln>
        </p:spPr>
      </p:pic>
      <p:pic>
        <p:nvPicPr>
          <p:cNvPr id="245" name="Рисунок 8" descr=""/>
          <p:cNvPicPr/>
          <p:nvPr/>
        </p:nvPicPr>
        <p:blipFill>
          <a:blip r:embed="rId5"/>
          <a:stretch/>
        </p:blipFill>
        <p:spPr>
          <a:xfrm>
            <a:off x="716040" y="2133720"/>
            <a:ext cx="3051000" cy="22287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0" descr=""/>
          <p:cNvPicPr/>
          <p:nvPr/>
        </p:nvPicPr>
        <p:blipFill>
          <a:blip r:embed="rId6"/>
          <a:stretch/>
        </p:blipFill>
        <p:spPr>
          <a:xfrm>
            <a:off x="3552840" y="3573360"/>
            <a:ext cx="5403960" cy="303840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11" descr=""/>
          <p:cNvPicPr/>
          <p:nvPr/>
        </p:nvPicPr>
        <p:blipFill>
          <a:blip r:embed="rId7"/>
          <a:stretch/>
        </p:blipFill>
        <p:spPr>
          <a:xfrm>
            <a:off x="244440" y="4417920"/>
            <a:ext cx="3803760" cy="2140200"/>
          </a:xfrm>
          <a:prstGeom prst="rect">
            <a:avLst/>
          </a:prstGeom>
          <a:ln w="0">
            <a:noFill/>
          </a:ln>
        </p:spPr>
      </p:pic>
      <p:pic>
        <p:nvPicPr>
          <p:cNvPr id="248" name="Рисунок 12" descr=""/>
          <p:cNvPicPr/>
          <p:nvPr/>
        </p:nvPicPr>
        <p:blipFill>
          <a:blip r:embed="rId8"/>
          <a:stretch/>
        </p:blipFill>
        <p:spPr>
          <a:xfrm>
            <a:off x="6248520" y="1339920"/>
            <a:ext cx="2679480" cy="2114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4360" y="274320"/>
            <a:ext cx="820872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Проблему гиперактивности невозможно решить волевыми усилиями, авторитарными указаниями и убеждениями.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Гиперактивный ребенок имеет нейрофизиологические проблемы, справиться с которыми он самостоятельно не может.</a:t>
            </a:r>
            <a:br>
              <a:rPr sz="3200"/>
            </a:b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262626"/>
                </a:solidFill>
                <a:latin typeface="Times New Roman"/>
              </a:rPr>
              <a:t>Дисциплинарные меры воздействия в виде постоянных наказаний, замечаний, окриков, нотаций не приведут к улучшению поведения ребенка, а скорее ухудшат его.</a:t>
            </a:r>
            <a:br>
              <a:rPr sz="3200"/>
            </a:b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50" name="Picture 5" descr="J0254500"/>
          <p:cNvPicPr/>
          <p:nvPr/>
        </p:nvPicPr>
        <p:blipFill>
          <a:blip r:embed="rId1"/>
          <a:stretch/>
        </p:blipFill>
        <p:spPr>
          <a:xfrm>
            <a:off x="611280" y="189000"/>
            <a:ext cx="952560" cy="952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731880" y="2103120"/>
            <a:ext cx="7680240" cy="39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901"/>
              </a:spcBef>
              <a:buClr>
                <a:srgbClr val="262626"/>
              </a:buClr>
              <a:buFont typeface="Garamond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Причины гиперактивности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468360" y="795240"/>
          <a:ext cx="8567640" cy="6039000"/>
        </p:xfrm>
        <a:graphic>
          <a:graphicData uri="http://schemas.openxmlformats.org/drawingml/2006/table">
            <a:tbl>
              <a:tblPr/>
              <a:tblGrid>
                <a:gridCol w="3024000"/>
                <a:gridCol w="5543640"/>
              </a:tblGrid>
              <a:tr h="283608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натальная патологи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ксикоз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острение хронических заболеваний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 матер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фекционные заболева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авмы в области живот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логическая несовместимость по резус-фактору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пытки прервать беременность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нятие алкоголя и кур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921320"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ложнения при родах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имуляция родовой деятельност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правильное положение плода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сфиксии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 кровоизлияния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ждевременные, скоротечные или</a:t>
                      </a:r>
                      <a:br>
                        <a:rPr sz="2000"/>
                      </a:b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тяжные р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2816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социаль-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ые причи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адекватный стиль воспитания в семье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травмы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желанный ребен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8"/>
          <p:cNvSpPr/>
          <p:nvPr/>
        </p:nvSpPr>
        <p:spPr>
          <a:xfrm>
            <a:off x="2627280" y="404640"/>
            <a:ext cx="4176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Monotype Corsiva"/>
              </a:rPr>
              <a:t>Формы СДВ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9"/>
          <p:cNvSpPr/>
          <p:nvPr/>
        </p:nvSpPr>
        <p:spPr>
          <a:xfrm flipH="1">
            <a:off x="2410920" y="1700280"/>
            <a:ext cx="792360" cy="64908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0"/>
          <p:cNvSpPr/>
          <p:nvPr/>
        </p:nvSpPr>
        <p:spPr>
          <a:xfrm>
            <a:off x="4643280" y="1700280"/>
            <a:ext cx="0" cy="273672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"/>
          <p:cNvSpPr/>
          <p:nvPr/>
        </p:nvSpPr>
        <p:spPr>
          <a:xfrm>
            <a:off x="6012000" y="1628640"/>
            <a:ext cx="647640" cy="865440"/>
          </a:xfrm>
          <a:prstGeom prst="line">
            <a:avLst/>
          </a:prstGeom>
          <a:ln w="3816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11280" y="2492280"/>
            <a:ext cx="33130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еракти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чет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 нарушени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ним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3132000" y="4581360"/>
            <a:ext cx="33130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обла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ерактивност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5580000" y="2565360"/>
            <a:ext cx="3313080" cy="1584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еоблада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арушение вним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611280" y="1197000"/>
            <a:ext cx="81374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встает со своего места во время уроков или других ситуациях, когда нужно оставаться на ме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наблюдаются беспокойные движения в кистях и стопах, вертится, сидя на стул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проявляет бесцельную двигательную активность: бегает, пытается куда-то залезть в ситуациях, когда это неприемлимо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не может тихо, спокойно играть или заниматься чем-либо на досуг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находится в постоянном движении и ведет себя словно «управляемый двигателем»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чень говорл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539640" y="404640"/>
            <a:ext cx="813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Гипера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9" descr="grez1"/>
          <p:cNvPicPr/>
          <p:nvPr/>
        </p:nvPicPr>
        <p:blipFill>
          <a:blip r:embed="rId2"/>
          <a:stretch/>
        </p:blipFill>
        <p:spPr>
          <a:xfrm>
            <a:off x="7740720" y="2133720"/>
            <a:ext cx="183816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5"/>
          <p:cNvSpPr/>
          <p:nvPr/>
        </p:nvSpPr>
        <p:spPr>
          <a:xfrm>
            <a:off x="539640" y="634680"/>
            <a:ext cx="8280360" cy="61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последователен, ему трудно долго удерживать внимание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 большим энтузиазмом берется за задание, но так и не заканчивает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ычно избегает, не любит либо сопротивляется вовлечению в выполнение заданий, которые требуют длительного сохранения умственного усилия (домашнее задание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теряет вещ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бегает скучных и требующих усилий    зад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асто бывает забывчи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егко отвлекается на посторонние стимул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447840"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ытывает трудности в организаци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2627280" y="981000"/>
            <a:ext cx="489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53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Дефицит внимания</a:t>
            </a:r>
            <a:endParaRPr b="0" lang="en-US" sz="40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269" name="Picture 15" descr="girl"/>
          <p:cNvPicPr/>
          <p:nvPr/>
        </p:nvPicPr>
        <p:blipFill>
          <a:blip r:embed="rId2"/>
          <a:stretch/>
        </p:blipFill>
        <p:spPr>
          <a:xfrm>
            <a:off x="7380360" y="4005360"/>
            <a:ext cx="1485720" cy="1549440"/>
          </a:xfrm>
          <a:prstGeom prst="rect">
            <a:avLst/>
          </a:prstGeom>
          <a:ln w="38160">
            <a:solidFill>
              <a:srgbClr val="00ff00"/>
            </a:solidFill>
            <a:miter/>
          </a:ln>
          <a:effectLst>
            <a:outerShdw dist="17819" dir="2700000" blurRad="0" rotWithShape="0">
              <a:srgbClr val="1485a4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6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5"/>
          <p:cNvSpPr/>
          <p:nvPr/>
        </p:nvSpPr>
        <p:spPr>
          <a:xfrm>
            <a:off x="611280" y="981000"/>
            <a:ext cx="82818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чинает отвечать, не дослушав вопро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способен дождаться своей очереди, часто вмешивается, прерыва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 может контролировать и регулировать свои действ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ведение слабоуправляемо правил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выполнении заданий ведет себя по-разному и показывает разные результаты (на некоторых занятиях ребенок спокоен, на других - н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1116000" y="189000"/>
            <a:ext cx="74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Times New Roman"/>
              </a:rPr>
              <a:t>Импульс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8" descr="131e5c80"/>
          <p:cNvPicPr/>
          <p:nvPr/>
        </p:nvPicPr>
        <p:blipFill>
          <a:blip r:embed="rId2"/>
          <a:stretch/>
        </p:blipFill>
        <p:spPr>
          <a:xfrm>
            <a:off x="7451640" y="5445000"/>
            <a:ext cx="14749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0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5"/>
          <p:cNvSpPr/>
          <p:nvPr/>
        </p:nvSpPr>
        <p:spPr>
          <a:xfrm>
            <a:off x="2195640" y="478080"/>
            <a:ext cx="633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 статистике, синдром нарушения внимания с гиперактивностью большей частью встречаетс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у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светловолосых и голубоглазых детей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и почти в пять раз чаще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990000"/>
                </a:solidFill>
                <a:latin typeface="Times New Roman"/>
              </a:rPr>
              <a:t>у мальчиков, чем у девочек.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очему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95280" cy="6858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J0308972"/>
          <p:cNvPicPr/>
          <p:nvPr/>
        </p:nvPicPr>
        <p:blipFill>
          <a:blip r:embed="rId2"/>
          <a:stretch/>
        </p:blipFill>
        <p:spPr>
          <a:xfrm>
            <a:off x="539640" y="260280"/>
            <a:ext cx="1528920" cy="2305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avb175"/>
          <p:cNvPicPr/>
          <p:nvPr/>
        </p:nvPicPr>
        <p:blipFill>
          <a:blip r:embed="rId3"/>
          <a:stretch/>
        </p:blipFill>
        <p:spPr>
          <a:xfrm>
            <a:off x="7399440" y="4869000"/>
            <a:ext cx="1744560" cy="174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47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6:54:35Z</dcterms:created>
  <dc:creator>comp</dc:creator>
  <dc:description/>
  <dc:language>en-US</dc:language>
  <cp:lastModifiedBy>HP</cp:lastModifiedBy>
  <dcterms:modified xsi:type="dcterms:W3CDTF">2023-09-11T10:58:34Z</dcterms:modified>
  <cp:revision>37</cp:revision>
  <dc:subject/>
  <dc:title>Слайд 1</dc:title>
</cp:coreProperties>
</file>