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25.gif" ContentType="image/gif"/>
  <Override PartName="/ppt/media/image11.jpeg" ContentType="image/jpeg"/>
  <Override PartName="/ppt/media/image9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5.gif" ContentType="image/gif"/>
  <Override PartName="/ppt/media/image28.gif" ContentType="image/gif"/>
  <Override PartName="/ppt/media/image13.jpeg" ContentType="image/jpeg"/>
  <Override PartName="/ppt/media/image4.png" ContentType="image/png"/>
  <Override PartName="/ppt/media/image24.gif" ContentType="image/gif"/>
  <Override PartName="/ppt/media/image29.gif" ContentType="image/gif"/>
  <Override PartName="/ppt/media/image27.gif" ContentType="image/gif"/>
  <Override PartName="/ppt/media/image1.png" ContentType="image/png"/>
  <Override PartName="/ppt/media/image26.gif" ContentType="image/gif"/>
  <Override PartName="/ppt/media/image14.gif" ContentType="image/gif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C88E-4C77-4B67-8C54-BB487AB5E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F153-FBB5-4C32-953E-0B6DE40E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4BDB-F9D4-43E0-8D18-262B011CE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93EA-810E-43CB-A111-9D42F7021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5CBD-1BEA-4C3A-AEC2-33930D98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9268-D34D-4F6F-A148-57A61494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205D-73CD-41A0-ABFA-B41E532B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EE1A-5DAB-4594-911B-B0441932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63B6-F153-4BBF-89CC-6D73CECA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25AD-35ED-4EC0-AD5B-8E319803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831E-9EF9-4B68-B642-9998C03D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EFA3-EC5A-4613-AA3F-9783D3BF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4F37-E4F4-4DAE-A5B0-B4EFA4E0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E155-76E6-4201-938F-C32BBAD0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CF86-F5D9-4E50-8207-99E63937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0352-78EA-4E6E-8CFA-E95190A33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4938-92D1-4FCE-B981-2587910CF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32477-C0F9-4937-8F68-7CB07FCF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F4B5F-33B1-4423-93CF-3F5A8D8A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79B30-1AC2-4CEE-88DA-165090E7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44E5A-C9C4-400C-8A9D-0BDDA6F8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AD1F3-B1D2-436C-97F6-76645D1B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EE33-CE96-4308-97C8-07DC6FDB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C7068-D6C7-4D1D-AF95-0D723AF9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B4682-AECC-46C4-B6F7-2E5F2880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4988A-67E7-4656-A0A6-11596E04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4F7A7-2809-4811-90E1-74D340A9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0FF38-B10C-4E86-88FE-77973769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5B532-5E7B-4C00-A10A-3ADFD700A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EDDA9-0712-4657-B5FF-390985D09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7FFA8-C47A-483D-B746-E327BB329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B75B0-5FB0-40F1-B983-666D149B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DDAD7-5222-41BC-904D-CA39A211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A883-88BD-48C4-A241-65279608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B125F-E4A0-4C82-A1B7-0C0B3F57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224D2-9E90-4CD9-812A-01BC03C5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87382-E6A9-4250-A6D5-1F7DA289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CDB2A-A506-457B-9388-88A83EFC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4172C-3B07-4C02-8E11-17C3B602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817DE-43BA-45B7-BBC2-F5DE045C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F3FD1-C9DE-42AE-A9C0-7E640519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3E537-BEF4-46C7-AE00-1FD04B61D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A8279-76B3-47FB-9A06-7DD52C8BD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146BC-7B5D-4365-BA1B-8A6D44401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CF34-516C-4B92-8AA3-505E7C6F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C09B8-398F-41E8-9A13-3AF320FE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C83F9-260D-4F34-BA3B-9701DCD5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6FBAE-F272-4AFA-9A16-6A410B03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36313-E9B4-425E-AAC7-9827E880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3BAEB-CCFF-46F8-80E2-E7A13804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A759F-614A-4E00-A721-C43EBD27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A0B68-9CF7-40EB-882B-AAF3EB5F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023BB-98EA-4C33-91B2-4A75266D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2A254-E517-4D48-ABE4-C04323E9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2FE34-4702-4A58-B9FD-0767CF0B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3DCE-8C9B-4B37-AE54-30535BED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67F69-561E-456D-97B0-6A9F7382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17CC-60CE-4FCF-818C-EA1DCD44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065E-5884-4E0B-ACA0-3007794A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E51A-346C-4E7E-89AB-506FC580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176040" y="176040"/>
            <a:ext cx="8791920" cy="6510240"/>
            <a:chOff x="176040" y="176040"/>
            <a:chExt cx="8791920" cy="651024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176040" y="178560"/>
              <a:ext cx="8791920" cy="65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176040" y="176040"/>
              <a:ext cx="8791920" cy="65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822800" y="6308280"/>
            <a:ext cx="1096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22D1-BAD9-4C58-BF85-4C48DED3B145}" type="slidenum">
              <a:rPr b="0" lang="ru-RU" sz="9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Rectangle 1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Rectangle 9"/>
          <p:cNvGrpSpPr/>
          <p:nvPr/>
        </p:nvGrpSpPr>
        <p:grpSpPr>
          <a:xfrm>
            <a:off x="927000" y="1219320"/>
            <a:ext cx="7290000" cy="4419360"/>
            <a:chOff x="927000" y="1219320"/>
            <a:chExt cx="7290000" cy="4419360"/>
          </a:xfrm>
        </p:grpSpPr>
        <p:pic>
          <p:nvPicPr>
            <p:cNvPr id="48" name="Rectangle 9" descr=""/>
            <p:cNvPicPr/>
            <p:nvPr/>
          </p:nvPicPr>
          <p:blipFill>
            <a:blip r:embed="rId3"/>
            <a:stretch/>
          </p:blipFill>
          <p:spPr>
            <a:xfrm>
              <a:off x="927000" y="1219320"/>
              <a:ext cx="729000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981000" y="1274760"/>
              <a:ext cx="7182000" cy="43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10"/>
          <p:cNvSpPr/>
          <p:nvPr/>
        </p:nvSpPr>
        <p:spPr>
          <a:xfrm>
            <a:off x="1087560" y="1386000"/>
            <a:ext cx="6968880" cy="40860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3794040" y="1268280"/>
            <a:ext cx="1555920" cy="63972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3886200" y="1268280"/>
            <a:ext cx="1371600" cy="547920"/>
            <a:chOff x="3886200" y="1268280"/>
            <a:chExt cx="1371600" cy="547920"/>
          </a:xfrm>
        </p:grpSpPr>
        <p:sp>
          <p:nvSpPr>
            <p:cNvPr id="53" name="Straight Connector 16"/>
            <p:cNvSpPr/>
            <p:nvPr/>
          </p:nvSpPr>
          <p:spPr>
            <a:xfrm>
              <a:off x="3886200" y="1268280"/>
              <a:ext cx="0" cy="54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5257800" y="1268280"/>
              <a:ext cx="0" cy="54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18"/>
            <p:cNvSpPr/>
            <p:nvPr/>
          </p:nvSpPr>
          <p:spPr>
            <a:xfrm>
              <a:off x="3886200" y="1816200"/>
              <a:ext cx="1371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3932280" y="1327320"/>
            <a:ext cx="127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1104480" y="5211360"/>
            <a:ext cx="4429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454440" y="5211360"/>
            <a:ext cx="1584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697C-B837-42F5-B6B4-38F856015318}" type="slidenum">
              <a:rPr b="0" lang="ru-RU" sz="9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Rectangle 2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8" name="Rectangle 2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Rectangle 22"/>
          <p:cNvGrpSpPr/>
          <p:nvPr/>
        </p:nvGrpSpPr>
        <p:grpSpPr>
          <a:xfrm>
            <a:off x="927000" y="1219320"/>
            <a:ext cx="7290000" cy="4419360"/>
            <a:chOff x="927000" y="1219320"/>
            <a:chExt cx="7290000" cy="4419360"/>
          </a:xfrm>
        </p:grpSpPr>
        <p:pic>
          <p:nvPicPr>
            <p:cNvPr id="101" name="Rectangle 22" descr=""/>
            <p:cNvPicPr/>
            <p:nvPr/>
          </p:nvPicPr>
          <p:blipFill>
            <a:blip r:embed="rId3"/>
            <a:stretch/>
          </p:blipFill>
          <p:spPr>
            <a:xfrm>
              <a:off x="927000" y="1219320"/>
              <a:ext cx="729000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981000" y="1274760"/>
              <a:ext cx="7182000" cy="43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Rectangle 23"/>
          <p:cNvSpPr/>
          <p:nvPr/>
        </p:nvSpPr>
        <p:spPr>
          <a:xfrm>
            <a:off x="1087560" y="1386000"/>
            <a:ext cx="6968880" cy="40860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9"/>
          <p:cNvSpPr/>
          <p:nvPr/>
        </p:nvSpPr>
        <p:spPr>
          <a:xfrm>
            <a:off x="3794040" y="1268280"/>
            <a:ext cx="1555920" cy="63972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30"/>
          <p:cNvGrpSpPr/>
          <p:nvPr/>
        </p:nvGrpSpPr>
        <p:grpSpPr>
          <a:xfrm>
            <a:off x="3886200" y="1268280"/>
            <a:ext cx="1371600" cy="547920"/>
            <a:chOff x="3886200" y="1268280"/>
            <a:chExt cx="1371600" cy="547920"/>
          </a:xfrm>
        </p:grpSpPr>
        <p:sp>
          <p:nvSpPr>
            <p:cNvPr id="106" name="Straight Connector 31"/>
            <p:cNvSpPr/>
            <p:nvPr/>
          </p:nvSpPr>
          <p:spPr>
            <a:xfrm>
              <a:off x="3886200" y="1268280"/>
              <a:ext cx="0" cy="54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32"/>
            <p:cNvSpPr/>
            <p:nvPr/>
          </p:nvSpPr>
          <p:spPr>
            <a:xfrm>
              <a:off x="5257800" y="1268280"/>
              <a:ext cx="0" cy="54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Straight Connector 33"/>
            <p:cNvSpPr/>
            <p:nvPr/>
          </p:nvSpPr>
          <p:spPr>
            <a:xfrm>
              <a:off x="3886200" y="1816200"/>
              <a:ext cx="1371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3932280" y="1325520"/>
            <a:ext cx="127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1104840" y="5211360"/>
            <a:ext cx="443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453360" y="5211360"/>
            <a:ext cx="158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0EAC-2D0D-4F2A-A5DC-F13AF03AA977}" type="slidenum">
              <a:rPr b="0" lang="ru-RU" sz="9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5"/>
          <p:cNvSpPr/>
          <p:nvPr/>
        </p:nvSpPr>
        <p:spPr>
          <a:xfrm>
            <a:off x="184320" y="173160"/>
            <a:ext cx="6399000" cy="651168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6765840" y="173160"/>
            <a:ext cx="2193840" cy="65116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6867360" y="274680"/>
            <a:ext cx="1989360" cy="630864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7794360" y="6310080"/>
            <a:ext cx="1098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A294-8B13-47B5-979B-5F9D859C64DE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6765840" y="173160"/>
            <a:ext cx="2193840" cy="65116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6867360" y="274680"/>
            <a:ext cx="1989360" cy="630864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7797600" y="6308280"/>
            <a:ext cx="1096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CF85-3176-4282-8581-F73605F5BFDA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WordArt 6"/>
          <p:cNvSpPr txBox="1"/>
          <p:nvPr/>
        </p:nvSpPr>
        <p:spPr>
          <a:xfrm>
            <a:off x="1258920" y="1341360"/>
            <a:ext cx="66978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cc00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иперактивность:</a:t>
            </a:r>
            <a:endParaRPr b="0" lang="en-US" sz="1800" spc="1" strike="noStrike">
              <a:ln w="22320">
                <a:solidFill>
                  <a:srgbClr val="ffcc00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8" name="Picture 8" descr="KIDS01"/>
          <p:cNvPicPr/>
          <p:nvPr/>
        </p:nvPicPr>
        <p:blipFill>
          <a:blip r:embed="rId1"/>
          <a:stretch/>
        </p:blipFill>
        <p:spPr>
          <a:xfrm>
            <a:off x="5580000" y="4067280"/>
            <a:ext cx="3225960" cy="2232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76000" y="3141360"/>
            <a:ext cx="617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00"/>
                </a:solidFill>
                <a:latin typeface="Monotype Corsiva"/>
              </a:rPr>
              <a:t>Как быть?</a:t>
            </a:r>
            <a:endParaRPr b="0" lang="en-US" sz="6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Rectangle 12"/>
          <p:cNvSpPr/>
          <p:nvPr/>
        </p:nvSpPr>
        <p:spPr>
          <a:xfrm>
            <a:off x="971640" y="1413000"/>
            <a:ext cx="7272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ПОРТРЕТ ГИПЕРАКТИВНОГО РЕБЕНКА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755280" y="105228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Гиперактивному ребенку трудно сидеть, он суетлив, много двигается, вертится на месте, иногда чрезмерно говорлив, может раздражать манерой своего поведения. Часто у него плохая координация или недостаточный мышечный контроль. Он неуклюж, роняет или ломает вещи, проливает молоко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ому ребенку трудно концентрировать свое внимание, он легко отвлекается, часто задает множество вопросов, но редко дожидается ответов»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В. Оклендер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80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395280" cy="6858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avb131"/>
          <p:cNvPicPr/>
          <p:nvPr/>
        </p:nvPicPr>
        <p:blipFill>
          <a:blip r:embed="rId2"/>
          <a:stretch/>
        </p:blipFill>
        <p:spPr>
          <a:xfrm>
            <a:off x="3492360" y="505764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8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imes New Roman"/>
              </a:rPr>
              <a:t>Умственная деятельность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8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9528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AutoShape 7"/>
          <p:cNvSpPr/>
          <p:nvPr/>
        </p:nvSpPr>
        <p:spPr>
          <a:xfrm>
            <a:off x="1187280" y="2349360"/>
            <a:ext cx="4032360" cy="3095640"/>
          </a:xfrm>
          <a:custGeom>
            <a:avLst/>
            <a:gdLst>
              <a:gd name="textAreaLeft" fmla="*/ 0 w 4032360"/>
              <a:gd name="textAreaRight" fmla="*/ 4032720 w 4032360"/>
              <a:gd name="textAreaTop" fmla="*/ 774000 h 3095640"/>
              <a:gd name="textAreaBottom" fmla="*/ 2322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7512" y="18900"/>
                </a:lnTo>
                <a:lnTo>
                  <a:pt x="10800" y="21600"/>
                </a:lnTo>
                <a:lnTo>
                  <a:pt x="14088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4088" y="2700"/>
                </a:lnTo>
                <a:lnTo>
                  <a:pt x="10800" y="0"/>
                </a:lnTo>
                <a:lnTo>
                  <a:pt x="7512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Monotype Corsiva"/>
              </a:rPr>
              <a:t>Циклич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1476360" y="1341360"/>
            <a:ext cx="3600360" cy="9352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бота 5-15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1476360" y="5516640"/>
            <a:ext cx="3600360" cy="914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дых 3-7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11" descr="sh04"/>
          <p:cNvPicPr/>
          <p:nvPr/>
        </p:nvPicPr>
        <p:blipFill>
          <a:blip r:embed="rId3"/>
          <a:stretch/>
        </p:blipFill>
        <p:spPr>
          <a:xfrm>
            <a:off x="5435640" y="2565360"/>
            <a:ext cx="33843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«Скорая помощь» при работе с     гиперактивным ребенком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2228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5"/>
          <p:cNvSpPr/>
          <p:nvPr/>
        </p:nvSpPr>
        <p:spPr>
          <a:xfrm>
            <a:off x="611280" y="1277640"/>
            <a:ext cx="8424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влечь ребенка от его каприз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едложить выбор (другую возможную в данный момент деятельност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Задать неожиданный вопро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треагировать неожиданным для ребенка образом (пошутить, повторить действие ребен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е запрещать действие ребенка в категоричной фор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е приказывать, а просить (но не заискиват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ыслушать то, что хочет сказать ребенок (в противном случае он н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лышит вас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Автоматически, одними и теми же словами повторять многократно свою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сьбу (нейтральным тоно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фотографировать ребенка или подвести его к зеркалу в тот момент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гда он капризнич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ставить в комнате одного (если это безопасно для его здоровь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Не настаивать на том, чтобы ребенок во что бы то ни стало принес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ви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е читать нотаций (ребенок все равно их не слыши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1" descr="8f1"/>
          <p:cNvPicPr/>
          <p:nvPr/>
        </p:nvPicPr>
        <p:blipFill>
          <a:blip r:embed="rId2"/>
          <a:stretch/>
        </p:blipFill>
        <p:spPr>
          <a:xfrm>
            <a:off x="611280" y="11592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2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Правила работы с детьми СДВГ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10920" y="1196640"/>
            <a:ext cx="8281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ать с ребенком в начале дня, а не вечером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еньшать рабочую нагрузку ребенка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лить работу на более короткие, но более частые перерывы, использовать физкультминутки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зить требования к аккуратности в начале работы, чтобы сформировать чувство успеха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тактильный контакт (элементы массажа, прикосновения, поглаживания)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вать короткие, четкие и конкретные инструкции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гибкую систему поощрений и наказаний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ощрять ребенка сразу же, не откладывая на будущее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оставлять ребенку возможность выбора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таваться спокойным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94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395280" cy="6858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J0288869"/>
          <p:cNvPicPr/>
          <p:nvPr/>
        </p:nvPicPr>
        <p:blipFill>
          <a:blip r:embed="rId2"/>
          <a:stretch/>
        </p:blipFill>
        <p:spPr>
          <a:xfrm>
            <a:off x="468360" y="189000"/>
            <a:ext cx="84456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2228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5"/>
          <p:cNvSpPr/>
          <p:nvPr/>
        </p:nvSpPr>
        <p:spPr>
          <a:xfrm>
            <a:off x="611280" y="1047600"/>
            <a:ext cx="8137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ранее договариваться с ребенком о времени игры, о длительности прогулки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 истечении времени ребенку сообщает не взрослый, а заведенный заранее   будильник,   кухонный   таймер,   что   будет   способствовать   снижению агрессии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работать совместно с ребенком систему поощрений и наказаний за желательное и нежелательное по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работать 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оложить в удобном для ребенка месте свод правил поведения в группе детского сада, в классе, д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сить ребенка вслух проговаривать эти прави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д началом занятий ребенок может сказать,  что он хотел бы пожелать себе сам при выполнении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Профилактическая работа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99" name="Picture 8" descr="22M6"/>
          <p:cNvPicPr/>
          <p:nvPr/>
        </p:nvPicPr>
        <p:blipFill>
          <a:blip r:embed="rId2"/>
          <a:stretch/>
        </p:blipFill>
        <p:spPr>
          <a:xfrm>
            <a:off x="7524720" y="5445000"/>
            <a:ext cx="161928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76438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Взрослые должны понять, что: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6836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лед за понесенным наказанием ребенку необходимо позитивное эмоциональное подкрепление, знаки принятия и прощения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возможно добиться исчезновения СДВГ за несколько месяцев и даже лет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ндром дефицита внимания и гиперактивности – это патология, требующая своевременной диагностики и комплексной коррекции (психологической, педагогической, медицинской)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пешная реабилитация возможна при условии, если она проводится в возрасте до 9 лет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422280" cy="6858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MAN52"/>
          <p:cNvPicPr/>
          <p:nvPr/>
        </p:nvPicPr>
        <p:blipFill>
          <a:blip r:embed="rId2"/>
          <a:stretch/>
        </p:blipFill>
        <p:spPr>
          <a:xfrm>
            <a:off x="7451640" y="3933720"/>
            <a:ext cx="14288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5"/>
          <p:cNvSpPr/>
          <p:nvPr/>
        </p:nvSpPr>
        <p:spPr>
          <a:xfrm>
            <a:off x="468360" y="1047240"/>
            <a:ext cx="8496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4960"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те знаковую систему оценивания действий ребе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йтесь замечать каждый его успе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аивайте минутки активного отдыха на занят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те, что эти дети способны удерживать свое внимание очень кратковрем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ерактивный ребенок всегда должен находиться перед глазами. На занятиях его лучше сажать напротив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яйте энергию ребенка в полезное русло. На занятиях давайте поручения раздать что-нибудь, в свободной деятельности мотивируйте его на спокойные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рвых этапах избегайте монотонной деятельности, занятия должны быть интересными и увлекательными, с прослеживаемым результа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Рекомендации родителям и педагогам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306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422280" cy="6858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0" descr="J0282845"/>
          <p:cNvPicPr/>
          <p:nvPr/>
        </p:nvPicPr>
        <p:blipFill>
          <a:blip r:embed="rId2"/>
          <a:stretch/>
        </p:blipFill>
        <p:spPr>
          <a:xfrm>
            <a:off x="7451640" y="5516640"/>
            <a:ext cx="140976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2228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5"/>
          <p:cNvSpPr/>
          <p:nvPr/>
        </p:nvSpPr>
        <p:spPr>
          <a:xfrm>
            <a:off x="684360" y="907920"/>
            <a:ext cx="806436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овместной деятельности учите ребенка проговаривать свои действия, выстраивать логику и последовательность их выпол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уйте элементы игры во всех моментах жизне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давайте многословных инструкций, после 10-ти слов ребенок вас просто не услыш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вайте ситуации успеха, в которых ребенок смог бы проявить свои сильные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всем неусыпном внимании к гиперактивному ребенку внешне относитесь к нему так же, как и к остальным де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 его общаться с другими детьми, поощряйте позитивное взаимодей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3964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Рекомендации родителям и педагог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8" descr="J0283074"/>
          <p:cNvPicPr/>
          <p:nvPr/>
        </p:nvPicPr>
        <p:blipFill>
          <a:blip r:embed="rId2"/>
          <a:stretch/>
        </p:blipFill>
        <p:spPr>
          <a:xfrm>
            <a:off x="7837560" y="5649840"/>
            <a:ext cx="130644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22280" cy="685800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5"/>
          <p:cNvSpPr/>
          <p:nvPr/>
        </p:nvSpPr>
        <p:spPr>
          <a:xfrm>
            <a:off x="2916360" y="1700280"/>
            <a:ext cx="3817800" cy="2808360"/>
          </a:xfrm>
          <a:prstGeom prst="sun">
            <a:avLst>
              <a:gd name="adj" fmla="val 25000"/>
            </a:avLst>
          </a:prstGeom>
          <a:solidFill>
            <a:srgbClr val="f4c80c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праж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684360" y="404640"/>
            <a:ext cx="3166920" cy="1873440"/>
          </a:xfrm>
          <a:prstGeom prst="cloudCallout">
            <a:avLst>
              <a:gd name="adj1" fmla="val -36217"/>
              <a:gd name="adj2" fmla="val 64152"/>
            </a:avLst>
          </a:prstGeom>
          <a:solidFill>
            <a:srgbClr val="1cade4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развитие произвольности и самоконтро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8"/>
          <p:cNvSpPr/>
          <p:nvPr/>
        </p:nvSpPr>
        <p:spPr>
          <a:xfrm>
            <a:off x="5364000" y="4292640"/>
            <a:ext cx="3527640" cy="2160720"/>
          </a:xfrm>
          <a:prstGeom prst="cloudCallout">
            <a:avLst>
              <a:gd name="adj1" fmla="val 36634"/>
              <a:gd name="adj2" fmla="val -60064"/>
            </a:avLst>
          </a:prstGeom>
          <a:solidFill>
            <a:srgbClr val="1cade4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развитие способности к произвольному переключению вним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9"/>
          <p:cNvSpPr/>
          <p:nvPr/>
        </p:nvSpPr>
        <p:spPr>
          <a:xfrm>
            <a:off x="755640" y="4221000"/>
            <a:ext cx="3384720" cy="1944720"/>
          </a:xfrm>
          <a:prstGeom prst="cloudCallout">
            <a:avLst>
              <a:gd name="adj1" fmla="val -43574"/>
              <a:gd name="adj2" fmla="val -58652"/>
            </a:avLst>
          </a:prstGeom>
          <a:solidFill>
            <a:srgbClr val="1cade4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развитие концентрации вним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0"/>
          <p:cNvSpPr/>
          <p:nvPr/>
        </p:nvSpPr>
        <p:spPr>
          <a:xfrm>
            <a:off x="5580000" y="404640"/>
            <a:ext cx="3384720" cy="1800360"/>
          </a:xfrm>
          <a:prstGeom prst="cloudCallout">
            <a:avLst>
              <a:gd name="adj1" fmla="val 40055"/>
              <a:gd name="adj2" fmla="val 51939"/>
            </a:avLst>
          </a:prstGeom>
          <a:solidFill>
            <a:srgbClr val="1cade4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ля снятия агрессивности и импульс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Объект 1" descr=""/>
          <p:cNvPicPr/>
          <p:nvPr/>
        </p:nvPicPr>
        <p:blipFill>
          <a:blip r:embed="rId1"/>
          <a:stretch/>
        </p:blipFill>
        <p:spPr>
          <a:xfrm>
            <a:off x="1052640" y="1395360"/>
            <a:ext cx="734760" cy="488880"/>
          </a:xfrm>
          <a:prstGeom prst="rect">
            <a:avLst/>
          </a:prstGeom>
          <a:ln w="0">
            <a:noFill/>
          </a:ln>
        </p:spPr>
      </p:pic>
      <p:pic>
        <p:nvPicPr>
          <p:cNvPr id="242" name="Объект 2" descr=""/>
          <p:cNvPicPr/>
          <p:nvPr/>
        </p:nvPicPr>
        <p:blipFill>
          <a:blip r:embed="rId2"/>
          <a:stretch/>
        </p:blipFill>
        <p:spPr>
          <a:xfrm>
            <a:off x="2241720" y="1098720"/>
            <a:ext cx="725400" cy="48888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5" descr=""/>
          <p:cNvPicPr/>
          <p:nvPr/>
        </p:nvPicPr>
        <p:blipFill>
          <a:blip r:embed="rId3"/>
          <a:stretch/>
        </p:blipFill>
        <p:spPr>
          <a:xfrm>
            <a:off x="219240" y="243000"/>
            <a:ext cx="3136680" cy="176364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7" descr=""/>
          <p:cNvPicPr/>
          <p:nvPr/>
        </p:nvPicPr>
        <p:blipFill>
          <a:blip r:embed="rId4"/>
          <a:stretch/>
        </p:blipFill>
        <p:spPr>
          <a:xfrm>
            <a:off x="3467160" y="243000"/>
            <a:ext cx="3071880" cy="230508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8" descr=""/>
          <p:cNvPicPr/>
          <p:nvPr/>
        </p:nvPicPr>
        <p:blipFill>
          <a:blip r:embed="rId5"/>
          <a:stretch/>
        </p:blipFill>
        <p:spPr>
          <a:xfrm>
            <a:off x="716040" y="2133720"/>
            <a:ext cx="3051000" cy="222876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10" descr=""/>
          <p:cNvPicPr/>
          <p:nvPr/>
        </p:nvPicPr>
        <p:blipFill>
          <a:blip r:embed="rId6"/>
          <a:stretch/>
        </p:blipFill>
        <p:spPr>
          <a:xfrm>
            <a:off x="3552840" y="3573360"/>
            <a:ext cx="5403960" cy="303840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1" descr=""/>
          <p:cNvPicPr/>
          <p:nvPr/>
        </p:nvPicPr>
        <p:blipFill>
          <a:blip r:embed="rId7"/>
          <a:stretch/>
        </p:blipFill>
        <p:spPr>
          <a:xfrm>
            <a:off x="244440" y="4417920"/>
            <a:ext cx="3803760" cy="214020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12" descr=""/>
          <p:cNvPicPr/>
          <p:nvPr/>
        </p:nvPicPr>
        <p:blipFill>
          <a:blip r:embed="rId8"/>
          <a:stretch/>
        </p:blipFill>
        <p:spPr>
          <a:xfrm>
            <a:off x="6248520" y="1339920"/>
            <a:ext cx="2679480" cy="2114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820872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262626"/>
                </a:solidFill>
                <a:latin typeface="Times New Roman"/>
              </a:rPr>
              <a:t>Проблему гиперактивности невозможно решить волевыми усилиями, авторитарными указаниями и убеждениями.</a:t>
            </a:r>
            <a:br>
              <a:rPr sz="3200"/>
            </a:br>
            <a:r>
              <a:rPr b="0" lang="ru-RU" sz="3200" spc="-1" strike="noStrike">
                <a:solidFill>
                  <a:srgbClr val="26262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262626"/>
                </a:solidFill>
                <a:latin typeface="Times New Roman"/>
              </a:rPr>
              <a:t>Гиперактивный ребенок имеет нейрофизиологические проблемы, справиться с которыми он самостоятельно не может.</a:t>
            </a:r>
            <a:br>
              <a:rPr sz="3200"/>
            </a:br>
            <a:r>
              <a:rPr b="0" lang="ru-RU" sz="3200" spc="-1" strike="noStrike">
                <a:solidFill>
                  <a:srgbClr val="26262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262626"/>
                </a:solidFill>
                <a:latin typeface="Times New Roman"/>
              </a:rPr>
              <a:t>Дисциплинарные меры воздействия в виде постоянных наказаний, замечаний, окриков, нотаций не приведут к улучшению поведения ребенка, а скорее ухудшат его.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50" name="Picture 5" descr="J0254500"/>
          <p:cNvPicPr/>
          <p:nvPr/>
        </p:nvPicPr>
        <p:blipFill>
          <a:blip r:embed="rId1"/>
          <a:stretch/>
        </p:blipFill>
        <p:spPr>
          <a:xfrm>
            <a:off x="611280" y="18900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Причины гиперактивност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468360" y="795240"/>
          <a:ext cx="8567640" cy="6039000"/>
        </p:xfrm>
        <a:graphic>
          <a:graphicData uri="http://schemas.openxmlformats.org/drawingml/2006/table">
            <a:tbl>
              <a:tblPr/>
              <a:tblGrid>
                <a:gridCol w="3024000"/>
                <a:gridCol w="5543640"/>
              </a:tblGrid>
              <a:tr h="2836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натальная патолог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сикозы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стрение хронических заболеваний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матер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заболева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 в области живот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логическая несовместимость по резус-фактору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пытки прервать беременност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 алкоголя и кур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ложнения при рода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муляция родовой деятельност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авильное положение плод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фикси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енние кровоизлия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ждевременные, скоротечные или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яжные р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81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социаль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е причин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адекватный стиль воспитания в семь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травмы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желанный ребен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8"/>
          <p:cNvSpPr/>
          <p:nvPr/>
        </p:nvSpPr>
        <p:spPr>
          <a:xfrm>
            <a:off x="2627280" y="404640"/>
            <a:ext cx="4176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Monotype Corsiva"/>
              </a:rPr>
              <a:t>Формы СДВ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9"/>
          <p:cNvSpPr/>
          <p:nvPr/>
        </p:nvSpPr>
        <p:spPr>
          <a:xfrm flipH="1">
            <a:off x="2410920" y="1700280"/>
            <a:ext cx="792360" cy="64908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0"/>
          <p:cNvSpPr/>
          <p:nvPr/>
        </p:nvSpPr>
        <p:spPr>
          <a:xfrm>
            <a:off x="4643280" y="1700280"/>
            <a:ext cx="0" cy="273672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1"/>
          <p:cNvSpPr/>
          <p:nvPr/>
        </p:nvSpPr>
        <p:spPr>
          <a:xfrm>
            <a:off x="6012000" y="1628640"/>
            <a:ext cx="647640" cy="86544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611280" y="2492280"/>
            <a:ext cx="3313080" cy="158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иперакти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чет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наруш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ним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3132000" y="4581360"/>
            <a:ext cx="3313080" cy="158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облад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иперактив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4"/>
          <p:cNvSpPr/>
          <p:nvPr/>
        </p:nvSpPr>
        <p:spPr>
          <a:xfrm>
            <a:off x="5580000" y="2565360"/>
            <a:ext cx="3313080" cy="158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облад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рушение вним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9528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611280" y="1197000"/>
            <a:ext cx="8137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о встает со своего места во время уроков или других ситуациях, когда нужно оставаться на ме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о наблюдаются беспокойные движения в кистях и стопах, вертится, сидя на стул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о проявляет бесцельную двигательную активность: бегает, пытается куда-то залезть в ситуациях, когда это неприемлим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о не может тихо, спокойно играть или заниматься чем-либо на досуг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о находится в постоянном движении и ведет себя словно «управляемый двигателем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чень говорли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539640" y="404640"/>
            <a:ext cx="813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imes New Roman"/>
              </a:rPr>
              <a:t>Гиперактив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9" descr="grez1"/>
          <p:cNvPicPr/>
          <p:nvPr/>
        </p:nvPicPr>
        <p:blipFill>
          <a:blip r:embed="rId2"/>
          <a:stretch/>
        </p:blipFill>
        <p:spPr>
          <a:xfrm>
            <a:off x="7740720" y="2133720"/>
            <a:ext cx="18381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9528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5"/>
          <p:cNvSpPr/>
          <p:nvPr/>
        </p:nvSpPr>
        <p:spPr>
          <a:xfrm>
            <a:off x="539640" y="634680"/>
            <a:ext cx="828036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47840"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последователен, ему трудно долго удерживать вним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большим энтузиазмом берется за задание, но так и не заканчивает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ычно избегает, не любит либо сопротивляется вовлечению в выполнение заданий, которые требуют длительного сохранения умственного усилия (домашнее задание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о теряет ве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бегает скучных и требующих усилий   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о бывает забывчи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егко отвлекается на посторонние стимул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ытывает трудности в организаци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2627280" y="981000"/>
            <a:ext cx="489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imes New Roman"/>
              </a:rPr>
              <a:t>Дефицит внимания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69" name="Picture 15" descr="girl"/>
          <p:cNvPicPr/>
          <p:nvPr/>
        </p:nvPicPr>
        <p:blipFill>
          <a:blip r:embed="rId2"/>
          <a:stretch/>
        </p:blipFill>
        <p:spPr>
          <a:xfrm>
            <a:off x="7380360" y="4005360"/>
            <a:ext cx="1485720" cy="1549440"/>
          </a:xfrm>
          <a:prstGeom prst="rect">
            <a:avLst/>
          </a:prstGeom>
          <a:ln w="38160">
            <a:solidFill>
              <a:srgbClr val="00ff00"/>
            </a:solidFill>
            <a:miter/>
          </a:ln>
          <a:effectLst>
            <a:outerShdw dist="17819" dir="2700000" blurRad="0" rotWithShape="0">
              <a:srgbClr val="1485a4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6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9528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5"/>
          <p:cNvSpPr/>
          <p:nvPr/>
        </p:nvSpPr>
        <p:spPr>
          <a:xfrm>
            <a:off x="611280" y="981000"/>
            <a:ext cx="8281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чинает отвечать, не дослушав вопро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способен дождаться своей очереди, часто вмешивается, преры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может контролировать и регулировать свои действ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ведение слабоуправляемо правил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выполнении заданий ведет себя по-разному и показывает разные результаты (на некоторых занятиях ребенок спокоен, на других - не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1116000" y="189000"/>
            <a:ext cx="74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imes New Roman"/>
              </a:rPr>
              <a:t>Импульсив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8" descr="131e5c80"/>
          <p:cNvPicPr/>
          <p:nvPr/>
        </p:nvPicPr>
        <p:blipFill>
          <a:blip r:embed="rId2"/>
          <a:stretch/>
        </p:blipFill>
        <p:spPr>
          <a:xfrm>
            <a:off x="7451640" y="5445000"/>
            <a:ext cx="147492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0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5"/>
          <p:cNvSpPr/>
          <p:nvPr/>
        </p:nvSpPr>
        <p:spPr>
          <a:xfrm>
            <a:off x="2195640" y="478080"/>
            <a:ext cx="6337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статистике, синдром нарушения внимания с гиперактивностью большей частью встречае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Times New Roman"/>
              </a:rPr>
              <a:t>у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990000"/>
                </a:solidFill>
                <a:latin typeface="Times New Roman"/>
              </a:rPr>
              <a:t>светловолосых и голубоглазых дет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Times New Roman"/>
              </a:rPr>
              <a:t>и почти в пять раз чаще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Times New Roman"/>
              </a:rPr>
              <a:t>у мальчиков, чем у девочек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чему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395280" cy="6858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J0308972"/>
          <p:cNvPicPr/>
          <p:nvPr/>
        </p:nvPicPr>
        <p:blipFill>
          <a:blip r:embed="rId2"/>
          <a:stretch/>
        </p:blipFill>
        <p:spPr>
          <a:xfrm>
            <a:off x="539640" y="260280"/>
            <a:ext cx="1528920" cy="2305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9" descr="avb175"/>
          <p:cNvPicPr/>
          <p:nvPr/>
        </p:nvPicPr>
        <p:blipFill>
          <a:blip r:embed="rId3"/>
          <a:stretch/>
        </p:blipFill>
        <p:spPr>
          <a:xfrm>
            <a:off x="7399440" y="4869000"/>
            <a:ext cx="17445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7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06:54:35Z</dcterms:created>
  <dc:creator>comp</dc:creator>
  <dc:description/>
  <dc:language>en-US</dc:language>
  <cp:lastModifiedBy>HP</cp:lastModifiedBy>
  <dcterms:modified xsi:type="dcterms:W3CDTF">2023-09-11T10:58:34Z</dcterms:modified>
  <cp:revision>37</cp:revision>
  <dc:subject/>
  <dc:title>Слайд 1</dc:title>
</cp:coreProperties>
</file>