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252B-245F-425F-A144-E2121C2A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97D5-CFA7-4804-8216-E3D6D6C2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A634-3C3C-4109-8038-54D3F838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EF4F-219F-4A38-8E80-B8E1D889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DCEB-BB5A-4411-8D9B-47D4D7C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17140-C55B-4C73-AF8F-3DD96729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20F60-0AC1-48EF-A4BA-9633E10F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E2F65-6E7B-4479-A47C-674611C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48A50-F805-4B7C-A38D-C40997A7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B6793-1ACC-4A4D-BCC2-918B73B3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6E22C-5937-4D3F-975E-7C4BFD0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55DB-030A-417D-8B42-C1467712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5AF3-CCB8-4858-9917-618F665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23B8E-FF78-44A0-9D5B-B6F35E8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5542A-ACB1-432A-842C-091CF50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76CE5-B37D-449B-8920-61CD041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124C1-6942-4DE9-8E53-4E83E69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BC17-37A2-475A-9C52-3FD3255E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90CE-8343-4E8D-B5F7-5487B11A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E890-1A03-4D5A-BD49-959E372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AC35-2758-425C-AB23-5F738C4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11C5-4701-4675-B2AE-1DE2568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3F69-D45A-44A5-AD37-440C3C0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3F00-55CD-466B-8C18-9ED9423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493040" y="2992320"/>
            <a:ext cx="1334520" cy="2187720"/>
            <a:chOff x="7493040" y="2992320"/>
            <a:chExt cx="1334520" cy="2187720"/>
          </a:xfrm>
        </p:grpSpPr>
        <p:sp>
          <p:nvSpPr>
            <p:cNvPr id="2" name=""/>
            <p:cNvSpPr/>
            <p:nvPr/>
          </p:nvSpPr>
          <p:spPr>
            <a:xfrm>
              <a:off x="7493040" y="299232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776360" y="299232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60400" y="2992320"/>
              <a:ext cx="19944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493040" y="3276720"/>
              <a:ext cx="19980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76360" y="3276720"/>
              <a:ext cx="19980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60400" y="3276720"/>
              <a:ext cx="199440" cy="1998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44080" y="3276720"/>
              <a:ext cx="199800" cy="199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93040" y="356076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76360" y="3560760"/>
              <a:ext cx="199800" cy="200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60400" y="3560760"/>
              <a:ext cx="199440" cy="200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44080" y="3560760"/>
              <a:ext cx="199800" cy="200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27760" y="356076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493040" y="3843360"/>
              <a:ext cx="199800" cy="201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76360" y="384336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60400" y="3843360"/>
              <a:ext cx="19944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344080" y="3843360"/>
              <a:ext cx="19980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93040" y="412740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76360" y="4127400"/>
              <a:ext cx="19980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60400" y="4127400"/>
              <a:ext cx="19944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344080" y="4127400"/>
              <a:ext cx="199800" cy="2016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27760" y="4127400"/>
              <a:ext cx="199800" cy="20160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93040" y="4411800"/>
              <a:ext cx="199800" cy="199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76360" y="4411800"/>
              <a:ext cx="199800" cy="1998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060400" y="4411800"/>
              <a:ext cx="199440" cy="19980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44080" y="4411800"/>
              <a:ext cx="199800" cy="19980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93040" y="469584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776360" y="4695840"/>
              <a:ext cx="199800" cy="2001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60400" y="4695840"/>
              <a:ext cx="19944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344080" y="469584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776360" y="497988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44080" y="4979880"/>
              <a:ext cx="199800" cy="2001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76F-9204-4F7F-9E95-1A7603B18E6B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dt" idx="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153280" y="152280"/>
            <a:ext cx="790200" cy="1293840"/>
            <a:chOff x="8153280" y="152280"/>
            <a:chExt cx="790200" cy="1293840"/>
          </a:xfrm>
        </p:grpSpPr>
        <p:sp>
          <p:nvSpPr>
            <p:cNvPr id="77" name=""/>
            <p:cNvSpPr/>
            <p:nvPr/>
          </p:nvSpPr>
          <p:spPr>
            <a:xfrm>
              <a:off x="8153280" y="152280"/>
              <a:ext cx="1177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21760" y="152280"/>
              <a:ext cx="1159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90240" y="152280"/>
              <a:ext cx="11448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3280" y="320760"/>
              <a:ext cx="11772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321760" y="320760"/>
              <a:ext cx="11592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90240" y="320760"/>
              <a:ext cx="114480" cy="114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57280" y="320760"/>
              <a:ext cx="114480" cy="11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3280" y="488880"/>
              <a:ext cx="117720" cy="114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21760" y="488880"/>
              <a:ext cx="115920" cy="114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90240" y="488880"/>
              <a:ext cx="114480" cy="114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57280" y="488880"/>
              <a:ext cx="114480" cy="114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26120" y="488880"/>
              <a:ext cx="117360" cy="1144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53280" y="655560"/>
              <a:ext cx="117720" cy="117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1760" y="655560"/>
              <a:ext cx="115920" cy="117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90240" y="655560"/>
              <a:ext cx="114480" cy="1177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7280" y="655560"/>
              <a:ext cx="114480" cy="1177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3280" y="824040"/>
              <a:ext cx="117720" cy="117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1760" y="824040"/>
              <a:ext cx="115920" cy="1173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90240" y="824040"/>
              <a:ext cx="114480" cy="1173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57280" y="824040"/>
              <a:ext cx="114480" cy="11736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26120" y="824040"/>
              <a:ext cx="11736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53280" y="992160"/>
              <a:ext cx="117720" cy="1159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21760" y="992160"/>
              <a:ext cx="115920" cy="1159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0240" y="992160"/>
              <a:ext cx="114480" cy="11592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57280" y="992160"/>
              <a:ext cx="114480" cy="11592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3280" y="1160640"/>
              <a:ext cx="117720" cy="1126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21760" y="1160640"/>
              <a:ext cx="115920" cy="112680"/>
            </a:xfrm>
            <a:prstGeom prst="rect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0240" y="1160640"/>
              <a:ext cx="114480" cy="11268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57280" y="1160640"/>
              <a:ext cx="114480" cy="11268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760" y="1328760"/>
              <a:ext cx="11592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7280" y="1328760"/>
              <a:ext cx="114480" cy="117360"/>
            </a:xfrm>
            <a:prstGeom prst="rect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B838-4014-4984-8963-15A4DE993894}" type="slidenum">
              <a:rPr b="0" lang="ru-RU" sz="1000" spc="-1" strike="noStrike">
                <a:solidFill>
                  <a:srgbClr val="ffffff"/>
                </a:solidFill>
                <a:latin typeface="DejaVu Serif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838080"/>
            <a:ext cx="6934320" cy="155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5192b"/>
                </a:solidFill>
                <a:latin typeface="Arial"/>
              </a:rPr>
              <a:t>Давайте  знакомиться. Физика и хим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048120"/>
            <a:ext cx="4507200" cy="1751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5192b"/>
                </a:solidFill>
                <a:latin typeface="Arial"/>
              </a:rPr>
              <a:t>Работа учащихся 10б  класса специальной (коррекционной) общеобразовательной школы-интерната </a:t>
            </a:r>
            <a:r>
              <a:rPr b="0" lang="en-US" sz="2400" spc="-1" strike="noStrike">
                <a:solidFill>
                  <a:srgbClr val="15192b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15192b"/>
                </a:solidFill>
                <a:latin typeface="Arial"/>
              </a:rPr>
              <a:t>вида № 65 ЮВОУО ГОУ г. Москвы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cccff"/>
                </a:solidFill>
                <a:latin typeface="Arial"/>
              </a:rPr>
              <a:t>Содержание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295280"/>
            <a:ext cx="822960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Знакомство с физикой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1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2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3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Знакомство с химией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ccccff"/>
                </a:solidFill>
                <a:uFillTx/>
                <a:latin typeface="Arial"/>
              </a:rPr>
              <a:t>Опыт № 4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ыт № 5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вторы </a:t>
            </a: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00800" y="1752480"/>
            <a:ext cx="18288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762120"/>
            <a:ext cx="22860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886200"/>
            <a:ext cx="20574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809880"/>
            <a:ext cx="175284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133720"/>
            <a:ext cx="25146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развитие реч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52880"/>
            <a:ext cx="114300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ОБЖ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4952880"/>
            <a:ext cx="2286000" cy="5335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447920"/>
            <a:ext cx="2133720" cy="4597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ejaVu Sans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743200"/>
            <a:ext cx="304812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речь и куль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5943600"/>
            <a:ext cx="2590920" cy="53352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6019920"/>
            <a:ext cx="213372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рисование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2819520"/>
            <a:ext cx="2667240" cy="53316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физкультура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838080"/>
            <a:ext cx="2286000" cy="457200"/>
          </a:xfrm>
          <a:prstGeom prst="rect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DejaVu Sans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8610480" cy="581400"/>
          </a:xfrm>
          <a:prstGeom prst="rect">
            <a:avLst/>
          </a:prstGeom>
          <a:solidFill>
            <a:srgbClr val="151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Какие ты изучаешь предметы в школе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52520" y="5715000"/>
            <a:ext cx="111924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1219320" cy="1198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2666880"/>
            <a:ext cx="1143000" cy="92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86600" y="600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105520" y="1523880"/>
            <a:ext cx="1066680" cy="1008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1017720" cy="1066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rcRect l="8571" t="3709" r="35713" b="67491"/>
          <a:stretch/>
        </p:blipFill>
        <p:spPr>
          <a:xfrm>
            <a:off x="5715000" y="5791320"/>
            <a:ext cx="990720" cy="711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rcRect l="18004" t="17195" r="19108" b="20854"/>
          <a:stretch/>
        </p:blipFill>
        <p:spPr>
          <a:xfrm>
            <a:off x="2743200" y="3505320"/>
            <a:ext cx="963720" cy="990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>
            <a:lum bright="-6000"/>
          </a:blip>
          <a:srcRect l="0" t="7712" r="9265" b="5771"/>
          <a:stretch/>
        </p:blipFill>
        <p:spPr>
          <a:xfrm>
            <a:off x="0" y="1371600"/>
            <a:ext cx="11174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rcRect l="12861" t="13566" r="16454" b="17200"/>
          <a:stretch/>
        </p:blipFill>
        <p:spPr>
          <a:xfrm>
            <a:off x="914400" y="1905120"/>
            <a:ext cx="83808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1"/>
          <a:stretch/>
        </p:blipFill>
        <p:spPr>
          <a:xfrm>
            <a:off x="6934320" y="4343400"/>
            <a:ext cx="1447560" cy="14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7" dur="indefinite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dur="indefinite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" dur="indefinite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dur="indefinite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8" dur="indefinite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dur="indefinite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" dur="indefinite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dur="indefinite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4" dur="indefinite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dur="indefinite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2" dur="indefinite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dur="indefinite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80" dur="indefinite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dur="indefinite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88" dur="indefinite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dur="indefinite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6" dur="indefinite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dur="indefinite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4" dur="indefinite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2280" y="3816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8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Есть ещё много разных предметов. 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98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Познакомимся с предметами</a:t>
            </a:r>
            <a:endParaRPr b="0" lang="en-US" sz="3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"/>
          <p:cNvSpPr/>
          <p:nvPr/>
        </p:nvSpPr>
        <p:spPr>
          <a:xfrm>
            <a:off x="2128680" y="2057400"/>
            <a:ext cx="59436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  <a:ea typeface="DejaVu Sans"/>
              </a:rPr>
              <a:t>физика и  химия.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DejaVu Sans"/>
              </a:rPr>
              <a:t>Для просмотра полной версии презентации перейдите по ссылке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DejaVu Sans"/>
              </a:rPr>
              <a:t>https://docs.google.com/presentation/d/1-DAos6TxckzCafE-UO8rBz4kpohRRbFY/edit?usp=sharing&amp;ouid=102086821655966240235&amp;rtpof=true&amp;sd=true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7888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dur="indefinite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dur="indefinite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</cp:lastModifiedBy>
  <dcterms:modified xsi:type="dcterms:W3CDTF">2023-09-12T16:26:0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