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C6C7-C97C-467C-A82D-3729F483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FFE2-F1E6-41A1-9CE7-B035B922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A6AD-C5EF-4A51-9946-617A58FD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03B4-E283-4798-B3C0-6C4467E1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19757-5DE6-4C32-ADBF-73ABA4B5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5A8EA-2484-4DEE-A7F8-E3B27BAA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FD3E2-195F-4E12-B560-8D09E4C1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E8A52-E5FA-4333-B403-C01C34A6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14D3E-9068-492E-AAE2-2DC30647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E15CC-7989-4237-A638-9046AC07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D6D93-D1C6-4839-AC28-9109D68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F5C5-287E-459E-BEB1-91B1B6DB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9E84E-450F-4B93-AA3C-F925153A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F6CEC-8AF8-4DBE-98A8-B4E750AC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F59EA-E2C6-49C4-A076-F22476FC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2312-FCEF-4BD4-96A8-F5E6CAF2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31059-15B7-4B75-9B15-5FAE080D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D512-D67D-4AC0-B952-100EC2C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D6AA-3DCA-4A78-9108-DA51EDB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0859-F532-48A3-A3C4-1897288B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48BA-2A60-46F7-8636-AB080A9E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A581-DAE5-48BA-80BD-63A76D87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1870-0615-4040-86A2-4A8BD868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9819-1B84-457C-A5C6-A295299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493040" y="2992320"/>
            <a:ext cx="1334520" cy="2187720"/>
            <a:chOff x="7493040" y="2992320"/>
            <a:chExt cx="1334520" cy="2187720"/>
          </a:xfrm>
        </p:grpSpPr>
        <p:sp>
          <p:nvSpPr>
            <p:cNvPr id="2" name=""/>
            <p:cNvSpPr/>
            <p:nvPr/>
          </p:nvSpPr>
          <p:spPr>
            <a:xfrm>
              <a:off x="7493040" y="2992320"/>
              <a:ext cx="19980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776360" y="2992320"/>
              <a:ext cx="19980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060400" y="2992320"/>
              <a:ext cx="19944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493040" y="3276720"/>
              <a:ext cx="199800" cy="199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76360" y="3276720"/>
              <a:ext cx="199800" cy="199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060400" y="3276720"/>
              <a:ext cx="199440" cy="199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44080" y="3276720"/>
              <a:ext cx="199800" cy="199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93040" y="3560760"/>
              <a:ext cx="19980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76360" y="3560760"/>
              <a:ext cx="19980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60400" y="3560760"/>
              <a:ext cx="199440" cy="200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44080" y="3560760"/>
              <a:ext cx="199800" cy="200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27760" y="3560760"/>
              <a:ext cx="199800" cy="2001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493040" y="3843360"/>
              <a:ext cx="199800" cy="20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76360" y="3843360"/>
              <a:ext cx="19980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60400" y="3843360"/>
              <a:ext cx="19944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44080" y="3843360"/>
              <a:ext cx="199800" cy="2016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93040" y="4127400"/>
              <a:ext cx="19980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776360" y="4127400"/>
              <a:ext cx="19980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60400" y="4127400"/>
              <a:ext cx="199440" cy="2016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344080" y="4127400"/>
              <a:ext cx="199800" cy="2016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27760" y="4127400"/>
              <a:ext cx="199800" cy="20160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493040" y="4411800"/>
              <a:ext cx="199800" cy="199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776360" y="4411800"/>
              <a:ext cx="199800" cy="1998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060400" y="4411800"/>
              <a:ext cx="199440" cy="1998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44080" y="4411800"/>
              <a:ext cx="199800" cy="19980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493040" y="4695840"/>
              <a:ext cx="199800" cy="2001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776360" y="4695840"/>
              <a:ext cx="199800" cy="2001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60400" y="4695840"/>
              <a:ext cx="199440" cy="2001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344080" y="4695840"/>
              <a:ext cx="199800" cy="2001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776360" y="4979880"/>
              <a:ext cx="199800" cy="2001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44080" y="4979880"/>
              <a:ext cx="199800" cy="2001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3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46BC-BBD5-4CB9-8764-AB87506599F6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 type="dt" idx="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53280" y="152280"/>
            <a:ext cx="790200" cy="1293840"/>
            <a:chOff x="8153280" y="152280"/>
            <a:chExt cx="790200" cy="1293840"/>
          </a:xfrm>
        </p:grpSpPr>
        <p:sp>
          <p:nvSpPr>
            <p:cNvPr id="77" name=""/>
            <p:cNvSpPr/>
            <p:nvPr/>
          </p:nvSpPr>
          <p:spPr>
            <a:xfrm>
              <a:off x="8153280" y="152280"/>
              <a:ext cx="117720" cy="117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21760" y="152280"/>
              <a:ext cx="115920" cy="117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90240" y="152280"/>
              <a:ext cx="114480" cy="117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53280" y="320760"/>
              <a:ext cx="117720" cy="11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21760" y="320760"/>
              <a:ext cx="115920" cy="11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90240" y="320760"/>
              <a:ext cx="114480" cy="11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57280" y="320760"/>
              <a:ext cx="114480" cy="11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53280" y="488880"/>
              <a:ext cx="117720" cy="114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21760" y="488880"/>
              <a:ext cx="115920" cy="114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490240" y="488880"/>
              <a:ext cx="114480" cy="114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57280" y="488880"/>
              <a:ext cx="114480" cy="114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26120" y="488880"/>
              <a:ext cx="117360" cy="11448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53280" y="655560"/>
              <a:ext cx="117720" cy="117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21760" y="655560"/>
              <a:ext cx="115920" cy="117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90240" y="655560"/>
              <a:ext cx="114480" cy="117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7280" y="655560"/>
              <a:ext cx="114480" cy="11772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3280" y="824040"/>
              <a:ext cx="117720" cy="117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21760" y="824040"/>
              <a:ext cx="115920" cy="117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90240" y="824040"/>
              <a:ext cx="114480" cy="1173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57280" y="824040"/>
              <a:ext cx="114480" cy="1173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6120" y="824040"/>
              <a:ext cx="117360" cy="1173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992160"/>
              <a:ext cx="117720" cy="1159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760" y="992160"/>
              <a:ext cx="115920" cy="11592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0240" y="992160"/>
              <a:ext cx="114480" cy="11592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992160"/>
              <a:ext cx="114480" cy="11592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53280" y="1160640"/>
              <a:ext cx="117720" cy="11268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21760" y="1160640"/>
              <a:ext cx="115920" cy="11268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0240" y="1160640"/>
              <a:ext cx="114480" cy="11268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57280" y="1160640"/>
              <a:ext cx="114480" cy="11268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21760" y="1328760"/>
              <a:ext cx="115920" cy="1173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7280" y="1328760"/>
              <a:ext cx="114480" cy="1173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93D8-0C76-4E5C-8FED-3005404C5893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838080"/>
            <a:ext cx="6934320" cy="155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192b"/>
                </a:solidFill>
                <a:latin typeface="Arial"/>
              </a:rPr>
              <a:t>Давайте  знакомиться. Физика и хим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048120"/>
            <a:ext cx="4507200" cy="1751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92b"/>
                </a:solidFill>
                <a:latin typeface="Arial"/>
              </a:rPr>
              <a:t>Работа учащихся 10б  класса специальной (коррекционной) общеобразовательной школы-интерната </a:t>
            </a:r>
            <a:r>
              <a:rPr b="0" lang="en-US" sz="2400" spc="-1" strike="noStrike">
                <a:solidFill>
                  <a:srgbClr val="15192b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15192b"/>
                </a:solidFill>
                <a:latin typeface="Arial"/>
              </a:rPr>
              <a:t>вида № 65 ЮВОУО ГОУ г. Москвы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ff"/>
                </a:solidFill>
                <a:latin typeface="Arial"/>
              </a:rPr>
              <a:t>Содержание</a:t>
            </a:r>
            <a:endParaRPr b="0" lang="en-US" sz="3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295280"/>
            <a:ext cx="822960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Знакомство с физикой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Опыт № 1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Опыт № 2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Опыт № 3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Знакомство с химией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Опыт № 4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ыт № 5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вторы 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00800" y="1752480"/>
            <a:ext cx="18288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биолог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762120"/>
            <a:ext cx="22860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886200"/>
            <a:ext cx="20574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809880"/>
            <a:ext cx="1752840" cy="45720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133720"/>
            <a:ext cx="25146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развитие реч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952880"/>
            <a:ext cx="11430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ОБЖ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4952880"/>
            <a:ext cx="2286000" cy="5335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447920"/>
            <a:ext cx="213372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743200"/>
            <a:ext cx="3048120" cy="45720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речь и культу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5943600"/>
            <a:ext cx="2590920" cy="5335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6019920"/>
            <a:ext cx="2133720" cy="45720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рисование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819520"/>
            <a:ext cx="2667240" cy="53316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физкульту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838080"/>
            <a:ext cx="2286000" cy="45720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8610480" cy="581400"/>
          </a:xfrm>
          <a:prstGeom prst="rect">
            <a:avLst/>
          </a:prstGeom>
          <a:solidFill>
            <a:srgbClr val="151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Какие ты изучаешь предметы в школе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52520" y="5715000"/>
            <a:ext cx="111924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1219320" cy="1198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43800" y="2666880"/>
            <a:ext cx="1143000" cy="92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86600" y="600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105520" y="1523880"/>
            <a:ext cx="1066680" cy="1008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28600" y="4648320"/>
            <a:ext cx="1017720" cy="1066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rcRect l="8571" t="3709" r="35713" b="67491"/>
          <a:stretch/>
        </p:blipFill>
        <p:spPr>
          <a:xfrm>
            <a:off x="5715000" y="5791320"/>
            <a:ext cx="990720" cy="711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rcRect l="18004" t="17195" r="19108" b="20854"/>
          <a:stretch/>
        </p:blipFill>
        <p:spPr>
          <a:xfrm>
            <a:off x="2743200" y="3505320"/>
            <a:ext cx="963720" cy="99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>
            <a:lum bright="-6000"/>
          </a:blip>
          <a:srcRect l="0" t="7712" r="9265" b="5771"/>
          <a:stretch/>
        </p:blipFill>
        <p:spPr>
          <a:xfrm>
            <a:off x="0" y="1371600"/>
            <a:ext cx="111744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rcRect l="12861" t="13566" r="16454" b="17200"/>
          <a:stretch/>
        </p:blipFill>
        <p:spPr>
          <a:xfrm>
            <a:off x="914400" y="1905120"/>
            <a:ext cx="838080" cy="799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6934320" y="4343400"/>
            <a:ext cx="1447560" cy="14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7" dur="indefinite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dur="indefinite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" dur="indefinite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dur="indefinite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8" dur="indefinite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dur="indefinite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6" dur="indefinite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dur="indefinite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4" dur="indefinite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dur="indefinite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2" dur="indefinite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dur="indefinite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0" dur="indefinite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dur="indefinite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8" dur="indefinite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dur="indefinite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96" dur="indefinite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dur="indefinite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04" dur="indefinite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280" y="3816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8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Есть ещё много разных предметов. </a:t>
            </a:r>
            <a:endParaRPr b="0" lang="en-US" sz="39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ознакомимся с предметами</a:t>
            </a:r>
            <a:endParaRPr b="0" lang="en-US" sz="3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9" name=""/>
          <p:cNvSpPr/>
          <p:nvPr/>
        </p:nvSpPr>
        <p:spPr>
          <a:xfrm>
            <a:off x="2128680" y="2057400"/>
            <a:ext cx="59436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  <a:ea typeface="DejaVu Sans"/>
              </a:rPr>
              <a:t>физика и  химия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DejaVu Sans"/>
              </a:rPr>
              <a:t>Для просмотра полной версии презентации перейдите по ссылк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DejaVu Sans"/>
              </a:rPr>
              <a:t>https://docs.google.com/presentation/d/1-DAos6TxckzCafE-UO8rBz4kpohRRbFY/edit?usp=sharing&amp;ouid=102086821655966240235&amp;rtpof=true&amp;sd=true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788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dur="indefinite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ла</dc:creator>
  <dc:description/>
  <dc:language>en-US</dc:language>
  <cp:lastModifiedBy>Алла</cp:lastModifiedBy>
  <dcterms:modified xsi:type="dcterms:W3CDTF">2023-09-12T16:26:0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