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A1D-C802-40D5-B3A7-2DD17F85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FEA-3BF6-4E56-BCDA-B0FA5BC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3D0-8093-4785-9B91-A1276745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DB4-DC8A-42ED-86B7-3033769E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CC9-EC6C-4668-BA96-4E99EA2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2B1-46DA-4B24-BFC5-70ADB40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FFD-8A08-4F27-B379-C25A4303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51E-0531-49AD-B122-6B6A053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41E-B149-4F59-B0C8-E4F88904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BDB-1018-4283-B153-14715E1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AE5-0539-41D9-B8EB-284422A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F19-6A58-4F7D-826B-0E54DC1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9ED-6A79-48EA-9DF6-3C42F6E4D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72,13,&#1057;&#1083;&#1072;&#1081;&#1076; 13" TargetMode="External"/><Relationship Id="rId2" Type="http://schemas.openxmlformats.org/officeDocument/2006/relationships/hyperlink" Target="273,14,&#1057;&#1083;&#1072;&#1081;&#1076; 14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Текстовое поле 6149"/>
          <p:cNvSpPr/>
          <p:nvPr/>
        </p:nvSpPr>
        <p:spPr>
          <a:xfrm>
            <a:off x="971640" y="476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РОК – ИГРА по теме «ЛЕКСИКА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Изображение 6151" descr="10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Угадайте, кто живёт в квартире №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558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Мы – слова из русской речи, из родного язы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Одинаково нас пишут, одинаково нас слыш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Но важна не только внешность, ты до смысла добер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Наподобие начинки смысл запрятан в середи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Схожим лицам вопреки мы по смыслу дале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Я. Козловски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Текстовое поле 30723"/>
          <p:cNvSpPr/>
          <p:nvPr/>
        </p:nvSpPr>
        <p:spPr>
          <a:xfrm>
            <a:off x="1042920" y="486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МОНИ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Замещающее содержимое 30724" descr="s12433"/>
          <p:cNvPicPr/>
          <p:nvPr/>
        </p:nvPicPr>
        <p:blipFill>
          <a:blip r:embed="rId1"/>
          <a:stretch/>
        </p:blipFill>
        <p:spPr>
          <a:xfrm>
            <a:off x="5724360" y="4365720"/>
            <a:ext cx="253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981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 4. </a:t>
            </a:r>
            <a:br>
              <a:rPr sz="2000"/>
            </a:b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льзуясь словарём, определите значения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и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ставьте предложения с этими омоним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Замещающее содержимое 32771" descr="s5582"/>
          <p:cNvPicPr/>
          <p:nvPr/>
        </p:nvPicPr>
        <p:blipFill>
          <a:blip r:embed="rId1"/>
          <a:stretch/>
        </p:blipFill>
        <p:spPr>
          <a:xfrm>
            <a:off x="7524720" y="189000"/>
            <a:ext cx="1381320" cy="1666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2773"/>
          <p:cNvSpPr/>
          <p:nvPr/>
        </p:nvSpPr>
        <p:spPr>
          <a:xfrm>
            <a:off x="179280" y="2129040"/>
            <a:ext cx="8713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вайте заглянем в этот журнал, там много интересн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море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было давно. Пут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щился по пустыне шесть суток. Адски хотелось пить.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дело ему мерещился торчащий из песка водопроводный кран с прохладной,освежающей водой.  Но, увы! Это была то вытянувшаяся кобра, то вообще мираж. Тогда путник встал на колени и, воздев руки к небу, стал взы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Всевышне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, Всемилостивейший! Умоляю, ниспошли мне сюда кран, кран, кран!Кран,кран, кран мне ниспошли, о, Всевышни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лучилось чудо. Сверкнула молния, поднялся столб песка, а когда он рассеялся, несчастный увидел кран. Но, увы, кран был не водопроводный, а подъёмный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И.Верзилин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под самой крышей находится   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мансард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м идёт заседание Общества любителей образного слова. Собрались здесь необыкновенные слова, пламенные и нежные, ласковые и беспощадные, яркие и меткие, живые и вещ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«слова умеют плакать и смеяться, приказывать, молить и заклинать, и, словно сердце, кровью обливаться, и равнодушно холодом дышать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Я. Козловск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это за слов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лова, использованные в переносном знач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их почтальон Печкин принёс   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бандероль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редназначена для любителей поэзии. Это сборник стихов. Давайте откроем 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Мансард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жилое помещение на чердаке под скатом кры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Выгнутая вправо стрелка 38916"/>
          <p:cNvSpPr/>
          <p:nvPr/>
        </p:nvSpPr>
        <p:spPr>
          <a:xfrm>
            <a:off x="324000" y="5013360"/>
            <a:ext cx="1584000" cy="1511280"/>
          </a:xfrm>
          <a:custGeom>
            <a:avLst/>
            <a:gdLst>
              <a:gd name="textAreaLeft" fmla="*/ 212040 w 1584000"/>
              <a:gd name="textAreaRight" fmla="*/ 1371960 w 1584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onsole"/>
              </a:rPr>
              <a:t>Бандеро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мажная обёртка широкой лентой или конвертом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нига в бандерол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2. Небольшое почтовое отправление в бумажной обёртке.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тправить книгу бандероль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Ярлык на товаре в знак уплаты акциза или пошл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Выгнутая вправо стрелка 39939"/>
          <p:cNvSpPr/>
          <p:nvPr/>
        </p:nvSpPr>
        <p:spPr>
          <a:xfrm>
            <a:off x="324000" y="5157720"/>
            <a:ext cx="1800000" cy="151128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Задание 6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йдите слова, использова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3600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лое солнце по небу гуля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нивая туча над лесом скуч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онной берёзе щебечут син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ит ветер игривый средь поля пшениц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А. Громо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34819"/>
          <p:cNvSpPr/>
          <p:nvPr/>
        </p:nvSpPr>
        <p:spPr>
          <a:xfrm>
            <a:off x="4932360" y="1994400"/>
            <a:ext cx="3867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з состав. Он устал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гудка до хво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з состав, полз, и ст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уснул у мо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В. Леви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е 7 (на выбор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оставьте словосочетания, используя в прямом и переносном значениях слов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горький, тяжёлый, холодный, злой, печальный, дыш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пишите сочинение-миниатюру на одну из тем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«Гулял по лесу ветер», «Бежал весёлый ручеёк», «Пришла волшебница – зим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ексическое 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использовать слова в переносном значении, а также  синонимы, антонимы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Замещающее содержимое 35843" descr="122"/>
          <p:cNvPicPr/>
          <p:nvPr/>
        </p:nvPicPr>
        <p:blipFill>
          <a:blip r:embed="rId1"/>
          <a:stretch/>
        </p:blipFill>
        <p:spPr>
          <a:xfrm>
            <a:off x="7667640" y="333360"/>
            <a:ext cx="1079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 на этот вопрос можно найти, разгадав загадку: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мёд, а ко всему лип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35989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истом поле теремок, терем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не низок, не высок, не высок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то, кто в невысоком живё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Текстовое поле 7174"/>
          <p:cNvSpPr/>
          <p:nvPr/>
        </p:nvSpPr>
        <p:spPr>
          <a:xfrm>
            <a:off x="5580000" y="37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Замещающее содержимое 7176" descr="0001-001-Skazka-Teremok 1"/>
          <p:cNvPicPr/>
          <p:nvPr/>
        </p:nvPicPr>
        <p:blipFill>
          <a:blip r:embed="rId1"/>
          <a:stretch/>
        </p:blipFill>
        <p:spPr>
          <a:xfrm>
            <a:off x="4500720" y="2421000"/>
            <a:ext cx="4098600" cy="3074760"/>
          </a:xfrm>
          <a:prstGeom prst="rect">
            <a:avLst/>
          </a:prstGeom>
          <a:ln w="0">
            <a:noFill/>
          </a:ln>
        </p:spPr>
      </p:pic>
      <p:sp>
        <p:nvSpPr>
          <p:cNvPr id="47" name="Текстовое поле 7177"/>
          <p:cNvSpPr/>
          <p:nvPr/>
        </p:nvSpPr>
        <p:spPr>
          <a:xfrm>
            <a:off x="4643280" y="26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549360"/>
            <a:ext cx="3951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ят почту кораб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лёты, поезд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чат во все концы зем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епи, в горы, в г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у в дальние райо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авляют почталь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. Белк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000" y="333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Задания к текст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1.Объясните орфограммы и пунктограм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2.Найдите слова, которые служат для обозначения предметов; признаков,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3.Определите лексическое значение слов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чта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чтальон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 помощью толкового словаря выясните, однозначными или многозначными являются эти сло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Замещающее содержимое 9227" descr="s5582"/>
          <p:cNvPicPr/>
          <p:nvPr/>
        </p:nvPicPr>
        <p:blipFill>
          <a:blip r:embed="rId1"/>
          <a:stretch/>
        </p:blipFill>
        <p:spPr>
          <a:xfrm>
            <a:off x="2050920" y="4292640"/>
            <a:ext cx="2721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адайте, кто это с толстой сумкой на ремне бодр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гает по извилистой тропинке и вот-вот подойдет к теремк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Verdana"/>
              </a:rPr>
              <a:t>Пакет предназначен для вручения словам, близким по значению. Что это за слова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Синони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 стук вышел один из братьев, проживающих в квартире № 1. Зовут его Смелый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дание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Monotype Corsiva"/>
              </a:rPr>
              <a:t>Назовите имена остальных братьев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onotype Corsiva"/>
              </a:rPr>
              <a:t>(Храбрый, Мужественный, Бесстрашный, Отважн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Замещающее содержимое 13315" descr="467"/>
          <p:cNvPicPr/>
          <p:nvPr/>
        </p:nvPicPr>
        <p:blipFill>
          <a:blip r:embed="rId1"/>
          <a:stretch/>
        </p:blipFill>
        <p:spPr>
          <a:xfrm>
            <a:off x="6084720" y="2492280"/>
            <a:ext cx="17211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415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скрыл хозяин квартиры письмо и прочитал его вслу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Monotype Corsiva"/>
              </a:rPr>
              <a:t>«Дорогие синонимы, хотели мы обойтись без вас, но вот что у нас получилось. Помогите на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Замещающее содержимое 17411" descr="s7903"/>
          <p:cNvPicPr/>
          <p:nvPr/>
        </p:nvPicPr>
        <p:blipFill>
          <a:blip r:embed="rId1"/>
          <a:stretch/>
        </p:blipFill>
        <p:spPr>
          <a:xfrm>
            <a:off x="3276720" y="4005360"/>
            <a:ext cx="2278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тредактируйте текст, используя синони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сле гибели Муму Герасим пошёл в родную деревню. Герасим шёл полями и луками. Он шёл всю ночь. Он шел и радостно глядел по сторонам, вдыхая запах родных полей. Когда он пришёл в родную деревню, то стал там прилежно работа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Замещающее содержимое 19459" descr="s7903"/>
          <p:cNvPicPr/>
          <p:nvPr/>
        </p:nvPicPr>
        <p:blipFill>
          <a:blip r:embed="rId1"/>
          <a:stretch/>
        </p:blipFill>
        <p:spPr>
          <a:xfrm>
            <a:off x="6732720" y="476280"/>
            <a:ext cx="18032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мещающее содержимое 21507" descr="16"/>
          <p:cNvPicPr/>
          <p:nvPr/>
        </p:nvPicPr>
        <p:blipFill>
          <a:blip r:embed="rId1"/>
          <a:stretch/>
        </p:blipFill>
        <p:spPr>
          <a:xfrm>
            <a:off x="971640" y="981000"/>
            <a:ext cx="1846080" cy="2033640"/>
          </a:xfrm>
          <a:prstGeom prst="rect">
            <a:avLst/>
          </a:prstGeom>
          <a:ln w="0">
            <a:noFill/>
          </a:ln>
        </p:spPr>
      </p:pic>
      <p:pic>
        <p:nvPicPr>
          <p:cNvPr id="61" name="Замещающее содержимое 21510" descr="34"/>
          <p:cNvPicPr/>
          <p:nvPr/>
        </p:nvPicPr>
        <p:blipFill>
          <a:blip r:embed="rId2"/>
          <a:stretch/>
        </p:blipFill>
        <p:spPr>
          <a:xfrm>
            <a:off x="3995640" y="836640"/>
            <a:ext cx="1928880" cy="2344680"/>
          </a:xfrm>
          <a:prstGeom prst="rect">
            <a:avLst/>
          </a:prstGeom>
          <a:ln w="0">
            <a:noFill/>
          </a:ln>
        </p:spPr>
      </p:pic>
      <p:pic>
        <p:nvPicPr>
          <p:cNvPr id="62" name="Замещающее содержимое 21513" descr="113"/>
          <p:cNvPicPr/>
          <p:nvPr/>
        </p:nvPicPr>
        <p:blipFill>
          <a:blip r:embed="rId3"/>
          <a:stretch/>
        </p:blipFill>
        <p:spPr>
          <a:xfrm>
            <a:off x="3203640" y="3284640"/>
            <a:ext cx="1227240" cy="2408040"/>
          </a:xfrm>
          <a:prstGeom prst="rect">
            <a:avLst/>
          </a:prstGeom>
          <a:ln w="0">
            <a:noFill/>
          </a:ln>
        </p:spPr>
      </p:pic>
      <p:pic>
        <p:nvPicPr>
          <p:cNvPr id="63" name="Замещающее содержимое 21516" descr="114"/>
          <p:cNvPicPr/>
          <p:nvPr/>
        </p:nvPicPr>
        <p:blipFill>
          <a:blip r:embed="rId4"/>
          <a:stretch/>
        </p:blipFill>
        <p:spPr>
          <a:xfrm>
            <a:off x="6227640" y="2781360"/>
            <a:ext cx="1630440" cy="3011400"/>
          </a:xfrm>
          <a:prstGeom prst="rect">
            <a:avLst/>
          </a:prstGeom>
          <a:ln w="0">
            <a:noFill/>
          </a:ln>
        </p:spPr>
      </p:pic>
      <p:sp>
        <p:nvSpPr>
          <p:cNvPr id="64" name="Текстовое поле 21519"/>
          <p:cNvSpPr/>
          <p:nvPr/>
        </p:nvSpPr>
        <p:spPr>
          <a:xfrm>
            <a:off x="324000" y="4869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Помогите братьям прочитать письм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орогие внучата, я не люблю люд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сливых, жадных, ленивых, слаб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упых, лживых, невежествен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льных.  Я хочу, чтобы выросли 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дьми смелыми…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Замещающее содержимое 28675" descr="6"/>
          <p:cNvPicPr/>
          <p:nvPr/>
        </p:nvPicPr>
        <p:blipFill>
          <a:blip r:embed="rId1"/>
          <a:stretch/>
        </p:blipFill>
        <p:spPr>
          <a:xfrm>
            <a:off x="6877080" y="549360"/>
            <a:ext cx="17064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1T09:46:04Z</dcterms:created>
  <dc:creator/>
  <dc:description/>
  <dc:language>en-US</dc:language>
  <cp:lastModifiedBy>Пользователь</cp:lastModifiedBy>
  <dcterms:modified xsi:type="dcterms:W3CDTF">2023-09-11T09:46:1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8EA7F0C31A748B8B0E684A9BA796264_12</vt:lpwstr>
  </property>
  <property fmtid="{D5CDD505-2E9C-101B-9397-08002B2CF9AE}" pid="3" name="KSOProductBuildVer">
    <vt:lpwstr>1049-12.2.0.13201</vt:lpwstr>
  </property>
</Properties>
</file>