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8.jpeg" ContentType="image/jpeg"/>
  <Override PartName="/ppt/media/image27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C47BC-F576-4D75-9224-664182077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9FA57-362C-4347-AC9E-8310668F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F7AAE-2A06-4BE3-8C80-077978460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9851C-E7C8-41B6-B521-78783EA02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10F3D-0D05-48E6-915D-83FADC19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5F6E2-31C1-4949-B48F-8B9D4ADB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5FB49-BBF9-48E2-BB4F-062677BD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4376A-5169-4E1F-8A6D-A98B1D1D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25294-8884-4D95-91F5-FF31D433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78E3A-C2A1-4532-A20A-2693ED7B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587DF-EFD6-4245-BDB9-DFD64F36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DE033-6D14-40FD-9666-D8BE1108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DD5A-CD7C-4B22-9FB7-65E0B72925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hyperlink" Target="http://www.ruprom.ru/files/13_6612/768.jpg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692280"/>
            <a:ext cx="7632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ОБЩЕГО И ПРОФЕССИОНАЛЬНОГО ОБРАЗОВАНИЯ РОСТОВСКОЙ ОБЛАСТ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БЮДЖЕТНОЕ ПРОФЕССИОНАЛЬНО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Е УЧРЕЖД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ОВСКОЙ ОБЛАСТ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АХТИНСКОЕ ПРОФЕССИОНАЛЬНОЕ УЧИЛИЩЕ № 38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1916280"/>
            <a:ext cx="792000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УЧЕБНОЕ ПОСОБИЕ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algn="r">
              <a:lnSpc>
                <a:spcPct val="100000"/>
              </a:lnSpc>
              <a:spcBef>
                <a:spcPts val="9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«Изготовление детского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algn="r">
              <a:lnSpc>
                <a:spcPct val="100000"/>
              </a:lnSpc>
              <a:spcBef>
                <a:spcPts val="9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латья из трикотажа»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algn="r">
              <a:lnSpc>
                <a:spcPct val="100000"/>
              </a:lnSpc>
              <a:spcBef>
                <a:spcPts val="9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algn="r">
              <a:lnSpc>
                <a:spcPct val="10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денко Н.В- мастер производственного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algn="r">
              <a:lnSpc>
                <a:spcPct val="100000"/>
              </a:lnSpc>
              <a:spcBef>
                <a:spcPts val="4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учения первой категории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2686" t="25857" r="65031" b="3096"/>
          <a:stretch/>
        </p:blipFill>
        <p:spPr>
          <a:xfrm rot="20940000">
            <a:off x="893520" y="2495520"/>
            <a:ext cx="2604960" cy="322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готовление ползунков.</a:t>
            </a:r>
            <a:br>
              <a:rPr sz="36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39640" y="1133640"/>
            <a:ext cx="1724040" cy="2295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263680" y="3284640"/>
            <a:ext cx="2251080" cy="3024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6084720" y="1106640"/>
            <a:ext cx="2695680" cy="5209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843280" y="1436760"/>
            <a:ext cx="297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шаговое описание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6836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готовление детской водолазки из трикотажа.</a:t>
            </a:r>
            <a:br>
              <a:rPr sz="36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3052800" cy="396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rcRect l="0" t="0" r="0" b="9146"/>
          <a:stretch/>
        </p:blipFill>
        <p:spPr>
          <a:xfrm>
            <a:off x="6516720" y="1928880"/>
            <a:ext cx="2193840" cy="2992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3924360" y="2106720"/>
            <a:ext cx="2131920" cy="34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чебное пособие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е внимание практической части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just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обие обладает высокой степенью наглядности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 algn="just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ит из печатного (фото)  и натурального  наглядного материала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309760" y="3500280"/>
            <a:ext cx="4676760" cy="304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50920" y="220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00720" y="333360"/>
            <a:ext cx="41749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М 01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шив швейных изделий по индивидуальным заказа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ма программы 1.3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детских изделий из трикотаж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6544" t="0" r="4608" b="2403"/>
          <a:stretch/>
        </p:blipFill>
        <p:spPr>
          <a:xfrm>
            <a:off x="971640" y="549360"/>
            <a:ext cx="34351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учебного пособия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042920" y="1197000"/>
          <a:ext cx="6914880" cy="4462200"/>
        </p:xfrm>
        <a:graphic>
          <a:graphicData uri="http://schemas.openxmlformats.org/drawingml/2006/table">
            <a:tbl>
              <a:tblPr/>
              <a:tblGrid>
                <a:gridCol w="6914880"/>
              </a:tblGrid>
              <a:tr h="319320">
                <a:tc>
                  <a:txBody>
                    <a:bodyPr lIns="68760" rIns="68760" anchor="t">
                      <a:noAutofit/>
                    </a:bodyPr>
                    <a:p>
                      <a:pPr marL="285840" indent="-285840"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ценз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320">
                <a:tc>
                  <a:txBody>
                    <a:bodyPr lIns="68760" rIns="68760" anchor="t">
                      <a:noAutofit/>
                    </a:bodyPr>
                    <a:p>
                      <a:pPr marL="285840" indent="-285840"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яснительная запи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320">
                <a:tc>
                  <a:txBody>
                    <a:bodyPr lIns="68760" rIns="68760" anchor="t">
                      <a:noAutofit/>
                    </a:bodyPr>
                    <a:p>
                      <a:pPr marL="285840" indent="-285840"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истории трикотаж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320">
                <a:tc>
                  <a:txBody>
                    <a:bodyPr lIns="68760" rIns="68760" anchor="t">
                      <a:noAutofit/>
                    </a:bodyPr>
                    <a:p>
                      <a:pPr marL="285840" indent="-285840"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трикотаж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320">
                <a:tc>
                  <a:txBody>
                    <a:bodyPr lIns="68760" rIns="68760" anchor="t">
                      <a:noAutofit/>
                    </a:bodyPr>
                    <a:p>
                      <a:pPr marL="285840" indent="-285840"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ы изготовления трикотажных издел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6840">
                <a:tc>
                  <a:txBody>
                    <a:bodyPr lIns="68760" rIns="68760" anchor="t">
                      <a:noAutofit/>
                    </a:bodyPr>
                    <a:p>
                      <a:pPr marL="285840" indent="-285840"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теоретических основ технологического процесса изготовления трикотажных издел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5360">
                <a:tc>
                  <a:txBody>
                    <a:bodyPr lIns="68760" rIns="68760" anchor="t">
                      <a:noAutofit/>
                    </a:bodyPr>
                    <a:p>
                      <a:pPr marL="285840" indent="-285840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ырье, используемое в процессе производств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285840" indent="-285840">
                        <a:lnSpc>
                          <a:spcPct val="96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ебования, предъявляемые к его качеств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320">
                <a:tc>
                  <a:txBody>
                    <a:bodyPr lIns="68760" rIns="68760" anchor="t">
                      <a:noAutofit/>
                    </a:bodyPr>
                    <a:p>
                      <a:pPr marL="285840" indent="-285840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вейное оборудование для пошива трикотаж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320">
                <a:tc>
                  <a:txBody>
                    <a:bodyPr lIns="68760" rIns="68760" anchor="t">
                      <a:noAutofit/>
                    </a:bodyPr>
                    <a:p>
                      <a:pPr marL="285840" indent="-285840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ская одежда из трикотаж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320">
                <a:tc>
                  <a:txBody>
                    <a:bodyPr lIns="68760" rIns="68760" anchor="t">
                      <a:noAutofit/>
                    </a:bodyPr>
                    <a:p>
                      <a:pPr marL="285840" indent="-285840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готовление детского платья из трикотаж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320">
                <a:tc>
                  <a:txBody>
                    <a:bodyPr lIns="68760" rIns="68760" anchor="t">
                      <a:noAutofit/>
                    </a:bodyPr>
                    <a:p>
                      <a:pPr marL="285840" indent="-285840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ледовательность изготовления ползун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320">
                <a:tc>
                  <a:txBody>
                    <a:bodyPr lIns="68760" rIns="68760" anchor="t">
                      <a:noAutofit/>
                    </a:bodyPr>
                    <a:p>
                      <a:pPr marL="285840" indent="-285840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готовление детской водолазки из трикотаж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320">
                <a:tc>
                  <a:txBody>
                    <a:bodyPr lIns="68760" rIns="68760" anchor="t">
                      <a:noAutofit/>
                    </a:bodyPr>
                    <a:p>
                      <a:pPr marL="285840" indent="-285840"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емая литера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истории трикотаж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 rot="20940000">
            <a:off x="1192320" y="1214280"/>
            <a:ext cx="2871720" cy="1870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 rot="600000">
            <a:off x="5204880" y="1150920"/>
            <a:ext cx="3187800" cy="4249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68360" y="334152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трикотажа</a:t>
            </a:r>
            <a:br>
              <a:rPr sz="4000"/>
            </a:b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уральные образцы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43080" y="2060640"/>
            <a:ext cx="2909880" cy="1942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432240" y="2158920"/>
            <a:ext cx="2522520" cy="1870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476360" y="4365720"/>
            <a:ext cx="2630520" cy="1968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6118200" y="2165400"/>
            <a:ext cx="2805120" cy="1855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5148360" y="4457880"/>
            <a:ext cx="2598480" cy="194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пособы изготовления трикотажных изделий</a:t>
            </a:r>
            <a:r>
              <a:rPr b="1" lang="ru-RU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854360"/>
            <a:ext cx="457200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15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Описание теоретических основ технологического процесса изготовления трикотажных изделий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" name=""/>
          <p:cNvSpPr/>
          <p:nvPr/>
        </p:nvSpPr>
        <p:spPr>
          <a:xfrm>
            <a:off x="3780000" y="4005360"/>
            <a:ext cx="457200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15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ырье, используемое в процессе производства. Требования, предъявляемые к его качеству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вейное оборудование для пошива трикотажа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 rot="20940000">
            <a:off x="612360" y="1847880"/>
            <a:ext cx="1676520" cy="1469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660000">
            <a:off x="2703240" y="1931760"/>
            <a:ext cx="1798560" cy="1477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4859280" y="1488960"/>
            <a:ext cx="3760920" cy="2820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798480" y="4309920"/>
            <a:ext cx="7661160" cy="22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ская одежда из трикотаж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 rot="20400000">
            <a:off x="506520" y="1235160"/>
            <a:ext cx="2514600" cy="2355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 rot="1200000">
            <a:off x="6122880" y="1405080"/>
            <a:ext cx="2535480" cy="1933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755640" y="3711600"/>
            <a:ext cx="3564000" cy="2789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247920" y="1174680"/>
            <a:ext cx="2754360" cy="2084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4932360" y="3711600"/>
            <a:ext cx="3618000" cy="26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95280" y="404640"/>
            <a:ext cx="830268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готовление детского платья из трикотажа.</a:t>
            </a:r>
            <a:br>
              <a:rPr sz="36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4360" y="1890720"/>
            <a:ext cx="2374920" cy="3178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975040" y="3898800"/>
            <a:ext cx="1754280" cy="2338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5002200" y="2133720"/>
            <a:ext cx="3286080" cy="3816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20:01:29Z</dcterms:created>
  <dc:creator>Катенок</dc:creator>
  <dc:description/>
  <dc:language>en-US</dc:language>
  <cp:lastModifiedBy>21</cp:lastModifiedBy>
  <dcterms:modified xsi:type="dcterms:W3CDTF">2017-05-17T19:22:34Z</dcterms:modified>
  <cp:revision>2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