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23.png" ContentType="image/png"/>
  <Override PartName="/ppt/media/image9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29.png" ContentType="image/png"/>
  <Override PartName="/ppt/media/image4.jpeg" ContentType="image/jpeg"/>
  <Override PartName="/ppt/media/image2.png" ContentType="image/png"/>
  <Override PartName="/ppt/media/image25.png" ContentType="image/png"/>
  <Override PartName="/ppt/media/image28.jpeg" ContentType="image/jpeg"/>
  <Override PartName="/ppt/media/image27.png" ContentType="image/png"/>
  <Override PartName="/ppt/media/image24.png" ContentType="image/png"/>
  <Override PartName="/ppt/media/image18.jpeg" ContentType="image/jpe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3.png" ContentType="image/png"/>
  <Override PartName="/ppt/media/image26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605CDF-0A32-4707-AC37-1875D60D9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516759-B06D-4968-9E1D-E945315ED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5F0287-122F-413D-9B7E-88A13D9C5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501D32-7FB6-4580-8FA8-591EEA375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A45CFC-222C-4B0F-A3ED-18CEC5EC5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F03BFC-D724-44DB-B532-7FBFFFA8B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37D12E-AAC9-4177-8FC4-86163884C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346665-B405-40C7-8D8B-28D6FEA73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6D76DE-503E-4FB1-8901-AD8A41AB9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CF9293-A3F6-4510-BC2A-08578B729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9ABF36-978F-4527-81BD-8F30455A9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765497-A0D7-478C-9FF4-0C8751A42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3720" y="6356160"/>
            <a:ext cx="28940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DejaVu Serif"/>
              </a:defRPr>
            </a:lvl1pPr>
          </a:lstStyle>
          <a:p>
            <a: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1AA26-2971-44A1-B10E-D6817F6B3A7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3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DejaVu Serif"/>
              </a:defRPr>
            </a:lvl1pPr>
          </a:lstStyle>
          <a:p>
            <a: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ejaVu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 fontScale="89000"/>
          </a:bodyPr>
          <a:p>
            <a:pPr marL="3052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2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3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4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5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6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image" Target="../media/image28.jpe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hyperlink" Target="http://www.ruprom.ru/files/13_6612/768.jpg" TargetMode="External"/><Relationship Id="rId4" Type="http://schemas.openxmlformats.org/officeDocument/2006/relationships/image" Target="../media/image13.jpeg"/><Relationship Id="rId5" Type="http://schemas.openxmlformats.org/officeDocument/2006/relationships/image" Target="../media/image14.png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55640" y="692280"/>
            <a:ext cx="763272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НИСТЕРСТВО ОБЩЕГО И ПРОФЕССИОНАЛЬНОГО ОБРАЗОВАНИЯ РОСТОВСКОЙ ОБЛАСТИ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СУДАРСТВЕННОЕ БЮДЖЕТНОЕ ПРОФЕССИОНАЛЬНОЕ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ОВАТЕЛЬНОЕ УЧРЕЖДЕНИЕ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СТОВСКОЙ ОБЛАСТИ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ШАХТИНСКОЕ ПРОФЕССИОНАЛЬНОЕ УЧИЛИЩЕ № 38»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1916280"/>
            <a:ext cx="7920000" cy="44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14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УЧЕБНОЕ ПОСОБИЕ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algn="r">
              <a:lnSpc>
                <a:spcPct val="100000"/>
              </a:lnSpc>
              <a:spcBef>
                <a:spcPts val="913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«Изготовление детского</a:t>
            </a:r>
            <a:endParaRPr b="0" lang="en-US" sz="3600" spc="-1" strike="noStrike">
              <a:solidFill>
                <a:srgbClr val="000000"/>
              </a:solidFill>
              <a:latin typeface="DejaVu Sans"/>
            </a:endParaRPr>
          </a:p>
          <a:p>
            <a:pPr algn="r">
              <a:lnSpc>
                <a:spcPct val="100000"/>
              </a:lnSpc>
              <a:spcBef>
                <a:spcPts val="913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латья из трикотажа»</a:t>
            </a:r>
            <a:endParaRPr b="0" lang="en-US" sz="3600" spc="-1" strike="noStrike">
              <a:solidFill>
                <a:srgbClr val="000000"/>
              </a:solidFill>
              <a:latin typeface="DejaVu Sans"/>
            </a:endParaRPr>
          </a:p>
          <a:p>
            <a:pPr algn="r">
              <a:lnSpc>
                <a:spcPct val="100000"/>
              </a:lnSpc>
              <a:spcBef>
                <a:spcPts val="913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DejaVu Sans"/>
            </a:endParaRPr>
          </a:p>
          <a:p>
            <a:pPr algn="r">
              <a:lnSpc>
                <a:spcPct val="100000"/>
              </a:lnSpc>
              <a:spcBef>
                <a:spcPts val="414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Диденко Н.В- мастер производственного</a:t>
            </a:r>
            <a:endParaRPr b="0" lang="en-US" sz="1600" spc="-1" strike="noStrike">
              <a:solidFill>
                <a:srgbClr val="000000"/>
              </a:solidFill>
              <a:latin typeface="DejaVu Sans"/>
            </a:endParaRPr>
          </a:p>
          <a:p>
            <a:pPr algn="r">
              <a:lnSpc>
                <a:spcPct val="100000"/>
              </a:lnSpc>
              <a:spcBef>
                <a:spcPts val="414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бучения первой категории</a:t>
            </a:r>
            <a:endParaRPr b="0" lang="en-US" sz="16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rcRect l="2686" t="25857" r="65031" b="3096"/>
          <a:stretch/>
        </p:blipFill>
        <p:spPr>
          <a:xfrm rot="20940000">
            <a:off x="893520" y="2495520"/>
            <a:ext cx="2604960" cy="322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Calibri"/>
              </a:rPr>
              <a:t>Изготовление ползунков.</a:t>
            </a:r>
            <a:br>
              <a:rPr sz="3600"/>
            </a:b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Calibri"/>
              </a:rPr>
              <a:t> 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539640" y="1133640"/>
            <a:ext cx="1724040" cy="22953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2263680" y="3284640"/>
            <a:ext cx="2251080" cy="30240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4"/>
          <a:stretch/>
        </p:blipFill>
        <p:spPr>
          <a:xfrm>
            <a:off x="6084720" y="1106640"/>
            <a:ext cx="2695680" cy="5209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843280" y="1436760"/>
            <a:ext cx="2970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шаговое описание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468360" y="274680"/>
            <a:ext cx="8218440" cy="164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Calibri"/>
              </a:rPr>
              <a:t>Изготовление детской водолазки из трикотажа.</a:t>
            </a:r>
            <a:br>
              <a:rPr sz="3600"/>
            </a:b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Calibri"/>
              </a:rPr>
              <a:t> 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468360" y="1916280"/>
            <a:ext cx="3052800" cy="39607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"/>
          <a:srcRect l="0" t="0" r="0" b="9146"/>
          <a:stretch/>
        </p:blipFill>
        <p:spPr>
          <a:xfrm>
            <a:off x="6516720" y="1928880"/>
            <a:ext cx="2193840" cy="29923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4"/>
          <a:stretch/>
        </p:blipFill>
        <p:spPr>
          <a:xfrm>
            <a:off x="3924360" y="2106720"/>
            <a:ext cx="2131920" cy="348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Учебное пособие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6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711"/>
              </a:spcBef>
              <a:spcAft>
                <a:spcPts val="1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ое внимание практической части.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 algn="just">
              <a:lnSpc>
                <a:spcPct val="100000"/>
              </a:lnSpc>
              <a:spcBef>
                <a:spcPts val="711"/>
              </a:spcBef>
              <a:spcAft>
                <a:spcPts val="1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обие обладает высокой степенью наглядности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 algn="just">
              <a:lnSpc>
                <a:spcPct val="100000"/>
              </a:lnSpc>
              <a:spcBef>
                <a:spcPts val="711"/>
              </a:spcBef>
              <a:spcAft>
                <a:spcPts val="1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оит из печатного (фото)  и натурального  наглядного материала 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algn="just">
              <a:lnSpc>
                <a:spcPct val="100000"/>
              </a:lnSpc>
              <a:spcBef>
                <a:spcPts val="6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>
              <a:lnSpc>
                <a:spcPct val="100000"/>
              </a:lnSpc>
              <a:spcBef>
                <a:spcPts val="6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2309760" y="3500280"/>
            <a:ext cx="4676760" cy="3049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50920" y="2205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СПАСИБО ЗА ВНИМАНИЕ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00720" y="333360"/>
            <a:ext cx="4174920" cy="49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М 01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шив швейных изделий по индивидуальным заказам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Тема программы 1.3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готовление детских изделий из трикотажа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rcRect l="6544" t="0" r="4608" b="2403"/>
          <a:stretch/>
        </p:blipFill>
        <p:spPr>
          <a:xfrm>
            <a:off x="971640" y="549360"/>
            <a:ext cx="3435120" cy="502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держание учебного пособия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1042920" y="1197000"/>
          <a:ext cx="6914880" cy="4462200"/>
        </p:xfrm>
        <a:graphic>
          <a:graphicData uri="http://schemas.openxmlformats.org/drawingml/2006/table">
            <a:tbl>
              <a:tblPr/>
              <a:tblGrid>
                <a:gridCol w="6914880"/>
              </a:tblGrid>
              <a:tr h="319320">
                <a:tc>
                  <a:txBody>
                    <a:bodyPr lIns="68760" rIns="68760" anchor="t">
                      <a:noAutofit/>
                    </a:bodyPr>
                    <a:p>
                      <a:pPr marL="285840" indent="-285840" algn="just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ценз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9320">
                <a:tc>
                  <a:txBody>
                    <a:bodyPr lIns="68760" rIns="68760" anchor="t">
                      <a:noAutofit/>
                    </a:bodyPr>
                    <a:p>
                      <a:pPr marL="285840" indent="-285840" algn="just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яснительная запис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9320">
                <a:tc>
                  <a:txBody>
                    <a:bodyPr lIns="68760" rIns="68760" anchor="t">
                      <a:noAutofit/>
                    </a:bodyPr>
                    <a:p>
                      <a:pPr marL="285840" indent="-285840" algn="just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истории трикотаж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9320">
                <a:tc>
                  <a:txBody>
                    <a:bodyPr lIns="68760" rIns="68760" anchor="t">
                      <a:noAutofit/>
                    </a:bodyPr>
                    <a:p>
                      <a:pPr marL="285840" indent="-285840" algn="just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ды трикотаж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9320">
                <a:tc>
                  <a:txBody>
                    <a:bodyPr lIns="68760" rIns="68760" anchor="t">
                      <a:noAutofit/>
                    </a:bodyPr>
                    <a:p>
                      <a:pPr marL="285840" indent="-285840" algn="just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особы изготовления трикотажных издел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6840">
                <a:tc>
                  <a:txBody>
                    <a:bodyPr lIns="68760" rIns="68760" anchor="t">
                      <a:noAutofit/>
                    </a:bodyPr>
                    <a:p>
                      <a:pPr marL="285840" indent="-285840" algn="just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исание теоретических основ технологического процесса изготовления трикотажных изделий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5360">
                <a:tc>
                  <a:txBody>
                    <a:bodyPr lIns="68760" rIns="68760" anchor="t">
                      <a:noAutofit/>
                    </a:bodyPr>
                    <a:p>
                      <a:pPr marL="285840" indent="-285840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ырье, используемое в процессе производства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  <a:p>
                      <a:pPr marL="285840" indent="-285840">
                        <a:lnSpc>
                          <a:spcPct val="96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    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ребования, предъявляемые к его качеству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9320">
                <a:tc>
                  <a:txBody>
                    <a:bodyPr lIns="68760" rIns="68760" anchor="t">
                      <a:noAutofit/>
                    </a:bodyPr>
                    <a:p>
                      <a:pPr marL="285840" indent="-285840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вейное оборудование для пошива трикотаж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9320">
                <a:tc>
                  <a:txBody>
                    <a:bodyPr lIns="68760" rIns="68760" anchor="t">
                      <a:noAutofit/>
                    </a:bodyPr>
                    <a:p>
                      <a:pPr marL="285840" indent="-285840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етская одежда из трикотаж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9320">
                <a:tc>
                  <a:txBody>
                    <a:bodyPr lIns="68760" rIns="68760" anchor="t">
                      <a:noAutofit/>
                    </a:bodyPr>
                    <a:p>
                      <a:pPr marL="285840" indent="-285840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зготовление детского платья из трикотаж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9320">
                <a:tc>
                  <a:txBody>
                    <a:bodyPr lIns="68760" rIns="68760" anchor="t">
                      <a:noAutofit/>
                    </a:bodyPr>
                    <a:p>
                      <a:pPr marL="285840" indent="-285840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следовательность изготовления ползунк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9320">
                <a:tc>
                  <a:txBody>
                    <a:bodyPr lIns="68760" rIns="68760" anchor="t">
                      <a:noAutofit/>
                    </a:bodyPr>
                    <a:p>
                      <a:pPr marL="285840" indent="-285840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зготовление детской водолазки из трикотаж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9320">
                <a:tc>
                  <a:txBody>
                    <a:bodyPr lIns="68760" rIns="68760" anchor="t">
                      <a:noAutofit/>
                    </a:bodyPr>
                    <a:p>
                      <a:pPr marL="285840" indent="-285840" algn="just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пользуемая литерату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584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истории трикотажа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 rot="20940000">
            <a:off x="1192320" y="1214280"/>
            <a:ext cx="2871720" cy="18702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 rot="600000">
            <a:off x="5204880" y="1150920"/>
            <a:ext cx="3187800" cy="42498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468360" y="3341520"/>
            <a:ext cx="4762440" cy="3171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ы трикотажа</a:t>
            </a:r>
            <a:br>
              <a:rPr sz="4000"/>
            </a:br>
            <a:br>
              <a:rPr sz="40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туральные образцы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43080" y="2060640"/>
            <a:ext cx="2909880" cy="19429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3432240" y="2158920"/>
            <a:ext cx="2522520" cy="18702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1476360" y="4365720"/>
            <a:ext cx="2630520" cy="19684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6118200" y="2165400"/>
            <a:ext cx="2805120" cy="1855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6"/>
          <a:stretch/>
        </p:blipFill>
        <p:spPr>
          <a:xfrm>
            <a:off x="5148360" y="4457880"/>
            <a:ext cx="2598480" cy="194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Способы изготовления трикотажных изделий</a:t>
            </a:r>
            <a:r>
              <a:rPr b="1" lang="ru-RU" sz="4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9" name=""/>
          <p:cNvSpPr/>
          <p:nvPr/>
        </p:nvSpPr>
        <p:spPr>
          <a:xfrm>
            <a:off x="324000" y="1854360"/>
            <a:ext cx="4572000" cy="17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15000"/>
              </a:lnSpc>
              <a:spcBef>
                <a:spcPts val="11"/>
              </a:spcBef>
              <a:spcAft>
                <a:spcPts val="1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Описание теоретических основ технологического процесса изготовления трикотажных изделий.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0" name=""/>
          <p:cNvSpPr/>
          <p:nvPr/>
        </p:nvSpPr>
        <p:spPr>
          <a:xfrm>
            <a:off x="3780000" y="4005360"/>
            <a:ext cx="4572000" cy="17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15000"/>
              </a:lnSpc>
              <a:spcBef>
                <a:spcPts val="11"/>
              </a:spcBef>
              <a:spcAft>
                <a:spcPts val="1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Сырье, используемое в процессе производства. Требования, предъявляемые к его качеству</a:t>
            </a:r>
            <a:r>
              <a:rPr b="0" i="1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вейное оборудование для пошива трикотажа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 rot="20940000">
            <a:off x="612360" y="1847880"/>
            <a:ext cx="1676520" cy="14698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 rot="660000">
            <a:off x="2703240" y="1931760"/>
            <a:ext cx="1798560" cy="14778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5"/>
          <a:stretch/>
        </p:blipFill>
        <p:spPr>
          <a:xfrm>
            <a:off x="4859280" y="1488960"/>
            <a:ext cx="3760920" cy="28209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6"/>
          <a:stretch/>
        </p:blipFill>
        <p:spPr>
          <a:xfrm>
            <a:off x="798480" y="4309920"/>
            <a:ext cx="7661160" cy="221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Calibri"/>
              </a:rPr>
              <a:t>Детская одежда из трикотажа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 rot="20400000">
            <a:off x="506520" y="1235160"/>
            <a:ext cx="2514600" cy="23558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 rot="1200000">
            <a:off x="6122880" y="1405080"/>
            <a:ext cx="2535480" cy="19335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4"/>
          <a:stretch/>
        </p:blipFill>
        <p:spPr>
          <a:xfrm>
            <a:off x="755640" y="3711600"/>
            <a:ext cx="3564000" cy="27892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5"/>
          <a:stretch/>
        </p:blipFill>
        <p:spPr>
          <a:xfrm>
            <a:off x="3247920" y="1174680"/>
            <a:ext cx="2754360" cy="20844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6"/>
          <a:stretch/>
        </p:blipFill>
        <p:spPr>
          <a:xfrm>
            <a:off x="4932360" y="3711600"/>
            <a:ext cx="3618000" cy="269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395280" y="404640"/>
            <a:ext cx="8302680" cy="15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Calibri"/>
              </a:rPr>
              <a:t>Изготовление детского платья из трикотажа.</a:t>
            </a:r>
            <a:br>
              <a:rPr sz="3600"/>
            </a:b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Calibri"/>
              </a:rPr>
              <a:t> 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84360" y="1890720"/>
            <a:ext cx="2374920" cy="31780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975040" y="3898800"/>
            <a:ext cx="1754280" cy="233856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4"/>
          <a:stretch/>
        </p:blipFill>
        <p:spPr>
          <a:xfrm>
            <a:off x="5002200" y="2133720"/>
            <a:ext cx="3286080" cy="3816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8T20:01:29Z</dcterms:created>
  <dc:creator>Катенок</dc:creator>
  <dc:description/>
  <dc:language>en-US</dc:language>
  <cp:lastModifiedBy>21</cp:lastModifiedBy>
  <dcterms:modified xsi:type="dcterms:W3CDTF">2017-05-17T19:22:34Z</dcterms:modified>
  <cp:revision>22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/>
</file>