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1.jpeg" ContentType="image/jpeg"/>
  <Override PartName="/ppt/media/image37.jpeg" ContentType="image/jpeg"/>
  <Override PartName="/ppt/media/image70.png" ContentType="image/png"/>
  <Override PartName="/ppt/media/image7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4.jpeg" ContentType="image/jpeg"/>
  <Override PartName="/ppt/media/image39.png" ContentType="image/png"/>
  <Override PartName="/ppt/media/image24.jpeg" ContentType="image/jpeg"/>
  <Override PartName="/ppt/media/image11.png" ContentType="image/png"/>
  <Override PartName="/ppt/media/image59.png" ContentType="image/png"/>
  <Override PartName="/ppt/media/image66.jpeg" ContentType="image/jpeg"/>
  <Override PartName="/ppt/media/image21.jpeg" ContentType="image/jpeg"/>
  <Override PartName="/ppt/media/image63.jpeg" ContentType="image/jpeg"/>
  <Override PartName="/ppt/media/image29.png" ContentType="image/png"/>
  <Override PartName="/ppt/media/image42.png" ContentType="image/png"/>
  <Override PartName="/ppt/media/image26.jpeg" ContentType="image/jpeg"/>
  <Override PartName="/ppt/media/image13.wmf" ContentType="image/x-wmf"/>
  <Override PartName="/ppt/media/image50.jpeg" ContentType="image/jpeg"/>
  <Override PartName="/ppt/media/image71.jpeg" ContentType="image/jpeg"/>
  <Override PartName="/ppt/media/image27.jpeg" ContentType="image/jpeg"/>
  <Override PartName="/ppt/media/image10.jpeg" ContentType="image/jpeg"/>
  <Override PartName="/ppt/media/image73.jpeg" ContentType="image/jpe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9.jpeg" ContentType="image/jpeg"/>
  <Override PartName="/ppt/media/image67.jpeg" ContentType="image/jpeg"/>
  <Override PartName="/ppt/media/image65.jpeg" ContentType="image/jpeg"/>
  <Override PartName="/ppt/media/image8.jpeg" ContentType="image/jpeg"/>
  <Override PartName="/ppt/media/image62.jpeg" ContentType="image/jpeg"/>
  <Override PartName="/ppt/media/image60.jpeg" ContentType="image/jpeg"/>
  <Override PartName="/ppt/media/chimes.wav" ContentType="audio/x-wav"/>
  <Override PartName="/ppt/media/image17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25.jpeg" ContentType="image/jpeg"/>
  <Override PartName="/ppt/media/image14.png" ContentType="image/png"/>
  <Override PartName="/ppt/media/image2.png" ContentType="image/png"/>
  <Override PartName="/ppt/media/image16.jpeg" ContentType="image/jpeg"/>
  <Override PartName="/ppt/media/image9.jpeg" ContentType="image/jpeg"/>
  <Override PartName="/ppt/media/image36.png" ContentType="image/png"/>
  <Override PartName="/ppt/media/image18.png" ContentType="image/png"/>
  <Override PartName="/ppt/media/image6.png" ContentType="image/png"/>
  <Override PartName="/ppt/media/image28.jpeg" ContentType="image/jpeg"/>
  <Override PartName="/ppt/media/image51.jpeg" ContentType="image/jpeg"/>
  <Override PartName="/ppt/media/image38.jpeg" ContentType="image/jpeg"/>
  <Override PartName="/ppt/media/image72.png" ContentType="image/png"/>
  <Override PartName="/ppt/media/image19.jpeg" ContentType="image/jpeg"/>
  <Override PartName="/ppt/media/image5.png" ContentType="image/png"/>
  <Override PartName="/ppt/media/image43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8D2-BB25-42FC-8C79-60EF7EEA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CA7-EDA2-40C8-A26C-CBCCCD51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8DC-0322-4B10-B28A-EDBC5AB4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DFD-E5B5-4AFB-B37E-4D1AF457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E591-BBEC-4C65-8FE1-93568D84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F76F-0842-4B5D-9577-01382AB2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CCAF-AD58-4970-88F1-D82AE333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8387-8F4E-4BCE-8D5D-1A245F26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2C5E-0EB7-47B9-818C-8554D5A6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C26C-D0F3-493E-A4AA-5969EBCF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CFDF-CD32-4A8B-9FD5-BD18FAA4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6127-9F34-4EAB-B0DA-485B7E4B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2626-9D5E-4249-9475-60E1C33D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306A-00E4-4522-BDCA-D90253C6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D34D-B972-4886-9710-409887DF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FEBA-96D4-4765-8E8B-A5E897C6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2995-E811-4A88-8474-2FF2E5BA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7F80C-40DD-4EE2-83F0-9FDE13FB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0C512-2964-4C33-B85E-7CE017A7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6BD5A-A83F-4A30-B339-84AFBB0F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576AF-4ED1-4391-90B8-A49D1B7A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4A4D2-125F-4319-83B2-C1C55E95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C32-5104-458C-A36E-6B8902BB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94BCC-6FA7-4301-BA77-C0BD04D9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E2816-E5FC-443F-BD76-D81E894D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653EB-ECC5-4B53-B2BA-F735FDAE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FC8CB-B40B-4384-9672-AF6D1838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61AA9-AE91-40F0-B96C-22B7A653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27C1A-F9CA-4FC3-9331-4786A050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EB294-F30E-4305-AE5B-4A40DAEA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D7F8-4EC5-4847-BD48-4D4986F5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F470B-97E3-4934-BA92-5720002A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0AEBC-4AE7-43E9-A6F6-1183292A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BB8-CD04-45E6-A97A-97F6C87C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E2857-7270-425B-8D5D-80E4BC65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A5645-6058-427F-A5F9-497A7C1E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C6D56-5097-4096-B603-7C2D92A0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4D302-AD88-4B0E-A767-508CE81B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25329-CE79-4101-9DD5-704F2639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E854D-1BF9-4F58-9B83-EBA6A348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BEF99-C1B8-4EA8-AE60-5D0C78CF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18A41-F00A-4E24-9BE7-2A733A79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80316-80EE-4F2D-9AA6-27362511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E96B5-0027-4A5B-9A26-3F05FFDB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02F-6DAC-4900-BCDA-C3B09285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97263-286E-4250-9A4D-AAB8CC82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D65AC-77F6-4447-A5CB-C5CC862B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A4AAC-69E0-4B18-9172-56B5701C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81C4C-98A9-4300-8677-C08A2227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FCB90-7332-4A9E-BEBD-82382BA0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3F2E0-50A7-4437-8E81-3595CB44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4D080-A927-483A-ACEA-8ED1B113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53E00-A895-4053-B138-1188EE37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58B77-6F4C-48A6-B7BE-2271437E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B22AA-9A42-4A02-8D3C-D147AFF5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624-03C7-4520-93D4-E593CBC6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6D059-1F83-42E7-901B-FF06DA0A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339B-D4DE-4E2B-82DB-AD526FCF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41A-6AB1-47A2-BB7C-E2D38077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C66-718E-4A94-9723-245B4FBC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360F-910C-40BC-8303-535C6EA4123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29CE-5C05-4A34-A8E2-F4FA59545B7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1D9C-EF8C-47F8-93D1-0A40EBB3CBC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9797-80B6-4396-9487-513495BF3F5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0645-6D3D-469A-BBCC-A8CEAEBCB31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349000"/>
            <a:ext cx="914400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f5f9"/>
                </a:solidFill>
                <a:latin typeface="Arial"/>
              </a:rPr>
              <a:t>Олимпийский урок</a:t>
            </a:r>
            <a:endParaRPr b="0" lang="en-US" sz="72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1298765148_mascots"/>
          <p:cNvPicPr/>
          <p:nvPr/>
        </p:nvPicPr>
        <p:blipFill>
          <a:blip r:embed="rId1"/>
          <a:stretch/>
        </p:blipFill>
        <p:spPr>
          <a:xfrm>
            <a:off x="0" y="3500280"/>
            <a:ext cx="9239400" cy="3357720"/>
          </a:xfrm>
          <a:prstGeom prst="rect">
            <a:avLst/>
          </a:prstGeom>
          <a:ln w="0">
            <a:noFill/>
          </a:ln>
        </p:spPr>
      </p:pic>
      <p:pic>
        <p:nvPicPr>
          <p:cNvPr id="273" name="Rectangl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57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Picture 5" descr="1297176345_post-3-12971604271237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e43aa497a7a349d398636c5643e0dd0e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leo"/>
          <p:cNvPicPr/>
          <p:nvPr/>
        </p:nvPicPr>
        <p:blipFill>
          <a:blip r:embed="rId1"/>
          <a:stretch/>
        </p:blipFill>
        <p:spPr>
          <a:xfrm>
            <a:off x="1835280" y="692280"/>
            <a:ext cx="4932360" cy="6165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155999653"/>
          <p:cNvPicPr/>
          <p:nvPr/>
        </p:nvPicPr>
        <p:blipFill>
          <a:blip r:embed="rId1"/>
          <a:stretch/>
        </p:blipFill>
        <p:spPr>
          <a:xfrm>
            <a:off x="500040" y="0"/>
            <a:ext cx="7715160" cy="6939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396720" y="-414360"/>
            <a:ext cx="8064720" cy="26766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68000" y="148428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имние Олимпийские игры Сочи-2014 пройдут на одиннадцати спортивных объектах. Строительство олимпийских сооружений осуществлялось в двух кластерах — Горном и Прибрежном кластере Имеретинской низменности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брежный кластер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ентральный объект Прибрежного кластера — Олимпийский парк. Он представляет собой комплекс, состоящий из олимпийских спортивных объектов, парковой зоны и объектов инфраструктур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дновременно на территории прибрежного кластера могут находиться приблизительно 75 тысяч посетител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 состав прибрежного кластера входят следующие спортивные объекты Сочи-2014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адион «Фишт»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едовый дворец «Большой»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едовая арена «Шайба»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ерлинговый центр «Ледяной куб»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ворец зимнего спорта «Айсберг»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ькобежный центр «Адлер-Арена»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978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хематичное изображение олимпийских объектов  Сочи 2014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2" name="Picture 2" descr="http://www.vsluh.ru/system/post_images/large/258/258510/olimp_soch.jpg?1355376097"/>
          <p:cNvPicPr/>
          <p:nvPr/>
        </p:nvPicPr>
        <p:blipFill>
          <a:blip r:embed="rId1"/>
          <a:stretch/>
        </p:blipFill>
        <p:spPr>
          <a:xfrm>
            <a:off x="468360" y="981000"/>
            <a:ext cx="7991280" cy="5702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1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649296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4"/>
          <p:cNvSpPr/>
          <p:nvPr/>
        </p:nvSpPr>
        <p:spPr>
          <a:xfrm>
            <a:off x="0" y="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Unicode MS"/>
              </a:rPr>
              <a:t>Стадион «Фишт»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83252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b5395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0b5395"/>
                </a:solidFill>
                <a:latin typeface="Arial"/>
                <a:ea typeface="Arial"/>
              </a:rPr>
              <a:t>Ледовый дворец «Большой»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6" name="Picture 2" descr="http://www.72box.ru/uploads/posts/2012-09/1347341953_1.jpg"/>
          <p:cNvPicPr/>
          <p:nvPr/>
        </p:nvPicPr>
        <p:blipFill>
          <a:blip r:embed="rId1"/>
          <a:stretch/>
        </p:blipFill>
        <p:spPr>
          <a:xfrm>
            <a:off x="0" y="1714680"/>
            <a:ext cx="916776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C:\Users\Андрей\Desktop\Сочи\1382384379_olimpiyskiy-stadion-sochi-2014.jpg"/>
          <p:cNvPicPr/>
          <p:nvPr/>
        </p:nvPicPr>
        <p:blipFill>
          <a:blip r:embed="rId1"/>
          <a:stretch/>
        </p:blipFill>
        <p:spPr>
          <a:xfrm>
            <a:off x="4132440" y="3714840"/>
            <a:ext cx="5011560" cy="3143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http://olympicroute-of-russia.ru/main/images/stories/articles/sochi/olympobjects/Shaiba2.jpg"/>
          <p:cNvPicPr/>
          <p:nvPr/>
        </p:nvPicPr>
        <p:blipFill>
          <a:blip r:embed="rId2"/>
          <a:stretch/>
        </p:blipFill>
        <p:spPr>
          <a:xfrm>
            <a:off x="0" y="642960"/>
            <a:ext cx="4937040" cy="400032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4"/>
          <p:cNvSpPr/>
          <p:nvPr/>
        </p:nvSpPr>
        <p:spPr>
          <a:xfrm>
            <a:off x="109440" y="115920"/>
            <a:ext cx="58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ёрлинговый центр «Ледяной куб»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randomBa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Цели и задачи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Воспитывать у учащихся любовь к предмету, познавательное отношение к олимпийскому движение, чувство самоутверждения, здорового соперничества, сопереживание за коллектив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Активизировать интерес учащихся к олимпийским играм путем включения их в коллективную творческую деятельность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Пробудить интерес к спорту и сохранению собственного здоровью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Развивать чувство гордости за свою стран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1" descr=""/>
          <p:cNvPicPr/>
          <p:nvPr/>
        </p:nvPicPr>
        <p:blipFill>
          <a:blip r:embed="rId1"/>
          <a:stretch/>
        </p:blipFill>
        <p:spPr>
          <a:xfrm>
            <a:off x="-208080" y="-225360"/>
            <a:ext cx="9375840" cy="1846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C:\Users\Андрей\Desktop\Сочи\1382384446_olimpiyskiy-stadion-sochi-2014.jpg"/>
          <p:cNvPicPr/>
          <p:nvPr/>
        </p:nvPicPr>
        <p:blipFill>
          <a:blip r:embed="rId2"/>
          <a:stretch/>
        </p:blipFill>
        <p:spPr>
          <a:xfrm>
            <a:off x="-41400" y="3929040"/>
            <a:ext cx="5110200" cy="2928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C:\Users\Андрей\Desktop\Сочи\06s.jpg"/>
          <p:cNvPicPr/>
          <p:nvPr/>
        </p:nvPicPr>
        <p:blipFill>
          <a:blip r:embed="rId3"/>
          <a:stretch/>
        </p:blipFill>
        <p:spPr>
          <a:xfrm>
            <a:off x="3786120" y="642960"/>
            <a:ext cx="5357880" cy="3782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856720" cy="50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Конькобежный центр «Адлер-Арена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Рисунок 4" descr=""/>
          <p:cNvPicPr/>
          <p:nvPr/>
        </p:nvPicPr>
        <p:blipFill>
          <a:blip r:embed="rId1"/>
          <a:stretch/>
        </p:blipFill>
        <p:spPr>
          <a:xfrm>
            <a:off x="0" y="851040"/>
            <a:ext cx="9144000" cy="60069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slow">
    <p:pull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10520" cy="57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376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83763"/>
                </a:solidFill>
                <a:latin typeface="Calibri"/>
              </a:rPr>
              <a:t>Ледовая арена «Шайба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Рисунок 4" descr="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63831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slow">
    <p:newsflash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7772400" cy="10602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07640" y="1125360"/>
            <a:ext cx="9072360" cy="573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портивные объекты Сочи-2014 горного кластера полностью подготовлены к проведению Зимних Олимпийских игр Сочи-2014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 состав кластера входят 5 спортивных сооружений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Комплекс для соревнований по лыжным гонкам и биатлону «Лаура»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Горнолыжный центр «Роза Хутор»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Комплекс для прыжков с трамплина «Русские горки»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Центр саночного спорта «Санки»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·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Экстрим-парк «Роза Хутор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plus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60" y="115560"/>
            <a:ext cx="9036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Комплекс для соревнований по лыжным гонкам и биатлону «Лаура»</a:t>
            </a:r>
            <a:br>
              <a:rPr sz="2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0" name="Picture 2" descr="C:\Users\Андрей\Desktop\Сочи\1382384602_olimpiyskiy-stadion-sochi-2014.jpg"/>
          <p:cNvPicPr/>
          <p:nvPr/>
        </p:nvPicPr>
        <p:blipFill>
          <a:blip r:embed="rId1"/>
          <a:stretch/>
        </p:blipFill>
        <p:spPr>
          <a:xfrm>
            <a:off x="0" y="1177920"/>
            <a:ext cx="9144000" cy="568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-414360" y="-353880"/>
            <a:ext cx="9558360" cy="227952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2" descr="Горнолыжный центр Роза Хутор в Сочи-2014"/>
          <p:cNvPicPr/>
          <p:nvPr/>
        </p:nvPicPr>
        <p:blipFill>
          <a:blip r:embed="rId2"/>
          <a:stretch/>
        </p:blipFill>
        <p:spPr>
          <a:xfrm>
            <a:off x="0" y="1501920"/>
            <a:ext cx="9144000" cy="5356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Рисунок 2" descr="Комплекс для прыжков с трамплина «Русские горки» в Сочи-2014"/>
          <p:cNvPicPr/>
          <p:nvPr/>
        </p:nvPicPr>
        <p:blipFill>
          <a:blip r:embed="rId1"/>
          <a:stretch/>
        </p:blipFill>
        <p:spPr>
          <a:xfrm>
            <a:off x="0" y="879480"/>
            <a:ext cx="8786880" cy="5978520"/>
          </a:xfrm>
          <a:prstGeom prst="rect">
            <a:avLst/>
          </a:prstGeom>
          <a:ln w="0">
            <a:noFill/>
          </a:ln>
        </p:spPr>
      </p:pic>
      <p:pic>
        <p:nvPicPr>
          <p:cNvPr id="304" name="Заголовок 3" descr=""/>
          <p:cNvPicPr/>
          <p:nvPr/>
        </p:nvPicPr>
        <p:blipFill>
          <a:blip r:embed="rId2"/>
          <a:stretch/>
        </p:blipFill>
        <p:spPr>
          <a:xfrm>
            <a:off x="-371520" y="-530280"/>
            <a:ext cx="8680320" cy="20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506520" y="0"/>
            <a:ext cx="8637480" cy="66996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3" descr="Центр санного спорта «Санки» в Сочи-2014"/>
          <p:cNvPicPr/>
          <p:nvPr/>
        </p:nvPicPr>
        <p:blipFill>
          <a:blip r:embed="rId2"/>
          <a:stretch/>
        </p:blipFill>
        <p:spPr>
          <a:xfrm>
            <a:off x="0" y="76680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-378000" y="-42840"/>
            <a:ext cx="9015480" cy="133524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2" descr="Экстрим-парк «Роза Хутор» в Сочи-2014"/>
          <p:cNvPicPr/>
          <p:nvPr/>
        </p:nvPicPr>
        <p:blipFill>
          <a:blip r:embed="rId2"/>
          <a:stretch/>
        </p:blipFill>
        <p:spPr>
          <a:xfrm>
            <a:off x="0" y="800280"/>
            <a:ext cx="9144000" cy="6057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9" descr="4"/>
          <p:cNvPicPr/>
          <p:nvPr/>
        </p:nvPicPr>
        <p:blipFill>
          <a:blip r:embed="rId1"/>
          <a:stretch/>
        </p:blipFill>
        <p:spPr>
          <a:xfrm>
            <a:off x="0" y="0"/>
            <a:ext cx="4643280" cy="4643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1"/>
          <p:cNvPicPr/>
          <p:nvPr/>
        </p:nvPicPr>
        <p:blipFill>
          <a:blip r:embed="rId2"/>
          <a:stretch/>
        </p:blipFill>
        <p:spPr>
          <a:xfrm>
            <a:off x="4591080" y="0"/>
            <a:ext cx="4552920" cy="4552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-115920" y="0"/>
            <a:ext cx="8248680" cy="16398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776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году до н.э.  впервые состоялись Олимпийские игры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 протяжении почти двенадцати столетий они непрерывно проводились  </a:t>
            </a: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каждые четыре года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, пока в 393 году н.э. римский император Феодосий не запретил их как пережиток языческого наследия.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1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4716360" cy="4716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2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4500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5" descr="5"/>
          <p:cNvPicPr/>
          <p:nvPr/>
        </p:nvPicPr>
        <p:blipFill>
          <a:blip r:embed="rId1"/>
          <a:stretch/>
        </p:blipFill>
        <p:spPr>
          <a:xfrm>
            <a:off x="0" y="0"/>
            <a:ext cx="4356000" cy="4356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6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478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11"/>
          <p:cNvPicPr/>
          <p:nvPr/>
        </p:nvPicPr>
        <p:blipFill>
          <a:blip r:embed="rId1"/>
          <a:stretch/>
        </p:blipFill>
        <p:spPr>
          <a:xfrm>
            <a:off x="0" y="0"/>
            <a:ext cx="4643280" cy="4643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9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450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4643280" cy="4643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15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4408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4643280" cy="4643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14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643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4643280" cy="4643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15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450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4788000" cy="478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19"/>
          <p:cNvPicPr/>
          <p:nvPr/>
        </p:nvPicPr>
        <p:blipFill>
          <a:blip r:embed="rId2"/>
          <a:stretch/>
        </p:blipFill>
        <p:spPr>
          <a:xfrm>
            <a:off x="4751280" y="0"/>
            <a:ext cx="4392720" cy="4392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-6480" y="-414360"/>
            <a:ext cx="8869320" cy="27734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E:\Сочи2014\1358157082_0662.400x320.jpeg"/>
          <p:cNvPicPr/>
          <p:nvPr/>
        </p:nvPicPr>
        <p:blipFill>
          <a:blip r:embed="rId2"/>
          <a:stretch/>
        </p:blipFill>
        <p:spPr>
          <a:xfrm>
            <a:off x="1214280" y="1782720"/>
            <a:ext cx="6500880" cy="5075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E:\Сочи\д.ю\af08s.jpg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E:\Сочи\д.ю\olimpijskij_ogon_readmas.ru_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7840"/>
          </a:xfrm>
          <a:prstGeom prst="rect">
            <a:avLst/>
          </a:prstGeom>
          <a:solidFill>
            <a:srgbClr val="77d9e8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се состязания проходили под открытым небо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85840" y="1285920"/>
            <a:ext cx="4357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артовая полос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Её возраст -2500 ле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1"/>
          <a:stretch/>
        </p:blipFill>
        <p:spPr>
          <a:xfrm>
            <a:off x="5254560" y="2214720"/>
            <a:ext cx="3889440" cy="2838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стадион в Древней олимпии"/>
          <p:cNvPicPr/>
          <p:nvPr/>
        </p:nvPicPr>
        <p:blipFill>
          <a:blip r:embed="rId2"/>
          <a:stretch/>
        </p:blipFill>
        <p:spPr>
          <a:xfrm>
            <a:off x="0" y="1785960"/>
            <a:ext cx="4248000" cy="28224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8"/>
          <p:cNvSpPr/>
          <p:nvPr/>
        </p:nvSpPr>
        <p:spPr>
          <a:xfrm>
            <a:off x="0" y="1357200"/>
            <a:ext cx="44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адион в древней Олимпии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55" name="Picture 9" descr="вход на стадион"/>
          <p:cNvPicPr/>
          <p:nvPr/>
        </p:nvPicPr>
        <p:blipFill>
          <a:blip r:embed="rId3"/>
          <a:stretch/>
        </p:blipFill>
        <p:spPr>
          <a:xfrm>
            <a:off x="2500200" y="4013280"/>
            <a:ext cx="4364280" cy="28447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0"/>
          <p:cNvSpPr/>
          <p:nvPr/>
        </p:nvSpPr>
        <p:spPr>
          <a:xfrm>
            <a:off x="3132000" y="623736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ход на стадион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E:\Сочи\д.ю\07s.jpg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E:\Сочи\д.ю\ogon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48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2" name="Picture 2" descr="E:\Сочи\д.ю\8___16_720x0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E:\Сочи\д.ю\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16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estafeta2014"/>
          <p:cNvPicPr/>
          <p:nvPr/>
        </p:nvPicPr>
        <p:blipFill>
          <a:blip r:embed="rId1"/>
          <a:stretch/>
        </p:blipFill>
        <p:spPr>
          <a:xfrm>
            <a:off x="0" y="0"/>
            <a:ext cx="9144000" cy="5676840"/>
          </a:xfrm>
          <a:prstGeom prst="rect">
            <a:avLst/>
          </a:prstGeom>
          <a:ln w="0">
            <a:noFill/>
          </a:ln>
        </p:spPr>
      </p:pic>
      <p:pic>
        <p:nvPicPr>
          <p:cNvPr id="335" name="Заголовок 1" descr=""/>
          <p:cNvPicPr/>
          <p:nvPr/>
        </p:nvPicPr>
        <p:blipFill>
          <a:blip r:embed="rId2"/>
          <a:stretch/>
        </p:blipFill>
        <p:spPr>
          <a:xfrm>
            <a:off x="-353880" y="5321160"/>
            <a:ext cx="8650080" cy="189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1370316384_1"/>
          <p:cNvPicPr/>
          <p:nvPr/>
        </p:nvPicPr>
        <p:blipFill>
          <a:blip r:embed="rId1"/>
          <a:stretch/>
        </p:blipFill>
        <p:spPr>
          <a:xfrm>
            <a:off x="0" y="1701720"/>
            <a:ext cx="9144000" cy="5156280"/>
          </a:xfrm>
          <a:prstGeom prst="rect">
            <a:avLst/>
          </a:prstGeom>
          <a:ln w="0">
            <a:noFill/>
          </a:ln>
        </p:spPr>
      </p:pic>
      <p:pic>
        <p:nvPicPr>
          <p:cNvPr id="337" name="Rectangle 5" descr=""/>
          <p:cNvPicPr/>
          <p:nvPr/>
        </p:nvPicPr>
        <p:blipFill>
          <a:blip r:embed="rId2"/>
          <a:stretch/>
        </p:blipFill>
        <p:spPr>
          <a:xfrm>
            <a:off x="396720" y="334800"/>
            <a:ext cx="8229600" cy="1603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BX0PP5nCEAAsAUc"/>
          <p:cNvPicPr/>
          <p:nvPr/>
        </p:nvPicPr>
        <p:blipFill>
          <a:blip r:embed="rId1"/>
          <a:stretch/>
        </p:blipFill>
        <p:spPr>
          <a:xfrm>
            <a:off x="1116000" y="-31680"/>
            <a:ext cx="6889680" cy="68896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6" descr="1449410_201202211718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riaru20130312"/>
          <p:cNvPicPr/>
          <p:nvPr/>
        </p:nvPicPr>
        <p:blipFill>
          <a:blip r:embed="rId1"/>
          <a:stretch/>
        </p:blipFill>
        <p:spPr>
          <a:xfrm>
            <a:off x="1258920" y="1628640"/>
            <a:ext cx="6683400" cy="401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omic sans ms"/>
              </a:rPr>
              <a:t>Пьер де Куберте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51280" y="1268280"/>
            <a:ext cx="5292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Родился 1 января 1863г. Кубертен досконально изучил системы физического воспитания во многих странах и пришёл к мысли  использовать идею возрождения Олимпийских игр для создания системы международных спортивных соревнований. 25 января 1892г. Пьер де Кубертен выступил в Сорбонне с докладом «Возрождение олимпизма». Ему было тогда всего 29 лет. В 1896 г. в Афинах состоялись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 Олимпийские игры современност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60" name="Picture 5" descr="Untitled-2"/>
          <p:cNvPicPr/>
          <p:nvPr/>
        </p:nvPicPr>
        <p:blipFill>
          <a:blip r:embed="rId1"/>
          <a:stretch/>
        </p:blipFill>
        <p:spPr>
          <a:xfrm>
            <a:off x="250920" y="1341360"/>
            <a:ext cx="3690720" cy="525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1"/>
          <p:cNvPicPr/>
          <p:nvPr/>
        </p:nvPicPr>
        <p:blipFill>
          <a:blip r:embed="rId1"/>
          <a:stretch/>
        </p:blipFill>
        <p:spPr>
          <a:xfrm>
            <a:off x="2771640" y="1200240"/>
            <a:ext cx="3600720" cy="5657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omic sans ms"/>
              </a:rPr>
              <a:t>Олимпийская символик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DS CenturyCapitals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stellar"/>
              </a:rPr>
              <a:t>Олимпийским символом названо изображение, которое представляет собой пять колец переплетённых (три в верхнем ряду, два в нижнем) разноцветных (голубое, чёрное и красное, желтое и зелёное) колец, олицетворяющее единство пяти континентов. Вместе с белым фоном олимпийского флага эта цвета являют собой цвета всех стран ми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ууу"/>
          <p:cNvPicPr/>
          <p:nvPr/>
        </p:nvPicPr>
        <p:blipFill>
          <a:blip r:embed="rId1"/>
          <a:stretch/>
        </p:blipFill>
        <p:spPr>
          <a:xfrm>
            <a:off x="0" y="0"/>
            <a:ext cx="9144000" cy="4759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781200" y="4518000"/>
            <a:ext cx="836280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жжение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лимпийского   огня —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ин   из главных ритуалов на торжественном открытии Олимпийских игр. Его доставляют из Олимпии эстафетой   к   месту   проведения   игр   лучшие спортсмены ми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05520" y="-360"/>
            <a:ext cx="40384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лимпийский флаг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— белое атласное полотнище с олимпийскими кольц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5" descr="TORCH2"/>
          <p:cNvPicPr/>
          <p:nvPr/>
        </p:nvPicPr>
        <p:blipFill>
          <a:blip r:embed="rId2"/>
          <a:stretch/>
        </p:blipFill>
        <p:spPr>
          <a:xfrm>
            <a:off x="0" y="2205000"/>
            <a:ext cx="1440000" cy="4140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197000" cy="1297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-212760" y="139680"/>
            <a:ext cx="9906120" cy="5035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Picture 3" descr="E:\Сочи\i.jpg"/>
          <p:cNvPicPr/>
          <p:nvPr/>
        </p:nvPicPr>
        <p:blipFill>
          <a:blip r:embed="rId1"/>
          <a:stretch/>
        </p:blipFill>
        <p:spPr>
          <a:xfrm>
            <a:off x="-14400" y="-1440"/>
            <a:ext cx="9158400" cy="4859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6T14:53:05Z</dcterms:created>
  <dc:creator>Андрей</dc:creator>
  <dc:description/>
  <dc:language>en-US</dc:language>
  <cp:lastModifiedBy>МОУ СОШ 2</cp:lastModifiedBy>
  <dcterms:modified xsi:type="dcterms:W3CDTF">2023-09-14T06:02:26Z</dcterms:modified>
  <cp:revision>52</cp:revision>
  <dc:subject/>
  <dc:title>СОЧИ 2014</dc:title>
</cp:coreProperties>
</file>