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37.jpeg" ContentType="image/jpeg"/>
  <Override PartName="/ppt/media/image70.png" ContentType="image/png"/>
  <Override PartName="/ppt/media/image7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24.jpeg" ContentType="image/jpeg"/>
  <Override PartName="/ppt/media/image11.png" ContentType="image/png"/>
  <Override PartName="/ppt/media/image59.png" ContentType="image/png"/>
  <Override PartName="/ppt/media/image66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42.png" ContentType="image/png"/>
  <Override PartName="/ppt/media/image26.jpeg" ContentType="image/jpeg"/>
  <Override PartName="/ppt/media/image13.wmf" ContentType="image/x-wmf"/>
  <Override PartName="/ppt/media/image50.jpeg" ContentType="image/jpeg"/>
  <Override PartName="/ppt/media/image71.jpeg" ContentType="image/jpeg"/>
  <Override PartName="/ppt/media/image27.jpeg" ContentType="image/jpeg"/>
  <Override PartName="/ppt/media/image10.jpeg" ContentType="image/jpeg"/>
  <Override PartName="/ppt/media/image73.jpeg" ContentType="image/jpe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9.jpeg" ContentType="image/jpeg"/>
  <Override PartName="/ppt/media/image67.jpeg" ContentType="image/jpeg"/>
  <Override PartName="/ppt/media/image65.jpeg" ContentType="image/jpeg"/>
  <Override PartName="/ppt/media/image8.jpeg" ContentType="image/jpeg"/>
  <Override PartName="/ppt/media/image62.jpeg" ContentType="image/jpeg"/>
  <Override PartName="/ppt/media/image60.jpeg" ContentType="image/jpeg"/>
  <Override PartName="/ppt/media/chimes.wav" ContentType="audio/x-wav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14.png" ContentType="image/png"/>
  <Override PartName="/ppt/media/image2.png" ContentType="image/png"/>
  <Override PartName="/ppt/media/image16.jpeg" ContentType="image/jpe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28.jpeg" ContentType="image/jpeg"/>
  <Override PartName="/ppt/media/image51.jpeg" ContentType="image/jpeg"/>
  <Override PartName="/ppt/media/image38.jpeg" ContentType="image/jpeg"/>
  <Override PartName="/ppt/media/image72.png" ContentType="image/png"/>
  <Override PartName="/ppt/media/image19.jpeg" ContentType="image/jpeg"/>
  <Override PartName="/ppt/media/image5.png" ContentType="image/png"/>
  <Override PartName="/ppt/media/image43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00F-69AB-4FB4-989A-E79D399E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360-67FB-4E4A-B8A3-EB072095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23A-D28B-4C6E-AA1E-47B001BA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3F9-A66F-4C36-9611-3067D528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2FA4-730B-49E5-B394-DDA00DCF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D42E-6368-4B15-AC5A-351965B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49AF-FB4E-43FD-A825-B0C3C6C3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D131-4F1C-4D4E-81B4-46CD0868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223D-71C4-4B96-8108-F2EF99D0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747-4735-484E-99A0-E11E468F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D456-8D0C-4DF4-AD7B-4C7D032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EA3-2F5F-44DD-8DB3-54E8C63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97A1-FE4A-482B-B2F5-F016076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6AAB-E793-4426-AFF0-7AB218F9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965D-5FD3-4458-9B6D-5A142BAF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546-E459-411D-B43C-85A8B705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E725-29CE-42ED-B36F-12032A35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D1DF-E2AA-4FA5-9C0E-7FDAFF19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E82B-68E2-487E-9EBD-0FF38449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AE4A-028F-4E77-871C-8E49C534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6B0C-9977-4557-B9CA-7281372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DDD8-7EBC-48F5-8CCB-1EC2111A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68F-9818-438B-B402-8C9E44A9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DA24-6963-4509-95B5-E4EF1AB2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EACF-1D45-4479-8187-A47B261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79DA-417F-4123-A022-98E5D1CA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E78B-1277-42D6-A605-EA680E1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7174-090E-4AD7-8B32-E250282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C2F00-2714-4432-A48B-982D6210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572F-2E41-46F7-AA62-D7657429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4BF2-4CF5-4F5A-A7B2-C55CFC4A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C526-3175-4651-8751-35504072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26F2-E641-4360-BCC6-1E835E33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F69-4A11-4485-9447-729E83C7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D102-D8F5-4A08-850A-8410DFF8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1A35-910D-4B24-8654-49418A81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9C2A-B962-463A-9EA6-6A6A76D8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AAE9-13BC-45A9-8016-6014DF4B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C3DB-78D8-4CEC-B55D-79E8C707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C55B-EDF1-4D18-9ECE-961268C3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7027-67C8-4278-91D4-725E85F9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F1EA-C53E-4601-A200-02E7F655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DC33-7B77-4743-BCD6-E92DA4B1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53A4-1A34-48CA-93BA-88B6D3F8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4FF-5EAD-42D6-9FF9-5AB1087D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34771-0E1D-4EB8-84E9-5E5BD75D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0F3C-FCA2-48CC-AAF6-EC1147E1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00CE-6A01-4AC3-A14E-533F7F3A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93E2-F913-4F9C-AB94-E06DCA0C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2E0B-7848-4503-A627-C3B3AA72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4146-C389-49CA-82F6-A1E25D0D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4499-81CC-4754-BFF2-E920387D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880C-31E9-46BC-8608-612472D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E1B0-8158-490F-BB4B-AE714BC9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DDA4-D20E-41EB-B06B-BA557F58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733-90A3-46F4-9055-66200FE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E145-52EB-46C2-B762-FC171638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037-2C32-48E7-BA47-9518C878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BDD-E8CE-4163-8500-4E16818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5A6-922A-4D40-A8FD-FE904CFD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A25A-E29C-467C-8359-064F7B2A99F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0CEB-13C9-4D41-A1AE-025295E1B83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3AF1-B31D-42E5-9986-02E4487CD59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9849-3E9F-491C-8147-DE568F5007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547A-5B3B-4BE6-8519-A964EA3633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f5f9"/>
                </a:solidFill>
                <a:latin typeface="Arial"/>
              </a:rPr>
              <a:t>Олимпийский урок</a:t>
            </a:r>
            <a:endParaRPr b="0" lang="en-US" sz="7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1298765148_mascots"/>
          <p:cNvPicPr/>
          <p:nvPr/>
        </p:nvPicPr>
        <p:blipFill>
          <a:blip r:embed="rId1"/>
          <a:stretch/>
        </p:blipFill>
        <p:spPr>
          <a:xfrm>
            <a:off x="0" y="3500280"/>
            <a:ext cx="9239400" cy="335772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5" descr="1297176345_post-3-12971604271237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e43aa497a7a349d398636c5643e0dd0e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leo"/>
          <p:cNvPicPr/>
          <p:nvPr/>
        </p:nvPicPr>
        <p:blipFill>
          <a:blip r:embed="rId1"/>
          <a:stretch/>
        </p:blipFill>
        <p:spPr>
          <a:xfrm>
            <a:off x="1835280" y="692280"/>
            <a:ext cx="4932360" cy="6165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155999653"/>
          <p:cNvPicPr/>
          <p:nvPr/>
        </p:nvPicPr>
        <p:blipFill>
          <a:blip r:embed="rId1"/>
          <a:stretch/>
        </p:blipFill>
        <p:spPr>
          <a:xfrm>
            <a:off x="500040" y="0"/>
            <a:ext cx="7715160" cy="693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396720" y="-414360"/>
            <a:ext cx="8064720" cy="26766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000" y="148428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имние Олимпийские игры Сочи-2014 пройдут на одиннадцати спортивных объектах. Строительство олимпийских сооружений осуществлялось в двух кластерах — Горном и Прибрежном кластере Имеретинской низменност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брежный кластер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нтральный объект Прибрежного кластера — Олимпийский парк. Он представляет собой комплекс, состоящий из олимпийских спортивных объектов, парковой зоны и объектов инфраструктур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временно на территории прибрежного кластера могут находиться приблизительно 75 тысяч посетител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 состав прибрежного кластера входят следующие спортивные объекты Сочи-2014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дион «Фишт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довый дворец «Большой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довая арена «Шайба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ерлинговый центр «Ледяной куб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ец зимнего спорта «Айсберг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ькобежный центр «Адлер-Арена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978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хематичное изображение олимпийских объектов  Сочи 2014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2" descr="http://www.vsluh.ru/system/post_images/large/258/258510/olimp_soch.jpg?1355376097"/>
          <p:cNvPicPr/>
          <p:nvPr/>
        </p:nvPicPr>
        <p:blipFill>
          <a:blip r:embed="rId1"/>
          <a:stretch/>
        </p:blipFill>
        <p:spPr>
          <a:xfrm>
            <a:off x="468360" y="981000"/>
            <a:ext cx="7991280" cy="570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49296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4"/>
          <p:cNvSpPr/>
          <p:nvPr/>
        </p:nvSpPr>
        <p:spPr>
          <a:xfrm>
            <a:off x="0" y="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Стадион «Фишт»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83252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b5395"/>
                </a:solidFill>
                <a:latin typeface="Arial"/>
                <a:ea typeface="Arial"/>
              </a:rPr>
              <a:t>Ледовый дворец «Большой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Picture 2" descr="http://www.72box.ru/uploads/posts/2012-09/1347341953_1.jpg"/>
          <p:cNvPicPr/>
          <p:nvPr/>
        </p:nvPicPr>
        <p:blipFill>
          <a:blip r:embed="rId1"/>
          <a:stretch/>
        </p:blipFill>
        <p:spPr>
          <a:xfrm>
            <a:off x="0" y="1714680"/>
            <a:ext cx="91677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Андрей\Desktop\Сочи\1382384379_olimpiyskiy-stadion-sochi-2014.jpg"/>
          <p:cNvPicPr/>
          <p:nvPr/>
        </p:nvPicPr>
        <p:blipFill>
          <a:blip r:embed="rId1"/>
          <a:stretch/>
        </p:blipFill>
        <p:spPr>
          <a:xfrm>
            <a:off x="4132440" y="3714840"/>
            <a:ext cx="5011560" cy="3143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http://olympicroute-of-russia.ru/main/images/stories/articles/sochi/olympobjects/Shaiba2.jpg"/>
          <p:cNvPicPr/>
          <p:nvPr/>
        </p:nvPicPr>
        <p:blipFill>
          <a:blip r:embed="rId2"/>
          <a:stretch/>
        </p:blipFill>
        <p:spPr>
          <a:xfrm>
            <a:off x="0" y="642960"/>
            <a:ext cx="4937040" cy="400032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109440" y="115920"/>
            <a:ext cx="58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ёрлинговый центр «Ледяной куб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randomBa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Цели и задач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Воспитывать у учащихся любовь к предмету, познавательное отношение к олимпийскому движение, чувство самоутверждения, здорового соперничества, сопереживание за коллекти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Активизировать интерес учащихся к олимпийским играм путем включения их в коллективную творческую деятельност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Пробудить интерес к спорту и сохранению собственного здоровью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Развивать чувство гордости за свою стран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-208080" y="-225360"/>
            <a:ext cx="9375840" cy="1846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Users\Андрей\Desktop\Сочи\1382384446_olimpiyskiy-stadion-sochi-2014.jpg"/>
          <p:cNvPicPr/>
          <p:nvPr/>
        </p:nvPicPr>
        <p:blipFill>
          <a:blip r:embed="rId2"/>
          <a:stretch/>
        </p:blipFill>
        <p:spPr>
          <a:xfrm>
            <a:off x="-41400" y="3929040"/>
            <a:ext cx="5110200" cy="29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:\Users\Андрей\Desktop\Сочи\06s.jpg"/>
          <p:cNvPicPr/>
          <p:nvPr/>
        </p:nvPicPr>
        <p:blipFill>
          <a:blip r:embed="rId3"/>
          <a:stretch/>
        </p:blipFill>
        <p:spPr>
          <a:xfrm>
            <a:off x="3786120" y="642960"/>
            <a:ext cx="5357880" cy="3782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856720" cy="50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онькобежный центр «Адлер-Арен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Рисунок 4" descr=""/>
          <p:cNvPicPr/>
          <p:nvPr/>
        </p:nvPicPr>
        <p:blipFill>
          <a:blip r:embed="rId1"/>
          <a:stretch/>
        </p:blipFill>
        <p:spPr>
          <a:xfrm>
            <a:off x="0" y="851040"/>
            <a:ext cx="9144000" cy="60069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05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83763"/>
                </a:solidFill>
                <a:latin typeface="Calibri"/>
              </a:rPr>
              <a:t>Ледовая арена «Шайба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Рисунок 4" descr="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6383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newsflash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7772400" cy="106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07640" y="1125360"/>
            <a:ext cx="9072360" cy="573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ортивные объекты Сочи-2014 горного кластера полностью подготовлены к проведению Зимних Олимпийских игр Сочи-2014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 состав кластера входят 5 спортивных сооружений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Комплекс для соревнований по лыжным гонкам и биатлону «Лаура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Горнолыжный центр «Роза Хутор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Комплекс для прыжков с трамплина «Русские горки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Центр саночного спорта «Санки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·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Экстрим-парк «Роза Хутор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60" y="115560"/>
            <a:ext cx="903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омплекс для соревнований по лыжным гонкам и биатлону «Лаура»</a:t>
            </a:r>
            <a:br>
              <a:rPr sz="2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2" descr="C:\Users\Андрей\Desktop\Сочи\1382384602_olimpiyskiy-stadion-sochi-2014.jpg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-414360" y="-353880"/>
            <a:ext cx="9558360" cy="22795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2" descr="Горнолыжный центр Роза Хутор в Сочи-2014"/>
          <p:cNvPicPr/>
          <p:nvPr/>
        </p:nvPicPr>
        <p:blipFill>
          <a:blip r:embed="rId2"/>
          <a:stretch/>
        </p:blipFill>
        <p:spPr>
          <a:xfrm>
            <a:off x="0" y="1501920"/>
            <a:ext cx="9144000" cy="5356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2" descr="Комплекс для прыжков с трамплина «Русские горки» в Сочи-2014"/>
          <p:cNvPicPr/>
          <p:nvPr/>
        </p:nvPicPr>
        <p:blipFill>
          <a:blip r:embed="rId1"/>
          <a:stretch/>
        </p:blipFill>
        <p:spPr>
          <a:xfrm>
            <a:off x="0" y="879480"/>
            <a:ext cx="8786880" cy="5978520"/>
          </a:xfrm>
          <a:prstGeom prst="rect">
            <a:avLst/>
          </a:prstGeom>
          <a:ln w="0">
            <a:noFill/>
          </a:ln>
        </p:spPr>
      </p:pic>
      <p:pic>
        <p:nvPicPr>
          <p:cNvPr id="304" name="Заголовок 3" descr=""/>
          <p:cNvPicPr/>
          <p:nvPr/>
        </p:nvPicPr>
        <p:blipFill>
          <a:blip r:embed="rId2"/>
          <a:stretch/>
        </p:blipFill>
        <p:spPr>
          <a:xfrm>
            <a:off x="-371520" y="-530280"/>
            <a:ext cx="868032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506520" y="0"/>
            <a:ext cx="8637480" cy="66996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Центр санного спорта «Санки» в Сочи-2014"/>
          <p:cNvPicPr/>
          <p:nvPr/>
        </p:nvPicPr>
        <p:blipFill>
          <a:blip r:embed="rId2"/>
          <a:stretch/>
        </p:blipFill>
        <p:spPr>
          <a:xfrm>
            <a:off x="0" y="76680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-378000" y="-42840"/>
            <a:ext cx="9015480" cy="13352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2" descr="Экстрим-парк «Роза Хутор» в Сочи-2014"/>
          <p:cNvPicPr/>
          <p:nvPr/>
        </p:nvPicPr>
        <p:blipFill>
          <a:blip r:embed="rId2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" descr="4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1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4552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115920" y="0"/>
            <a:ext cx="8248680" cy="1639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776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году до н.э.  впервые состоялись Олимпийские игры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протяжении почти двенадцати столетий они непрерывно проводились 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каждые четыре года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пока в 393 году н.э. римский император Феодосий не запретил их как пережиток языческого наследия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4716360" cy="471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2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4356000" cy="435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6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78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9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15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408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1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15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4788000" cy="478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19"/>
          <p:cNvPicPr/>
          <p:nvPr/>
        </p:nvPicPr>
        <p:blipFill>
          <a:blip r:embed="rId2"/>
          <a:stretch/>
        </p:blipFill>
        <p:spPr>
          <a:xfrm>
            <a:off x="4751280" y="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-6480" y="-414360"/>
            <a:ext cx="8869320" cy="2773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E:\Сочи2014\1358157082_0662.400x320.jpeg"/>
          <p:cNvPicPr/>
          <p:nvPr/>
        </p:nvPicPr>
        <p:blipFill>
          <a:blip r:embed="rId2"/>
          <a:stretch/>
        </p:blipFill>
        <p:spPr>
          <a:xfrm>
            <a:off x="1214280" y="1782720"/>
            <a:ext cx="6500880" cy="5075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E:\Сочи\д.ю\af08s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E:\Сочи\д.ю\olimpijskij_ogon_readmas.ru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784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се состязания проходили под открытым неб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5840" y="1285920"/>
            <a:ext cx="4357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артовая поло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ё возраст -2500 л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1"/>
          <a:stretch/>
        </p:blipFill>
        <p:spPr>
          <a:xfrm>
            <a:off x="5254560" y="2214720"/>
            <a:ext cx="3889440" cy="2838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стадион в Древней олимпии"/>
          <p:cNvPicPr/>
          <p:nvPr/>
        </p:nvPicPr>
        <p:blipFill>
          <a:blip r:embed="rId2"/>
          <a:stretch/>
        </p:blipFill>
        <p:spPr>
          <a:xfrm>
            <a:off x="0" y="1785960"/>
            <a:ext cx="4248000" cy="28224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0" y="135720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адион в древней Олимпии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5" name="Picture 9" descr="вход на стадион"/>
          <p:cNvPicPr/>
          <p:nvPr/>
        </p:nvPicPr>
        <p:blipFill>
          <a:blip r:embed="rId3"/>
          <a:stretch/>
        </p:blipFill>
        <p:spPr>
          <a:xfrm>
            <a:off x="2500200" y="4013280"/>
            <a:ext cx="4364280" cy="28447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3132000" y="623736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ход на стадион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:\Сочи\д.ю\07s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Сочи\д.ю\ogon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48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Picture 2" descr="E:\Сочи\д.ю\8___16_720x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E:\Сочи\д.ю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estafeta2014"/>
          <p:cNvPicPr/>
          <p:nvPr/>
        </p:nvPicPr>
        <p:blipFill>
          <a:blip r:embed="rId1"/>
          <a:stretch/>
        </p:blipFill>
        <p:spPr>
          <a:xfrm>
            <a:off x="0" y="0"/>
            <a:ext cx="9144000" cy="5676840"/>
          </a:xfrm>
          <a:prstGeom prst="rect">
            <a:avLst/>
          </a:prstGeom>
          <a:ln w="0">
            <a:noFill/>
          </a:ln>
        </p:spPr>
      </p:pic>
      <p:pic>
        <p:nvPicPr>
          <p:cNvPr id="335" name="Заголовок 1" descr=""/>
          <p:cNvPicPr/>
          <p:nvPr/>
        </p:nvPicPr>
        <p:blipFill>
          <a:blip r:embed="rId2"/>
          <a:stretch/>
        </p:blipFill>
        <p:spPr>
          <a:xfrm>
            <a:off x="-353880" y="5321160"/>
            <a:ext cx="8650080" cy="18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1370316384_1"/>
          <p:cNvPicPr/>
          <p:nvPr/>
        </p:nvPicPr>
        <p:blipFill>
          <a:blip r:embed="rId1"/>
          <a:stretch/>
        </p:blipFill>
        <p:spPr>
          <a:xfrm>
            <a:off x="0" y="1701720"/>
            <a:ext cx="9144000" cy="515628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5" descr=""/>
          <p:cNvPicPr/>
          <p:nvPr/>
        </p:nvPicPr>
        <p:blipFill>
          <a:blip r:embed="rId2"/>
          <a:stretch/>
        </p:blipFill>
        <p:spPr>
          <a:xfrm>
            <a:off x="396720" y="334800"/>
            <a:ext cx="8229600" cy="1603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X0PP5nCEAAsAUc"/>
          <p:cNvPicPr/>
          <p:nvPr/>
        </p:nvPicPr>
        <p:blipFill>
          <a:blip r:embed="rId1"/>
          <a:stretch/>
        </p:blipFill>
        <p:spPr>
          <a:xfrm>
            <a:off x="1116000" y="-31680"/>
            <a:ext cx="6889680" cy="6889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1449410_201202211718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riaru20130312"/>
          <p:cNvPicPr/>
          <p:nvPr/>
        </p:nvPicPr>
        <p:blipFill>
          <a:blip r:embed="rId1"/>
          <a:stretch/>
        </p:blipFill>
        <p:spPr>
          <a:xfrm>
            <a:off x="1258920" y="1628640"/>
            <a:ext cx="6683400" cy="401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mic sans ms"/>
              </a:rPr>
              <a:t>Пьер де Куберте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51280" y="1268280"/>
            <a:ext cx="529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дился 1 января 1863г. Кубертен досконально изучил системы физического воспитания во многих странах и пришёл к мысли  использовать идею возрождения Олимпийских игр для создания системы международных спортивных соревнований. 25 января 1892г. Пьер де Кубертен выступил в Сорбонне с докладом «Возрождение олимпизма». Ему было тогда всего 29 лет. В 1896 г. в Афинах состоялись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Олимпийские игры современ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60" name="Picture 5" descr="Untitled-2"/>
          <p:cNvPicPr/>
          <p:nvPr/>
        </p:nvPicPr>
        <p:blipFill>
          <a:blip r:embed="rId1"/>
          <a:stretch/>
        </p:blipFill>
        <p:spPr>
          <a:xfrm>
            <a:off x="250920" y="1341360"/>
            <a:ext cx="369072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1"/>
          <p:cNvPicPr/>
          <p:nvPr/>
        </p:nvPicPr>
        <p:blipFill>
          <a:blip r:embed="rId1"/>
          <a:stretch/>
        </p:blipFill>
        <p:spPr>
          <a:xfrm>
            <a:off x="2771640" y="1200240"/>
            <a:ext cx="3600720" cy="5657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Олимпийская символи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DS CenturyCapitals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stellar"/>
              </a:rPr>
              <a:t>Олимпийским символом названо изображение, которое представляет собой пять колец переплетённых (три в верхнем ряду, два в нижнем) разноцветных (голубое, чёрное и красное, желтое и зелёное) колец, олицетворяющее единство пяти континентов. Вместе с белым фоном олимпийского флага эта цвета являют собой цвета всех стран ми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ууу"/>
          <p:cNvPicPr/>
          <p:nvPr/>
        </p:nvPicPr>
        <p:blipFill>
          <a:blip r:embed="rId1"/>
          <a:stretch/>
        </p:blipFill>
        <p:spPr>
          <a:xfrm>
            <a:off x="0" y="0"/>
            <a:ext cx="9144000" cy="4759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81200" y="4518000"/>
            <a:ext cx="83628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жжение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импийского   огня —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ин   из главных ритуалов на торжественном открытии Олимпийских игр. Его доставляют из Олимпии эстафетой   к   месту   проведения   игр   лучшие спортсмены ми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импийский флаг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белое атласное полотнище с олимпийскими кольц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5" descr="TORCH2"/>
          <p:cNvPicPr/>
          <p:nvPr/>
        </p:nvPicPr>
        <p:blipFill>
          <a:blip r:embed="rId2"/>
          <a:stretch/>
        </p:blipFill>
        <p:spPr>
          <a:xfrm>
            <a:off x="0" y="2205000"/>
            <a:ext cx="1440000" cy="4140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197000" cy="1297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-212760" y="139680"/>
            <a:ext cx="9906120" cy="503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3" descr="E:\Сочи\i.jpg"/>
          <p:cNvPicPr/>
          <p:nvPr/>
        </p:nvPicPr>
        <p:blipFill>
          <a:blip r:embed="rId1"/>
          <a:stretch/>
        </p:blipFill>
        <p:spPr>
          <a:xfrm>
            <a:off x="-14400" y="-1440"/>
            <a:ext cx="9158400" cy="4859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4:53:05Z</dcterms:created>
  <dc:creator>Андрей</dc:creator>
  <dc:description/>
  <dc:language>en-US</dc:language>
  <cp:lastModifiedBy>МОУ СОШ 2</cp:lastModifiedBy>
  <dcterms:modified xsi:type="dcterms:W3CDTF">2023-09-14T06:02:26Z</dcterms:modified>
  <cp:revision>52</cp:revision>
  <dc:subject/>
  <dc:title>СОЧИ 2014</dc:title>
</cp:coreProperties>
</file>