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9A5-2831-4FCB-9859-8C2AE96C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DA7-1F4D-4127-8CC4-69BA8B1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075-E514-4F61-8CFC-44AF8DE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DC1-B11C-40E5-B210-0622C33D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F99-49A3-48B4-8753-CE4C4B94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A8D8-F422-4A6F-82B1-A5EC848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297-C0C7-48A3-B2E7-548F66C1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AF1-958D-4E26-B8FF-952266FA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D3C3-BE26-478F-BC79-A94ECC9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4EE9-A7DC-45C9-B8C9-FDA6698F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49A6-3521-499C-B841-11DCA62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77C-F3CA-4C2A-85B5-984A4D2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E894-D871-4234-A3BA-F767A7E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2C8F-F72B-4D5E-95FB-1902E3F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016B-99DC-4FEE-A5EC-623C9C5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6E6-41B3-415E-B888-7CD8D389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3EE-BC2C-45F6-8F1E-94AFF2F5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8CB-A2F5-4010-94F9-B67B9349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A1B-8153-42B6-A780-D368F150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9D4-C32C-430C-A9DF-C229DE22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C64-DF84-4F47-AF1C-3D649BB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A78-C419-4019-94A1-B479BBA0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1AA-D0C3-40AD-8264-6426754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33A-D01D-4757-B46E-45591AB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A73-45A6-45DC-90CF-FC1579FA3D6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DBD-6C8C-440C-9AE9-FD437D8547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826920" y="404640"/>
            <a:ext cx="756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овая игра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678040" y="595008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ябрь 2021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иридонова Гульфия Назип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2124000" y="2565360"/>
            <a:ext cx="64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Педагогический проб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5897520" cy="4033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5867280" y="3789360"/>
            <a:ext cx="223380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правные соавторы взрослого в реализации проек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" descr=""/>
          <p:cNvPicPr/>
          <p:nvPr/>
        </p:nvPicPr>
        <p:blipFill>
          <a:blip r:embed="rId2"/>
          <a:stretch/>
        </p:blipFill>
        <p:spPr>
          <a:xfrm>
            <a:off x="1398600" y="977760"/>
            <a:ext cx="5788080" cy="4035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6156360" y="3789360"/>
            <a:ext cx="208764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ение, требующее объяснения и подтвержд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3" descr=""/>
          <p:cNvPicPr/>
          <p:nvPr/>
        </p:nvPicPr>
        <p:blipFill>
          <a:blip r:embed="rId2"/>
          <a:stretch/>
        </p:blipFill>
        <p:spPr>
          <a:xfrm>
            <a:off x="1471680" y="981000"/>
            <a:ext cx="5788080" cy="4103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580000" y="3789360"/>
            <a:ext cx="2737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(суть, название) какого-либо рассуждения, проекта или исследова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3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870520" cy="4108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5796000" y="3645000"/>
            <a:ext cx="2448000" cy="946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оформления результатов проекта с использованием, например, поделок и рисунк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3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788080" cy="4252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5854680" y="3933720"/>
            <a:ext cx="230508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уждение результатов работы, выяснение причин успехов и неудач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Объект 2" descr=""/>
          <p:cNvPicPr/>
          <p:nvPr/>
        </p:nvPicPr>
        <p:blipFill>
          <a:blip r:embed="rId2"/>
          <a:stretch/>
        </p:blipFill>
        <p:spPr>
          <a:xfrm>
            <a:off x="1763640" y="907920"/>
            <a:ext cx="59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2" descr=""/>
          <p:cNvPicPr/>
          <p:nvPr/>
        </p:nvPicPr>
        <p:blipFill>
          <a:blip r:embed="rId2"/>
          <a:stretch/>
        </p:blipFill>
        <p:spPr>
          <a:xfrm>
            <a:off x="2773440" y="2206800"/>
            <a:ext cx="4194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5"/>
          <p:cNvSpPr txBox="1"/>
          <p:nvPr/>
        </p:nvSpPr>
        <p:spPr>
          <a:xfrm>
            <a:off x="2195640" y="765000"/>
            <a:ext cx="58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Блиц - опрос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195640" y="2997360"/>
            <a:ext cx="66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прос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вы знаете о проектной деятельности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2195640" y="476280"/>
            <a:ext cx="66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проектов – это способ достижения дидактической цели через детальную разработку  проблемы, которая должна завершиться вполне реальным результатом, оформленным тем или иным образ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 организации педагогического процесса, основанный на взаимодействии педагога и воспитанника, способ взаимодействия с окружающей средой, поэтапная практическая деятельность по достижению поставленной це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124000" y="184464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преимущества и недостатк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ектной деятельн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2195640" y="1484280"/>
            <a:ext cx="66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ое применение детьми имеющихся у них знаний и ум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терес к деятельности, приносящей публичный результат, личная заинтересованность в н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ение профессионального уровня педагог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ие системы продуктивного взаимодействия между участниками образовательного процесса – дети вовлекают в процесс родителей, общаются между собой, с воспитателем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тод делает образовательную систему детского сада открытой для активного участия родителе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ышает качество образовательного процесс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ужит развитию критического и творческого мышл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можность углубленного и многостороннего изучения отдельных те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е взаимодействие между всеми участниками проект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Прямоугольник 4" descr=""/>
          <p:cNvPicPr/>
          <p:nvPr/>
        </p:nvPicPr>
        <p:blipFill>
          <a:blip r:embed="rId1"/>
          <a:stretch/>
        </p:blipFill>
        <p:spPr>
          <a:xfrm>
            <a:off x="1676520" y="189000"/>
            <a:ext cx="6126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334800"/>
            <a:ext cx="4773600" cy="920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726720" y="29973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евысокая игровая составляющ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1187280" y="1628640"/>
            <a:ext cx="70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проверить свои знания по теме «Проектная деятельность в ДОУ», разгадав небольшой кроссво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ми на вопросы кроссворда являются хорошо Вам знакомые понятия и терми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2" descr=""/>
          <p:cNvPicPr/>
          <p:nvPr/>
        </p:nvPicPr>
        <p:blipFill>
          <a:blip r:embed="rId2"/>
          <a:stretch/>
        </p:blipFill>
        <p:spPr>
          <a:xfrm>
            <a:off x="1398600" y="905040"/>
            <a:ext cx="5907240" cy="41796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4959360" y="3700440"/>
            <a:ext cx="374508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ая деятельность взрослого и ребенка в решении проблемы, лично значимой для ребенка (исследовательская, познавательная, продуктивная), в процессе которой ребенок познает окружающий мир и воплощает новые знания в жизн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1312832976_school-frame-3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3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89752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5219640" y="3933720"/>
            <a:ext cx="2808360" cy="73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оекта, в ходе которого дети собирают и систематизируют информацию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3:55:23Z</dcterms:created>
  <dc:creator>Педкабинет</dc:creator>
  <dc:description/>
  <dc:language>en-US</dc:language>
  <cp:lastModifiedBy>RePack by Diakov</cp:lastModifiedBy>
  <dcterms:modified xsi:type="dcterms:W3CDTF">2021-11-22T06:03:37Z</dcterms:modified>
  <cp:revision>10</cp:revision>
  <dc:subject/>
  <dc:title>Слайд 1</dc:title>
</cp:coreProperties>
</file>