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png" ContentType="image/png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F889-9ED6-42BA-8282-C8C92A65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5C49-8499-4B0B-8EF5-34FF4C3A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517B-148D-4359-8716-FA95458A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8042-D505-4632-AB0C-37B1F31A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D817-AE8B-4960-941D-88475AD5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FBC5-333E-4EB4-8DC1-2D8BD2FD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EC73-81FD-48BB-A5F4-074CB38C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4F71-3223-459D-9AF4-E4D5894C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1FE9-6FD7-45FD-BCD7-99F1671B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30E4-F7CA-4143-AB18-A12B58CE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49EB-A97F-4A74-833E-514F6E0C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0C46-004F-4F4F-BEF8-494CFF0F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5234-7E4C-4BB5-BA6B-2D013A55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AA67-2687-49AC-B35F-3714B1CE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79FB-015C-4E1B-91E8-C913B8EC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4FC7-3E6A-454A-A655-7B033D56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A1FC-931D-416A-836B-0BC62AB4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2DA8-34B1-47AC-A0D2-6C33CF56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162-3F15-4F54-A3F5-773F1E1A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61EB-D6F0-4639-9B3C-545EA4A1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9EAE-526E-489E-BE51-EA91F1AF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FB7-AC12-4EE9-AB35-9F4593CA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8CB4-F2A1-4C43-BFEA-71E166DB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952B-4F3C-48E4-BD62-F65B3092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F45B-EB4D-465C-B7FD-CDA164B84C9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F001-D8E1-49DB-8897-4B90945168E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5"/>
          <p:cNvSpPr txBox="1"/>
          <p:nvPr/>
        </p:nvSpPr>
        <p:spPr>
          <a:xfrm>
            <a:off x="826920" y="404640"/>
            <a:ext cx="7561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ловая игра 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678040" y="5950080"/>
            <a:ext cx="40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оябрь 2021 го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пиридонова Гульфия Назипов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WordArt 7"/>
          <p:cNvSpPr txBox="1"/>
          <p:nvPr/>
        </p:nvSpPr>
        <p:spPr>
          <a:xfrm>
            <a:off x="2124000" y="2565360"/>
            <a:ext cx="6480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Impact"/>
              </a:rPr>
              <a:t>Педагогический проб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Object 3" descr=""/>
          <p:cNvPicPr/>
          <p:nvPr/>
        </p:nvPicPr>
        <p:blipFill>
          <a:blip r:embed="rId2"/>
          <a:stretch/>
        </p:blipFill>
        <p:spPr>
          <a:xfrm>
            <a:off x="1476360" y="907920"/>
            <a:ext cx="5897520" cy="40338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5867280" y="3789360"/>
            <a:ext cx="2233800" cy="733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вноправные соавторы взрослого в реализации проект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Object 3" descr=""/>
          <p:cNvPicPr/>
          <p:nvPr/>
        </p:nvPicPr>
        <p:blipFill>
          <a:blip r:embed="rId2"/>
          <a:stretch/>
        </p:blipFill>
        <p:spPr>
          <a:xfrm>
            <a:off x="1398600" y="977760"/>
            <a:ext cx="5788080" cy="40356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"/>
          <p:cNvSpPr/>
          <p:nvPr/>
        </p:nvSpPr>
        <p:spPr>
          <a:xfrm>
            <a:off x="6156360" y="3789360"/>
            <a:ext cx="2087640" cy="733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оложение, требующее объяснения и подтверждени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Object 3" descr=""/>
          <p:cNvPicPr/>
          <p:nvPr/>
        </p:nvPicPr>
        <p:blipFill>
          <a:blip r:embed="rId2"/>
          <a:stretch/>
        </p:blipFill>
        <p:spPr>
          <a:xfrm>
            <a:off x="1471680" y="981000"/>
            <a:ext cx="5788080" cy="410364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5580000" y="3789360"/>
            <a:ext cx="2737080" cy="733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мет (суть, название) какого-либо рассуждения, проекта или исследовани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Object 3" descr=""/>
          <p:cNvPicPr/>
          <p:nvPr/>
        </p:nvPicPr>
        <p:blipFill>
          <a:blip r:embed="rId2"/>
          <a:stretch/>
        </p:blipFill>
        <p:spPr>
          <a:xfrm>
            <a:off x="1403280" y="907920"/>
            <a:ext cx="5870520" cy="4108680"/>
          </a:xfrm>
          <a:prstGeom prst="rect">
            <a:avLst/>
          </a:prstGeom>
          <a:ln w="0">
            <a:noFill/>
          </a:ln>
        </p:spPr>
      </p:pic>
      <p:sp>
        <p:nvSpPr>
          <p:cNvPr id="190" name="TextBox 3"/>
          <p:cNvSpPr/>
          <p:nvPr/>
        </p:nvSpPr>
        <p:spPr>
          <a:xfrm>
            <a:off x="5796000" y="3645000"/>
            <a:ext cx="2448000" cy="9464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 оформления результатов проекта с использованием, например, поделок и рисунков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Object 3" descr=""/>
          <p:cNvPicPr/>
          <p:nvPr/>
        </p:nvPicPr>
        <p:blipFill>
          <a:blip r:embed="rId2"/>
          <a:stretch/>
        </p:blipFill>
        <p:spPr>
          <a:xfrm>
            <a:off x="1398600" y="905040"/>
            <a:ext cx="5788080" cy="4252680"/>
          </a:xfrm>
          <a:prstGeom prst="rect">
            <a:avLst/>
          </a:prstGeom>
          <a:ln w="0">
            <a:noFill/>
          </a:ln>
        </p:spPr>
      </p:pic>
      <p:sp>
        <p:nvSpPr>
          <p:cNvPr id="193" name="TextBox 3"/>
          <p:cNvSpPr/>
          <p:nvPr/>
        </p:nvSpPr>
        <p:spPr>
          <a:xfrm>
            <a:off x="5854680" y="3933720"/>
            <a:ext cx="2305080" cy="733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суждение результатов работы, выяснение причин успехов и неудач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Объект 2" descr=""/>
          <p:cNvPicPr/>
          <p:nvPr/>
        </p:nvPicPr>
        <p:blipFill>
          <a:blip r:embed="rId2"/>
          <a:stretch/>
        </p:blipFill>
        <p:spPr>
          <a:xfrm>
            <a:off x="1763640" y="907920"/>
            <a:ext cx="5942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2" descr=""/>
          <p:cNvPicPr/>
          <p:nvPr/>
        </p:nvPicPr>
        <p:blipFill>
          <a:blip r:embed="rId2"/>
          <a:stretch/>
        </p:blipFill>
        <p:spPr>
          <a:xfrm>
            <a:off x="2773440" y="2206800"/>
            <a:ext cx="419400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5"/>
          <p:cNvSpPr txBox="1"/>
          <p:nvPr/>
        </p:nvSpPr>
        <p:spPr>
          <a:xfrm>
            <a:off x="2195640" y="765000"/>
            <a:ext cx="5832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Блиц - опрос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195640" y="2997360"/>
            <a:ext cx="66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опрос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вы знаете о проектной деятельности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4"/>
          <p:cNvSpPr/>
          <p:nvPr/>
        </p:nvSpPr>
        <p:spPr>
          <a:xfrm>
            <a:off x="2195640" y="476280"/>
            <a:ext cx="662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 проектов – это способ достижения дидактической цели через детальную разработку  проблемы, которая должна завершиться вполне реальным результатом, оформленным тем или иным образом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 организации педагогического процесса, основанный на взаимодействии педагога и воспитанника, способ взаимодействия с окружающей средой, поэтапная практическая деятельность по достижению поставленной цел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2124000" y="1844640"/>
            <a:ext cx="61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зовите преимущества и недостатки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оектной деятельност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3"/>
          <p:cNvSpPr/>
          <p:nvPr/>
        </p:nvSpPr>
        <p:spPr>
          <a:xfrm>
            <a:off x="2195640" y="1484280"/>
            <a:ext cx="669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актическое применение детьми имеющихся у них знаний и умений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терес к деятельности, приносящей публичный результат, личная заинтересованность в нем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вышение профессионального уровня педагогов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звитие системы продуктивного взаимодействия между участниками образовательного процесса – дети вовлекают в процесс родителей, общаются между собой, с воспитателем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етод делает образовательную систему детского сада открытой для активного участия родителей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вышает качество образовательного процесса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лужит развитию критического и творческого мышления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зможность углубленного и многостороннего изучения отдельных тем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ктивное взаимодействие между всеми участниками проекта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Прямоугольник 4" descr=""/>
          <p:cNvPicPr/>
          <p:nvPr/>
        </p:nvPicPr>
        <p:blipFill>
          <a:blip r:embed="rId1"/>
          <a:stretch/>
        </p:blipFill>
        <p:spPr>
          <a:xfrm>
            <a:off x="1676520" y="189000"/>
            <a:ext cx="612612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Прямоугольник 1" descr=""/>
          <p:cNvPicPr/>
          <p:nvPr/>
        </p:nvPicPr>
        <p:blipFill>
          <a:blip r:embed="rId1"/>
          <a:stretch/>
        </p:blipFill>
        <p:spPr>
          <a:xfrm>
            <a:off x="2541600" y="334800"/>
            <a:ext cx="4773600" cy="9208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3"/>
          <p:cNvSpPr/>
          <p:nvPr/>
        </p:nvSpPr>
        <p:spPr>
          <a:xfrm>
            <a:off x="3726720" y="2997360"/>
            <a:ext cx="39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невысокая игровая составляюща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"/>
          <p:cNvSpPr/>
          <p:nvPr/>
        </p:nvSpPr>
        <p:spPr>
          <a:xfrm>
            <a:off x="1187280" y="1628640"/>
            <a:ext cx="705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ю проверить свои знания по теме «Проектная деятельность в ДОУ», разгадав небольшой кроссвор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ами на вопросы кроссворда являются хорошо Вам знакомые понятия и термины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чи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Object 2" descr=""/>
          <p:cNvPicPr/>
          <p:nvPr/>
        </p:nvPicPr>
        <p:blipFill>
          <a:blip r:embed="rId2"/>
          <a:stretch/>
        </p:blipFill>
        <p:spPr>
          <a:xfrm>
            <a:off x="1398600" y="905040"/>
            <a:ext cx="5907240" cy="41796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3"/>
          <p:cNvSpPr/>
          <p:nvPr/>
        </p:nvSpPr>
        <p:spPr>
          <a:xfrm>
            <a:off x="4959360" y="3700440"/>
            <a:ext cx="3745080" cy="13726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местная деятельность взрослого и ребенка в решении проблемы, лично значимой для ребенка (исследовательская, познавательная, продуктивная), в процессе которой ребенок познает окружающий мир и воплощает новые знания в жизнь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Object 3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5897520" cy="41036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5219640" y="3933720"/>
            <a:ext cx="2808360" cy="733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 проекта, в ходе которого дети собирают и систематизируют информацию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9T03:55:23Z</dcterms:created>
  <dc:creator>Педкабинет</dc:creator>
  <dc:description/>
  <dc:language>en-US</dc:language>
  <cp:lastModifiedBy>RePack by Diakov</cp:lastModifiedBy>
  <dcterms:modified xsi:type="dcterms:W3CDTF">2021-11-22T06:03:37Z</dcterms:modified>
  <cp:revision>10</cp:revision>
  <dc:subject/>
  <dc:title>Слайд 1</dc:title>
</cp:coreProperties>
</file>