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5.png" ContentType="image/png"/>
  <Override PartName="/ppt/media/image14.wmf" ContentType="image/x-wmf"/>
  <Override PartName="/ppt/media/image9.wmf" ContentType="image/x-wmf"/>
  <Override PartName="/ppt/media/image1.png" ContentType="image/png"/>
  <Override PartName="/ppt/media/image6.jpeg" ContentType="image/jpe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7A62-E883-4F58-AE55-172ECBC08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52D1-2676-499F-8DD9-4A58216E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A15D-484B-4D46-8C03-DB8608B94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59DE-16AD-4BC2-9E9A-41677B282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2245-B775-4FAE-9D9F-C93A540B2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B19A-1D2F-4210-9E29-12C565D9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85C4-7A74-4824-89C2-57A0A921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9AF6-A302-4AB0-ACBE-994C4241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11E1-B671-4258-80D2-DAA37190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A5D7-D2A3-4D5B-8E70-D08DC821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CDD8-26B4-4195-A286-1F13A8B7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AB40-AD8B-4D2D-8121-C79C0F18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1984-4F25-4067-9A1E-6414EF92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CB63-A589-41D8-8D3A-DEB782ED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3382-A370-4E9D-B70D-69B9E788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486F-B409-400A-A457-ED582C15F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259A-F8E1-47A8-A9BD-ABA33D3D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D6C2-DD99-4141-98B1-D3E314E3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994D-BBD9-441B-865D-B59E113C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ABFA-CB9E-40D5-B895-53D17908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C977-28CF-441C-AAD0-58E4F665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EB36-E703-4CB1-9600-489DE478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7786-ACFB-4A05-9663-4A8130FB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3B5C-0EC5-496E-9C41-37F6C536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8D56-A57A-44CF-A095-28B15322BF5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2913-B562-4310-924E-F551F51FE5F0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5"/>
          <p:cNvSpPr txBox="1"/>
          <p:nvPr/>
        </p:nvSpPr>
        <p:spPr>
          <a:xfrm>
            <a:off x="826920" y="404640"/>
            <a:ext cx="7561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еловая игра 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2678040" y="5950080"/>
            <a:ext cx="40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оябрь 2021 год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пиридонова Гульфия Назиповн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WordArt 7"/>
          <p:cNvSpPr txBox="1"/>
          <p:nvPr/>
        </p:nvSpPr>
        <p:spPr>
          <a:xfrm>
            <a:off x="2124000" y="2565360"/>
            <a:ext cx="6480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Impact"/>
              </a:rPr>
              <a:t>Педагогический проб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0" y="0"/>
            <a:ext cx="9132840" cy="6858000"/>
          </a:xfrm>
          <a:prstGeom prst="rect">
            <a:avLst/>
          </a:prstGeom>
          <a:ln w="0">
            <a:noFill/>
          </a:ln>
        </p:spPr>
      </p:pic>
      <p:pic>
        <p:nvPicPr>
          <p:cNvPr id="180" name="Object 3" descr=""/>
          <p:cNvPicPr/>
          <p:nvPr/>
        </p:nvPicPr>
        <p:blipFill>
          <a:blip r:embed="rId2"/>
          <a:stretch/>
        </p:blipFill>
        <p:spPr>
          <a:xfrm>
            <a:off x="1476360" y="907920"/>
            <a:ext cx="5897520" cy="40338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4"/>
          <p:cNvSpPr/>
          <p:nvPr/>
        </p:nvSpPr>
        <p:spPr>
          <a:xfrm>
            <a:off x="5867280" y="3789360"/>
            <a:ext cx="2233800" cy="7333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вноправные соавторы взрослого в реализации проект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0" y="0"/>
            <a:ext cx="913284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Object 3" descr=""/>
          <p:cNvPicPr/>
          <p:nvPr/>
        </p:nvPicPr>
        <p:blipFill>
          <a:blip r:embed="rId2"/>
          <a:stretch/>
        </p:blipFill>
        <p:spPr>
          <a:xfrm>
            <a:off x="1398600" y="977760"/>
            <a:ext cx="5788080" cy="40356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3"/>
          <p:cNvSpPr/>
          <p:nvPr/>
        </p:nvSpPr>
        <p:spPr>
          <a:xfrm>
            <a:off x="6156360" y="3789360"/>
            <a:ext cx="2087640" cy="7333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оложение, требующее объяснения и подтверждения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0" y="0"/>
            <a:ext cx="913284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Object 3" descr=""/>
          <p:cNvPicPr/>
          <p:nvPr/>
        </p:nvPicPr>
        <p:blipFill>
          <a:blip r:embed="rId2"/>
          <a:stretch/>
        </p:blipFill>
        <p:spPr>
          <a:xfrm>
            <a:off x="1471680" y="981000"/>
            <a:ext cx="5788080" cy="4103640"/>
          </a:xfrm>
          <a:prstGeom prst="rect">
            <a:avLst/>
          </a:prstGeom>
          <a:ln w="0">
            <a:noFill/>
          </a:ln>
        </p:spPr>
      </p:pic>
      <p:sp>
        <p:nvSpPr>
          <p:cNvPr id="187" name="TextBox 3"/>
          <p:cNvSpPr/>
          <p:nvPr/>
        </p:nvSpPr>
        <p:spPr>
          <a:xfrm>
            <a:off x="5580000" y="3789360"/>
            <a:ext cx="2737080" cy="7333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мет (суть, название) какого-либо рассуждения, проекта или исследования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0" y="0"/>
            <a:ext cx="9132840" cy="6858000"/>
          </a:xfrm>
          <a:prstGeom prst="rect">
            <a:avLst/>
          </a:prstGeom>
          <a:ln w="0">
            <a:noFill/>
          </a:ln>
        </p:spPr>
      </p:pic>
      <p:pic>
        <p:nvPicPr>
          <p:cNvPr id="189" name="Object 3" descr=""/>
          <p:cNvPicPr/>
          <p:nvPr/>
        </p:nvPicPr>
        <p:blipFill>
          <a:blip r:embed="rId2"/>
          <a:stretch/>
        </p:blipFill>
        <p:spPr>
          <a:xfrm>
            <a:off x="1403280" y="907920"/>
            <a:ext cx="5870520" cy="4108680"/>
          </a:xfrm>
          <a:prstGeom prst="rect">
            <a:avLst/>
          </a:prstGeom>
          <a:ln w="0">
            <a:noFill/>
          </a:ln>
        </p:spPr>
      </p:pic>
      <p:sp>
        <p:nvSpPr>
          <p:cNvPr id="190" name="TextBox 3"/>
          <p:cNvSpPr/>
          <p:nvPr/>
        </p:nvSpPr>
        <p:spPr>
          <a:xfrm>
            <a:off x="5796000" y="3645000"/>
            <a:ext cx="2448000" cy="9464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иант оформления результатов проекта с использованием, например, поделок и рисунков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0" y="0"/>
            <a:ext cx="913284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Object 3" descr=""/>
          <p:cNvPicPr/>
          <p:nvPr/>
        </p:nvPicPr>
        <p:blipFill>
          <a:blip r:embed="rId2"/>
          <a:stretch/>
        </p:blipFill>
        <p:spPr>
          <a:xfrm>
            <a:off x="1398600" y="905040"/>
            <a:ext cx="5788080" cy="4252680"/>
          </a:xfrm>
          <a:prstGeom prst="rect">
            <a:avLst/>
          </a:prstGeom>
          <a:ln w="0">
            <a:noFill/>
          </a:ln>
        </p:spPr>
      </p:pic>
      <p:sp>
        <p:nvSpPr>
          <p:cNvPr id="193" name="TextBox 3"/>
          <p:cNvSpPr/>
          <p:nvPr/>
        </p:nvSpPr>
        <p:spPr>
          <a:xfrm>
            <a:off x="5854680" y="3933720"/>
            <a:ext cx="2305080" cy="7333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суждение результатов работы, выяснение причин успехов и неудач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0" y="0"/>
            <a:ext cx="9132840" cy="6858000"/>
          </a:xfrm>
          <a:prstGeom prst="rect">
            <a:avLst/>
          </a:prstGeom>
          <a:ln w="0">
            <a:noFill/>
          </a:ln>
        </p:spPr>
      </p:pic>
      <p:pic>
        <p:nvPicPr>
          <p:cNvPr id="195" name="Объект 2" descr=""/>
          <p:cNvPicPr/>
          <p:nvPr/>
        </p:nvPicPr>
        <p:blipFill>
          <a:blip r:embed="rId2"/>
          <a:stretch/>
        </p:blipFill>
        <p:spPr>
          <a:xfrm>
            <a:off x="1763640" y="907920"/>
            <a:ext cx="59421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0" y="0"/>
            <a:ext cx="913284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Прямоугольник 2" descr=""/>
          <p:cNvPicPr/>
          <p:nvPr/>
        </p:nvPicPr>
        <p:blipFill>
          <a:blip r:embed="rId2"/>
          <a:stretch/>
        </p:blipFill>
        <p:spPr>
          <a:xfrm>
            <a:off x="2773440" y="2206800"/>
            <a:ext cx="419400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5"/>
          <p:cNvSpPr txBox="1"/>
          <p:nvPr/>
        </p:nvSpPr>
        <p:spPr>
          <a:xfrm>
            <a:off x="2195640" y="765000"/>
            <a:ext cx="58323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Блиц - опрос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Impact"/>
              <a:ea typeface="Impact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195640" y="2997360"/>
            <a:ext cx="66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опрос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то вы знаете о проектной деятельности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4"/>
          <p:cNvSpPr/>
          <p:nvPr/>
        </p:nvSpPr>
        <p:spPr>
          <a:xfrm>
            <a:off x="2195640" y="476280"/>
            <a:ext cx="6624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 проектов – это способ достижения дидактической цели через детальную разработку  проблемы, которая должна завершиться вполне реальным результатом, оформленным тем или иным образом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соб организации педагогического процесса, основанный на взаимодействии педагога и воспитанника, способ взаимодействия с окружающей средой, поэтапная практическая деятельность по достижению поставленной цел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2124000" y="1844640"/>
            <a:ext cx="61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азовите преимущества и недостатки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роектной деятельности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3"/>
          <p:cNvSpPr/>
          <p:nvPr/>
        </p:nvSpPr>
        <p:spPr>
          <a:xfrm>
            <a:off x="2195640" y="1484280"/>
            <a:ext cx="6697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актическое применение детьми имеющихся у них знаний и умений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нтерес к деятельности, приносящей публичный результат, личная заинтересованность в нем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вышение профессионального уровня педагогов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звитие системы продуктивного взаимодействия между участниками образовательного процесса – дети вовлекают в процесс родителей, общаются между собой, с воспитателем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етод делает образовательную систему детского сада открытой для активного участия родителей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вышает качество образовательного процесса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лужит развитию критического и творческого мышления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зможность углубленного и многостороннего изучения отдельных тем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ктивное взаимодействие между всеми участниками проекта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Прямоугольник 4" descr=""/>
          <p:cNvPicPr/>
          <p:nvPr/>
        </p:nvPicPr>
        <p:blipFill>
          <a:blip r:embed="rId1"/>
          <a:stretch/>
        </p:blipFill>
        <p:spPr>
          <a:xfrm>
            <a:off x="1676520" y="189000"/>
            <a:ext cx="612612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Прямоугольник 1" descr=""/>
          <p:cNvPicPr/>
          <p:nvPr/>
        </p:nvPicPr>
        <p:blipFill>
          <a:blip r:embed="rId1"/>
          <a:stretch/>
        </p:blipFill>
        <p:spPr>
          <a:xfrm>
            <a:off x="2541600" y="334800"/>
            <a:ext cx="4773600" cy="920880"/>
          </a:xfrm>
          <a:prstGeom prst="rect">
            <a:avLst/>
          </a:prstGeom>
          <a:ln w="0">
            <a:noFill/>
          </a:ln>
        </p:spPr>
      </p:pic>
      <p:sp>
        <p:nvSpPr>
          <p:cNvPr id="170" name="TextBox 3"/>
          <p:cNvSpPr/>
          <p:nvPr/>
        </p:nvSpPr>
        <p:spPr>
          <a:xfrm>
            <a:off x="3726720" y="2997360"/>
            <a:ext cx="39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невысокая игровая составляюща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0" y="0"/>
            <a:ext cx="913284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Box 2"/>
          <p:cNvSpPr/>
          <p:nvPr/>
        </p:nvSpPr>
        <p:spPr>
          <a:xfrm>
            <a:off x="1187280" y="1628640"/>
            <a:ext cx="705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ю проверить свои знания по теме «Проектная деятельность в ДОУ», разгадав небольшой кроссворд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ами на вопросы кроссворда являются хорошо Вам знакомые понятия и термины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чи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0" y="0"/>
            <a:ext cx="913284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Object 2" descr=""/>
          <p:cNvPicPr/>
          <p:nvPr/>
        </p:nvPicPr>
        <p:blipFill>
          <a:blip r:embed="rId2"/>
          <a:stretch/>
        </p:blipFill>
        <p:spPr>
          <a:xfrm>
            <a:off x="1398600" y="905040"/>
            <a:ext cx="5907240" cy="41796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3"/>
          <p:cNvSpPr/>
          <p:nvPr/>
        </p:nvSpPr>
        <p:spPr>
          <a:xfrm>
            <a:off x="4959360" y="3700440"/>
            <a:ext cx="3745080" cy="13726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местная деятельность взрослого и ребенка в решении проблемы, лично значимой для ребенка (исследовательская, познавательная, продуктивная), в процессе которой ребенок познает окружающий мир и воплощает новые знания в жизнь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0" y="0"/>
            <a:ext cx="913284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Object 3" descr=""/>
          <p:cNvPicPr/>
          <p:nvPr/>
        </p:nvPicPr>
        <p:blipFill>
          <a:blip r:embed="rId2"/>
          <a:stretch/>
        </p:blipFill>
        <p:spPr>
          <a:xfrm>
            <a:off x="1476360" y="981000"/>
            <a:ext cx="5897520" cy="4103640"/>
          </a:xfrm>
          <a:prstGeom prst="rect">
            <a:avLst/>
          </a:prstGeom>
          <a:ln w="0">
            <a:noFill/>
          </a:ln>
        </p:spPr>
      </p:pic>
      <p:sp>
        <p:nvSpPr>
          <p:cNvPr id="178" name="TextBox 3"/>
          <p:cNvSpPr/>
          <p:nvPr/>
        </p:nvSpPr>
        <p:spPr>
          <a:xfrm>
            <a:off x="5219640" y="3933720"/>
            <a:ext cx="2808360" cy="7333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 проекта, в ходе которого дети собирают и систематизируют информацию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9T03:55:23Z</dcterms:created>
  <dc:creator>Педкабинет</dc:creator>
  <dc:description/>
  <dc:language>en-US</dc:language>
  <cp:lastModifiedBy>RePack by Diakov</cp:lastModifiedBy>
  <dcterms:modified xsi:type="dcterms:W3CDTF">2021-11-22T06:03:37Z</dcterms:modified>
  <cp:revision>10</cp:revision>
  <dc:subject/>
  <dc:title>Слайд 1</dc:title>
</cp:coreProperties>
</file>