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7F4A-A17B-4FB9-B62D-6D477DD1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882C-21CB-4682-9E9B-A68BD919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4C98-AD9C-4144-9801-51F5DBA3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8BBD-B2AD-40DF-9988-6C101C1E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41738-1744-488B-B2FF-9E560A36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7A691-7961-4544-B11B-1ADAE243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3CB56-91BB-401A-8AE0-71EAF578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4F48B-F84C-47DB-AFB9-06DA7A39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2BFB5-CB01-4A87-872C-18FFD8E0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27386-ED24-4A99-A851-19EF22DF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04A44-5C81-40DC-BD5A-B0885FD7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4AD6-6CF7-4DD7-B1E1-31734FBE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E918E-BF7F-447D-96CD-FBDC3067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B1C7F-C39B-4291-A31C-9588334F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59756-F0D0-46B9-9255-1A6E0876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48737-A120-47D5-AD17-C02E0444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6235A-F64D-4561-A8D6-124526D6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47BB0-31C2-47B4-9A36-04027F999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BAA81-AFFD-4B30-BEB0-A884F5C6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D25B8-4044-4AA3-930B-EA31B91F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BD3D8-EBAC-4E0E-B061-7BB325FC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8CCF6-B83E-43A2-89F9-EB513CE9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75A9-BB15-4F8F-97B5-B1AFF4E6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869A0-D262-4041-B3AE-8138821A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46B4F-440A-4685-BBBA-BCB31F4B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FF43F-4943-4776-8627-3A60216C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179F3-4A28-45F1-8A74-94BBA074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F36F6-85BA-4729-BB02-8548084C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736E2-94B5-4A1F-B2C9-1FC223A3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DA1ED-FF9E-4F45-8ABE-74122CBF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1D897D-3049-40DC-9420-EFFBE79B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7B402B-D98F-44AA-90EF-ADAD23AF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32F775-2412-4DE7-9E35-FCAA6176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A795-06B6-478E-B93B-CC2E491D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D80D43-2F5A-415D-94CD-6714C03F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860468-0970-42D3-94BB-BCDC7002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CFD14F-0F2F-4436-8EF7-4049B6F4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354F2D-E0B2-4207-A7B9-EB786028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05DADE-EEA3-49A6-B801-DBABB5D9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B5D5DB-578B-4077-A6A5-8282AF79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3BEC07-0753-4ED9-83C8-DB1959F2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73AEAB-1A87-4A49-BBD2-BFA1632F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A53AAB-59FA-4AE9-A4EA-DB6D2E38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A3B2-6902-45BA-ACF0-920BCC7B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BA5B-B404-4C80-A46B-E9D6848D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DDBA-3A90-4022-8DA5-F3A255DA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E43A-6D2C-4A1C-AA92-27248F27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CF6F-57CE-4F2A-814F-D6D5BADC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b1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1C5F-AA3E-4455-983A-D1291921A8F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b1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BDB0-8847-4B56-BBD3-050A65BD9A7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b1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5B42-FE5C-4727-B433-5A3EA2706C3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b1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D243-1C37-403F-9C96-62BFACBD00B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333399"/>
                </a:solidFill>
                <a:latin typeface="Tahoma"/>
              </a:rPr>
              <a:t>Жизнь и творчество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493560" y="-176040"/>
            <a:ext cx="8352000" cy="1339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:\Users\user\Desktop\5599.gif"/>
          <p:cNvPicPr/>
          <p:nvPr/>
        </p:nvPicPr>
        <p:blipFill>
          <a:blip r:embed="rId2"/>
          <a:stretch/>
        </p:blipFill>
        <p:spPr>
          <a:xfrm>
            <a:off x="3929040" y="1214280"/>
            <a:ext cx="1352520" cy="190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457200" y="1600200"/>
            <a:ext cx="4419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е бывать тебе в живых,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о снегу не встать: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Двадцать восемь штыковых,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Огнестрельных пять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орькую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обновушку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Другу шила я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Любит, любит кровушку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Русская земля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4572000" y="510552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1921 году был расстрелян Н. Гумилев.В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935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1939, 1948 году арестовывали сына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3629160" y="1062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206" name="Picture 8" descr="http://botinok.co.il/sites/default/files/images/2903ecd5b51e628aa6860c52c6094ec9_i_001.png"/>
          <p:cNvPicPr/>
          <p:nvPr/>
        </p:nvPicPr>
        <p:blipFill>
          <a:blip r:embed="rId2"/>
          <a:stretch/>
        </p:blipFill>
        <p:spPr>
          <a:xfrm>
            <a:off x="5065560" y="428760"/>
            <a:ext cx="3268800" cy="4505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Rectangle 2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8480520" cy="12380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457200" y="2438280"/>
            <a:ext cx="6172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И всюду клевета сопутствовала мне,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Ее ползучий шаг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я слышала во сне,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И в мертвом городе под беспощадным небом,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китаясь наугад за кровом и за хлебом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514600" y="48769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946 год-Постановление о журналах «Звезда» и «Ленинград».Стихи Ахматовой буквально осыпали площадной бранью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032280" y="1062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590400" y="603360"/>
            <a:ext cx="8029800" cy="11649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685800" y="2209680"/>
            <a:ext cx="4952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Умер Сталин. В жизни Анны Андреевны происходят перемены : в 1955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освобождают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сына, а в1956- выходит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борник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переводов. В 1964 году она едет в Италию, где присуждена премия «Этна-Таормин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»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213" name="Picture 4" descr="D:\Чимбур Л.С\Картинки\Ахматова в старости.jpg"/>
          <p:cNvPicPr/>
          <p:nvPr/>
        </p:nvPicPr>
        <p:blipFill>
          <a:blip r:embed="rId2"/>
          <a:stretch/>
        </p:blipFill>
        <p:spPr>
          <a:xfrm>
            <a:off x="5715000" y="928800"/>
            <a:ext cx="3071880" cy="464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98072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Constantia"/>
              </a:rPr>
              <a:t>Детств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Constantia"/>
              </a:rPr>
              <a:t>Отрочеств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Constantia"/>
              </a:rPr>
              <a:t>Юност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Constantia"/>
              </a:rPr>
              <a:t>«Проба пер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Constantia"/>
              </a:rPr>
              <a:t>Акмеизм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Constantia"/>
              </a:rPr>
              <a:t>Годы терро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Constantia"/>
              </a:rPr>
              <a:t>Вынужденное молчан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Constantia"/>
              </a:rPr>
              <a:t>Мировое признан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4" name="Rectangle 2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8480520" cy="12380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327672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76" name="Picture 6" descr="C:\Users\user\Desktop\file.jpg"/>
          <p:cNvPicPr/>
          <p:nvPr/>
        </p:nvPicPr>
        <p:blipFill>
          <a:blip r:embed="rId2"/>
          <a:stretch/>
        </p:blipFill>
        <p:spPr>
          <a:xfrm>
            <a:off x="4786200" y="357120"/>
            <a:ext cx="4143600" cy="6215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3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3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3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3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3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3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3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3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5108400" y="-6480"/>
            <a:ext cx="3402360" cy="1444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D:\Чимбур Л.С\Картинки\7.jpg"/>
          <p:cNvPicPr/>
          <p:nvPr/>
        </p:nvPicPr>
        <p:blipFill>
          <a:blip r:embed="rId2"/>
          <a:stretch/>
        </p:blipFill>
        <p:spPr>
          <a:xfrm>
            <a:off x="380880" y="990720"/>
            <a:ext cx="3724560" cy="53276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4495680" y="243828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нна Андреевна Ахматова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родилась  в селе Большой Фонтан в 1889 году 11 июня. Годовалым ребенком была перевезена Царское Сел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962520" y="380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533520" y="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леное великолепие парков,ипподром, где скакали  маленькие пестрые лошадки, выгон, куда ее водила  няня,- все это поразило маленькую Аню.Позднее она напишет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82" name="Picture 3" descr="D:\Чимбур Л.С\Картинки\1.jpg"/>
          <p:cNvPicPr/>
          <p:nvPr/>
        </p:nvPicPr>
        <p:blipFill>
          <a:blip r:embed="rId1"/>
          <a:stretch/>
        </p:blipFill>
        <p:spPr>
          <a:xfrm>
            <a:off x="1905120" y="1143000"/>
            <a:ext cx="4952880" cy="35067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2362320" y="4632480"/>
            <a:ext cx="46479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Я к розам хочу в тот единственный сад,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Где лучшая в мире стоит из оград.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Где статуи помнят меня молодой.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А я их под невскою помню водой.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Rectangle 2" descr=""/>
          <p:cNvPicPr/>
          <p:nvPr/>
        </p:nvPicPr>
        <p:blipFill>
          <a:blip r:embed="rId1"/>
          <a:stretch/>
        </p:blipFill>
        <p:spPr>
          <a:xfrm>
            <a:off x="-6480" y="-49320"/>
            <a:ext cx="8699760" cy="1427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6"/>
          <p:cNvSpPr/>
          <p:nvPr/>
        </p:nvSpPr>
        <p:spPr>
          <a:xfrm>
            <a:off x="457200" y="182880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1905 году после развода родителей остается с  матерью и   переезжает в Киев. Здесь Ахматова заканчивает последний класс Фундуклеевской гимназии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457200" y="19051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7" name="Text Box 33"/>
          <p:cNvSpPr/>
          <p:nvPr/>
        </p:nvSpPr>
        <p:spPr>
          <a:xfrm>
            <a:off x="1676520" y="1143000"/>
            <a:ext cx="574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88" name="Picture 7" descr="C:\Users\user\Desktop\portrait-of-anna-akhmatova.jpg"/>
          <p:cNvPicPr/>
          <p:nvPr/>
        </p:nvPicPr>
        <p:blipFill>
          <a:blip r:embed="rId2"/>
          <a:stretch/>
        </p:blipFill>
        <p:spPr>
          <a:xfrm>
            <a:off x="4643280" y="357120"/>
            <a:ext cx="4143600" cy="578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228600" y="1752480"/>
            <a:ext cx="533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1907 году Анна Андреевна поступает на юридический факультет Высших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женских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курсов в Киеве.Позднее она напишет: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3962520" y="3809880"/>
            <a:ext cx="518148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33ff"/>
                </a:solidFill>
                <a:latin typeface="Times New Roman"/>
              </a:rPr>
              <a:t>Стать бы снова приморской девчонкой,</a:t>
            </a:r>
            <a:endParaRPr b="0" lang="en-US" sz="23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33ff"/>
                </a:solidFill>
                <a:latin typeface="Times New Roman"/>
              </a:rPr>
              <a:t>Туфли на босу ногу надеть</a:t>
            </a:r>
            <a:endParaRPr b="0" lang="en-US" sz="23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33ff"/>
                </a:solidFill>
                <a:latin typeface="Times New Roman"/>
              </a:rPr>
              <a:t>И закладывать </a:t>
            </a:r>
            <a:r>
              <a:rPr b="0" lang="ru-RU" sz="2300" spc="-1" strike="noStrike">
                <a:solidFill>
                  <a:srgbClr val="3333ff"/>
                </a:solidFill>
                <a:latin typeface="Times New Roman"/>
              </a:rPr>
              <a:t>косы</a:t>
            </a:r>
            <a:r>
              <a:rPr b="0" lang="ru-RU" sz="2300" spc="-1" strike="noStrike">
                <a:solidFill>
                  <a:srgbClr val="3333ff"/>
                </a:solidFill>
                <a:latin typeface="Times New Roman"/>
              </a:rPr>
              <a:t> коронкой,</a:t>
            </a:r>
            <a:endParaRPr b="0" lang="en-US" sz="23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33ff"/>
                </a:solidFill>
                <a:latin typeface="Times New Roman"/>
              </a:rPr>
              <a:t>И взволнованным голосом петь</a:t>
            </a:r>
            <a:endParaRPr b="0" lang="en-US" sz="23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92" name="Picture 6" descr="C:\Users\user\Desktop\ahmatova.jpg"/>
          <p:cNvPicPr/>
          <p:nvPr/>
        </p:nvPicPr>
        <p:blipFill>
          <a:blip r:embed="rId2"/>
          <a:stretch/>
        </p:blipFill>
        <p:spPr>
          <a:xfrm>
            <a:off x="500040" y="3357720"/>
            <a:ext cx="3259080" cy="3071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article50790.jpg"/>
          <p:cNvPicPr/>
          <p:nvPr/>
        </p:nvPicPr>
        <p:blipFill>
          <a:blip r:embed="rId3"/>
          <a:stretch/>
        </p:blipFill>
        <p:spPr>
          <a:xfrm>
            <a:off x="5357880" y="285840"/>
            <a:ext cx="2762280" cy="3181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Rectangle 2" descr=""/>
          <p:cNvPicPr/>
          <p:nvPr/>
        </p:nvPicPr>
        <p:blipFill>
          <a:blip r:embed="rId1"/>
          <a:stretch/>
        </p:blipFill>
        <p:spPr>
          <a:xfrm>
            <a:off x="23760" y="55440"/>
            <a:ext cx="8669520" cy="13399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500040" y="2500200"/>
            <a:ext cx="5500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К 1907 году относится публикация первого стихотворения Ахматовой «На руке его много блестящих колец».По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этому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поводу Осип Мандельштам говорил: «Ахматова принесла в русскую лирику всю огромную сложность, психологическое богатство 19 века.»                           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96" name="Picture 5" descr="D:\Чимбур Л.С\Картинки\ахматова.jpg"/>
          <p:cNvPicPr/>
          <p:nvPr/>
        </p:nvPicPr>
        <p:blipFill>
          <a:blip r:embed="rId2"/>
          <a:stretch/>
        </p:blipFill>
        <p:spPr>
          <a:xfrm>
            <a:off x="6039000" y="2286000"/>
            <a:ext cx="2894040" cy="342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762120" y="1371600"/>
            <a:ext cx="40384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1910 Ахматова выходит замуж за Николая Гумилева, молодого, известного поэта. В 1912 у них появляется сын Лев. Гумилев много путешествует и сочиняет: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Из логова змиева,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Из города Киева,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Я взял не жену,  а колдунью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98" name="Picture 8" descr="D:\Чимбур Л.С\Картинки\Ахматова и Гумилев1.jpg"/>
          <p:cNvPicPr/>
          <p:nvPr/>
        </p:nvPicPr>
        <p:blipFill>
          <a:blip r:embed="rId1"/>
          <a:stretch/>
        </p:blipFill>
        <p:spPr>
          <a:xfrm>
            <a:off x="5181480" y="1752480"/>
            <a:ext cx="3429000" cy="348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Rectangle 2" descr=""/>
          <p:cNvPicPr/>
          <p:nvPr/>
        </p:nvPicPr>
        <p:blipFill>
          <a:blip r:embed="rId1"/>
          <a:stretch/>
        </p:blipFill>
        <p:spPr>
          <a:xfrm>
            <a:off x="285840" y="755640"/>
            <a:ext cx="8029440" cy="11653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285840" y="2143080"/>
            <a:ext cx="4724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1912 году «Цех поэтов» объявляет о создании нового поэтического направления,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азванного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акмеизмом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..Его задача- обретение равновесия между «земным» и «небесными» мирами.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201" name="Picture 4" descr="D:\Чимбур Л.С\Картинки\акмеисты.gif"/>
          <p:cNvPicPr/>
          <p:nvPr/>
        </p:nvPicPr>
        <p:blipFill>
          <a:blip r:embed="rId2"/>
          <a:stretch/>
        </p:blipFill>
        <p:spPr>
          <a:xfrm>
            <a:off x="4786200" y="500040"/>
            <a:ext cx="4017960" cy="55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9:14:45Z</dcterms:created>
  <dc:creator>admin</dc:creator>
  <dc:description/>
  <dc:language>en-US</dc:language>
  <cp:lastModifiedBy>user</cp:lastModifiedBy>
  <dcterms:modified xsi:type="dcterms:W3CDTF">2016-01-06T16:56:36Z</dcterms:modified>
  <cp:revision>40</cp:revision>
  <dc:subject/>
  <dc:title>Анна Ахматова</dc:title>
</cp:coreProperties>
</file>