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2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FD32-F86C-41A8-862C-F385B53C9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3EC6-3F05-4879-9ED8-AACF302F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073C-46E6-48EC-AEEB-D1F07323B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A5BC-6D3D-4EFB-B98B-59D0967B2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51E98D-1F34-4773-AB2D-4735AB257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8B532-DD8C-4E7E-B4FA-DC754076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1057C-A396-4716-8390-3FFD1C40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CF24BD-A521-454E-9C89-DF8F74AA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2BC9C3-4049-4347-BAEA-F29EF3F1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F0D9A8-76EC-4DBA-807A-27CBD848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3DE4C-910E-48E4-AB28-AF5F5CAD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1995-FF5B-46F1-99D0-06D80DEE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580A7-F412-4168-AE58-C69DEE02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A2814-0A66-48B9-B7C2-69A265CA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761BC-B76E-47C2-BDD2-F8D8ED77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0BC2E0-7882-4E4C-9269-B63C026B1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97D14-0C70-4DA2-97FD-543489EC1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5FD7F-1A0B-4EBC-B25B-C80FB42B2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46D5B-9321-45C4-9F84-6D38855C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DB198-844C-49F6-BA32-913972EF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A24F6-10BC-48F2-9EA5-87F6E492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39589-08D4-49FB-94C3-8F91DD2F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3DBB-62A9-47E7-AE34-F67AC5DC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FCE11-70C8-4832-87BD-C31DA86A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AC9D2-2DD5-4C8E-BF11-692671F6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60765-2613-42E5-BDA6-5712CCB4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7326F-257C-4C1A-9B7E-5C64DB0C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91427-DB23-47D8-AFD1-677411C5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C4023-81BD-4F8D-853D-4E0FA9FAB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1063F-B782-403D-BD5C-7F10AFEFD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2B7671-4D1B-48A3-BAD2-69DF9B294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3E66BF-F8D9-4A44-8CCE-5568487C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186DE7-D19F-478A-9C83-5F77E2CA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BBFD-14D7-4855-8447-F18240DB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F15590-BFCD-4B32-A5E0-6415A023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FFB094-95FE-4359-B9D2-E9C3F1FE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245F52-9183-4285-B2DD-FCADBE91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596905-128A-4228-9FD1-27070677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583BEF-CB6A-4357-9069-C6E910BE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D4A726-73F7-4EE1-B6FB-697024A2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4153EB-27F3-4199-9205-07D252EA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988023-0162-42F1-93B0-E188700EF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0B69AA-6BB9-4B8D-9500-390E8C5AF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592F-D44C-437C-A0FE-E6DC9399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1127-2CD5-4549-9531-813A4437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2D7F-EB0A-488E-AFC0-FC39C41B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CFA1-9E40-4004-A1D3-427F0274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79F1-6818-4D1D-A83C-2C29C599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b1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C152-AF71-4EDA-80A2-A62F452AB3E5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b1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2EC7-DCCA-4D2A-A8F4-6B88A86F2B52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b1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83F9-EF7E-4C17-AECE-C28C6E9E4000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b1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9471-C433-41C9-B530-E618DCA13E41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333399"/>
                </a:solidFill>
                <a:latin typeface="Tahoma"/>
              </a:rPr>
              <a:t>Жизнь и творчество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Rectangle 2" descr=""/>
          <p:cNvPicPr/>
          <p:nvPr/>
        </p:nvPicPr>
        <p:blipFill>
          <a:blip r:embed="rId1"/>
          <a:stretch/>
        </p:blipFill>
        <p:spPr>
          <a:xfrm>
            <a:off x="493560" y="-176040"/>
            <a:ext cx="8352000" cy="1339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C:\Users\user\Desktop\5599.gif"/>
          <p:cNvPicPr/>
          <p:nvPr/>
        </p:nvPicPr>
        <p:blipFill>
          <a:blip r:embed="rId2"/>
          <a:stretch/>
        </p:blipFill>
        <p:spPr>
          <a:xfrm>
            <a:off x="3929040" y="1214280"/>
            <a:ext cx="1352520" cy="1905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3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3"/>
          <p:cNvSpPr/>
          <p:nvPr/>
        </p:nvSpPr>
        <p:spPr>
          <a:xfrm>
            <a:off x="457200" y="1600200"/>
            <a:ext cx="44197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Не бывать тебе в живых,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Со снегу не встать: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Двадцать восемь штыковых,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Огнестрельных пять.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Горькую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обновушку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Другу шила я.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Любит, любит кровушку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Русская земля.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4572000" y="510552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1921 году был расстрелян Н. Гумилев.В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935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1939, 1948 году арестовывали сына.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3629160" y="1062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206" name="Picture 8" descr="http://botinok.co.il/sites/default/files/images/2903ecd5b51e628aa6860c52c6094ec9_i_001.png"/>
          <p:cNvPicPr/>
          <p:nvPr/>
        </p:nvPicPr>
        <p:blipFill>
          <a:blip r:embed="rId2"/>
          <a:stretch/>
        </p:blipFill>
        <p:spPr>
          <a:xfrm>
            <a:off x="5065560" y="428760"/>
            <a:ext cx="3268800" cy="4505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Rectangle 2" descr=""/>
          <p:cNvPicPr/>
          <p:nvPr/>
        </p:nvPicPr>
        <p:blipFill>
          <a:blip r:embed="rId1"/>
          <a:stretch/>
        </p:blipFill>
        <p:spPr>
          <a:xfrm>
            <a:off x="212760" y="146160"/>
            <a:ext cx="8480520" cy="12380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3"/>
          <p:cNvSpPr/>
          <p:nvPr/>
        </p:nvSpPr>
        <p:spPr>
          <a:xfrm>
            <a:off x="457200" y="2438280"/>
            <a:ext cx="6172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И всюду клевета сопутствовала мне,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Ее ползучий шаг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я слышала во сне,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И в мертвом городе под беспощадным небом,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Скитаясь наугад за кровом и за хлебом.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514600" y="487692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946 год-Постановление о журналах «Звезда» и «Ленинград».Стихи Ахматовой буквально осыпали площадной бранью.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3032280" y="1062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ectangle 2" descr=""/>
          <p:cNvPicPr/>
          <p:nvPr/>
        </p:nvPicPr>
        <p:blipFill>
          <a:blip r:embed="rId1"/>
          <a:stretch/>
        </p:blipFill>
        <p:spPr>
          <a:xfrm>
            <a:off x="590400" y="603360"/>
            <a:ext cx="8029800" cy="11649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"/>
          <p:cNvSpPr/>
          <p:nvPr/>
        </p:nvSpPr>
        <p:spPr>
          <a:xfrm>
            <a:off x="685800" y="2209680"/>
            <a:ext cx="4952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Умер Сталин. В жизни Анны Андреевны происходят перемены : в 1955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освобождают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сына, а в1956- выходит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сборник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переводов. В 1964 году она едет в Италию, где присуждена премия «Этна-Таормин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».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213" name="Picture 4" descr="D:\Чимбур Л.С\Картинки\Ахматова в старости.jpg"/>
          <p:cNvPicPr/>
          <p:nvPr/>
        </p:nvPicPr>
        <p:blipFill>
          <a:blip r:embed="rId2"/>
          <a:stretch/>
        </p:blipFill>
        <p:spPr>
          <a:xfrm>
            <a:off x="5715000" y="928800"/>
            <a:ext cx="3071880" cy="4643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7200" y="1980720"/>
            <a:ext cx="5029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Constantia"/>
              </a:rPr>
              <a:t>Детство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Constantia"/>
              </a:rPr>
              <a:t>Отрочество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Constantia"/>
              </a:rPr>
              <a:t>Юность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Constantia"/>
              </a:rPr>
              <a:t>«Проба пера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Constantia"/>
              </a:rPr>
              <a:t>Акмеизм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Constantia"/>
              </a:rPr>
              <a:t>Годы террор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Constantia"/>
              </a:rPr>
              <a:t>Вынужденное молчан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Constantia"/>
              </a:rPr>
              <a:t>Мировое признан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4" name="Rectangle 2" descr=""/>
          <p:cNvPicPr/>
          <p:nvPr/>
        </p:nvPicPr>
        <p:blipFill>
          <a:blip r:embed="rId1"/>
          <a:stretch/>
        </p:blipFill>
        <p:spPr>
          <a:xfrm>
            <a:off x="212760" y="146160"/>
            <a:ext cx="8480520" cy="12380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6"/>
          <p:cNvSpPr/>
          <p:nvPr/>
        </p:nvSpPr>
        <p:spPr>
          <a:xfrm>
            <a:off x="3276720" y="114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76" name="Picture 6" descr="C:\Users\user\Desktop\file.jpg"/>
          <p:cNvPicPr/>
          <p:nvPr/>
        </p:nvPicPr>
        <p:blipFill>
          <a:blip r:embed="rId2"/>
          <a:stretch/>
        </p:blipFill>
        <p:spPr>
          <a:xfrm>
            <a:off x="4786200" y="357120"/>
            <a:ext cx="4143600" cy="6215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3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3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3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32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3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" dur="3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40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3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" dur="3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48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3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Rectangle 2" descr=""/>
          <p:cNvPicPr/>
          <p:nvPr/>
        </p:nvPicPr>
        <p:blipFill>
          <a:blip r:embed="rId1"/>
          <a:stretch/>
        </p:blipFill>
        <p:spPr>
          <a:xfrm>
            <a:off x="5108400" y="-6480"/>
            <a:ext cx="3402360" cy="1444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D:\Чимбур Л.С\Картинки\7.jpg"/>
          <p:cNvPicPr/>
          <p:nvPr/>
        </p:nvPicPr>
        <p:blipFill>
          <a:blip r:embed="rId2"/>
          <a:stretch/>
        </p:blipFill>
        <p:spPr>
          <a:xfrm>
            <a:off x="380880" y="990720"/>
            <a:ext cx="3724560" cy="53276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4495680" y="2438280"/>
            <a:ext cx="419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Анна Андреевна Ахматова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родилась  в селе Большой Фонтан в 1889 году 11 июня. Годовалым ребенком была перевезена Царское Сел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962520" y="380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>
    <p:dissolv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533520" y="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еленое великолепие парков,ипподром, где скакали  маленькие пестрые лошадки, выгон, куда ее водила  няня,- все это поразило маленькую Аню.Позднее она напишет: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82" name="Picture 3" descr="D:\Чимбур Л.С\Картинки\1.jpg"/>
          <p:cNvPicPr/>
          <p:nvPr/>
        </p:nvPicPr>
        <p:blipFill>
          <a:blip r:embed="rId1"/>
          <a:stretch/>
        </p:blipFill>
        <p:spPr>
          <a:xfrm>
            <a:off x="1905120" y="1143000"/>
            <a:ext cx="4952880" cy="350676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4"/>
          <p:cNvSpPr/>
          <p:nvPr/>
        </p:nvSpPr>
        <p:spPr>
          <a:xfrm>
            <a:off x="2362320" y="4632480"/>
            <a:ext cx="46479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Я к розам хочу в тот единственный сад,</a:t>
            </a: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Где лучшая в мире стоит из оград.</a:t>
            </a: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Где статуи помнят меня молодой.</a:t>
            </a: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А я их под невскою помню водой.</a:t>
            </a: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transition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Rectangle 2" descr=""/>
          <p:cNvPicPr/>
          <p:nvPr/>
        </p:nvPicPr>
        <p:blipFill>
          <a:blip r:embed="rId1"/>
          <a:stretch/>
        </p:blipFill>
        <p:spPr>
          <a:xfrm>
            <a:off x="-6480" y="-49320"/>
            <a:ext cx="8699760" cy="14274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6"/>
          <p:cNvSpPr/>
          <p:nvPr/>
        </p:nvSpPr>
        <p:spPr>
          <a:xfrm>
            <a:off x="457200" y="1828800"/>
            <a:ext cx="419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В 1905 году после развода родителей остается с  матерью и   переезжает в Киев. Здесь Ахматова заканчивает последний класс Фундуклеевской гимназии.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86" name="Text Box 20"/>
          <p:cNvSpPr/>
          <p:nvPr/>
        </p:nvSpPr>
        <p:spPr>
          <a:xfrm>
            <a:off x="457200" y="190512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87" name="Text Box 33"/>
          <p:cNvSpPr/>
          <p:nvPr/>
        </p:nvSpPr>
        <p:spPr>
          <a:xfrm>
            <a:off x="1676520" y="1143000"/>
            <a:ext cx="574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88" name="Picture 7" descr="C:\Users\user\Desktop\portrait-of-anna-akhmatova.jpg"/>
          <p:cNvPicPr/>
          <p:nvPr/>
        </p:nvPicPr>
        <p:blipFill>
          <a:blip r:embed="rId2"/>
          <a:stretch/>
        </p:blipFill>
        <p:spPr>
          <a:xfrm>
            <a:off x="4643280" y="357120"/>
            <a:ext cx="4143600" cy="5786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Rectang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"/>
          <p:cNvSpPr/>
          <p:nvPr/>
        </p:nvSpPr>
        <p:spPr>
          <a:xfrm>
            <a:off x="228600" y="1752480"/>
            <a:ext cx="533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В 1907 году Анна Андреевна поступает на юридический факультет Высших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женских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курсов в Киеве.Позднее она напишет: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3962520" y="3809880"/>
            <a:ext cx="518148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333ff"/>
                </a:solidFill>
                <a:latin typeface="Times New Roman"/>
              </a:rPr>
              <a:t>Стать бы снова приморской девчонкой,</a:t>
            </a:r>
            <a:endParaRPr b="0" lang="en-US" sz="23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333ff"/>
                </a:solidFill>
                <a:latin typeface="Times New Roman"/>
              </a:rPr>
              <a:t>Туфли на босу ногу надеть</a:t>
            </a:r>
            <a:endParaRPr b="0" lang="en-US" sz="23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333ff"/>
                </a:solidFill>
                <a:latin typeface="Times New Roman"/>
              </a:rPr>
              <a:t>И закладывать </a:t>
            </a:r>
            <a:r>
              <a:rPr b="0" lang="ru-RU" sz="2300" spc="-1" strike="noStrike">
                <a:solidFill>
                  <a:srgbClr val="3333ff"/>
                </a:solidFill>
                <a:latin typeface="Times New Roman"/>
              </a:rPr>
              <a:t>косы</a:t>
            </a:r>
            <a:r>
              <a:rPr b="0" lang="ru-RU" sz="2300" spc="-1" strike="noStrike">
                <a:solidFill>
                  <a:srgbClr val="3333ff"/>
                </a:solidFill>
                <a:latin typeface="Times New Roman"/>
              </a:rPr>
              <a:t> коронкой,</a:t>
            </a:r>
            <a:endParaRPr b="0" lang="en-US" sz="23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333ff"/>
                </a:solidFill>
                <a:latin typeface="Times New Roman"/>
              </a:rPr>
              <a:t>И взволнованным голосом петь</a:t>
            </a:r>
            <a:endParaRPr b="0" lang="en-US" sz="23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92" name="Picture 6" descr="C:\Users\user\Desktop\ahmatova.jpg"/>
          <p:cNvPicPr/>
          <p:nvPr/>
        </p:nvPicPr>
        <p:blipFill>
          <a:blip r:embed="rId2"/>
          <a:stretch/>
        </p:blipFill>
        <p:spPr>
          <a:xfrm>
            <a:off x="500040" y="3357720"/>
            <a:ext cx="3259080" cy="3071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article50790.jpg"/>
          <p:cNvPicPr/>
          <p:nvPr/>
        </p:nvPicPr>
        <p:blipFill>
          <a:blip r:embed="rId3"/>
          <a:stretch/>
        </p:blipFill>
        <p:spPr>
          <a:xfrm>
            <a:off x="5357880" y="285840"/>
            <a:ext cx="2762280" cy="3181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Rectangle 2" descr=""/>
          <p:cNvPicPr/>
          <p:nvPr/>
        </p:nvPicPr>
        <p:blipFill>
          <a:blip r:embed="rId1"/>
          <a:stretch/>
        </p:blipFill>
        <p:spPr>
          <a:xfrm>
            <a:off x="23760" y="55440"/>
            <a:ext cx="8669520" cy="13399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"/>
          <p:cNvSpPr/>
          <p:nvPr/>
        </p:nvSpPr>
        <p:spPr>
          <a:xfrm>
            <a:off x="500040" y="2500200"/>
            <a:ext cx="5500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К 1907 году относится публикация первого стихотворения Ахматовой «На руке его много блестящих колец».По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этому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поводу Осип Мандельштам говорил: «Ахматова принесла в русскую лирику всю огромную сложность, психологическое богатство 19 века.»                           </a:t>
            </a:r>
            <a:endParaRPr b="0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96" name="Picture 5" descr="D:\Чимбур Л.С\Картинки\ахматова.jpg"/>
          <p:cNvPicPr/>
          <p:nvPr/>
        </p:nvPicPr>
        <p:blipFill>
          <a:blip r:embed="rId2"/>
          <a:stretch/>
        </p:blipFill>
        <p:spPr>
          <a:xfrm>
            <a:off x="6039000" y="2286000"/>
            <a:ext cx="2894040" cy="3429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762120" y="1371600"/>
            <a:ext cx="40384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В 1910 Ахматова выходит замуж за Николая Гумилева, молодого, известного поэта. В 1912 у них появляется сын Лев. Гумилев много путешествует и сочиняет: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imes New Roman"/>
              </a:rPr>
              <a:t>Из логова змиева,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imes New Roman"/>
              </a:rPr>
              <a:t>Из города Киева,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imes New Roman"/>
              </a:rPr>
              <a:t>Я взял не жену,  а колдунью.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98" name="Picture 8" descr="D:\Чимбур Л.С\Картинки\Ахматова и Гумилев1.jpg"/>
          <p:cNvPicPr/>
          <p:nvPr/>
        </p:nvPicPr>
        <p:blipFill>
          <a:blip r:embed="rId1"/>
          <a:stretch/>
        </p:blipFill>
        <p:spPr>
          <a:xfrm>
            <a:off x="5181480" y="1752480"/>
            <a:ext cx="3429000" cy="3486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Rectangle 2" descr=""/>
          <p:cNvPicPr/>
          <p:nvPr/>
        </p:nvPicPr>
        <p:blipFill>
          <a:blip r:embed="rId1"/>
          <a:stretch/>
        </p:blipFill>
        <p:spPr>
          <a:xfrm>
            <a:off x="285840" y="755640"/>
            <a:ext cx="8029440" cy="116532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3"/>
          <p:cNvSpPr/>
          <p:nvPr/>
        </p:nvSpPr>
        <p:spPr>
          <a:xfrm>
            <a:off x="285840" y="2143080"/>
            <a:ext cx="4724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В 1912 году «Цех поэтов» объявляет о создании нового поэтического направления,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названного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акмеизмом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..Его задача- обретение равновесия между «земным» и «небесными» мирами.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201" name="Picture 4" descr="D:\Чимбур Л.С\Картинки\акмеисты.gif"/>
          <p:cNvPicPr/>
          <p:nvPr/>
        </p:nvPicPr>
        <p:blipFill>
          <a:blip r:embed="rId2"/>
          <a:stretch/>
        </p:blipFill>
        <p:spPr>
          <a:xfrm>
            <a:off x="4786200" y="500040"/>
            <a:ext cx="4017960" cy="5572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9:14:45Z</dcterms:created>
  <dc:creator>admin</dc:creator>
  <dc:description/>
  <dc:language>en-US</dc:language>
  <cp:lastModifiedBy>user</cp:lastModifiedBy>
  <dcterms:modified xsi:type="dcterms:W3CDTF">2016-01-06T16:56:36Z</dcterms:modified>
  <cp:revision>40</cp:revision>
  <dc:subject/>
  <dc:title>Анна Ахматова</dc:title>
</cp:coreProperties>
</file>