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9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379-3932-4090-A839-7ADD1A71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6ED-12A5-438E-8E1D-ADAEE98E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11B-D703-4ACD-A67A-CE3A0772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F54-B0DA-4567-AF55-7FDFACA2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0E54-252D-4434-88F2-87439981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5DAB-D537-45C1-B2E2-1BA12CC9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5AA2-B3DF-45E0-9183-778549F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67F0-6C3C-427E-87E9-A9A786C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7D3-7CA2-4FAB-A5A6-40EFE6DA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67E9-5651-48D7-978B-AAB710F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04B-8087-4488-8241-C9BC492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4E8-4871-4925-97E8-DD1A68A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1C7-53B2-476C-91F0-66D14EB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E11A-6C71-43C0-B168-C11349E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2123-B993-4628-86B7-4D293FDE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0970-7291-482D-8FF7-7CA2B556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2BC8-C90A-47B7-839B-8F0A2149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F2B-4693-4FBA-B42F-A6B52CB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152-405D-4527-BA88-A342180F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445-3A30-4036-9641-2C2B76E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17B-0951-4A58-A3B6-6E5478A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5EC-5A15-4304-A746-4C4A50A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0EB-2182-4B70-AA31-587F1BD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F90-778B-4CBF-BC73-30B74BE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40FA-E167-472B-AA4D-83D6050B5EAD}" type="slidenum">
              <a:rPr b="1" lang="ru-RU" sz="1200" spc="-1" strike="noStrike">
                <a:solidFill>
                  <a:srgbClr val="bcbcbc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56BC-9475-40D2-83DD-418E3EC3724A}" type="slidenum">
              <a:rPr b="1" lang="ru-RU" sz="1200" spc="-1" strike="noStrike">
                <a:solidFill>
                  <a:srgbClr val="bcbcbc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5.xml"/><Relationship Id="rId3" Type="http://schemas.openxmlformats.org/officeDocument/2006/relationships/image" Target="../media/image1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png"/><Relationship Id="rId3" Type="http://schemas.openxmlformats.org/officeDocument/2006/relationships/slide" Target="slide15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571680" y="857160"/>
            <a:ext cx="814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Краснодарского края </a:t>
            </a:r>
            <a:endParaRPr b="1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урганинский аграрно-технологический техникум» </a:t>
            </a:r>
            <a:endParaRPr b="1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2857680" y="39290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русского языка и литературы</a:t>
            </a: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ина  Анна  Евгеньевна</a:t>
            </a: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334800" y="2419200"/>
            <a:ext cx="6310440" cy="1268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2"/>
          <p:cNvSpPr/>
          <p:nvPr/>
        </p:nvSpPr>
        <p:spPr>
          <a:xfrm>
            <a:off x="2571840" y="5929200"/>
            <a:ext cx="43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г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. Курганинск, х. Красное Поле, 2015 г. </a:t>
            </a:r>
            <a:endParaRPr b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Picture 8" descr="http://fictionbook.ru/static/bookimages/00/10/43/00104375.bin.dir/h/i_092.png"/>
          <p:cNvPicPr/>
          <p:nvPr/>
        </p:nvPicPr>
        <p:blipFill>
          <a:blip r:embed="rId3"/>
          <a:stretch/>
        </p:blipFill>
        <p:spPr>
          <a:xfrm>
            <a:off x="781200" y="3852720"/>
            <a:ext cx="1998360" cy="201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ic.pics.livejournal.com/natali_ya/11122508/269020/269020_600.jpg"/>
          <p:cNvPicPr/>
          <p:nvPr/>
        </p:nvPicPr>
        <p:blipFill>
          <a:blip r:embed="rId4"/>
          <a:stretch/>
        </p:blipFill>
        <p:spPr>
          <a:xfrm>
            <a:off x="6638760" y="2139840"/>
            <a:ext cx="167652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916360" y="-295200"/>
            <a:ext cx="5832360" cy="72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исать отточенно, изящно, вдохновенн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рою глубоко, порою дерзновенн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 шлифовать стихи, чтобы в уме свой след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ни оставили на много дней и лет, Вот в чем Трагедии высокая иде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ль вы прославиться в Комедии хотит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бе в наставницы природу изберите.</a:t>
            </a:r>
            <a:endParaRPr b="1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икола Буало. Поэтическое искусство.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3" name="AutoShape 7">
            <a:hlinkClick r:id="rId2" action="ppaction://hlinksldjump"/>
          </p:cNvPr>
          <p:cNvSpPr/>
          <p:nvPr/>
        </p:nvSpPr>
        <p:spPr>
          <a:xfrm>
            <a:off x="179280" y="6165720"/>
            <a:ext cx="432000" cy="5050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51">
                <a:moveTo>
                  <a:pt x="0" y="0"/>
                </a:moveTo>
                <a:lnTo>
                  <a:pt x="21600" y="0"/>
                </a:lnTo>
                <a:lnTo>
                  <a:pt x="21600" y="25251"/>
                </a:lnTo>
                <a:lnTo>
                  <a:pt x="0" y="25251"/>
                </a:lnTo>
                <a:close/>
              </a:path>
              <a:path fill="lightenLess" w="21600" h="25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1">
                <a:moveTo>
                  <a:pt x="21600" y="0"/>
                </a:moveTo>
                <a:lnTo>
                  <a:pt x="21600" y="25251"/>
                </a:lnTo>
                <a:lnTo>
                  <a:pt x="20200" y="23851"/>
                </a:lnTo>
                <a:lnTo>
                  <a:pt x="20200" y="1400"/>
                </a:lnTo>
                <a:close/>
              </a:path>
              <a:path fill="darkenLess" w="21600" h="25251">
                <a:moveTo>
                  <a:pt x="21600" y="25251"/>
                </a:moveTo>
                <a:lnTo>
                  <a:pt x="0" y="25251"/>
                </a:lnTo>
                <a:lnTo>
                  <a:pt x="1400" y="23851"/>
                </a:lnTo>
                <a:lnTo>
                  <a:pt x="20200" y="23851"/>
                </a:lnTo>
                <a:close/>
              </a:path>
              <a:path fill="lighten" w="21600" h="25251">
                <a:moveTo>
                  <a:pt x="0" y="25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1"/>
                </a:lnTo>
                <a:close/>
              </a:path>
              <a:path fill="darken" w="21600" h="25251">
                <a:moveTo>
                  <a:pt x="3794" y="9318"/>
                </a:moveTo>
                <a:lnTo>
                  <a:pt x="7301" y="9318"/>
                </a:lnTo>
                <a:lnTo>
                  <a:pt x="7301" y="14653"/>
                </a:lnTo>
                <a:cubicBezTo>
                  <a:pt x="7301" y="15576"/>
                  <a:pt x="8102" y="16307"/>
                  <a:pt x="9138" y="16307"/>
                </a:cubicBezTo>
                <a:lnTo>
                  <a:pt x="10800" y="16307"/>
                </a:lnTo>
                <a:cubicBezTo>
                  <a:pt x="11836" y="16307"/>
                  <a:pt x="12636" y="15576"/>
                  <a:pt x="12636" y="14653"/>
                </a:cubicBezTo>
                <a:lnTo>
                  <a:pt x="12636" y="9318"/>
                </a:lnTo>
                <a:lnTo>
                  <a:pt x="10800" y="9318"/>
                </a:lnTo>
                <a:lnTo>
                  <a:pt x="14308" y="5810"/>
                </a:lnTo>
                <a:lnTo>
                  <a:pt x="17981" y="9318"/>
                </a:lnTo>
                <a:lnTo>
                  <a:pt x="16144" y="9318"/>
                </a:lnTo>
                <a:lnTo>
                  <a:pt x="16144" y="14653"/>
                </a:lnTo>
                <a:cubicBezTo>
                  <a:pt x="16144" y="17421"/>
                  <a:pt x="13568" y="19980"/>
                  <a:pt x="10800" y="19980"/>
                </a:cubicBezTo>
                <a:lnTo>
                  <a:pt x="9138" y="19980"/>
                </a:lnTo>
                <a:cubicBezTo>
                  <a:pt x="6370" y="19980"/>
                  <a:pt x="3794" y="17421"/>
                  <a:pt x="3794" y="14653"/>
                </a:cubicBez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4" name="Picture 8" descr="Рисунок2_0"/>
          <p:cNvPicPr/>
          <p:nvPr/>
        </p:nvPicPr>
        <p:blipFill>
          <a:blip r:embed="rId3"/>
          <a:stretch/>
        </p:blipFill>
        <p:spPr>
          <a:xfrm>
            <a:off x="0" y="0"/>
            <a:ext cx="2938320" cy="3719520"/>
          </a:xfrm>
          <a:prstGeom prst="rect">
            <a:avLst/>
          </a:prstGeom>
          <a:ln w="0">
            <a:noFill/>
          </a:ln>
        </p:spPr>
      </p:pic>
      <p:pic>
        <p:nvPicPr>
          <p:cNvPr id="165" name="Neizvesten_-_Muzyka_k_prezentacii_(iPlayer.fm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826920" y="1590840"/>
          <a:ext cx="7274160" cy="4383000"/>
        </p:xfrm>
        <a:graphic>
          <a:graphicData uri="http://schemas.openxmlformats.org/drawingml/2006/table">
            <a:tbl>
              <a:tblPr/>
              <a:tblGrid>
                <a:gridCol w="2089440"/>
                <a:gridCol w="1547640"/>
                <a:gridCol w="2052720"/>
                <a:gridCol w="158436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Жанр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ексика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ысо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редн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из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Высокий: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церковносла-вянизм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едко, не нарушая стил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</a:t>
                      </a:r>
                      <a:endParaRPr b="1" lang="en-US" sz="9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Средний: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общеупотре-бительные с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Line 25"/>
          <p:cNvSpPr/>
          <p:nvPr/>
        </p:nvSpPr>
        <p:spPr>
          <a:xfrm>
            <a:off x="826920" y="1628640"/>
            <a:ext cx="20894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0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8148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042920" y="1125360"/>
          <a:ext cx="7274160" cy="3490920"/>
        </p:xfrm>
        <a:graphic>
          <a:graphicData uri="http://schemas.openxmlformats.org/drawingml/2006/table">
            <a:tbl>
              <a:tblPr/>
              <a:tblGrid>
                <a:gridCol w="2737080"/>
                <a:gridCol w="1512720"/>
                <a:gridCol w="1655640"/>
                <a:gridCol w="1368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Жанры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ексика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ысо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редн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из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Низкий :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азговорные, простонародные с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</a:t>
                      </a:r>
                      <a:endParaRPr b="1" lang="en-US" sz="9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31"/>
          <p:cNvSpPr/>
          <p:nvPr/>
        </p:nvSpPr>
        <p:spPr>
          <a:xfrm>
            <a:off x="1042920" y="1125360"/>
            <a:ext cx="273708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AutoShape 33">
            <a:hlinkClick r:id="rId2" action="ppaction://hlinksldjump"/>
          </p:cNvPr>
          <p:cNvSpPr/>
          <p:nvPr/>
        </p:nvSpPr>
        <p:spPr>
          <a:xfrm>
            <a:off x="25092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9284"/>
                </a:moveTo>
                <a:lnTo>
                  <a:pt x="7301" y="9284"/>
                </a:lnTo>
                <a:lnTo>
                  <a:pt x="7301" y="14619"/>
                </a:lnTo>
                <a:cubicBezTo>
                  <a:pt x="7301" y="15542"/>
                  <a:pt x="8102" y="16273"/>
                  <a:pt x="9138" y="16273"/>
                </a:cubicBezTo>
                <a:lnTo>
                  <a:pt x="10800" y="16273"/>
                </a:lnTo>
                <a:cubicBezTo>
                  <a:pt x="11836" y="16273"/>
                  <a:pt x="12636" y="15542"/>
                  <a:pt x="12636" y="14619"/>
                </a:cubicBezTo>
                <a:lnTo>
                  <a:pt x="12636" y="9284"/>
                </a:lnTo>
                <a:lnTo>
                  <a:pt x="10800" y="9284"/>
                </a:lnTo>
                <a:lnTo>
                  <a:pt x="14308" y="5776"/>
                </a:lnTo>
                <a:lnTo>
                  <a:pt x="17981" y="9284"/>
                </a:lnTo>
                <a:lnTo>
                  <a:pt x="16144" y="9284"/>
                </a:lnTo>
                <a:lnTo>
                  <a:pt x="16144" y="14619"/>
                </a:lnTo>
                <a:cubicBezTo>
                  <a:pt x="16144" y="17387"/>
                  <a:pt x="13568" y="19946"/>
                  <a:pt x="10800" y="19946"/>
                </a:cubicBezTo>
                <a:lnTo>
                  <a:pt x="9138" y="19946"/>
                </a:lnTo>
                <a:cubicBezTo>
                  <a:pt x="6370" y="19946"/>
                  <a:pt x="3794" y="17387"/>
                  <a:pt x="3794" y="14619"/>
                </a:cubicBez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5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8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17" descr=""/>
          <p:cNvPicPr/>
          <p:nvPr/>
        </p:nvPicPr>
        <p:blipFill>
          <a:blip r:embed="rId2"/>
          <a:stretch/>
        </p:blipFill>
        <p:spPr>
          <a:xfrm>
            <a:off x="-122400" y="-274680"/>
            <a:ext cx="2865600" cy="1567080"/>
          </a:xfrm>
          <a:prstGeom prst="rect">
            <a:avLst/>
          </a:prstGeom>
          <a:ln w="0">
            <a:noFill/>
          </a:ln>
        </p:spPr>
      </p:pic>
      <p:grpSp>
        <p:nvGrpSpPr>
          <p:cNvPr id="178" name="Diagram 32"/>
          <p:cNvGrpSpPr/>
          <p:nvPr/>
        </p:nvGrpSpPr>
        <p:grpSpPr>
          <a:xfrm>
            <a:off x="463680" y="162720"/>
            <a:ext cx="8221680" cy="6258240"/>
            <a:chOff x="463680" y="162720"/>
            <a:chExt cx="8221680" cy="6258240"/>
          </a:xfrm>
        </p:grpSpPr>
        <p:sp>
          <p:nvSpPr>
            <p:cNvPr id="179" name="_s1028"/>
            <p:cNvSpPr/>
            <p:nvPr/>
          </p:nvSpPr>
          <p:spPr>
            <a:xfrm flipH="1" flipV="1">
              <a:off x="2593800" y="2509200"/>
              <a:ext cx="992880" cy="39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0" name="_s1029"/>
            <p:cNvSpPr/>
            <p:nvPr/>
          </p:nvSpPr>
          <p:spPr>
            <a:xfrm>
              <a:off x="463680" y="133848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Резонёр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(высказывает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мнение автора)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1" name="_s1030"/>
            <p:cNvSpPr/>
            <p:nvPr/>
          </p:nvSpPr>
          <p:spPr>
            <a:xfrm flipH="1">
              <a:off x="2593800" y="3682440"/>
              <a:ext cx="996480" cy="39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2" name="_s1031"/>
            <p:cNvSpPr/>
            <p:nvPr/>
          </p:nvSpPr>
          <p:spPr>
            <a:xfrm>
              <a:off x="467640" y="368496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Служанка,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помощница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героини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4572720" y="4069800"/>
              <a:ext cx="3600" cy="786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4" name="_s1033"/>
            <p:cNvSpPr/>
            <p:nvPr/>
          </p:nvSpPr>
          <p:spPr>
            <a:xfrm>
              <a:off x="3435480" y="485604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Обманутый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отец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5558760" y="3680280"/>
              <a:ext cx="992880" cy="39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6" name="_s1035"/>
            <p:cNvSpPr/>
            <p:nvPr/>
          </p:nvSpPr>
          <p:spPr>
            <a:xfrm>
              <a:off x="6400440" y="3682440"/>
              <a:ext cx="2284920" cy="1565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Второй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любовник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(неудачник)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7" name="_s1036"/>
            <p:cNvSpPr/>
            <p:nvPr/>
          </p:nvSpPr>
          <p:spPr>
            <a:xfrm flipV="1">
              <a:off x="5558760" y="2508840"/>
              <a:ext cx="992880" cy="3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8" name="_s1037"/>
            <p:cNvSpPr/>
            <p:nvPr/>
          </p:nvSpPr>
          <p:spPr>
            <a:xfrm>
              <a:off x="6400440" y="133560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Герой-любовник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9" name="_s1038"/>
            <p:cNvSpPr/>
            <p:nvPr/>
          </p:nvSpPr>
          <p:spPr>
            <a:xfrm flipV="1">
              <a:off x="4572720" y="1725840"/>
              <a:ext cx="0" cy="785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0" name="_s1039"/>
            <p:cNvSpPr/>
            <p:nvPr/>
          </p:nvSpPr>
          <p:spPr>
            <a:xfrm>
              <a:off x="3432600" y="16272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Идеальная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героиня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1" name="_s1040"/>
            <p:cNvSpPr/>
            <p:nvPr/>
          </p:nvSpPr>
          <p:spPr>
            <a:xfrm>
              <a:off x="3432600" y="251136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3300"/>
                  </a:solidFill>
                  <a:latin typeface="Monotype Corsiva"/>
                </a:rPr>
                <a:t>Герои </a:t>
              </a:r>
              <a:endParaRPr b="1" lang="en-US" sz="4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192" name="AutoShape 47">
            <a:hlinkClick r:id="rId3" action="ppaction://hlinksldjump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0" y="0"/>
            <a:ext cx="252108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4" name="Neizvesten_-_Muzyka_k_prezentacii_(iPlayer.fm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9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0"/>
          <p:cNvSpPr/>
          <p:nvPr/>
        </p:nvSpPr>
        <p:spPr>
          <a:xfrm rot="21202200">
            <a:off x="323640" y="1484280"/>
            <a:ext cx="4176720" cy="266544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ремя –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 день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8" name="AutoShape 11"/>
          <p:cNvSpPr/>
          <p:nvPr/>
        </p:nvSpPr>
        <p:spPr>
          <a:xfrm rot="306000">
            <a:off x="4571640" y="1413000"/>
            <a:ext cx="4176720" cy="266544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Место –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 дом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2195640" y="3860640"/>
            <a:ext cx="4176720" cy="266544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Действие –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 конфликт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0" name="Picture 16" descr="3str5"/>
          <p:cNvPicPr/>
          <p:nvPr/>
        </p:nvPicPr>
        <p:blipFill>
          <a:blip r:embed="rId3"/>
          <a:stretch/>
        </p:blipFill>
        <p:spPr>
          <a:xfrm rot="6972000">
            <a:off x="1900080" y="1349280"/>
            <a:ext cx="1170000" cy="43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3str5"/>
          <p:cNvPicPr/>
          <p:nvPr/>
        </p:nvPicPr>
        <p:blipFill>
          <a:blip r:embed="rId4"/>
          <a:stretch/>
        </p:blipFill>
        <p:spPr>
          <a:xfrm rot="3187200">
            <a:off x="5344560" y="1431720"/>
            <a:ext cx="1371600" cy="469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3str5"/>
          <p:cNvPicPr/>
          <p:nvPr/>
        </p:nvPicPr>
        <p:blipFill>
          <a:blip r:embed="rId5"/>
          <a:stretch/>
        </p:blipFill>
        <p:spPr>
          <a:xfrm rot="5400000">
            <a:off x="2970360" y="2581920"/>
            <a:ext cx="3097440" cy="469800"/>
          </a:xfrm>
          <a:prstGeom prst="rect">
            <a:avLst/>
          </a:prstGeom>
          <a:ln w="0">
            <a:noFill/>
          </a:ln>
        </p:spPr>
      </p:pic>
      <p:pic>
        <p:nvPicPr>
          <p:cNvPr id="203" name="Neizvesten_-_Muzyka_k_prezentacii_(iPlayer.fm).mp3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5" descr=""/>
          <p:cNvPicPr/>
          <p:nvPr/>
        </p:nvPicPr>
        <p:blipFill>
          <a:blip r:embed="rId2"/>
          <a:stretch/>
        </p:blipFill>
        <p:spPr>
          <a:xfrm>
            <a:off x="2762280" y="689040"/>
            <a:ext cx="5748480" cy="1225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755640" y="1988640"/>
            <a:ext cx="7632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исьменно ответить на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Чем для тебя оказался интересен 18-й ве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Что тебя удивило, заставило задумать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Какой вопрос ты, россиянин 2</a:t>
            </a:r>
            <a:r>
              <a:rPr b="1" i="1" lang="en-US" sz="2800" spc="-1" strike="noStrike">
                <a:solidFill>
                  <a:srgbClr val="cc3300"/>
                </a:solidFill>
                <a:latin typeface="Monotype Corsiva"/>
              </a:rPr>
              <a:t>1</a:t>
            </a: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-го века, задал бы М.В.Ломоносову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920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Нет, ты не будешь забвенно, столетье безумно и мудро…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.Н.Радище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ловесность наша явилась вдруг в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век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.С.Пушки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4944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8" descr=""/>
          <p:cNvPicPr/>
          <p:nvPr/>
        </p:nvPicPr>
        <p:blipFill>
          <a:blip r:embed="rId2"/>
          <a:stretch/>
        </p:blipFill>
        <p:spPr>
          <a:xfrm>
            <a:off x="603360" y="115920"/>
            <a:ext cx="8242200" cy="136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4000" y="1483920"/>
            <a:ext cx="7715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Историческая эпоха. Реформы Петра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Новая русская литерату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онятие о классицизм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icture 10"/>
          <p:cNvSpPr/>
          <p:nvPr/>
        </p:nvSpPr>
        <p:spPr>
          <a:xfrm>
            <a:off x="5219640" y="4437000"/>
            <a:ext cx="280836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7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Neizvesten_-_Muzyka_k_prezentacii_(iPlayer.fm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94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5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Рисунок1_0"/>
          <p:cNvPicPr/>
          <p:nvPr/>
        </p:nvPicPr>
        <p:blipFill>
          <a:blip r:embed="rId3"/>
          <a:stretch/>
        </p:blipFill>
        <p:spPr>
          <a:xfrm>
            <a:off x="2843280" y="1341360"/>
            <a:ext cx="338616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Рисунок2_0"/>
          <p:cNvPicPr/>
          <p:nvPr/>
        </p:nvPicPr>
        <p:blipFill>
          <a:blip r:embed="rId4"/>
          <a:stretch/>
        </p:blipFill>
        <p:spPr>
          <a:xfrm>
            <a:off x="2627280" y="1341360"/>
            <a:ext cx="3943440" cy="48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Рисунок3_0"/>
          <p:cNvPicPr/>
          <p:nvPr/>
        </p:nvPicPr>
        <p:blipFill>
          <a:blip r:embed="rId5"/>
          <a:stretch/>
        </p:blipFill>
        <p:spPr>
          <a:xfrm>
            <a:off x="2843280" y="1341360"/>
            <a:ext cx="3575160" cy="4824360"/>
          </a:xfrm>
          <a:prstGeom prst="rect">
            <a:avLst/>
          </a:prstGeom>
          <a:ln w="0">
            <a:noFill/>
          </a:ln>
        </p:spPr>
      </p:pic>
      <p:pic>
        <p:nvPicPr>
          <p:cNvPr id="104" name="Neizvesten_-_Muzyka_k_prezentacii_(iPlayer.fm).mp3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4360" y="669960"/>
            <a:ext cx="770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«Первое десятилетие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XVIII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века являет собой удивительную картину взрыва творческих сил, энергии, предприимчивости. Трещит и рушится старый мир. Европа, ждавшая совсем не того, в ужасе и страхе глядит на возникающую Россию.»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А.Н.Толстой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7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904120" y="40464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XVIII </a:t>
            </a: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век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ru-RU" sz="3000" spc="-1" strike="noStrike">
                <a:solidFill>
                  <a:srgbClr val="ffffff"/>
                </a:solidFill>
                <a:latin typeface="Monotype Corsiva"/>
              </a:rPr>
              <a:t>Традици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ревнерусск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Западноевропейск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усский фолькло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Античн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00720" y="162828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3000" spc="-1" strike="noStrike">
                <a:solidFill>
                  <a:srgbClr val="ffffff"/>
                </a:solidFill>
                <a:latin typeface="Monotype Corsiva"/>
              </a:rPr>
              <a:t>Новаторств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Обличение порок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Герой   –   русский, православный челове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Новая    русская сатира,    драма, проз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деи государственности и просвещ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738360" y="1547640"/>
          <a:ext cx="7737480" cy="4395960"/>
        </p:xfrm>
        <a:graphic>
          <a:graphicData uri="http://schemas.openxmlformats.org/drawingml/2006/table">
            <a:tbl>
              <a:tblPr/>
              <a:tblGrid>
                <a:gridCol w="3684240"/>
                <a:gridCol w="4053240"/>
              </a:tblGrid>
              <a:tr h="439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30080" y="2162160"/>
          <a:ext cx="7755120" cy="1073160"/>
        </p:xfrm>
        <a:graphic>
          <a:graphicData uri="http://schemas.openxmlformats.org/drawingml/2006/table">
            <a:tbl>
              <a:tblPr/>
              <a:tblGrid>
                <a:gridCol w="7755120"/>
              </a:tblGrid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5000" y="4167360"/>
          <a:ext cx="7666200" cy="633240"/>
        </p:xfrm>
        <a:graphic>
          <a:graphicData uri="http://schemas.openxmlformats.org/drawingml/2006/table">
            <a:tbl>
              <a:tblPr/>
              <a:tblGrid>
                <a:gridCol w="766620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24944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5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84000" y="126792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Классицизм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художественное направление (течение) в искусстве и литературе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XVII – XVIII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е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Литературное (художественное) направление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– единство творчества ряда писателей, возникшее в определённых исторических условиях: единство целей, принципов изображения, выбора фор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2987640" y="2781360"/>
            <a:ext cx="309708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Классицизм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348000" y="18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4" name="AutoShape 10"/>
          <p:cNvSpPr/>
          <p:nvPr/>
        </p:nvSpPr>
        <p:spPr>
          <a:xfrm rot="16200000">
            <a:off x="2483640" y="2997360"/>
            <a:ext cx="502920" cy="501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5148360" y="18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AutoShape 12"/>
          <p:cNvSpPr/>
          <p:nvPr/>
        </p:nvSpPr>
        <p:spPr>
          <a:xfrm rot="10800000">
            <a:off x="3347640" y="36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AutoShape 13"/>
          <p:cNvSpPr/>
          <p:nvPr/>
        </p:nvSpPr>
        <p:spPr>
          <a:xfrm rot="10800000">
            <a:off x="5219280" y="36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AutoShape 14"/>
          <p:cNvSpPr/>
          <p:nvPr/>
        </p:nvSpPr>
        <p:spPr>
          <a:xfrm rot="5400000">
            <a:off x="6157080" y="2924640"/>
            <a:ext cx="502920" cy="648000"/>
          </a:xfrm>
          <a:prstGeom prst="upArrow">
            <a:avLst>
              <a:gd name="adj1" fmla="val 50000"/>
              <a:gd name="adj2" fmla="val 3221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403280" y="836640"/>
            <a:ext cx="295272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лат.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classikus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» 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бразцовый 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68360" y="2492280"/>
            <a:ext cx="201600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4859280" y="4581360"/>
            <a:ext cx="3024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1547640" y="4581360"/>
            <a:ext cx="302436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788000" y="907920"/>
            <a:ext cx="302400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6732720" y="2637000"/>
            <a:ext cx="201600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5" name="Text Box 61"/>
          <p:cNvSpPr/>
          <p:nvPr/>
        </p:nvSpPr>
        <p:spPr>
          <a:xfrm>
            <a:off x="5508720" y="1052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4788000" y="1052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4788000" y="9079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бсолютная монархия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6659640" y="2637000"/>
            <a:ext cx="20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Франция – Людовик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XIV (XVII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.)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5003640" y="458136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Россия – Пётр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 (XVIII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век)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0" name="Text Box 74"/>
          <p:cNvSpPr/>
          <p:nvPr/>
        </p:nvSpPr>
        <p:spPr>
          <a:xfrm>
            <a:off x="1547640" y="458136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оспитание человека в духе верности государству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Text Box 75"/>
          <p:cNvSpPr/>
          <p:nvPr/>
        </p:nvSpPr>
        <p:spPr>
          <a:xfrm>
            <a:off x="539640" y="2421000"/>
            <a:ext cx="19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Культ разума, рационализм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AutoShape 78"/>
          <p:cNvSpPr/>
          <p:nvPr/>
        </p:nvSpPr>
        <p:spPr>
          <a:xfrm>
            <a:off x="7812000" y="1484280"/>
            <a:ext cx="647640" cy="1368360"/>
          </a:xfrm>
          <a:custGeom>
            <a:avLst/>
            <a:gdLst>
              <a:gd name="textAreaLeft" fmla="*/ 86760 w 647640"/>
              <a:gd name="textAreaRight" fmla="*/ 560880 w 647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3" name="AutoShape 79"/>
          <p:cNvSpPr/>
          <p:nvPr/>
        </p:nvSpPr>
        <p:spPr>
          <a:xfrm rot="1143000">
            <a:off x="7883280" y="4051080"/>
            <a:ext cx="850680" cy="1311120"/>
          </a:xfrm>
          <a:custGeom>
            <a:avLst/>
            <a:gdLst>
              <a:gd name="textAreaLeft" fmla="*/ 113760 w 850680"/>
              <a:gd name="textAreaRight" fmla="*/ 736920 w 850680"/>
              <a:gd name="textAreaTop" fmla="*/ 229320 h 1311120"/>
              <a:gd name="textAreaBottom" fmla="*/ 950760 h 13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4" name="AutoShape 85"/>
          <p:cNvSpPr/>
          <p:nvPr/>
        </p:nvSpPr>
        <p:spPr>
          <a:xfrm rot="10800000">
            <a:off x="4140000" y="5516280"/>
            <a:ext cx="1726920" cy="662040"/>
          </a:xfrm>
          <a:custGeom>
            <a:avLst/>
            <a:gdLst>
              <a:gd name="textAreaLeft" fmla="*/ 302040 w 1726920"/>
              <a:gd name="textAreaRight" fmla="*/ 1252080 w 172692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5" name="AutoShape 86"/>
          <p:cNvSpPr/>
          <p:nvPr/>
        </p:nvSpPr>
        <p:spPr>
          <a:xfrm rot="9415200">
            <a:off x="610920" y="3645000"/>
            <a:ext cx="726840" cy="1652400"/>
          </a:xfrm>
          <a:custGeom>
            <a:avLst/>
            <a:gdLst>
              <a:gd name="textAreaLeft" fmla="*/ 97200 w 726840"/>
              <a:gd name="textAreaRight" fmla="*/ 629640 w 726840"/>
              <a:gd name="textAreaTop" fmla="*/ 289080 h 1652400"/>
              <a:gd name="textAreaBottom" fmla="*/ 119808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AutoShape 88"/>
          <p:cNvSpPr/>
          <p:nvPr/>
        </p:nvSpPr>
        <p:spPr>
          <a:xfrm rot="12022200">
            <a:off x="791280" y="12740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7" name="AutoShape 89"/>
          <p:cNvSpPr/>
          <p:nvPr/>
        </p:nvSpPr>
        <p:spPr>
          <a:xfrm>
            <a:off x="3851280" y="333360"/>
            <a:ext cx="1873080" cy="574560"/>
          </a:xfrm>
          <a:custGeom>
            <a:avLst/>
            <a:gdLst>
              <a:gd name="textAreaLeft" fmla="*/ 323280 w 1873080"/>
              <a:gd name="textAreaRight" fmla="*/ 1380600 w 187308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6" hR="21600" stAng="10800000" swAng="5400000"/>
                <a:lnTo>
                  <a:pt x="12194" y="0"/>
                </a:lnTo>
                <a:arcTo wR="7456" hR="21600" stAng="-5400000" swAng="2658716"/>
                <a:lnTo>
                  <a:pt x="21174" y="14400"/>
                </a:lnTo>
                <a:lnTo>
                  <a:pt x="17280" y="21600"/>
                </a:lnTo>
                <a:lnTo>
                  <a:pt x="12534" y="14400"/>
                </a:lnTo>
                <a:lnTo>
                  <a:pt x="14485" y="14400"/>
                </a:lnTo>
                <a:arcTo wR="7456" hR="21600" stAng="-2741284" swAng="-2262829"/>
                <a:lnTo>
                  <a:pt x="9825" y="1119"/>
                </a:lnTo>
                <a:arcTo wR="7456" hR="21600" stAng="-5795887" swAng="-5004113"/>
                <a:close/>
              </a:path>
              <a:path fill="darkenLess" w="21600" h="21600">
                <a:moveTo>
                  <a:pt x="0" y="21600"/>
                </a:moveTo>
                <a:arcTo wR="7456" hR="21600" stAng="10800000" swAng="5400000"/>
                <a:lnTo>
                  <a:pt x="7456" y="0"/>
                </a:lnTo>
                <a:arcTo wR="7456" hR="21600" stAng="-5400000" swAng="395887"/>
                <a:lnTo>
                  <a:pt x="9825" y="1119"/>
                </a:lnTo>
                <a:arcTo wR="7456" hR="21600" stAng="-5795887" swAng="-5004113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8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627280" y="620640"/>
            <a:ext cx="388800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Жанры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1" name="AutoShape 7"/>
          <p:cNvSpPr/>
          <p:nvPr/>
        </p:nvSpPr>
        <p:spPr>
          <a:xfrm rot="10800000">
            <a:off x="539280" y="1989000"/>
            <a:ext cx="2519640" cy="648000"/>
          </a:xfrm>
          <a:prstGeom prst="wedgeRectCallout">
            <a:avLst>
              <a:gd name="adj1" fmla="val -59958"/>
              <a:gd name="adj2" fmla="val 165194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11280" y="19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Высокие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13"/>
          <p:cNvSpPr/>
          <p:nvPr/>
        </p:nvSpPr>
        <p:spPr>
          <a:xfrm rot="10800000">
            <a:off x="3203640" y="2852280"/>
            <a:ext cx="2519280" cy="647640"/>
          </a:xfrm>
          <a:prstGeom prst="wedgeRectCallout">
            <a:avLst>
              <a:gd name="adj1" fmla="val -6587"/>
              <a:gd name="adj2" fmla="val 299754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AutoShape 14"/>
          <p:cNvSpPr/>
          <p:nvPr/>
        </p:nvSpPr>
        <p:spPr>
          <a:xfrm rot="10800000">
            <a:off x="5940360" y="1989000"/>
            <a:ext cx="2519280" cy="648000"/>
          </a:xfrm>
          <a:prstGeom prst="wedgeRectCallout">
            <a:avLst>
              <a:gd name="adj1" fmla="val 58379"/>
              <a:gd name="adj2" fmla="val 162986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311640" y="285264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Средние 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940360" y="1989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Низкие 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7" name="AutoShape 20"/>
          <p:cNvSpPr/>
          <p:nvPr/>
        </p:nvSpPr>
        <p:spPr>
          <a:xfrm rot="10800000">
            <a:off x="468360" y="3284640"/>
            <a:ext cx="2303280" cy="1800000"/>
          </a:xfrm>
          <a:prstGeom prst="wedgeRoundRectCallout">
            <a:avLst>
              <a:gd name="adj1" fmla="val -4722"/>
              <a:gd name="adj2" fmla="val 8562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рагед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да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эпопе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8" name="AutoShape 21"/>
          <p:cNvSpPr/>
          <p:nvPr/>
        </p:nvSpPr>
        <p:spPr>
          <a:xfrm rot="10800000">
            <a:off x="3276360" y="4149360"/>
            <a:ext cx="2158920" cy="2303640"/>
          </a:xfrm>
          <a:prstGeom prst="wedgeRoundRectCallout">
            <a:avLst>
              <a:gd name="adj1" fmla="val -1912"/>
              <a:gd name="adj2" fmla="val 77564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аучная поэз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элег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слание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9" name="AutoShape 22"/>
          <p:cNvSpPr/>
          <p:nvPr/>
        </p:nvSpPr>
        <p:spPr>
          <a:xfrm rot="10800000">
            <a:off x="6012000" y="3357720"/>
            <a:ext cx="2303280" cy="1800000"/>
          </a:xfrm>
          <a:prstGeom prst="wedgeRoundRectCallout">
            <a:avLst>
              <a:gd name="adj1" fmla="val -4722"/>
              <a:gd name="adj2" fmla="val 8562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мед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басн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атира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0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01:22Z</dcterms:created>
  <dc:creator>User</dc:creator>
  <dc:description/>
  <dc:language>en-US</dc:language>
  <cp:lastModifiedBy>Alla</cp:lastModifiedBy>
  <dcterms:modified xsi:type="dcterms:W3CDTF">2016-01-26T13:18:47Z</dcterms:modified>
  <cp:revision>56</cp:revision>
  <dc:subject/>
  <dc:title>Наш XVIII век</dc:title>
</cp:coreProperties>
</file>