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B78-C3EB-4CEB-B0C8-78D9D7A2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2D5-DFE6-4517-A2BB-20D4D04A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51F-BF16-4BB2-9D58-CDA8D15F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F4F-B658-47B4-B9A9-A56E2956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F0E-1860-459C-A096-D422967F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BFC-E105-4AB6-A5D4-C670A6A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CEF-22DD-4EA4-9DDA-236BA323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D53-1265-4B42-979A-2F01228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09-B8EC-40E5-AEAA-AAD9BF1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C8F-475D-4F31-8777-CB70C6A3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97D-01C6-4E8D-8A3B-F20E9E8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27D-AF98-4895-A790-30FBE06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290-DF0D-42A8-A3D8-705970C64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251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12 декабря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День Конститу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4357800"/>
            <a:ext cx="457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«Без Конституции невозможны личная свобода, безопасность человека, семьи, общества и государств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                                 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Татьяна Гриш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Что такое Конститу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814840" cy="4233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2214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14840" y="1643040"/>
            <a:ext cx="514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ституция Российской Федерации -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 основной закон Российской Федерации. Это главный закон, который определяет жизнь нашего государства, права и обязанности гражда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Что такое зак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000680" y="2928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Закон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это правило, обязательное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970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35712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федер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ворит о том, что в государстве объединено много республик, краёв и областей. В них живут люди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s://encrypted-tbn2.gstatic.com/images?q=tbn:ANd9GcRq915O1z5g9MU9dRaMnhALSWpJiXZA4MM40Go7H772XX_cRXN3"/>
          <p:cNvPicPr/>
          <p:nvPr/>
        </p:nvPicPr>
        <p:blipFill>
          <a:blip r:embed="rId1"/>
          <a:stretch/>
        </p:blipFill>
        <p:spPr>
          <a:xfrm>
            <a:off x="2214720" y="1571760"/>
            <a:ext cx="4476600" cy="310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285920" y="500076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народы населяют Россию: русские, татары, башкиры, карелы, коми, удмурты, марийцы и другие. Большую часть населения нашей страны составляют русские.  Все мы живем по законам одной конститу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8840" y="1357200"/>
            <a:ext cx="6000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Конституции сказано: человек, его права и свободы являются высшей ценностью. Это значит, что не человек существует для государства, а государство для человек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encrypted-tbn0.gstatic.com/images?q=tbn:ANd9GcTPgx4igfXpwCLSOySRmLL5ylpO2ysOPye0JtWmnIyML-LJbDaL"/>
          <p:cNvPicPr/>
          <p:nvPr/>
        </p:nvPicPr>
        <p:blipFill>
          <a:blip r:embed="rId1"/>
          <a:stretch/>
        </p:blipFill>
        <p:spPr>
          <a:xfrm>
            <a:off x="1928880" y="3643200"/>
            <a:ext cx="5072040" cy="2714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571760" y="50004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для нашего государства самое гл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143760" y="1428840"/>
            <a:ext cx="228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узыка - Георгия Александр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овый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214280" y="1214280"/>
            <a:ext cx="442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священная наша держа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любимая наша стра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Могучая воля, великая слава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: Славься, Отечество наше свободно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Братских народов союз веков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едками данная мудрость народна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т южных морей до полярного кр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скинулись наши леса и по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дна ты на свете! Одна ты такая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Широкий простор для мечты и для жиз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рядущие нам открывают г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м силу даёт наша верность Отчиз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s://encrypted-tbn0.gstatic.com/images?q=tbn:ANd9GcSXjhBwCeoE4bhsiBjEyh5Qy4fBc2jAJL1UdzYZk8RoQNVfhK92UA"/>
          <p:cNvPicPr/>
          <p:nvPr/>
        </p:nvPicPr>
        <p:blipFill>
          <a:blip r:embed="rId1"/>
          <a:stretch/>
        </p:blipFill>
        <p:spPr>
          <a:xfrm>
            <a:off x="5614920" y="42148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000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ер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6072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ерб Российской Федерации представляет собой изображение золотого двуглавого орла, помещенного на красном геральдическом щите; над орлом — три исторические короны (над головами — две малые и над ними — одна большего размера); в лапах орла — скипетр и держава; на груди орла на красном щите — всадник. Это Святой Георгий Победоносец – на белом коне, за его плечами развевается синий плащ, в правой руке у него серебряное копье, которым он поражает дракона. Ужасный черный змей – это символ зла. Он повержен героем. Верный конь топчет дракона копы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6442200" y="428760"/>
            <a:ext cx="270180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11" descr=""/>
          <p:cNvPicPr/>
          <p:nvPr/>
        </p:nvPicPr>
        <p:blipFill>
          <a:blip r:embed="rId2"/>
          <a:srcRect l="2759" t="29266" r="49171" b="13361"/>
          <a:stretch/>
        </p:blipFill>
        <p:spPr>
          <a:xfrm>
            <a:off x="6264360" y="4286160"/>
            <a:ext cx="287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3394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белого, синего и красного цв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артинка 53 из 1294391"/>
          <p:cNvPicPr/>
          <p:nvPr/>
        </p:nvPicPr>
        <p:blipFill>
          <a:blip r:embed="rId1"/>
          <a:stretch/>
        </p:blipFill>
        <p:spPr>
          <a:xfrm>
            <a:off x="4857840" y="3936960"/>
            <a:ext cx="428616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7"/>
          <p:cNvSpPr/>
          <p:nvPr/>
        </p:nvSpPr>
        <p:spPr>
          <a:xfrm>
            <a:off x="428760" y="4429080"/>
            <a:ext cx="5000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 в России отмечается День Государственного флага Российской Федерации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85880" y="571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3.   Государственные символ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00240" y="1357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57120" y="30718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В каком порядке располагаются цвета на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357200" y="3643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Бел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Белый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4. Красны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 -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27:18Z</dcterms:created>
  <dc:creator>Татьяна</dc:creator>
  <dc:description/>
  <dc:language>en-US</dc:language>
  <cp:lastModifiedBy>Анна Гришина</cp:lastModifiedBy>
  <dcterms:modified xsi:type="dcterms:W3CDTF">2023-09-17T18:04:28Z</dcterms:modified>
  <cp:revision>91</cp:revision>
  <dc:subject/>
  <dc:title>Слайд 1</dc:title>
</cp:coreProperties>
</file>