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CB128-4AC4-48F1-B56B-89B378462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8DAC9-9B88-4DF0-BA87-CA6CBB9D7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0DE5C-C910-44EE-B8F2-4FDDDFF17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C19C4-32C2-4395-8218-36F3861EE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75ECC-9DE9-47BE-80C8-AE359EFEC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A72CA-52F5-4378-A3BD-1FBF2E1C0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0D3DD-65BD-4E4F-8D93-5832871F9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E9F72-8AD9-43EF-BA8E-994E9F11A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0BCA3-8F32-45B6-90C5-D054F22B9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BDA9F-5BFC-4EB9-8BF0-B792AA6A8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67414-5C84-496C-B64A-DC18BEE4E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D6E0A-2F92-442A-935E-0413B56AA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0FE76-2A10-4C05-80F6-49206A5C6FC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71640" y="1341360"/>
            <a:ext cx="7488000" cy="2516400"/>
          </a:xfrm>
          <a:prstGeom prst="rect">
            <a:avLst/>
          </a:prstGeom>
          <a:solidFill>
            <a:srgbClr val="000000">
              <a:alpha val="1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00"/>
                </a:solidFill>
                <a:latin typeface="Calibri"/>
              </a:rPr>
              <a:t>12 декабря</a:t>
            </a:r>
            <a:br>
              <a:rPr sz="6000"/>
            </a:br>
            <a:r>
              <a:rPr b="0" lang="ru-RU" sz="6000" spc="-1" strike="noStrike">
                <a:solidFill>
                  <a:srgbClr val="ffff00"/>
                </a:solidFill>
                <a:latin typeface="Calibri"/>
              </a:rPr>
              <a:t>День Конституции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42960" y="4357800"/>
            <a:ext cx="4572000" cy="13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000"/>
                </a:solidFill>
                <a:latin typeface="Calibri"/>
              </a:rPr>
              <a:t>«Без Конституции невозможны личная свобода, безопасность человека, семьи, общества и государства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000"/>
                </a:solidFill>
                <a:latin typeface="Calibri"/>
              </a:rPr>
              <a:t>                                         </a:t>
            </a:r>
            <a:r>
              <a:rPr b="1" lang="ru-RU" sz="2000" spc="-1" strike="noStrike">
                <a:solidFill>
                  <a:srgbClr val="ffc000"/>
                </a:solidFill>
                <a:latin typeface="Calibri"/>
              </a:rPr>
              <a:t>Татьяна Гришин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99680" y="285480"/>
            <a:ext cx="700092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Calibri"/>
              </a:rPr>
              <a:t>          </a:t>
            </a:r>
            <a:r>
              <a:rPr b="1" lang="ru-RU" sz="2800" spc="-1" strike="noStrike">
                <a:solidFill>
                  <a:srgbClr val="ffff00"/>
                </a:solidFill>
                <a:latin typeface="Calibri"/>
              </a:rPr>
              <a:t>Что такое Конституция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500040" y="1643040"/>
            <a:ext cx="2814840" cy="4233960"/>
          </a:xfrm>
          <a:prstGeom prst="rect">
            <a:avLst/>
          </a:prstGeom>
          <a:ln w="0">
            <a:noFill/>
          </a:ln>
        </p:spPr>
      </p:pic>
      <p:sp>
        <p:nvSpPr>
          <p:cNvPr id="45" name="Прямоугольник 5"/>
          <p:cNvSpPr/>
          <p:nvPr/>
        </p:nvSpPr>
        <p:spPr>
          <a:xfrm>
            <a:off x="4286160" y="22147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6"/>
          <p:cNvSpPr/>
          <p:nvPr/>
        </p:nvSpPr>
        <p:spPr>
          <a:xfrm>
            <a:off x="3714840" y="1643040"/>
            <a:ext cx="5143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Конституция Российской Федерации - </a:t>
            </a: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это основной закон Российской Федерации. Это главный закон, который определяет жизнь нашего государства, права и обязанности граждан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Calibri"/>
              </a:rPr>
              <a:t>Что такое закон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Прямоугольник 2"/>
          <p:cNvSpPr/>
          <p:nvPr/>
        </p:nvSpPr>
        <p:spPr>
          <a:xfrm>
            <a:off x="4000680" y="2928960"/>
            <a:ext cx="5429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  <a:ea typeface="Arial"/>
              </a:rPr>
              <a:t>Закон – </a:t>
            </a:r>
            <a:r>
              <a:rPr b="1" lang="ru-RU" sz="3200" spc="-1" strike="noStrike">
                <a:solidFill>
                  <a:srgbClr val="ffffff"/>
                </a:solidFill>
                <a:latin typeface="Calibri"/>
                <a:ea typeface="Arial"/>
              </a:rPr>
              <a:t>это правило, обязательное для все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857160" y="1857240"/>
            <a:ext cx="2970360" cy="41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"/>
          <p:cNvSpPr/>
          <p:nvPr/>
        </p:nvSpPr>
        <p:spPr>
          <a:xfrm>
            <a:off x="1071720" y="357120"/>
            <a:ext cx="7215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Слово </a:t>
            </a:r>
            <a:r>
              <a:rPr b="1" i="1" lang="ru-RU" sz="2000" spc="-1" strike="noStrike">
                <a:solidFill>
                  <a:srgbClr val="ffff00"/>
                </a:solidFill>
                <a:latin typeface="Calibri"/>
              </a:rPr>
              <a:t>федерация 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говорит о том, что в государстве объединено много республик, краёв и областей. В них живут люди разных национальност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https://encrypted-tbn2.gstatic.com/images?q=tbn:ANd9GcRq915O1z5g9MU9dRaMnhALSWpJiXZA4MM40Go7H772XX_cRXN3"/>
          <p:cNvPicPr/>
          <p:nvPr/>
        </p:nvPicPr>
        <p:blipFill>
          <a:blip r:embed="rId1"/>
          <a:stretch/>
        </p:blipFill>
        <p:spPr>
          <a:xfrm>
            <a:off x="2214720" y="1571760"/>
            <a:ext cx="4476600" cy="3100320"/>
          </a:xfrm>
          <a:prstGeom prst="rect">
            <a:avLst/>
          </a:prstGeom>
          <a:ln w="0">
            <a:noFill/>
          </a:ln>
        </p:spPr>
      </p:pic>
      <p:sp>
        <p:nvSpPr>
          <p:cNvPr id="52" name="TextBox 4"/>
          <p:cNvSpPr/>
          <p:nvPr/>
        </p:nvSpPr>
        <p:spPr>
          <a:xfrm>
            <a:off x="1285920" y="5000760"/>
            <a:ext cx="62150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Многие народы населяют Россию: русские, татары, башкиры, карелы, коми, удмурты, марийцы и другие. Большую часть населения нашей страны составляют русские.  Все мы живем по законам одной конститу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Box 1"/>
          <p:cNvSpPr/>
          <p:nvPr/>
        </p:nvSpPr>
        <p:spPr>
          <a:xfrm>
            <a:off x="1428840" y="1357200"/>
            <a:ext cx="600084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В Конституции сказано: человек, его права и свободы являются высшей ценностью. Это значит, что не человек существует для государства, а государство для человека</a:t>
            </a: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2" descr="https://encrypted-tbn0.gstatic.com/images?q=tbn:ANd9GcTPgx4igfXpwCLSOySRmLL5ylpO2ysOPye0JtWmnIyML-LJbDaL"/>
          <p:cNvPicPr/>
          <p:nvPr/>
        </p:nvPicPr>
        <p:blipFill>
          <a:blip r:embed="rId1"/>
          <a:stretch/>
        </p:blipFill>
        <p:spPr>
          <a:xfrm>
            <a:off x="1928880" y="3643200"/>
            <a:ext cx="5072040" cy="2714760"/>
          </a:xfrm>
          <a:prstGeom prst="rect">
            <a:avLst/>
          </a:prstGeom>
          <a:ln w="0">
            <a:noFill/>
          </a:ln>
        </p:spPr>
      </p:pic>
      <p:sp>
        <p:nvSpPr>
          <p:cNvPr id="55" name="TextBox 3"/>
          <p:cNvSpPr/>
          <p:nvPr/>
        </p:nvSpPr>
        <p:spPr>
          <a:xfrm>
            <a:off x="1571760" y="500040"/>
            <a:ext cx="61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Calibri"/>
              </a:rPr>
              <a:t>Что для нашего государства самое главно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Calibri"/>
              </a:rPr>
              <a:t>Гимн Росси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Прямоугольник 3"/>
          <p:cNvSpPr/>
          <p:nvPr/>
        </p:nvSpPr>
        <p:spPr>
          <a:xfrm>
            <a:off x="6143760" y="1428840"/>
            <a:ext cx="22860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  <a:ea typeface="Arial"/>
              </a:rPr>
              <a:t>Музыка - Георгия Александров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  <a:ea typeface="Arial"/>
              </a:rPr>
              <a:t>новый текст - Сергея Михалко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4"/>
          <p:cNvSpPr/>
          <p:nvPr/>
        </p:nvSpPr>
        <p:spPr>
          <a:xfrm>
            <a:off x="1214280" y="1214280"/>
            <a:ext cx="44294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  <a:ea typeface="Arial"/>
              </a:rPr>
              <a:t>Россия — священная наша держава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Calibri"/>
                <a:ea typeface="Arial"/>
              </a:rPr>
              <a:t>Россия — любимая наша страна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Calibri"/>
                <a:ea typeface="Arial"/>
              </a:rPr>
              <a:t>Могучая воля, великая слава —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Calibri"/>
                <a:ea typeface="Arial"/>
              </a:rPr>
              <a:t>Твоё достоянье на все времена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  <a:ea typeface="Arial"/>
              </a:rPr>
              <a:t>Пр: Славься, Отечество наше свободное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Calibri"/>
                <a:ea typeface="Arial"/>
              </a:rPr>
              <a:t>Братских народов союз вековой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Calibri"/>
                <a:ea typeface="Arial"/>
              </a:rPr>
              <a:t>Предками данная мудрость народная!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Calibri"/>
                <a:ea typeface="Arial"/>
              </a:rPr>
              <a:t>Славься, страна! Мы гордимся тобой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  <a:ea typeface="Arial"/>
              </a:rPr>
              <a:t>От южных морей до полярного края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Calibri"/>
                <a:ea typeface="Arial"/>
              </a:rPr>
              <a:t>Раскинулись наши леса и поля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Calibri"/>
                <a:ea typeface="Arial"/>
              </a:rPr>
              <a:t>Одна ты на свете! Одна ты такая —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Calibri"/>
                <a:ea typeface="Arial"/>
              </a:rPr>
              <a:t>Хранимая Богом родная земля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  <a:ea typeface="Arial"/>
              </a:rPr>
              <a:t>Широкий простор для мечты и для жизни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Calibri"/>
                <a:ea typeface="Arial"/>
              </a:rPr>
              <a:t>Грядущие нам открывают года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Calibri"/>
                <a:ea typeface="Arial"/>
              </a:rPr>
              <a:t>Нам силу даёт наша верность Отчизне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Calibri"/>
                <a:ea typeface="Arial"/>
              </a:rPr>
              <a:t>Так было, так есть и так будет всегда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8" descr="https://encrypted-tbn0.gstatic.com/images?q=tbn:ANd9GcSXjhBwCeoE4bhsiBjEyh5Qy4fBc2jAJL1UdzYZk8RoQNVfhK92UA"/>
          <p:cNvPicPr/>
          <p:nvPr/>
        </p:nvPicPr>
        <p:blipFill>
          <a:blip r:embed="rId1"/>
          <a:stretch/>
        </p:blipFill>
        <p:spPr>
          <a:xfrm>
            <a:off x="5614920" y="4214880"/>
            <a:ext cx="3529080" cy="26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999800" y="-360"/>
            <a:ext cx="5000760" cy="785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Calibri"/>
              </a:rPr>
              <a:t>   </a:t>
            </a:r>
            <a:r>
              <a:rPr b="1" lang="ru-RU" sz="2800" spc="-1" strike="noStrike">
                <a:solidFill>
                  <a:srgbClr val="ffff00"/>
                </a:solidFill>
                <a:latin typeface="Calibri"/>
              </a:rPr>
              <a:t>Герб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56760" y="928440"/>
            <a:ext cx="6072120" cy="38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Герб Российской Федерации представляет собой изображение золотого двуглавого орла, помещенного на красном геральдическом щите; над орлом — три исторические короны (над головами — две малые и над ними — одна большего размера); в лапах орла — скипетр и держава; на груди орла на красном щите — всадник. Это Святой Георгий Победоносец – на белом коне, за его плечами развевается синий плащ, в правой руке у него серебряное копье, которым он поражает дракона. Ужасный черный змей – это символ зла. Он повержен героем. Верный конь топчет дракона копытам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В статьях 3, 5, 6, 7 Конституции  указывается, что герб изображается на печатях, паспортах, документах, денежных знаках, государственных наградах, боевых знаменах воинских часте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6" descr="Картинка 1 из 9181"/>
          <p:cNvPicPr/>
          <p:nvPr/>
        </p:nvPicPr>
        <p:blipFill>
          <a:blip r:embed="rId1"/>
          <a:stretch/>
        </p:blipFill>
        <p:spPr>
          <a:xfrm>
            <a:off x="6442200" y="428760"/>
            <a:ext cx="2701800" cy="3571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63" name="Picture 11" descr=""/>
          <p:cNvPicPr/>
          <p:nvPr/>
        </p:nvPicPr>
        <p:blipFill>
          <a:blip r:embed="rId2"/>
          <a:srcRect l="2759" t="29266" r="49171" b="13361"/>
          <a:stretch/>
        </p:blipFill>
        <p:spPr>
          <a:xfrm>
            <a:off x="6264360" y="4286160"/>
            <a:ext cx="287964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3394080" cy="85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Calibri"/>
              </a:rPr>
              <a:t>Флаг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56760" y="1071720"/>
            <a:ext cx="8215560" cy="307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Государственный флаг Российской Федерации представляет собой прямоугольное полотнище из трёх равновеликих горизонтальных полос: белого, синего и красного цвета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Государственный флаг Российской Федерации постоянно поднят на зданиях органов власти нашей страны. Он вывешивается в дни государственных праздников и торжественных церемоний. Поднимается на зданиях дипломатических представительств России за рубежом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4" descr="Картинка 53 из 1294391"/>
          <p:cNvPicPr/>
          <p:nvPr/>
        </p:nvPicPr>
        <p:blipFill>
          <a:blip r:embed="rId1"/>
          <a:stretch/>
        </p:blipFill>
        <p:spPr>
          <a:xfrm>
            <a:off x="4857840" y="3936960"/>
            <a:ext cx="4286160" cy="29210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67" name="TextBox 7"/>
          <p:cNvSpPr/>
          <p:nvPr/>
        </p:nvSpPr>
        <p:spPr>
          <a:xfrm>
            <a:off x="428760" y="4429080"/>
            <a:ext cx="5000400" cy="12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  <a:ea typeface="Arial"/>
              </a:rPr>
              <a:t>22 августа в России отмечается День Государственного флага Российской Федерации. </a:t>
            </a:r>
            <a:br>
              <a:rPr sz="18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Box 1"/>
          <p:cNvSpPr/>
          <p:nvPr/>
        </p:nvSpPr>
        <p:spPr>
          <a:xfrm>
            <a:off x="785880" y="571680"/>
            <a:ext cx="764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Calibri"/>
                <a:ea typeface="Arial"/>
              </a:rPr>
              <a:t>3.   Государственные символы Росс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2"/>
          <p:cNvSpPr/>
          <p:nvPr/>
        </p:nvSpPr>
        <p:spPr>
          <a:xfrm>
            <a:off x="3000240" y="1357200"/>
            <a:ext cx="28576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  <a:ea typeface="Arial"/>
              </a:rPr>
              <a:t>Гим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  <a:ea typeface="Arial"/>
              </a:rPr>
              <a:t>Гер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  <a:ea typeface="Arial"/>
              </a:rPr>
              <a:t>Фла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3"/>
          <p:cNvSpPr/>
          <p:nvPr/>
        </p:nvSpPr>
        <p:spPr>
          <a:xfrm>
            <a:off x="357120" y="3071880"/>
            <a:ext cx="842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Calibri"/>
                <a:ea typeface="Arial"/>
              </a:rPr>
              <a:t>4. </a:t>
            </a:r>
            <a:r>
              <a:rPr b="1" lang="ru-RU" sz="2400" spc="-1" strike="noStrike">
                <a:solidFill>
                  <a:srgbClr val="ffff00"/>
                </a:solidFill>
                <a:latin typeface="Calibri"/>
                <a:ea typeface="Arial"/>
              </a:rPr>
              <a:t>В каком порядке располагаются цвета на флаге Российской Федераци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4"/>
          <p:cNvSpPr/>
          <p:nvPr/>
        </p:nvSpPr>
        <p:spPr>
          <a:xfrm>
            <a:off x="1357200" y="3643200"/>
            <a:ext cx="52149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buClr>
                <a:srgbClr val="0000cc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Calibri"/>
                <a:ea typeface="Arial"/>
              </a:rPr>
              <a:t>Синий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  <a:ea typeface="Arial"/>
              </a:rPr>
              <a:t>–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  <a:ea typeface="Arial"/>
              </a:rPr>
              <a:t>красный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Calibri"/>
                <a:ea typeface="Arial"/>
              </a:rPr>
              <a:t>– бел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     </a:t>
            </a:r>
            <a:r>
              <a:rPr b="1" lang="ru-RU" sz="2400" spc="-1" strike="noStrike">
                <a:solidFill>
                  <a:srgbClr val="ffffff"/>
                </a:solidFill>
                <a:latin typeface="Calibri"/>
                <a:ea typeface="Arial"/>
              </a:rPr>
              <a:t>2. Белый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– </a:t>
            </a:r>
            <a:r>
              <a:rPr b="1" lang="ru-RU" sz="2400" spc="-1" strike="noStrike">
                <a:solidFill>
                  <a:srgbClr val="0000cc"/>
                </a:solidFill>
                <a:latin typeface="Calibri"/>
                <a:ea typeface="Arial"/>
              </a:rPr>
              <a:t>синий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  <a:ea typeface="Arial"/>
              </a:rPr>
              <a:t>–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  <a:ea typeface="Arial"/>
              </a:rPr>
              <a:t>крас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           </a:t>
            </a:r>
            <a:r>
              <a:rPr b="1" lang="ru-RU" sz="2400" spc="-1" strike="noStrike">
                <a:solidFill>
                  <a:srgbClr val="ffffff"/>
                </a:solidFill>
                <a:latin typeface="Calibri"/>
                <a:ea typeface="Arial"/>
              </a:rPr>
              <a:t>3. Белый – 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  <a:ea typeface="Arial"/>
              </a:rPr>
              <a:t>красный – </a:t>
            </a:r>
            <a:r>
              <a:rPr b="1" lang="ru-RU" sz="2400" spc="-1" strike="noStrike">
                <a:solidFill>
                  <a:srgbClr val="0000cc"/>
                </a:solidFill>
                <a:latin typeface="Calibri"/>
                <a:ea typeface="Arial"/>
              </a:rPr>
              <a:t>си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                  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  <a:ea typeface="Arial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  <a:ea typeface="Arial"/>
              </a:rPr>
              <a:t>4. Красный </a:t>
            </a:r>
            <a:r>
              <a:rPr b="1" lang="ru-RU" sz="2400" spc="-1" strike="noStrike">
                <a:solidFill>
                  <a:srgbClr val="ffffff"/>
                </a:solidFill>
                <a:latin typeface="Calibri"/>
                <a:ea typeface="Arial"/>
              </a:rPr>
              <a:t>– белый - </a:t>
            </a:r>
            <a:r>
              <a:rPr b="1" lang="ru-RU" sz="2400" spc="-1" strike="noStrike">
                <a:solidFill>
                  <a:srgbClr val="0000cc"/>
                </a:solidFill>
                <a:latin typeface="Calibri"/>
                <a:ea typeface="Arial"/>
              </a:rPr>
              <a:t>си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07T15:27:18Z</dcterms:created>
  <dc:creator>Татьяна</dc:creator>
  <dc:description/>
  <dc:language>en-US</dc:language>
  <cp:lastModifiedBy>Анна Гришина</cp:lastModifiedBy>
  <dcterms:modified xsi:type="dcterms:W3CDTF">2023-09-17T18:04:28Z</dcterms:modified>
  <cp:revision>91</cp:revision>
  <dc:subject/>
  <dc:title>Слайд 1</dc:title>
</cp:coreProperties>
</file>