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95C-7023-40DC-8E2D-C6E50D47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07E-D1AE-4FC3-9073-E35C3D88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365-5A05-43F3-9906-ED54C553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EAD-1DE6-4A41-8F6A-D5F53A7D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3CF-738A-4CDD-98EF-0C2C0DF3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C1E-5738-4B8B-9F8E-01F81A77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CE2-1182-4474-8EBA-F7ECB4DD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83B-0C4C-4C59-98A0-B5412DCF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06C-0287-49F7-9ADA-D57EA7E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25B-8342-495A-BB59-F46EC86C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153-55ED-4F50-8F64-4952E470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847-7625-4615-AD2E-15C866D9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1120-F939-4D25-A8AE-D8B3724B5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488000" cy="251640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12 декабря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День Конститу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4357800"/>
            <a:ext cx="4572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«Без Конституции невозможны личная свобода, безопасность человека, семьи, общества и государств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                                        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Татьяна Гриш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000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Что такое Конститу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814840" cy="42339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286160" y="2214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3714840" y="1643040"/>
            <a:ext cx="5143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нституция Российской Федерации -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о основной закон Российской Федерации. Это главный закон, который определяет жизнь нашего государства, права и обязанности гражда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Что такое зак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000680" y="292896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Закон –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это правило, обязательное дл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2970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071720" y="35712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федерация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ворит о том, что в государстве объединено много республик, краёв и областей. В них живут люди разных националь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s://encrypted-tbn2.gstatic.com/images?q=tbn:ANd9GcRq915O1z5g9MU9dRaMnhALSWpJiXZA4MM40Go7H772XX_cRXN3"/>
          <p:cNvPicPr/>
          <p:nvPr/>
        </p:nvPicPr>
        <p:blipFill>
          <a:blip r:embed="rId1"/>
          <a:stretch/>
        </p:blipFill>
        <p:spPr>
          <a:xfrm>
            <a:off x="2214720" y="1571760"/>
            <a:ext cx="4476600" cy="3100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285920" y="5000760"/>
            <a:ext cx="62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ногие народы населяют Россию: русские, татары, башкиры, карелы, коми, удмурты, марийцы и другие. Большую часть населения нашей страны составляют русские.  Все мы живем по законам одной конститу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428840" y="1357200"/>
            <a:ext cx="6000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Конституции сказано: человек, его права и свободы являются высшей ценностью. Это значит, что не человек существует для государства, а государство для человек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encrypted-tbn0.gstatic.com/images?q=tbn:ANd9GcTPgx4igfXpwCLSOySRmLL5ylpO2ysOPye0JtWmnIyML-LJbDaL"/>
          <p:cNvPicPr/>
          <p:nvPr/>
        </p:nvPicPr>
        <p:blipFill>
          <a:blip r:embed="rId1"/>
          <a:stretch/>
        </p:blipFill>
        <p:spPr>
          <a:xfrm>
            <a:off x="1928880" y="3643200"/>
            <a:ext cx="5072040" cy="2714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571760" y="500040"/>
            <a:ext cx="61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то для нашего государства самое глав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6143760" y="1428840"/>
            <a:ext cx="228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узыка - Георгия Александр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овый текст - Сергея Михал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214280" y="1214280"/>
            <a:ext cx="442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священная наша держа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любимая наша стра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Могучая воля, великая слава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воё достоянье на все врем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: Славься, Отечество наше свободно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Братских народов союз веков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едками данная мудрость народная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т южных морей до полярного кр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аскинулись наши леса и пол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дна ты на свете! Одна ты такая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Хранимая Богом родная 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Широкий простор для мечты и для жиз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Грядущие нам открывают год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Нам силу даёт наша верность Отчиз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ак было, так есть и так будет всег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s://encrypted-tbn0.gstatic.com/images?q=tbn:ANd9GcSXjhBwCeoE4bhsiBjEyh5Qy4fBc2jAJL1UdzYZk8RoQNVfhK92UA"/>
          <p:cNvPicPr/>
          <p:nvPr/>
        </p:nvPicPr>
        <p:blipFill>
          <a:blip r:embed="rId1"/>
          <a:stretch/>
        </p:blipFill>
        <p:spPr>
          <a:xfrm>
            <a:off x="5614920" y="4214880"/>
            <a:ext cx="352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000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Герб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6072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ерб Российской Федерации представляет собой изображение золотого двуглавого орла, помещенного на красном геральдическом щите; над орлом — три исторические короны (над головами — две малые и над ними — одна большего размера); в лапах орла — скипетр и держава; на груди орла на красном щите — всадник. Это Святой Георгий Победоносец – на белом коне, за его плечами развевается синий плащ, в правой руке у него серебряное копье, которым он поражает дракона. Ужасный черный змей – это символ зла. Он повержен героем. Верный конь топчет дракона копы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статьях 3, 5, 6, 7 Конституции  указывается, что герб изображается на печатях, паспортах, документах, денежных знаках, государственных наградах, боевых знаменах воинских ча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Картинка 1 из 9181"/>
          <p:cNvPicPr/>
          <p:nvPr/>
        </p:nvPicPr>
        <p:blipFill>
          <a:blip r:embed="rId1"/>
          <a:stretch/>
        </p:blipFill>
        <p:spPr>
          <a:xfrm>
            <a:off x="6442200" y="428760"/>
            <a:ext cx="270180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11" descr=""/>
          <p:cNvPicPr/>
          <p:nvPr/>
        </p:nvPicPr>
        <p:blipFill>
          <a:blip r:embed="rId2"/>
          <a:srcRect l="2759" t="29266" r="49171" b="13361"/>
          <a:stretch/>
        </p:blipFill>
        <p:spPr>
          <a:xfrm>
            <a:off x="6264360" y="4286160"/>
            <a:ext cx="287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33940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6760" y="1071720"/>
            <a:ext cx="82155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редставляет собой прямоугольное полотнище из трёх равновеликих горизонтальных полос: белого, синего и красного цв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остоянно поднят на зданиях органов власти нашей страны. Он вывешивается в дни государственных праздников и торжественных церемоний. Поднимается на зданиях дипломатических представительств России за рубеж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Картинка 53 из 1294391"/>
          <p:cNvPicPr/>
          <p:nvPr/>
        </p:nvPicPr>
        <p:blipFill>
          <a:blip r:embed="rId1"/>
          <a:stretch/>
        </p:blipFill>
        <p:spPr>
          <a:xfrm>
            <a:off x="4857840" y="3936960"/>
            <a:ext cx="4286160" cy="292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TextBox 7"/>
          <p:cNvSpPr/>
          <p:nvPr/>
        </p:nvSpPr>
        <p:spPr>
          <a:xfrm>
            <a:off x="428760" y="4429080"/>
            <a:ext cx="50004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22 августа в России отмечается День Государственного флага Российской Федерации.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85880" y="57168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3.   Государственные символ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000240" y="1357200"/>
            <a:ext cx="285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и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57120" y="307188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В каком порядке располагаются цвета на флаге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357200" y="364320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Бел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Белый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4. Красный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 -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5:27:18Z</dcterms:created>
  <dc:creator>Татьяна</dc:creator>
  <dc:description/>
  <dc:language>en-US</dc:language>
  <cp:lastModifiedBy>Анна Гришина</cp:lastModifiedBy>
  <dcterms:modified xsi:type="dcterms:W3CDTF">2023-09-17T18:04:28Z</dcterms:modified>
  <cp:revision>91</cp:revision>
  <dc:subject/>
  <dc:title>Слайд 1</dc:title>
</cp:coreProperties>
</file>