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9.png" ContentType="image/png"/>
  <Override PartName="/ppt/media/image6.gif" ContentType="image/gi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340-358E-400D-BAFF-6A1F5D3B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33F-9E57-4DCC-926E-AC0A861A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62D-7F0A-40BD-88CE-239EB604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986-9FEB-4C6D-94FD-115C8A69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3B72-23C0-41A8-879F-E38C42EC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81C2-34A5-4CBA-95B6-206A7ACE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83FF-A34F-46B8-88D4-FA08BB1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28AC-3C48-4779-B6C2-87893ABA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5A50-7D5A-458F-8353-EDA00DF1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E16B-8E5E-479D-A189-F5332057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9170-BF13-463F-983C-5A8831F2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234-9C51-44EF-9346-7BF752A8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46B9-0DBA-4C04-9250-0F23A605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F7DE-75C4-4CAD-8BBF-CFE0E8C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9DDB-795C-4A95-B4A2-D3AF8831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2798-D6DB-4E1A-A1B6-B3A05BDA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EE53-578C-443C-BF2A-5C6CB589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C03-9DFA-4092-8CFE-594DE2D9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9FA-5358-4354-9EFF-75A0F466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526-6EFD-45A2-AF37-43B597FE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C22-24A9-4FCA-A9DB-1E3CC91E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010-42C1-4F8E-AFEB-5E9954D2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767-B408-419B-9A6A-41754BDC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8CD-9D47-4045-B3F7-04ABFFD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6D7B-16A9-4896-A7CD-3D3F22887C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6C7F-5B0B-4FAA-B502-E32E79D4BB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8+8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9+8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9+9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457200" y="24382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Наука даром не даётся - наука трудом берёт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28600" y="220968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у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чему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проверять безударные глас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что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решение прост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144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ОЙ ПАЛЕ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для меня было многое важным и интерес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ЗАТЕЛЬ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использованные приемы буду применять в свое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ИЙ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для меня было недостаточно данн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ЫМЯН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приёмы работы с текстом представлены я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ЗИНЕЦ -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е приёмы мне известны, но я их не применя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1397160"/>
          <a:ext cx="8534160" cy="256536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61344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C:\Users\User\Downloads\img11.jpg"/>
          <p:cNvPicPr/>
          <p:nvPr/>
        </p:nvPicPr>
        <p:blipFill>
          <a:blip r:embed="rId1"/>
          <a:srcRect l="0" t="14324" r="264" b="0"/>
          <a:stretch/>
        </p:blipFill>
        <p:spPr>
          <a:xfrm>
            <a:off x="990720" y="1219320"/>
            <a:ext cx="7848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80880" y="1523880"/>
          <a:ext cx="7993080" cy="38102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8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5" name="Равнобедренный треугольник 20"/>
          <p:cNvSpPr/>
          <p:nvPr/>
        </p:nvSpPr>
        <p:spPr>
          <a:xfrm>
            <a:off x="2362320" y="2976480"/>
            <a:ext cx="1328760" cy="10256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авильный пятиугольник 21"/>
          <p:cNvSpPr/>
          <p:nvPr/>
        </p:nvSpPr>
        <p:spPr>
          <a:xfrm>
            <a:off x="2963880" y="1671480"/>
            <a:ext cx="1349280" cy="895680"/>
          </a:xfrm>
          <a:prstGeom prst="pentagon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араллелограмм 22"/>
          <p:cNvSpPr/>
          <p:nvPr/>
        </p:nvSpPr>
        <p:spPr>
          <a:xfrm>
            <a:off x="4500720" y="2533680"/>
            <a:ext cx="1247760" cy="790560"/>
          </a:xfrm>
          <a:prstGeom prst="parallelogram">
            <a:avLst>
              <a:gd name="adj" fmla="val 24983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3"/>
          <p:cNvSpPr/>
          <p:nvPr/>
        </p:nvSpPr>
        <p:spPr>
          <a:xfrm>
            <a:off x="762120" y="1752480"/>
            <a:ext cx="1338120" cy="1224000"/>
          </a:xfrm>
          <a:prstGeom prst="ellipse">
            <a:avLst/>
          </a:prstGeom>
          <a:solidFill>
            <a:srgbClr val="a5a5a5"/>
          </a:solidFill>
          <a:ln w="12600">
            <a:solidFill>
              <a:srgbClr val="78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4"/>
          <p:cNvSpPr/>
          <p:nvPr/>
        </p:nvSpPr>
        <p:spPr>
          <a:xfrm>
            <a:off x="3927600" y="4002120"/>
            <a:ext cx="1674720" cy="72216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Трапеция 25"/>
          <p:cNvSpPr/>
          <p:nvPr/>
        </p:nvSpPr>
        <p:spPr>
          <a:xfrm>
            <a:off x="914400" y="4002120"/>
            <a:ext cx="1600200" cy="1055520"/>
          </a:xfrm>
          <a:custGeom>
            <a:avLst/>
            <a:gdLst/>
            <a:ahLst/>
            <a:rect l="l" t="t" r="r" b="b"/>
            <a:pathLst>
              <a:path w="1600200" h="1055686">
                <a:moveTo>
                  <a:pt x="0" y="1055686"/>
                </a:moveTo>
                <a:lnTo>
                  <a:pt x="263922" y="0"/>
                </a:lnTo>
                <a:lnTo>
                  <a:pt x="1336279" y="0"/>
                </a:lnTo>
                <a:lnTo>
                  <a:pt x="1600200" y="1055686"/>
                </a:lnTo>
                <a:lnTo>
                  <a:pt x="0" y="1055686"/>
                </a:lnTo>
                <a:close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ый треугольник 26"/>
          <p:cNvSpPr/>
          <p:nvPr/>
        </p:nvSpPr>
        <p:spPr>
          <a:xfrm>
            <a:off x="6611760" y="1809720"/>
            <a:ext cx="1127160" cy="743040"/>
          </a:xfrm>
          <a:prstGeom prst="rtTriangle">
            <a:avLst/>
          </a:prstGeom>
          <a:solidFill>
            <a:srgbClr val="ffd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Ромб 27"/>
          <p:cNvSpPr/>
          <p:nvPr/>
        </p:nvSpPr>
        <p:spPr>
          <a:xfrm>
            <a:off x="6424560" y="2705040"/>
            <a:ext cx="1219320" cy="1260360"/>
          </a:xfrm>
          <a:prstGeom prst="diamond">
            <a:avLst/>
          </a:prstGeom>
          <a:solidFill>
            <a:srgbClr val="7030a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8"/>
          <p:cNvSpPr/>
          <p:nvPr/>
        </p:nvSpPr>
        <p:spPr>
          <a:xfrm flipV="1">
            <a:off x="6319800" y="4118040"/>
            <a:ext cx="1071720" cy="9396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rcRect l="0" t="949" r="94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286000" y="243000"/>
            <a:ext cx="48006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ложение однозначных чисел с переходом через десяток вида     + 8,     +9»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4800600" y="390672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6400800" y="3892680"/>
            <a:ext cx="28584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у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чему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проверять безударные глас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что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решение прост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Татьяна Турова</cp:lastModifiedBy>
  <dcterms:modified xsi:type="dcterms:W3CDTF">2022-04-21T15:31:19Z</dcterms:modified>
  <cp:revision>52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