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9.png" ContentType="image/png"/>
  <Override PartName="/ppt/media/image6.gif" ContentType="image/gif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3B3-8E96-4780-9B31-23FC72CB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AAD-6AAF-41D3-AD0B-2F695821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F2A-F5C2-44B1-A3BB-2585BF64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199-0F5E-4219-B287-D1E7F0A0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FBA8-FAB9-4178-978F-F7A9A760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23B6-FB04-4930-80AD-3B40A6C1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A3C1-0381-470D-801A-CD36F385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FCB5-D4D9-45D3-A6FC-4681A0F1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9969-A499-45E3-A73B-69230B19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C739-54FD-4080-B305-B940EAC9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5F05-5894-4D58-948D-AC3D33F3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290-3676-49B1-BDDC-B3967124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FF62-D020-4385-A9C6-180CDB63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BE7E-D958-4F28-AE74-80D50B59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A7C5-CB97-4A1A-954C-BE3C9B02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36B8-A582-4B37-8023-D52BEC46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D683-FC20-4536-802E-AC14BC51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F04-233F-464E-9C1F-39D97837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4CE-D223-4593-A2C4-DDFF028D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42F-C4E5-4C63-A64A-7065AB87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2FA-1CF0-434B-B4DD-06E29D73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49A-EBB3-4339-9211-09EEB863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0BF-B6FB-4E51-AC68-9CC7DD6B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505-9ECC-44E9-9D35-FA0DE510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470A-B2CD-40F7-AAD1-F6661AEB1F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84A9-9244-41FD-A447-34404AF148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8+8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9+8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9+9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457200" y="24382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Наука даром не даётся - наука трудом берёт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28600" y="220968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у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чему-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проверять безударные глас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что-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решение прост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144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ОЙ ПАЛЕ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для меня было многое важным и интерес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АЗАТЕЛЬ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использованные приемы буду применять в свое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ИЙ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для меня было недостаточно данн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ЫМЯН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приёмы работы с текстом представлены я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ЗИНЕЦ -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е приёмы мне известны, но я их не применя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1397160"/>
          <a:ext cx="8534160" cy="256536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61344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C:\Users\User\Downloads\img11.jpg"/>
          <p:cNvPicPr/>
          <p:nvPr/>
        </p:nvPicPr>
        <p:blipFill>
          <a:blip r:embed="rId1"/>
          <a:srcRect l="0" t="14324" r="264" b="0"/>
          <a:stretch/>
        </p:blipFill>
        <p:spPr>
          <a:xfrm>
            <a:off x="990720" y="1219320"/>
            <a:ext cx="7848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80880" y="1523880"/>
          <a:ext cx="7993080" cy="38102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38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5" name="Равнобедренный треугольник 20"/>
          <p:cNvSpPr/>
          <p:nvPr/>
        </p:nvSpPr>
        <p:spPr>
          <a:xfrm>
            <a:off x="2362320" y="2976480"/>
            <a:ext cx="1328760" cy="10256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авильный пятиугольник 21"/>
          <p:cNvSpPr/>
          <p:nvPr/>
        </p:nvSpPr>
        <p:spPr>
          <a:xfrm>
            <a:off x="2963880" y="1671480"/>
            <a:ext cx="1349280" cy="895680"/>
          </a:xfrm>
          <a:prstGeom prst="pentagon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араллелограмм 22"/>
          <p:cNvSpPr/>
          <p:nvPr/>
        </p:nvSpPr>
        <p:spPr>
          <a:xfrm>
            <a:off x="4500720" y="2533680"/>
            <a:ext cx="1247760" cy="790560"/>
          </a:xfrm>
          <a:prstGeom prst="parallelogram">
            <a:avLst>
              <a:gd name="adj" fmla="val 24983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3"/>
          <p:cNvSpPr/>
          <p:nvPr/>
        </p:nvSpPr>
        <p:spPr>
          <a:xfrm>
            <a:off x="762120" y="1752480"/>
            <a:ext cx="1338120" cy="1224000"/>
          </a:xfrm>
          <a:prstGeom prst="ellipse">
            <a:avLst/>
          </a:prstGeom>
          <a:solidFill>
            <a:srgbClr val="a5a5a5"/>
          </a:solidFill>
          <a:ln w="12600">
            <a:solidFill>
              <a:srgbClr val="78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4"/>
          <p:cNvSpPr/>
          <p:nvPr/>
        </p:nvSpPr>
        <p:spPr>
          <a:xfrm>
            <a:off x="3927600" y="4002120"/>
            <a:ext cx="1674720" cy="72216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Трапеция 25"/>
          <p:cNvSpPr/>
          <p:nvPr/>
        </p:nvSpPr>
        <p:spPr>
          <a:xfrm>
            <a:off x="914400" y="4002120"/>
            <a:ext cx="1600200" cy="1055520"/>
          </a:xfrm>
          <a:custGeom>
            <a:avLst/>
            <a:gdLst/>
            <a:ahLst/>
            <a:rect l="l" t="t" r="r" b="b"/>
            <a:pathLst>
              <a:path w="1600200" h="1055686">
                <a:moveTo>
                  <a:pt x="0" y="1055686"/>
                </a:moveTo>
                <a:lnTo>
                  <a:pt x="263922" y="0"/>
                </a:lnTo>
                <a:lnTo>
                  <a:pt x="1336279" y="0"/>
                </a:lnTo>
                <a:lnTo>
                  <a:pt x="1600200" y="1055686"/>
                </a:lnTo>
                <a:lnTo>
                  <a:pt x="0" y="1055686"/>
                </a:lnTo>
                <a:close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ый треугольник 26"/>
          <p:cNvSpPr/>
          <p:nvPr/>
        </p:nvSpPr>
        <p:spPr>
          <a:xfrm>
            <a:off x="6611760" y="1809720"/>
            <a:ext cx="1127160" cy="743040"/>
          </a:xfrm>
          <a:prstGeom prst="rtTriangle">
            <a:avLst/>
          </a:prstGeom>
          <a:solidFill>
            <a:srgbClr val="ffd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Ромб 27"/>
          <p:cNvSpPr/>
          <p:nvPr/>
        </p:nvSpPr>
        <p:spPr>
          <a:xfrm>
            <a:off x="6424560" y="2705040"/>
            <a:ext cx="1219320" cy="1260360"/>
          </a:xfrm>
          <a:prstGeom prst="diamond">
            <a:avLst/>
          </a:prstGeom>
          <a:solidFill>
            <a:srgbClr val="7030a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8"/>
          <p:cNvSpPr/>
          <p:nvPr/>
        </p:nvSpPr>
        <p:spPr>
          <a:xfrm flipV="1">
            <a:off x="6319800" y="4118040"/>
            <a:ext cx="1071720" cy="93960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rcRect l="0" t="949" r="94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2286000" y="243000"/>
            <a:ext cx="48006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ложение однозначных чисел с переходом через десяток вида     + 8,     +9»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4800600" y="390672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6400800" y="3892680"/>
            <a:ext cx="28584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у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чему-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проверять безударные глас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что-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решение прост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Татьяна Турова</cp:lastModifiedBy>
  <dcterms:modified xsi:type="dcterms:W3CDTF">2022-04-21T15:31:19Z</dcterms:modified>
  <cp:revision>52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