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9.png" ContentType="image/png"/>
  <Override PartName="/ppt/media/image6.gif" ContentType="image/gi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896-5070-43BD-869F-B28BE747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F47-5060-4201-9287-0B89BFB9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007-FCC0-445B-8FE2-75E6F454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24D-957F-4F5A-8C49-DB6DFC90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A74E-5BB5-4E40-B423-231F9E30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E10D-6B6F-4143-ADE7-C9E2F47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CD6D-F4B7-4154-8CE5-39203D81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0A4B-4496-4A8A-90FD-4179C0A0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9BEA-5301-4AB5-8CC2-90B73CEC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C32F-289A-47A7-808D-A7B912B2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0F7D-DF47-4D01-9DCF-722B005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D74-759C-408D-9E62-7188B1F0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503F-1A24-4266-8237-5591465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1633-D6D2-4526-9358-F7F0A21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B0D2-2194-4E2E-A340-9A57A319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CE8-9064-40D3-8745-E385BE28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DBA2-D4A0-4A21-8B2B-02665F00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4E1-574B-4F07-96AC-81E233EF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106-C15E-45F4-AD9C-CF67A0E9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43A-59C3-48CD-AA0B-3A98623D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AC0-AB99-4A15-B0D3-C6C95C16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8FF-C89B-49E2-B92B-9C29378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4ED-21ED-4E51-9519-93D846B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2E9-F58C-49A6-8577-88F52E51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E636-2FE7-4958-BD1A-F58B11D533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BDDD-49D9-4F90-AB17-4B1F46DD1C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8+8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9+8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9+9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457200" y="24382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Наука даром не даётся - наука трудом берё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28600" y="220968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у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чему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оверять безударные гла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что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решение прост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44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ОЙ ПАЛЕ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для меня было многое важным и интерес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ЗАТЕ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использованные приемы буду применять в свое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ИЙ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меня было недостаточно дан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ЫМЯ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приёмы работы с текстом представлены я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ЗИНЕЦ -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 приёмы мне известны, но я их не применя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1397160"/>
          <a:ext cx="8534160" cy="25653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134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C:\Users\User\Downloads\img11.jpg"/>
          <p:cNvPicPr/>
          <p:nvPr/>
        </p:nvPicPr>
        <p:blipFill>
          <a:blip r:embed="rId1"/>
          <a:srcRect l="0" t="14324" r="264" b="0"/>
          <a:stretch/>
        </p:blipFill>
        <p:spPr>
          <a:xfrm>
            <a:off x="990720" y="1219320"/>
            <a:ext cx="7848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80880" y="1523880"/>
          <a:ext cx="7993080" cy="38102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8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5" name="Равнобедренный треугольник 20"/>
          <p:cNvSpPr/>
          <p:nvPr/>
        </p:nvSpPr>
        <p:spPr>
          <a:xfrm>
            <a:off x="2362320" y="2976480"/>
            <a:ext cx="1328760" cy="10256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авильный пятиугольник 21"/>
          <p:cNvSpPr/>
          <p:nvPr/>
        </p:nvSpPr>
        <p:spPr>
          <a:xfrm>
            <a:off x="2963880" y="1671480"/>
            <a:ext cx="1349280" cy="895680"/>
          </a:xfrm>
          <a:prstGeom prst="pentagon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араллелограмм 22"/>
          <p:cNvSpPr/>
          <p:nvPr/>
        </p:nvSpPr>
        <p:spPr>
          <a:xfrm>
            <a:off x="4500720" y="2533680"/>
            <a:ext cx="1247760" cy="790560"/>
          </a:xfrm>
          <a:prstGeom prst="parallelogram">
            <a:avLst>
              <a:gd name="adj" fmla="val 24983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3"/>
          <p:cNvSpPr/>
          <p:nvPr/>
        </p:nvSpPr>
        <p:spPr>
          <a:xfrm>
            <a:off x="762120" y="1752480"/>
            <a:ext cx="1338120" cy="1224000"/>
          </a:xfrm>
          <a:prstGeom prst="ellipse">
            <a:avLst/>
          </a:prstGeom>
          <a:solidFill>
            <a:srgbClr val="a5a5a5"/>
          </a:solidFill>
          <a:ln w="12600">
            <a:solidFill>
              <a:srgbClr val="78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4"/>
          <p:cNvSpPr/>
          <p:nvPr/>
        </p:nvSpPr>
        <p:spPr>
          <a:xfrm>
            <a:off x="3927600" y="4002120"/>
            <a:ext cx="1674720" cy="72216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Трапеция 25"/>
          <p:cNvSpPr/>
          <p:nvPr/>
        </p:nvSpPr>
        <p:spPr>
          <a:xfrm>
            <a:off x="914400" y="4002120"/>
            <a:ext cx="1600200" cy="1055520"/>
          </a:xfrm>
          <a:custGeom>
            <a:avLst/>
            <a:gdLst/>
            <a:ahLst/>
            <a:rect l="l" t="t" r="r" b="b"/>
            <a:pathLst>
              <a:path w="1600200" h="1055686">
                <a:moveTo>
                  <a:pt x="0" y="1055686"/>
                </a:moveTo>
                <a:lnTo>
                  <a:pt x="263922" y="0"/>
                </a:lnTo>
                <a:lnTo>
                  <a:pt x="1336279" y="0"/>
                </a:lnTo>
                <a:lnTo>
                  <a:pt x="1600200" y="1055686"/>
                </a:lnTo>
                <a:lnTo>
                  <a:pt x="0" y="1055686"/>
                </a:lnTo>
                <a:close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ый треугольник 26"/>
          <p:cNvSpPr/>
          <p:nvPr/>
        </p:nvSpPr>
        <p:spPr>
          <a:xfrm>
            <a:off x="6611760" y="1809720"/>
            <a:ext cx="1127160" cy="743040"/>
          </a:xfrm>
          <a:prstGeom prst="rtTriangle">
            <a:avLst/>
          </a:prstGeom>
          <a:solidFill>
            <a:srgbClr val="ffd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Ромб 27"/>
          <p:cNvSpPr/>
          <p:nvPr/>
        </p:nvSpPr>
        <p:spPr>
          <a:xfrm>
            <a:off x="6424560" y="2705040"/>
            <a:ext cx="1219320" cy="1260360"/>
          </a:xfrm>
          <a:prstGeom prst="diamond">
            <a:avLst/>
          </a:prstGeom>
          <a:solidFill>
            <a:srgbClr val="7030a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8"/>
          <p:cNvSpPr/>
          <p:nvPr/>
        </p:nvSpPr>
        <p:spPr>
          <a:xfrm flipV="1">
            <a:off x="6319800" y="4118040"/>
            <a:ext cx="1071720" cy="93960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rcRect l="0" t="949" r="9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286000" y="243000"/>
            <a:ext cx="48006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ожение однозначных чисел с переходом через десяток вида     + 8,     +9»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4800600" y="3906720"/>
            <a:ext cx="28584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6400800" y="3892680"/>
            <a:ext cx="28584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у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чему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оверять безударные глас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что-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решение прост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Татьяна Турова</cp:lastModifiedBy>
  <dcterms:modified xsi:type="dcterms:W3CDTF">2022-04-21T15:31:19Z</dcterms:modified>
  <cp:revision>52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