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7.png" ContentType="image/png"/>
  <Override PartName="/ppt/media/image22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9.jpeg" ContentType="image/jpeg"/>
  <Override PartName="/ppt/media/image11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32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3.gif" ContentType="image/gif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CB2-6842-49FE-9D12-77C95B3E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30E-CF81-4A6B-A591-879EAB0E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D34-BE31-44B3-B70E-0BACC6AF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085-E7AD-45E3-8AC2-FDF451B4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74F-806D-46DD-BD0E-D695DA7A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F64-E88C-4531-9304-0E22C3B9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6C9-78C8-4A4E-B7F6-D7EAD053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7A0-A0D6-4CC9-BD5C-7174AF05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D68-AA53-46BE-9FE7-1F347FD3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CE21-4261-4EFB-BDFB-BAD56E06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CCB-D728-454C-9244-8678E0E1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59A-AF3F-4F3B-8D92-25A62F34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1168-BA01-4B0E-A565-F5515707A0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jpeg"/><Relationship Id="rId3" Type="http://schemas.openxmlformats.org/officeDocument/2006/relationships/image" Target="../media/image16.jpeg"/><Relationship Id="rId4" Type="http://schemas.openxmlformats.org/officeDocument/2006/relationships/image" Target="../media/image19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235080" y="1814400"/>
            <a:ext cx="8584920" cy="48294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971640" y="189000"/>
            <a:ext cx="7848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0000ff"/>
                    </a:gs>
                    <a:gs pos="100000">
                      <a:srgbClr val="ffff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еометрические 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0000ff"/>
                  </a:gs>
                  <a:gs pos="100000">
                    <a:srgbClr val="ffff66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0000ff"/>
                    </a:gs>
                    <a:gs pos="100000">
                      <a:srgbClr val="ffff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фигуры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0000ff"/>
                  </a:gs>
                  <a:gs pos="100000">
                    <a:srgbClr val="ffff66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8"/>
          <p:cNvSpPr txBox="1"/>
          <p:nvPr/>
        </p:nvSpPr>
        <p:spPr>
          <a:xfrm>
            <a:off x="324000" y="476280"/>
            <a:ext cx="504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00ff00"/>
                    </a:gs>
                    <a:gs pos="100000">
                      <a:srgbClr val="ffff6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ВАДРАТ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00ff00"/>
                  </a:gs>
                  <a:gs pos="100000">
                    <a:srgbClr val="ffff66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7" name="Picture 11" descr="Персональный сайт - Развитие воображения"/>
          <p:cNvPicPr/>
          <p:nvPr/>
        </p:nvPicPr>
        <p:blipFill>
          <a:blip r:embed="rId2"/>
          <a:stretch/>
        </p:blipFill>
        <p:spPr>
          <a:xfrm>
            <a:off x="684360" y="2205000"/>
            <a:ext cx="2746080" cy="2746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1280" y="1700280"/>
            <a:ext cx="47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н давно знакомый 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ждый угол в нем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 четыре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динаковой дли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ам его представить ра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 зовут его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920" y="2997000"/>
            <a:ext cx="461952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Для пчелы фигуры э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В целом мире лучше н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0"/>
          <p:cNvSpPr txBox="1"/>
          <p:nvPr/>
        </p:nvSpPr>
        <p:spPr>
          <a:xfrm>
            <a:off x="324000" y="549360"/>
            <a:ext cx="588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9966ff"/>
                    </a:gs>
                    <a:gs pos="100000">
                      <a:srgbClr val="ff66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ШЕСТИУГОЛЬНИК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9966ff"/>
                  </a:gs>
                  <a:gs pos="100000">
                    <a:srgbClr val="ff6600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Picture 14" descr="1128514563_hexagonrgb_answer_11_xlarge"/>
          <p:cNvPicPr/>
          <p:nvPr/>
        </p:nvPicPr>
        <p:blipFill>
          <a:blip r:embed="rId2"/>
          <a:stretch/>
        </p:blipFill>
        <p:spPr>
          <a:xfrm>
            <a:off x="5003640" y="242100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50920" y="2565000"/>
            <a:ext cx="476244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а мяче футбольном наш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черный цвет  он весь       раскраш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8"/>
          <p:cNvSpPr txBox="1"/>
          <p:nvPr/>
        </p:nvSpPr>
        <p:spPr>
          <a:xfrm>
            <a:off x="324000" y="333360"/>
            <a:ext cx="6335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0000cc"/>
                    </a:gs>
                    <a:gs pos="100000">
                      <a:srgbClr val="9966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ЯТИУГОЛЬНИ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ff"/>
                  </a:gs>
                  <a:gs pos="50000">
                    <a:srgbClr val="0000cc"/>
                  </a:gs>
                  <a:gs pos="100000">
                    <a:srgbClr val="9966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10" descr="Помощник кроссвордиста - быстрый подбор слов"/>
          <p:cNvPicPr/>
          <p:nvPr/>
        </p:nvPicPr>
        <p:blipFill>
          <a:blip r:embed="rId2"/>
          <a:stretch/>
        </p:blipFill>
        <p:spPr>
          <a:xfrm>
            <a:off x="971640" y="1844640"/>
            <a:ext cx="30398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987640" y="2491920"/>
            <a:ext cx="5580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е угла, как квадрат я име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только квадра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ться не сме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се же, похож на квадра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 прочи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е длинные стороны и две покороч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2916360" y="476280"/>
            <a:ext cx="56592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99ccff"/>
                    </a:gs>
                    <a:gs pos="100000">
                      <a:srgbClr val="ffff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ЯМОУГОЛЬНИК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50000">
                    <a:srgbClr val="99ccff"/>
                  </a:gs>
                  <a:gs pos="100000">
                    <a:srgbClr val="ffff99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0" name="Picture 10" descr="Прямоугольник - Фото 6 - Геометрия фигуры - Цвет и форма - Фотосайт"/>
          <p:cNvPicPr/>
          <p:nvPr/>
        </p:nvPicPr>
        <p:blipFill>
          <a:blip r:embed="rId2"/>
          <a:stretch/>
        </p:blipFill>
        <p:spPr>
          <a:xfrm>
            <a:off x="250920" y="476280"/>
            <a:ext cx="24858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3640" y="1915920"/>
            <a:ext cx="505116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Восемь мух на крае блю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Над паучком смеютс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Привязал он их по к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Паутинками друг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Паутинок восемь то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Кто назвать фигуру сможет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2700360" y="476280"/>
            <a:ext cx="6049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00cc66"/>
                    </a:gs>
                    <a:gs pos="100000">
                      <a:srgbClr val="cccc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ОСЬМИУГОЛЬНИК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00cc66"/>
                  </a:gs>
                  <a:gs pos="100000">
                    <a:srgbClr val="cccc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4" name="Picture 10" descr="Помощник кроссвордиста - быстрый подбор слов"/>
          <p:cNvPicPr/>
          <p:nvPr/>
        </p:nvPicPr>
        <p:blipFill>
          <a:blip r:embed="rId2"/>
          <a:stretch/>
        </p:blipFill>
        <p:spPr>
          <a:xfrm>
            <a:off x="5219640" y="2060640"/>
            <a:ext cx="34322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3"/>
          <p:cNvSpPr txBox="1"/>
          <p:nvPr/>
        </p:nvSpPr>
        <p:spPr>
          <a:xfrm>
            <a:off x="900000" y="836640"/>
            <a:ext cx="5112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99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99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99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ГРА "ЧТО ЛИШНЕЕ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99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geometricheskaya-figura-pramougolnik[1]"/>
          <p:cNvPicPr/>
          <p:nvPr/>
        </p:nvPicPr>
        <p:blipFill>
          <a:blip r:embed="rId2"/>
          <a:stretch/>
        </p:blipFill>
        <p:spPr>
          <a:xfrm>
            <a:off x="324000" y="260280"/>
            <a:ext cx="2808000" cy="2117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geometricheskaya-figura-patiugolnik[1]"/>
          <p:cNvPicPr/>
          <p:nvPr/>
        </p:nvPicPr>
        <p:blipFill>
          <a:blip r:embed="rId3"/>
          <a:stretch/>
        </p:blipFill>
        <p:spPr>
          <a:xfrm>
            <a:off x="5435640" y="260280"/>
            <a:ext cx="3203640" cy="225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geometricheskaya-figura-krug[1]"/>
          <p:cNvPicPr/>
          <p:nvPr/>
        </p:nvPicPr>
        <p:blipFill>
          <a:blip r:embed="rId4"/>
          <a:stretch/>
        </p:blipFill>
        <p:spPr>
          <a:xfrm>
            <a:off x="2340000" y="2276640"/>
            <a:ext cx="3249720" cy="245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1332563_5cl_enl[1]"/>
          <p:cNvPicPr/>
          <p:nvPr/>
        </p:nvPicPr>
        <p:blipFill>
          <a:blip r:embed="rId5"/>
          <a:stretch/>
        </p:blipFill>
        <p:spPr>
          <a:xfrm>
            <a:off x="5651640" y="3716280"/>
            <a:ext cx="3267000" cy="2762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geometricheskaya-figura-treugolnik[1]"/>
          <p:cNvPicPr/>
          <p:nvPr/>
        </p:nvPicPr>
        <p:blipFill>
          <a:blip r:embed="rId6"/>
          <a:stretch/>
        </p:blipFill>
        <p:spPr>
          <a:xfrm>
            <a:off x="395280" y="4221000"/>
            <a:ext cx="29624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468360" y="692280"/>
            <a:ext cx="640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Расположи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ногоугольники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Ахмед Усманов - Портал профессионального образования Чеченск…"/>
          <p:cNvPicPr/>
          <p:nvPr/>
        </p:nvPicPr>
        <p:blipFill>
          <a:blip r:embed="rId2"/>
          <a:stretch/>
        </p:blipFill>
        <p:spPr>
          <a:xfrm>
            <a:off x="468360" y="549360"/>
            <a:ext cx="4103640" cy="6038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Линейка-трафарет геометрические фигуры 17см ТГФ-17 Пчелка Россия"/>
          <p:cNvPicPr/>
          <p:nvPr/>
        </p:nvPicPr>
        <p:blipFill>
          <a:blip r:embed="rId3"/>
          <a:stretch/>
        </p:blipFill>
        <p:spPr>
          <a:xfrm>
            <a:off x="4859280" y="476280"/>
            <a:ext cx="3933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1835280" y="333360"/>
            <a:ext cx="5832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РИТЕЛЬНА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ИМНАСТИ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0" name="Picture 7" descr="МБОУ Городецкая СОШ - Гимнастика для глаз"/>
          <p:cNvPicPr/>
          <p:nvPr/>
        </p:nvPicPr>
        <p:blipFill>
          <a:blip r:embed="rId2"/>
          <a:stretch/>
        </p:blipFill>
        <p:spPr>
          <a:xfrm>
            <a:off x="1547640" y="3716280"/>
            <a:ext cx="2829240" cy="2857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Оздоровительный комплекс упражнений для глаз &quot;Зрительная гимнастика&quot;. Обсуждение на LiveInternet - Российский Сервис Онлайн-Днев"/>
          <p:cNvPicPr/>
          <p:nvPr/>
        </p:nvPicPr>
        <p:blipFill>
          <a:blip r:embed="rId3"/>
          <a:stretch/>
        </p:blipFill>
        <p:spPr>
          <a:xfrm>
            <a:off x="4932360" y="3716280"/>
            <a:ext cx="31734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love608[1]"/>
          <p:cNvPicPr/>
          <p:nvPr/>
        </p:nvPicPr>
        <p:blipFill>
          <a:blip r:embed="rId2"/>
          <a:stretch/>
        </p:blipFill>
        <p:spPr>
          <a:xfrm>
            <a:off x="3492360" y="2852640"/>
            <a:ext cx="5197680" cy="3643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5aeda6adc59b559acc662b386df690ae"/>
          <p:cNvPicPr/>
          <p:nvPr/>
        </p:nvPicPr>
        <p:blipFill>
          <a:blip r:embed="rId3"/>
          <a:stretch/>
        </p:blipFill>
        <p:spPr>
          <a:xfrm>
            <a:off x="250920" y="1989000"/>
            <a:ext cx="295092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1547640" y="404640"/>
            <a:ext cx="72741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50000">
                      <a:srgbClr val="0000ff"/>
                    </a:gs>
                    <a:gs pos="100000">
                      <a:srgbClr val="000099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исьмо от Буратин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50000">
                    <a:srgbClr val="0000ff"/>
                  </a:gs>
                  <a:gs pos="100000">
                    <a:srgbClr val="000099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3"/>
          <p:cNvSpPr txBox="1"/>
          <p:nvPr/>
        </p:nvSpPr>
        <p:spPr>
          <a:xfrm>
            <a:off x="755640" y="692280"/>
            <a:ext cx="5688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ОТГАДАЙ - КА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5051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ки на гору вез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ем строить нов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Аппликация из геометрических фигур"/>
          <p:cNvPicPr/>
          <p:nvPr/>
        </p:nvPicPr>
        <p:blipFill>
          <a:blip r:embed="rId2"/>
          <a:stretch/>
        </p:blipFill>
        <p:spPr>
          <a:xfrm>
            <a:off x="179280" y="2133720"/>
            <a:ext cx="4032360" cy="41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6[1]"/>
          <p:cNvPicPr/>
          <p:nvPr/>
        </p:nvPicPr>
        <p:blipFill>
          <a:blip r:embed="rId3"/>
          <a:stretch/>
        </p:blipFill>
        <p:spPr>
          <a:xfrm>
            <a:off x="6443640" y="765000"/>
            <a:ext cx="2317680" cy="2318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43916_html_3835989e[1]"/>
          <p:cNvPicPr/>
          <p:nvPr/>
        </p:nvPicPr>
        <p:blipFill>
          <a:blip r:embed="rId4"/>
          <a:stretch/>
        </p:blipFill>
        <p:spPr>
          <a:xfrm>
            <a:off x="4356000" y="2349360"/>
            <a:ext cx="1749600" cy="3097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geometricheskaya-figura-treugolnik[1]"/>
          <p:cNvPicPr/>
          <p:nvPr/>
        </p:nvPicPr>
        <p:blipFill>
          <a:blip r:embed="rId5"/>
          <a:stretch/>
        </p:blipFill>
        <p:spPr>
          <a:xfrm>
            <a:off x="6227640" y="4076640"/>
            <a:ext cx="27464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5051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мой и летом одним ц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geometricheskaya-figura-treugolnik[1]"/>
          <p:cNvPicPr/>
          <p:nvPr/>
        </p:nvPicPr>
        <p:blipFill>
          <a:blip r:embed="rId2"/>
          <a:stretch/>
        </p:blipFill>
        <p:spPr>
          <a:xfrm>
            <a:off x="6227640" y="2349360"/>
            <a:ext cx="2746440" cy="207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Ёлочка из треугольников - Презентация 282/14"/>
          <p:cNvPicPr/>
          <p:nvPr/>
        </p:nvPicPr>
        <p:blipFill>
          <a:blip r:embed="rId3"/>
          <a:stretch/>
        </p:blipFill>
        <p:spPr>
          <a:xfrm>
            <a:off x="179280" y="1341360"/>
            <a:ext cx="5688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5051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костер весь мир согре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geometricheskaya-figura-krug[1]"/>
          <p:cNvPicPr/>
          <p:nvPr/>
        </p:nvPicPr>
        <p:blipFill>
          <a:blip r:embed="rId2"/>
          <a:stretch/>
        </p:blipFill>
        <p:spPr>
          <a:xfrm>
            <a:off x="5796000" y="2421000"/>
            <a:ext cx="2962080" cy="223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Ягоды годжи список геометрических фигур и их названия Худеем вместе!"/>
          <p:cNvPicPr/>
          <p:nvPr/>
        </p:nvPicPr>
        <p:blipFill>
          <a:blip r:embed="rId3"/>
          <a:stretch/>
        </p:blipFill>
        <p:spPr>
          <a:xfrm>
            <a:off x="468360" y="1413000"/>
            <a:ext cx="489564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3"/>
          <p:cNvSpPr txBox="1"/>
          <p:nvPr/>
        </p:nvSpPr>
        <p:spPr>
          <a:xfrm>
            <a:off x="611280" y="549360"/>
            <a:ext cx="81360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ФИЗКУЛЬТМИНУТ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0" name="Picture 7" descr="Клипы для детей"/>
          <p:cNvPicPr/>
          <p:nvPr/>
        </p:nvPicPr>
        <p:blipFill>
          <a:blip r:embed="rId2"/>
          <a:stretch/>
        </p:blipFill>
        <p:spPr>
          <a:xfrm>
            <a:off x="3059280" y="2781360"/>
            <a:ext cx="30621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3"/>
          <p:cNvSpPr txBox="1"/>
          <p:nvPr/>
        </p:nvSpPr>
        <p:spPr>
          <a:xfrm>
            <a:off x="468360" y="549360"/>
            <a:ext cx="640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ПРЕОБРАЗУЙ ФИГУРУ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Правильный шестиугольник: чем он интересен и как его построить - FB.ru"/>
          <p:cNvPicPr/>
          <p:nvPr/>
        </p:nvPicPr>
        <p:blipFill>
          <a:blip r:embed="rId2"/>
          <a:stretch/>
        </p:blipFill>
        <p:spPr>
          <a:xfrm>
            <a:off x="324000" y="476280"/>
            <a:ext cx="3527280" cy="352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Golden Harvest Paste графические заготовки Загрузить 453 clip arts (Страница 4) - ClipartLogo.com"/>
          <p:cNvPicPr/>
          <p:nvPr/>
        </p:nvPicPr>
        <p:blipFill>
          <a:blip r:embed="rId3"/>
          <a:stretch/>
        </p:blipFill>
        <p:spPr>
          <a:xfrm>
            <a:off x="4284720" y="2421000"/>
            <a:ext cx="437832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Проходной балл. . Поступаем вместе Поступаем вместе! . Фору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Uvazhaemy-j-Buratino-posmotrite-na-dosk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>
            <a:off x="971640" y="1052640"/>
            <a:ext cx="511164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99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ДАНИЕ 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99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99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ГАД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99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im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422861"/>
          <p:cNvPicPr/>
          <p:nvPr/>
        </p:nvPicPr>
        <p:blipFill>
          <a:blip r:embed="rId2"/>
          <a:stretch/>
        </p:blipFill>
        <p:spPr>
          <a:xfrm>
            <a:off x="0" y="404640"/>
            <a:ext cx="3063960" cy="324036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3132000" y="1197000"/>
            <a:ext cx="5616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00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Узнай фигуру!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0000ff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Picture 9" descr="geometricheskaya-figura-treugolnik"/>
          <p:cNvPicPr/>
          <p:nvPr/>
        </p:nvPicPr>
        <p:blipFill>
          <a:blip r:embed="rId3"/>
          <a:stretch/>
        </p:blipFill>
        <p:spPr>
          <a:xfrm>
            <a:off x="4859280" y="3860640"/>
            <a:ext cx="3676680" cy="277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geometricheskaya-figura-zilindr"/>
          <p:cNvPicPr/>
          <p:nvPr/>
        </p:nvPicPr>
        <p:blipFill>
          <a:blip r:embed="rId4"/>
          <a:stretch/>
        </p:blipFill>
        <p:spPr>
          <a:xfrm>
            <a:off x="755640" y="3933720"/>
            <a:ext cx="36003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ет углов у ме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А похож на блюдце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а тарелку и на крыш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а кольцо и колес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Кто же я такой, друзь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Назовите вы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3851280" y="404640"/>
            <a:ext cx="4392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РУГ</a:t>
            </a:r>
            <a:endParaRPr b="0" i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Picture 10" descr="geometricheskaya-figura-krug"/>
          <p:cNvPicPr/>
          <p:nvPr/>
        </p:nvPicPr>
        <p:blipFill>
          <a:blip r:embed="rId4"/>
          <a:stretch/>
        </p:blipFill>
        <p:spPr>
          <a:xfrm>
            <a:off x="5148360" y="2133720"/>
            <a:ext cx="34653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51280" y="2276280"/>
            <a:ext cx="4835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Треугольник сунул н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реактивный пылес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Я – похож на яйц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 как просто бук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Я почти как круг – мал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Я такой, как огур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4067280" y="476280"/>
            <a:ext cx="42480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00cc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ВАЛ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00cc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Picture 9" descr="1332563_5cl_enl[1]"/>
          <p:cNvPicPr/>
          <p:nvPr/>
        </p:nvPicPr>
        <p:blipFill>
          <a:blip r:embed="rId2"/>
          <a:stretch/>
        </p:blipFill>
        <p:spPr>
          <a:xfrm>
            <a:off x="179280" y="1628640"/>
            <a:ext cx="377208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2420640"/>
            <a:ext cx="577044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Злая рыба хвост – лоп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Откусила полквадрат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Целый угол, верь не 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Кто ж он, бедненький, тепер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2987640" y="620640"/>
            <a:ext cx="554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ЕУГОЛЬНИК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Picture 9" descr="geometricheskaya-figura-treugolnik[1]"/>
          <p:cNvPicPr/>
          <p:nvPr/>
        </p:nvPicPr>
        <p:blipFill>
          <a:blip r:embed="rId4"/>
          <a:stretch/>
        </p:blipFill>
        <p:spPr>
          <a:xfrm>
            <a:off x="5435640" y="2421000"/>
            <a:ext cx="3394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5200" y="2781360"/>
            <a:ext cx="5338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тал квадрат на уголок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кнулся носом в пото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верх он рос еще дней п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теперь его наз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8"/>
          <p:cNvSpPr txBox="1"/>
          <p:nvPr/>
        </p:nvSpPr>
        <p:spPr>
          <a:xfrm>
            <a:off x="4859280" y="620640"/>
            <a:ext cx="33609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9966ff"/>
                    </a:gs>
                    <a:gs pos="100000">
                      <a:srgbClr val="ff00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ОМБ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9966ff"/>
                  </a:gs>
                  <a:gs pos="100000">
                    <a:srgbClr val="ff0000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9" name="Picture 9" descr="31[1]"/>
          <p:cNvPicPr/>
          <p:nvPr/>
        </p:nvPicPr>
        <p:blipFill>
          <a:blip r:embed="rId2"/>
          <a:stretch/>
        </p:blipFill>
        <p:spPr>
          <a:xfrm>
            <a:off x="250920" y="549360"/>
            <a:ext cx="33541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9066035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45464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без носа он, - о, боже!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 на юбочку похож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нее вс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теперь зовут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3059280" y="549360"/>
            <a:ext cx="55832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cc"/>
                    </a:gs>
                    <a:gs pos="100000">
                      <a:srgbClr val="ff00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АПЕЦИЯ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cc"/>
                  </a:gs>
                  <a:gs pos="100000">
                    <a:srgbClr val="ff00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3" name="Picture 9" descr="geometricheskaya-figura-trapeziya[1]"/>
          <p:cNvPicPr/>
          <p:nvPr/>
        </p:nvPicPr>
        <p:blipFill>
          <a:blip r:embed="rId2"/>
          <a:stretch/>
        </p:blipFill>
        <p:spPr>
          <a:xfrm>
            <a:off x="4643280" y="2997360"/>
            <a:ext cx="4114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18:53:33Z</dcterms:created>
  <dc:creator>1</dc:creator>
  <dc:description/>
  <dc:language>en-US</dc:language>
  <cp:lastModifiedBy>1</cp:lastModifiedBy>
  <dcterms:modified xsi:type="dcterms:W3CDTF">2020-10-25T11:14:04Z</dcterms:modified>
  <cp:revision>6</cp:revision>
  <dc:subject/>
  <dc:title>Slide 1</dc:title>
</cp:coreProperties>
</file>