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7.png" ContentType="image/png"/>
  <Override PartName="/ppt/media/image22.jpeg" ContentType="image/jpeg"/>
  <Override PartName="/ppt/media/image8.jpeg" ContentType="image/jpeg"/>
  <Override PartName="/ppt/media/image29.jpeg" ContentType="image/jpeg"/>
  <Override PartName="/ppt/media/image27.jpeg" ContentType="image/jpeg"/>
  <Override PartName="/ppt/media/image10.png" ContentType="image/png"/>
  <Override PartName="/ppt/media/image33.jpeg" ContentType="image/jpeg"/>
  <Override PartName="/ppt/media/image9.jpeg" ContentType="image/jpeg"/>
  <Override PartName="/ppt/media/image11.jpeg" ContentType="image/jpeg"/>
  <Override PartName="/ppt/media/image6.png" ContentType="image/png"/>
  <Override PartName="/ppt/media/image12.jpeg" ContentType="image/jpeg"/>
  <Override PartName="/ppt/media/image13.png" ContentType="image/png"/>
  <Override PartName="/ppt/media/image32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3.gif" ContentType="image/gif"/>
  <Override PartName="/ppt/media/image26.png" ContentType="image/pn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C012-350D-45C0-9CA3-E119AE583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3833-8D16-4610-9B2D-A28E1D05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3C14-D573-4BD4-88C3-583E99EBB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EF84-4018-4777-AAB2-5A1869737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9040-62C6-40CE-B56C-9E12ABBF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69C4-ADDC-4DA6-A9D8-E1FEF348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7E5B-400D-45CB-8D88-EABF9E11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0101-D46D-4EFE-BB71-05E3E13B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D195-0D90-494C-8538-09E15E08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4063-D7D9-4A15-B319-CF07B27A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E375-CA9F-4FA7-BD70-14E4302F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5076-D4EF-4CC2-A5D0-8A4E8850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2DA4-DAB3-4208-ABDA-EF06B87027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7.jpeg"/><Relationship Id="rId3" Type="http://schemas.openxmlformats.org/officeDocument/2006/relationships/image" Target="../media/image16.jpeg"/><Relationship Id="rId4" Type="http://schemas.openxmlformats.org/officeDocument/2006/relationships/image" Target="../media/image19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235080" y="1814400"/>
            <a:ext cx="8584920" cy="48294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971640" y="189000"/>
            <a:ext cx="7848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0000ff"/>
                    </a:gs>
                    <a:gs pos="100000">
                      <a:srgbClr val="ffff66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Геометрические 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50000">
                    <a:srgbClr val="0000ff"/>
                  </a:gs>
                  <a:gs pos="100000">
                    <a:srgbClr val="ffff66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0000ff"/>
                    </a:gs>
                    <a:gs pos="100000">
                      <a:srgbClr val="ffff66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фигуры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50000">
                    <a:srgbClr val="0000ff"/>
                  </a:gs>
                  <a:gs pos="100000">
                    <a:srgbClr val="ffff66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9066035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8"/>
          <p:cNvSpPr txBox="1"/>
          <p:nvPr/>
        </p:nvSpPr>
        <p:spPr>
          <a:xfrm>
            <a:off x="324000" y="476280"/>
            <a:ext cx="5040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00ff00"/>
                    </a:gs>
                    <a:gs pos="100000">
                      <a:srgbClr val="ffff66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ВАДРАТ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50000">
                    <a:srgbClr val="00ff00"/>
                  </a:gs>
                  <a:gs pos="100000">
                    <a:srgbClr val="ffff66"/>
                  </a:gs>
                </a:gsLst>
                <a:lin ang="27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7" name="Picture 11" descr="Персональный сайт - Развитие воображения"/>
          <p:cNvPicPr/>
          <p:nvPr/>
        </p:nvPicPr>
        <p:blipFill>
          <a:blip r:embed="rId2"/>
          <a:stretch/>
        </p:blipFill>
        <p:spPr>
          <a:xfrm>
            <a:off x="684360" y="2205000"/>
            <a:ext cx="2746080" cy="2746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51280" y="1700280"/>
            <a:ext cx="47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н давно знакомый м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ждый угол в нем пря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се четыре стор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динаковой длин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ам его представить рад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 зовут его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9066035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250920" y="2997000"/>
            <a:ext cx="461952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Для пчелы фигуры э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В целом мире лучше не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10"/>
          <p:cNvSpPr txBox="1"/>
          <p:nvPr/>
        </p:nvSpPr>
        <p:spPr>
          <a:xfrm>
            <a:off x="324000" y="549360"/>
            <a:ext cx="58863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9966ff"/>
                    </a:gs>
                    <a:gs pos="100000">
                      <a:srgbClr val="ff6600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ШЕСТИУГОЛЬНИК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50000">
                    <a:srgbClr val="9966ff"/>
                  </a:gs>
                  <a:gs pos="100000">
                    <a:srgbClr val="ff6600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2" name="Picture 14" descr="1128514563_hexagonrgb_answer_11_xlarge"/>
          <p:cNvPicPr/>
          <p:nvPr/>
        </p:nvPicPr>
        <p:blipFill>
          <a:blip r:embed="rId2"/>
          <a:stretch/>
        </p:blipFill>
        <p:spPr>
          <a:xfrm>
            <a:off x="5003640" y="2421000"/>
            <a:ext cx="33339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9066035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850920" y="2565000"/>
            <a:ext cx="476244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На мяче футбольном наш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 черный цвет  он весь       раскраш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8"/>
          <p:cNvSpPr txBox="1"/>
          <p:nvPr/>
        </p:nvSpPr>
        <p:spPr>
          <a:xfrm>
            <a:off x="324000" y="333360"/>
            <a:ext cx="63356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66ff"/>
                    </a:gs>
                    <a:gs pos="50000">
                      <a:srgbClr val="0000cc"/>
                    </a:gs>
                    <a:gs pos="100000">
                      <a:srgbClr val="9966f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ЯТИУГОЛЬНИК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66ff"/>
                  </a:gs>
                  <a:gs pos="50000">
                    <a:srgbClr val="0000cc"/>
                  </a:gs>
                  <a:gs pos="100000">
                    <a:srgbClr val="9966ff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6" name="Picture 10" descr="Помощник кроссвордиста - быстрый подбор слов"/>
          <p:cNvPicPr/>
          <p:nvPr/>
        </p:nvPicPr>
        <p:blipFill>
          <a:blip r:embed="rId2"/>
          <a:stretch/>
        </p:blipFill>
        <p:spPr>
          <a:xfrm>
            <a:off x="971640" y="1844640"/>
            <a:ext cx="303984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9066035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987640" y="2491920"/>
            <a:ext cx="5580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тыре угла, как квадрат я име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только квадра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ться не сме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се же, похож на квадра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 прочи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е длинные стороны и две покороч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8"/>
          <p:cNvSpPr txBox="1"/>
          <p:nvPr/>
        </p:nvSpPr>
        <p:spPr>
          <a:xfrm>
            <a:off x="2916360" y="476280"/>
            <a:ext cx="56592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50000">
                      <a:srgbClr val="99ccff"/>
                    </a:gs>
                    <a:gs pos="100000">
                      <a:srgbClr val="ffff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ЯМОУГОЛЬНИК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5000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0" name="Picture 10" descr="Прямоугольник - Фото 6 - Геометрия фигуры - Цвет и форма - Фотосайт"/>
          <p:cNvPicPr/>
          <p:nvPr/>
        </p:nvPicPr>
        <p:blipFill>
          <a:blip r:embed="rId2"/>
          <a:stretch/>
        </p:blipFill>
        <p:spPr>
          <a:xfrm>
            <a:off x="250920" y="476280"/>
            <a:ext cx="24858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9066035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23640" y="1915920"/>
            <a:ext cx="505116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Восемь мух на крае блюд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Над паучком смеются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Привязал он их по кру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Паутинками друг дру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Паутинок восемь то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Кто назвать фигуру сможет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8"/>
          <p:cNvSpPr txBox="1"/>
          <p:nvPr/>
        </p:nvSpPr>
        <p:spPr>
          <a:xfrm>
            <a:off x="2700360" y="476280"/>
            <a:ext cx="6049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50000">
                      <a:srgbClr val="00cc66"/>
                    </a:gs>
                    <a:gs pos="100000">
                      <a:srgbClr val="ccccf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ОСЬМИУГОЛЬНИК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50000">
                    <a:srgbClr val="00cc66"/>
                  </a:gs>
                  <a:gs pos="100000">
                    <a:srgbClr val="ccccff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4" name="Picture 10" descr="Помощник кроссвордиста - быстрый подбор слов"/>
          <p:cNvPicPr/>
          <p:nvPr/>
        </p:nvPicPr>
        <p:blipFill>
          <a:blip r:embed="rId2"/>
          <a:stretch/>
        </p:blipFill>
        <p:spPr>
          <a:xfrm>
            <a:off x="5219640" y="2060640"/>
            <a:ext cx="343224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Uvazhaemy-j-Buratino-posmotrite-na-dosk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WordArt 3"/>
          <p:cNvSpPr txBox="1"/>
          <p:nvPr/>
        </p:nvSpPr>
        <p:spPr>
          <a:xfrm>
            <a:off x="900000" y="836640"/>
            <a:ext cx="51120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000099"/>
                    </a:gs>
                    <a:gs pos="100000">
                      <a:srgbClr val="00ff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ДАНИЕ 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000099"/>
                  </a:gs>
                  <a:gs pos="100000">
                    <a:srgbClr val="00ff00"/>
                  </a:gs>
                </a:gsLst>
                <a:lin ang="27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000099"/>
                    </a:gs>
                    <a:gs pos="100000">
                      <a:srgbClr val="00ff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ГРА "ЧТО ЛИШНЕЕ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000099"/>
                  </a:gs>
                  <a:gs pos="100000">
                    <a:srgbClr val="00ff00"/>
                  </a:gs>
                </a:gsLst>
                <a:lin ang="27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img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geometricheskaya-figura-pramougolnik[1]"/>
          <p:cNvPicPr/>
          <p:nvPr/>
        </p:nvPicPr>
        <p:blipFill>
          <a:blip r:embed="rId2"/>
          <a:stretch/>
        </p:blipFill>
        <p:spPr>
          <a:xfrm>
            <a:off x="324000" y="260280"/>
            <a:ext cx="2808000" cy="2117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geometricheskaya-figura-patiugolnik[1]"/>
          <p:cNvPicPr/>
          <p:nvPr/>
        </p:nvPicPr>
        <p:blipFill>
          <a:blip r:embed="rId3"/>
          <a:stretch/>
        </p:blipFill>
        <p:spPr>
          <a:xfrm>
            <a:off x="5435640" y="260280"/>
            <a:ext cx="3203640" cy="2257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geometricheskaya-figura-krug[1]"/>
          <p:cNvPicPr/>
          <p:nvPr/>
        </p:nvPicPr>
        <p:blipFill>
          <a:blip r:embed="rId4"/>
          <a:stretch/>
        </p:blipFill>
        <p:spPr>
          <a:xfrm>
            <a:off x="2340000" y="2276640"/>
            <a:ext cx="3249720" cy="2450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1332563_5cl_enl[1]"/>
          <p:cNvPicPr/>
          <p:nvPr/>
        </p:nvPicPr>
        <p:blipFill>
          <a:blip r:embed="rId5"/>
          <a:stretch/>
        </p:blipFill>
        <p:spPr>
          <a:xfrm>
            <a:off x="5651640" y="3716280"/>
            <a:ext cx="3267000" cy="2762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geometricheskaya-figura-treugolnik[1]"/>
          <p:cNvPicPr/>
          <p:nvPr/>
        </p:nvPicPr>
        <p:blipFill>
          <a:blip r:embed="rId6"/>
          <a:stretch/>
        </p:blipFill>
        <p:spPr>
          <a:xfrm>
            <a:off x="395280" y="4221000"/>
            <a:ext cx="296244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6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0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Uvazhaemy-j-Buratino-posmotrite-na-dosk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WordArt 3"/>
          <p:cNvSpPr txBox="1"/>
          <p:nvPr/>
        </p:nvSpPr>
        <p:spPr>
          <a:xfrm>
            <a:off x="468360" y="692280"/>
            <a:ext cx="6408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ДАНИЕ 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Расположи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ногоугольники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img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Ахмед Усманов - Портал профессионального образования Чеченск…"/>
          <p:cNvPicPr/>
          <p:nvPr/>
        </p:nvPicPr>
        <p:blipFill>
          <a:blip r:embed="rId2"/>
          <a:stretch/>
        </p:blipFill>
        <p:spPr>
          <a:xfrm>
            <a:off x="468360" y="549360"/>
            <a:ext cx="4103640" cy="6038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Линейка-трафарет геометрические фигуры 17см ТГФ-17 Пчелка Россия"/>
          <p:cNvPicPr/>
          <p:nvPr/>
        </p:nvPicPr>
        <p:blipFill>
          <a:blip r:embed="rId3"/>
          <a:stretch/>
        </p:blipFill>
        <p:spPr>
          <a:xfrm>
            <a:off x="4859280" y="476280"/>
            <a:ext cx="3933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img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5"/>
          <p:cNvSpPr txBox="1"/>
          <p:nvPr/>
        </p:nvSpPr>
        <p:spPr>
          <a:xfrm>
            <a:off x="1835280" y="333360"/>
            <a:ext cx="583236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РИТЕЛЬНАЯ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ГИМНАСТИК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0" name="Picture 7" descr="МБОУ Городецкая СОШ - Гимнастика для глаз"/>
          <p:cNvPicPr/>
          <p:nvPr/>
        </p:nvPicPr>
        <p:blipFill>
          <a:blip r:embed="rId2"/>
          <a:stretch/>
        </p:blipFill>
        <p:spPr>
          <a:xfrm>
            <a:off x="1547640" y="3716280"/>
            <a:ext cx="2829240" cy="2857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Оздоровительный комплекс упражнений для глаз &quot;Зрительная гимнастика&quot;. Обсуждение на LiveInternet - Российский Сервис Онлайн-Днев"/>
          <p:cNvPicPr/>
          <p:nvPr/>
        </p:nvPicPr>
        <p:blipFill>
          <a:blip r:embed="rId3"/>
          <a:stretch/>
        </p:blipFill>
        <p:spPr>
          <a:xfrm>
            <a:off x="4932360" y="3716280"/>
            <a:ext cx="317340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9066035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love608[1]"/>
          <p:cNvPicPr/>
          <p:nvPr/>
        </p:nvPicPr>
        <p:blipFill>
          <a:blip r:embed="rId2"/>
          <a:stretch/>
        </p:blipFill>
        <p:spPr>
          <a:xfrm>
            <a:off x="3492360" y="2852640"/>
            <a:ext cx="5197680" cy="3643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5aeda6adc59b559acc662b386df690ae"/>
          <p:cNvPicPr/>
          <p:nvPr/>
        </p:nvPicPr>
        <p:blipFill>
          <a:blip r:embed="rId3"/>
          <a:stretch/>
        </p:blipFill>
        <p:spPr>
          <a:xfrm>
            <a:off x="250920" y="1989000"/>
            <a:ext cx="2950920" cy="4032360"/>
          </a:xfrm>
          <a:prstGeom prst="rect">
            <a:avLst/>
          </a:prstGeom>
          <a:ln w="0">
            <a:noFill/>
          </a:ln>
        </p:spPr>
      </p:pic>
      <p:sp>
        <p:nvSpPr>
          <p:cNvPr id="46" name="WordArt 5"/>
          <p:cNvSpPr txBox="1"/>
          <p:nvPr/>
        </p:nvSpPr>
        <p:spPr>
          <a:xfrm>
            <a:off x="1547640" y="404640"/>
            <a:ext cx="72741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50000">
                      <a:srgbClr val="0000ff"/>
                    </a:gs>
                    <a:gs pos="100000">
                      <a:srgbClr val="000099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исьмо от Буратин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50000">
                    <a:srgbClr val="0000ff"/>
                  </a:gs>
                  <a:gs pos="100000">
                    <a:srgbClr val="000099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Uvazhaemy-j-Buratino-posmotrite-na-dosk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WordArt 3"/>
          <p:cNvSpPr txBox="1"/>
          <p:nvPr/>
        </p:nvSpPr>
        <p:spPr>
          <a:xfrm>
            <a:off x="755640" y="692280"/>
            <a:ext cx="56880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ДАНИЕ 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ОТГАДАЙ - КА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img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50511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ки на гору вез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ем строить новы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1" descr="Аппликация из геометрических фигур"/>
          <p:cNvPicPr/>
          <p:nvPr/>
        </p:nvPicPr>
        <p:blipFill>
          <a:blip r:embed="rId2"/>
          <a:stretch/>
        </p:blipFill>
        <p:spPr>
          <a:xfrm>
            <a:off x="179280" y="2133720"/>
            <a:ext cx="4032360" cy="4176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6[1]"/>
          <p:cNvPicPr/>
          <p:nvPr/>
        </p:nvPicPr>
        <p:blipFill>
          <a:blip r:embed="rId3"/>
          <a:stretch/>
        </p:blipFill>
        <p:spPr>
          <a:xfrm>
            <a:off x="6443640" y="765000"/>
            <a:ext cx="2317680" cy="2318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43916_html_3835989e[1]"/>
          <p:cNvPicPr/>
          <p:nvPr/>
        </p:nvPicPr>
        <p:blipFill>
          <a:blip r:embed="rId4"/>
          <a:stretch/>
        </p:blipFill>
        <p:spPr>
          <a:xfrm>
            <a:off x="4356000" y="2349360"/>
            <a:ext cx="1749600" cy="3097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geometricheskaya-figura-treugolnik[1]"/>
          <p:cNvPicPr/>
          <p:nvPr/>
        </p:nvPicPr>
        <p:blipFill>
          <a:blip r:embed="rId5"/>
          <a:stretch/>
        </p:blipFill>
        <p:spPr>
          <a:xfrm>
            <a:off x="6227640" y="4076640"/>
            <a:ext cx="274644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img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50511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имой и летом одним цве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geometricheskaya-figura-treugolnik[1]"/>
          <p:cNvPicPr/>
          <p:nvPr/>
        </p:nvPicPr>
        <p:blipFill>
          <a:blip r:embed="rId2"/>
          <a:stretch/>
        </p:blipFill>
        <p:spPr>
          <a:xfrm>
            <a:off x="6227640" y="2349360"/>
            <a:ext cx="2746440" cy="2070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Ёлочка из треугольников - Презентация 282/14"/>
          <p:cNvPicPr/>
          <p:nvPr/>
        </p:nvPicPr>
        <p:blipFill>
          <a:blip r:embed="rId3"/>
          <a:stretch/>
        </p:blipFill>
        <p:spPr>
          <a:xfrm>
            <a:off x="179280" y="1341360"/>
            <a:ext cx="56880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img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50511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ин костер весь мир согре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geometricheskaya-figura-krug[1]"/>
          <p:cNvPicPr/>
          <p:nvPr/>
        </p:nvPicPr>
        <p:blipFill>
          <a:blip r:embed="rId2"/>
          <a:stretch/>
        </p:blipFill>
        <p:spPr>
          <a:xfrm>
            <a:off x="5796000" y="2421000"/>
            <a:ext cx="2962080" cy="2233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Ягоды годжи список геометрических фигур и их названия Худеем вместе!"/>
          <p:cNvPicPr/>
          <p:nvPr/>
        </p:nvPicPr>
        <p:blipFill>
          <a:blip r:embed="rId3"/>
          <a:stretch/>
        </p:blipFill>
        <p:spPr>
          <a:xfrm>
            <a:off x="468360" y="1413000"/>
            <a:ext cx="489564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img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WordArt 3"/>
          <p:cNvSpPr txBox="1"/>
          <p:nvPr/>
        </p:nvSpPr>
        <p:spPr>
          <a:xfrm>
            <a:off x="611280" y="549360"/>
            <a:ext cx="813600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ФИЗКУЛЬТМИНУТК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0" name="Picture 7" descr="Клипы для детей"/>
          <p:cNvPicPr/>
          <p:nvPr/>
        </p:nvPicPr>
        <p:blipFill>
          <a:blip r:embed="rId2"/>
          <a:stretch/>
        </p:blipFill>
        <p:spPr>
          <a:xfrm>
            <a:off x="3059280" y="2781360"/>
            <a:ext cx="306216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Uvazhaemy-j-Buratino-posmotrite-na-dosk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WordArt 3"/>
          <p:cNvSpPr txBox="1"/>
          <p:nvPr/>
        </p:nvSpPr>
        <p:spPr>
          <a:xfrm>
            <a:off x="468360" y="549360"/>
            <a:ext cx="6408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ДАНИЕ 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ПРЕОБРАЗУЙ ФИГУРУ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img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Правильный шестиугольник: чем он интересен и как его построить - FB.ru"/>
          <p:cNvPicPr/>
          <p:nvPr/>
        </p:nvPicPr>
        <p:blipFill>
          <a:blip r:embed="rId2"/>
          <a:stretch/>
        </p:blipFill>
        <p:spPr>
          <a:xfrm>
            <a:off x="324000" y="476280"/>
            <a:ext cx="3527280" cy="3527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Golden Harvest Paste графические заготовки Загрузить 453 clip arts (Страница 4) - ClipartLogo.com"/>
          <p:cNvPicPr/>
          <p:nvPr/>
        </p:nvPicPr>
        <p:blipFill>
          <a:blip r:embed="rId3"/>
          <a:stretch/>
        </p:blipFill>
        <p:spPr>
          <a:xfrm>
            <a:off x="4284720" y="2421000"/>
            <a:ext cx="437832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Проходной балл. . Поступаем вместе Поступаем вместе! . Фору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9" descr="Uvazhaemy-j-Buratino-posmotrite-na-dosk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>
            <a:off x="971640" y="1052640"/>
            <a:ext cx="511164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000099"/>
                    </a:gs>
                    <a:gs pos="100000">
                      <a:srgbClr val="00ff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ДАНИЕ 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000099"/>
                  </a:gs>
                  <a:gs pos="100000">
                    <a:srgbClr val="00ff00"/>
                  </a:gs>
                </a:gsLst>
                <a:lin ang="27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000099"/>
                    </a:gs>
                    <a:gs pos="100000">
                      <a:srgbClr val="00ff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ГАДК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000099"/>
                  </a:gs>
                  <a:gs pos="100000">
                    <a:srgbClr val="00ff00"/>
                  </a:gs>
                </a:gsLst>
                <a:lin ang="27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" descr="img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422861"/>
          <p:cNvPicPr/>
          <p:nvPr/>
        </p:nvPicPr>
        <p:blipFill>
          <a:blip r:embed="rId2"/>
          <a:stretch/>
        </p:blipFill>
        <p:spPr>
          <a:xfrm>
            <a:off x="0" y="404640"/>
            <a:ext cx="3063960" cy="3240360"/>
          </a:xfrm>
          <a:prstGeom prst="rect">
            <a:avLst/>
          </a:prstGeom>
          <a:ln w="0">
            <a:noFill/>
          </a:ln>
        </p:spPr>
      </p:pic>
      <p:sp>
        <p:nvSpPr>
          <p:cNvPr id="51" name="WordArt 5"/>
          <p:cNvSpPr txBox="1"/>
          <p:nvPr/>
        </p:nvSpPr>
        <p:spPr>
          <a:xfrm>
            <a:off x="3132000" y="1197000"/>
            <a:ext cx="5616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0000f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Узнай фигуру!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0000ff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2" name="Picture 9" descr="geometricheskaya-figura-treugolnik"/>
          <p:cNvPicPr/>
          <p:nvPr/>
        </p:nvPicPr>
        <p:blipFill>
          <a:blip r:embed="rId3"/>
          <a:stretch/>
        </p:blipFill>
        <p:spPr>
          <a:xfrm>
            <a:off x="4859280" y="3860640"/>
            <a:ext cx="3676680" cy="277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geometricheskaya-figura-zilindr"/>
          <p:cNvPicPr/>
          <p:nvPr/>
        </p:nvPicPr>
        <p:blipFill>
          <a:blip r:embed="rId4"/>
          <a:stretch/>
        </p:blipFill>
        <p:spPr>
          <a:xfrm>
            <a:off x="755640" y="3933720"/>
            <a:ext cx="36003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9066035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ff"/>
                </a:solidFill>
                <a:latin typeface="Arial"/>
              </a:rPr>
              <a:t>Нет углов у мен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ff"/>
                </a:solidFill>
                <a:latin typeface="Arial"/>
              </a:rPr>
              <a:t>А похож на блюдце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ff"/>
                </a:solidFill>
                <a:latin typeface="Arial"/>
              </a:rPr>
              <a:t>На тарелку и на крышк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ff"/>
                </a:solidFill>
                <a:latin typeface="Arial"/>
              </a:rPr>
              <a:t>На кольцо и колес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ff"/>
                </a:solidFill>
                <a:latin typeface="Arial"/>
              </a:rPr>
              <a:t>Кто же я такой, друзь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ff"/>
                </a:solidFill>
                <a:latin typeface="Arial"/>
              </a:rPr>
              <a:t>Назовите вы ме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8"/>
          <p:cNvSpPr txBox="1"/>
          <p:nvPr/>
        </p:nvSpPr>
        <p:spPr>
          <a:xfrm>
            <a:off x="3851280" y="404640"/>
            <a:ext cx="4392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РУГ</a:t>
            </a:r>
            <a:endParaRPr b="0" i="1" lang="en-US" sz="7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7" name="Picture 10" descr="geometricheskaya-figura-krug"/>
          <p:cNvPicPr/>
          <p:nvPr/>
        </p:nvPicPr>
        <p:blipFill>
          <a:blip r:embed="rId4"/>
          <a:stretch/>
        </p:blipFill>
        <p:spPr>
          <a:xfrm>
            <a:off x="5148360" y="2133720"/>
            <a:ext cx="346536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9066035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51280" y="2276280"/>
            <a:ext cx="483552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Треугольник сунул н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 реактивный пылес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Я – похож на яйц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И как просто буква 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Я почти как круг – малец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Я такой, как огур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8"/>
          <p:cNvSpPr txBox="1"/>
          <p:nvPr/>
        </p:nvSpPr>
        <p:spPr>
          <a:xfrm>
            <a:off x="4067280" y="476280"/>
            <a:ext cx="424800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0000cc"/>
                    </a:gs>
                    <a:gs pos="100000">
                      <a:srgbClr val="ffff00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ВАЛ</a:t>
            </a:r>
            <a:endParaRPr b="1" i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0000cc"/>
                  </a:gs>
                  <a:gs pos="100000">
                    <a:srgbClr val="ffff00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1" name="Picture 9" descr="1332563_5cl_enl[1]"/>
          <p:cNvPicPr/>
          <p:nvPr/>
        </p:nvPicPr>
        <p:blipFill>
          <a:blip r:embed="rId2"/>
          <a:stretch/>
        </p:blipFill>
        <p:spPr>
          <a:xfrm>
            <a:off x="179280" y="1628640"/>
            <a:ext cx="377208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9066035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-360" y="2420640"/>
            <a:ext cx="577044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Злая рыба хвост – лоп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Откусила полквадрата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Целый угол, верь не вер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Кто ж он, бедненький, тепер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8"/>
          <p:cNvSpPr txBox="1"/>
          <p:nvPr/>
        </p:nvSpPr>
        <p:spPr>
          <a:xfrm>
            <a:off x="2987640" y="620640"/>
            <a:ext cx="5545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РЕУГОЛЬНИК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5" name="Picture 9" descr="geometricheskaya-figura-treugolnik[1]"/>
          <p:cNvPicPr/>
          <p:nvPr/>
        </p:nvPicPr>
        <p:blipFill>
          <a:blip r:embed="rId4"/>
          <a:stretch/>
        </p:blipFill>
        <p:spPr>
          <a:xfrm>
            <a:off x="5435640" y="2421000"/>
            <a:ext cx="33940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9066035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805200" y="2781360"/>
            <a:ext cx="53388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стал квадрат на уголок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кнулся носом в пото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верх он рос еще дней п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к теперь его назв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8"/>
          <p:cNvSpPr txBox="1"/>
          <p:nvPr/>
        </p:nvSpPr>
        <p:spPr>
          <a:xfrm>
            <a:off x="4859280" y="620640"/>
            <a:ext cx="33609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9966ff"/>
                    </a:gs>
                    <a:gs pos="100000">
                      <a:srgbClr val="ff0000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РОМБ</a:t>
            </a:r>
            <a:endParaRPr b="1" i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9966ff"/>
                  </a:gs>
                  <a:gs pos="100000">
                    <a:srgbClr val="ff0000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9" name="Picture 9" descr="31[1]"/>
          <p:cNvPicPr/>
          <p:nvPr/>
        </p:nvPicPr>
        <p:blipFill>
          <a:blip r:embed="rId2"/>
          <a:stretch/>
        </p:blipFill>
        <p:spPr>
          <a:xfrm>
            <a:off x="250920" y="549360"/>
            <a:ext cx="33541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9066035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560" y="2204640"/>
            <a:ext cx="454644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без носа он, - о, боже!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л на юбочку похож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еснее всег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теперь зовут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8"/>
          <p:cNvSpPr txBox="1"/>
          <p:nvPr/>
        </p:nvSpPr>
        <p:spPr>
          <a:xfrm>
            <a:off x="3059280" y="549360"/>
            <a:ext cx="55832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0000cc"/>
                    </a:gs>
                    <a:gs pos="100000">
                      <a:srgbClr val="ff00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РАПЕЦИЯ</a:t>
            </a:r>
            <a:endParaRPr b="0" i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0000cc"/>
                  </a:gs>
                  <a:gs pos="100000">
                    <a:srgbClr val="ff0000"/>
                  </a:gs>
                </a:gsLst>
                <a:lin ang="27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3" name="Picture 9" descr="geometricheskaya-figura-trapeziya[1]"/>
          <p:cNvPicPr/>
          <p:nvPr/>
        </p:nvPicPr>
        <p:blipFill>
          <a:blip r:embed="rId2"/>
          <a:stretch/>
        </p:blipFill>
        <p:spPr>
          <a:xfrm>
            <a:off x="4643280" y="2997360"/>
            <a:ext cx="41148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18:53:33Z</dcterms:created>
  <dc:creator>1</dc:creator>
  <dc:description/>
  <dc:language>en-US</dc:language>
  <cp:lastModifiedBy>1</cp:lastModifiedBy>
  <dcterms:modified xsi:type="dcterms:W3CDTF">2020-10-25T11:14:04Z</dcterms:modified>
  <cp:revision>6</cp:revision>
  <dc:subject/>
  <dc:title>Slide 1</dc:title>
</cp:coreProperties>
</file>