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A00-CD32-4876-A569-589D17DC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BA6-41E8-4A47-90F9-EE1038AB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CAE-DFA1-4028-91BF-C40EFE88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7F8-00A0-4B5A-BE1E-BB9606D6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B60-C4C3-46B8-A9F6-BD4ABE8C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60F-2ACF-4618-AC1A-8EB80900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099-4734-4B21-89A6-B26856C0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04B-50DD-471D-B7BD-3F7E47F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86A-5A98-439D-996B-A38943C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37E-DF9A-4573-BBDF-E2F004B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270-5E31-43ED-ABD9-54C1628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990-1BC3-495A-B930-48CF942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120-BC4C-4BFB-94F9-FEC57A76E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5080" y="1814400"/>
            <a:ext cx="8584920" cy="4829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89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еометрические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гур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324000" y="476280"/>
            <a:ext cx="50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ff00"/>
                    </a:gs>
                    <a:gs pos="100000">
                      <a:srgbClr val="ffff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ВАДРА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ff00"/>
                  </a:gs>
                  <a:gs pos="100000">
                    <a:srgbClr val="ffff66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Picture 11" descr="Персональный сайт - Развитие воображения"/>
          <p:cNvPicPr/>
          <p:nvPr/>
        </p:nvPicPr>
        <p:blipFill>
          <a:blip r:embed="rId2"/>
          <a:stretch/>
        </p:blipFill>
        <p:spPr>
          <a:xfrm>
            <a:off x="684360" y="2205000"/>
            <a:ext cx="274608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1280" y="1700280"/>
            <a:ext cx="47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давно знакомый 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ый угол в нем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четыр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инаковой дл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м его представить 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зовут его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4619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ля пчелы фигуры э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В целом мире лучше н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24000" y="549360"/>
            <a:ext cx="588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9966ff"/>
                    </a:gs>
                    <a:gs pos="100000">
                      <a:srgbClr val="ff66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ЕСТ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9966ff"/>
                  </a:gs>
                  <a:gs pos="100000">
                    <a:srgbClr val="ff66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14" descr="1128514563_hexagonrgb_answer_11_xlarge"/>
          <p:cNvPicPr/>
          <p:nvPr/>
        </p:nvPicPr>
        <p:blipFill>
          <a:blip r:embed="rId2"/>
          <a:stretch/>
        </p:blipFill>
        <p:spPr>
          <a:xfrm>
            <a:off x="5003640" y="2421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762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мяче футбольном наш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черный цвет  он весь       раскра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324000" y="333360"/>
            <a:ext cx="63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0000cc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ЯТИУГОЛЬН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0000cc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971640" y="1844640"/>
            <a:ext cx="3039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987640" y="2491920"/>
            <a:ext cx="558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угла, как квадрат я и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олько квадр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ся не с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 же, похож на квадр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проч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длинные стороны и две покоро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2916360" y="476280"/>
            <a:ext cx="565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99ccff"/>
                    </a:gs>
                    <a:gs pos="100000">
                      <a:srgbClr val="ffff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ЯМО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0" name="Picture 10" descr="Прямоугольник - Фото 6 - Геометрия фигуры - Цвет и форма - Фотосайт"/>
          <p:cNvPicPr/>
          <p:nvPr/>
        </p:nvPicPr>
        <p:blipFill>
          <a:blip r:embed="rId2"/>
          <a:stretch/>
        </p:blipFill>
        <p:spPr>
          <a:xfrm>
            <a:off x="250920" y="476280"/>
            <a:ext cx="2485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5051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Восемь мух на крае блю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Над паучком смеютс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ривязал он их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ка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ок восемь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Кто назвать фигуру смож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700360" y="476280"/>
            <a:ext cx="604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00cc66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СЬМ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00cc66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5219640" y="2060640"/>
            <a:ext cx="3432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900000" y="836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ГРА "ЧТО ЛИШНЕЕ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eometricheskaya-figura-pramougolnik[1]"/>
          <p:cNvPicPr/>
          <p:nvPr/>
        </p:nvPicPr>
        <p:blipFill>
          <a:blip r:embed="rId2"/>
          <a:stretch/>
        </p:blipFill>
        <p:spPr>
          <a:xfrm>
            <a:off x="324000" y="26028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eometricheskaya-figura-patiugolnik[1]"/>
          <p:cNvPicPr/>
          <p:nvPr/>
        </p:nvPicPr>
        <p:blipFill>
          <a:blip r:embed="rId3"/>
          <a:stretch/>
        </p:blipFill>
        <p:spPr>
          <a:xfrm>
            <a:off x="5435640" y="260280"/>
            <a:ext cx="32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geometricheskaya-figura-krug[1]"/>
          <p:cNvPicPr/>
          <p:nvPr/>
        </p:nvPicPr>
        <p:blipFill>
          <a:blip r:embed="rId4"/>
          <a:stretch/>
        </p:blipFill>
        <p:spPr>
          <a:xfrm>
            <a:off x="2340000" y="2276640"/>
            <a:ext cx="3249720" cy="24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332563_5cl_enl[1]"/>
          <p:cNvPicPr/>
          <p:nvPr/>
        </p:nvPicPr>
        <p:blipFill>
          <a:blip r:embed="rId5"/>
          <a:stretch/>
        </p:blipFill>
        <p:spPr>
          <a:xfrm>
            <a:off x="5651640" y="3716280"/>
            <a:ext cx="32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geometricheskaya-figura-treugolnik[1]"/>
          <p:cNvPicPr/>
          <p:nvPr/>
        </p:nvPicPr>
        <p:blipFill>
          <a:blip r:embed="rId6"/>
          <a:stretch/>
        </p:blipFill>
        <p:spPr>
          <a:xfrm>
            <a:off x="395280" y="4221000"/>
            <a:ext cx="2962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468360" y="69228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асполож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угольник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хмед Усманов - Портал профессионального образования Чеченск…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603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Линейка-трафарет геометрические фигуры 17см ТГФ-17 Пчелка Россия"/>
          <p:cNvPicPr/>
          <p:nvPr/>
        </p:nvPicPr>
        <p:blipFill>
          <a:blip r:embed="rId3"/>
          <a:stretch/>
        </p:blipFill>
        <p:spPr>
          <a:xfrm>
            <a:off x="4859280" y="476280"/>
            <a:ext cx="3933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835280" y="333360"/>
            <a:ext cx="58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РИТЕ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ИМНАС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Picture 7" descr="МБОУ Городецкая СОШ - Гимнастика для глаз"/>
          <p:cNvPicPr/>
          <p:nvPr/>
        </p:nvPicPr>
        <p:blipFill>
          <a:blip r:embed="rId2"/>
          <a:stretch/>
        </p:blipFill>
        <p:spPr>
          <a:xfrm>
            <a:off x="1547640" y="3716280"/>
            <a:ext cx="282924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здоровительный комплекс упражнений для глаз &quot;Зрительная гимнастика&quot;. Обсуждение на LiveInternet - Российский Сервис Онлайн-Днев"/>
          <p:cNvPicPr/>
          <p:nvPr/>
        </p:nvPicPr>
        <p:blipFill>
          <a:blip r:embed="rId3"/>
          <a:stretch/>
        </p:blipFill>
        <p:spPr>
          <a:xfrm>
            <a:off x="4932360" y="3716280"/>
            <a:ext cx="317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love608[1]"/>
          <p:cNvPicPr/>
          <p:nvPr/>
        </p:nvPicPr>
        <p:blipFill>
          <a:blip r:embed="rId2"/>
          <a:stretch/>
        </p:blipFill>
        <p:spPr>
          <a:xfrm>
            <a:off x="3492360" y="2852640"/>
            <a:ext cx="5197680" cy="364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aeda6adc59b559acc662b386df690ae"/>
          <p:cNvPicPr/>
          <p:nvPr/>
        </p:nvPicPr>
        <p:blipFill>
          <a:blip r:embed="rId3"/>
          <a:stretch/>
        </p:blipFill>
        <p:spPr>
          <a:xfrm>
            <a:off x="250920" y="1989000"/>
            <a:ext cx="295092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547640" y="404640"/>
            <a:ext cx="7274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исьмо от Бурат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755640" y="692280"/>
            <a:ext cx="568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ОТГАДАЙ - 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и на гору вез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строить нов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Аппликация из геометрических фигур"/>
          <p:cNvPicPr/>
          <p:nvPr/>
        </p:nvPicPr>
        <p:blipFill>
          <a:blip r:embed="rId2"/>
          <a:stretch/>
        </p:blipFill>
        <p:spPr>
          <a:xfrm>
            <a:off x="179280" y="213372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6[1]"/>
          <p:cNvPicPr/>
          <p:nvPr/>
        </p:nvPicPr>
        <p:blipFill>
          <a:blip r:embed="rId3"/>
          <a:stretch/>
        </p:blipFill>
        <p:spPr>
          <a:xfrm>
            <a:off x="6443640" y="765000"/>
            <a:ext cx="2317680" cy="231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43916_html_3835989e[1]"/>
          <p:cNvPicPr/>
          <p:nvPr/>
        </p:nvPicPr>
        <p:blipFill>
          <a:blip r:embed="rId4"/>
          <a:stretch/>
        </p:blipFill>
        <p:spPr>
          <a:xfrm>
            <a:off x="4356000" y="2349360"/>
            <a:ext cx="174960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geometricheskaya-figura-treugolnik[1]"/>
          <p:cNvPicPr/>
          <p:nvPr/>
        </p:nvPicPr>
        <p:blipFill>
          <a:blip r:embed="rId5"/>
          <a:stretch/>
        </p:blipFill>
        <p:spPr>
          <a:xfrm>
            <a:off x="6227640" y="4076640"/>
            <a:ext cx="27464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и летом одним ц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geometricheskaya-figura-treugolnik[1]"/>
          <p:cNvPicPr/>
          <p:nvPr/>
        </p:nvPicPr>
        <p:blipFill>
          <a:blip r:embed="rId2"/>
          <a:stretch/>
        </p:blipFill>
        <p:spPr>
          <a:xfrm>
            <a:off x="6227640" y="2349360"/>
            <a:ext cx="2746440" cy="207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Ёлочка из треугольников - Презентация 282/14"/>
          <p:cNvPicPr/>
          <p:nvPr/>
        </p:nvPicPr>
        <p:blipFill>
          <a:blip r:embed="rId3"/>
          <a:stretch/>
        </p:blipFill>
        <p:spPr>
          <a:xfrm>
            <a:off x="179280" y="1341360"/>
            <a:ext cx="56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остер весь мир согре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geometricheskaya-figura-krug[1]"/>
          <p:cNvPicPr/>
          <p:nvPr/>
        </p:nvPicPr>
        <p:blipFill>
          <a:blip r:embed="rId2"/>
          <a:stretch/>
        </p:blipFill>
        <p:spPr>
          <a:xfrm>
            <a:off x="5796000" y="2421000"/>
            <a:ext cx="2962080" cy="22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Ягоды годжи список геометрических фигур и их названия Худеем вместе!"/>
          <p:cNvPicPr/>
          <p:nvPr/>
        </p:nvPicPr>
        <p:blipFill>
          <a:blip r:embed="rId3"/>
          <a:stretch/>
        </p:blipFill>
        <p:spPr>
          <a:xfrm>
            <a:off x="468360" y="1413000"/>
            <a:ext cx="4895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611280" y="549360"/>
            <a:ext cx="813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ЗКУЛЬТМИНУ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7" descr="Клипы для детей"/>
          <p:cNvPicPr/>
          <p:nvPr/>
        </p:nvPicPr>
        <p:blipFill>
          <a:blip r:embed="rId2"/>
          <a:stretch/>
        </p:blipFill>
        <p:spPr>
          <a:xfrm>
            <a:off x="3059280" y="2781360"/>
            <a:ext cx="3062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46836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ПРЕОБРАЗУЙ ФИГУРУ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Правильный шестиугольник: чем он интересен и как его построить - FB.ru"/>
          <p:cNvPicPr/>
          <p:nvPr/>
        </p:nvPicPr>
        <p:blipFill>
          <a:blip r:embed="rId2"/>
          <a:stretch/>
        </p:blipFill>
        <p:spPr>
          <a:xfrm>
            <a:off x="324000" y="47628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Golden Harvest Paste графические заготовки Загрузить 453 clip arts (Страница 4) - ClipartLogo.com"/>
          <p:cNvPicPr/>
          <p:nvPr/>
        </p:nvPicPr>
        <p:blipFill>
          <a:blip r:embed="rId3"/>
          <a:stretch/>
        </p:blipFill>
        <p:spPr>
          <a:xfrm>
            <a:off x="4284720" y="2421000"/>
            <a:ext cx="43783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Проходной балл. . Поступаем вместе Поступаем вместе! . Фору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971640" y="1052640"/>
            <a:ext cx="5111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22861"/>
          <p:cNvPicPr/>
          <p:nvPr/>
        </p:nvPicPr>
        <p:blipFill>
          <a:blip r:embed="rId2"/>
          <a:stretch/>
        </p:blipFill>
        <p:spPr>
          <a:xfrm>
            <a:off x="0" y="404640"/>
            <a:ext cx="3063960" cy="3240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132000" y="1197000"/>
            <a:ext cx="561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Узнай фигуру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9" descr="geometricheskaya-figura-treugolnik"/>
          <p:cNvPicPr/>
          <p:nvPr/>
        </p:nvPicPr>
        <p:blipFill>
          <a:blip r:embed="rId3"/>
          <a:stretch/>
        </p:blipFill>
        <p:spPr>
          <a:xfrm>
            <a:off x="4859280" y="3860640"/>
            <a:ext cx="3676680" cy="27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geometricheskaya-figura-zilindr"/>
          <p:cNvPicPr/>
          <p:nvPr/>
        </p:nvPicPr>
        <p:blipFill>
          <a:blip r:embed="rId4"/>
          <a:stretch/>
        </p:blipFill>
        <p:spPr>
          <a:xfrm>
            <a:off x="755640" y="393372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ет углов у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А похож на блюдце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тарелку и на крыш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кольцо и коле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Кто же я такой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зовите вы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3851280" y="40464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УГ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Picture 10" descr="geometricheskaya-figura-krug"/>
          <p:cNvPicPr/>
          <p:nvPr/>
        </p:nvPicPr>
        <p:blipFill>
          <a:blip r:embed="rId4"/>
          <a:stretch/>
        </p:blipFill>
        <p:spPr>
          <a:xfrm>
            <a:off x="5148360" y="2133720"/>
            <a:ext cx="3465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1280" y="2276280"/>
            <a:ext cx="483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реугольник сунул 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реактивный пылес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– похож на яйц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как просто бук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почти как круг – мал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такой, как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67280" y="476280"/>
            <a:ext cx="424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cc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ВАЛ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cc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9" descr="1332563_5cl_enl[1]"/>
          <p:cNvPicPr/>
          <p:nvPr/>
        </p:nvPicPr>
        <p:blipFill>
          <a:blip r:embed="rId2"/>
          <a:stretch/>
        </p:blipFill>
        <p:spPr>
          <a:xfrm>
            <a:off x="179280" y="1628640"/>
            <a:ext cx="37720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420640"/>
            <a:ext cx="5770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лая рыба хвост – лоп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Откусила полквадра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Целый угол, верь не 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Кто ж он, бедненький, тепер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987640" y="620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УГОЛЬНИК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9" descr="geometricheskaya-figura-treugolnik[1]"/>
          <p:cNvPicPr/>
          <p:nvPr/>
        </p:nvPicPr>
        <p:blipFill>
          <a:blip r:embed="rId4"/>
          <a:stretch/>
        </p:blipFill>
        <p:spPr>
          <a:xfrm>
            <a:off x="5435640" y="2421000"/>
            <a:ext cx="3394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0" y="2781360"/>
            <a:ext cx="5338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тал квадрат на угол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кнулся носом в пот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верх он рос еще дней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теперь его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859280" y="620640"/>
            <a:ext cx="33609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66ff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Б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66ff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Picture 9" descr="31[1]"/>
          <p:cNvPicPr/>
          <p:nvPr/>
        </p:nvPicPr>
        <p:blipFill>
          <a:blip r:embed="rId2"/>
          <a:stretch/>
        </p:blipFill>
        <p:spPr>
          <a:xfrm>
            <a:off x="250920" y="549360"/>
            <a:ext cx="3354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546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без носа он, - о, боже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на юбочку пох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ее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еперь зову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3059280" y="549360"/>
            <a:ext cx="5583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cc"/>
                    </a:gs>
                    <a:gs pos="100000">
                      <a:srgbClr val="ff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АПЕЦИЯ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cc"/>
                  </a:gs>
                  <a:gs pos="100000">
                    <a:srgbClr val="ff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Picture 9" descr="geometricheskaya-figura-trapeziya[1]"/>
          <p:cNvPicPr/>
          <p:nvPr/>
        </p:nvPicPr>
        <p:blipFill>
          <a:blip r:embed="rId2"/>
          <a:stretch/>
        </p:blipFill>
        <p:spPr>
          <a:xfrm>
            <a:off x="4643280" y="299736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3:33Z</dcterms:created>
  <dc:creator>1</dc:creator>
  <dc:description/>
  <dc:language>en-US</dc:language>
  <cp:lastModifiedBy>1</cp:lastModifiedBy>
  <dcterms:modified xsi:type="dcterms:W3CDTF">2020-10-25T11:14:04Z</dcterms:modified>
  <cp:revision>6</cp:revision>
  <dc:subject/>
  <dc:title>Slide 1</dc:title>
</cp:coreProperties>
</file>