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2D5A-7B38-4368-81B5-3E72C71A17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5AAF-DF2B-4217-BEC8-03E38E3D44F1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7D14-C184-4C4D-A070-7B25F1F87CD6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FCCB-F5C5-465D-988F-FE3298F92223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00D-6FBC-4C0D-BDD9-D77BC54F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56D5-56FF-4753-BFB5-BC7DEF16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2DB4-8E15-4436-A213-F0074E2A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9F88-A2AC-4449-A1DC-8DB469D5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6EC3-D018-4857-847C-5E095F95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3020-7151-4ACF-A99C-A6EB976E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BC2A-C536-4D4C-9269-2A4CB737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2C9B-5D05-4AB1-A6D9-14F3490D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A1A7-A345-42DD-BC3E-04F485D9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C543-8AE8-4362-9546-8E469A81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AEE9-0007-4374-BDB5-2BD5C4BE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D7E6-BB10-4198-986B-97900949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35D9-548E-4CB5-BC0A-6F56D003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CC4B-7B81-4763-A2D4-05993CD5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4561-BC15-4C20-A372-E6542CFE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AA13-14AC-4EAF-9495-1A80AAB9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4BAF-3A51-4478-8E9A-42E18E48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E92681-B8B8-43F2-B14F-4B5EFE74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546F1-64F8-4FD7-AB29-5C3B8C73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A41FD2-3676-4F9E-B665-A6253897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FBAC48-A655-4603-BE30-61CC0E52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7ACB36-9EE6-4340-9577-6F7487D2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FBF3-3D5F-4D70-9D6D-B9440D0C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4D7C9-86D7-43FB-A58D-16000F28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54C62-E766-4040-8090-4A7C047A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D9E95B-84B2-41FE-8B53-3D4550AD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E2B395-4546-4237-A803-721EB95E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811042-2F42-4E55-AFE7-A5409ECF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EBEDE3-0990-4017-B583-07150283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DBA69E-8856-4AA5-89B8-CBD6D207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87B19-8830-4FDB-98EA-50BCB772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20895-8F9E-4345-9629-C07F326D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A406B-28DF-4856-BA63-9DD5AEAB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BE56-3DAC-4325-B7AC-244F3446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2F5BF-DFA5-4411-8909-A3A665A0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FC07A-D561-4C5D-BC59-10A03EBD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4E561-7EF3-4E22-A3A7-BEF4A4EB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16731-970D-414C-99B5-017FB37B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15D49-34D2-4ACB-918D-0C28F6D0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9AE96-5576-4089-8F2E-38FA8039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FE168-03EF-4C24-8057-85B1329B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E5F97-30A9-46C7-BCD5-468BA70F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EFD86-FDCC-4CB4-B475-71AA689C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DF33D0-2E01-4AF5-A9BA-EAF7C94C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E388-9519-452C-930F-77DE535B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51C3EE-6D7D-4485-8337-DE2E5B81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73D965-CE68-47C9-B787-EE976ED0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983A57-66D6-4D55-85E3-242069B6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B6DDF4-0E10-437B-99C0-51168A5D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365C4A-B429-494A-A0B7-53DA2D49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14BD69-5D83-4C00-9CD4-852E9D38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60757C-291E-4409-9F18-830A89A2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E0CFAD-D612-458C-A89A-551CA2F0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1104E5-75AF-4960-BE63-7B541F0D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A56C85-5370-45F7-BE36-C7908801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2749-FF77-448B-BFB8-D7BFA7FB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77D94C-2212-4EDA-8865-E4542DAB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69CD7F-AFE9-491E-AC45-267851AD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F11D40-31DD-46A7-B315-B0B4321C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499F8A-D545-42CD-A70F-56E701B4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B413FE-F595-4779-AEB3-E435E5B9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7A2E8C-D615-42D7-92C8-D803CAE2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CBAE9C-47FE-44FC-8CF5-917BB487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34AD5D-6089-40B8-8997-2F99297B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802F4D-9207-48B7-B125-AB9324CC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7C639C-2212-49B5-9A1F-AED09F59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7303-9A93-40F9-97F3-D51C6045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C89C81-0E77-4A0A-B310-19DCEE8F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2D70A6-6EAC-40FB-88D6-94215DAB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D980DF-C244-4A04-9E1B-E365DA33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3E8D35-99F4-4C04-9C61-D2C12C0C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5DA808-CEA9-445A-8860-8940EFED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863AD0-6DF5-45B6-B018-B6B33AFC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76662E-7327-43E7-A669-011A21C3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5A92F8-ADD0-4860-8891-E98E9048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3A3EDB-FB47-4AF6-8FB6-693118ED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CEA126-1B73-424C-B035-12D70EC1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BD2C-885C-4B34-95AE-ABC65A1B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4928B7-35D7-4F58-B504-A4AC094B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A614AA-3472-4EF9-91C2-FD9E2214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09FFBB-ADF8-4659-B42A-DF7FEC20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A3D6BC-FB45-4F1D-81D0-3D0718D4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9D08B2-98B4-4DCD-A13E-E9087C92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7D9E-4744-411F-A87E-C5BC060D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5A58-B0DD-4B36-9636-A9B8C0FC1FA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46B9-BDFD-4E77-AF21-E883B7672D4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F6B7-0FA7-4879-8FF6-F2D91151601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1872-4EE6-4B90-A903-55AA223B2C2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D72D-91BA-4A3E-A195-465C823CCEF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ACFE-C8B9-48BA-9086-B67C92D3822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6080-7656-4A42-BCDD-23FB054B730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«ФОРМЫ РАБОТЫ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С РОДИТЕЛЯМИ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В ПРОЕКТНОЙ ДЕЯТЕЛЬНОСТИ»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042920" y="3885840"/>
            <a:ext cx="78501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спитател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ведева Лидия Викторов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рдавлетова Ирина Анатольев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42920" y="142920"/>
            <a:ext cx="87501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роект   «Гордимся и  помним»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Прямоугольник 13"/>
          <p:cNvSpPr/>
          <p:nvPr/>
        </p:nvSpPr>
        <p:spPr>
          <a:xfrm>
            <a:off x="826920" y="4941720"/>
            <a:ext cx="68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Arial"/>
              </a:rPr>
              <a:t>родители и дети изготовили плакат ко дню Великой Победы с семейными  военными историями и фотографиям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73" name="Picture 6" descr="C:\Users\Elena\Documents\Копия работы\фотографии\Выставки\выставка 9 мая дс\P1020730.JPG"/>
          <p:cNvPicPr/>
          <p:nvPr/>
        </p:nvPicPr>
        <p:blipFill>
          <a:blip r:embed="rId1"/>
          <a:stretch/>
        </p:blipFill>
        <p:spPr>
          <a:xfrm>
            <a:off x="2268360" y="1052640"/>
            <a:ext cx="4751640" cy="4109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142920" y="142920"/>
            <a:ext cx="87501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роект   «Гордимся и  помним»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2" descr="E:\IMG_2647.jpg"/>
          <p:cNvPicPr/>
          <p:nvPr/>
        </p:nvPicPr>
        <p:blipFill>
          <a:blip r:embed="rId1"/>
          <a:stretch/>
        </p:blipFill>
        <p:spPr>
          <a:xfrm>
            <a:off x="539640" y="1341360"/>
            <a:ext cx="808056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42920" y="142920"/>
            <a:ext cx="87501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роект   «Гордимся и  помним»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Объект 4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3721320" cy="2791080"/>
          </a:xfrm>
          <a:prstGeom prst="rect">
            <a:avLst/>
          </a:prstGeom>
          <a:ln w="0">
            <a:noFill/>
          </a:ln>
        </p:spPr>
      </p:pic>
      <p:pic>
        <p:nvPicPr>
          <p:cNvPr id="378" name="Объект 5" descr=""/>
          <p:cNvPicPr/>
          <p:nvPr/>
        </p:nvPicPr>
        <p:blipFill>
          <a:blip r:embed="rId2"/>
          <a:stretch/>
        </p:blipFill>
        <p:spPr>
          <a:xfrm>
            <a:off x="4572000" y="2276640"/>
            <a:ext cx="4154400" cy="311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8"/>
          <p:cNvSpPr/>
          <p:nvPr/>
        </p:nvSpPr>
        <p:spPr>
          <a:xfrm>
            <a:off x="2195640" y="189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Arial"/>
              </a:rPr>
              <a:t>Делали поделки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80" name="Объект 5" descr=""/>
          <p:cNvPicPr/>
          <p:nvPr/>
        </p:nvPicPr>
        <p:blipFill>
          <a:blip r:embed="rId1"/>
          <a:stretch/>
        </p:blipFill>
        <p:spPr>
          <a:xfrm>
            <a:off x="2124000" y="836640"/>
            <a:ext cx="4602240" cy="3452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C:\Users\Elena\Documents\Копия работы\фотографии\Выставки\выставка 9 мая дс\P1020739.JPG"/>
          <p:cNvPicPr/>
          <p:nvPr/>
        </p:nvPicPr>
        <p:blipFill>
          <a:blip r:embed="rId2"/>
          <a:stretch/>
        </p:blipFill>
        <p:spPr>
          <a:xfrm>
            <a:off x="5268960" y="413064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C:\Users\Elena\Documents\Копия работы\фотографии\Выставки\9 мая\P1010162.JPG"/>
          <p:cNvPicPr/>
          <p:nvPr/>
        </p:nvPicPr>
        <p:blipFill>
          <a:blip r:embed="rId3"/>
          <a:stretch/>
        </p:blipFill>
        <p:spPr>
          <a:xfrm>
            <a:off x="250920" y="4149720"/>
            <a:ext cx="361296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10"/>
          <p:cNvSpPr/>
          <p:nvPr/>
        </p:nvSpPr>
        <p:spPr>
          <a:xfrm>
            <a:off x="826920" y="26028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  <a:ea typeface="Arial"/>
              </a:rPr>
              <a:t>Проект  «Моя любимая мамочка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84" name="Picture 5" descr="IMG_0010_resize"/>
          <p:cNvPicPr/>
          <p:nvPr/>
        </p:nvPicPr>
        <p:blipFill>
          <a:blip r:embed="rId1"/>
          <a:stretch/>
        </p:blipFill>
        <p:spPr>
          <a:xfrm>
            <a:off x="179280" y="83664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IMG_0014_resize"/>
          <p:cNvPicPr/>
          <p:nvPr/>
        </p:nvPicPr>
        <p:blipFill>
          <a:blip r:embed="rId2"/>
          <a:stretch/>
        </p:blipFill>
        <p:spPr>
          <a:xfrm>
            <a:off x="4932360" y="83664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IMG_8667_resize"/>
          <p:cNvPicPr/>
          <p:nvPr/>
        </p:nvPicPr>
        <p:blipFill>
          <a:blip r:embed="rId3"/>
          <a:stretch/>
        </p:blipFill>
        <p:spPr>
          <a:xfrm>
            <a:off x="539640" y="386064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IMG_8672_resize"/>
          <p:cNvPicPr/>
          <p:nvPr/>
        </p:nvPicPr>
        <p:blipFill>
          <a:blip r:embed="rId4"/>
          <a:stretch/>
        </p:blipFill>
        <p:spPr>
          <a:xfrm>
            <a:off x="4643280" y="3897360"/>
            <a:ext cx="3673800" cy="275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роект «Мой родной город»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9" descr="Изображение 054"/>
          <p:cNvPicPr/>
          <p:nvPr/>
        </p:nvPicPr>
        <p:blipFill>
          <a:blip r:embed="rId1"/>
          <a:stretch/>
        </p:blipFill>
        <p:spPr>
          <a:xfrm>
            <a:off x="684360" y="1557360"/>
            <a:ext cx="3524040" cy="2643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1" descr="площадб Победы"/>
          <p:cNvPicPr/>
          <p:nvPr/>
        </p:nvPicPr>
        <p:blipFill>
          <a:blip r:embed="rId2"/>
          <a:stretch/>
        </p:blipFill>
        <p:spPr>
          <a:xfrm>
            <a:off x="5076720" y="1557360"/>
            <a:ext cx="3357720" cy="20145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0" descr="мост"/>
          <p:cNvPicPr/>
          <p:nvPr/>
        </p:nvPicPr>
        <p:blipFill>
          <a:blip r:embed="rId3"/>
          <a:stretch/>
        </p:blipFill>
        <p:spPr>
          <a:xfrm>
            <a:off x="755640" y="4508640"/>
            <a:ext cx="3240000" cy="1726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2" descr="фонтан"/>
          <p:cNvPicPr/>
          <p:nvPr/>
        </p:nvPicPr>
        <p:blipFill>
          <a:blip r:embed="rId4"/>
          <a:stretch/>
        </p:blipFill>
        <p:spPr>
          <a:xfrm>
            <a:off x="4716360" y="4076640"/>
            <a:ext cx="3930840" cy="2357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роект «Мой родной город»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4" name="Picture 2" descr="C:\Users\Elena\Desktop\3 001.jpg"/>
          <p:cNvPicPr/>
          <p:nvPr/>
        </p:nvPicPr>
        <p:blipFill>
          <a:blip r:embed="rId1"/>
          <a:stretch/>
        </p:blipFill>
        <p:spPr>
          <a:xfrm>
            <a:off x="395280" y="3875040"/>
            <a:ext cx="4392720" cy="2649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C:\Users\Elena\Desktop\4 001.jpg"/>
          <p:cNvPicPr/>
          <p:nvPr/>
        </p:nvPicPr>
        <p:blipFill>
          <a:blip r:embed="rId2"/>
          <a:stretch/>
        </p:blipFill>
        <p:spPr>
          <a:xfrm>
            <a:off x="3664080" y="1052640"/>
            <a:ext cx="494028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оугольник 1"/>
          <p:cNvSpPr/>
          <p:nvPr/>
        </p:nvSpPr>
        <p:spPr>
          <a:xfrm>
            <a:off x="1476360" y="40464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aramond"/>
                <a:ea typeface="Arial"/>
              </a:rPr>
              <a:t>Проект  «Гость группы» 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97" name="Picture 3" descr="IMG_0363_resize"/>
          <p:cNvPicPr/>
          <p:nvPr/>
        </p:nvPicPr>
        <p:blipFill>
          <a:blip r:embed="rId1"/>
          <a:stretch/>
        </p:blipFill>
        <p:spPr>
          <a:xfrm>
            <a:off x="468360" y="1225440"/>
            <a:ext cx="3527280" cy="26463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IMG_0366_resize"/>
          <p:cNvPicPr/>
          <p:nvPr/>
        </p:nvPicPr>
        <p:blipFill>
          <a:blip r:embed="rId2"/>
          <a:stretch/>
        </p:blipFill>
        <p:spPr>
          <a:xfrm>
            <a:off x="4643280" y="119700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IMG_0373_resize"/>
          <p:cNvPicPr/>
          <p:nvPr/>
        </p:nvPicPr>
        <p:blipFill>
          <a:blip r:embed="rId3"/>
          <a:stretch/>
        </p:blipFill>
        <p:spPr>
          <a:xfrm>
            <a:off x="2843280" y="3933720"/>
            <a:ext cx="3709800" cy="2779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2"/>
          <p:cNvSpPr/>
          <p:nvPr/>
        </p:nvSpPr>
        <p:spPr>
          <a:xfrm>
            <a:off x="684360" y="333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Arial"/>
              </a:rPr>
              <a:t>Экскурсия для родителей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Arial"/>
              </a:rPr>
              <a:t>«Жанры русской живописи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01" name="Содержимое 3" descr="Совместная работа с родителями (1).JPG"/>
          <p:cNvPicPr/>
          <p:nvPr/>
        </p:nvPicPr>
        <p:blipFill>
          <a:blip r:embed="rId1"/>
          <a:stretch/>
        </p:blipFill>
        <p:spPr>
          <a:xfrm>
            <a:off x="4643280" y="3213000"/>
            <a:ext cx="4392720" cy="3294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9" descr="S3020466"/>
          <p:cNvPicPr/>
          <p:nvPr/>
        </p:nvPicPr>
        <p:blipFill>
          <a:blip r:embed="rId2"/>
          <a:stretch/>
        </p:blipFill>
        <p:spPr>
          <a:xfrm>
            <a:off x="324000" y="1484280"/>
            <a:ext cx="4679640" cy="3409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Прямоугольник 5"/>
          <p:cNvSpPr/>
          <p:nvPr/>
        </p:nvSpPr>
        <p:spPr>
          <a:xfrm>
            <a:off x="1258920" y="54936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Arial"/>
              </a:rPr>
              <a:t>Проект «Гербы городов Красноярья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04" name="Picture 8" descr="DSC_0009"/>
          <p:cNvPicPr/>
          <p:nvPr/>
        </p:nvPicPr>
        <p:blipFill>
          <a:blip r:embed="rId1"/>
          <a:stretch/>
        </p:blipFill>
        <p:spPr>
          <a:xfrm>
            <a:off x="250920" y="1341360"/>
            <a:ext cx="2379600" cy="4896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0" descr="DSC_0013"/>
          <p:cNvPicPr/>
          <p:nvPr/>
        </p:nvPicPr>
        <p:blipFill>
          <a:blip r:embed="rId2"/>
          <a:stretch/>
        </p:blipFill>
        <p:spPr>
          <a:xfrm>
            <a:off x="5292720" y="1268280"/>
            <a:ext cx="1660680" cy="24051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9" descr="DSC_0010"/>
          <p:cNvPicPr/>
          <p:nvPr/>
        </p:nvPicPr>
        <p:blipFill>
          <a:blip r:embed="rId3"/>
          <a:stretch/>
        </p:blipFill>
        <p:spPr>
          <a:xfrm>
            <a:off x="2843280" y="1341360"/>
            <a:ext cx="2171520" cy="48960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DSC_0015"/>
          <p:cNvPicPr/>
          <p:nvPr/>
        </p:nvPicPr>
        <p:blipFill>
          <a:blip r:embed="rId4"/>
          <a:stretch/>
        </p:blipFill>
        <p:spPr>
          <a:xfrm>
            <a:off x="5219640" y="3716280"/>
            <a:ext cx="1784520" cy="25495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2" descr="DSC_0016"/>
          <p:cNvPicPr/>
          <p:nvPr/>
        </p:nvPicPr>
        <p:blipFill>
          <a:blip r:embed="rId5"/>
          <a:stretch/>
        </p:blipFill>
        <p:spPr>
          <a:xfrm>
            <a:off x="7164360" y="1268280"/>
            <a:ext cx="1609920" cy="23749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3" descr="DSC_0017"/>
          <p:cNvPicPr/>
          <p:nvPr/>
        </p:nvPicPr>
        <p:blipFill>
          <a:blip r:embed="rId6"/>
          <a:stretch/>
        </p:blipFill>
        <p:spPr>
          <a:xfrm>
            <a:off x="7093080" y="3716280"/>
            <a:ext cx="1726920" cy="2490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РЕЗУЛЬТАТЫ ИССЛЕДОВАНИЯ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34100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"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Сколько времени родители уделяют своим детям в плане игр и занятий, в плане воспитания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":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ольше часа - 66%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 30 мин до 1 часа - 14 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 15 мин до 30 мин - 5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 5 мин до 15 мин - 15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0" descr="IMG_2515"/>
          <p:cNvPicPr/>
          <p:nvPr/>
        </p:nvPicPr>
        <p:blipFill>
          <a:blip r:embed="rId1"/>
          <a:stretch/>
        </p:blipFill>
        <p:spPr>
          <a:xfrm>
            <a:off x="457200" y="2513160"/>
            <a:ext cx="3657600" cy="2746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1" descr="image"/>
          <p:cNvPicPr/>
          <p:nvPr/>
        </p:nvPicPr>
        <p:blipFill>
          <a:blip r:embed="rId2"/>
          <a:stretch/>
        </p:blipFill>
        <p:spPr>
          <a:xfrm>
            <a:off x="4813200" y="1600200"/>
            <a:ext cx="2571840" cy="457200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5"/>
          <p:cNvSpPr/>
          <p:nvPr/>
        </p:nvSpPr>
        <p:spPr>
          <a:xfrm>
            <a:off x="1258920" y="549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Arial"/>
              </a:rPr>
              <a:t>Проект «Север нашего края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5" descr="IMG_2422"/>
          <p:cNvPicPr/>
          <p:nvPr/>
        </p:nvPicPr>
        <p:blipFill>
          <a:blip r:embed="rId1"/>
          <a:stretch/>
        </p:blipFill>
        <p:spPr>
          <a:xfrm>
            <a:off x="1116000" y="549360"/>
            <a:ext cx="6912000" cy="518472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6"/>
          <p:cNvSpPr/>
          <p:nvPr/>
        </p:nvSpPr>
        <p:spPr>
          <a:xfrm>
            <a:off x="2700360" y="602136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Arial"/>
              </a:rPr>
              <a:t>Мини-музей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3" descr="IMG_2470"/>
          <p:cNvPicPr/>
          <p:nvPr/>
        </p:nvPicPr>
        <p:blipFill>
          <a:blip r:embed="rId1"/>
          <a:stretch/>
        </p:blipFill>
        <p:spPr>
          <a:xfrm>
            <a:off x="250920" y="404640"/>
            <a:ext cx="4608360" cy="34578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4" descr="IMG_2468"/>
          <p:cNvPicPr/>
          <p:nvPr/>
        </p:nvPicPr>
        <p:blipFill>
          <a:blip r:embed="rId2"/>
          <a:stretch/>
        </p:blipFill>
        <p:spPr>
          <a:xfrm>
            <a:off x="5076720" y="1989000"/>
            <a:ext cx="3657600" cy="274176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15"/>
          <p:cNvSpPr/>
          <p:nvPr/>
        </p:nvSpPr>
        <p:spPr>
          <a:xfrm>
            <a:off x="5651640" y="4941720"/>
            <a:ext cx="280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Arial"/>
              </a:rPr>
              <a:t>Родители составили альбом с играми, изготовили атрибуты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8" name="Text Box 16"/>
          <p:cNvSpPr/>
          <p:nvPr/>
        </p:nvSpPr>
        <p:spPr>
          <a:xfrm>
            <a:off x="395280" y="407664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Arial"/>
              </a:rPr>
              <a:t>Альбом «Народная мудрость эвенков» работа родителей в Интернете подборка пословиц, поговорок, загадок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ДБОРКА КАРТИНОК И ЛИТЕРАТУРЫ ПО ТЕМЕ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0" name="Picture 12" descr="IMG_2464"/>
          <p:cNvPicPr/>
          <p:nvPr/>
        </p:nvPicPr>
        <p:blipFill>
          <a:blip r:embed="rId1"/>
          <a:stretch/>
        </p:blipFill>
        <p:spPr>
          <a:xfrm>
            <a:off x="324000" y="1628640"/>
            <a:ext cx="4171680" cy="31291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3" descr="IMG_2467"/>
          <p:cNvPicPr/>
          <p:nvPr/>
        </p:nvPicPr>
        <p:blipFill>
          <a:blip r:embed="rId2"/>
          <a:stretch/>
        </p:blipFill>
        <p:spPr>
          <a:xfrm>
            <a:off x="4270320" y="25146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14"/>
          <p:cNvSpPr/>
          <p:nvPr/>
        </p:nvSpPr>
        <p:spPr>
          <a:xfrm>
            <a:off x="684360" y="5157720"/>
            <a:ext cx="33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  <a:ea typeface="Arial"/>
              </a:rPr>
              <a:t>Групповая библиотек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5292720" y="5877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  <a:ea typeface="Arial"/>
              </a:rPr>
              <a:t>Фотоальбом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РОЕКТ «ПРОФЕССИИ В МОЕЙ СЕМЬЕ»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5" name="Picture 4" descr="C:\Users\Elena\Desktop\1 001.jpg"/>
          <p:cNvPicPr/>
          <p:nvPr/>
        </p:nvPicPr>
        <p:blipFill>
          <a:blip r:embed="rId1"/>
          <a:stretch/>
        </p:blipFill>
        <p:spPr>
          <a:xfrm>
            <a:off x="179280" y="1413000"/>
            <a:ext cx="3202200" cy="4680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C:\Users\Elena\Desktop\2 001.jpg"/>
          <p:cNvPicPr/>
          <p:nvPr/>
        </p:nvPicPr>
        <p:blipFill>
          <a:blip r:embed="rId2"/>
          <a:stretch/>
        </p:blipFill>
        <p:spPr>
          <a:xfrm>
            <a:off x="3510000" y="2205000"/>
            <a:ext cx="5151240" cy="3745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оугольник 5"/>
          <p:cNvSpPr/>
          <p:nvPr/>
        </p:nvSpPr>
        <p:spPr>
          <a:xfrm>
            <a:off x="684360" y="54936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Arial"/>
              </a:rPr>
              <a:t>Проекты детского сад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28" name="Picture 4" descr="C:\Users\Elena\Documents\Копия работы\фотографии\9 мая 2010\Проходят года 2010 2\P1020925.JPG"/>
          <p:cNvPicPr/>
          <p:nvPr/>
        </p:nvPicPr>
        <p:blipFill>
          <a:blip r:embed="rId1"/>
          <a:stretch/>
        </p:blipFill>
        <p:spPr>
          <a:xfrm>
            <a:off x="108000" y="1197000"/>
            <a:ext cx="4319640" cy="30081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5" descr="C:\Users\Elena\Documents\Копия работы\фотографии\концерты\акуна-матата\P1060854.JPG"/>
          <p:cNvPicPr/>
          <p:nvPr/>
        </p:nvPicPr>
        <p:blipFill>
          <a:blip r:embed="rId2"/>
          <a:stretch/>
        </p:blipFill>
        <p:spPr>
          <a:xfrm>
            <a:off x="3924360" y="3141720"/>
            <a:ext cx="4788000" cy="3527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" descr="C:\Users\Elena\Desktop\Слайд7.jpg"/>
          <p:cNvPicPr/>
          <p:nvPr/>
        </p:nvPicPr>
        <p:blipFill>
          <a:blip r:embed="rId1"/>
          <a:stretch/>
        </p:blipFill>
        <p:spPr>
          <a:xfrm>
            <a:off x="1042920" y="1268280"/>
            <a:ext cx="6900840" cy="489744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5"/>
          <p:cNvSpPr/>
          <p:nvPr/>
        </p:nvSpPr>
        <p:spPr>
          <a:xfrm>
            <a:off x="684360" y="549360"/>
            <a:ext cx="73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Arial"/>
              </a:rPr>
              <a:t>Проект детского сада «Радуга талантов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5"/>
          <p:cNvSpPr/>
          <p:nvPr/>
        </p:nvSpPr>
        <p:spPr>
          <a:xfrm>
            <a:off x="611280" y="242100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  <a:ea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ПРИЧИНЫ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34100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лчаса на воспитание - проблемный вопрос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рудная материальная жизн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силье телевизионных программ и новых компьютерных игр, интернет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т общих интересов и точек соприкосновения у членов семь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умение и нежелание взрослых организовать совместный семейный труд и отды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живания ребенка редко волнуют родителей, особенно в неблагополучных семья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ПРОЕКТНЫЙ МЕТОД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вместное выполнение замысла ребёнком и его родителями укрепляет детско-родительские отноше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285480" y="428760"/>
            <a:ext cx="86072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. Густомясова выделяет следующие преимущества совместной проектной деятельности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1. Обеспечение личностно ориентированного взаимодействия педагога и ребёнк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2. Формирование компетентности родителей в вопросах воспитания их дете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3. Установление партнёрского взаимодействия с родителям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610920" y="1268280"/>
            <a:ext cx="8281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своей работе мы в основном  реализуем исследовательские проекты, направленные на развитие познавательных и коммуникативных способностей  дошкольник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5840" y="357120"/>
            <a:ext cx="83534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Тематика проектов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атриотические - «Мой родной город», «Мой Красноярский карай», «Гербы городов Красноярья», «Наши добрые соседи – хакасы», «Север нашего края», «Гордимся и помним» ко Дню Победы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равственные – «Нет лучше дружка, чем родная матушка», «Древо моей семьи», «Моя любимая мама», «Профессии в моей семье»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знавательные – «Новый год шагает по планете», «Весенние народные праздники России», «Картинная галерея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285480" y="428760"/>
            <a:ext cx="83725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Формы работы по проектам с родителям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ставление адаптированных рассказов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рисовать с ребенком рисунок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дбор и заучивание стихов, пословиц по тематике проект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285480" y="428760"/>
            <a:ext cx="83725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Формы работы по проектам с родителям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фото-отчеты по результатам экскурсий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ставление модели детского рассказа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зготовление макетов объектов проекта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частие в создании  мини- музеев в групп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зготовлении декорации, макетов, костюмов к праздникам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оведение родителями практикумов с детьми в рамках проекта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епосредственное участие в праздниках- презентациях проект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13:27:58Z</dcterms:created>
  <dc:creator>Хома</dc:creator>
  <dc:description/>
  <dc:language>en-US</dc:language>
  <cp:lastModifiedBy>леон куз</cp:lastModifiedBy>
  <dcterms:modified xsi:type="dcterms:W3CDTF">2023-09-19T16:24:36Z</dcterms:modified>
  <cp:revision>58</cp:revision>
  <dc:subject/>
  <dc:title>Детско-родительский проект «Север нашего края»</dc:title>
</cp:coreProperties>
</file>