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1BE-C38E-451A-8AA3-5A3F45526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EA8-3294-42F9-A8FA-3CBEAACEB75F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689-9A83-4885-87D7-E3BC77335B5F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C65-F29C-426A-87FF-51A2F2A533E2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4D9-9577-4F40-93D3-A19E1203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3CF-93C8-4DD7-8CDB-EBE9E9E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5F0-32F7-4C40-B07A-80B5BADE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C9D-03C6-4EF7-A0CC-0B513A92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99B-972A-406D-B006-00EDE8CF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FB1-E1FC-4375-84CA-9E49216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BBCE-108A-4351-979E-5544201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785-EEA3-486F-8048-B1D44FE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0603-DD6E-43CC-8889-A1B6A1F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CBA0-CF60-4C97-89D4-440C565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693F-4927-4163-9A5B-22077D0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44C-EC4B-4AE3-B5BC-12403592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AB5D-5A28-45A5-A872-1F467D5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1D74-6497-4243-A36A-40E2806B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ED9D-69D4-4982-A195-D1ABC67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1674-B276-41B3-87B4-7B60A93D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09CE-D5F9-43D9-87FB-865C9E54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38001-FBBC-4EEB-9EF4-C0656017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340EA-7686-4E74-837A-12AA163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A98CC-EE46-4B81-BEBA-FE198138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13E98-7AA6-4E8B-A0D0-F3A7104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351D7-C2F6-477D-A726-FD3AA823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9F2-CF5E-4F0F-BCF5-5118AF80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DCCCA-73E6-4435-B436-AFFDBF8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1FEF7-6940-4F2B-9290-A82DBC0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C21FF-2FB0-4E84-B041-18014FE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3B14C-F813-4FD7-8C93-D1C4D88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306D-C4F9-492C-BA99-07A0BEE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8F3D7-EC8D-4727-B6D3-BADF42D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071B4-85A0-4EF2-A4FC-638939F6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39DE-DB9A-4BF0-B327-DBCF64E1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E506-979C-4537-BF0B-22FD2CC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6837-AED6-41BE-AE80-73311B42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FDE-7086-46D1-B8F3-12F35A4C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A0FE-7FE1-4B89-AC26-A1FF45DD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B139-D723-4511-BD02-AF86C54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1F8C-EFA2-4008-A496-A703DED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4253-6B0C-4B83-B6C4-8F35248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A43D-3114-413D-A09F-E13044A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8557-3D61-4899-8960-C93B69F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FB72-8EBF-48C7-AFD4-1854BC2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DD20-793A-4128-A237-50DC4AC9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4528-1554-49D0-8938-A637E5EC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1F406-9727-4CB6-AD44-37FBEC74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549-B391-43CA-8B2A-0977410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D3255-1437-4FCF-AF7B-3F97DFE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E2D2A-4438-410C-B716-C6CDF38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F2A0A-F03E-40FE-BBF0-5305FCC1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CD44E-650E-464C-93C6-8C1D333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D14D4-A12C-4AB1-9445-6790622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6F8D1-B9D6-4864-AAD9-20953A05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12A1C-FDFA-4D07-B5A2-ECCECFA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B3FF9-49F7-4C2D-9029-318E7DC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2E220-6794-447D-8457-1020668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F9E86-76FD-4098-9394-082BBC54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F89-3D0D-458B-9BD6-26893F1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73E7B-A12F-430A-A936-181B1D7E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C2CA7-1203-43EE-A73D-67BC3B1F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CF321-9EFE-4005-8213-834E174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7507E-7EE9-4CA7-B0DB-60DE24E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7D2F1-5164-4A4C-B566-DA8EFE2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18D85-8FA1-4BBA-9C64-7893140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87B27-AC84-4A5F-B9E2-5C6E0E79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0E4C9-A4D9-400E-97EC-49771C0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4BBC4-4C71-470C-AE5E-2682030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14BF0-6947-4F99-A2D9-08D9F12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A20-1D55-44F1-9895-F3AD00A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A9545-C040-47DC-8823-33236642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53A59-D305-4B5B-A49C-52AA3A72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56FE6-5272-494E-AE77-FF27A337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A7EF4-CB14-4AC8-9C1D-6AA90ED1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09749-1F31-4999-B19F-71B5CF18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2B7A5-2BD8-4F7A-ABB3-7E00882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81B6F-C69F-47A7-A637-39843F7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C9D6D-BD84-4DCC-856F-12DA3BB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56DE4-5F13-4D73-90D5-BC06D49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61E61-4492-4BD9-B88E-3184AB7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5A7-375A-4248-8BBC-D9F2C46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CE5F7-91E8-4210-AD3B-2FE33C7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F1441-F212-45C1-935F-8DBC0E2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C99E5-0714-420D-8C94-BF4FD51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023C9-6863-490E-B4C0-3EF960D5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13436-DF92-4E2B-A0D0-C7D972C9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819-8D11-4551-A316-B5F154C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137C-C129-4F3E-B0F9-888A4CEBE5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7BF-6001-4A41-A8B9-103BFD7FBB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74B-7348-40F3-B0B4-D61A444533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69A7-1EC3-4B33-9433-2B4816B47B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385-CD51-4E3E-A284-94778E94ED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28CF-BA3B-4A61-9DEA-4F51E9A503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8304-108C-46B7-B453-2505589EBE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ФОРМЫ РАБОТ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С РОДИТЕЛЯМ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В ПРОЕКТНОЙ ДЕЯТЕЛЬНОСТИ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3885840"/>
            <a:ext cx="78501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ведева Лидия Викто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рдавлетова Ирина Анатоль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826920" y="494172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и дети изготовили плакат ко дню Великой Победы с семейными  военными историями и фотографиям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3" name="Picture 6" descr="C:\Users\Elena\Documents\Копия работы\фотографии\Выставки\выставка 9 мая дс\P1020730.JPG"/>
          <p:cNvPicPr/>
          <p:nvPr/>
        </p:nvPicPr>
        <p:blipFill>
          <a:blip r:embed="rId1"/>
          <a:stretch/>
        </p:blipFill>
        <p:spPr>
          <a:xfrm>
            <a:off x="2268360" y="1052640"/>
            <a:ext cx="4751640" cy="410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E:\IMG_2647.jpg"/>
          <p:cNvPicPr/>
          <p:nvPr/>
        </p:nvPicPr>
        <p:blipFill>
          <a:blip r:embed="rId1"/>
          <a:stretch/>
        </p:blipFill>
        <p:spPr>
          <a:xfrm>
            <a:off x="539640" y="1341360"/>
            <a:ext cx="808056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721320" cy="279108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5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154400" cy="311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8"/>
          <p:cNvSpPr/>
          <p:nvPr/>
        </p:nvSpPr>
        <p:spPr>
          <a:xfrm>
            <a:off x="219564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Делали поделки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0" name="Объект 5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602240" cy="3452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C:\Users\Elena\Documents\Копия работы\фотографии\Выставки\выставка 9 мая дс\P1020739.JPG"/>
          <p:cNvPicPr/>
          <p:nvPr/>
        </p:nvPicPr>
        <p:blipFill>
          <a:blip r:embed="rId2"/>
          <a:stretch/>
        </p:blipFill>
        <p:spPr>
          <a:xfrm>
            <a:off x="526896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Elena\Documents\Копия работы\фотографии\Выставки\9 мая\P1010162.JPG"/>
          <p:cNvPicPr/>
          <p:nvPr/>
        </p:nvPicPr>
        <p:blipFill>
          <a:blip r:embed="rId3"/>
          <a:stretch/>
        </p:blipFill>
        <p:spPr>
          <a:xfrm>
            <a:off x="250920" y="4149720"/>
            <a:ext cx="361296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0"/>
          <p:cNvSpPr/>
          <p:nvPr/>
        </p:nvSpPr>
        <p:spPr>
          <a:xfrm>
            <a:off x="826920" y="2602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Моя любимая мамочка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4" name="Picture 5" descr="IMG_0010_resize"/>
          <p:cNvPicPr/>
          <p:nvPr/>
        </p:nvPicPr>
        <p:blipFill>
          <a:blip r:embed="rId1"/>
          <a:stretch/>
        </p:blipFill>
        <p:spPr>
          <a:xfrm>
            <a:off x="17928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IMG_0014_resize"/>
          <p:cNvPicPr/>
          <p:nvPr/>
        </p:nvPicPr>
        <p:blipFill>
          <a:blip r:embed="rId2"/>
          <a:stretch/>
        </p:blipFill>
        <p:spPr>
          <a:xfrm>
            <a:off x="493236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MG_8667_resize"/>
          <p:cNvPicPr/>
          <p:nvPr/>
        </p:nvPicPr>
        <p:blipFill>
          <a:blip r:embed="rId3"/>
          <a:stretch/>
        </p:blipFill>
        <p:spPr>
          <a:xfrm>
            <a:off x="539640" y="38606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IMG_8672_resize"/>
          <p:cNvPicPr/>
          <p:nvPr/>
        </p:nvPicPr>
        <p:blipFill>
          <a:blip r:embed="rId4"/>
          <a:stretch/>
        </p:blipFill>
        <p:spPr>
          <a:xfrm>
            <a:off x="4643280" y="3897360"/>
            <a:ext cx="367380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684360" y="155736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5076720" y="1557360"/>
            <a:ext cx="3357720" cy="201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мост"/>
          <p:cNvPicPr/>
          <p:nvPr/>
        </p:nvPicPr>
        <p:blipFill>
          <a:blip r:embed="rId3"/>
          <a:stretch/>
        </p:blipFill>
        <p:spPr>
          <a:xfrm>
            <a:off x="755640" y="4508640"/>
            <a:ext cx="3240000" cy="172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фонтан"/>
          <p:cNvPicPr/>
          <p:nvPr/>
        </p:nvPicPr>
        <p:blipFill>
          <a:blip r:embed="rId4"/>
          <a:stretch/>
        </p:blipFill>
        <p:spPr>
          <a:xfrm>
            <a:off x="4716360" y="4076640"/>
            <a:ext cx="3930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C:\Users\Elena\Desktop\3 001.jpg"/>
          <p:cNvPicPr/>
          <p:nvPr/>
        </p:nvPicPr>
        <p:blipFill>
          <a:blip r:embed="rId1"/>
          <a:stretch/>
        </p:blipFill>
        <p:spPr>
          <a:xfrm>
            <a:off x="395280" y="3875040"/>
            <a:ext cx="4392720" cy="2649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Elena\Desktop\4 001.jpg"/>
          <p:cNvPicPr/>
          <p:nvPr/>
        </p:nvPicPr>
        <p:blipFill>
          <a:blip r:embed="rId2"/>
          <a:stretch/>
        </p:blipFill>
        <p:spPr>
          <a:xfrm>
            <a:off x="3664080" y="1052640"/>
            <a:ext cx="494028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1476360" y="404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Гость группы»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7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12254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11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G_0373_resize"/>
          <p:cNvPicPr/>
          <p:nvPr/>
        </p:nvPicPr>
        <p:blipFill>
          <a:blip r:embed="rId3"/>
          <a:stretch/>
        </p:blipFill>
        <p:spPr>
          <a:xfrm>
            <a:off x="2843280" y="3933720"/>
            <a:ext cx="3709800" cy="277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2"/>
          <p:cNvSpPr/>
          <p:nvPr/>
        </p:nvSpPr>
        <p:spPr>
          <a:xfrm>
            <a:off x="684360" y="333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Экскурсия для родителе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«Жанры русской живопис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1" name="Содержимое 3" descr="Совместная работа с родителями (1).JPG"/>
          <p:cNvPicPr/>
          <p:nvPr/>
        </p:nvPicPr>
        <p:blipFill>
          <a:blip r:embed="rId1"/>
          <a:stretch/>
        </p:blipFill>
        <p:spPr>
          <a:xfrm>
            <a:off x="4643280" y="3213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S3020466"/>
          <p:cNvPicPr/>
          <p:nvPr/>
        </p:nvPicPr>
        <p:blipFill>
          <a:blip r:embed="rId2"/>
          <a:stretch/>
        </p:blipFill>
        <p:spPr>
          <a:xfrm>
            <a:off x="324000" y="1484280"/>
            <a:ext cx="46796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5"/>
          <p:cNvSpPr/>
          <p:nvPr/>
        </p:nvSpPr>
        <p:spPr>
          <a:xfrm>
            <a:off x="1258920" y="54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Гербы городов Красноярь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8" descr="DSC_0009"/>
          <p:cNvPicPr/>
          <p:nvPr/>
        </p:nvPicPr>
        <p:blipFill>
          <a:blip r:embed="rId1"/>
          <a:stretch/>
        </p:blipFill>
        <p:spPr>
          <a:xfrm>
            <a:off x="250920" y="1341360"/>
            <a:ext cx="2379600" cy="4896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DSC_0013"/>
          <p:cNvPicPr/>
          <p:nvPr/>
        </p:nvPicPr>
        <p:blipFill>
          <a:blip r:embed="rId2"/>
          <a:stretch/>
        </p:blipFill>
        <p:spPr>
          <a:xfrm>
            <a:off x="5292720" y="1268280"/>
            <a:ext cx="1660680" cy="2405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DSC_0010"/>
          <p:cNvPicPr/>
          <p:nvPr/>
        </p:nvPicPr>
        <p:blipFill>
          <a:blip r:embed="rId3"/>
          <a:stretch/>
        </p:blipFill>
        <p:spPr>
          <a:xfrm>
            <a:off x="2843280" y="1341360"/>
            <a:ext cx="2171520" cy="489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DSC_0015"/>
          <p:cNvPicPr/>
          <p:nvPr/>
        </p:nvPicPr>
        <p:blipFill>
          <a:blip r:embed="rId4"/>
          <a:stretch/>
        </p:blipFill>
        <p:spPr>
          <a:xfrm>
            <a:off x="5219640" y="3716280"/>
            <a:ext cx="1784520" cy="254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DSC_0016"/>
          <p:cNvPicPr/>
          <p:nvPr/>
        </p:nvPicPr>
        <p:blipFill>
          <a:blip r:embed="rId5"/>
          <a:stretch/>
        </p:blipFill>
        <p:spPr>
          <a:xfrm>
            <a:off x="7164360" y="1268280"/>
            <a:ext cx="1609920" cy="2374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3" descr="DSC_0017"/>
          <p:cNvPicPr/>
          <p:nvPr/>
        </p:nvPicPr>
        <p:blipFill>
          <a:blip r:embed="rId6"/>
          <a:stretch/>
        </p:blipFill>
        <p:spPr>
          <a:xfrm>
            <a:off x="7093080" y="3716280"/>
            <a:ext cx="172692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времени родители уделяют своим детям в плане игр и занятий, в плане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е часа - 66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30 мин до 1 часа - 14 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15 мин до 30 мин - 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5 мин до 15 мин - 1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0" descr="IMG_2515"/>
          <p:cNvPicPr/>
          <p:nvPr/>
        </p:nvPicPr>
        <p:blipFill>
          <a:blip r:embed="rId1"/>
          <a:stretch/>
        </p:blipFill>
        <p:spPr>
          <a:xfrm>
            <a:off x="457200" y="2513160"/>
            <a:ext cx="3657600" cy="2746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image"/>
          <p:cNvPicPr/>
          <p:nvPr/>
        </p:nvPicPr>
        <p:blipFill>
          <a:blip r:embed="rId2"/>
          <a:stretch/>
        </p:blipFill>
        <p:spPr>
          <a:xfrm>
            <a:off x="4813200" y="1600200"/>
            <a:ext cx="2571840" cy="4572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258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Север нашего кра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IMG_2422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700360" y="602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Мини-музе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3" descr="IMG_2470"/>
          <p:cNvPicPr/>
          <p:nvPr/>
        </p:nvPicPr>
        <p:blipFill>
          <a:blip r:embed="rId1"/>
          <a:stretch/>
        </p:blipFill>
        <p:spPr>
          <a:xfrm>
            <a:off x="250920" y="404640"/>
            <a:ext cx="4608360" cy="3457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IMG_2468"/>
          <p:cNvPicPr/>
          <p:nvPr/>
        </p:nvPicPr>
        <p:blipFill>
          <a:blip r:embed="rId2"/>
          <a:stretch/>
        </p:blipFill>
        <p:spPr>
          <a:xfrm>
            <a:off x="5076720" y="1989000"/>
            <a:ext cx="3657600" cy="27417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5"/>
          <p:cNvSpPr/>
          <p:nvPr/>
        </p:nvSpPr>
        <p:spPr>
          <a:xfrm>
            <a:off x="5651640" y="494172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составили альбом с играми, изготовили атрибут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95280" y="4076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Альбом «Народная мудрость эвенков» работа родителей в Интернете подборка пословиц, поговорок, загадо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ДБОРКА КАРТИНОК И ЛИТЕРАТУРЫ ПО ТЕ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12" descr="IMG_2464"/>
          <p:cNvPicPr/>
          <p:nvPr/>
        </p:nvPicPr>
        <p:blipFill>
          <a:blip r:embed="rId1"/>
          <a:stretch/>
        </p:blipFill>
        <p:spPr>
          <a:xfrm>
            <a:off x="324000" y="1628640"/>
            <a:ext cx="4171680" cy="3129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IMG_2467"/>
          <p:cNvPicPr/>
          <p:nvPr/>
        </p:nvPicPr>
        <p:blipFill>
          <a:blip r:embed="rId2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4"/>
          <p:cNvSpPr/>
          <p:nvPr/>
        </p:nvSpPr>
        <p:spPr>
          <a:xfrm>
            <a:off x="684360" y="515772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Групповая библиоте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92720" y="587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Фотоальбо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ЕКТ «ПРОФЕССИИ В МОЕЙ СЕМЬЕ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4" descr="C:\Users\Elena\Desktop\1 001.jpg"/>
          <p:cNvPicPr/>
          <p:nvPr/>
        </p:nvPicPr>
        <p:blipFill>
          <a:blip r:embed="rId1"/>
          <a:stretch/>
        </p:blipFill>
        <p:spPr>
          <a:xfrm>
            <a:off x="179280" y="1413000"/>
            <a:ext cx="3202200" cy="4680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C:\Users\Elena\Desktop\2 001.jpg"/>
          <p:cNvPicPr/>
          <p:nvPr/>
        </p:nvPicPr>
        <p:blipFill>
          <a:blip r:embed="rId2"/>
          <a:stretch/>
        </p:blipFill>
        <p:spPr>
          <a:xfrm>
            <a:off x="3510000" y="2205000"/>
            <a:ext cx="51512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5"/>
          <p:cNvSpPr/>
          <p:nvPr/>
        </p:nvSpPr>
        <p:spPr>
          <a:xfrm>
            <a:off x="68436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ы детского сад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8" name="Picture 4" descr="C:\Users\Elena\Documents\Копия работы\фотографии\9 мая 2010\Проходят года 2010 2\P1020925.JPG"/>
          <p:cNvPicPr/>
          <p:nvPr/>
        </p:nvPicPr>
        <p:blipFill>
          <a:blip r:embed="rId1"/>
          <a:stretch/>
        </p:blipFill>
        <p:spPr>
          <a:xfrm>
            <a:off x="108000" y="1197000"/>
            <a:ext cx="4319640" cy="3008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C:\Users\Elena\Documents\Копия работы\фотографии\концерты\акуна-матата\P1060854.JPG"/>
          <p:cNvPicPr/>
          <p:nvPr/>
        </p:nvPicPr>
        <p:blipFill>
          <a:blip r:embed="rId2"/>
          <a:stretch/>
        </p:blipFill>
        <p:spPr>
          <a:xfrm>
            <a:off x="3924360" y="3141720"/>
            <a:ext cx="478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C:\Users\Elena\Desktop\Слайд7.jpg"/>
          <p:cNvPicPr/>
          <p:nvPr/>
        </p:nvPicPr>
        <p:blipFill>
          <a:blip r:embed="rId1"/>
          <a:stretch/>
        </p:blipFill>
        <p:spPr>
          <a:xfrm>
            <a:off x="1042920" y="1268280"/>
            <a:ext cx="6900840" cy="48974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684360" y="54936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детского сада «Радуга талантов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5"/>
          <p:cNvSpPr/>
          <p:nvPr/>
        </p:nvSpPr>
        <p:spPr>
          <a:xfrm>
            <a:off x="611280" y="2421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  <a:ea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ИЧИН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часа на воспитание - проблемный вопрос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дная материальная жизн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илье телевизионных программ и новых компьютерных игр, интерн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т общих интересов и точек соприкосновения у членов семь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умение и нежелание взрослых организовать совместный семейный труд и отд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живания ребенка редко волнуют родителей, особенно в неблагополучных семья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ЕКТНЫЙ МЕТОД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вместное выполнение замысла ребёнком и его родителями укрепляет детско-родительские отнош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5480" y="428760"/>
            <a:ext cx="8607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. Густомясова выделяет следующие преимущества совместной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Обеспечение личностно ориентированного взаимодействия педагога и ребён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Формирование компетентности родителей в вопросах воспитания их де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Установление партнёрского взаимодействия с родителя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0920" y="1268280"/>
            <a:ext cx="8281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оей работе мы в основном  реализуем исследовательские проекты, направленные на развитие познавательных и коммуникативных способностей  дошколь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357120"/>
            <a:ext cx="8353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ематика проектов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- «Мой родной город», «Мой Красноярский карай», «Гербы городов Красноярья», «Наши добрые соседи – хакасы», «Север нашего края», «Гордимся и помним» ко Дню Победы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равственные – «Нет лучше дружка, чем родная матушка», «Древо моей семьи», «Моя любимая мама», «Профессии в моей семье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навательные – «Новый год шагает по планете», «Весенние народные праздники России», «Картинная галере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адаптированных рассказ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исовать с ребенком рисунок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бор и заучивание стихов, пословиц по тематике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то-отчеты по результатам экскурсий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модели детского рассказ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е макетов объектов проект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ие в создании  мини- музеев в групп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и декорации, макетов, костюмов к праздника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ведение родителями практикумов с детьми в рамках проект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посредственное участие в праздниках- презентациях проект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27:58Z</dcterms:created>
  <dc:creator>Хома</dc:creator>
  <dc:description/>
  <dc:language>en-US</dc:language>
  <cp:lastModifiedBy>леон куз</cp:lastModifiedBy>
  <dcterms:modified xsi:type="dcterms:W3CDTF">2023-09-19T16:24:36Z</dcterms:modified>
  <cp:revision>58</cp:revision>
  <dc:subject/>
  <dc:title>Детско-родительский проект «Север нашего края»</dc:title>
</cp:coreProperties>
</file>