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44E-7C63-480A-A719-9459F6B9B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8870-67D1-48EA-B831-A783BF49F0C4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6A78-043D-4EDA-BE81-E8131EC2E566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2B3-4CF0-4A09-ADBB-B162F868465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E85-2DAB-4006-BCAD-C4B09964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27E-4A08-4E87-9333-4A7FF3A8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F59-AC78-4EA4-981D-467ABB6E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343-28A4-4340-985E-9568B7EB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15F7-D415-4ACA-99D0-2E05BB4C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2B64-BC16-46ED-AF65-651004B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B20-38AE-4625-93B8-6EC3A681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5BB3-E67A-40FE-BAB4-D13767E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480-312B-4EFB-9389-523145E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C851-52FF-4F48-84AC-6AE3505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9711-733D-441A-BBCD-4939AB3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581-87A8-4967-BE97-4EF638F7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0D42-2831-4EAF-AFAC-FBA3A0A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F5B-8CE8-4EDE-A8AC-F139D94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C290-4C69-4DDC-A069-B11CF04A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16E6-88E5-43B7-9906-0B967ECD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9B47-19A6-4291-AD95-91DCDBB7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39F94-50D2-4B32-B716-DB21371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70B2E-8742-4C6B-AC9F-DBFAEDF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84DC4-7E81-4915-B5FA-77B551E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9A128-B7CB-4C4E-8714-79BFB97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16A2D-56BB-469E-B49F-65E4355D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088-9A54-49FA-9290-A6699FC2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3E2EE-5979-410F-BAAA-CA57A53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41AD5-1320-48C0-983B-CA00A925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5FD0F-5143-47E1-9C95-41403B9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6EAE2-4686-4027-9684-34A43F3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7DA2-96B8-4A6D-8CAF-F396A69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98B68-6B0C-4CC7-9097-8D7C8525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8D8FB-E00B-411D-A7FB-96AF4921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EA8E-2E7B-496C-AD1E-3A03C63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512D-8880-471F-A2AE-B81D406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00A5-2AC0-45F3-AFAF-467B1C9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08D-A92C-486F-A68A-65C1D6A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4F35-D80A-479E-BFE0-CE11A7B9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6E32-1F7A-443E-A7CF-19D994A8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9A74-48F1-43F2-9A89-07C2288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4C0E-DD70-4640-A27F-C628C83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871B-515D-4DC8-B2BA-58925A8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77DD-A98C-422F-A47A-AF99272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43E6-196D-4AF6-B7C5-FF5D6455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2868-863C-4CF1-BCA0-7B6B54D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3356-BB20-4783-BFDE-1AE15E14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DB195-5223-4872-AA0F-85F53031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764-704E-4810-8BC6-64A4EE62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9ABDE-1E00-4E08-8C6F-49B9552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C382C-8957-4C71-B80F-6ADFBB3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09102-C9A8-45C0-88FC-D22D658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5DA21-F914-4E80-BC27-B9C18F6B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56571-966B-433E-BBD1-3551D0A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F8760-0EAE-40E0-BA5F-66D9B6B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7EF64-A78F-4701-AEA7-5858A13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47B8B-A87B-4383-B44C-8C6F264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0915E-8770-4506-99DF-ECEECF0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19A7D-4B28-4C88-8181-7E1DAE6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A76-644B-4617-8852-B1EBE2E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272A-2DE4-4F26-86DF-4AF3E48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4D388-0BE8-47A3-BF0C-4384C0B5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BC483-578F-40E5-96FA-712CCBF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7265F-6D54-4AED-844E-69C64E7B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2B7BD-98CB-4263-88EA-DEDBBF1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842BA-17FE-4DB2-911F-96051FBF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33529-7DEA-41DC-B9B7-BF71993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09B39-9457-413D-9B67-F6FBB67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C3B00-B4CA-4B89-AD37-A4BF0CB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65672-FFF2-493D-81B4-E154A7C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617-8EAF-4A69-945C-3305449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2162D-77D3-4F56-A068-DE9B5D2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474C9-114B-4A80-8888-C4899636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E2AD8-349B-4AE1-9FC0-72533FA3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12307-20C2-4E06-A22C-C759EB1F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4B18C-96E9-4B75-BE68-CD75C473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D0C63-F46D-4219-9EB4-1B35C655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4C45D-BA54-48BE-8142-A87F27C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D8F92-3D67-47F3-8DFD-B7FC1E6C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2F027-DE9A-4773-A80F-617D1B2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9C106-C046-4121-AA9F-C987BA3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FB8-BE0A-4E5A-8812-551C1A7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B5941-E881-47A7-836B-5C44351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74620-032B-44DB-9716-1F9376B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969D0-FF44-48A0-94ED-383644A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3D25A-52E4-4A0F-9510-2FB7F66A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F9BE5-6FF1-4EF6-BF71-611CCBC4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E71-C649-42B6-A26A-BC76D91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FEA-E09D-485E-A8D0-ACE359D5F1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D7F5-EB88-4866-B564-C44418EC5E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3F04-F9E0-4542-A9BB-E62F4509A5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110-1498-455F-A546-5801C2E8D3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F83-7398-4B23-A15D-5688F04A89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477-E2DF-44C6-87CC-F59A5BDB48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F3E4-320D-4091-9A6A-1C0D783E17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ФОРМЫ РАБОТ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С РОДИТЕЛЯМ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В ПРОЕКТНОЙ ДЕЯТЕЛЬНОСТИ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3885840"/>
            <a:ext cx="78501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ведева Лидия Викто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рдавлетова Ирина Анатоль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826920" y="494172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и дети изготовили плакат ко дню Великой Победы с семейными  военными историями и фотографиям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3" name="Picture 6" descr="C:\Users\Elena\Documents\Копия работы\фотографии\Выставки\выставка 9 мая дс\P1020730.JPG"/>
          <p:cNvPicPr/>
          <p:nvPr/>
        </p:nvPicPr>
        <p:blipFill>
          <a:blip r:embed="rId1"/>
          <a:stretch/>
        </p:blipFill>
        <p:spPr>
          <a:xfrm>
            <a:off x="2268360" y="1052640"/>
            <a:ext cx="4751640" cy="410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E:\IMG_2647.jpg"/>
          <p:cNvPicPr/>
          <p:nvPr/>
        </p:nvPicPr>
        <p:blipFill>
          <a:blip r:embed="rId1"/>
          <a:stretch/>
        </p:blipFill>
        <p:spPr>
          <a:xfrm>
            <a:off x="539640" y="1341360"/>
            <a:ext cx="808056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721320" cy="279108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5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154400" cy="311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8"/>
          <p:cNvSpPr/>
          <p:nvPr/>
        </p:nvSpPr>
        <p:spPr>
          <a:xfrm>
            <a:off x="219564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Делали поделки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0" name="Объект 5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602240" cy="3452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C:\Users\Elena\Documents\Копия работы\фотографии\Выставки\выставка 9 мая дс\P1020739.JPG"/>
          <p:cNvPicPr/>
          <p:nvPr/>
        </p:nvPicPr>
        <p:blipFill>
          <a:blip r:embed="rId2"/>
          <a:stretch/>
        </p:blipFill>
        <p:spPr>
          <a:xfrm>
            <a:off x="526896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Elena\Documents\Копия работы\фотографии\Выставки\9 мая\P1010162.JPG"/>
          <p:cNvPicPr/>
          <p:nvPr/>
        </p:nvPicPr>
        <p:blipFill>
          <a:blip r:embed="rId3"/>
          <a:stretch/>
        </p:blipFill>
        <p:spPr>
          <a:xfrm>
            <a:off x="250920" y="4149720"/>
            <a:ext cx="361296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0"/>
          <p:cNvSpPr/>
          <p:nvPr/>
        </p:nvSpPr>
        <p:spPr>
          <a:xfrm>
            <a:off x="826920" y="2602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Моя любимая мамочка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4" name="Picture 5" descr="IMG_0010_resize"/>
          <p:cNvPicPr/>
          <p:nvPr/>
        </p:nvPicPr>
        <p:blipFill>
          <a:blip r:embed="rId1"/>
          <a:stretch/>
        </p:blipFill>
        <p:spPr>
          <a:xfrm>
            <a:off x="17928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IMG_0014_resize"/>
          <p:cNvPicPr/>
          <p:nvPr/>
        </p:nvPicPr>
        <p:blipFill>
          <a:blip r:embed="rId2"/>
          <a:stretch/>
        </p:blipFill>
        <p:spPr>
          <a:xfrm>
            <a:off x="493236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MG_8667_resize"/>
          <p:cNvPicPr/>
          <p:nvPr/>
        </p:nvPicPr>
        <p:blipFill>
          <a:blip r:embed="rId3"/>
          <a:stretch/>
        </p:blipFill>
        <p:spPr>
          <a:xfrm>
            <a:off x="539640" y="38606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IMG_8672_resize"/>
          <p:cNvPicPr/>
          <p:nvPr/>
        </p:nvPicPr>
        <p:blipFill>
          <a:blip r:embed="rId4"/>
          <a:stretch/>
        </p:blipFill>
        <p:spPr>
          <a:xfrm>
            <a:off x="4643280" y="3897360"/>
            <a:ext cx="367380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684360" y="155736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5076720" y="1557360"/>
            <a:ext cx="3357720" cy="201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мост"/>
          <p:cNvPicPr/>
          <p:nvPr/>
        </p:nvPicPr>
        <p:blipFill>
          <a:blip r:embed="rId3"/>
          <a:stretch/>
        </p:blipFill>
        <p:spPr>
          <a:xfrm>
            <a:off x="755640" y="4508640"/>
            <a:ext cx="3240000" cy="172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фонтан"/>
          <p:cNvPicPr/>
          <p:nvPr/>
        </p:nvPicPr>
        <p:blipFill>
          <a:blip r:embed="rId4"/>
          <a:stretch/>
        </p:blipFill>
        <p:spPr>
          <a:xfrm>
            <a:off x="4716360" y="4076640"/>
            <a:ext cx="3930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C:\Users\Elena\Desktop\3 001.jpg"/>
          <p:cNvPicPr/>
          <p:nvPr/>
        </p:nvPicPr>
        <p:blipFill>
          <a:blip r:embed="rId1"/>
          <a:stretch/>
        </p:blipFill>
        <p:spPr>
          <a:xfrm>
            <a:off x="395280" y="3875040"/>
            <a:ext cx="4392720" cy="2649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Elena\Desktop\4 001.jpg"/>
          <p:cNvPicPr/>
          <p:nvPr/>
        </p:nvPicPr>
        <p:blipFill>
          <a:blip r:embed="rId2"/>
          <a:stretch/>
        </p:blipFill>
        <p:spPr>
          <a:xfrm>
            <a:off x="3664080" y="1052640"/>
            <a:ext cx="494028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1476360" y="404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Гость группы»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7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12254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11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G_0373_resize"/>
          <p:cNvPicPr/>
          <p:nvPr/>
        </p:nvPicPr>
        <p:blipFill>
          <a:blip r:embed="rId3"/>
          <a:stretch/>
        </p:blipFill>
        <p:spPr>
          <a:xfrm>
            <a:off x="2843280" y="3933720"/>
            <a:ext cx="3709800" cy="277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2"/>
          <p:cNvSpPr/>
          <p:nvPr/>
        </p:nvSpPr>
        <p:spPr>
          <a:xfrm>
            <a:off x="684360" y="333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Экскурсия для родителе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«Жанры русской живопис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1" name="Содержимое 3" descr="Совместная работа с родителями (1).JPG"/>
          <p:cNvPicPr/>
          <p:nvPr/>
        </p:nvPicPr>
        <p:blipFill>
          <a:blip r:embed="rId1"/>
          <a:stretch/>
        </p:blipFill>
        <p:spPr>
          <a:xfrm>
            <a:off x="4643280" y="3213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S3020466"/>
          <p:cNvPicPr/>
          <p:nvPr/>
        </p:nvPicPr>
        <p:blipFill>
          <a:blip r:embed="rId2"/>
          <a:stretch/>
        </p:blipFill>
        <p:spPr>
          <a:xfrm>
            <a:off x="324000" y="1484280"/>
            <a:ext cx="46796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5"/>
          <p:cNvSpPr/>
          <p:nvPr/>
        </p:nvSpPr>
        <p:spPr>
          <a:xfrm>
            <a:off x="1258920" y="54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Гербы городов Красноярь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8" descr="DSC_0009"/>
          <p:cNvPicPr/>
          <p:nvPr/>
        </p:nvPicPr>
        <p:blipFill>
          <a:blip r:embed="rId1"/>
          <a:stretch/>
        </p:blipFill>
        <p:spPr>
          <a:xfrm>
            <a:off x="250920" y="1341360"/>
            <a:ext cx="2379600" cy="4896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DSC_0013"/>
          <p:cNvPicPr/>
          <p:nvPr/>
        </p:nvPicPr>
        <p:blipFill>
          <a:blip r:embed="rId2"/>
          <a:stretch/>
        </p:blipFill>
        <p:spPr>
          <a:xfrm>
            <a:off x="5292720" y="1268280"/>
            <a:ext cx="1660680" cy="2405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DSC_0010"/>
          <p:cNvPicPr/>
          <p:nvPr/>
        </p:nvPicPr>
        <p:blipFill>
          <a:blip r:embed="rId3"/>
          <a:stretch/>
        </p:blipFill>
        <p:spPr>
          <a:xfrm>
            <a:off x="2843280" y="1341360"/>
            <a:ext cx="2171520" cy="489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DSC_0015"/>
          <p:cNvPicPr/>
          <p:nvPr/>
        </p:nvPicPr>
        <p:blipFill>
          <a:blip r:embed="rId4"/>
          <a:stretch/>
        </p:blipFill>
        <p:spPr>
          <a:xfrm>
            <a:off x="5219640" y="3716280"/>
            <a:ext cx="1784520" cy="254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DSC_0016"/>
          <p:cNvPicPr/>
          <p:nvPr/>
        </p:nvPicPr>
        <p:blipFill>
          <a:blip r:embed="rId5"/>
          <a:stretch/>
        </p:blipFill>
        <p:spPr>
          <a:xfrm>
            <a:off x="7164360" y="1268280"/>
            <a:ext cx="1609920" cy="2374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3" descr="DSC_0017"/>
          <p:cNvPicPr/>
          <p:nvPr/>
        </p:nvPicPr>
        <p:blipFill>
          <a:blip r:embed="rId6"/>
          <a:stretch/>
        </p:blipFill>
        <p:spPr>
          <a:xfrm>
            <a:off x="7093080" y="3716280"/>
            <a:ext cx="172692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времени родители уделяют своим детям в плане игр и занятий, в плане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е часа - 66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30 мин до 1 часа - 14 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15 мин до 30 мин - 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5 мин до 15 мин - 1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0" descr="IMG_2515"/>
          <p:cNvPicPr/>
          <p:nvPr/>
        </p:nvPicPr>
        <p:blipFill>
          <a:blip r:embed="rId1"/>
          <a:stretch/>
        </p:blipFill>
        <p:spPr>
          <a:xfrm>
            <a:off x="457200" y="2513160"/>
            <a:ext cx="3657600" cy="2746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image"/>
          <p:cNvPicPr/>
          <p:nvPr/>
        </p:nvPicPr>
        <p:blipFill>
          <a:blip r:embed="rId2"/>
          <a:stretch/>
        </p:blipFill>
        <p:spPr>
          <a:xfrm>
            <a:off x="4813200" y="1600200"/>
            <a:ext cx="2571840" cy="4572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258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Север нашего кра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IMG_2422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700360" y="602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Мини-музе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3" descr="IMG_2470"/>
          <p:cNvPicPr/>
          <p:nvPr/>
        </p:nvPicPr>
        <p:blipFill>
          <a:blip r:embed="rId1"/>
          <a:stretch/>
        </p:blipFill>
        <p:spPr>
          <a:xfrm>
            <a:off x="250920" y="404640"/>
            <a:ext cx="4608360" cy="3457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IMG_2468"/>
          <p:cNvPicPr/>
          <p:nvPr/>
        </p:nvPicPr>
        <p:blipFill>
          <a:blip r:embed="rId2"/>
          <a:stretch/>
        </p:blipFill>
        <p:spPr>
          <a:xfrm>
            <a:off x="5076720" y="1989000"/>
            <a:ext cx="3657600" cy="27417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5"/>
          <p:cNvSpPr/>
          <p:nvPr/>
        </p:nvSpPr>
        <p:spPr>
          <a:xfrm>
            <a:off x="5651640" y="494172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составили альбом с играми, изготовили атрибут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95280" y="4076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Альбом «Народная мудрость эвенков» работа родителей в Интернете подборка пословиц, поговорок, загадо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ДБОРКА КАРТИНОК И ЛИТЕРАТУРЫ ПО ТЕ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12" descr="IMG_2464"/>
          <p:cNvPicPr/>
          <p:nvPr/>
        </p:nvPicPr>
        <p:blipFill>
          <a:blip r:embed="rId1"/>
          <a:stretch/>
        </p:blipFill>
        <p:spPr>
          <a:xfrm>
            <a:off x="324000" y="1628640"/>
            <a:ext cx="4171680" cy="3129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IMG_2467"/>
          <p:cNvPicPr/>
          <p:nvPr/>
        </p:nvPicPr>
        <p:blipFill>
          <a:blip r:embed="rId2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4"/>
          <p:cNvSpPr/>
          <p:nvPr/>
        </p:nvSpPr>
        <p:spPr>
          <a:xfrm>
            <a:off x="684360" y="515772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Групповая библиоте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92720" y="587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Фотоальбо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ЕКТ «ПРОФЕССИИ В МОЕЙ СЕМЬЕ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4" descr="C:\Users\Elena\Desktop\1 001.jpg"/>
          <p:cNvPicPr/>
          <p:nvPr/>
        </p:nvPicPr>
        <p:blipFill>
          <a:blip r:embed="rId1"/>
          <a:stretch/>
        </p:blipFill>
        <p:spPr>
          <a:xfrm>
            <a:off x="179280" y="1413000"/>
            <a:ext cx="3202200" cy="4680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C:\Users\Elena\Desktop\2 001.jpg"/>
          <p:cNvPicPr/>
          <p:nvPr/>
        </p:nvPicPr>
        <p:blipFill>
          <a:blip r:embed="rId2"/>
          <a:stretch/>
        </p:blipFill>
        <p:spPr>
          <a:xfrm>
            <a:off x="3510000" y="2205000"/>
            <a:ext cx="51512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5"/>
          <p:cNvSpPr/>
          <p:nvPr/>
        </p:nvSpPr>
        <p:spPr>
          <a:xfrm>
            <a:off x="68436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ы детского сад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8" name="Picture 4" descr="C:\Users\Elena\Documents\Копия работы\фотографии\9 мая 2010\Проходят года 2010 2\P1020925.JPG"/>
          <p:cNvPicPr/>
          <p:nvPr/>
        </p:nvPicPr>
        <p:blipFill>
          <a:blip r:embed="rId1"/>
          <a:stretch/>
        </p:blipFill>
        <p:spPr>
          <a:xfrm>
            <a:off x="108000" y="1197000"/>
            <a:ext cx="4319640" cy="3008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C:\Users\Elena\Documents\Копия работы\фотографии\концерты\акуна-матата\P1060854.JPG"/>
          <p:cNvPicPr/>
          <p:nvPr/>
        </p:nvPicPr>
        <p:blipFill>
          <a:blip r:embed="rId2"/>
          <a:stretch/>
        </p:blipFill>
        <p:spPr>
          <a:xfrm>
            <a:off x="3924360" y="3141720"/>
            <a:ext cx="478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C:\Users\Elena\Desktop\Слайд7.jpg"/>
          <p:cNvPicPr/>
          <p:nvPr/>
        </p:nvPicPr>
        <p:blipFill>
          <a:blip r:embed="rId1"/>
          <a:stretch/>
        </p:blipFill>
        <p:spPr>
          <a:xfrm>
            <a:off x="1042920" y="1268280"/>
            <a:ext cx="6900840" cy="48974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684360" y="54936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детского сада «Радуга талантов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5"/>
          <p:cNvSpPr/>
          <p:nvPr/>
        </p:nvSpPr>
        <p:spPr>
          <a:xfrm>
            <a:off x="611280" y="2421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  <a:ea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ИЧИН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часа на воспитание - проблемный вопрос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дная материальная жизн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илье телевизионных программ и новых компьютерных игр, интерн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т общих интересов и точек соприкосновения у членов семь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умение и нежелание взрослых организовать совместный семейный труд и отд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живания ребенка редко волнуют родителей, особенно в неблагополучных семья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ЕКТНЫЙ МЕТОД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вместное выполнение замысла ребёнком и его родителями укрепляет детско-родительские отнош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5480" y="428760"/>
            <a:ext cx="8607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. Густомясова выделяет следующие преимущества совместной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Обеспечение личностно ориентированного взаимодействия педагога и ребён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Формирование компетентности родителей в вопросах воспитания их де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Установление партнёрского взаимодействия с родителя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0920" y="1268280"/>
            <a:ext cx="8281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оей работе мы в основном  реализуем исследовательские проекты, направленные на развитие познавательных и коммуникативных способностей  дошколь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357120"/>
            <a:ext cx="8353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ематика проектов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- «Мой родной город», «Мой Красноярский карай», «Гербы городов Красноярья», «Наши добрые соседи – хакасы», «Север нашего края», «Гордимся и помним» ко Дню Победы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равственные – «Нет лучше дружка, чем родная матушка», «Древо моей семьи», «Моя любимая мама», «Профессии в моей семье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навательные – «Новый год шагает по планете», «Весенние народные праздники России», «Картинная галере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адаптированных рассказ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исовать с ребенком рисунок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бор и заучивание стихов, пословиц по тематике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то-отчеты по результатам экскурсий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модели детского рассказ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е макетов объектов проект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ие в создании  мини- музеев в групп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и декорации, макетов, костюмов к праздника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ведение родителями практикумов с детьми в рамках проект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посредственное участие в праздниках- презентациях проект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27:58Z</dcterms:created>
  <dc:creator>Хома</dc:creator>
  <dc:description/>
  <dc:language>en-US</dc:language>
  <cp:lastModifiedBy>леон куз</cp:lastModifiedBy>
  <dcterms:modified xsi:type="dcterms:W3CDTF">2023-09-19T16:24:36Z</dcterms:modified>
  <cp:revision>58</cp:revision>
  <dc:subject/>
  <dc:title>Детско-родительский проект «Север нашего края»</dc:title>
</cp:coreProperties>
</file>