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0803-67C6-42BE-B485-943CD2CC0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2A47-FDE6-4FC1-B2B7-033F3182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DCAF-6BA5-4950-A683-D25AB4734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7F68-5D4D-4DC6-ACA6-B9E5B7918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B9A3-7375-488C-B151-970D0B662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DD4F1-10B7-4DA6-B8A8-F0885E02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D7E1-E266-4EFA-B16C-1CE72A37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7108-ECD0-4B79-9489-6DAE1A5A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6AEF-CBF3-4902-AEBF-68871233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D73F-77E6-48E8-9D30-98BBC086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065B4-2D24-4277-B031-AD923E18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BB4F-F8DB-4D3C-9A5F-60811B93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1BFF-0DC0-4A49-A933-984AAE4D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7846-54B8-43D4-A12B-3BBE185B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9A449-40DC-4E54-87DB-698A3DD2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936DF-6882-4C62-B9D1-F8F0B7372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76E1-268D-45F1-AD85-1B3F20F49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60035-150B-416E-8384-328842908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9F472-596A-4A4C-AE6D-CDB4F85A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B0BA9-8338-478A-8E6F-4CA5B7F3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F4BDA-FC21-42B0-B6CF-7EF1C3C1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361E5-9EAC-4609-A58B-833113B1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51EF-EF79-47BF-BE6C-CB49181D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44D9E-EF89-4CF1-8C07-259495EB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C76B4-E542-4330-A926-10A13C85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974D9-4577-4D53-8FA3-91C4C3AB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91BBD-15A2-4ADA-80A4-17B17607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81F59-3500-4919-999C-42F927BA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C2F12-82EE-4BEE-A44F-AD3101118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850EE-8B63-4A1E-A94F-20C0B2B24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C0C0C-4A02-49C8-AD6A-CD760A575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26029-9628-45BA-8AF5-D4DD0E24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EDA69-8A14-4BBB-97C2-06CB5375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1436-28A5-4144-A3D5-B0D6F681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84461-8D65-4FB9-BA9B-188BB007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1BC3D-C32F-4D1E-A39D-300B9F70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747E0-5BA0-4FC6-A9B5-630D20F3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34FFF-0FAB-48C5-A855-937AFE3E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CF19D-7F8A-4059-AF8C-CD3416E5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B5C01-AED9-4D1E-BB96-3A402AA6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86382-762D-4DD7-8142-BD145375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517B9-C10E-4839-82AF-2CB9D6C4E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CAE5C-D947-4327-BAE5-A2E012D5A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22A60-3802-404F-A299-FDCBBD490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1926-5554-4C24-8C6B-8F7D1EC3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21FEA-9E14-4A52-853E-420CC3E7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9A715-0DFB-4B6B-A52E-0FECA880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95FAA-00F9-4BD5-8F4D-C71D4DCF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5007C-0212-4160-8547-72387801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D5A0A-EF7C-463F-88F6-A12F9FFB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210D6-961D-43D8-97E3-027963E9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3813E-FA2A-4290-8BB2-BA217C5A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654B0-0615-42CD-A5AC-9D9CE8D8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8635C-4B89-4917-A6D5-5CF0117F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3DA1F-6155-4AC2-9A47-92AF96D16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C8DC-1CCE-4AC8-B439-068159AC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F3A68-2266-4CA0-962E-B793E7DA3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5E8D-1EA8-4B6C-B24A-1B890A20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DA1F-A4D1-47F6-9D0A-E13A91C8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DA6F-58B2-4D98-AEC6-B3057559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B803-629E-4362-8B99-ECC4471E9318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3AD5-8A4B-428D-92FD-509B1B1750B0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B1EC-6AA8-404B-B13F-269F1F1DE5D2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D2CF-2B68-43A0-8EC6-ADD08E56D9F8}" type="slidenum">
              <a:rPr b="0" lang="ru-RU" sz="1600" spc="-1" strike="noStrike">
                <a:solidFill>
                  <a:srgbClr val="434342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6612-4EE7-4BD3-A20C-452536A869C8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17560" y="785520"/>
            <a:ext cx="6540480" cy="27860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Medium"/>
              </a:rPr>
              <a:t>МУНИЦИПАЛЬНОЕ ДОШКОЛЬНОЕ ОБРАЗОВАТЕЛЬНОЕ БЮДЖЕТНОЕ УЧРЕЖДЕНИЕ «ДЕТСКИЙ САД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Franklin Gothic Medium"/>
              </a:rPr>
              <a:t>№ 15 «ТОПОЛЕК» ПРИСМОТРА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Franklin Gothic Medium"/>
              </a:rPr>
              <a:t>И ОЗДОРОВЛЕНИЯ»</a:t>
            </a: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2195280" y="3645000"/>
            <a:ext cx="6715080" cy="107136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  <a:ea typeface="Tunga"/>
              </a:rPr>
              <a:t>НУРДОВЛЕТОВА ИРИНА АНАТОЛЬЕВНА - ВОСПИТАТЕЛ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ung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Содержимое 4" descr="P1020905.JPG"/>
          <p:cNvPicPr/>
          <p:nvPr/>
        </p:nvPicPr>
        <p:blipFill>
          <a:blip r:embed="rId1"/>
          <a:stretch/>
        </p:blipFill>
        <p:spPr>
          <a:xfrm>
            <a:off x="324000" y="1125360"/>
            <a:ext cx="4416120" cy="33116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52120" y="404640"/>
            <a:ext cx="75214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«ПРОХОДЯТ ГОДА – НАША ПАМЯТЬ ЖИВА»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43" name="Содержимое 4" descr="P1020891.JPG"/>
          <p:cNvPicPr/>
          <p:nvPr/>
        </p:nvPicPr>
        <p:blipFill>
          <a:blip r:embed="rId2"/>
          <a:stretch/>
        </p:blipFill>
        <p:spPr>
          <a:xfrm>
            <a:off x="4827600" y="3284640"/>
            <a:ext cx="4176720" cy="3132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Объект 4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245" name="Объект 5" descr=""/>
          <p:cNvPicPr/>
          <p:nvPr/>
        </p:nvPicPr>
        <p:blipFill>
          <a:blip r:embed="rId2"/>
          <a:stretch/>
        </p:blipFill>
        <p:spPr>
          <a:xfrm>
            <a:off x="4716360" y="907920"/>
            <a:ext cx="3783240" cy="28386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ВЫСТАВКА ДЕТСКИХ РАБОТ К ДНЮ ПОБЕДЫ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47" name="Объект 4" descr=""/>
          <p:cNvPicPr/>
          <p:nvPr/>
        </p:nvPicPr>
        <p:blipFill>
          <a:blip r:embed="rId3"/>
          <a:stretch/>
        </p:blipFill>
        <p:spPr>
          <a:xfrm>
            <a:off x="395280" y="3868560"/>
            <a:ext cx="3824280" cy="2868840"/>
          </a:xfrm>
          <a:prstGeom prst="rect">
            <a:avLst/>
          </a:prstGeom>
          <a:ln w="0">
            <a:noFill/>
          </a:ln>
        </p:spPr>
      </p:pic>
      <p:pic>
        <p:nvPicPr>
          <p:cNvPr id="248" name="Объект 5" descr=""/>
          <p:cNvPicPr/>
          <p:nvPr/>
        </p:nvPicPr>
        <p:blipFill>
          <a:blip r:embed="rId4"/>
          <a:stretch/>
        </p:blipFill>
        <p:spPr>
          <a:xfrm>
            <a:off x="4716360" y="3868560"/>
            <a:ext cx="3824280" cy="2868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Содержимое 4" descr="P1020841.JPG"/>
          <p:cNvPicPr/>
          <p:nvPr/>
        </p:nvPicPr>
        <p:blipFill>
          <a:blip r:embed="rId1"/>
          <a:stretch/>
        </p:blipFill>
        <p:spPr>
          <a:xfrm>
            <a:off x="357120" y="1143000"/>
            <a:ext cx="4000680" cy="3000240"/>
          </a:xfrm>
          <a:prstGeom prst="rect">
            <a:avLst/>
          </a:prstGeom>
          <a:ln w="0">
            <a:noFill/>
          </a:ln>
        </p:spPr>
      </p:pic>
      <p:pic>
        <p:nvPicPr>
          <p:cNvPr id="250" name="Содержимое 5" descr="P1020809.JPG"/>
          <p:cNvPicPr/>
          <p:nvPr/>
        </p:nvPicPr>
        <p:blipFill>
          <a:blip r:embed="rId2"/>
          <a:stretch/>
        </p:blipFill>
        <p:spPr>
          <a:xfrm>
            <a:off x="4572000" y="1571760"/>
            <a:ext cx="4329000" cy="324648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ВСТРЕЧА С ВЕТЕРАНАМИ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Medium"/>
              </a:rPr>
              <a:t>МИНИ-МУЗЕЙ </a:t>
            </a:r>
            <a:br>
              <a:rPr sz="2000"/>
            </a:b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«МЫ – ЖИТЕЛИ КРАСНОЯРСКОГО КРАЯ»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18" name="Picture 10" descr="карта"/>
          <p:cNvPicPr/>
          <p:nvPr/>
        </p:nvPicPr>
        <p:blipFill>
          <a:blip r:embed="rId1"/>
          <a:stretch/>
        </p:blipFill>
        <p:spPr>
          <a:xfrm>
            <a:off x="285840" y="1643040"/>
            <a:ext cx="3892320" cy="31431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Изображение 021"/>
          <p:cNvPicPr/>
          <p:nvPr/>
        </p:nvPicPr>
        <p:blipFill>
          <a:blip r:embed="rId2"/>
          <a:stretch/>
        </p:blipFill>
        <p:spPr>
          <a:xfrm>
            <a:off x="4500720" y="1214280"/>
            <a:ext cx="4286160" cy="3214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енные жители  красноярского края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21" name="Picture 7" descr="эвенки"/>
          <p:cNvPicPr/>
          <p:nvPr/>
        </p:nvPicPr>
        <p:blipFill>
          <a:blip r:embed="rId1"/>
          <a:stretch/>
        </p:blipFill>
        <p:spPr>
          <a:xfrm>
            <a:off x="250920" y="1413000"/>
            <a:ext cx="4200480" cy="2809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хакасы1"/>
          <p:cNvPicPr/>
          <p:nvPr/>
        </p:nvPicPr>
        <p:blipFill>
          <a:blip r:embed="rId2"/>
          <a:stretch/>
        </p:blipFill>
        <p:spPr>
          <a:xfrm>
            <a:off x="4714920" y="1928880"/>
            <a:ext cx="4191120" cy="2867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стопримечательности родного города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24" name="Picture 9" descr="Изображение 054"/>
          <p:cNvPicPr/>
          <p:nvPr/>
        </p:nvPicPr>
        <p:blipFill>
          <a:blip r:embed="rId1"/>
          <a:stretch/>
        </p:blipFill>
        <p:spPr>
          <a:xfrm>
            <a:off x="571680" y="1214280"/>
            <a:ext cx="3524040" cy="26434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1" descr="площадб Победы"/>
          <p:cNvPicPr/>
          <p:nvPr/>
        </p:nvPicPr>
        <p:blipFill>
          <a:blip r:embed="rId2"/>
          <a:stretch/>
        </p:blipFill>
        <p:spPr>
          <a:xfrm>
            <a:off x="4714920" y="1143000"/>
            <a:ext cx="3357360" cy="2014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мост"/>
          <p:cNvPicPr/>
          <p:nvPr/>
        </p:nvPicPr>
        <p:blipFill>
          <a:blip r:embed="rId3"/>
          <a:stretch/>
        </p:blipFill>
        <p:spPr>
          <a:xfrm>
            <a:off x="642960" y="4143240"/>
            <a:ext cx="3240000" cy="1727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2" descr="фонтан"/>
          <p:cNvPicPr/>
          <p:nvPr/>
        </p:nvPicPr>
        <p:blipFill>
          <a:blip r:embed="rId4"/>
          <a:stretch/>
        </p:blipFill>
        <p:spPr>
          <a:xfrm>
            <a:off x="4357800" y="3643200"/>
            <a:ext cx="3930480" cy="235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МИНИ-МУЗЕЙ «КАРТИННАЯ ГАЛЕРЕЯ»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29" name="Объект 3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7497720" cy="5054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спозиция посвященная защитникам отечества 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31" name="Объект 3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7139160" cy="5354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УЧАСТИЕ В КРАЕВОЙ АКЦИ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 «ПОЗДРАВЬ ВЕТЕРАНА С ПОБЕДОЙ»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33" name="Объект 6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4130640" cy="3095640"/>
          </a:xfrm>
          <a:prstGeom prst="rect">
            <a:avLst/>
          </a:prstGeom>
          <a:ln w="0">
            <a:noFill/>
          </a:ln>
        </p:spPr>
      </p:pic>
      <p:pic>
        <p:nvPicPr>
          <p:cNvPr id="234" name="Объект 7" descr=""/>
          <p:cNvPicPr/>
          <p:nvPr/>
        </p:nvPicPr>
        <p:blipFill>
          <a:blip r:embed="rId2"/>
          <a:stretch/>
        </p:blipFill>
        <p:spPr>
          <a:xfrm>
            <a:off x="4764240" y="1773360"/>
            <a:ext cx="4130640" cy="3095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Объект 4" descr=""/>
          <p:cNvPicPr/>
          <p:nvPr/>
        </p:nvPicPr>
        <p:blipFill>
          <a:blip r:embed="rId1"/>
          <a:stretch/>
        </p:blipFill>
        <p:spPr>
          <a:xfrm>
            <a:off x="428760" y="1143000"/>
            <a:ext cx="3720960" cy="2790720"/>
          </a:xfrm>
          <a:prstGeom prst="rect">
            <a:avLst/>
          </a:prstGeom>
          <a:ln w="0">
            <a:noFill/>
          </a:ln>
        </p:spPr>
      </p:pic>
      <p:pic>
        <p:nvPicPr>
          <p:cNvPr id="236" name="Объект 5" descr=""/>
          <p:cNvPicPr/>
          <p:nvPr/>
        </p:nvPicPr>
        <p:blipFill>
          <a:blip r:embed="rId2"/>
          <a:stretch/>
        </p:blipFill>
        <p:spPr>
          <a:xfrm>
            <a:off x="4427640" y="1773360"/>
            <a:ext cx="4154400" cy="311472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ДЕТСКО-РОДИТЕЛЬСКИЙ ПРОЕКТ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«МЫ ПОМНИМ»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Содержимое 4" descr="P1020915.JPG"/>
          <p:cNvPicPr/>
          <p:nvPr/>
        </p:nvPicPr>
        <p:blipFill>
          <a:blip r:embed="rId1"/>
          <a:stretch/>
        </p:blipFill>
        <p:spPr>
          <a:xfrm>
            <a:off x="428760" y="1357200"/>
            <a:ext cx="4190760" cy="3143520"/>
          </a:xfrm>
          <a:prstGeom prst="rect">
            <a:avLst/>
          </a:prstGeom>
          <a:ln w="0">
            <a:noFill/>
          </a:ln>
        </p:spPr>
      </p:pic>
      <p:pic>
        <p:nvPicPr>
          <p:cNvPr id="239" name="Содержимое 5" descr="P1020922.JPG"/>
          <p:cNvPicPr/>
          <p:nvPr/>
        </p:nvPicPr>
        <p:blipFill>
          <a:blip r:embed="rId2"/>
          <a:stretch/>
        </p:blipFill>
        <p:spPr>
          <a:xfrm>
            <a:off x="4857840" y="2000160"/>
            <a:ext cx="3905280" cy="29289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Medium"/>
              </a:rPr>
              <a:t>МУЗЫКАЛЬНО-ТЕАТРАЛИЗОВАННОЕ ПРЕДСТАВЛЕНИЕ</a:t>
            </a: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 «ПРОХОДЯТ ГОДА – НАША ПАМЯТЬ ЖИВА»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4:30:08Z</dcterms:created>
  <dc:creator>User</dc:creator>
  <dc:description/>
  <dc:language>en-US</dc:language>
  <cp:lastModifiedBy>леон куз</cp:lastModifiedBy>
  <dcterms:modified xsi:type="dcterms:W3CDTF">2023-09-19T16:05:10Z</dcterms:modified>
  <cp:revision>21</cp:revision>
  <dc:subject/>
  <dc:title>Формирование начал активной гражданской позиции старших дошкольников</dc:title>
</cp:coreProperties>
</file>