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40B-B61B-4069-8C4B-7C83B037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2144-054A-4618-8981-55AE951E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B3C9-32E5-4687-B6CE-B668B6E5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840-2A00-480F-B8AC-0C21E86D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ECE8-F1AD-4FED-A28B-1BC54FCD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391A-6794-420B-8AE2-83FDA14B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88A3-A2EE-4186-8F4E-8F38EBA7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08C7-537F-414B-B8AC-265DD225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8650-7CC1-482F-AEB4-C3BA7AF4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DE34-5582-4D90-8AAB-8AE47CCA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7BED-E0A5-4704-9F14-1B49149A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B9AB-7F18-4324-9F52-1EB69219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99CF-B84D-4DFA-B7C6-7568F601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8981-21C6-43E9-81E5-BD4F27FC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FDAC-0C27-470E-ADA8-77FF8CCE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4034-20C1-4B6B-8E3C-88688787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8FB1-E26B-47C8-817A-CBB0F8CD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C18FB-F0FC-489E-83C5-792EA250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FAE23-2E1F-4807-97F3-56ADE222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278D8-7E65-41F8-8768-B47841A8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06145-EB30-4804-ACE2-971666B7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72B6D-1AA3-476F-8EB6-AF962D99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5C4-59AC-41CD-8EA6-E7630FDD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F1333-70D5-47F6-AB2D-191B9EAF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15118-3C83-43AC-8D00-104B1542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54C7B-ECAC-48A4-9930-019A16C7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0C003-97AA-4E62-894F-1DC18546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AD26F-90EE-4F64-9446-8C399036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6FCDB-5615-42D3-8819-AF25C4C3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391A7-D6EB-4D24-913B-1E2AEE2F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13A5D-A00C-498A-980E-903E5AD5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A4CC7-813E-4C5A-B6E8-6D640E32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F3112-60B7-4707-9B63-BF6841A4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5F1-2B8A-4EE8-9C70-5E9B6471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1DB33-36F3-4344-9225-02B6AA56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74A58-209C-4FB3-B254-A3937576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FD413-C6EB-4854-8F00-63CBB24B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FB7CC-A591-43AF-99F5-39437B75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93045-B75B-4EED-99DA-277020BA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6AA3B-B04F-4FD5-BD80-62B2B104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48B7B-2FB7-4F54-BC8F-DEFCEBD1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7EFBA-526F-4345-8A56-415C9799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DEF96-8E02-4CD9-BCDC-56DB6833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45C60-D924-4B22-BD2D-F6FC535A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10B8-26C3-4F41-8405-32FC6678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DAAB8-969A-4EF2-9F4E-E272EC39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E3F72-749B-4389-89E6-3926769E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EDC57-57E5-4F78-96BF-F8D759C1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CC9D7-B7BE-4D2C-85C3-07BED7D4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315B6-6AF9-419E-A894-7313FAAC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5EC3B-23C4-49DA-AD4F-337F9931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DB2A8-572F-4396-AA45-597182EA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7B196-7C17-49FE-9C40-156478E7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ADC89-16E7-498E-BFD5-9B6331A5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05DC5-B242-4C67-8BC0-BB5EDBB1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ABF-8AD8-4D08-9E58-EA082E00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614AC-BCC2-4C83-ABCD-7CD7FD3B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527-26C6-48BA-90F3-43A34F1C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5F1-6857-4CDB-A8AF-4863F211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ACA-0261-4E0A-99D2-B06A3DC0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02F3-39B8-4E9F-8474-9253B2D81C2D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4328-EA6D-4AC7-872C-77A06F8A4C3D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5171-C026-44CA-8905-1FDC6D4EA392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6B02-7651-4DA6-A657-A89A7CB91FB6}" type="slidenum">
              <a:rPr b="0" lang="ru-RU" sz="1600" spc="-1" strike="noStrike">
                <a:solidFill>
                  <a:srgbClr val="434342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E3B6-AB50-4547-9A95-6F00657C16D8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17560" y="785520"/>
            <a:ext cx="6540480" cy="27860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МУНИЦИПАЛЬНОЕ ДОШКОЛЬНОЕ ОБРАЗОВАТЕЛЬНОЕ БЮДЖЕТНОЕ УЧРЕЖДЕНИЕ «ДЕТСКИЙ САД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№ 15 «ТОПОЛЕК» ПРИСМОТР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И ОЗДОРОВЛЕНИЯ»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195280" y="3645000"/>
            <a:ext cx="6715080" cy="107136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  <a:ea typeface="Tunga"/>
              </a:rPr>
              <a:t>НУРДОВЛЕТОВА ИРИНА АНАТОЛЬЕВНА - ВОСПИТАТЕЛ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ung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Содержимое 4" descr="P1020905.JPG"/>
          <p:cNvPicPr/>
          <p:nvPr/>
        </p:nvPicPr>
        <p:blipFill>
          <a:blip r:embed="rId1"/>
          <a:stretch/>
        </p:blipFill>
        <p:spPr>
          <a:xfrm>
            <a:off x="324000" y="1125360"/>
            <a:ext cx="4416120" cy="33116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52120" y="40464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«ПРОХОДЯТ ГОДА – НАША ПАМЯТЬ ЖИВА»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3" name="Содержимое 4" descr="P1020891.JPG"/>
          <p:cNvPicPr/>
          <p:nvPr/>
        </p:nvPicPr>
        <p:blipFill>
          <a:blip r:embed="rId2"/>
          <a:stretch/>
        </p:blipFill>
        <p:spPr>
          <a:xfrm>
            <a:off x="4827600" y="328464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Объект 4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245" name="Объект 5" descr=""/>
          <p:cNvPicPr/>
          <p:nvPr/>
        </p:nvPicPr>
        <p:blipFill>
          <a:blip r:embed="rId2"/>
          <a:stretch/>
        </p:blipFill>
        <p:spPr>
          <a:xfrm>
            <a:off x="4716360" y="907920"/>
            <a:ext cx="3783240" cy="28386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ВЫСТАВКА ДЕТСКИХ РАБОТ К ДНЮ ПОБЕДЫ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7" name="Объект 4" descr=""/>
          <p:cNvPicPr/>
          <p:nvPr/>
        </p:nvPicPr>
        <p:blipFill>
          <a:blip r:embed="rId3"/>
          <a:stretch/>
        </p:blipFill>
        <p:spPr>
          <a:xfrm>
            <a:off x="395280" y="3868560"/>
            <a:ext cx="3824280" cy="2868840"/>
          </a:xfrm>
          <a:prstGeom prst="rect">
            <a:avLst/>
          </a:prstGeom>
          <a:ln w="0">
            <a:noFill/>
          </a:ln>
        </p:spPr>
      </p:pic>
      <p:pic>
        <p:nvPicPr>
          <p:cNvPr id="248" name="Объект 5" descr=""/>
          <p:cNvPicPr/>
          <p:nvPr/>
        </p:nvPicPr>
        <p:blipFill>
          <a:blip r:embed="rId4"/>
          <a:stretch/>
        </p:blipFill>
        <p:spPr>
          <a:xfrm>
            <a:off x="4716360" y="3868560"/>
            <a:ext cx="3824280" cy="2868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Содержимое 4" descr="P1020841.JPG"/>
          <p:cNvPicPr/>
          <p:nvPr/>
        </p:nvPicPr>
        <p:blipFill>
          <a:blip r:embed="rId1"/>
          <a:stretch/>
        </p:blipFill>
        <p:spPr>
          <a:xfrm>
            <a:off x="357120" y="114300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250" name="Содержимое 5" descr="P1020809.JPG"/>
          <p:cNvPicPr/>
          <p:nvPr/>
        </p:nvPicPr>
        <p:blipFill>
          <a:blip r:embed="rId2"/>
          <a:stretch/>
        </p:blipFill>
        <p:spPr>
          <a:xfrm>
            <a:off x="4572000" y="1571760"/>
            <a:ext cx="4329000" cy="32464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ВСТРЕЧА С ВЕТЕРАНАМИ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МИНИ-МУЗЕЙ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«МЫ – ЖИТЕЛИ КРАСНОЯРСКОГО КРАЯ»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8" name="Picture 10" descr="карта"/>
          <p:cNvPicPr/>
          <p:nvPr/>
        </p:nvPicPr>
        <p:blipFill>
          <a:blip r:embed="rId1"/>
          <a:stretch/>
        </p:blipFill>
        <p:spPr>
          <a:xfrm>
            <a:off x="285840" y="1643040"/>
            <a:ext cx="3892320" cy="3143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Изображение 021"/>
          <p:cNvPicPr/>
          <p:nvPr/>
        </p:nvPicPr>
        <p:blipFill>
          <a:blip r:embed="rId2"/>
          <a:stretch/>
        </p:blipFill>
        <p:spPr>
          <a:xfrm>
            <a:off x="4500720" y="1214280"/>
            <a:ext cx="4286160" cy="32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енные жители  красноярского кра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1" name="Picture 7" descr="эвенки"/>
          <p:cNvPicPr/>
          <p:nvPr/>
        </p:nvPicPr>
        <p:blipFill>
          <a:blip r:embed="rId1"/>
          <a:stretch/>
        </p:blipFill>
        <p:spPr>
          <a:xfrm>
            <a:off x="250920" y="1413000"/>
            <a:ext cx="4200480" cy="2809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хакасы1"/>
          <p:cNvPicPr/>
          <p:nvPr/>
        </p:nvPicPr>
        <p:blipFill>
          <a:blip r:embed="rId2"/>
          <a:stretch/>
        </p:blipFill>
        <p:spPr>
          <a:xfrm>
            <a:off x="4714920" y="1928880"/>
            <a:ext cx="4191120" cy="286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опримечательности родного город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4" name="Picture 9" descr="Изображение 054"/>
          <p:cNvPicPr/>
          <p:nvPr/>
        </p:nvPicPr>
        <p:blipFill>
          <a:blip r:embed="rId1"/>
          <a:stretch/>
        </p:blipFill>
        <p:spPr>
          <a:xfrm>
            <a:off x="571680" y="1214280"/>
            <a:ext cx="3524040" cy="2643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площадб Победы"/>
          <p:cNvPicPr/>
          <p:nvPr/>
        </p:nvPicPr>
        <p:blipFill>
          <a:blip r:embed="rId2"/>
          <a:stretch/>
        </p:blipFill>
        <p:spPr>
          <a:xfrm>
            <a:off x="4714920" y="1143000"/>
            <a:ext cx="3357360" cy="2014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мост"/>
          <p:cNvPicPr/>
          <p:nvPr/>
        </p:nvPicPr>
        <p:blipFill>
          <a:blip r:embed="rId3"/>
          <a:stretch/>
        </p:blipFill>
        <p:spPr>
          <a:xfrm>
            <a:off x="642960" y="4143240"/>
            <a:ext cx="3240000" cy="1727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фонтан"/>
          <p:cNvPicPr/>
          <p:nvPr/>
        </p:nvPicPr>
        <p:blipFill>
          <a:blip r:embed="rId4"/>
          <a:stretch/>
        </p:blipFill>
        <p:spPr>
          <a:xfrm>
            <a:off x="4357800" y="3643200"/>
            <a:ext cx="3930480" cy="235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МИНИ-МУЗЕЙ «КАРТИННАЯ ГАЛЕРЕЯ»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9" name="Объект 3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497720" cy="505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озиция посвященная защитникам отечества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1" name="Объект 3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139160" cy="535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УЧАСТИЕ В КРАЕВОЙ АКЦ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«ПОЗДРАВЬ ВЕТЕРАНА С ПОБЕДОЙ»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3" name="Объект 6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130640" cy="3095640"/>
          </a:xfrm>
          <a:prstGeom prst="rect">
            <a:avLst/>
          </a:prstGeom>
          <a:ln w="0">
            <a:noFill/>
          </a:ln>
        </p:spPr>
      </p:pic>
      <p:pic>
        <p:nvPicPr>
          <p:cNvPr id="234" name="Объект 7" descr=""/>
          <p:cNvPicPr/>
          <p:nvPr/>
        </p:nvPicPr>
        <p:blipFill>
          <a:blip r:embed="rId2"/>
          <a:stretch/>
        </p:blipFill>
        <p:spPr>
          <a:xfrm>
            <a:off x="4764240" y="1773360"/>
            <a:ext cx="4130640" cy="30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4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3720960" cy="279072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5" descr=""/>
          <p:cNvPicPr/>
          <p:nvPr/>
        </p:nvPicPr>
        <p:blipFill>
          <a:blip r:embed="rId2"/>
          <a:stretch/>
        </p:blipFill>
        <p:spPr>
          <a:xfrm>
            <a:off x="4427640" y="1773360"/>
            <a:ext cx="4154400" cy="31147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ДЕТСКО-РОДИТЕЛЬСКИЙ ПРОЕК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«МЫ ПОМНИМ»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Содержимое 4" descr="P1020915.JPG"/>
          <p:cNvPicPr/>
          <p:nvPr/>
        </p:nvPicPr>
        <p:blipFill>
          <a:blip r:embed="rId1"/>
          <a:stretch/>
        </p:blipFill>
        <p:spPr>
          <a:xfrm>
            <a:off x="428760" y="1357200"/>
            <a:ext cx="4190760" cy="3143520"/>
          </a:xfrm>
          <a:prstGeom prst="rect">
            <a:avLst/>
          </a:prstGeom>
          <a:ln w="0">
            <a:noFill/>
          </a:ln>
        </p:spPr>
      </p:pic>
      <p:pic>
        <p:nvPicPr>
          <p:cNvPr id="239" name="Содержимое 5" descr="P1020922.JPG"/>
          <p:cNvPicPr/>
          <p:nvPr/>
        </p:nvPicPr>
        <p:blipFill>
          <a:blip r:embed="rId2"/>
          <a:stretch/>
        </p:blipFill>
        <p:spPr>
          <a:xfrm>
            <a:off x="4857840" y="2000160"/>
            <a:ext cx="3905280" cy="29289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МУЗЫКАЛЬНО-ТЕАТРАЛИЗОВАННОЕ ПРЕДСТАВЛЕНИЕ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«ПРОХОДЯТ ГОДА – НАША ПАМЯТЬ ЖИВА»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4:30:08Z</dcterms:created>
  <dc:creator>User</dc:creator>
  <dc:description/>
  <dc:language>en-US</dc:language>
  <cp:lastModifiedBy>леон куз</cp:lastModifiedBy>
  <dcterms:modified xsi:type="dcterms:W3CDTF">2023-09-19T16:05:10Z</dcterms:modified>
  <cp:revision>21</cp:revision>
  <dc:subject/>
  <dc:title>Формирование начал активной гражданской позиции старших дошкольников</dc:title>
</cp:coreProperties>
</file>