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6BE-5E84-4932-B430-EFE6ECCB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19C-D2A6-406C-9865-708435A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664-EC06-411E-81E3-32BB243F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89C-E8BB-43BE-A16A-8F775BCB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4249-2F89-4593-9D53-84DD6152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DC2C-8B71-4182-B21C-D252341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270C-99A3-4B28-82C1-150685C2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9003-1EA8-4C72-B931-CE651B1D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B0D0-E240-4982-8E82-F21E96BA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7C6-ABA9-4585-91DF-8081D8EA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FEE2-B2F6-43FC-866E-D2CC0BF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233-3FE8-40FD-81F9-E4D5F4C9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F7D-6B8A-4BC5-A478-678DE49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0FE5-047F-4BC7-B1FD-D8A9A0E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5529-E8A1-4CF8-AB4A-327DC569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9D6-EC87-48DD-AB0B-E2446D0E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642E-8F46-4E99-99EA-5EFFBF88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DD7A-9FB9-426D-A6B2-9754DA0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1DEF-ACF2-4DF0-BC34-50721E5C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11FF-5BBF-48CB-9AD0-56995839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A906-1F34-48BF-9998-24E394B2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322F-F8C8-40EF-B0E2-FE4962E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5DC-9932-4EC3-A85E-EF470D3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1E71-8CA9-43F7-8CCE-FE5E9DDC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09E2-B8DC-4DDD-8B85-74153980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981C-9756-4553-96FD-B05EEA7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1D22-2172-42D9-8F3A-74B658F5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D0DD-F0EF-4BEF-9B18-6FB34533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6EDA-C602-40A8-99B8-A9419610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B829-6E75-4F72-BE2A-62880EBD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4FB1-A40C-4BC6-AC9F-54FF26A6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D54C-F261-46D5-87D2-74B49F2E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27B6-54A7-4E33-88C1-11612523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A70-244A-4029-9FA7-8D3E4C36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E2AE-6FFE-4D3F-ACC1-5A18D79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0CA28-C52C-4D13-BE34-F8442C6D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E215-95C0-4155-961B-BFD6E86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CEE36-0C66-4398-88EB-4F1BC27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4539-9894-4F0E-B6FE-08E1C4E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EBB5-7210-4E5F-906D-078E311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07D4-CA57-4F58-A615-5ABE326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DE79-9951-4ED1-9C9D-34B8D27C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6CB5-EB2D-48EF-8A63-69C9E57E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E37F-168A-4F8A-8FB0-556FA1C1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8D6-1DE6-49AD-BC01-27BE859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E44D2-BEAF-4EA6-A16A-9E37D42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41FC-D16C-4373-95A7-C99F6A4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1DFE-1CBD-46D6-A6B3-C1EB3E99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AB4AE-0527-4070-9D28-BCE494C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478C-9465-4487-9B36-7594D9C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CA92-5A20-40B1-97AD-05CBA350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92CC-E495-4984-BC10-6FC3FB8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3B3D7-9901-4193-B630-8DD83D1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CCA5-4E7B-4DE0-B53C-DC3ED560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3458-01B9-48C2-94A0-33491711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AFE-29EA-4C63-8F32-DF82586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7280-57EC-4E86-A878-9D6A5166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CE9-F947-431B-A5A8-CDE749A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D22-CCA9-407A-BA2C-0DC3FE30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CDF-0DDE-4CA8-B4CA-14F7915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A9B-6A19-4598-9752-4E4A13896C3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8D1-4398-4EFB-B51A-F84007380CE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084-6E14-449E-80C5-7F85EA885D3E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3D23-F205-4623-8ADC-A832A1BC13B9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24F-D9D2-4B75-9D0C-8D8A2A95F39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7560" y="785520"/>
            <a:ext cx="6540480" cy="27860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МУНИЦИПАЛЬНОЕ ДОШКОЛЬНОЕ ОБРАЗОВАТЕЛЬНОЕ БЮДЖЕТНОЕ УЧРЕЖДЕНИЕ «ДЕТСКИЙ СА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№ 15 «ТОПОЛЕК» ПРИСМОТР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И ОЗДОРОВЛЕНИЯ»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195280" y="3645000"/>
            <a:ext cx="6715080" cy="1071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НУРДОВЛЕТОВА ИРИНА АНАТОЛЬЕВНА - ВОСПИТА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ung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4" descr="P1020905.JPG"/>
          <p:cNvPicPr/>
          <p:nvPr/>
        </p:nvPicPr>
        <p:blipFill>
          <a:blip r:embed="rId1"/>
          <a:stretch/>
        </p:blipFill>
        <p:spPr>
          <a:xfrm>
            <a:off x="324000" y="1125360"/>
            <a:ext cx="4416120" cy="3311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2120" y="4046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ПРОХОДЯТ ГОДА – НАША ПАМЯТЬ ЖИВА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3" name="Содержимое 4" descr="P1020891.JPG"/>
          <p:cNvPicPr/>
          <p:nvPr/>
        </p:nvPicPr>
        <p:blipFill>
          <a:blip r:embed="rId2"/>
          <a:stretch/>
        </p:blipFill>
        <p:spPr>
          <a:xfrm>
            <a:off x="4827600" y="3284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5" name="Объект 5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783240" cy="2838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ЫСТАВКА ДЕТСКИХ РАБОТ К ДНЮ ПОБЕД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3"/>
          <a:stretch/>
        </p:blipFill>
        <p:spPr>
          <a:xfrm>
            <a:off x="395280" y="3868560"/>
            <a:ext cx="3824280" cy="2868840"/>
          </a:xfrm>
          <a:prstGeom prst="rect">
            <a:avLst/>
          </a:prstGeom>
          <a:ln w="0">
            <a:noFill/>
          </a:ln>
        </p:spPr>
      </p:pic>
      <p:pic>
        <p:nvPicPr>
          <p:cNvPr id="248" name="Объект 5" descr=""/>
          <p:cNvPicPr/>
          <p:nvPr/>
        </p:nvPicPr>
        <p:blipFill>
          <a:blip r:embed="rId4"/>
          <a:stretch/>
        </p:blipFill>
        <p:spPr>
          <a:xfrm>
            <a:off x="4716360" y="3868560"/>
            <a:ext cx="3824280" cy="2868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4" descr="P1020841.JPG"/>
          <p:cNvPicPr/>
          <p:nvPr/>
        </p:nvPicPr>
        <p:blipFill>
          <a:blip r:embed="rId1"/>
          <a:stretch/>
        </p:blipFill>
        <p:spPr>
          <a:xfrm>
            <a:off x="357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5" descr="P1020809.JPG"/>
          <p:cNvPicPr/>
          <p:nvPr/>
        </p:nvPicPr>
        <p:blipFill>
          <a:blip r:embed="rId2"/>
          <a:stretch/>
        </p:blipFill>
        <p:spPr>
          <a:xfrm>
            <a:off x="4572000" y="1571760"/>
            <a:ext cx="4329000" cy="3246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СТРЕЧА С ВЕТЕРАНАМИ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ИНИ-МУЗЕЙ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Ы – ЖИТЕЛИ КРАСНОЯРСКОГО КРАЯ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10" descr="карта"/>
          <p:cNvPicPr/>
          <p:nvPr/>
        </p:nvPicPr>
        <p:blipFill>
          <a:blip r:embed="rId1"/>
          <a:stretch/>
        </p:blipFill>
        <p:spPr>
          <a:xfrm>
            <a:off x="285840" y="1643040"/>
            <a:ext cx="3892320" cy="3143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Изображение 021"/>
          <p:cNvPicPr/>
          <p:nvPr/>
        </p:nvPicPr>
        <p:blipFill>
          <a:blip r:embed="rId2"/>
          <a:stretch/>
        </p:blipFill>
        <p:spPr>
          <a:xfrm>
            <a:off x="4500720" y="121428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енные жители  красноярского кра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1" name="Picture 7" descr="эвенки"/>
          <p:cNvPicPr/>
          <p:nvPr/>
        </p:nvPicPr>
        <p:blipFill>
          <a:blip r:embed="rId1"/>
          <a:stretch/>
        </p:blipFill>
        <p:spPr>
          <a:xfrm>
            <a:off x="250920" y="1413000"/>
            <a:ext cx="4200480" cy="2809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хакасы1"/>
          <p:cNvPicPr/>
          <p:nvPr/>
        </p:nvPicPr>
        <p:blipFill>
          <a:blip r:embed="rId2"/>
          <a:stretch/>
        </p:blipFill>
        <p:spPr>
          <a:xfrm>
            <a:off x="4714920" y="1928880"/>
            <a:ext cx="419112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примечательности родного город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4" name="Picture 9" descr="Изображение 054"/>
          <p:cNvPicPr/>
          <p:nvPr/>
        </p:nvPicPr>
        <p:blipFill>
          <a:blip r:embed="rId1"/>
          <a:stretch/>
        </p:blipFill>
        <p:spPr>
          <a:xfrm>
            <a:off x="571680" y="121428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площадб Победы"/>
          <p:cNvPicPr/>
          <p:nvPr/>
        </p:nvPicPr>
        <p:blipFill>
          <a:blip r:embed="rId2"/>
          <a:stretch/>
        </p:blipFill>
        <p:spPr>
          <a:xfrm>
            <a:off x="4714920" y="1143000"/>
            <a:ext cx="335736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мост"/>
          <p:cNvPicPr/>
          <p:nvPr/>
        </p:nvPicPr>
        <p:blipFill>
          <a:blip r:embed="rId3"/>
          <a:stretch/>
        </p:blipFill>
        <p:spPr>
          <a:xfrm>
            <a:off x="642960" y="414324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фонтан"/>
          <p:cNvPicPr/>
          <p:nvPr/>
        </p:nvPicPr>
        <p:blipFill>
          <a:blip r:embed="rId4"/>
          <a:stretch/>
        </p:blipFill>
        <p:spPr>
          <a:xfrm>
            <a:off x="4357800" y="3643200"/>
            <a:ext cx="3930480" cy="235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ИНИ-МУЗЕЙ «КАРТИННАЯ ГАЛЕРЕЯ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9" name="Объект 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97720" cy="505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зиция посвященная защитникам отечества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139160" cy="535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УЧАСТИЕ В КРАЕВОЙ АК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«ПОЗДРАВЬ ВЕТЕРАНА С ПОБЕДОЙ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3" name="Объект 6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130640" cy="309564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7" descr=""/>
          <p:cNvPicPr/>
          <p:nvPr/>
        </p:nvPicPr>
        <p:blipFill>
          <a:blip r:embed="rId2"/>
          <a:stretch/>
        </p:blipFill>
        <p:spPr>
          <a:xfrm>
            <a:off x="4764240" y="1773360"/>
            <a:ext cx="4130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4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720960" cy="279072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5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154400" cy="3114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ДЕТСКО-РОДИТЕЛЬСКИЙ ПРОЕК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«МЫ ПОМНИМ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4" descr="P1020915.JPG"/>
          <p:cNvPicPr/>
          <p:nvPr/>
        </p:nvPicPr>
        <p:blipFill>
          <a:blip r:embed="rId1"/>
          <a:stretch/>
        </p:blipFill>
        <p:spPr>
          <a:xfrm>
            <a:off x="428760" y="1357200"/>
            <a:ext cx="4190760" cy="31435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5" descr="P1020922.JPG"/>
          <p:cNvPicPr/>
          <p:nvPr/>
        </p:nvPicPr>
        <p:blipFill>
          <a:blip r:embed="rId2"/>
          <a:stretch/>
        </p:blipFill>
        <p:spPr>
          <a:xfrm>
            <a:off x="4857840" y="200016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МУЗЫКАЛЬНО-ТЕАТРАЛИЗОВАННОЕ ПРЕДСТАВЛЕНИ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«ПРОХОДЯТ ГОДА – НАША ПАМЯТЬ ЖИВА»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30:08Z</dcterms:created>
  <dc:creator>User</dc:creator>
  <dc:description/>
  <dc:language>en-US</dc:language>
  <cp:lastModifiedBy>леон куз</cp:lastModifiedBy>
  <dcterms:modified xsi:type="dcterms:W3CDTF">2023-09-19T16:05:10Z</dcterms:modified>
  <cp:revision>21</cp:revision>
  <dc:subject/>
  <dc:title>Формирование начал активной гражданской позиции старших дошкольников</dc:title>
</cp:coreProperties>
</file>