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596-3865-4C3F-9714-494F57A8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8BE-35D7-4022-8FB9-7FC1615F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3CD-BB25-43FC-BF57-462736FC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9FB-330F-4F65-B728-95DFA546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E9DB-0879-449B-81A5-A05B2CED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8332-1B0E-43E6-A77F-A1A6115A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2969-BC5D-48C3-BDA2-EB11060C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F5E8-6045-4048-8703-BCAF2022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690B-AC2B-4776-8126-5874E157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1E03-8C7D-4329-B2C4-FD8F0558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887-CAC9-4410-832A-03C5820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911-B300-4B76-964B-2380DA4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8355-1077-4B6A-A7E7-78CB55B5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DE08-F1DA-4CF5-8D37-934241AC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B121-BF13-4151-8CF0-8CD0D91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48B6-69EE-4F12-8732-ECADA83F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27B9-5C51-4948-90D2-FF732836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632-B0E8-4C23-8435-4FAE7A71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21E-66EC-4E8A-A60D-7A236BBE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7A8-9B1A-43B9-BC05-6964AB1F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23F-CE6B-4453-8DCC-85C12A64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D17-2496-4AA5-ADC2-C3CAC1D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DCD-EB83-4ACE-B559-11FDECDD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0CC-7C3D-4DDB-9B0A-D4025FD9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186F-4880-4EFC-815E-E62A8ACCF7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E0C-FEB2-49F5-920A-1EFB47EB0D2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84692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4000" y="549000"/>
            <a:ext cx="8064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униципальное дошкольное образовательное бюджетное учреждени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Детский сад № 15 «Тополек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66"/>
                </a:solidFill>
                <a:latin typeface="Verdana"/>
              </a:rPr>
              <a:t>"НЕТРАДИЦИОННЫЕ ФОРМЫ РАБОТЫ С РОДИТЕЛЯМИ"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оспитател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урдавлетова И.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едведева Л.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Изображение 054"/>
          <p:cNvPicPr/>
          <p:nvPr/>
        </p:nvPicPr>
        <p:blipFill>
          <a:blip r:embed="rId1"/>
          <a:stretch/>
        </p:blipFill>
        <p:spPr>
          <a:xfrm>
            <a:off x="468360" y="0"/>
            <a:ext cx="3529080" cy="233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мост"/>
          <p:cNvPicPr/>
          <p:nvPr/>
        </p:nvPicPr>
        <p:blipFill>
          <a:blip r:embed="rId2"/>
          <a:stretch/>
        </p:blipFill>
        <p:spPr>
          <a:xfrm>
            <a:off x="395280" y="2421000"/>
            <a:ext cx="3600360" cy="192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площадб Победы"/>
          <p:cNvPicPr/>
          <p:nvPr/>
        </p:nvPicPr>
        <p:blipFill>
          <a:blip r:embed="rId3"/>
          <a:stretch/>
        </p:blipFill>
        <p:spPr>
          <a:xfrm>
            <a:off x="4788000" y="0"/>
            <a:ext cx="3730680" cy="2355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DSC_0009"/>
          <p:cNvPicPr/>
          <p:nvPr/>
        </p:nvPicPr>
        <p:blipFill>
          <a:blip r:embed="rId4"/>
          <a:stretch/>
        </p:blipFill>
        <p:spPr>
          <a:xfrm>
            <a:off x="4643280" y="2492280"/>
            <a:ext cx="1960560" cy="403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DSC_0010"/>
          <p:cNvPicPr/>
          <p:nvPr/>
        </p:nvPicPr>
        <p:blipFill>
          <a:blip r:embed="rId5"/>
          <a:stretch/>
        </p:blipFill>
        <p:spPr>
          <a:xfrm>
            <a:off x="6732720" y="2492280"/>
            <a:ext cx="1788840" cy="403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фонтан"/>
          <p:cNvPicPr/>
          <p:nvPr/>
        </p:nvPicPr>
        <p:blipFill>
          <a:blip r:embed="rId6"/>
          <a:stretch/>
        </p:blipFill>
        <p:spPr>
          <a:xfrm>
            <a:off x="395280" y="4437000"/>
            <a:ext cx="3527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1080"/>
            <a:ext cx="90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ы привлекаем родителей «Гость группы»  для проведения практикумов по  ознакомлению с разными профессия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3" descr="IMG_0363_resize"/>
          <p:cNvPicPr/>
          <p:nvPr/>
        </p:nvPicPr>
        <p:blipFill>
          <a:blip r:embed="rId1"/>
          <a:stretch/>
        </p:blipFill>
        <p:spPr>
          <a:xfrm>
            <a:off x="468360" y="692280"/>
            <a:ext cx="3983040" cy="298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IMG_0366_resize"/>
          <p:cNvPicPr/>
          <p:nvPr/>
        </p:nvPicPr>
        <p:blipFill>
          <a:blip r:embed="rId2"/>
          <a:stretch/>
        </p:blipFill>
        <p:spPr>
          <a:xfrm>
            <a:off x="4643280" y="692280"/>
            <a:ext cx="3984840" cy="29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IMG_0371_resize"/>
          <p:cNvPicPr/>
          <p:nvPr/>
        </p:nvPicPr>
        <p:blipFill>
          <a:blip r:embed="rId3"/>
          <a:stretch/>
        </p:blipFill>
        <p:spPr>
          <a:xfrm>
            <a:off x="395280" y="3780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G_0373_resize"/>
          <p:cNvPicPr/>
          <p:nvPr/>
        </p:nvPicPr>
        <p:blipFill>
          <a:blip r:embed="rId4"/>
          <a:stretch/>
        </p:blipFill>
        <p:spPr>
          <a:xfrm>
            <a:off x="4643280" y="3708360"/>
            <a:ext cx="42008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Arial"/>
              </a:rPr>
              <a:t>Досуговая форм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для установления эмоционального контакта между педагогами, родителями и детьми.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радиционно в нашей группе  проходят литературные гостиные в честь дня Матери. Эта традиция способствует воспитанию бережного и уважительного отношения к матери, сплочению детско-родительского коллектива. День Защитникам Отечества  отмечаем организацией  спортивных праздников «Вместе с папой»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IMG_8673_resize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IMG_8682_resize"/>
          <p:cNvPicPr/>
          <p:nvPr/>
        </p:nvPicPr>
        <p:blipFill>
          <a:blip r:embed="rId2"/>
          <a:stretch/>
        </p:blipFill>
        <p:spPr>
          <a:xfrm>
            <a:off x="4643280" y="385920"/>
            <a:ext cx="4249800" cy="318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мал"/>
          <p:cNvPicPr/>
          <p:nvPr/>
        </p:nvPicPr>
        <p:blipFill>
          <a:blip r:embed="rId3"/>
          <a:stretch/>
        </p:blipFill>
        <p:spPr>
          <a:xfrm>
            <a:off x="4643280" y="3645000"/>
            <a:ext cx="424980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мал2"/>
          <p:cNvPicPr/>
          <p:nvPr/>
        </p:nvPicPr>
        <p:blipFill>
          <a:blip r:embed="rId4"/>
          <a:stretch/>
        </p:blipFill>
        <p:spPr>
          <a:xfrm>
            <a:off x="395280" y="3668760"/>
            <a:ext cx="4176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дной из результативных форм являются выставки совместного творчества. Родители проявляют интерес, увлекаются, создают много разнообразных совместных с детьми поделок, рисунков,  активно участвуют в выставках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5" descr="мал3"/>
          <p:cNvPicPr/>
          <p:nvPr/>
        </p:nvPicPr>
        <p:blipFill>
          <a:blip r:embed="rId1"/>
          <a:stretch/>
        </p:blipFill>
        <p:spPr>
          <a:xfrm>
            <a:off x="0" y="3141720"/>
            <a:ext cx="4427640" cy="3479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мал4"/>
          <p:cNvPicPr/>
          <p:nvPr/>
        </p:nvPicPr>
        <p:blipFill>
          <a:blip r:embed="rId2"/>
          <a:stretch/>
        </p:blipFill>
        <p:spPr>
          <a:xfrm>
            <a:off x="4572000" y="3139920"/>
            <a:ext cx="4572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41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Наглядно-информационная форм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используется для ознакомления с работой детского сада, особенностями воспитания и развития, о формах и методах работы с дошкольниками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5" descr="IMG_2289_resize"/>
          <p:cNvPicPr/>
          <p:nvPr/>
        </p:nvPicPr>
        <p:blipFill>
          <a:blip r:embed="rId1"/>
          <a:stretch/>
        </p:blipFill>
        <p:spPr>
          <a:xfrm>
            <a:off x="5148360" y="3860640"/>
            <a:ext cx="3768480" cy="282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IMG_2287_resize"/>
          <p:cNvPicPr/>
          <p:nvPr/>
        </p:nvPicPr>
        <p:blipFill>
          <a:blip r:embed="rId2"/>
          <a:stretch/>
        </p:blipFill>
        <p:spPr>
          <a:xfrm>
            <a:off x="250920" y="105264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IMG_2290_resize1"/>
          <p:cNvPicPr/>
          <p:nvPr/>
        </p:nvPicPr>
        <p:blipFill>
          <a:blip r:embed="rId3"/>
          <a:stretch/>
        </p:blipFill>
        <p:spPr>
          <a:xfrm>
            <a:off x="250920" y="4581360"/>
            <a:ext cx="4608360" cy="207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IMG_2291_resize23"/>
          <p:cNvPicPr/>
          <p:nvPr/>
        </p:nvPicPr>
        <p:blipFill>
          <a:blip r:embed="rId4"/>
          <a:stretch/>
        </p:blipFill>
        <p:spPr>
          <a:xfrm>
            <a:off x="5148360" y="1052640"/>
            <a:ext cx="3779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ы привлекаем родителей к благоустройству и озеленению территории  детского сада.  Это позволило  превратить её буквально в сказочный сад.  Мы ежегодно являемся призёрами конкурса «Мой любимый город»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5" descr="кор2"/>
          <p:cNvPicPr/>
          <p:nvPr/>
        </p:nvPicPr>
        <p:blipFill>
          <a:blip r:embed="rId1"/>
          <a:stretch/>
        </p:blipFill>
        <p:spPr>
          <a:xfrm>
            <a:off x="4500720" y="2492280"/>
            <a:ext cx="4643280" cy="33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кор3"/>
          <p:cNvPicPr/>
          <p:nvPr/>
        </p:nvPicPr>
        <p:blipFill>
          <a:blip r:embed="rId2"/>
          <a:stretch/>
        </p:blipFill>
        <p:spPr>
          <a:xfrm>
            <a:off x="0" y="249228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92428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вое выступление хотим  закончить словами:   у нас одна задача – воспитывать будущих созидателей жизни. Каков человек – таков мир, который он создает вокруг себя. Хочется верить, что наши дети, когда вырастут, будут любить и оберегать своих близких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Спасибо за внимание !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4248360" cy="11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"/>
              </a:rPr>
              <a:t>Актуальность</a:t>
            </a:r>
            <a:r>
              <a:rPr b="0" lang="ru-RU" sz="4000" spc="-1" strike="noStrike">
                <a:solidFill>
                  <a:srgbClr val="ccff66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От того, как прошло детство, кто вёл ребёнка за руку в детские годы, что вошло в его разум и сердце из окружающего мира – от этого в решающей степени зависит, каким человеком станет сегодняшний малыш»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.А. Сухомлинский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132000" y="371628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Verdana"/>
              </a:rPr>
              <a:t>Цель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9280" y="4437000"/>
            <a:ext cx="871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рганизация нового культурно-образовательного пространства, где главной ценностью является личность ребенка и благополучная семь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480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традиционные формы с родителями делятся на 4 вида: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. Информационно-аналитические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. Познавательные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3. Досуговые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4. Наглядно-информационны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821844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работе с родителями нам помогает «Почта доверия» - это сделанный  почтовый ящик, куда они  кладут записки со своими проблемами, идеями, предложениями, вопросами на любую тему воспитания, образования ребенка. Эти вопросы обсуждаются на родительских собраниях, либо в виде консультаций, как в письменной, так и в устной индивидуальной формах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IMG_2288_resize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413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G_2297_resize"/>
          <p:cNvPicPr/>
          <p:nvPr/>
        </p:nvPicPr>
        <p:blipFill>
          <a:blip r:embed="rId2"/>
          <a:stretch/>
        </p:blipFill>
        <p:spPr>
          <a:xfrm>
            <a:off x="0" y="2728800"/>
            <a:ext cx="5508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Arial"/>
              </a:rPr>
              <a:t>Познавательные формы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организации общения педагогов и родителей призваны выполнять доминирующую роль в повышении психолого-педагогической культуры родителей, также они способствуют изменению взглядов родителей на воспитание и образование  ребенка. Мы активно  используем  такую из  образовательных форм, как  совместные  детско-родительские проекты. Работа над ними имеет большое значение для формирования личности ребёнка, укрепление и развитие детско-родительских отношений. Поиского-творческие результаты проектов помогли создать краеведческий мини-музей в группе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2500200" cy="2019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3020113"/>
          <p:cNvPicPr/>
          <p:nvPr/>
        </p:nvPicPr>
        <p:blipFill>
          <a:blip r:embed="rId2"/>
          <a:stretch/>
        </p:blipFill>
        <p:spPr>
          <a:xfrm>
            <a:off x="6377040" y="0"/>
            <a:ext cx="2766960" cy="218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венки"/>
          <p:cNvPicPr/>
          <p:nvPr/>
        </p:nvPicPr>
        <p:blipFill>
          <a:blip r:embed="rId3"/>
          <a:stretch/>
        </p:blipFill>
        <p:spPr>
          <a:xfrm>
            <a:off x="0" y="4381560"/>
            <a:ext cx="3927600" cy="247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хакасы1"/>
          <p:cNvPicPr/>
          <p:nvPr/>
        </p:nvPicPr>
        <p:blipFill>
          <a:blip r:embed="rId4"/>
          <a:stretch/>
        </p:blipFill>
        <p:spPr>
          <a:xfrm>
            <a:off x="5937120" y="4838760"/>
            <a:ext cx="3206880" cy="2019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MG_0317"/>
          <p:cNvPicPr/>
          <p:nvPr/>
        </p:nvPicPr>
        <p:blipFill>
          <a:blip r:embed="rId5"/>
          <a:stretch/>
        </p:blipFill>
        <p:spPr>
          <a:xfrm>
            <a:off x="2268360" y="170028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и были организованны  и успешно реализованы следующие проекты: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Моя любимая мамочка» в котором ребёнок  вместе с папой делал фото альбом о маме с её юного возраста; «Генеалогическое древо моей семьи по женской линии»;  «Мой любимый Минусинск»; «Памятники города Минусинска»; «Города Красноярского края», «Мы помним» посвящённый воинам ВОВ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древо"/>
          <p:cNvPicPr/>
          <p:nvPr/>
        </p:nvPicPr>
        <p:blipFill>
          <a:blip r:embed="rId1"/>
          <a:stretch/>
        </p:blipFill>
        <p:spPr>
          <a:xfrm>
            <a:off x="108000" y="3189240"/>
            <a:ext cx="5580000" cy="366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G_8695_resize"/>
          <p:cNvPicPr/>
          <p:nvPr/>
        </p:nvPicPr>
        <p:blipFill>
          <a:blip r:embed="rId2"/>
          <a:stretch/>
        </p:blipFill>
        <p:spPr>
          <a:xfrm>
            <a:off x="5867280" y="3068640"/>
            <a:ext cx="2849760" cy="378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MG_0014_resize"/>
          <p:cNvPicPr/>
          <p:nvPr/>
        </p:nvPicPr>
        <p:blipFill>
          <a:blip r:embed="rId3"/>
          <a:stretch/>
        </p:blipFill>
        <p:spPr>
          <a:xfrm>
            <a:off x="4859280" y="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MG_8672_resize"/>
          <p:cNvPicPr/>
          <p:nvPr/>
        </p:nvPicPr>
        <p:blipFill>
          <a:blip r:embed="rId4"/>
          <a:stretch/>
        </p:blipFill>
        <p:spPr>
          <a:xfrm>
            <a:off x="539640" y="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05:37:37Z</dcterms:created>
  <dc:creator>user</dc:creator>
  <dc:description/>
  <dc:language>en-US</dc:language>
  <cp:lastModifiedBy>леон куз</cp:lastModifiedBy>
  <dcterms:modified xsi:type="dcterms:W3CDTF">2023-09-19T16:14:02Z</dcterms:modified>
  <cp:revision>47</cp:revision>
  <dc:subject/>
  <dc:title>Предметно-пространственная развивающая среда подготовительной к школе группы</dc:title>
</cp:coreProperties>
</file>