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C277-0846-4CC0-A23D-06BBD375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B8CF-913F-46BC-BD10-B8F44B92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C1F-AAFF-4C20-9BD6-0C44ED6F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37A0-65C7-438A-865E-EF1B462F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A4F8-70A3-49EF-9208-48B1CC56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21E3-3A27-485D-958A-993F8AA2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2B8F-FC12-4374-888D-1BA0D07D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9F0B-4CC8-49C1-841D-DEFFD44F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7BAE-6ECD-40D2-A672-D9214181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0028-7DE5-49E0-8766-2FFF27F2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B726-856E-4DF5-8034-5B3C8B4E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B1BB-B4AC-425C-8D12-1967E516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2C1E-CE7E-454F-9484-F7C20F07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299E-D986-48A0-BD9B-909F6BA0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4593-A3D5-4A8B-A798-106C8913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6B93-3C73-4CB8-90E1-50845F24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5523-D4C2-4059-878F-657D6052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3AC1-9EDF-4C55-B078-E4C63148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EEB3-0860-4CDB-9434-5DB3D91A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0CF-BCF5-4C26-A903-ABC13F08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A4B1-7FE2-41F5-8AED-A00C8B18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CBB2-498A-4841-B5C2-620820B1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60F9-CD00-48C3-BD4C-8DA90A01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C66B-04C3-4F52-9B3E-B56903A0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8C16-18BC-47FE-81EE-85884909B1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D149-5B8A-4CA3-BD81-81EF6B08861F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846920" cy="259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4000" y="549000"/>
            <a:ext cx="80643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Муниципальное дошкольное образовательное бюджетное учреждение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«Детский сад № 15 «Тополек»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66"/>
                </a:solidFill>
                <a:latin typeface="Verdana"/>
              </a:rPr>
              <a:t>"НЕТРАДИЦИОННЫЕ ФОРМЫ РАБОТЫ С РОДИТЕЛЯМИ"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оспитатели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урдавлетова И.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едведева Л.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Изображение 054"/>
          <p:cNvPicPr/>
          <p:nvPr/>
        </p:nvPicPr>
        <p:blipFill>
          <a:blip r:embed="rId1"/>
          <a:stretch/>
        </p:blipFill>
        <p:spPr>
          <a:xfrm>
            <a:off x="468360" y="0"/>
            <a:ext cx="3529080" cy="233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мост"/>
          <p:cNvPicPr/>
          <p:nvPr/>
        </p:nvPicPr>
        <p:blipFill>
          <a:blip r:embed="rId2"/>
          <a:stretch/>
        </p:blipFill>
        <p:spPr>
          <a:xfrm>
            <a:off x="395280" y="2421000"/>
            <a:ext cx="3600360" cy="1920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площадб Победы"/>
          <p:cNvPicPr/>
          <p:nvPr/>
        </p:nvPicPr>
        <p:blipFill>
          <a:blip r:embed="rId3"/>
          <a:stretch/>
        </p:blipFill>
        <p:spPr>
          <a:xfrm>
            <a:off x="4788000" y="0"/>
            <a:ext cx="3730680" cy="2355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DSC_0009"/>
          <p:cNvPicPr/>
          <p:nvPr/>
        </p:nvPicPr>
        <p:blipFill>
          <a:blip r:embed="rId4"/>
          <a:stretch/>
        </p:blipFill>
        <p:spPr>
          <a:xfrm>
            <a:off x="4643280" y="2492280"/>
            <a:ext cx="1960560" cy="4032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DSC_0010"/>
          <p:cNvPicPr/>
          <p:nvPr/>
        </p:nvPicPr>
        <p:blipFill>
          <a:blip r:embed="rId5"/>
          <a:stretch/>
        </p:blipFill>
        <p:spPr>
          <a:xfrm>
            <a:off x="6732720" y="2492280"/>
            <a:ext cx="1788840" cy="4032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фонтан"/>
          <p:cNvPicPr/>
          <p:nvPr/>
        </p:nvPicPr>
        <p:blipFill>
          <a:blip r:embed="rId6"/>
          <a:stretch/>
        </p:blipFill>
        <p:spPr>
          <a:xfrm>
            <a:off x="395280" y="4437000"/>
            <a:ext cx="35272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-1080"/>
            <a:ext cx="907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ы привлекаем родителей «Гость группы»  для проведения практикумов по  ознакомлению с разными профессия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3" descr="IMG_0363_resize"/>
          <p:cNvPicPr/>
          <p:nvPr/>
        </p:nvPicPr>
        <p:blipFill>
          <a:blip r:embed="rId1"/>
          <a:stretch/>
        </p:blipFill>
        <p:spPr>
          <a:xfrm>
            <a:off x="468360" y="692280"/>
            <a:ext cx="3983040" cy="2987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IMG_0366_resize"/>
          <p:cNvPicPr/>
          <p:nvPr/>
        </p:nvPicPr>
        <p:blipFill>
          <a:blip r:embed="rId2"/>
          <a:stretch/>
        </p:blipFill>
        <p:spPr>
          <a:xfrm>
            <a:off x="4643280" y="692280"/>
            <a:ext cx="3984840" cy="298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IMG_0371_resize"/>
          <p:cNvPicPr/>
          <p:nvPr/>
        </p:nvPicPr>
        <p:blipFill>
          <a:blip r:embed="rId3"/>
          <a:stretch/>
        </p:blipFill>
        <p:spPr>
          <a:xfrm>
            <a:off x="395280" y="3780000"/>
            <a:ext cx="4103640" cy="307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IMG_0373_resize"/>
          <p:cNvPicPr/>
          <p:nvPr/>
        </p:nvPicPr>
        <p:blipFill>
          <a:blip r:embed="rId4"/>
          <a:stretch/>
        </p:blipFill>
        <p:spPr>
          <a:xfrm>
            <a:off x="4643280" y="3708360"/>
            <a:ext cx="420084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Arial"/>
              </a:rPr>
              <a:t>Досуговая форма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для установления эмоционального контакта между педагогами, родителями и детьми.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Традиционно в нашей группе  проходят литературные гостиные в честь дня Матери. Эта традиция способствует воспитанию бережного и уважительного отношения к матери, сплочению детско-родительского коллектива. День Защитникам Отечества  отмечаем организацией  спортивных праздников «Вместе с папой»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IMG_8673_resize"/>
          <p:cNvPicPr/>
          <p:nvPr/>
        </p:nvPicPr>
        <p:blipFill>
          <a:blip r:embed="rId1"/>
          <a:stretch/>
        </p:blipFill>
        <p:spPr>
          <a:xfrm>
            <a:off x="395280" y="404640"/>
            <a:ext cx="4176720" cy="3168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IMG_8682_resize"/>
          <p:cNvPicPr/>
          <p:nvPr/>
        </p:nvPicPr>
        <p:blipFill>
          <a:blip r:embed="rId2"/>
          <a:stretch/>
        </p:blipFill>
        <p:spPr>
          <a:xfrm>
            <a:off x="4643280" y="385920"/>
            <a:ext cx="4249800" cy="3186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мал"/>
          <p:cNvPicPr/>
          <p:nvPr/>
        </p:nvPicPr>
        <p:blipFill>
          <a:blip r:embed="rId3"/>
          <a:stretch/>
        </p:blipFill>
        <p:spPr>
          <a:xfrm>
            <a:off x="4643280" y="3645000"/>
            <a:ext cx="4249800" cy="3025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мал2"/>
          <p:cNvPicPr/>
          <p:nvPr/>
        </p:nvPicPr>
        <p:blipFill>
          <a:blip r:embed="rId4"/>
          <a:stretch/>
        </p:blipFill>
        <p:spPr>
          <a:xfrm>
            <a:off x="395280" y="3668760"/>
            <a:ext cx="4176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дной из результативных форм являются выставки совместного творчества. Родители проявляют интерес, увлекаются, создают много разнообразных совместных с детьми поделок, рисунков,  активно участвуют в выставках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Picture 5" descr="мал3"/>
          <p:cNvPicPr/>
          <p:nvPr/>
        </p:nvPicPr>
        <p:blipFill>
          <a:blip r:embed="rId1"/>
          <a:stretch/>
        </p:blipFill>
        <p:spPr>
          <a:xfrm>
            <a:off x="0" y="3141720"/>
            <a:ext cx="4427640" cy="3479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мал4"/>
          <p:cNvPicPr/>
          <p:nvPr/>
        </p:nvPicPr>
        <p:blipFill>
          <a:blip r:embed="rId2"/>
          <a:stretch/>
        </p:blipFill>
        <p:spPr>
          <a:xfrm>
            <a:off x="4572000" y="3139920"/>
            <a:ext cx="457200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9144000" cy="141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66"/>
                </a:solidFill>
                <a:latin typeface="Arial"/>
              </a:rPr>
              <a:t>Наглядно-информационная форма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используется для ознакомления с работой детского сада, особенностями воспитания и развития, о формах и методах работы с дошкольниками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5" name="Picture 5" descr="IMG_2289_resize"/>
          <p:cNvPicPr/>
          <p:nvPr/>
        </p:nvPicPr>
        <p:blipFill>
          <a:blip r:embed="rId1"/>
          <a:stretch/>
        </p:blipFill>
        <p:spPr>
          <a:xfrm>
            <a:off x="5148360" y="3860640"/>
            <a:ext cx="3768480" cy="282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IMG_2287_resize"/>
          <p:cNvPicPr/>
          <p:nvPr/>
        </p:nvPicPr>
        <p:blipFill>
          <a:blip r:embed="rId2"/>
          <a:stretch/>
        </p:blipFill>
        <p:spPr>
          <a:xfrm>
            <a:off x="250920" y="105264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IMG_2290_resize1"/>
          <p:cNvPicPr/>
          <p:nvPr/>
        </p:nvPicPr>
        <p:blipFill>
          <a:blip r:embed="rId3"/>
          <a:stretch/>
        </p:blipFill>
        <p:spPr>
          <a:xfrm>
            <a:off x="250920" y="4581360"/>
            <a:ext cx="4608360" cy="207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IMG_2291_resize23"/>
          <p:cNvPicPr/>
          <p:nvPr/>
        </p:nvPicPr>
        <p:blipFill>
          <a:blip r:embed="rId4"/>
          <a:stretch/>
        </p:blipFill>
        <p:spPr>
          <a:xfrm>
            <a:off x="5148360" y="1052640"/>
            <a:ext cx="377964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ы привлекаем родителей к благоустройству и озеленению территории  детского сада.  Это позволило  превратить её буквально в сказочный сад.  Мы ежегодно являемся призёрами конкурса «Мой любимый город»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Picture 5" descr="кор2"/>
          <p:cNvPicPr/>
          <p:nvPr/>
        </p:nvPicPr>
        <p:blipFill>
          <a:blip r:embed="rId1"/>
          <a:stretch/>
        </p:blipFill>
        <p:spPr>
          <a:xfrm>
            <a:off x="4500720" y="2492280"/>
            <a:ext cx="4643280" cy="334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кор3"/>
          <p:cNvPicPr/>
          <p:nvPr/>
        </p:nvPicPr>
        <p:blipFill>
          <a:blip r:embed="rId2"/>
          <a:stretch/>
        </p:blipFill>
        <p:spPr>
          <a:xfrm>
            <a:off x="0" y="2492280"/>
            <a:ext cx="442764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2924280"/>
            <a:ext cx="8218440" cy="1084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вое выступление хотим  закончить словами:   у нас одна задача – воспитывать будущих созидателей жизни. Каков человек – таков мир, который он создает вокруг себя. Хочется верить, что наши дети, когда вырастут, будут любить и оберегать своих близких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ffffcc"/>
                </a:solidFill>
                <a:latin typeface="Arial"/>
              </a:rPr>
              <a:t>Спасибо за внимание !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84000" y="259920"/>
            <a:ext cx="4248360" cy="112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66"/>
                </a:solidFill>
                <a:latin typeface="Arial"/>
              </a:rPr>
              <a:t>Актуальность</a:t>
            </a:r>
            <a:r>
              <a:rPr b="0" lang="ru-RU" sz="4000" spc="-1" strike="noStrike">
                <a:solidFill>
                  <a:srgbClr val="ccff66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496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«От того, как прошло детство, кто вёл ребёнка за руку в детские годы, что вошло в его разум и сердце из окружающего мира – от этого в решающей степени зависит, каким человеком станет сегодняшний малыш»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          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.А. Сухомлинский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132000" y="3716280"/>
            <a:ext cx="23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Verdana"/>
              </a:rPr>
              <a:t>Цель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79280" y="4437000"/>
            <a:ext cx="871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рганизация нового культурно-образовательного пространства, где главной ценностью является личность ребенка и благополучная семья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480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етрадиционные формы с родителями делятся на 4 вида: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. Информационно-аналитические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. Познавательные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3. Досуговые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4. Наглядно-информационны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4920" y="2491920"/>
            <a:ext cx="8218440" cy="11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 работе с родителями нам помогает «Почта доверия» - это сделанный  почтовый ящик, куда они  кладут записки со своими проблемами, идеями, предложениями, вопросами на любую тему воспитания, образования ребенка. Эти вопросы обсуждаются на родительских собраниях, либо в виде консультаций, как в письменной, так и в устной индивидуальной формах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IMG_2288_resize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4132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IMG_2297_resize"/>
          <p:cNvPicPr/>
          <p:nvPr/>
        </p:nvPicPr>
        <p:blipFill>
          <a:blip r:embed="rId2"/>
          <a:stretch/>
        </p:blipFill>
        <p:spPr>
          <a:xfrm>
            <a:off x="0" y="2728800"/>
            <a:ext cx="55087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Arial"/>
              </a:rPr>
              <a:t>Познавательные формы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организации общения педагогов и родителей призваны выполнять доминирующую роль в повышении психолого-педагогической культуры родителей, также они способствуют изменению взглядов родителей на воспитание и образование  ребенка. Мы активно  используем  такую из  образовательных форм, как  совместные  детско-родительские проекты. Работа над ними имеет большое значение для формирования личности ребёнка, укрепление и развитие детско-родительских отношений. Поиского-творческие результаты проектов помогли создать краеведческий мини-музей в группе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карта"/>
          <p:cNvPicPr/>
          <p:nvPr/>
        </p:nvPicPr>
        <p:blipFill>
          <a:blip r:embed="rId1"/>
          <a:stretch/>
        </p:blipFill>
        <p:spPr>
          <a:xfrm>
            <a:off x="0" y="0"/>
            <a:ext cx="2500200" cy="2019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S3020113"/>
          <p:cNvPicPr/>
          <p:nvPr/>
        </p:nvPicPr>
        <p:blipFill>
          <a:blip r:embed="rId2"/>
          <a:stretch/>
        </p:blipFill>
        <p:spPr>
          <a:xfrm>
            <a:off x="6377040" y="0"/>
            <a:ext cx="2766960" cy="218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эвенки"/>
          <p:cNvPicPr/>
          <p:nvPr/>
        </p:nvPicPr>
        <p:blipFill>
          <a:blip r:embed="rId3"/>
          <a:stretch/>
        </p:blipFill>
        <p:spPr>
          <a:xfrm>
            <a:off x="0" y="4381560"/>
            <a:ext cx="3927600" cy="2476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хакасы1"/>
          <p:cNvPicPr/>
          <p:nvPr/>
        </p:nvPicPr>
        <p:blipFill>
          <a:blip r:embed="rId4"/>
          <a:stretch/>
        </p:blipFill>
        <p:spPr>
          <a:xfrm>
            <a:off x="5937120" y="4838760"/>
            <a:ext cx="3206880" cy="2019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IMG_0317"/>
          <p:cNvPicPr/>
          <p:nvPr/>
        </p:nvPicPr>
        <p:blipFill>
          <a:blip r:embed="rId5"/>
          <a:stretch/>
        </p:blipFill>
        <p:spPr>
          <a:xfrm>
            <a:off x="2268360" y="170028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26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ми были организованны  и успешно реализованы следующие проекты: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Моя любимая мамочка» в котором ребёнок  вместе с папой делал фото альбом о маме с её юного возраста; «Генеалогическое древо моей семьи по женской линии»;  «Мой любимый Минусинск»; «Памятники города Минусинска»; «Города Красноярского края», «Мы помним» посвящённый воинам ВОВ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древо"/>
          <p:cNvPicPr/>
          <p:nvPr/>
        </p:nvPicPr>
        <p:blipFill>
          <a:blip r:embed="rId1"/>
          <a:stretch/>
        </p:blipFill>
        <p:spPr>
          <a:xfrm>
            <a:off x="108000" y="3189240"/>
            <a:ext cx="5580000" cy="3668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IMG_8695_resize"/>
          <p:cNvPicPr/>
          <p:nvPr/>
        </p:nvPicPr>
        <p:blipFill>
          <a:blip r:embed="rId2"/>
          <a:stretch/>
        </p:blipFill>
        <p:spPr>
          <a:xfrm>
            <a:off x="5867280" y="3068640"/>
            <a:ext cx="2849760" cy="3789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IMG_0014_resize"/>
          <p:cNvPicPr/>
          <p:nvPr/>
        </p:nvPicPr>
        <p:blipFill>
          <a:blip r:embed="rId3"/>
          <a:stretch/>
        </p:blipFill>
        <p:spPr>
          <a:xfrm>
            <a:off x="4859280" y="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IMG_8672_resize"/>
          <p:cNvPicPr/>
          <p:nvPr/>
        </p:nvPicPr>
        <p:blipFill>
          <a:blip r:embed="rId4"/>
          <a:stretch/>
        </p:blipFill>
        <p:spPr>
          <a:xfrm>
            <a:off x="539640" y="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8T05:37:37Z</dcterms:created>
  <dc:creator>user</dc:creator>
  <dc:description/>
  <dc:language>en-US</dc:language>
  <cp:lastModifiedBy>леон куз</cp:lastModifiedBy>
  <dcterms:modified xsi:type="dcterms:W3CDTF">2023-09-19T16:14:02Z</dcterms:modified>
  <cp:revision>47</cp:revision>
  <dc:subject/>
  <dc:title>Предметно-пространственная развивающая среда подготовительной к школе группы</dc:title>
</cp:coreProperties>
</file>