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7.gif" ContentType="image/gif"/>
  <Override PartName="/ppt/media/image2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5.jpeg" ContentType="image/jpeg"/>
  <Override PartName="/ppt/media/image32.gif" ContentType="image/gif"/>
  <Override PartName="/ppt/media/image26.jpeg" ContentType="image/jpeg"/>
  <Override PartName="/ppt/media/image11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34.png" ContentType="image/png"/>
  <Override PartName="/ppt/media/image4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3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FE632-7846-4233-82C4-E79AFB4D3D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10FC5-24CF-4005-A616-35989F884C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Уважаемые коллеги, добрый день. Представляю вам, презентацию опыта работы, по теме: Китайская хлопково – ударная гимнастика, как одна из нетрадиционных оздоровительных технологий физкультурно – оздоровительной работы в детском сад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B2639-DC98-481C-B909-2FAFFB8B79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161CA-CF8E-4CAC-A34A-7E401A3DA0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А теперь коротко об упражнениях и их воздействии на организ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Постукивание кулачками друг о друга — это для профилактика хронических головных болей и боли в плечах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Похлопывание запястьями друг о друга - аплодисменты, улучшающие работу мочеполовой систе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Похлопывание по тыльной стороне ладони другой рукой - способствует уменьшению болей в пояснице. Сначала надо сделать упражнение с левой, потом с правой руки или наоборот. Главное поменять ру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Постукивание кончиками пальцев одновременно друг о друга - поможет при хронических ринитах, усталости глаз. На кончиках пальцев есть акупунктурные точки, которые связаны с лиц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На внутренней стороне наших ладоней есть точки, которые связаны с сердцем и легкими, постукивание кулаком внутренней части ладони - улучшает работу этих органов. Делается это упражнение сначала с одной руки, потом с друг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Растирание и похлопывание ладоней стимулирует те точки, которые связаны со многими внутренними органами и системой кровообращения. Похлопывания ладонями друг о друга, с расставленными пальцами - улучшит работу щитовидной железы, внутренних органов, сердечно-сосудистой систем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Соберите ладони в горсти и похлопывайте — это отличное упражнение для профилактики инсультов и старческого мараз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Заведите руки за голову и похлопайте в ладоши — это упражнение снимает усталость в области плеч и ру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Как видите, все очень просто и легко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9B294-3472-4769-8984-3325AE5CB5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4B7C0-6DCF-431C-9AB9-235449F994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Непосредственная задача практики данной оздоровительной гимнастики состоит в пробуждении дремлющего в человеческом теле механизма самовосстановления, естественным образом восстанавливается здоровье всех систем организма и улучшается общее состояние человека. Поэтому в нашем саду, решено делать его сразу после основной гимнастики, не пропускать и делать каждый день. Сам комплекс выполняется под энергичную, весёлую музыку, что особенно нравится детям. Данный комплекс, пока, опробован с детьми старшего дошкольного возраста. Конечно, пока рано говорить о каких-либо результатах применения данной технологии, но уже сейчас можно твёрдо сказать, что дети с радостью включаются в выполнение этой гимнастики, настроение улучшается, дети с удовольствием хлопают.  В перспективе, мы планируем включить его в систему физкультурно-оздоровительной работы и с детьми младшего дошкольного возраста. С логопедической точки зрения, данная технология уникальна, в тесном сотрудничестве с ними, по мере освоения движений самомассажа, предполагаем идти на усложнение упражнений и добавление новых, а также упражнений разнонаправленного действия, для улучшения межполушарных связе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27CD5-4262-43BC-BC53-21B19A9909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80982-F1B2-45BE-8AB0-8FE5F14E01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Если вы любите необычные гимнастики, то я думаю многим должна понравиться эта практика – одно из драгоценных наследий в сокровищнице традиционной китайской медицины. Это оздоровительная и общеукрепляющая система с отличительными национальными чертами. Она является обобщением опыта, накопленного китайским народом. Мы же продолжим изучение опыта восточных технологий. И внедрение их в традиционные формы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D8DF2-BC8D-4984-B55E-55AD6C57AF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AA306-B60D-49F9-9808-858DE87DFA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Китайский врач, Сунь Сымяо, времен империи Тан, внесший большой вклад во многие области традиционной китайской медицины, высказывалс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«Люди, искусные в сохранении здоровья, лечат болезнь, которой еще нет». Данное высказывание чётко характеризует нашу деятельность по созданию условий для оздоровления дошкольников, ведь именно в детстве закладываются основы здорового образа жизн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82D5D-E5D5-4419-BD47-88E974F324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18127-250B-47CC-B921-07A7FBF511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Одним из главных направлений работы детского сада является создание условий для более гармоничного развития дошкольников, их физического и умственного развития. Большую роль в работе детского сада отводится деятельности, ориентированной на создание здоровой развивающей среды, укреплению природного защитного механизма, поддержанию постоянства внутренней среды организма ребенка дошкольного возраста (адаптацию к окружающей природной и социальной среде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На состояние здоровья ребенка влияют несколько факторов, вы видите их на экран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A672B-CAF7-4134-9D14-DE46851FAA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D0FD0-756E-47B9-A294-790CCA28AC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Профилактическая и оздоровительная деятельность в нашем детском саду является чрезвычайно важной и первостепенной задачей. Для достижения основных цели и задач используются различные оздоровительные технологии и методик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4101C-25E0-4A7B-95B5-10665D53A1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24A01-B6C5-4C8A-BE3A-750B49B8A8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В целях разнообразия традиционных методов работы, сохранения и укрепления здоровья воспитанников, в нашем дошкольном учреждении широко используются и нетрадиционные методы работ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Выбор нетрадиционных методик неслучаен. Поскольку многолетний опыт практической работы в школах и детских садах, где внедряются нетрадиционные методы оздоровления, показал положительные результат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Из огромного количества нетрадиционных направлений, я выделила восточные оздоровительные методики, такие как - Мудры, Йога, Цигун и многие другие. Сегодня я познакомлю Вас с одной из них, это - китайская хлопково – ударная гимнастика. Эту форму оздоровления я использую впервые, и потому считаю её инновационной в своей практи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D1CE1-B923-4278-821C-50118614C8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35DCB-E9E4-4464-9395-CCAE343A70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Древняя восточная медицина знает множество средств оздоровления. Гимнастика мягко тренирует весь организм, повышает его выносливость, считается одной из самых уникальных и эффективных систем оздоровления организма. Она сочетает в себе комплекс статических физических упражнений, дыхательных техник и концентрацию внима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Занятия с использованием комплексов упражнений восточной гимнастики на детей действуют успокаивающе, укрепляя здоровье и дух ребенка, избавляют его от избытка энергии и новых эмоциональных переживаний, которые зачастую отвлекают детей и тормозят их развитие. Обладая природной гибкостью и чувством равновесия, дети обычно легко осваивают поз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Регулярные практики меняют жизнь к лучшему и приводят к поразительным результатам для здоровья, позволяя быть всегда здоровым и бодры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5579F-2CF8-4627-A288-0AF39F6D79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BBF53-D68D-45E6-A19B-E0DEDCFB90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Практика, про которую мы сегодня будем говорить называют не только Китайским похлопыванием, но и энергетическим самомассажем, который восстанавливает жизненные силы, бодрость, активность, профилактирует появление любых проблем с физическим телом (ну это как нам заявляют :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Самомассаж — это массаж, выполняемый самостоятельно, массаж — это дозированное механическое раздражение тела человека с помощью различных приемов и манипуляций, выполняемых руками и специально подобранным природным материалом, а также специальным оборудование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В нашем случае мы, решили попробовать данную методику с детьми, начиная с аплодисментов здоровь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Почему мы остановились на это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B4BFC-ED70-43B4-889B-C3C635FD83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70680-C664-4799-BFD1-DF57C0AA43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Тысячи лет назад тибетские врачеватели установили взаимосвязь развития речи и тонких движений рук, на ладони рук и подошвы ног выходят своеобразные сигнальные точки почти всех орган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Именно поэтому нам приятно хлопать в ладоши, ходить босиком – бессознательно посылать положительные сигналы сердцу, легким, печени, почкам, желудку, другим органам. Во время этой практики, на физическом уровне, в вашем теле усиливается циркуляция крови, ослабленные внутренние органы получают дополнительное питание, укрепляются кости и сухожилия, становятся более подвижными суставы, а из организма начнут выходить накопившиеся токсины, усилится обмен веществ, улучшится состояние кожи и воло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Современные же исследования подтвердили, что пальцы рук наделены большим количеством рецепторов, посылающих импульсы в центральную нервную систему человека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Каждый пальчик руки имеет обширное представительство в коре больших полушарий мозга. Известный исследователь детской речи Мариони́лла Макси́мовна Кольцова доказала, что движения пальцев рук стимулируют деятельность ЦНС и ускоряют развитие речи ребенка. Таким образом, постоянная стимуляция зон коры головного мозга, отвечающих за моторику, является необходимым элементом в системе коррекционной работы как с воспитанниками с нарушениями речи, так и детей с нормой. Так, многие логопеды взяли её в практику своей работы с детьми с нарушениями реч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А так как в нашем детском саду функционируют группы компенсирующей направленности детей с ТНР (тяжёлые нарушения речи). Использование различных форм и методов стимуляции мелкой моторики посредством самомассажа, особенно актуаль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F0DA8-B942-4A39-96C4-9FA27C7114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92D1D-1258-4405-B7F4-BD9E7C0DC8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За основу нашей гимнастики похлопывания взят комплекс, который так и называется «Аплодисменты здоровья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Он подходит всем без исключения. Можно делать, даже не вставая со стула. вот основные тезисы проведения самомассаж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При проведении массажа рекомендуется обучать детей не надавливать с силой на указанные точки, а массировать их мягкими движениями, слегка надавливая, легко поглаживая или похлопывая. Массирующие движения следует выполнять в направлении от периферии к центру (от кистей рук к плечу и т. д.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Перед занятием хорошенько разотрём ладони, в том числе пространство между пальцами – вся поверхность ладоней должна «гореть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Каждый удар выполняется от 7 раз. Весь комплекс в начале освоения достаточно повторять 2 раза подряд, а потом его рекомендуется выполнять до 6 раз подряд. В течение дня его можно повторить 3-5 раз, но только не вечером. При этом соблюдайте главное правило цигун – ищите баланс, прислушивайтесь к себе, всё делайте по своему самочувств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147E4-1BAA-4723-9D94-C0EE8F07A5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16135-7BB8-4EAF-9491-EAEDDD9099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7FB8F-7395-4854-A3CB-4821A120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5F8DD-EC41-49D8-8B93-D8D034E6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F1CA8-2331-449B-B4D5-3146F5FC77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BA404-24EA-461A-B876-158704BB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CE331-EEBE-4EB6-88EF-B99B7BE4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9662F-5A20-4121-B352-7EF5C6AD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137D3-D1CB-435D-B1AC-26B4601C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1122120"/>
            <a:ext cx="9142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A59EA-7223-4438-A421-E0B0C084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38186-5F0F-4641-AAFC-A45DF987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DA325-4B96-4B4D-AE5F-C7B6799D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CD98B-6671-4020-8159-23E30E99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5649840"/>
            <a:ext cx="77472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字体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t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等线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等线"/>
                <a:ea typeface="DejaVu Sans"/>
              </a:rPr>
              <a:t>4/19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等线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B183E-3E5F-46A9-B7C6-767F103CCC06}" type="slidenum">
              <a:rPr b="0" lang="en-US" sz="1200" spc="-1" strike="noStrike">
                <a:solidFill>
                  <a:srgbClr val="8b8b8b"/>
                </a:solidFill>
                <a:latin typeface="等线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343080" indent="-34308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343080" indent="-34308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343080" indent="-34308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343080" indent="-34308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343080" indent="-34308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343080" indent="-34308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19.png"/><Relationship Id="rId19" Type="http://schemas.openxmlformats.org/officeDocument/2006/relationships/image" Target="../media/image19.png"/><Relationship Id="rId20" Type="http://schemas.openxmlformats.org/officeDocument/2006/relationships/image" Target="../media/image19.png"/><Relationship Id="rId21" Type="http://schemas.openxmlformats.org/officeDocument/2006/relationships/image" Target="../media/image19.png"/><Relationship Id="rId22" Type="http://schemas.openxmlformats.org/officeDocument/2006/relationships/image" Target="../media/image19.png"/><Relationship Id="rId23" Type="http://schemas.openxmlformats.org/officeDocument/2006/relationships/image" Target="../media/image19.png"/><Relationship Id="rId24" Type="http://schemas.openxmlformats.org/officeDocument/2006/relationships/image" Target="../media/image19.png"/><Relationship Id="rId25" Type="http://schemas.openxmlformats.org/officeDocument/2006/relationships/image" Target="../media/image19.png"/><Relationship Id="rId26" Type="http://schemas.openxmlformats.org/officeDocument/2006/relationships/image" Target="../media/image19.png"/><Relationship Id="rId27" Type="http://schemas.openxmlformats.org/officeDocument/2006/relationships/image" Target="../media/image19.png"/><Relationship Id="rId28" Type="http://schemas.openxmlformats.org/officeDocument/2006/relationships/image" Target="../media/image19.png"/><Relationship Id="rId29" Type="http://schemas.openxmlformats.org/officeDocument/2006/relationships/image" Target="../media/image19.png"/><Relationship Id="rId30" Type="http://schemas.openxmlformats.org/officeDocument/2006/relationships/image" Target="../media/image19.png"/><Relationship Id="rId31" Type="http://schemas.openxmlformats.org/officeDocument/2006/relationships/image" Target="../media/image19.png"/><Relationship Id="rId32" Type="http://schemas.openxmlformats.org/officeDocument/2006/relationships/image" Target="../media/image24.pn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0" y="0"/>
            <a:ext cx="12254040" cy="6856560"/>
            <a:chOff x="0" y="0"/>
            <a:chExt cx="12254040" cy="6856560"/>
          </a:xfrm>
        </p:grpSpPr>
        <p:pic>
          <p:nvPicPr>
            <p:cNvPr id="51" name="Picture 2" descr=""/>
            <p:cNvPicPr/>
            <p:nvPr/>
          </p:nvPicPr>
          <p:blipFill>
            <a:blip r:embed="rId1"/>
            <a:stretch/>
          </p:blipFill>
          <p:spPr>
            <a:xfrm>
              <a:off x="311148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10040" cy="685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Line 4"/>
          <p:cNvSpPr/>
          <p:nvPr/>
        </p:nvSpPr>
        <p:spPr>
          <a:xfrm flipH="1">
            <a:off x="163440" y="4387680"/>
            <a:ext cx="9563040" cy="1800"/>
          </a:xfrm>
          <a:prstGeom prst="line">
            <a:avLst/>
          </a:prstGeom>
          <a:ln w="12600">
            <a:solidFill>
              <a:srgbClr val="f0c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246240" y="1271520"/>
            <a:ext cx="8723160" cy="17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d85548"/>
                </a:solidFill>
                <a:latin typeface="Segoe Print"/>
                <a:ea typeface="钟齐段宁行书"/>
              </a:rPr>
              <a:t>«ВОЛШЕБНЫЕ ХЛОПКИ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d85548"/>
                </a:solidFill>
                <a:latin typeface="Segoe Print"/>
                <a:ea typeface="钟齐段宁行书"/>
              </a:rPr>
              <a:t>И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d85548"/>
                </a:solidFill>
                <a:latin typeface="Segoe Print"/>
                <a:ea typeface="钟齐段宁行书"/>
              </a:rPr>
              <a:t>«АПЛОДИСМЕНТЫ ЗДОРОВЬ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449520" y="1814400"/>
            <a:ext cx="184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7662960" y="0"/>
            <a:ext cx="4592520" cy="6858000"/>
          </a:xfrm>
          <a:prstGeom prst="rect">
            <a:avLst/>
          </a:prstGeom>
          <a:ln w="0">
            <a:noFill/>
          </a:ln>
          <a:effectLst>
            <a:outerShdw dist="37674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7" name="Rectangle 8"/>
          <p:cNvSpPr/>
          <p:nvPr/>
        </p:nvSpPr>
        <p:spPr>
          <a:xfrm>
            <a:off x="246240" y="3451320"/>
            <a:ext cx="9680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181717"/>
                </a:solidFill>
                <a:latin typeface="等线 Light"/>
                <a:ea typeface="等线 Light"/>
              </a:rPr>
              <a:t>КИТАЙСКАЯ ХЛОПКОВО–УДАРНАЯ ГИМНАСТИКА, КАК ОДНА ИЗ НЕТРАДИЦИОННЫХ ОЗДОРОВИТЕЛЬНЫХ ТЕХНОЛОГИЙ ФИЗКУЛЬТУРНО–ОЗДОРОВИТЕЛЬНОЙ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246240" y="4730760"/>
            <a:ext cx="4906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等线"/>
              </a:rPr>
              <a:t>Подготовила инструктор по физической культуре первой  категории: Гробова Евгения Федо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1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4159080"/>
            <a:ext cx="1967040" cy="26989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2" descr=""/>
          <p:cNvPicPr/>
          <p:nvPr/>
        </p:nvPicPr>
        <p:blipFill>
          <a:blip r:embed="rId2"/>
          <a:stretch/>
        </p:blipFill>
        <p:spPr>
          <a:xfrm>
            <a:off x="263520" y="231840"/>
            <a:ext cx="5591160" cy="3144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36" name="Рисунок 6" descr=""/>
          <p:cNvPicPr/>
          <p:nvPr/>
        </p:nvPicPr>
        <p:blipFill>
          <a:blip r:embed="rId3"/>
          <a:stretch/>
        </p:blipFill>
        <p:spPr>
          <a:xfrm>
            <a:off x="2135160" y="3830760"/>
            <a:ext cx="5113440" cy="287316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0" y="-392040"/>
            <a:ext cx="2073240" cy="38210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"/>
          <p:cNvSpPr/>
          <p:nvPr/>
        </p:nvSpPr>
        <p:spPr>
          <a:xfrm>
            <a:off x="1927080" y="136440"/>
            <a:ext cx="9209160" cy="68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dd5b4f"/>
                </a:solidFill>
                <a:latin typeface="Times New Roman"/>
                <a:ea typeface="Times New Roman"/>
              </a:rPr>
              <a:t>К сведению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dd5b4f"/>
                </a:solidFill>
                <a:latin typeface="Times New Roman"/>
                <a:ea typeface="Times New Roman"/>
              </a:rPr>
              <a:t>Скорая помощ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dd5b4f"/>
                </a:solidFill>
                <a:latin typeface="Times New Roman"/>
                <a:ea typeface="Times New Roman"/>
              </a:rPr>
              <a:t></a:t>
            </a:r>
            <a:r>
              <a:rPr b="1" lang="ru-RU" sz="2000" spc="-1" strike="noStrike">
                <a:solidFill>
                  <a:srgbClr val="dd5b4f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рдечном приступе рекомендуется надавить большим пальцем в центр ладо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ление нервной усталости – массаж мизинцев до полного расслаб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ать пальцы в кулак с загнутым внутрь большим пальцем – улучшает запоминание важных вещ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анение психической напряженности – круговые движения орехами в каждой ладони; сцепить руки над головой, наклонять тело в обе стороны поперемен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функции печени – при напряженных разогнутых пальцах руки согнуть, указательный палец в виде крюч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ация функции печени – растягивать зацепленные друг с другом указательные пальцы в противоположные стороны перед груд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уда, зубная боль, переутомление глаз, желудок, кишечник, красивая кожа – точка между большим и указательным пальцем, нажимать большим пальцем другой руки или орехом делать круговые движения (30 раз для точки каждой ру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dd5b4f"/>
                </a:solidFill>
                <a:latin typeface="Times New Roman"/>
                <a:ea typeface="Times New Roman"/>
              </a:rPr>
              <a:t>Для снятия усталости ног нужно сто раз ударить кулаком по подошвам ног – японское упражнение «Стократное ударение по подошвам ног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"/>
          <p:cNvGrpSpPr/>
          <p:nvPr/>
        </p:nvGrpSpPr>
        <p:grpSpPr>
          <a:xfrm>
            <a:off x="0" y="0"/>
            <a:ext cx="12254040" cy="6856560"/>
            <a:chOff x="0" y="0"/>
            <a:chExt cx="12254040" cy="6856560"/>
          </a:xfrm>
        </p:grpSpPr>
        <p:pic>
          <p:nvPicPr>
            <p:cNvPr id="140" name="Picture 2" descr=""/>
            <p:cNvPicPr/>
            <p:nvPr/>
          </p:nvPicPr>
          <p:blipFill>
            <a:blip r:embed="rId1"/>
            <a:stretch/>
          </p:blipFill>
          <p:spPr>
            <a:xfrm>
              <a:off x="311148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10040" cy="685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Line 4"/>
          <p:cNvSpPr/>
          <p:nvPr/>
        </p:nvSpPr>
        <p:spPr>
          <a:xfrm flipH="1">
            <a:off x="1611000" y="3932280"/>
            <a:ext cx="3962520" cy="1440"/>
          </a:xfrm>
          <a:prstGeom prst="line">
            <a:avLst/>
          </a:prstGeom>
          <a:ln w="12600">
            <a:solidFill>
              <a:srgbClr val="f0c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3"/>
          <a:stretch/>
        </p:blipFill>
        <p:spPr>
          <a:xfrm>
            <a:off x="7662960" y="0"/>
            <a:ext cx="4592520" cy="6858000"/>
          </a:xfrm>
          <a:prstGeom prst="rect">
            <a:avLst/>
          </a:prstGeom>
          <a:ln w="0">
            <a:noFill/>
          </a:ln>
          <a:effectLst>
            <a:outerShdw dist="37674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4" name="Picture 6" descr=""/>
          <p:cNvPicPr/>
          <p:nvPr/>
        </p:nvPicPr>
        <p:blipFill>
          <a:blip r:embed="rId4"/>
          <a:stretch/>
        </p:blipFill>
        <p:spPr>
          <a:xfrm>
            <a:off x="-804960" y="0"/>
            <a:ext cx="3659400" cy="36590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2216160" y="1316160"/>
            <a:ext cx="59720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800" spc="-1" strike="noStrike">
                <a:solidFill>
                  <a:srgbClr val="600000"/>
                </a:solidFill>
                <a:latin typeface="等线 Light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"/>
          <p:cNvGrpSpPr/>
          <p:nvPr/>
        </p:nvGrpSpPr>
        <p:grpSpPr>
          <a:xfrm>
            <a:off x="0" y="0"/>
            <a:ext cx="12254040" cy="6856560"/>
            <a:chOff x="0" y="0"/>
            <a:chExt cx="12254040" cy="6856560"/>
          </a:xfrm>
        </p:grpSpPr>
        <p:pic>
          <p:nvPicPr>
            <p:cNvPr id="60" name="Picture 2" descr=""/>
            <p:cNvPicPr/>
            <p:nvPr/>
          </p:nvPicPr>
          <p:blipFill>
            <a:blip r:embed="rId1"/>
            <a:stretch/>
          </p:blipFill>
          <p:spPr>
            <a:xfrm>
              <a:off x="311148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10040" cy="685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Rectangle 4"/>
          <p:cNvSpPr/>
          <p:nvPr/>
        </p:nvSpPr>
        <p:spPr>
          <a:xfrm>
            <a:off x="291960" y="4457880"/>
            <a:ext cx="5610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222a35"/>
                </a:solidFill>
                <a:latin typeface="等线 Light"/>
                <a:ea typeface="钟齐段宁行书"/>
              </a:rPr>
              <a:t>Китайский легендарный врач, </a:t>
            </a:r>
            <a:r>
              <a:rPr b="1" lang="ru-RU" sz="2400" spc="-1" strike="noStrike">
                <a:solidFill>
                  <a:srgbClr val="222a35"/>
                </a:solidFill>
                <a:latin typeface="等线 Light"/>
                <a:ea typeface="钟齐段宁行书"/>
              </a:rPr>
              <a:t>Сунь Сымяо </a:t>
            </a:r>
            <a:r>
              <a:rPr b="0" lang="ru-RU" sz="2400" spc="-1" strike="noStrike">
                <a:solidFill>
                  <a:srgbClr val="222a35"/>
                </a:solidFill>
                <a:latin typeface="等线 Light"/>
                <a:ea typeface="钟齐段宁行书"/>
              </a:rPr>
              <a:t>(541-682 гг. н.э.), времен династий Суй и Тан, которого в народе называли «Царём лекарств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7662960" y="0"/>
            <a:ext cx="4592520" cy="6858000"/>
          </a:xfrm>
          <a:prstGeom prst="rect">
            <a:avLst/>
          </a:prstGeom>
          <a:ln w="0">
            <a:noFill/>
          </a:ln>
          <a:effectLst>
            <a:outerShdw dist="37674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4" name="Picture 6" descr=""/>
          <p:cNvPicPr/>
          <p:nvPr/>
        </p:nvPicPr>
        <p:blipFill>
          <a:blip r:embed="rId4"/>
          <a:stretch/>
        </p:blipFill>
        <p:spPr>
          <a:xfrm>
            <a:off x="320760" y="444600"/>
            <a:ext cx="2790720" cy="37321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3111480" y="725400"/>
            <a:ext cx="561024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dd5b4f"/>
                </a:solidFill>
                <a:latin typeface="等线 Light"/>
              </a:rPr>
              <a:t>«Люди, искусные в сохранении здоровья, лечат болезнь, которой еще нет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2770200" y="333360"/>
            <a:ext cx="6764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dd5b4f"/>
                </a:solidFill>
                <a:latin typeface="方正铁筋隶书简体"/>
                <a:ea typeface="方正铁筋隶书简体"/>
              </a:rPr>
              <a:t>ФАКТОРЫ, ВЛИЯЮЩИЕ НА СОСТОЯНИЕ ЗДОРОВЬЯ РЕБЁН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449360" y="1074600"/>
            <a:ext cx="339840" cy="768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40000"/>
              </a:srgbClr>
            </a:outerShdw>
          </a:effectLst>
        </p:spPr>
      </p:pic>
      <p:sp>
        <p:nvSpPr>
          <p:cNvPr id="68" name="Rectangle 3"/>
          <p:cNvSpPr/>
          <p:nvPr/>
        </p:nvSpPr>
        <p:spPr>
          <a:xfrm>
            <a:off x="1857240" y="5641920"/>
            <a:ext cx="6096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dd5b4f"/>
                </a:solidFill>
                <a:latin typeface="等线"/>
              </a:rPr>
              <a:t>недостаточность врачебного контроля</a:t>
            </a:r>
            <a:r>
              <a:rPr b="0" lang="ru-RU" sz="1800" spc="-1" strike="noStrike">
                <a:solidFill>
                  <a:srgbClr val="dd5b4f"/>
                </a:solidFill>
                <a:latin typeface="等线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812960" y="1074600"/>
            <a:ext cx="82389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dd5b4f"/>
                </a:solidFill>
                <a:latin typeface="等线"/>
              </a:rPr>
              <a:t>климатогеографический фактор</a:t>
            </a:r>
            <a:r>
              <a:rPr b="0" lang="ru-RU" sz="2000" spc="-1" strike="noStrike">
                <a:solidFill>
                  <a:srgbClr val="ed7d31"/>
                </a:solidFill>
                <a:latin typeface="等线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等线"/>
              </a:rPr>
              <a:t> низкие температуры воздуха, недостаток солнца, дефицит двигательной актив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1382760" y="2073240"/>
            <a:ext cx="474480" cy="9144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1812960" y="2019240"/>
            <a:ext cx="741024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dd5b4f"/>
                </a:solidFill>
                <a:latin typeface="等线"/>
              </a:rPr>
              <a:t>биологические: </a:t>
            </a:r>
            <a:r>
              <a:rPr b="0" lang="ru-RU" sz="2000" spc="-1" strike="noStrike">
                <a:solidFill>
                  <a:srgbClr val="000000"/>
                </a:solidFill>
                <a:latin typeface="等线"/>
              </a:rPr>
              <a:t>состояние здоровья женщин, уровень жизни, низкий уровень грамотности родителей в вопросах сохранения здоровья детей, неполноценное пит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1382760" y="3219480"/>
            <a:ext cx="474480" cy="9144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8"/>
          <p:cNvSpPr/>
          <p:nvPr/>
        </p:nvSpPr>
        <p:spPr>
          <a:xfrm>
            <a:off x="1827360" y="3270240"/>
            <a:ext cx="71485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dd5b4f"/>
                </a:solidFill>
                <a:latin typeface="等线"/>
              </a:rPr>
              <a:t>нехватка витаминов, </a:t>
            </a:r>
            <a:r>
              <a:rPr b="0" lang="ru-RU" sz="2000" spc="-1" strike="noStrike">
                <a:solidFill>
                  <a:srgbClr val="000000"/>
                </a:solidFill>
                <a:latin typeface="等线"/>
              </a:rPr>
              <a:t>отсутствие набора свежих продуктов необходимых для детского растущего организ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4"/>
          <a:stretch/>
        </p:blipFill>
        <p:spPr>
          <a:xfrm>
            <a:off x="1389240" y="4308480"/>
            <a:ext cx="474480" cy="9144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0"/>
          <p:cNvSpPr/>
          <p:nvPr/>
        </p:nvSpPr>
        <p:spPr>
          <a:xfrm>
            <a:off x="1857240" y="4389480"/>
            <a:ext cx="72644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dd5b4f"/>
                </a:solidFill>
                <a:latin typeface="等线"/>
              </a:rPr>
              <a:t>социальные факторы: </a:t>
            </a:r>
            <a:r>
              <a:rPr b="0" lang="ru-RU" sz="2000" spc="-1" strike="noStrike">
                <a:solidFill>
                  <a:srgbClr val="000000"/>
                </a:solidFill>
                <a:latin typeface="等线"/>
              </a:rPr>
              <a:t>психологический климат в семье, отношение к здоровому образу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"/>
          <p:cNvPicPr/>
          <p:nvPr/>
        </p:nvPicPr>
        <p:blipFill>
          <a:blip r:embed="rId5"/>
          <a:stretch/>
        </p:blipFill>
        <p:spPr>
          <a:xfrm>
            <a:off x="1389240" y="5386320"/>
            <a:ext cx="47448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219240" y="201600"/>
            <a:ext cx="2073240" cy="19638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"/>
          <p:cNvSpPr/>
          <p:nvPr/>
        </p:nvSpPr>
        <p:spPr>
          <a:xfrm>
            <a:off x="2476440" y="309600"/>
            <a:ext cx="9428400" cy="1731960"/>
          </a:xfrm>
          <a:prstGeom prst="rect">
            <a:avLst/>
          </a:prstGeom>
          <a:noFill/>
          <a:ln w="25560">
            <a:solidFill>
              <a:srgbClr val="3b2722"/>
            </a:solidFill>
            <a:miter/>
          </a:ln>
          <a:effectLst>
            <a:outerShdw dist="37674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0" y="-31680"/>
            <a:ext cx="2519280" cy="2493720"/>
          </a:xfrm>
          <a:custGeom>
            <a:avLst/>
            <a:gdLst>
              <a:gd name="textAreaLeft" fmla="*/ 0 w 2519280"/>
              <a:gd name="textAreaRight" fmla="*/ 2519280 w 2519280"/>
              <a:gd name="textAreaTop" fmla="*/ 0 h 2493720"/>
              <a:gd name="textAreaBottom" fmla="*/ 2494080 h 2493720"/>
            </a:gdLst>
            <a:ahLst/>
            <a:rect l="textAreaLeft" t="textAreaTop" r="textAreaRight" b="textAreaBottom"/>
            <a:pathLst>
              <a:path w="2519363" h="2493963">
                <a:moveTo>
                  <a:pt x="2323116" y="0"/>
                </a:moveTo>
                <a:lnTo>
                  <a:pt x="2335784" y="1933"/>
                </a:lnTo>
                <a:cubicBezTo>
                  <a:pt x="3221632" y="183204"/>
                  <a:pt x="3888000" y="967001"/>
                  <a:pt x="3888000" y="1906438"/>
                </a:cubicBezTo>
                <a:cubicBezTo>
                  <a:pt x="3888000" y="2980080"/>
                  <a:pt x="3017642" y="3850438"/>
                  <a:pt x="1944000" y="3850438"/>
                </a:cubicBezTo>
                <a:cubicBezTo>
                  <a:pt x="870358" y="3850438"/>
                  <a:pt x="0" y="2980080"/>
                  <a:pt x="0" y="1906438"/>
                </a:cubicBezTo>
                <a:cubicBezTo>
                  <a:pt x="0" y="1034104"/>
                  <a:pt x="574573" y="295969"/>
                  <a:pt x="1365914" y="49837"/>
                </a:cubicBezTo>
                <a:lnTo>
                  <a:pt x="1551263" y="2178"/>
                </a:lnTo>
                <a:lnTo>
                  <a:pt x="1551263" y="287203"/>
                </a:lnTo>
                <a:lnTo>
                  <a:pt x="1448083" y="313734"/>
                </a:lnTo>
                <a:cubicBezTo>
                  <a:pt x="769223" y="524881"/>
                  <a:pt x="276320" y="1158098"/>
                  <a:pt x="276320" y="1906438"/>
                </a:cubicBezTo>
                <a:cubicBezTo>
                  <a:pt x="276320" y="2827472"/>
                  <a:pt x="1022966" y="3574118"/>
                  <a:pt x="1944000" y="3574118"/>
                </a:cubicBezTo>
                <a:cubicBezTo>
                  <a:pt x="2865034" y="3574118"/>
                  <a:pt x="3611680" y="2827472"/>
                  <a:pt x="3611680" y="1906438"/>
                </a:cubicBezTo>
                <a:cubicBezTo>
                  <a:pt x="3611680" y="1158098"/>
                  <a:pt x="3118777" y="524881"/>
                  <a:pt x="2439917" y="313734"/>
                </a:cubicBezTo>
                <a:lnTo>
                  <a:pt x="2323116" y="283701"/>
                </a:lnTo>
                <a:lnTo>
                  <a:pt x="2323116" y="0"/>
                </a:lnTo>
                <a:close/>
              </a:path>
            </a:pathLst>
          </a:custGeom>
          <a:solidFill>
            <a:srgbClr val="ffff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473040" y="2165400"/>
            <a:ext cx="639720" cy="31798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2562120" y="276120"/>
            <a:ext cx="92250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de4047"/>
                </a:solidFill>
                <a:latin typeface="等线 Light"/>
              </a:rPr>
              <a:t>Цель работы: </a:t>
            </a:r>
            <a:r>
              <a:rPr b="0" lang="ru-RU" sz="2800" spc="-1" strike="noStrike">
                <a:solidFill>
                  <a:srgbClr val="000000"/>
                </a:solidFill>
                <a:latin typeface="等线 Light"/>
              </a:rPr>
              <a:t>формирование у дошкольников поведенческих навыков здорового образа жизни, через инновационные технологии оздоровительных метод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2039760" y="4395960"/>
            <a:ext cx="942840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等线"/>
              </a:rPr>
              <a:t>Направлять совместную работу педагогического коллектива МДОУ на развитие и закаливание организма ребё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1519200" y="2392200"/>
            <a:ext cx="6620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"/>
          <p:cNvSpPr/>
          <p:nvPr/>
        </p:nvSpPr>
        <p:spPr>
          <a:xfrm>
            <a:off x="2039760" y="2449440"/>
            <a:ext cx="942840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等线"/>
              </a:rPr>
              <a:t>Помочь ребёнку осознанно включится в работу по укреплению психофизического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"/>
          <p:cNvPicPr/>
          <p:nvPr/>
        </p:nvPicPr>
        <p:blipFill>
          <a:blip r:embed="rId4"/>
          <a:stretch/>
        </p:blipFill>
        <p:spPr>
          <a:xfrm>
            <a:off x="1550880" y="2867040"/>
            <a:ext cx="658800" cy="5731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0"/>
          <p:cNvSpPr/>
          <p:nvPr/>
        </p:nvSpPr>
        <p:spPr>
          <a:xfrm>
            <a:off x="2039760" y="3071880"/>
            <a:ext cx="9428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等线"/>
              </a:rPr>
              <a:t>Формировать навыков здорового образа жизни, через активн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"/>
          <p:cNvPicPr/>
          <p:nvPr/>
        </p:nvPicPr>
        <p:blipFill>
          <a:blip r:embed="rId5"/>
          <a:stretch/>
        </p:blipFill>
        <p:spPr>
          <a:xfrm>
            <a:off x="1550880" y="3379680"/>
            <a:ext cx="658800" cy="5731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2"/>
          <p:cNvSpPr/>
          <p:nvPr/>
        </p:nvSpPr>
        <p:spPr>
          <a:xfrm>
            <a:off x="2039760" y="3538440"/>
            <a:ext cx="9428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等线"/>
              </a:rPr>
              <a:t>Поддерживать стремление дошкольника к самопозн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2039760" y="3968640"/>
            <a:ext cx="9428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等线"/>
              </a:rPr>
              <a:t>Формировать навыки саморегуляции поведения ребё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4" descr=""/>
          <p:cNvPicPr/>
          <p:nvPr/>
        </p:nvPicPr>
        <p:blipFill>
          <a:blip r:embed="rId6"/>
          <a:stretch/>
        </p:blipFill>
        <p:spPr>
          <a:xfrm>
            <a:off x="1521000" y="3870360"/>
            <a:ext cx="658800" cy="573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"/>
          <p:cNvPicPr/>
          <p:nvPr/>
        </p:nvPicPr>
        <p:blipFill>
          <a:blip r:embed="rId7"/>
          <a:stretch/>
        </p:blipFill>
        <p:spPr>
          <a:xfrm>
            <a:off x="1521000" y="4352760"/>
            <a:ext cx="658800" cy="573120"/>
          </a:xfrm>
          <a:prstGeom prst="rect">
            <a:avLst/>
          </a:prstGeom>
          <a:ln w="0">
            <a:noFill/>
          </a:ln>
        </p:spPr>
      </p:pic>
      <p:pic>
        <p:nvPicPr>
          <p:cNvPr id="92" name="Rectangle 16" descr=""/>
          <p:cNvPicPr/>
          <p:nvPr/>
        </p:nvPicPr>
        <p:blipFill>
          <a:blip r:embed="rId8"/>
          <a:stretch/>
        </p:blipFill>
        <p:spPr>
          <a:xfrm>
            <a:off x="457200" y="2401920"/>
            <a:ext cx="804960" cy="29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506520" y="1774800"/>
            <a:ext cx="43830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de4047"/>
                </a:solidFill>
                <a:latin typeface="等线 Light"/>
              </a:rPr>
              <a:t>ТРАДИЦИ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Утренняя гимн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Физкультурное заня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Гимнастика после дневного 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Физкультмину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Подвижн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Физически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Закал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Дыхательная гимн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Физкультурные дос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Упражнения между занятиями (динамическая пау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1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Летние забавы на прогул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2"/>
          <a:stretch/>
        </p:blipFill>
        <p:spPr>
          <a:xfrm rot="3840000">
            <a:off x="301320" y="-372960"/>
            <a:ext cx="1855800" cy="2627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13"/>
          <a:stretch/>
        </p:blipFill>
        <p:spPr>
          <a:xfrm rot="1500000">
            <a:off x="9678600" y="-1440"/>
            <a:ext cx="2627280" cy="18558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2212920" y="262080"/>
            <a:ext cx="77644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de4047"/>
                </a:solidFill>
                <a:latin typeface="等线 Light"/>
              </a:rPr>
              <a:t>ТРАДИЦИОННЫЕ И НЕТРАДИЦИОННЫЕ МЕТОДЫ РАБОТЫ ПО ОЗДОРОВЛЕНИЮ ДЕТЕЙ В ДЕТСКОМ С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4"/>
          <a:stretch/>
        </p:blipFill>
        <p:spPr>
          <a:xfrm>
            <a:off x="2212920" y="98280"/>
            <a:ext cx="8031240" cy="1008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15"/>
          <a:stretch/>
        </p:blipFill>
        <p:spPr>
          <a:xfrm>
            <a:off x="103320" y="1496880"/>
            <a:ext cx="5411520" cy="46483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5661000" y="2171880"/>
            <a:ext cx="3363840" cy="3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1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Музыко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1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Аутотрен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1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Психо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1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Психогимн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Пальчиковая гимн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«Дорожки здоровь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Само-масса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Дыхательная гимн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8831160" y="2165400"/>
            <a:ext cx="3257640" cy="28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Релакс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Эстетико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Игрогимн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Игрота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Креативная гимн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Фото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3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Аэроионо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3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Аромато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32"/>
          <a:stretch/>
        </p:blipFill>
        <p:spPr>
          <a:xfrm>
            <a:off x="4889520" y="1496880"/>
            <a:ext cx="8136000" cy="3465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0"/>
          <p:cNvSpPr/>
          <p:nvPr/>
        </p:nvSpPr>
        <p:spPr>
          <a:xfrm>
            <a:off x="7224840" y="1698480"/>
            <a:ext cx="25146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de4047"/>
                </a:solidFill>
                <a:latin typeface="等线 Light"/>
              </a:rPr>
              <a:t>НЕТРАДИЦИ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54000" y="4471920"/>
            <a:ext cx="2489040" cy="1660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60480" y="380880"/>
            <a:ext cx="2273040" cy="1509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5" name="Rectangle 3"/>
          <p:cNvSpPr/>
          <p:nvPr/>
        </p:nvSpPr>
        <p:spPr>
          <a:xfrm>
            <a:off x="3247920" y="109440"/>
            <a:ext cx="6269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de4047"/>
                </a:solidFill>
                <a:latin typeface="等线 Light"/>
              </a:rPr>
              <a:t>ВОСТОЧНЫЕ ОЗДОРОВИТЕЛЬНЫЕ МЕТОД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333520" y="725400"/>
            <a:ext cx="8855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等线 Light"/>
              </a:rPr>
              <a:t>Мудры (йога для пальцев) - (санскр.: mudrā, «печать, жест, знак») — в индуизме и буддизме — символическое, ритуальное расположение кистей рук, ритуальный язык же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335400" y="2562120"/>
            <a:ext cx="885492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等线 Light"/>
              </a:rPr>
              <a:t>Йога – упражнения для развития гибкости, восстановления здоровья и душевного равновесия, глубокая и мудрая система самосовершенствования, представляющая собой не только физиологию, но и духовную составляющ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544840" y="4398840"/>
            <a:ext cx="8854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等线 Light"/>
              </a:rPr>
              <a:t>Цигун (Ци Гун) – система дыхательных и двигательных упражнений, носящих практический характер, включает в себя медитацию и упражнения, с контролируемыми движениями и дыханием, преимущественно в оздоровительных и терапевтических це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1093680" y="2017800"/>
            <a:ext cx="2241720" cy="1509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0" name="Picture 8" descr=""/>
          <p:cNvPicPr/>
          <p:nvPr/>
        </p:nvPicPr>
        <p:blipFill>
          <a:blip r:embed="rId4"/>
          <a:stretch/>
        </p:blipFill>
        <p:spPr>
          <a:xfrm>
            <a:off x="128520" y="2773440"/>
            <a:ext cx="1932120" cy="153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555480" y="4232160"/>
            <a:ext cx="5845320" cy="19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等线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等线"/>
              </a:rPr>
              <a:t>Практика похлопывания поможет вам за короткие сро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等线"/>
              </a:rPr>
              <a:t>восстановить жизненные сил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等线"/>
              </a:rPr>
              <a:t>привести мышцы в тону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等线"/>
              </a:rPr>
              <a:t>и предотвратить различные боле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400800" y="336600"/>
            <a:ext cx="579132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等线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等线"/>
              </a:rPr>
              <a:t>Данная гимнастика, как утверждают китайские учёные,  помогает не только очистить свой организм от токсинов, но и активизировать работу всего организма, способствует циркуляции крови, усиливает работу внутренних органов и обмен веществ. Потому что к тому месту, по которому хлопает себя человек, стягиваются питательные и биологически активные вещества. К тому же на теле человека находятся энергетические точки, и во время зарядки мы прорабатываем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2" descr=""/>
          <p:cNvPicPr/>
          <p:nvPr/>
        </p:nvPicPr>
        <p:blipFill>
          <a:blip r:embed="rId4"/>
          <a:stretch/>
        </p:blipFill>
        <p:spPr>
          <a:xfrm>
            <a:off x="0" y="1440"/>
            <a:ext cx="12192120" cy="685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2378160" y="-11160"/>
            <a:ext cx="1278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0" y="34920"/>
            <a:ext cx="12192120" cy="68119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0" y="201600"/>
            <a:ext cx="12192120" cy="96156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等线"/>
              </a:rPr>
              <a:t>На руках, кистях и пальцах расположено множество чувствительных рецепторов, нервных окончани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等线"/>
              </a:rPr>
              <a:t>Это биологически активные точки, связанные с внутренними органам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1008000" y="5214960"/>
            <a:ext cx="63165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等线"/>
              </a:rPr>
              <a:t>развитие положительных эмо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1330200" y="46080"/>
            <a:ext cx="9853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dd5b4f"/>
                </a:solidFill>
                <a:latin typeface="等线 Light"/>
              </a:rPr>
              <a:t>Ожидаемые результаты применения массаж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728720" y="714240"/>
            <a:ext cx="620388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900" spc="-1" strike="noStrike">
                <a:solidFill>
                  <a:srgbClr val="dd5b4f"/>
                </a:solidFill>
                <a:latin typeface="等线"/>
              </a:rPr>
              <a:t>в образовательном направлении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022400" y="1170000"/>
            <a:ext cx="985356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等线"/>
              </a:rPr>
              <a:t>усвоение правил (знание того, что движения необходимо производить по ходу тока крови, не массировать лимфатические узл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1141560" y="588960"/>
            <a:ext cx="587160" cy="441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1022400" y="1747800"/>
            <a:ext cx="60976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等线"/>
              </a:rPr>
              <a:t>умение овладеть простейшими прием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1728720" y="2206800"/>
            <a:ext cx="609768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900" spc="-1" strike="noStrike">
                <a:solidFill>
                  <a:srgbClr val="dd5b4f"/>
                </a:solidFill>
                <a:latin typeface="等线"/>
              </a:rPr>
              <a:t>в оздоровительном направлении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022400" y="2684520"/>
            <a:ext cx="60976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等线"/>
              </a:rPr>
              <a:t>расширение капилляров кож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022400" y="2954160"/>
            <a:ext cx="60976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等线"/>
              </a:rPr>
              <a:t>ускорение циркуляции крови и лимф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1022400" y="3244680"/>
            <a:ext cx="60976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等线"/>
              </a:rPr>
              <a:t>усиление функций потовых и сальных желе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1022400" y="3529080"/>
            <a:ext cx="60976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等线"/>
              </a:rPr>
              <a:t>влияние на обменные процес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2"/>
          <a:stretch/>
        </p:blipFill>
        <p:spPr>
          <a:xfrm>
            <a:off x="1211400" y="2158920"/>
            <a:ext cx="517320" cy="3891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3"/>
          <p:cNvSpPr/>
          <p:nvPr/>
        </p:nvSpPr>
        <p:spPr>
          <a:xfrm>
            <a:off x="1022400" y="3797280"/>
            <a:ext cx="62881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等线"/>
              </a:rPr>
              <a:t>улучшение подвижности связочного аппара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1022400" y="4062240"/>
            <a:ext cx="62881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等线"/>
              </a:rPr>
              <a:t>побуждение к актив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1728720" y="4554360"/>
            <a:ext cx="628812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900" spc="-1" strike="noStrike">
                <a:solidFill>
                  <a:srgbClr val="dd5b4f"/>
                </a:solidFill>
                <a:latin typeface="等线 Light"/>
              </a:rPr>
              <a:t>в воспитательном направлении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3"/>
          <a:stretch/>
        </p:blipFill>
        <p:spPr>
          <a:xfrm>
            <a:off x="1247760" y="4468680"/>
            <a:ext cx="480960" cy="360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992160" y="4938840"/>
            <a:ext cx="752796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等线"/>
              </a:rPr>
              <a:t>тонизирующее влияние на центральную нервную систе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1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6T23:53:49Z</dcterms:created>
  <dc:creator>第一PPT</dc:creator>
  <dc:description/>
  <cp:keywords>www.1ppt.com</cp:keywords>
  <dc:language>en-US</dc:language>
  <cp:lastModifiedBy>Данила</cp:lastModifiedBy>
  <dcterms:modified xsi:type="dcterms:W3CDTF">2023-09-19T04:08:35Z</dcterms:modified>
  <cp:revision>118</cp:revision>
  <dc:subject/>
  <dc:title>唯美中国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2</vt:r8>
  </property>
  <property fmtid="{D5CDD505-2E9C-101B-9397-08002B2CF9AE}" pid="3" name="NXTAG2">
    <vt:lpwstr>0008002e1d0000000000010291410207f7000400038000</vt:lpwstr>
  </property>
  <property fmtid="{D5CDD505-2E9C-101B-9397-08002B2CF9AE}" pid="4" name="Notes">
    <vt:r8>12</vt:r8>
  </property>
  <property fmtid="{D5CDD505-2E9C-101B-9397-08002B2CF9AE}" pid="5" name="PresentationFormat">
    <vt:lpwstr>Широкоэкранный</vt:lpwstr>
  </property>
  <property fmtid="{D5CDD505-2E9C-101B-9397-08002B2CF9AE}" pid="6" name="Slides">
    <vt:r8>12</vt:r8>
  </property>
</Properties>
</file>