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7.gif" ContentType="image/gif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2.gif" ContentType="image/gif"/>
  <Override PartName="/ppt/media/image26.jpeg" ContentType="image/jpe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34.png" ContentType="image/png"/>
  <Override PartName="/ppt/media/image4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CD284-1158-4F82-9C7A-6DFB95B0F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A59F2-92B6-4458-9134-186E90EAA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Уважаемые коллеги, добрый день. Представляю вам, презентацию опыта работы, по теме: Китайская хлопково – ударная гимнастика, как одна из нетрадиционных оздоровительных технологий физкультурно – оздоровительной работы в детском сад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95971-6FCB-4B5C-94F4-5AD0027DE9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4CDA3-7463-44C1-829C-C3BA1577E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А теперь коротко об упражнениях и их воздействии на орг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стукивание кулачками друг о друга — это для профилактика хронических головных болей и боли в плеч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хлопывание запястьями друг о друга - аплодисменты, улучшающие работу мочеполовой сист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хлопывание по тыльной стороне ладони другой рукой - способствует уменьшению болей в пояснице. Сначала надо сделать упражнение с левой, потом с правой руки или наоборот. Главное поменять ру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стукивание кончиками пальцев одновременно друг о друга - поможет при хронических ринитах, усталости глаз. На кончиках пальцев есть акупунктурные точки, которые связаны с лиц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На внутренней стороне наших ладоней есть точки, которые связаны с сердцем и легкими, постукивание кулаком внутренней части ладони - улучшает работу этих органов. Делается это упражнение сначала с одной руки, потом с друг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Растирание и похлопывание ладоней стимулирует те точки, которые связаны со многими внутренними органами и системой кровообращения. Похлопывания ладонями друг о друга, с расставленными пальцами - улучшит работу щитовидной железы, внутренних органов, сердечно-сосудистой систем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Соберите ладони в горсти и похлопывайте — это отличное упражнение для профилактики инсультов и старческого мара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Заведите руки за голову и похлопайте в ладоши — это упражнение снимает усталость в области плеч и ру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ак видите, все очень просто и легк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A81B8-2F68-4542-9F6C-ACD7E67A98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2263D-0B3A-487C-95CE-200AE236D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Непосредственная задача практики данной оздоровительной гимнастики состоит в пробуждении дремлющего в человеческом теле механизма самовосстановления, естественным образом восстанавливается здоровье всех систем организма и улучшается общее состояние человека. Поэтому в нашем саду, решено делать его сразу после основной гимнастики, не пропускать и делать каждый день. Сам комплекс выполняется под энергичную, весёлую музыку, что особенно нравится детям. Данный комплекс, пока, опробован с детьми старшего дошкольного возраста. Конечно, пока рано говорить о каких-либо результатах применения данной технологии, но уже сейчас можно твёрдо сказать, что дети с радостью включаются в выполнение этой гимнастики, настроение улучшается, дети с удовольствием хлопают.  В перспективе, мы планируем включить его в систему физкультурно-оздоровительной работы и с детьми младшего дошкольного возраста. С логопедической точки зрения, данная технология уникальна, в тесном сотрудничестве с ними, по мере освоения движений самомассажа, предполагаем идти на усложнение упражнений и добавление новых, а также упражнений разнонаправленного действия, для улучшения межполушарных связ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B4DBB-563B-4459-A4A1-C7DEF5D2DE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42FBA-33BC-4F65-BC8D-876EC8582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Если вы любите необычные гимнастики, то я думаю многим должна понравиться эта практика – одно из драгоценных наследий в сокровищнице традиционной китайской медицины. Это оздоровительная и общеукрепляющая система с отличительными национальными чертами. Она является обобщением опыта, накопленного китайским народом. Мы же продолжим изучение опыта восточных технологий. И внедрение их в традиционные формы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2D5D0-E19B-4007-B75C-CA152EE25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D3D8D-2D7A-4B04-8F29-6984A54A0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итайский врач, Сунь Сымяо, времен империи Тан, внесший большой вклад во многие области традиционной китайской медицины, высказывал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«Люди, искусные в сохранении здоровья, лечат болезнь, которой еще нет». Данное высказывание чётко характеризует нашу деятельность по созданию условий для оздоровления дошкольников, ведь именно в детстве закладываются основы здорового образа жизн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8C798-6D74-4F6D-BB7F-8F078CA473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F64BA-A5F3-46FB-A158-72D41E4E0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Одним из главных направлений работы детского сада является создание условий для более гармоничного развития дошкольников, их физического и умственного развития. Большую роль в работе детского сада отводится деятельности, ориентированной на создание здоровой развивающей среды, укреплению природного защитного механизма, поддержанию постоянства внутренней среды организма ребенка дошкольного возраста (адаптацию к окружающей природной и социальной среде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На состояние здоровья ребенка влияют несколько факторов, вы видите их на экран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AF9E8-AE98-4134-B90B-8AADBC9880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938D2-6260-4F6F-B3CE-DFB20A566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рофилактическая и оздоровительная деятельность в нашем детском саду является чрезвычайно важной и первостепенной задачей. Для достижения основных цели и задач используются различные оздоровительные технологии и методи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B0F7E-452A-45B7-83E0-99F906152A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8D79F-8ECE-4DBF-A556-186CD299B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В целях разнообразия традиционных методов работы, сохранения и укрепления здоровья воспитанников, в нашем дошкольном учреждении широко используются и нетрадиционные методы рабо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Выбор нетрадиционных методик неслучаен. Поскольку многолетний опыт практической работы в школах и детских садах, где внедряются нетрадиционные методы оздоровления, показал положительные результа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Из огромного количества нетрадиционных направлений, я выделила восточные оздоровительные методики, такие как - Мудры, Йога, Цигун и многие другие. Сегодня я познакомлю Вас с одной из них, это - китайская хлопково – ударная гимнастика. Эту форму оздоровления я использую впервые, и потому считаю её инновационной в своей практи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D26DC-3068-42D7-ADD8-015AFA8B73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A25E5-FABF-43B0-A1B4-090B06123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Древняя восточная медицина знает множество средств оздоровления. Гимнастика мягко тренирует весь организм, повышает его выносливость, считается одной из самых уникальных и эффективных систем оздоровления организма. Она сочетает в себе комплекс статических физических упражнений, дыхательных техник и концентрацию вним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Занятия с использованием комплексов упражнений восточной гимнастики на детей действуют успокаивающе, укрепляя здоровье и дух ребенка, избавляют его от избытка энергии и новых эмоциональных переживаний, которые зачастую отвлекают детей и тормозят их развитие. Обладая природной гибкостью и чувством равновесия, дети обычно легко осваивают поз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Регулярные практики меняют жизнь к лучшему и приводят к поразительным результатам для здоровья, позволяя быть всегда здоровым и бодр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B0DD0-BD72-4FF9-9625-41A1D5C66A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E3D09-A66F-47F6-B1B6-C637D538E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рактика, про которую мы сегодня будем говорить называют не только Китайским похлопыванием, но и энергетическим самомассажем, который восстанавливает жизненные силы, бодрость, активность, профилактирует появление любых проблем с физическим телом (ну это как нам заявляют :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Самомассаж — это массаж, выполняемый самостоятельно, массаж — это дозированное механическое раздражение тела человека с помощью различных приемов и манипуляций, выполняемых руками и специально подобранным природным материалом, а также специальным оборудовани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В нашем случае мы, решили попробовать данную методику с детьми, начиная с аплодисментов здоровь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чему мы остановились на эт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796A2-69C9-40F2-8844-DFCF5A7C66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41D69-D48F-4493-B079-DF72205AD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Тысячи лет назад тибетские врачеватели установили взаимосвязь развития речи и тонких движений рук, на ладони рук и подошвы ног выходят своеобразные сигнальные точки почти все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Именно поэтому нам приятно хлопать в ладоши, ходить босиком – бессознательно посылать положительные сигналы сердцу, легким, печени, почкам, желудку, другим органам. Во время этой практики, на физическом уровне, в вашем теле усиливается циркуляция крови, ослабленные внутренние органы получают дополнительное питание, укрепляются кости и сухожилия, становятся более подвижными суставы, а из организма начнут выходить накопившиеся токсины, усилится обмен веществ, улучшится состояние кожи и воло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Современные же исследования подтвердили, что пальцы рук наделены большим количеством рецепторов, посылающих импульсы в центральную нервную систему человек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аждый пальчик руки имеет обширное представительство в коре больших полушарий мозга. Известный исследователь детской речи Мариони́лла Макси́мовна Кольцова доказала, что движения пальцев рук стимулируют деятельность ЦНС и ускоряют развитие речи ребенка. Таким образом, постоянная стимуляция зон коры головного мозга, отвечающих за моторику, является необходимым элементом в системе коррекционной работы как с воспитанниками с нарушениями речи, так и детей с нормой. Так, многие логопеды взяли её в практику своей работы с детьми с нарушениями ре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А так как в нашем детском саду функционируют группы компенсирующей направленности детей с ТНР (тяжёлые нарушения речи). Использование различных форм и методов стимуляции мелкой моторики посредством самомассажа, особенно актуаль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3D078-ADFF-439D-A0F4-1752B4EA4A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684B9-534C-4182-BE4A-6CBD30815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За основу нашей гимнастики похлопывания взят комплекс, который так и называется «Аплодисменты здоровья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Он подходит всем без исключения. Можно делать, даже не вставая со стула. вот основные тезисы проведения самомассаж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ри проведении массажа рекомендуется обучать детей не надавливать с силой на указанные точки, а массировать их мягкими движениями, слегка надавливая, легко поглаживая или похлопывая. Массирующие движения следует выполнять в направлении от периферии к центру (от кистей рук к плечу и т. д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еред занятием хорошенько разотрём ладони, в том числе пространство между пальцами – вся поверхность ладоней должна «горе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аждый удар выполняется от 7 раз. Весь комплекс в начале освоения достаточно повторять 2 раза подряд, а потом его рекомендуется выполнять до 6 раз подряд. В течение дня его можно повторить 3-5 раз, но только не вечером. При этом соблюдайте главное правило цигун – ищите баланс, прислушивайтесь к себе, всё делайте по своему самочувств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622DE-3E9F-4BF5-AE33-3BCE98346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4177-6B23-4944-8906-EC006862E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CC2B-4A73-4F16-A4A2-D3B08A8F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4117-82BB-4E31-AEC8-D91A7C93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CE2C-D446-4A39-9626-7B70C51E7A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7E5E-D436-4C1E-9F9C-BB84D929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D777-B5B4-4908-A79C-3EADA203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71C2-91FC-4628-AAE9-31FCEF83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A625-147A-49ED-B890-B4509EE7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C205-7FB4-4ECC-BCBB-C7BEBE74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C068-70A2-4A59-B3FF-B3651A1B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294F-738B-40E8-8663-DEA7E201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3FA3-F1D8-4A8E-A4F6-3B640C52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5649840"/>
            <a:ext cx="77472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字体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t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等线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  <a:ea typeface="DejaVu Sans"/>
              </a:rPr>
              <a:t>4/19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等线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F3ECE-1536-4A25-A2B5-295B3B752C07}" type="slidenum">
              <a:rPr b="0" lang="en-US" sz="1200" spc="-1" strike="noStrike">
                <a:solidFill>
                  <a:srgbClr val="8b8b8b"/>
                </a:solidFill>
                <a:latin typeface="等线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24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12254040" cy="6856560"/>
            <a:chOff x="0" y="0"/>
            <a:chExt cx="12254040" cy="6856560"/>
          </a:xfrm>
        </p:grpSpPr>
        <p:pic>
          <p:nvPicPr>
            <p:cNvPr id="51" name="Picture 2" descr=""/>
            <p:cNvPicPr/>
            <p:nvPr/>
          </p:nvPicPr>
          <p:blipFill>
            <a:blip r:embed="rId1"/>
            <a:stretch/>
          </p:blipFill>
          <p:spPr>
            <a:xfrm>
              <a:off x="311148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004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Line 4"/>
          <p:cNvSpPr/>
          <p:nvPr/>
        </p:nvSpPr>
        <p:spPr>
          <a:xfrm flipH="1">
            <a:off x="163440" y="4387680"/>
            <a:ext cx="9563040" cy="1800"/>
          </a:xfrm>
          <a:prstGeom prst="line">
            <a:avLst/>
          </a:prstGeom>
          <a:ln w="12600">
            <a:solidFill>
              <a:srgbClr val="f0c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46240" y="1271520"/>
            <a:ext cx="872316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d85548"/>
                </a:solidFill>
                <a:latin typeface="Segoe Print"/>
                <a:ea typeface="钟齐段宁行书"/>
              </a:rPr>
              <a:t>«ВОЛШЕБНЫЕ ХЛОПК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d85548"/>
                </a:solidFill>
                <a:latin typeface="Segoe Print"/>
                <a:ea typeface="钟齐段宁行书"/>
              </a:rPr>
              <a:t>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d85548"/>
                </a:solidFill>
                <a:latin typeface="Segoe Print"/>
                <a:ea typeface="钟齐段宁行书"/>
              </a:rPr>
              <a:t>«АПЛОДИСМЕНТЫ ЗДОРОВ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449520" y="1814400"/>
            <a:ext cx="184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7662960" y="0"/>
            <a:ext cx="4592520" cy="6858000"/>
          </a:xfrm>
          <a:prstGeom prst="rect">
            <a:avLst/>
          </a:prstGeom>
          <a:ln w="0">
            <a:noFill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" name="Rectangle 8"/>
          <p:cNvSpPr/>
          <p:nvPr/>
        </p:nvSpPr>
        <p:spPr>
          <a:xfrm>
            <a:off x="246240" y="3451320"/>
            <a:ext cx="968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181717"/>
                </a:solidFill>
                <a:latin typeface="等线 Light"/>
                <a:ea typeface="等线 Light"/>
              </a:rPr>
              <a:t>КИТАЙСКАЯ ХЛОПКОВО–УДАРНАЯ ГИМНАСТИКА, КАК ОДНА ИЗ НЕТРАДИЦИОННЫХ ОЗДОРОВИТЕЛЬНЫХ ТЕХНОЛОГИЙ ФИЗКУЛЬТУРНО–ОЗДОРОВИТЕЛЬ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246240" y="4730760"/>
            <a:ext cx="4906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等线"/>
              </a:rPr>
              <a:t>Подготовила инструктор по физической культуре первой  категории: Гробова Евгения Фед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4159080"/>
            <a:ext cx="1967040" cy="2698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" descr=""/>
          <p:cNvPicPr/>
          <p:nvPr/>
        </p:nvPicPr>
        <p:blipFill>
          <a:blip r:embed="rId2"/>
          <a:stretch/>
        </p:blipFill>
        <p:spPr>
          <a:xfrm>
            <a:off x="263520" y="231840"/>
            <a:ext cx="5591160" cy="3144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6" name="Рисунок 6" descr=""/>
          <p:cNvPicPr/>
          <p:nvPr/>
        </p:nvPicPr>
        <p:blipFill>
          <a:blip r:embed="rId3"/>
          <a:stretch/>
        </p:blipFill>
        <p:spPr>
          <a:xfrm>
            <a:off x="2135160" y="3830760"/>
            <a:ext cx="5113440" cy="287316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-392040"/>
            <a:ext cx="2073240" cy="3821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1927080" y="136440"/>
            <a:ext cx="9209160" cy="68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К сведению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Скорая помощ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рдечном приступе рекомендуется надавить большим пальцем в центр ладо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ление нервной усталости – массаж мизинцев до полного расслаб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ь пальцы в кулак с загнутым внутрь большим пальцем – улучшает запоминание важных вещ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психической напряженности – круговые движения орехами в каждой ладони; сцепить руки над головой, наклонять тело в обе стороны поперемен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функции печени – при напряженных разогнутых пальцах руки согнуть, указательный палец в виде крюч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функции печени – растягивать зацепленные друг с другом указательные пальцы в противоположные стороны перед груд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уда, зубная боль, переутомление глаз, желудок, кишечник, красивая кожа – точка между большим и указательным пальцем, нажимать большим пальцем другой руки или орехом делать круговые движения (30 раз для точки каждой ру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Для снятия усталости ног нужно сто раз ударить кулаком по подошвам ног – японское упражнение «Стократное ударение по подошвам ног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"/>
          <p:cNvGrpSpPr/>
          <p:nvPr/>
        </p:nvGrpSpPr>
        <p:grpSpPr>
          <a:xfrm>
            <a:off x="0" y="0"/>
            <a:ext cx="12254040" cy="6856560"/>
            <a:chOff x="0" y="0"/>
            <a:chExt cx="12254040" cy="6856560"/>
          </a:xfrm>
        </p:grpSpPr>
        <p:pic>
          <p:nvPicPr>
            <p:cNvPr id="140" name="Picture 2" descr=""/>
            <p:cNvPicPr/>
            <p:nvPr/>
          </p:nvPicPr>
          <p:blipFill>
            <a:blip r:embed="rId1"/>
            <a:stretch/>
          </p:blipFill>
          <p:spPr>
            <a:xfrm>
              <a:off x="311148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004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Line 4"/>
          <p:cNvSpPr/>
          <p:nvPr/>
        </p:nvSpPr>
        <p:spPr>
          <a:xfrm flipH="1">
            <a:off x="1611000" y="3932280"/>
            <a:ext cx="3962520" cy="1440"/>
          </a:xfrm>
          <a:prstGeom prst="line">
            <a:avLst/>
          </a:prstGeom>
          <a:ln w="12600">
            <a:solidFill>
              <a:srgbClr val="f0c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7662960" y="0"/>
            <a:ext cx="4592520" cy="6858000"/>
          </a:xfrm>
          <a:prstGeom prst="rect">
            <a:avLst/>
          </a:prstGeom>
          <a:ln w="0">
            <a:noFill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-804960" y="0"/>
            <a:ext cx="3659400" cy="3659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2216160" y="1316160"/>
            <a:ext cx="5972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600000"/>
                </a:solidFill>
                <a:latin typeface="等线 Light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0" y="0"/>
            <a:ext cx="12254040" cy="6856560"/>
            <a:chOff x="0" y="0"/>
            <a:chExt cx="12254040" cy="6856560"/>
          </a:xfrm>
        </p:grpSpPr>
        <p:pic>
          <p:nvPicPr>
            <p:cNvPr id="60" name="Picture 2" descr=""/>
            <p:cNvPicPr/>
            <p:nvPr/>
          </p:nvPicPr>
          <p:blipFill>
            <a:blip r:embed="rId1"/>
            <a:stretch/>
          </p:blipFill>
          <p:spPr>
            <a:xfrm>
              <a:off x="311148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004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4"/>
          <p:cNvSpPr/>
          <p:nvPr/>
        </p:nvSpPr>
        <p:spPr>
          <a:xfrm>
            <a:off x="291960" y="4457880"/>
            <a:ext cx="5610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222a35"/>
                </a:solidFill>
                <a:latin typeface="等线 Light"/>
                <a:ea typeface="钟齐段宁行书"/>
              </a:rPr>
              <a:t>Китайский легендарный врач, </a:t>
            </a:r>
            <a:r>
              <a:rPr b="1" lang="ru-RU" sz="2400" spc="-1" strike="noStrike">
                <a:solidFill>
                  <a:srgbClr val="222a35"/>
                </a:solidFill>
                <a:latin typeface="等线 Light"/>
                <a:ea typeface="钟齐段宁行书"/>
              </a:rPr>
              <a:t>Сунь Сымяо </a:t>
            </a:r>
            <a:r>
              <a:rPr b="0" lang="ru-RU" sz="2400" spc="-1" strike="noStrike">
                <a:solidFill>
                  <a:srgbClr val="222a35"/>
                </a:solidFill>
                <a:latin typeface="等线 Light"/>
                <a:ea typeface="钟齐段宁行书"/>
              </a:rPr>
              <a:t>(541-682 гг. н.э.), времен династий Суй и Тан, которого в народе называли «Царём лекарст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662960" y="0"/>
            <a:ext cx="4592520" cy="6858000"/>
          </a:xfrm>
          <a:prstGeom prst="rect">
            <a:avLst/>
          </a:prstGeom>
          <a:ln w="0">
            <a:noFill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320760" y="444600"/>
            <a:ext cx="2790720" cy="3732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3111480" y="725400"/>
            <a:ext cx="56102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dd5b4f"/>
                </a:solidFill>
                <a:latin typeface="等线 Light"/>
              </a:rPr>
              <a:t>«Люди, искусные в сохранении здоровья, лечат болезнь, которой еще нет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770200" y="333360"/>
            <a:ext cx="6764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dd5b4f"/>
                </a:solidFill>
                <a:latin typeface="方正铁筋隶书简体"/>
                <a:ea typeface="方正铁筋隶书简体"/>
              </a:rPr>
              <a:t>ФАКТОРЫ, ВЛИЯЮЩИЕ НА СОСТОЯНИЕ ЗДОРОВЬЯ РЕБЁ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49360" y="1074600"/>
            <a:ext cx="339840" cy="768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</p:pic>
      <p:sp>
        <p:nvSpPr>
          <p:cNvPr id="68" name="Rectangle 3"/>
          <p:cNvSpPr/>
          <p:nvPr/>
        </p:nvSpPr>
        <p:spPr>
          <a:xfrm>
            <a:off x="1857240" y="5641920"/>
            <a:ext cx="6096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недостаточность врачебного контроля</a:t>
            </a:r>
            <a:r>
              <a:rPr b="0" lang="ru-RU" sz="1800" spc="-1" strike="noStrike">
                <a:solidFill>
                  <a:srgbClr val="dd5b4f"/>
                </a:solidFill>
                <a:latin typeface="等线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812960" y="1074600"/>
            <a:ext cx="82389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климатогеографический фактор</a:t>
            </a:r>
            <a:r>
              <a:rPr b="0" lang="ru-RU" sz="2000" spc="-1" strike="noStrike">
                <a:solidFill>
                  <a:srgbClr val="ed7d31"/>
                </a:solidFill>
                <a:latin typeface="等线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 низкие температуры воздуха, недостаток солнца, дефицит двигательной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382760" y="207324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812960" y="2019240"/>
            <a:ext cx="741024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биологические: 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состояние здоровья женщин, уровень жизни, низкий уровень грамотности родителей в вопросах сохранения здоровья детей, неполноценное 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1382760" y="321948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827360" y="3270240"/>
            <a:ext cx="71485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нехватка витаминов, 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отсутствие набора свежих продуктов необходимых для детского растущего орган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1389240" y="430848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1857240" y="4389480"/>
            <a:ext cx="7264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социальные факторы: 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психологический климат в семье, отношение к здоровому образу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1389240" y="5386320"/>
            <a:ext cx="4744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19240" y="201600"/>
            <a:ext cx="2073240" cy="1963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2476440" y="309600"/>
            <a:ext cx="9428400" cy="1731960"/>
          </a:xfrm>
          <a:prstGeom prst="rect">
            <a:avLst/>
          </a:prstGeom>
          <a:noFill/>
          <a:ln w="25560">
            <a:solidFill>
              <a:srgbClr val="3b2722"/>
            </a:solidFill>
            <a:miter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-31680"/>
            <a:ext cx="2519280" cy="2493720"/>
          </a:xfrm>
          <a:custGeom>
            <a:avLst/>
            <a:gdLst>
              <a:gd name="textAreaLeft" fmla="*/ 0 w 2519280"/>
              <a:gd name="textAreaRight" fmla="*/ 2519280 w 2519280"/>
              <a:gd name="textAreaTop" fmla="*/ 0 h 2493720"/>
              <a:gd name="textAreaBottom" fmla="*/ 2494080 h 2493720"/>
            </a:gdLst>
            <a:ahLst/>
            <a:rect l="textAreaLeft" t="textAreaTop" r="textAreaRight" b="textAreaBottom"/>
            <a:pathLst>
              <a:path w="2519363" h="2493963">
                <a:moveTo>
                  <a:pt x="2323116" y="0"/>
                </a:moveTo>
                <a:lnTo>
                  <a:pt x="2335784" y="1933"/>
                </a:lnTo>
                <a:cubicBezTo>
                  <a:pt x="3221632" y="183204"/>
                  <a:pt x="3888000" y="967001"/>
                  <a:pt x="3888000" y="1906438"/>
                </a:cubicBezTo>
                <a:cubicBezTo>
                  <a:pt x="3888000" y="2980080"/>
                  <a:pt x="3017642" y="3850438"/>
                  <a:pt x="1944000" y="3850438"/>
                </a:cubicBezTo>
                <a:cubicBezTo>
                  <a:pt x="870358" y="3850438"/>
                  <a:pt x="0" y="2980080"/>
                  <a:pt x="0" y="1906438"/>
                </a:cubicBezTo>
                <a:cubicBezTo>
                  <a:pt x="0" y="1034104"/>
                  <a:pt x="574573" y="295969"/>
                  <a:pt x="1365914" y="49837"/>
                </a:cubicBezTo>
                <a:lnTo>
                  <a:pt x="1551263" y="2178"/>
                </a:lnTo>
                <a:lnTo>
                  <a:pt x="1551263" y="287203"/>
                </a:lnTo>
                <a:lnTo>
                  <a:pt x="1448083" y="313734"/>
                </a:lnTo>
                <a:cubicBezTo>
                  <a:pt x="769223" y="524881"/>
                  <a:pt x="276320" y="1158098"/>
                  <a:pt x="276320" y="1906438"/>
                </a:cubicBezTo>
                <a:cubicBezTo>
                  <a:pt x="276320" y="2827472"/>
                  <a:pt x="1022966" y="3574118"/>
                  <a:pt x="1944000" y="3574118"/>
                </a:cubicBezTo>
                <a:cubicBezTo>
                  <a:pt x="2865034" y="3574118"/>
                  <a:pt x="3611680" y="2827472"/>
                  <a:pt x="3611680" y="1906438"/>
                </a:cubicBezTo>
                <a:cubicBezTo>
                  <a:pt x="3611680" y="1158098"/>
                  <a:pt x="3118777" y="524881"/>
                  <a:pt x="2439917" y="313734"/>
                </a:cubicBezTo>
                <a:lnTo>
                  <a:pt x="2323116" y="283701"/>
                </a:lnTo>
                <a:lnTo>
                  <a:pt x="2323116" y="0"/>
                </a:lnTo>
                <a:close/>
              </a:path>
            </a:pathLst>
          </a:cu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73040" y="2165400"/>
            <a:ext cx="639720" cy="3179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62120" y="276120"/>
            <a:ext cx="9225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de4047"/>
                </a:solidFill>
                <a:latin typeface="等线 Light"/>
              </a:rPr>
              <a:t>Цель работы: </a:t>
            </a:r>
            <a:r>
              <a:rPr b="0" lang="ru-RU" sz="2800" spc="-1" strike="noStrike">
                <a:solidFill>
                  <a:srgbClr val="000000"/>
                </a:solidFill>
                <a:latin typeface="等线 Light"/>
              </a:rPr>
              <a:t>формирование у дошкольников поведенческих навыков здорового образа жизни, через инновационные технологии оздоровительных метод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039760" y="4395960"/>
            <a:ext cx="94284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Направлять совместную работу педагогического коллектива МДОУ на развитие и закаливание организма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519200" y="2392200"/>
            <a:ext cx="6620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2039760" y="2449440"/>
            <a:ext cx="94284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Помочь ребёнку осознанно включится в работу по укреплению психофизического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550880" y="2867040"/>
            <a:ext cx="658800" cy="573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2039760" y="3071880"/>
            <a:ext cx="9428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Формировать навыков здорового образа жизни, через актив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"/>
          <p:cNvPicPr/>
          <p:nvPr/>
        </p:nvPicPr>
        <p:blipFill>
          <a:blip r:embed="rId5"/>
          <a:stretch/>
        </p:blipFill>
        <p:spPr>
          <a:xfrm>
            <a:off x="1550880" y="3379680"/>
            <a:ext cx="658800" cy="573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2039760" y="3538440"/>
            <a:ext cx="9428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Поддерживать стремление дошкольника к самопозн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2039760" y="3968640"/>
            <a:ext cx="9428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Формировать навыки саморегуляции поведения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6"/>
          <a:stretch/>
        </p:blipFill>
        <p:spPr>
          <a:xfrm>
            <a:off x="1521000" y="3870360"/>
            <a:ext cx="658800" cy="573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"/>
          <p:cNvPicPr/>
          <p:nvPr/>
        </p:nvPicPr>
        <p:blipFill>
          <a:blip r:embed="rId7"/>
          <a:stretch/>
        </p:blipFill>
        <p:spPr>
          <a:xfrm>
            <a:off x="1521000" y="4352760"/>
            <a:ext cx="658800" cy="57312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16" descr=""/>
          <p:cNvPicPr/>
          <p:nvPr/>
        </p:nvPicPr>
        <p:blipFill>
          <a:blip r:embed="rId8"/>
          <a:stretch/>
        </p:blipFill>
        <p:spPr>
          <a:xfrm>
            <a:off x="457200" y="2401920"/>
            <a:ext cx="804960" cy="29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506520" y="1774800"/>
            <a:ext cx="4383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e4047"/>
                </a:solidFill>
                <a:latin typeface="等线 Light"/>
              </a:rPr>
              <a:t>ТРАДИ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Утрення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культурное за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Гимнастика после дневного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культмину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одвиж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Зака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Дыхательн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культурные дос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Упражнения между занятиями (динамическая пау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Летние забавы на прогул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2"/>
          <a:stretch/>
        </p:blipFill>
        <p:spPr>
          <a:xfrm rot="3840000">
            <a:off x="301320" y="-372960"/>
            <a:ext cx="1855800" cy="262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13"/>
          <a:stretch/>
        </p:blipFill>
        <p:spPr>
          <a:xfrm rot="1500000">
            <a:off x="9678600" y="-1440"/>
            <a:ext cx="262728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2212920" y="262080"/>
            <a:ext cx="77644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de4047"/>
                </a:solidFill>
                <a:latin typeface="等线 Light"/>
              </a:rPr>
              <a:t>ТРАДИЦИОННЫЕ И НЕТРАДИЦИОННЫЕ МЕТОДЫ РАБОТЫ ПО ОЗДОРОВЛЕНИЮ ДЕТЕЙ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4"/>
          <a:stretch/>
        </p:blipFill>
        <p:spPr>
          <a:xfrm>
            <a:off x="2212920" y="98280"/>
            <a:ext cx="8031240" cy="10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15"/>
          <a:stretch/>
        </p:blipFill>
        <p:spPr>
          <a:xfrm>
            <a:off x="103320" y="1496880"/>
            <a:ext cx="5411520" cy="4648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5661000" y="2171880"/>
            <a:ext cx="336384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Музык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Ауто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сих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сихо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альчиков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«Дорожки здоров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Само-масс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Дыхательн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8831160" y="2165400"/>
            <a:ext cx="325764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Релакс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Эстетик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Игро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Игрот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Креативн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о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Аэроион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Арома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32"/>
          <a:stretch/>
        </p:blipFill>
        <p:spPr>
          <a:xfrm>
            <a:off x="4889520" y="1496880"/>
            <a:ext cx="8136000" cy="3465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7224840" y="1698480"/>
            <a:ext cx="2514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e4047"/>
                </a:solidFill>
                <a:latin typeface="等线 Light"/>
              </a:rPr>
              <a:t>НЕТРАДИ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54000" y="4471920"/>
            <a:ext cx="2489040" cy="1660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60480" y="380880"/>
            <a:ext cx="2273040" cy="1509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5" name="Rectangle 3"/>
          <p:cNvSpPr/>
          <p:nvPr/>
        </p:nvSpPr>
        <p:spPr>
          <a:xfrm>
            <a:off x="3247920" y="109440"/>
            <a:ext cx="6269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e4047"/>
                </a:solidFill>
                <a:latin typeface="等线 Light"/>
              </a:rPr>
              <a:t>ВОСТОЧНЫЕ ОЗДОРОВИТЕЛЬНЫЕ МЕТО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333520" y="725400"/>
            <a:ext cx="885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 Light"/>
              </a:rPr>
              <a:t>Мудры (йога для пальцев) - (санскр.: mudrā, «печать, жест, знак») — в индуизме и буддизме — символическое, ритуальное расположение кистей рук, ритуальный язык же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335400" y="2562120"/>
            <a:ext cx="88549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 Light"/>
              </a:rPr>
              <a:t>Йога – упражнения для развития гибкости, восстановления здоровья и душевного равновесия, глубокая и мудрая система самосовершенствования, представляющая собой не только физиологию, но и духовную составляющ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44840" y="4398840"/>
            <a:ext cx="8854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 Light"/>
              </a:rPr>
              <a:t>Цигун (Ци Гун) – система дыхательных и двигательных упражнений, носящих практический характер, включает в себя медитацию и упражнения, с контролируемыми движениями и дыханием, преимущественно в оздоровительных и терапевтических ц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93680" y="2017800"/>
            <a:ext cx="2241720" cy="1509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128520" y="2773440"/>
            <a:ext cx="1932120" cy="153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555480" y="4232160"/>
            <a:ext cx="584532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Практика похлопывания поможет вам за короткие с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восстановить жизненные си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привести мышцы в тону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и предотвратить различ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400800" y="336600"/>
            <a:ext cx="57913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Данная гимнастика, как утверждают китайские учёные,  помогает не только очистить свой организм от токсинов, но и активизировать работу всего организма, способствует циркуляции крови, усиливает работу внутренних органов и обмен веществ. Потому что к тому месту, по которому хлопает себя человек, стягиваются питательные и биологически активные вещества. К тому же на теле человека находятся энергетические точки, и во время зарядки мы прорабатываем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4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378160" y="-11160"/>
            <a:ext cx="127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34920"/>
            <a:ext cx="12192120" cy="6811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0" y="201600"/>
            <a:ext cx="12192120" cy="9615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等线"/>
              </a:rPr>
              <a:t>На руках, кистях и пальцах расположено множество чувствительных рецепторов, нервных оконча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等线"/>
              </a:rPr>
              <a:t>Это биологически активные точки, связанные с внутренними орган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008000" y="5214960"/>
            <a:ext cx="63165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развитие положительных эмо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330200" y="46080"/>
            <a:ext cx="98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dd5b4f"/>
                </a:solidFill>
                <a:latin typeface="等线 Light"/>
              </a:rPr>
              <a:t>Ожидаемые результаты применения массаж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728720" y="714240"/>
            <a:ext cx="62038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900" spc="-1" strike="noStrike">
                <a:solidFill>
                  <a:srgbClr val="dd5b4f"/>
                </a:solidFill>
                <a:latin typeface="等线"/>
              </a:rPr>
              <a:t>в образовательном направлен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022400" y="1170000"/>
            <a:ext cx="98535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своение правил (знание того, что движения необходимо производить по ходу тока крови, не массировать лимфатические узл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41560" y="588960"/>
            <a:ext cx="587160" cy="441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1022400" y="174780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мение овладеть простейшими прием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728720" y="2206800"/>
            <a:ext cx="60976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900" spc="-1" strike="noStrike">
                <a:solidFill>
                  <a:srgbClr val="dd5b4f"/>
                </a:solidFill>
                <a:latin typeface="等线"/>
              </a:rPr>
              <a:t>в оздоровительном направлен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22400" y="268452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расширение капилляров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22400" y="295416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скорение циркуляции крови и лимф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22400" y="324468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силение функций потовых и сальных желе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022400" y="352908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влияние на обменные процес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1211400" y="2158920"/>
            <a:ext cx="517320" cy="38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1022400" y="3797280"/>
            <a:ext cx="6288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лучшение подвижности связочного аппар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1022400" y="4062240"/>
            <a:ext cx="6288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побуждение к а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1728720" y="4554360"/>
            <a:ext cx="62881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900" spc="-1" strike="noStrike">
                <a:solidFill>
                  <a:srgbClr val="dd5b4f"/>
                </a:solidFill>
                <a:latin typeface="等线 Light"/>
              </a:rPr>
              <a:t>в воспитательном направлен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3"/>
          <a:stretch/>
        </p:blipFill>
        <p:spPr>
          <a:xfrm>
            <a:off x="1247760" y="4468680"/>
            <a:ext cx="4809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992160" y="4938840"/>
            <a:ext cx="75279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тонизирующее влияние на центральную нервную сист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23:53:49Z</dcterms:created>
  <dc:creator>第一PPT</dc:creator>
  <dc:description/>
  <cp:keywords>www.1ppt.com</cp:keywords>
  <dc:language>en-US</dc:language>
  <cp:lastModifiedBy>Данила</cp:lastModifiedBy>
  <dcterms:modified xsi:type="dcterms:W3CDTF">2023-09-19T04:08:35Z</dcterms:modified>
  <cp:revision>118</cp:revision>
  <dc:subject/>
  <dc:title>唯美中国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XTAG2">
    <vt:lpwstr>0008002e1d0000000000010291410207f7000400038000</vt:lpwstr>
  </property>
  <property fmtid="{D5CDD505-2E9C-101B-9397-08002B2CF9AE}" pid="4" name="Notes">
    <vt:r8>12</vt:r8>
  </property>
  <property fmtid="{D5CDD505-2E9C-101B-9397-08002B2CF9AE}" pid="5" name="PresentationFormat">
    <vt:lpwstr>Широкоэкранный</vt:lpwstr>
  </property>
  <property fmtid="{D5CDD505-2E9C-101B-9397-08002B2CF9AE}" pid="6" name="Slides">
    <vt:r8>12</vt:r8>
  </property>
</Properties>
</file>