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121935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6B7-D376-435E-A0C4-B0230533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1068084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55280" y="3220200"/>
            <a:ext cx="1068084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944-6CF2-407C-9844-8149227A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5528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2836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36BC-4BB6-4896-96CC-43C5988B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6800" y="120024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977960" y="120024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55280" y="322020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366800" y="322020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977960" y="322020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15E-7F57-4A6F-A405-498A44C1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753D-E559-4D66-923D-561F3BAF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755280" y="1200240"/>
            <a:ext cx="106808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0C3F-AB4C-4895-BAE4-A929A38C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106808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0BFE-CE74-4AA6-9495-146E8500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E74A-C865-43DB-B923-C0FEB11E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23DA-082E-4692-B1A5-237F5E57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55280" y="212760"/>
            <a:ext cx="1068084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DD04-3394-4D0D-A45E-BD0406B1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5528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3F87-BFCE-4645-A082-66C03AA7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55280" y="1200240"/>
            <a:ext cx="106808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B65-9D39-4054-ABC0-6B42E93C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836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8CED-4AC4-4127-8C9B-DCB3636E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55280" y="3220200"/>
            <a:ext cx="1068084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C15D-0DA5-4476-AFC1-BBE0FE67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1068084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55280" y="3220200"/>
            <a:ext cx="1068084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FAF3-2F2C-4524-8A74-345D2262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5528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22836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AF68-54FE-4E95-B868-18077506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66800" y="120024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977960" y="120024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755280" y="322020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66800" y="322020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7977960" y="3220200"/>
            <a:ext cx="3439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6218-D7A6-4B53-A324-3DD49674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106808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55D6-3C90-465F-9398-F062FFBB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DA2-10C9-4801-BF58-E753CFD4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1F0-4719-4BA7-87A2-83D5C8A3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55280" y="212760"/>
            <a:ext cx="1068084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DD6-EAE0-4EF2-9751-EF39078F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28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2737-F57E-41EA-828E-75870337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28360" y="322020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F9EF-E48C-4555-8966-03BF0AC5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8360" y="1200240"/>
            <a:ext cx="521208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280" y="3220200"/>
            <a:ext cx="10680840" cy="18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6B0-2955-4825-9FFF-7F9F6C2E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g object 16"/>
          <p:cNvSpPr/>
          <p:nvPr/>
        </p:nvSpPr>
        <p:spPr>
          <a:xfrm>
            <a:off x="9371160" y="0"/>
            <a:ext cx="1218960" cy="6858000"/>
          </a:xfrm>
          <a:custGeom>
            <a:avLst/>
            <a:gdLst/>
            <a:ahLst/>
            <a:rect l="l" t="t" r="r" b="b"/>
            <a:pathLst>
              <a:path w="1219200" h="6858000">
                <a:moveTo>
                  <a:pt x="0" y="0"/>
                </a:moveTo>
                <a:lnTo>
                  <a:pt x="1219200" y="6857999"/>
                </a:lnTo>
              </a:path>
            </a:pathLst>
          </a:custGeom>
          <a:noFill/>
          <a:ln w="9000">
            <a:solidFill>
              <a:srgbClr val="bebeb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bg object 17"/>
          <p:cNvSpPr/>
          <p:nvPr/>
        </p:nvSpPr>
        <p:spPr>
          <a:xfrm>
            <a:off x="7424640" y="3681360"/>
            <a:ext cx="4764240" cy="3178080"/>
          </a:xfrm>
          <a:custGeom>
            <a:avLst/>
            <a:gdLst/>
            <a:ahLst/>
            <a:rect l="l" t="t" r="r" b="b"/>
            <a:pathLst>
              <a:path w="4763770" h="3176904">
                <a:moveTo>
                  <a:pt x="4763516" y="0"/>
                </a:moveTo>
                <a:lnTo>
                  <a:pt x="0" y="3176586"/>
                </a:lnTo>
              </a:path>
            </a:pathLst>
          </a:custGeom>
          <a:noFill/>
          <a:ln w="900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bg object 18"/>
          <p:cNvSpPr/>
          <p:nvPr/>
        </p:nvSpPr>
        <p:spPr>
          <a:xfrm>
            <a:off x="9182160" y="0"/>
            <a:ext cx="3006720" cy="6858000"/>
          </a:xfrm>
          <a:custGeom>
            <a:avLst/>
            <a:gdLst/>
            <a:ahLst/>
            <a:rect l="l" t="t" r="r" b="b"/>
            <a:pathLst>
              <a:path w="3007359" h="6858000">
                <a:moveTo>
                  <a:pt x="3006851" y="0"/>
                </a:moveTo>
                <a:lnTo>
                  <a:pt x="2042483" y="0"/>
                </a:lnTo>
                <a:lnTo>
                  <a:pt x="0" y="6857996"/>
                </a:lnTo>
                <a:lnTo>
                  <a:pt x="3006851" y="6857996"/>
                </a:lnTo>
                <a:lnTo>
                  <a:pt x="3006851" y="0"/>
                </a:lnTo>
                <a:close/>
              </a:path>
            </a:pathLst>
          </a:custGeom>
          <a:solidFill>
            <a:srgbClr val="90c22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bg object 19"/>
          <p:cNvSpPr/>
          <p:nvPr/>
        </p:nvSpPr>
        <p:spPr>
          <a:xfrm>
            <a:off x="9604440" y="0"/>
            <a:ext cx="2587680" cy="6858000"/>
          </a:xfrm>
          <a:custGeom>
            <a:avLst/>
            <a:gdLst/>
            <a:ahLst/>
            <a:rect l="l" t="t" r="r" b="b"/>
            <a:pathLst>
              <a:path w="2588259" h="6858000">
                <a:moveTo>
                  <a:pt x="2587664" y="0"/>
                </a:moveTo>
                <a:lnTo>
                  <a:pt x="0" y="0"/>
                </a:lnTo>
                <a:lnTo>
                  <a:pt x="1208190" y="6857996"/>
                </a:lnTo>
                <a:lnTo>
                  <a:pt x="2587664" y="6857996"/>
                </a:lnTo>
                <a:lnTo>
                  <a:pt x="2587664" y="0"/>
                </a:lnTo>
                <a:close/>
              </a:path>
            </a:pathLst>
          </a:custGeom>
          <a:solidFill>
            <a:srgbClr val="90c22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bg object 20"/>
          <p:cNvSpPr/>
          <p:nvPr/>
        </p:nvSpPr>
        <p:spPr>
          <a:xfrm>
            <a:off x="8933040" y="3048120"/>
            <a:ext cx="3259080" cy="3809880"/>
          </a:xfrm>
          <a:custGeom>
            <a:avLst/>
            <a:gdLst/>
            <a:ahLst/>
            <a:rect l="l" t="t" r="r" b="b"/>
            <a:pathLst>
              <a:path w="3260090" h="3810000">
                <a:moveTo>
                  <a:pt x="3259835" y="0"/>
                </a:moveTo>
                <a:lnTo>
                  <a:pt x="0" y="3809999"/>
                </a:lnTo>
                <a:lnTo>
                  <a:pt x="3259835" y="3809999"/>
                </a:lnTo>
                <a:lnTo>
                  <a:pt x="3259835" y="0"/>
                </a:lnTo>
                <a:close/>
              </a:path>
            </a:pathLst>
          </a:custGeom>
          <a:solidFill>
            <a:srgbClr val="539f2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bg object 21"/>
          <p:cNvSpPr/>
          <p:nvPr/>
        </p:nvSpPr>
        <p:spPr>
          <a:xfrm>
            <a:off x="9337680" y="0"/>
            <a:ext cx="2851200" cy="6858000"/>
          </a:xfrm>
          <a:custGeom>
            <a:avLst/>
            <a:gdLst/>
            <a:ahLst/>
            <a:rect l="l" t="t" r="r" b="b"/>
            <a:pathLst>
              <a:path w="2851784" h="6858000">
                <a:moveTo>
                  <a:pt x="2851161" y="0"/>
                </a:moveTo>
                <a:lnTo>
                  <a:pt x="0" y="0"/>
                </a:lnTo>
                <a:lnTo>
                  <a:pt x="2467621" y="6857996"/>
                </a:lnTo>
                <a:lnTo>
                  <a:pt x="2851161" y="6857996"/>
                </a:lnTo>
                <a:lnTo>
                  <a:pt x="2851161" y="0"/>
                </a:lnTo>
                <a:close/>
              </a:path>
            </a:pathLst>
          </a:custGeom>
          <a:solidFill>
            <a:srgbClr val="3e781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bg object 22"/>
          <p:cNvSpPr/>
          <p:nvPr/>
        </p:nvSpPr>
        <p:spPr>
          <a:xfrm>
            <a:off x="10898280" y="0"/>
            <a:ext cx="1290600" cy="6858000"/>
          </a:xfrm>
          <a:custGeom>
            <a:avLst/>
            <a:gdLst/>
            <a:ahLst/>
            <a:rect l="l" t="t" r="r" b="b"/>
            <a:pathLst>
              <a:path w="1290954" h="6858000">
                <a:moveTo>
                  <a:pt x="1290827" y="0"/>
                </a:moveTo>
                <a:lnTo>
                  <a:pt x="1018959" y="0"/>
                </a:lnTo>
                <a:lnTo>
                  <a:pt x="0" y="6857996"/>
                </a:lnTo>
                <a:lnTo>
                  <a:pt x="1290827" y="6857996"/>
                </a:lnTo>
                <a:lnTo>
                  <a:pt x="1290827" y="0"/>
                </a:lnTo>
                <a:close/>
              </a:path>
            </a:pathLst>
          </a:custGeom>
          <a:solidFill>
            <a:srgbClr val="c0e37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bg object 23"/>
          <p:cNvSpPr/>
          <p:nvPr/>
        </p:nvSpPr>
        <p:spPr>
          <a:xfrm>
            <a:off x="10941120" y="0"/>
            <a:ext cx="1247760" cy="6858000"/>
          </a:xfrm>
          <a:custGeom>
            <a:avLst/>
            <a:gdLst/>
            <a:ahLst/>
            <a:rect l="l" t="t" r="r" b="b"/>
            <a:pathLst>
              <a:path w="1248409" h="6858000">
                <a:moveTo>
                  <a:pt x="1248203" y="0"/>
                </a:moveTo>
                <a:lnTo>
                  <a:pt x="0" y="0"/>
                </a:lnTo>
                <a:lnTo>
                  <a:pt x="1107740" y="6857996"/>
                </a:lnTo>
                <a:lnTo>
                  <a:pt x="1248203" y="6857996"/>
                </a:lnTo>
                <a:lnTo>
                  <a:pt x="1248203" y="0"/>
                </a:lnTo>
                <a:close/>
              </a:path>
            </a:pathLst>
          </a:custGeom>
          <a:solidFill>
            <a:srgbClr val="90c22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bg object 24"/>
          <p:cNvSpPr/>
          <p:nvPr/>
        </p:nvSpPr>
        <p:spPr>
          <a:xfrm>
            <a:off x="10372680" y="3591000"/>
            <a:ext cx="1816200" cy="3267000"/>
          </a:xfrm>
          <a:custGeom>
            <a:avLst/>
            <a:gdLst/>
            <a:ahLst/>
            <a:rect l="l" t="t" r="r" b="b"/>
            <a:pathLst>
              <a:path w="1816734" h="3267709">
                <a:moveTo>
                  <a:pt x="1816607" y="0"/>
                </a:moveTo>
                <a:lnTo>
                  <a:pt x="0" y="3267455"/>
                </a:lnTo>
                <a:lnTo>
                  <a:pt x="1816607" y="3267455"/>
                </a:lnTo>
                <a:lnTo>
                  <a:pt x="1816607" y="0"/>
                </a:lnTo>
                <a:close/>
              </a:path>
            </a:pathLst>
          </a:custGeom>
          <a:solidFill>
            <a:srgbClr val="90c22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bg object 25"/>
          <p:cNvSpPr/>
          <p:nvPr/>
        </p:nvSpPr>
        <p:spPr>
          <a:xfrm>
            <a:off x="0" y="4013280"/>
            <a:ext cx="447840" cy="2844720"/>
          </a:xfrm>
          <a:custGeom>
            <a:avLst/>
            <a:gdLst/>
            <a:ahLst/>
            <a:rect l="l" t="t" r="r" b="b"/>
            <a:pathLst>
              <a:path w="448309" h="2845434">
                <a:moveTo>
                  <a:pt x="0" y="0"/>
                </a:moveTo>
                <a:lnTo>
                  <a:pt x="0" y="2845307"/>
                </a:lnTo>
                <a:lnTo>
                  <a:pt x="448056" y="2845307"/>
                </a:lnTo>
                <a:lnTo>
                  <a:pt x="0" y="0"/>
                </a:lnTo>
                <a:close/>
              </a:path>
            </a:pathLst>
          </a:custGeom>
          <a:solidFill>
            <a:srgbClr val="90c225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755280" y="1200240"/>
            <a:ext cx="106808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1"/>
          </p:nvPr>
        </p:nvSpPr>
        <p:spPr>
          <a:xfrm>
            <a:off x="4144680" y="6378120"/>
            <a:ext cx="390204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609480" y="6378120"/>
            <a:ext cx="28036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778600" y="6378120"/>
            <a:ext cx="2803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B273-F880-496D-B933-BB7E21A89A08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bg object 16"/>
          <p:cNvSpPr/>
          <p:nvPr/>
        </p:nvSpPr>
        <p:spPr>
          <a:xfrm>
            <a:off x="9371160" y="0"/>
            <a:ext cx="1218960" cy="6858000"/>
          </a:xfrm>
          <a:custGeom>
            <a:avLst/>
            <a:gdLst/>
            <a:ahLst/>
            <a:rect l="l" t="t" r="r" b="b"/>
            <a:pathLst>
              <a:path w="1219200" h="6858000">
                <a:moveTo>
                  <a:pt x="0" y="0"/>
                </a:moveTo>
                <a:lnTo>
                  <a:pt x="1219200" y="6857999"/>
                </a:lnTo>
              </a:path>
            </a:pathLst>
          </a:custGeom>
          <a:noFill/>
          <a:ln w="9000">
            <a:solidFill>
              <a:srgbClr val="bebeb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bg object 17"/>
          <p:cNvSpPr/>
          <p:nvPr/>
        </p:nvSpPr>
        <p:spPr>
          <a:xfrm>
            <a:off x="7424640" y="3681360"/>
            <a:ext cx="4764240" cy="3178080"/>
          </a:xfrm>
          <a:custGeom>
            <a:avLst/>
            <a:gdLst/>
            <a:ahLst/>
            <a:rect l="l" t="t" r="r" b="b"/>
            <a:pathLst>
              <a:path w="4763770" h="3176904">
                <a:moveTo>
                  <a:pt x="4763516" y="0"/>
                </a:moveTo>
                <a:lnTo>
                  <a:pt x="0" y="3176586"/>
                </a:lnTo>
              </a:path>
            </a:pathLst>
          </a:custGeom>
          <a:noFill/>
          <a:ln w="900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bg object 18"/>
          <p:cNvSpPr/>
          <p:nvPr/>
        </p:nvSpPr>
        <p:spPr>
          <a:xfrm>
            <a:off x="9182160" y="0"/>
            <a:ext cx="3006720" cy="6858000"/>
          </a:xfrm>
          <a:custGeom>
            <a:avLst/>
            <a:gdLst/>
            <a:ahLst/>
            <a:rect l="l" t="t" r="r" b="b"/>
            <a:pathLst>
              <a:path w="3007359" h="6858000">
                <a:moveTo>
                  <a:pt x="3006851" y="0"/>
                </a:moveTo>
                <a:lnTo>
                  <a:pt x="2042483" y="0"/>
                </a:lnTo>
                <a:lnTo>
                  <a:pt x="0" y="6857996"/>
                </a:lnTo>
                <a:lnTo>
                  <a:pt x="3006851" y="6857996"/>
                </a:lnTo>
                <a:lnTo>
                  <a:pt x="3006851" y="0"/>
                </a:lnTo>
                <a:close/>
              </a:path>
            </a:pathLst>
          </a:custGeom>
          <a:solidFill>
            <a:srgbClr val="90c22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bg object 19"/>
          <p:cNvSpPr/>
          <p:nvPr/>
        </p:nvSpPr>
        <p:spPr>
          <a:xfrm>
            <a:off x="9604440" y="0"/>
            <a:ext cx="2587680" cy="6858000"/>
          </a:xfrm>
          <a:custGeom>
            <a:avLst/>
            <a:gdLst/>
            <a:ahLst/>
            <a:rect l="l" t="t" r="r" b="b"/>
            <a:pathLst>
              <a:path w="2588259" h="6858000">
                <a:moveTo>
                  <a:pt x="2587664" y="0"/>
                </a:moveTo>
                <a:lnTo>
                  <a:pt x="0" y="0"/>
                </a:lnTo>
                <a:lnTo>
                  <a:pt x="1208190" y="6857996"/>
                </a:lnTo>
                <a:lnTo>
                  <a:pt x="2587664" y="6857996"/>
                </a:lnTo>
                <a:lnTo>
                  <a:pt x="2587664" y="0"/>
                </a:lnTo>
                <a:close/>
              </a:path>
            </a:pathLst>
          </a:custGeom>
          <a:solidFill>
            <a:srgbClr val="90c22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bg object 20"/>
          <p:cNvSpPr/>
          <p:nvPr/>
        </p:nvSpPr>
        <p:spPr>
          <a:xfrm>
            <a:off x="8933040" y="3048120"/>
            <a:ext cx="3259080" cy="3809880"/>
          </a:xfrm>
          <a:custGeom>
            <a:avLst/>
            <a:gdLst/>
            <a:ahLst/>
            <a:rect l="l" t="t" r="r" b="b"/>
            <a:pathLst>
              <a:path w="3260090" h="3810000">
                <a:moveTo>
                  <a:pt x="3259835" y="0"/>
                </a:moveTo>
                <a:lnTo>
                  <a:pt x="0" y="3809999"/>
                </a:lnTo>
                <a:lnTo>
                  <a:pt x="3259835" y="3809999"/>
                </a:lnTo>
                <a:lnTo>
                  <a:pt x="3259835" y="0"/>
                </a:lnTo>
                <a:close/>
              </a:path>
            </a:pathLst>
          </a:custGeom>
          <a:solidFill>
            <a:srgbClr val="539f2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bg object 21"/>
          <p:cNvSpPr/>
          <p:nvPr/>
        </p:nvSpPr>
        <p:spPr>
          <a:xfrm>
            <a:off x="9337680" y="0"/>
            <a:ext cx="2851200" cy="6858000"/>
          </a:xfrm>
          <a:custGeom>
            <a:avLst/>
            <a:gdLst/>
            <a:ahLst/>
            <a:rect l="l" t="t" r="r" b="b"/>
            <a:pathLst>
              <a:path w="2851784" h="6858000">
                <a:moveTo>
                  <a:pt x="2851161" y="0"/>
                </a:moveTo>
                <a:lnTo>
                  <a:pt x="0" y="0"/>
                </a:lnTo>
                <a:lnTo>
                  <a:pt x="2467621" y="6857996"/>
                </a:lnTo>
                <a:lnTo>
                  <a:pt x="2851161" y="6857996"/>
                </a:lnTo>
                <a:lnTo>
                  <a:pt x="2851161" y="0"/>
                </a:lnTo>
                <a:close/>
              </a:path>
            </a:pathLst>
          </a:custGeom>
          <a:solidFill>
            <a:srgbClr val="3e781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bg object 22"/>
          <p:cNvSpPr/>
          <p:nvPr/>
        </p:nvSpPr>
        <p:spPr>
          <a:xfrm>
            <a:off x="10898280" y="0"/>
            <a:ext cx="1290600" cy="6858000"/>
          </a:xfrm>
          <a:custGeom>
            <a:avLst/>
            <a:gdLst/>
            <a:ahLst/>
            <a:rect l="l" t="t" r="r" b="b"/>
            <a:pathLst>
              <a:path w="1290954" h="6858000">
                <a:moveTo>
                  <a:pt x="1290827" y="0"/>
                </a:moveTo>
                <a:lnTo>
                  <a:pt x="1018959" y="0"/>
                </a:lnTo>
                <a:lnTo>
                  <a:pt x="0" y="6857996"/>
                </a:lnTo>
                <a:lnTo>
                  <a:pt x="1290827" y="6857996"/>
                </a:lnTo>
                <a:lnTo>
                  <a:pt x="1290827" y="0"/>
                </a:lnTo>
                <a:close/>
              </a:path>
            </a:pathLst>
          </a:custGeom>
          <a:solidFill>
            <a:srgbClr val="c0e37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bg object 23"/>
          <p:cNvSpPr/>
          <p:nvPr/>
        </p:nvSpPr>
        <p:spPr>
          <a:xfrm>
            <a:off x="10941120" y="0"/>
            <a:ext cx="1247760" cy="6858000"/>
          </a:xfrm>
          <a:custGeom>
            <a:avLst/>
            <a:gdLst/>
            <a:ahLst/>
            <a:rect l="l" t="t" r="r" b="b"/>
            <a:pathLst>
              <a:path w="1248409" h="6858000">
                <a:moveTo>
                  <a:pt x="1248203" y="0"/>
                </a:moveTo>
                <a:lnTo>
                  <a:pt x="0" y="0"/>
                </a:lnTo>
                <a:lnTo>
                  <a:pt x="1107740" y="6857996"/>
                </a:lnTo>
                <a:lnTo>
                  <a:pt x="1248203" y="6857996"/>
                </a:lnTo>
                <a:lnTo>
                  <a:pt x="1248203" y="0"/>
                </a:lnTo>
                <a:close/>
              </a:path>
            </a:pathLst>
          </a:custGeom>
          <a:solidFill>
            <a:srgbClr val="90c22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bg object 24"/>
          <p:cNvSpPr/>
          <p:nvPr/>
        </p:nvSpPr>
        <p:spPr>
          <a:xfrm>
            <a:off x="10372680" y="3591000"/>
            <a:ext cx="1816200" cy="3267000"/>
          </a:xfrm>
          <a:custGeom>
            <a:avLst/>
            <a:gdLst/>
            <a:ahLst/>
            <a:rect l="l" t="t" r="r" b="b"/>
            <a:pathLst>
              <a:path w="1816734" h="3267709">
                <a:moveTo>
                  <a:pt x="1816607" y="0"/>
                </a:moveTo>
                <a:lnTo>
                  <a:pt x="0" y="3267455"/>
                </a:lnTo>
                <a:lnTo>
                  <a:pt x="1816607" y="3267455"/>
                </a:lnTo>
                <a:lnTo>
                  <a:pt x="1816607" y="0"/>
                </a:lnTo>
                <a:close/>
              </a:path>
            </a:pathLst>
          </a:custGeom>
          <a:solidFill>
            <a:srgbClr val="90c22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bg object 25"/>
          <p:cNvSpPr/>
          <p:nvPr/>
        </p:nvSpPr>
        <p:spPr>
          <a:xfrm>
            <a:off x="0" y="0"/>
            <a:ext cx="843120" cy="5667480"/>
          </a:xfrm>
          <a:custGeom>
            <a:avLst/>
            <a:gdLst/>
            <a:ahLst/>
            <a:rect l="l" t="t" r="r" b="b"/>
            <a:pathLst>
              <a:path w="843280" h="5666740">
                <a:moveTo>
                  <a:pt x="842772" y="0"/>
                </a:moveTo>
                <a:lnTo>
                  <a:pt x="0" y="0"/>
                </a:lnTo>
                <a:lnTo>
                  <a:pt x="0" y="5666232"/>
                </a:lnTo>
                <a:lnTo>
                  <a:pt x="842772" y="0"/>
                </a:lnTo>
                <a:close/>
              </a:path>
            </a:pathLst>
          </a:custGeom>
          <a:solidFill>
            <a:srgbClr val="90c225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bg object 26" descr=""/>
          <p:cNvPicPr/>
          <p:nvPr/>
        </p:nvPicPr>
        <p:blipFill>
          <a:blip r:embed="rId2"/>
          <a:stretch/>
        </p:blipFill>
        <p:spPr>
          <a:xfrm>
            <a:off x="636480" y="1349280"/>
            <a:ext cx="5854680" cy="5508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212760"/>
            <a:ext cx="106808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755280" y="1200240"/>
            <a:ext cx="106808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4"/>
          </p:nvPr>
        </p:nvSpPr>
        <p:spPr>
          <a:xfrm>
            <a:off x="4144680" y="6378120"/>
            <a:ext cx="390204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dt" idx="5"/>
          </p:nvPr>
        </p:nvSpPr>
        <p:spPr>
          <a:xfrm>
            <a:off x="609480" y="6378120"/>
            <a:ext cx="28036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778600" y="6378120"/>
            <a:ext cx="2803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9678-379D-4687-A3BC-B6A866B2997C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440" y="533520"/>
            <a:ext cx="71262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54152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0c225"/>
                </a:solidFill>
                <a:latin typeface="Trebuchet MS"/>
              </a:rPr>
              <a:t>Проект «</a:t>
            </a:r>
            <a:r>
              <a:rPr b="0" lang="ru-RU" sz="4000" spc="-1" strike="noStrike">
                <a:solidFill>
                  <a:srgbClr val="90c225"/>
                </a:solidFill>
                <a:latin typeface="Arial"/>
              </a:rPr>
              <a:t>Дружный огород</a:t>
            </a:r>
            <a:r>
              <a:rPr b="0" lang="ru-RU" sz="4000" spc="-1" strike="noStrike">
                <a:solidFill>
                  <a:srgbClr val="90c225"/>
                </a:solidFill>
                <a:latin typeface="Trebuchet MS"/>
              </a:rPr>
              <a:t>»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4" name="object 3" descr=""/>
          <p:cNvPicPr/>
          <p:nvPr/>
        </p:nvPicPr>
        <p:blipFill>
          <a:blip r:embed="rId1"/>
          <a:stretch/>
        </p:blipFill>
        <p:spPr>
          <a:xfrm>
            <a:off x="609480" y="4648320"/>
            <a:ext cx="1746360" cy="182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800600" y="4343400"/>
            <a:ext cx="4800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уппа «Колокольчи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тели: Красникова Елена Игорев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менова Елена Васильев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bject 2"/>
          <p:cNvSpPr/>
          <p:nvPr/>
        </p:nvSpPr>
        <p:spPr>
          <a:xfrm>
            <a:off x="5715000" y="0"/>
            <a:ext cx="4357800" cy="31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8960" bIns="0" anchor="t">
            <a:spAutoFit/>
          </a:bodyPr>
          <a:p>
            <a:pPr marL="12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делали мы грядку на нашем подоконни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3161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се у нас в порядке, будет лук зелёненький!  Сажаем, наблюдаем, полива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31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лавно мы трудились – вволю поливали,  Лук высокий вырос, лучше не вида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71600" y="30492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ем л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019920" y="4572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bject 2"/>
          <p:cNvSpPr/>
          <p:nvPr/>
        </p:nvSpPr>
        <p:spPr>
          <a:xfrm>
            <a:off x="757080" y="84240"/>
            <a:ext cx="4691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9680" bIns="0" anchor="t">
            <a:spAutoFit/>
          </a:bodyPr>
          <a:p>
            <a:pPr marL="12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7238880" cy="4071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743200" y="990720"/>
            <a:ext cx="501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им был наш огород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ject 2"/>
          <p:cNvSpPr/>
          <p:nvPr/>
        </p:nvSpPr>
        <p:spPr>
          <a:xfrm>
            <a:off x="152280" y="1066680"/>
            <a:ext cx="9906120" cy="25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8960" bIns="0" anchor="t">
            <a:spAutoFit/>
          </a:bodyPr>
          <a:p>
            <a:pPr marL="12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Луковица золотая,  Круглая, лит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3161"/>
              </a:lnSpc>
              <a:spcBef>
                <a:spcPts val="11"/>
              </a:spcBef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Есть у нее один секрет –  Нас она спасет от бе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ожет вылечить неду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кусный и душистый лук!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се вставайте, вы будете луком. Я сажаю лук донцем вниз. Все присели.  Теперь я беру лейку и поливаю водой. Вот лук растет и растет. Зеленый лук  становится большим – большим. Вот и вырос наш зеленый лу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380880"/>
            <a:ext cx="4152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Расти, лучок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219320" y="380880"/>
            <a:ext cx="6400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мы ухаживаем за луком и нашим огородо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33920" y="11430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733920" y="3733920"/>
            <a:ext cx="3809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219320" y="380880"/>
            <a:ext cx="6400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изменился наш огород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212760"/>
            <a:ext cx="151272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Вывод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object 3"/>
          <p:cNvSpPr/>
          <p:nvPr/>
        </p:nvSpPr>
        <p:spPr>
          <a:xfrm>
            <a:off x="755640" y="1200240"/>
            <a:ext cx="8379000" cy="46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аким образом, благодаря этому проекту познавательно – исследовательская  работа, проведенная нами привела к положительным результатам. Дети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али намного внимательными, появился интерес к  окружающему миру, стали замечать, что происходит с растениями 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оконнике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явились первоначальные навыки бережного отношения к растительному  ми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За три недели проекта ни один ребенок не пытался вырвать росточки или разломать посад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ект помог подтвердить, что необходимо способствовать слиянию  ребенка с природой, формировать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бережное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ношение к ней, углублять  знания, совершенствовать навыки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ухода за растения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се участ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екта (дети, воспитатель, родители) полу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ч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ли положительные эмоции от  результа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6835680" y="393552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628200"/>
            <a:ext cx="302436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Актуальность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object 4"/>
          <p:cNvSpPr/>
          <p:nvPr/>
        </p:nvSpPr>
        <p:spPr>
          <a:xfrm>
            <a:off x="515880" y="1319040"/>
            <a:ext cx="8256600" cy="45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вления и объекты природы привлекают внимание детей своей красот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ркостью красок, разнообразием. Чем глубже ребенок познает окружающий  мир, тем больше у него возникает вопросов. Основная задача взрослого  состоит в том, чтобы помочь найти на них ответы. Каждый ребенок –  внимательный наблюдатель и исследователь, может открыть в нем что-то  новое. А мир растений многообразный и удивитель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ема разработанного проекта выбрана с учетом возрастных особенностей  детей раннего возраста и ориентирована на изучение вопросов, связанных с  сохранением здоровья малышей и объёма информации, которая может быть  ими восприня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т проект ориентирован на приобретение детьми опыта собственной  исследовательск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обретение и применение детьми новых знаний в жиз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5126040" y="106200"/>
            <a:ext cx="3691080" cy="6715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628200"/>
            <a:ext cx="228924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Проблема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object 4"/>
          <p:cNvSpPr/>
          <p:nvPr/>
        </p:nvSpPr>
        <p:spPr>
          <a:xfrm>
            <a:off x="755640" y="1449360"/>
            <a:ext cx="8373960" cy="34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ети раннего возраста в недостаточной степени имеют представления о  растениях, о том, где они растут, о необходимых условиях их роста, их  интерес к познавательно-исследовательской деятельности недостаточ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звит. Дети не видели , как растет зеленый лук в домашних условиях. Не  знают какие условия необходимы для его роста. С этой проблемой мы вместе  с детьми вырастим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три вида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лук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а подоконнике в группе. Из лука можно вырастить  зеленые пер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6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Гипотез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 лука можно вырастить зеленые пер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6313320" y="2752560"/>
            <a:ext cx="2975040" cy="3481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628200"/>
            <a:ext cx="123048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Цель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object 4"/>
          <p:cNvSpPr/>
          <p:nvPr/>
        </p:nvSpPr>
        <p:spPr>
          <a:xfrm>
            <a:off x="331920" y="1440000"/>
            <a:ext cx="8173800" cy="23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3556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ормирование первоначальных экологических представлений у детей,  создание условий для познавательного развития детей в процессе  выращивания раст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ормировать у детей интерес к луку через проектно-исследовательскую  деятельность, интерес к выращиванию репчатого зеленого лука в  комнатных условиях, создать условия для выращивания лука в группе,  рассказать о его пользе (дети будут есть лук, и меньше болет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628200"/>
            <a:ext cx="167004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Задачи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object 3"/>
          <p:cNvSpPr/>
          <p:nvPr/>
        </p:nvSpPr>
        <p:spPr>
          <a:xfrm>
            <a:off x="387360" y="1681200"/>
            <a:ext cx="832788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9680" bIns="0" anchor="t">
            <a:spAutoFit/>
          </a:bodyPr>
          <a:p>
            <a:pPr marL="12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звать интерес к посадке и роста лу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ормировать представление детей об условиях, которые необходимы для  выращивания зеленого лука (вода, земля, све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должать знакомить детей с луком, особенностями внешнего  строения(корни, верхушка-пер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ормировать у детей навык посадки лука в воду и в землю с помощью  взрослог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ить наблюдать за происходящими изменениями во время роста лу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ить детей ежедневно ухаживать за луком в комнатных услови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ить выполнять индивидуальные и коллективные поручения, научить  детей видеть результаты своего тру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7680" y="958320"/>
            <a:ext cx="753732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Autofit/>
          </a:bodyPr>
          <a:p>
            <a:pPr marL="355680" indent="0" algn="ctr">
              <a:lnSpc>
                <a:spcPct val="101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0c225"/>
                </a:solidFill>
                <a:latin typeface="Lucida Sans Unicode"/>
              </a:rPr>
              <a:t>▶ </a:t>
            </a:r>
            <a:r>
              <a:rPr b="0" lang="ru-RU" sz="2800" spc="-1" strike="noStrike">
                <a:solidFill>
                  <a:srgbClr val="90c225"/>
                </a:solidFill>
                <a:latin typeface="Trebuchet MS"/>
              </a:rPr>
              <a:t>Вид проекта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знавательно-исследовательский, практико-  ориентированный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object 3"/>
          <p:cNvSpPr/>
          <p:nvPr/>
        </p:nvSpPr>
        <p:spPr>
          <a:xfrm>
            <a:off x="608040" y="2189160"/>
            <a:ext cx="812160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0c225"/>
                </a:solidFill>
                <a:latin typeface="Lucida Sans Unicode"/>
              </a:rPr>
              <a:t>▶ </a:t>
            </a:r>
            <a:r>
              <a:rPr b="0" lang="ru-RU" sz="2800" spc="-1" strike="noStrike">
                <a:solidFill>
                  <a:srgbClr val="90c225"/>
                </a:solidFill>
                <a:latin typeface="Trebuchet MS"/>
              </a:rPr>
              <a:t>Участники проекта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ети 2 младшей группы (3-4 года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спитател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0c225"/>
                </a:solidFill>
                <a:latin typeface="Lucida Sans Unicode"/>
              </a:rPr>
              <a:t>▶ </a:t>
            </a:r>
            <a:r>
              <a:rPr b="0" lang="ru-RU" sz="2800" spc="-1" strike="noStrike">
                <a:solidFill>
                  <a:srgbClr val="90c225"/>
                </a:solidFill>
                <a:latin typeface="Trebuchet MS"/>
              </a:rPr>
              <a:t>Объект исследования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пчатый лук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, лук секок, семена лу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0c225"/>
                </a:solidFill>
                <a:latin typeface="Lucida Sans Unicode"/>
              </a:rPr>
              <a:t>▶ </a:t>
            </a:r>
            <a:r>
              <a:rPr b="0" lang="ru-RU" sz="2800" spc="-1" strike="noStrike">
                <a:solidFill>
                  <a:srgbClr val="90c225"/>
                </a:solidFill>
                <a:latin typeface="Trebuchet MS"/>
              </a:rPr>
              <a:t>Продолжительность проекта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раткосрочный –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едели  (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март-апрель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0640" y="344520"/>
            <a:ext cx="602748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Предполагаемый результат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object 3"/>
          <p:cNvSpPr/>
          <p:nvPr/>
        </p:nvSpPr>
        <p:spPr>
          <a:xfrm>
            <a:off x="755640" y="1033560"/>
            <a:ext cx="837576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3556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Для детей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ширение знаний о строении растений и роли овощей в  жизни человека; формирование первоначальных навыков бережного  отношения к растительному миру; развитие наблюда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100000"/>
              </a:lnSpc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ктивизация словарного запаса; накопление эмоционального позитивного  опыта общения с природой; самоутверждение личности ребенка; снятие  стрессовых факторов. Дети научатся сажать лук и ухаживать за н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100000"/>
              </a:lnSpc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знакомятся с условиями их содержания, будут учиться подмеч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100000"/>
              </a:lnSpc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льзу и красоту зеленого лука. У них появится интерес к растениям. Они  получат первые знания о жизни растений, исследуют опытным путём  условия необходимые для их роста.. У детей сформируются знания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100000"/>
              </a:lnSpc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ставления о росте зеленого лука в комнатных условиях - в  контейнере с почв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2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Для педагога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вышение профессионализма, внедрение новых методов в  работе с детьми и родителями, самореализац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628200"/>
            <a:ext cx="608652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Формы реализации проекта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2" name="object 3"/>
          <p:cNvSpPr/>
          <p:nvPr/>
        </p:nvSpPr>
        <p:spPr>
          <a:xfrm>
            <a:off x="460440" y="1541520"/>
            <a:ext cx="839952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Формы работы с детьми: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аблюдения, организованная деятельнос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еседы с рассматриванием картинок, чтение художественной литературы,  продуктивная деятельн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Формы работы с родителями: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редложить родителям приобрести для  проведения проекта луковицы для посадки. Домашнее задание –  рассматривание лука с детьми, вырастить зеленый лук у себя дома 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оконнике, расширить представление у детей о применении зеленого  лука в пищу, используя его дома. Индивидуальные бесед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комендации, наглядные информационные материа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100000"/>
              </a:lnSpc>
              <a:spcBef>
                <a:spcPts val="1726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 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борудование и материалы для посадки лука и ухода за ним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тейнер с  землей, луковицы, палочки для рыхления почвы, совочки, лейки с водой,  стаканчики для проращивания лу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4280" y="204840"/>
            <a:ext cx="5899320" cy="111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c225"/>
                </a:solidFill>
                <a:latin typeface="Trebuchet MS"/>
              </a:rPr>
              <a:t>Этапы реализации проекта: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object 3"/>
          <p:cNvSpPr/>
          <p:nvPr/>
        </p:nvSpPr>
        <p:spPr>
          <a:xfrm>
            <a:off x="728640" y="831960"/>
            <a:ext cx="8353440" cy="56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9680" bIns="0" anchor="t">
            <a:spAutoFit/>
          </a:bodyPr>
          <a:p>
            <a:pPr marL="12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I этап – установоч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еление цели, задач проекта, сроков  реализации, предполагаемого результа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II этап – подготовитель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бор методического, иллюстративного и дидактического материала по  данной теме; подбор оборудования для проведения экспериментальной  работы; составление плана работы над проектом. определение времени в  режиме для группы для реализации проекта. оформление рекомендаций  родителям по работе с детьми по проект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III этап (реализация проекта)познавательно-исследователь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знавательная деятельность, трудовая деятельность, наблюдения,  экспериментальная деятельность, чтение художественной литератур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гровая деятельность, продуктивная деятельность – рисование «Вот какой у  нас лучок»,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бота с родителями: сбор посадочного материала, оформление  папки- передвижки, консультац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▶</a:t>
            </a:r>
            <a:r>
              <a:rPr b="0" lang="ru-RU" sz="1400" spc="-1" strike="noStrike">
                <a:solidFill>
                  <a:srgbClr val="90c225"/>
                </a:solidFill>
                <a:latin typeface="Lucida Sans Unicode"/>
              </a:rPr>
              <a:t>	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IV этап – обобщающ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ставление результата работы по проекту родител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0T13:17:20Z</dcterms:created>
  <dc:creator>Алексей Пестерев</dc:creator>
  <dc:description/>
  <dc:language>en-US</dc:language>
  <cp:lastModifiedBy>Я</cp:lastModifiedBy>
  <dcterms:modified xsi:type="dcterms:W3CDTF">2023-04-10T13:53:08Z</dcterms:modified>
  <cp:revision>2</cp:revision>
  <dc:subject/>
  <dc:title>Проект «Огород на подоконнике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8-06-05T00:00:00Z</vt:filetime>
  </property>
  <property fmtid="{D5CDD505-2E9C-101B-9397-08002B2CF9AE}" pid="3" name="Creator">
    <vt:lpwstr>Microsoft® PowerPoint® 2013</vt:lpwstr>
  </property>
  <property fmtid="{D5CDD505-2E9C-101B-9397-08002B2CF9AE}" pid="4" name="LastSaved">
    <vt:filetime>2023-04-10T00:00:00Z</vt:filetime>
  </property>
</Properties>
</file>