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121935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BAE-4211-4EFE-8DAB-12F3B948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6C1-5407-4660-B7A3-B8AE7A5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AF8-51B3-40FD-A30F-C7B73D0C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680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97796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28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6680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97796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380-7410-4275-AFDF-02D63010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B0D8-087A-452C-A37F-F4EBADB3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7F00-13EA-4AF1-81CB-61649F50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8A8E-0872-4341-B30E-6DB98D84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9834-1F90-46FD-9221-61794F2B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98B2-9C58-4C65-A5E2-86A261C4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55280" y="212760"/>
            <a:ext cx="1068084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2364-AEEE-4B75-844D-DDFBFE6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BC3B-BC31-4479-B560-594B2377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83D-7CC7-4980-82B0-241FF284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D776-06DF-4D84-96A9-9F76A79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62E1-3795-494F-88A1-DBFC64E4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33B1-D378-433D-BCAD-F5F16B4D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E66A-F930-4F46-AC54-8E8F54AA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6680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7796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5528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6680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97796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20CA-E067-491C-A378-F0C6616D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106-05EA-40AC-89D6-13B2C989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B3C-CBE1-40EF-AD73-78E57D4B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287-9CD5-410E-B01E-A9F81C60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55280" y="212760"/>
            <a:ext cx="1068084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050-64B2-4D2B-B476-06027280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A80-8F1C-48F4-96F7-0527C299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1C9-FFC6-4481-AB6B-A1F09EA2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AEB-A5B4-4CE8-8FC7-4FB00A9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g object 16"/>
          <p:cNvSpPr/>
          <p:nvPr/>
        </p:nvSpPr>
        <p:spPr>
          <a:xfrm>
            <a:off x="9371160" y="0"/>
            <a:ext cx="1218960" cy="6858000"/>
          </a:xfrm>
          <a:custGeom>
            <a:avLst/>
            <a:gdLst/>
            <a:ahLst/>
            <a:rect l="l" t="t" r="r" b="b"/>
            <a:pathLst>
              <a:path w="1219200" h="6858000">
                <a:moveTo>
                  <a:pt x="0" y="0"/>
                </a:moveTo>
                <a:lnTo>
                  <a:pt x="1219200" y="6857999"/>
                </a:lnTo>
              </a:path>
            </a:pathLst>
          </a:custGeom>
          <a:noFill/>
          <a:ln w="9000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bg object 17"/>
          <p:cNvSpPr/>
          <p:nvPr/>
        </p:nvSpPr>
        <p:spPr>
          <a:xfrm>
            <a:off x="7424640" y="3681360"/>
            <a:ext cx="4764240" cy="3178080"/>
          </a:xfrm>
          <a:custGeom>
            <a:avLst/>
            <a:gdLst/>
            <a:ahLst/>
            <a:rect l="l" t="t" r="r" b="b"/>
            <a:pathLst>
              <a:path w="4763770" h="3176904">
                <a:moveTo>
                  <a:pt x="4763516" y="0"/>
                </a:moveTo>
                <a:lnTo>
                  <a:pt x="0" y="3176586"/>
                </a:lnTo>
              </a:path>
            </a:pathLst>
          </a:custGeom>
          <a:noFill/>
          <a:ln w="90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bg object 18"/>
          <p:cNvSpPr/>
          <p:nvPr/>
        </p:nvSpPr>
        <p:spPr>
          <a:xfrm>
            <a:off x="9182160" y="0"/>
            <a:ext cx="3006720" cy="6858000"/>
          </a:xfrm>
          <a:custGeom>
            <a:avLst/>
            <a:gdLst/>
            <a:ahLst/>
            <a:rect l="l" t="t" r="r" b="b"/>
            <a:pathLst>
              <a:path w="3007359" h="6858000">
                <a:moveTo>
                  <a:pt x="3006851" y="0"/>
                </a:moveTo>
                <a:lnTo>
                  <a:pt x="2042483" y="0"/>
                </a:lnTo>
                <a:lnTo>
                  <a:pt x="0" y="6857996"/>
                </a:lnTo>
                <a:lnTo>
                  <a:pt x="3006851" y="6857996"/>
                </a:lnTo>
                <a:lnTo>
                  <a:pt x="3006851" y="0"/>
                </a:lnTo>
                <a:close/>
              </a:path>
            </a:pathLst>
          </a:custGeom>
          <a:solidFill>
            <a:srgbClr val="90c22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bg object 19"/>
          <p:cNvSpPr/>
          <p:nvPr/>
        </p:nvSpPr>
        <p:spPr>
          <a:xfrm>
            <a:off x="9604440" y="0"/>
            <a:ext cx="2587680" cy="6858000"/>
          </a:xfrm>
          <a:custGeom>
            <a:avLst/>
            <a:gdLst/>
            <a:ahLst/>
            <a:rect l="l" t="t" r="r" b="b"/>
            <a:pathLst>
              <a:path w="2588259" h="6858000">
                <a:moveTo>
                  <a:pt x="2587664" y="0"/>
                </a:moveTo>
                <a:lnTo>
                  <a:pt x="0" y="0"/>
                </a:lnTo>
                <a:lnTo>
                  <a:pt x="1208190" y="6857996"/>
                </a:lnTo>
                <a:lnTo>
                  <a:pt x="2587664" y="6857996"/>
                </a:lnTo>
                <a:lnTo>
                  <a:pt x="2587664" y="0"/>
                </a:lnTo>
                <a:close/>
              </a:path>
            </a:pathLst>
          </a:custGeom>
          <a:solidFill>
            <a:srgbClr val="90c2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bg object 20"/>
          <p:cNvSpPr/>
          <p:nvPr/>
        </p:nvSpPr>
        <p:spPr>
          <a:xfrm>
            <a:off x="8933040" y="3048120"/>
            <a:ext cx="3259080" cy="3809880"/>
          </a:xfrm>
          <a:custGeom>
            <a:avLst/>
            <a:gdLst/>
            <a:ahLst/>
            <a:rect l="l" t="t" r="r" b="b"/>
            <a:pathLst>
              <a:path w="3260090" h="3810000">
                <a:moveTo>
                  <a:pt x="3259835" y="0"/>
                </a:moveTo>
                <a:lnTo>
                  <a:pt x="0" y="3809999"/>
                </a:lnTo>
                <a:lnTo>
                  <a:pt x="3259835" y="3809999"/>
                </a:lnTo>
                <a:lnTo>
                  <a:pt x="3259835" y="0"/>
                </a:lnTo>
                <a:close/>
              </a:path>
            </a:pathLst>
          </a:custGeom>
          <a:solidFill>
            <a:srgbClr val="539f2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g object 21"/>
          <p:cNvSpPr/>
          <p:nvPr/>
        </p:nvSpPr>
        <p:spPr>
          <a:xfrm>
            <a:off x="9337680" y="0"/>
            <a:ext cx="2851200" cy="6858000"/>
          </a:xfrm>
          <a:custGeom>
            <a:avLst/>
            <a:gdLst/>
            <a:ahLst/>
            <a:rect l="l" t="t" r="r" b="b"/>
            <a:pathLst>
              <a:path w="2851784" h="6858000">
                <a:moveTo>
                  <a:pt x="2851161" y="0"/>
                </a:moveTo>
                <a:lnTo>
                  <a:pt x="0" y="0"/>
                </a:lnTo>
                <a:lnTo>
                  <a:pt x="2467621" y="6857996"/>
                </a:lnTo>
                <a:lnTo>
                  <a:pt x="2851161" y="6857996"/>
                </a:lnTo>
                <a:lnTo>
                  <a:pt x="2851161" y="0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bg object 22"/>
          <p:cNvSpPr/>
          <p:nvPr/>
        </p:nvSpPr>
        <p:spPr>
          <a:xfrm>
            <a:off x="10898280" y="0"/>
            <a:ext cx="1290600" cy="6858000"/>
          </a:xfrm>
          <a:custGeom>
            <a:avLst/>
            <a:gdLst/>
            <a:ahLst/>
            <a:rect l="l" t="t" r="r" b="b"/>
            <a:pathLst>
              <a:path w="1290954" h="6858000">
                <a:moveTo>
                  <a:pt x="1290827" y="0"/>
                </a:moveTo>
                <a:lnTo>
                  <a:pt x="1018959" y="0"/>
                </a:lnTo>
                <a:lnTo>
                  <a:pt x="0" y="6857996"/>
                </a:lnTo>
                <a:lnTo>
                  <a:pt x="1290827" y="6857996"/>
                </a:lnTo>
                <a:lnTo>
                  <a:pt x="1290827" y="0"/>
                </a:lnTo>
                <a:close/>
              </a:path>
            </a:pathLst>
          </a:custGeom>
          <a:solidFill>
            <a:srgbClr val="c0e37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bg object 23"/>
          <p:cNvSpPr/>
          <p:nvPr/>
        </p:nvSpPr>
        <p:spPr>
          <a:xfrm>
            <a:off x="10941120" y="0"/>
            <a:ext cx="1247760" cy="6858000"/>
          </a:xfrm>
          <a:custGeom>
            <a:avLst/>
            <a:gdLst/>
            <a:ahLst/>
            <a:rect l="l" t="t" r="r" b="b"/>
            <a:pathLst>
              <a:path w="1248409" h="6858000">
                <a:moveTo>
                  <a:pt x="1248203" y="0"/>
                </a:moveTo>
                <a:lnTo>
                  <a:pt x="0" y="0"/>
                </a:lnTo>
                <a:lnTo>
                  <a:pt x="1107740" y="6857996"/>
                </a:lnTo>
                <a:lnTo>
                  <a:pt x="1248203" y="6857996"/>
                </a:lnTo>
                <a:lnTo>
                  <a:pt x="1248203" y="0"/>
                </a:lnTo>
                <a:close/>
              </a:path>
            </a:pathLst>
          </a:custGeom>
          <a:solidFill>
            <a:srgbClr val="90c22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bg object 24"/>
          <p:cNvSpPr/>
          <p:nvPr/>
        </p:nvSpPr>
        <p:spPr>
          <a:xfrm>
            <a:off x="10372680" y="3591000"/>
            <a:ext cx="1816200" cy="3267000"/>
          </a:xfrm>
          <a:custGeom>
            <a:avLst/>
            <a:gdLst/>
            <a:ahLst/>
            <a:rect l="l" t="t" r="r" b="b"/>
            <a:pathLst>
              <a:path w="1816734" h="3267709">
                <a:moveTo>
                  <a:pt x="1816607" y="0"/>
                </a:moveTo>
                <a:lnTo>
                  <a:pt x="0" y="3267455"/>
                </a:lnTo>
                <a:lnTo>
                  <a:pt x="1816607" y="3267455"/>
                </a:lnTo>
                <a:lnTo>
                  <a:pt x="1816607" y="0"/>
                </a:lnTo>
                <a:close/>
              </a:path>
            </a:pathLst>
          </a:custGeom>
          <a:solidFill>
            <a:srgbClr val="90c22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bg object 25"/>
          <p:cNvSpPr/>
          <p:nvPr/>
        </p:nvSpPr>
        <p:spPr>
          <a:xfrm>
            <a:off x="0" y="4013280"/>
            <a:ext cx="447840" cy="2844720"/>
          </a:xfrm>
          <a:custGeom>
            <a:avLst/>
            <a:gdLst/>
            <a:ahLst/>
            <a:rect l="l" t="t" r="r" b="b"/>
            <a:pathLst>
              <a:path w="448309" h="2845434">
                <a:moveTo>
                  <a:pt x="0" y="0"/>
                </a:moveTo>
                <a:lnTo>
                  <a:pt x="0" y="2845307"/>
                </a:lnTo>
                <a:lnTo>
                  <a:pt x="448056" y="2845307"/>
                </a:lnTo>
                <a:lnTo>
                  <a:pt x="0" y="0"/>
                </a:lnTo>
                <a:close/>
              </a:path>
            </a:pathLst>
          </a:custGeom>
          <a:solidFill>
            <a:srgbClr val="90c225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4144680" y="6378120"/>
            <a:ext cx="390204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609480" y="6378120"/>
            <a:ext cx="28036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778600" y="6378120"/>
            <a:ext cx="2803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E3DD-B5E6-44FF-B041-A57D22CB057D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bg object 16"/>
          <p:cNvSpPr/>
          <p:nvPr/>
        </p:nvSpPr>
        <p:spPr>
          <a:xfrm>
            <a:off x="9371160" y="0"/>
            <a:ext cx="1218960" cy="6858000"/>
          </a:xfrm>
          <a:custGeom>
            <a:avLst/>
            <a:gdLst/>
            <a:ahLst/>
            <a:rect l="l" t="t" r="r" b="b"/>
            <a:pathLst>
              <a:path w="1219200" h="6858000">
                <a:moveTo>
                  <a:pt x="0" y="0"/>
                </a:moveTo>
                <a:lnTo>
                  <a:pt x="1219200" y="6857999"/>
                </a:lnTo>
              </a:path>
            </a:pathLst>
          </a:custGeom>
          <a:noFill/>
          <a:ln w="9000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bg object 17"/>
          <p:cNvSpPr/>
          <p:nvPr/>
        </p:nvSpPr>
        <p:spPr>
          <a:xfrm>
            <a:off x="7424640" y="3681360"/>
            <a:ext cx="4764240" cy="3178080"/>
          </a:xfrm>
          <a:custGeom>
            <a:avLst/>
            <a:gdLst/>
            <a:ahLst/>
            <a:rect l="l" t="t" r="r" b="b"/>
            <a:pathLst>
              <a:path w="4763770" h="3176904">
                <a:moveTo>
                  <a:pt x="4763516" y="0"/>
                </a:moveTo>
                <a:lnTo>
                  <a:pt x="0" y="3176586"/>
                </a:lnTo>
              </a:path>
            </a:pathLst>
          </a:custGeom>
          <a:noFill/>
          <a:ln w="90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bg object 18"/>
          <p:cNvSpPr/>
          <p:nvPr/>
        </p:nvSpPr>
        <p:spPr>
          <a:xfrm>
            <a:off x="9182160" y="0"/>
            <a:ext cx="3006720" cy="6858000"/>
          </a:xfrm>
          <a:custGeom>
            <a:avLst/>
            <a:gdLst/>
            <a:ahLst/>
            <a:rect l="l" t="t" r="r" b="b"/>
            <a:pathLst>
              <a:path w="3007359" h="6858000">
                <a:moveTo>
                  <a:pt x="3006851" y="0"/>
                </a:moveTo>
                <a:lnTo>
                  <a:pt x="2042483" y="0"/>
                </a:lnTo>
                <a:lnTo>
                  <a:pt x="0" y="6857996"/>
                </a:lnTo>
                <a:lnTo>
                  <a:pt x="3006851" y="6857996"/>
                </a:lnTo>
                <a:lnTo>
                  <a:pt x="3006851" y="0"/>
                </a:lnTo>
                <a:close/>
              </a:path>
            </a:pathLst>
          </a:custGeom>
          <a:solidFill>
            <a:srgbClr val="90c22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bg object 19"/>
          <p:cNvSpPr/>
          <p:nvPr/>
        </p:nvSpPr>
        <p:spPr>
          <a:xfrm>
            <a:off x="9604440" y="0"/>
            <a:ext cx="2587680" cy="6858000"/>
          </a:xfrm>
          <a:custGeom>
            <a:avLst/>
            <a:gdLst/>
            <a:ahLst/>
            <a:rect l="l" t="t" r="r" b="b"/>
            <a:pathLst>
              <a:path w="2588259" h="6858000">
                <a:moveTo>
                  <a:pt x="2587664" y="0"/>
                </a:moveTo>
                <a:lnTo>
                  <a:pt x="0" y="0"/>
                </a:lnTo>
                <a:lnTo>
                  <a:pt x="1208190" y="6857996"/>
                </a:lnTo>
                <a:lnTo>
                  <a:pt x="2587664" y="6857996"/>
                </a:lnTo>
                <a:lnTo>
                  <a:pt x="2587664" y="0"/>
                </a:lnTo>
                <a:close/>
              </a:path>
            </a:pathLst>
          </a:custGeom>
          <a:solidFill>
            <a:srgbClr val="90c2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bg object 20"/>
          <p:cNvSpPr/>
          <p:nvPr/>
        </p:nvSpPr>
        <p:spPr>
          <a:xfrm>
            <a:off x="8933040" y="3048120"/>
            <a:ext cx="3259080" cy="3809880"/>
          </a:xfrm>
          <a:custGeom>
            <a:avLst/>
            <a:gdLst/>
            <a:ahLst/>
            <a:rect l="l" t="t" r="r" b="b"/>
            <a:pathLst>
              <a:path w="3260090" h="3810000">
                <a:moveTo>
                  <a:pt x="3259835" y="0"/>
                </a:moveTo>
                <a:lnTo>
                  <a:pt x="0" y="3809999"/>
                </a:lnTo>
                <a:lnTo>
                  <a:pt x="3259835" y="3809999"/>
                </a:lnTo>
                <a:lnTo>
                  <a:pt x="3259835" y="0"/>
                </a:lnTo>
                <a:close/>
              </a:path>
            </a:pathLst>
          </a:custGeom>
          <a:solidFill>
            <a:srgbClr val="539f2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bg object 21"/>
          <p:cNvSpPr/>
          <p:nvPr/>
        </p:nvSpPr>
        <p:spPr>
          <a:xfrm>
            <a:off x="9337680" y="0"/>
            <a:ext cx="2851200" cy="6858000"/>
          </a:xfrm>
          <a:custGeom>
            <a:avLst/>
            <a:gdLst/>
            <a:ahLst/>
            <a:rect l="l" t="t" r="r" b="b"/>
            <a:pathLst>
              <a:path w="2851784" h="6858000">
                <a:moveTo>
                  <a:pt x="2851161" y="0"/>
                </a:moveTo>
                <a:lnTo>
                  <a:pt x="0" y="0"/>
                </a:lnTo>
                <a:lnTo>
                  <a:pt x="2467621" y="6857996"/>
                </a:lnTo>
                <a:lnTo>
                  <a:pt x="2851161" y="6857996"/>
                </a:lnTo>
                <a:lnTo>
                  <a:pt x="2851161" y="0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bg object 22"/>
          <p:cNvSpPr/>
          <p:nvPr/>
        </p:nvSpPr>
        <p:spPr>
          <a:xfrm>
            <a:off x="10898280" y="0"/>
            <a:ext cx="1290600" cy="6858000"/>
          </a:xfrm>
          <a:custGeom>
            <a:avLst/>
            <a:gdLst/>
            <a:ahLst/>
            <a:rect l="l" t="t" r="r" b="b"/>
            <a:pathLst>
              <a:path w="1290954" h="6858000">
                <a:moveTo>
                  <a:pt x="1290827" y="0"/>
                </a:moveTo>
                <a:lnTo>
                  <a:pt x="1018959" y="0"/>
                </a:lnTo>
                <a:lnTo>
                  <a:pt x="0" y="6857996"/>
                </a:lnTo>
                <a:lnTo>
                  <a:pt x="1290827" y="6857996"/>
                </a:lnTo>
                <a:lnTo>
                  <a:pt x="1290827" y="0"/>
                </a:lnTo>
                <a:close/>
              </a:path>
            </a:pathLst>
          </a:custGeom>
          <a:solidFill>
            <a:srgbClr val="c0e37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bg object 23"/>
          <p:cNvSpPr/>
          <p:nvPr/>
        </p:nvSpPr>
        <p:spPr>
          <a:xfrm>
            <a:off x="10941120" y="0"/>
            <a:ext cx="1247760" cy="6858000"/>
          </a:xfrm>
          <a:custGeom>
            <a:avLst/>
            <a:gdLst/>
            <a:ahLst/>
            <a:rect l="l" t="t" r="r" b="b"/>
            <a:pathLst>
              <a:path w="1248409" h="6858000">
                <a:moveTo>
                  <a:pt x="1248203" y="0"/>
                </a:moveTo>
                <a:lnTo>
                  <a:pt x="0" y="0"/>
                </a:lnTo>
                <a:lnTo>
                  <a:pt x="1107740" y="6857996"/>
                </a:lnTo>
                <a:lnTo>
                  <a:pt x="1248203" y="6857996"/>
                </a:lnTo>
                <a:lnTo>
                  <a:pt x="1248203" y="0"/>
                </a:lnTo>
                <a:close/>
              </a:path>
            </a:pathLst>
          </a:custGeom>
          <a:solidFill>
            <a:srgbClr val="90c22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bg object 24"/>
          <p:cNvSpPr/>
          <p:nvPr/>
        </p:nvSpPr>
        <p:spPr>
          <a:xfrm>
            <a:off x="10372680" y="3591000"/>
            <a:ext cx="1816200" cy="3267000"/>
          </a:xfrm>
          <a:custGeom>
            <a:avLst/>
            <a:gdLst/>
            <a:ahLst/>
            <a:rect l="l" t="t" r="r" b="b"/>
            <a:pathLst>
              <a:path w="1816734" h="3267709">
                <a:moveTo>
                  <a:pt x="1816607" y="0"/>
                </a:moveTo>
                <a:lnTo>
                  <a:pt x="0" y="3267455"/>
                </a:lnTo>
                <a:lnTo>
                  <a:pt x="1816607" y="3267455"/>
                </a:lnTo>
                <a:lnTo>
                  <a:pt x="1816607" y="0"/>
                </a:lnTo>
                <a:close/>
              </a:path>
            </a:pathLst>
          </a:custGeom>
          <a:solidFill>
            <a:srgbClr val="90c22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bg object 25"/>
          <p:cNvSpPr/>
          <p:nvPr/>
        </p:nvSpPr>
        <p:spPr>
          <a:xfrm>
            <a:off x="0" y="0"/>
            <a:ext cx="843120" cy="5667480"/>
          </a:xfrm>
          <a:custGeom>
            <a:avLst/>
            <a:gdLst/>
            <a:ahLst/>
            <a:rect l="l" t="t" r="r" b="b"/>
            <a:pathLst>
              <a:path w="843280" h="5666740">
                <a:moveTo>
                  <a:pt x="842772" y="0"/>
                </a:moveTo>
                <a:lnTo>
                  <a:pt x="0" y="0"/>
                </a:lnTo>
                <a:lnTo>
                  <a:pt x="0" y="5666232"/>
                </a:lnTo>
                <a:lnTo>
                  <a:pt x="842772" y="0"/>
                </a:lnTo>
                <a:close/>
              </a:path>
            </a:pathLst>
          </a:custGeom>
          <a:solidFill>
            <a:srgbClr val="90c225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bg object 26" descr=""/>
          <p:cNvPicPr/>
          <p:nvPr/>
        </p:nvPicPr>
        <p:blipFill>
          <a:blip r:embed="rId2"/>
          <a:stretch/>
        </p:blipFill>
        <p:spPr>
          <a:xfrm>
            <a:off x="636480" y="1349280"/>
            <a:ext cx="5854680" cy="5508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4"/>
          </p:nvPr>
        </p:nvSpPr>
        <p:spPr>
          <a:xfrm>
            <a:off x="4144680" y="6378120"/>
            <a:ext cx="390204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dt" idx="5"/>
          </p:nvPr>
        </p:nvSpPr>
        <p:spPr>
          <a:xfrm>
            <a:off x="609480" y="6378120"/>
            <a:ext cx="28036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778600" y="6378120"/>
            <a:ext cx="2803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399E-9E71-4F96-80FE-E19D75468F5E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533520"/>
            <a:ext cx="7126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54152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0c225"/>
                </a:solidFill>
                <a:latin typeface="Trebuchet MS"/>
              </a:rPr>
              <a:t>Проект «</a:t>
            </a:r>
            <a:r>
              <a:rPr b="0" lang="ru-RU" sz="4000" spc="-1" strike="noStrike">
                <a:solidFill>
                  <a:srgbClr val="90c225"/>
                </a:solidFill>
                <a:latin typeface="Arial"/>
              </a:rPr>
              <a:t>Дружный огород</a:t>
            </a:r>
            <a:r>
              <a:rPr b="0" lang="ru-RU" sz="4000" spc="-1" strike="noStrike">
                <a:solidFill>
                  <a:srgbClr val="90c225"/>
                </a:solidFill>
                <a:latin typeface="Trebuchet MS"/>
              </a:rPr>
              <a:t>»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174636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00600" y="434340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ппа «Колокольчи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и: Красникова Елена Игор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нова Елена Василь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bject 2"/>
          <p:cNvSpPr/>
          <p:nvPr/>
        </p:nvSpPr>
        <p:spPr>
          <a:xfrm>
            <a:off x="5715000" y="0"/>
            <a:ext cx="4357800" cy="31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96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делали мы грядку на нашем подоконн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3161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е у нас в порядке, будет лук зелёненький!  Сажаем, наблюдаем, полива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31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авно мы трудились – вволю поливали,  Лук высокий вырос, лучше не вида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600" y="30492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ем л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bject 2"/>
          <p:cNvSpPr/>
          <p:nvPr/>
        </p:nvSpPr>
        <p:spPr>
          <a:xfrm>
            <a:off x="757080" y="84240"/>
            <a:ext cx="4691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968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7238880" cy="4071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43200" y="990720"/>
            <a:ext cx="501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им был наш огоро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ject 2"/>
          <p:cNvSpPr/>
          <p:nvPr/>
        </p:nvSpPr>
        <p:spPr>
          <a:xfrm>
            <a:off x="152280" y="1066680"/>
            <a:ext cx="9906120" cy="25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96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Луковица золотая,  Круглая, лит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3161"/>
              </a:lnSpc>
              <a:spcBef>
                <a:spcPts val="11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сть у нее один секрет –  Нас она спасет от б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жет вылечить нед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кусный и душистый лук!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е вставайте, вы будете луком. Я сажаю лук донцем вниз. Все присели.  Теперь я беру лейку и поливаю водой. Вот лук растет и растет. Зеленый лук  становится большим – большим. Вот и вырос наш зеленый л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380880"/>
            <a:ext cx="4152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Расти, луч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9320" y="380880"/>
            <a:ext cx="6400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мы ухаживаем за луком и нашим огородо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733920" y="3733920"/>
            <a:ext cx="3809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219320" y="380880"/>
            <a:ext cx="6400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изменился наш огоро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151272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Вывод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object 3"/>
          <p:cNvSpPr/>
          <p:nvPr/>
        </p:nvSpPr>
        <p:spPr>
          <a:xfrm>
            <a:off x="755640" y="1200240"/>
            <a:ext cx="837900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ким образом, благодаря этому проекту познавательно – исследовательская  работа, проведенная нами привела к положительным результатам. Дети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ли намного внимательными, появился интерес к  окружающему миру, стали замечать, что происходит с растениями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оконнике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явились первоначальные навыки бережного отношения к растительному  ми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За три недели проекта ни один ребенок не пытался вырвать росточки или разломать посад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ект помог подтвердить, что необходимо способствовать слиянию  ребенка с природой, формировать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бережное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ношение к ней, углублять  знания, совершенствовать навыки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ухода за растени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е участ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екта (дети, воспитатель, родители) полу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ли положительные эмоции от  результа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6835680" y="39355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302436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Актуальность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object 4"/>
          <p:cNvSpPr/>
          <p:nvPr/>
        </p:nvSpPr>
        <p:spPr>
          <a:xfrm>
            <a:off x="515880" y="1319040"/>
            <a:ext cx="825660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ения и объекты природы привлекают внимание детей своей красот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ркостью красок, разнообразием. Чем глубже ребенок познает окружающий  мир, тем больше у него возникает вопросов. Основная задача взрослого  состоит в том, чтобы помочь найти на них ответы. Каждый ребенок –  внимательный наблюдатель и исследователь, может открыть в нем что-то  новое. А мир растений многообразный и удивите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ма разработанного проекта выбрана с учетом возрастных особенностей  детей раннего возраста и ориентирована на изучение вопросов, связанных с  сохранением здоровья малышей и объёма информации, которая может быть  ими восприня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т проект ориентирован на приобретение детьми опыта собственной  исследователь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обретение и применение детьми новых знаний в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5126040" y="106200"/>
            <a:ext cx="3691080" cy="6715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228924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Проблема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object 4"/>
          <p:cNvSpPr/>
          <p:nvPr/>
        </p:nvSpPr>
        <p:spPr>
          <a:xfrm>
            <a:off x="755640" y="1449360"/>
            <a:ext cx="8373960" cy="34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ти раннего возраста в недостаточной степени имеют представления о  растениях, о том, где они растут, о необходимых условиях их роста, их  интерес к познавательно-исследовательской деятельности недостаточ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вит. Дети не видели , как растет зеленый лук в домашних условиях. Не  знают какие условия необходимы для его роста. С этой проблемой мы вместе  с детьми вырастим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три вида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лу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 подоконнике в группе. Из лука можно вырастить  зеленые пер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6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лука можно вырастить зеленые пер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6313320" y="2752560"/>
            <a:ext cx="2975040" cy="3481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628200"/>
            <a:ext cx="123048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object 4"/>
          <p:cNvSpPr/>
          <p:nvPr/>
        </p:nvSpPr>
        <p:spPr>
          <a:xfrm>
            <a:off x="331920" y="1440000"/>
            <a:ext cx="8173800" cy="23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ние первоначальных экологических представлений у детей,  создание условий для познавательного развития детей в процессе  выращивания раст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ть у детей интерес к луку через проектно-исследовательскую  деятельность, интерес к выращиванию репчатого зеленого лука в  комнатных условиях, создать условия для выращивания лука в группе,  рассказать о его пользе (дети будут есть лук, и меньше боле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167004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Задачи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object 3"/>
          <p:cNvSpPr/>
          <p:nvPr/>
        </p:nvSpPr>
        <p:spPr>
          <a:xfrm>
            <a:off x="387360" y="1681200"/>
            <a:ext cx="832788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968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звать интерес к посадке и роста лу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ть представление детей об условиях, которые необходимы для  выращивания зеленого лука (вода, земля, св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должать знакомить детей с луком, особенностями внешнего  строения(корни, верхушка-пер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ть у детей навык посадки лука в воду и в землю с помощью  взрослог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 наблюдать за происходящими изменениями во время роста лу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 детей ежедневно ухаживать за луком в комнатных услов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 выполнять индивидуальные и коллективные поручения, научить  детей видеть результаты своего тр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958320"/>
            <a:ext cx="75373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Autofit/>
          </a:bodyPr>
          <a:p>
            <a:pPr marL="355680" indent="0" algn="ctr">
              <a:lnSpc>
                <a:spcPct val="101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Вид проект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навательно-исследовательский, практико-  ориентированный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object 3"/>
          <p:cNvSpPr/>
          <p:nvPr/>
        </p:nvSpPr>
        <p:spPr>
          <a:xfrm>
            <a:off x="608040" y="2189160"/>
            <a:ext cx="81216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Участники проект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ти 2 младшей группы (3-4 год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спитат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Объект исследования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пчатый лу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, лук секок, семена лу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Продолжительность проект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раткосрочный –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едели  (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арт-апрел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0640" y="344520"/>
            <a:ext cx="602748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Предполагаемый результат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object 3"/>
          <p:cNvSpPr/>
          <p:nvPr/>
        </p:nvSpPr>
        <p:spPr>
          <a:xfrm>
            <a:off x="755640" y="1033560"/>
            <a:ext cx="837576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Для детей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 знаний о строении растений и роли овощей в  жизни человека; формирование первоначальных навыков бережного  отношения к растительному миру; развитие наблюда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ктивизация словарного запаса; накопление эмоционального позитивного  опыта общения с природой; самоутверждение личности ребенка; снятие  стрессовых факторов. Дети научатся сажать лук и ухаживать за н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накомятся с условиями их содержания, будут учиться подмеч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льзу и красоту зеленого лука. У них появится интерес к растениям. Они  получат первые знания о жизни растений, исследуют опытным путём  условия необходимые для их роста.. У детей сформируются знания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ставления о росте зеленого лука в комнатных условиях - в  контейнере с поч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Для педагог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вышение профессионализма, внедрение новых методов в  работе с детьми и родителями, самореализ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608652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Формы реализации проекта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object 3"/>
          <p:cNvSpPr/>
          <p:nvPr/>
        </p:nvSpPr>
        <p:spPr>
          <a:xfrm>
            <a:off x="460440" y="1541520"/>
            <a:ext cx="839952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Формы работы с детьми: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блюдения, организованная деятельнос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еседы с рассматриванием картинок, чтение художественной литературы,  продуктивная 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Формы работы с родителями: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ложить родителям приобрести для  проведения проекта луковицы для посадки. Домашнее задание –  рассматривание лука с детьми, вырастить зеленый лук у себя дома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оконнике, расширить представление у детей о применении зеленого  лука в пищу, используя его дома. Индивидуальные бес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комендации, наглядные информационные материа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1726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борудование и материалы для посадки лука и ухода за ним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тейнер с  землей, луковицы, палочки для рыхления почвы, совочки, лейки с водой,  стаканчики для проращивания лу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280" y="204840"/>
            <a:ext cx="589932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Этапы реализации проекта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object 3"/>
          <p:cNvSpPr/>
          <p:nvPr/>
        </p:nvSpPr>
        <p:spPr>
          <a:xfrm>
            <a:off x="728640" y="831960"/>
            <a:ext cx="835344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968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 этап – установоч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еление цели, задач проекта, сроков  реализации, предполагаемого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I этап – подготовите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бор методического, иллюстративного и дидактического материала по  данной теме; подбор оборудования для проведения экспериментальной  работы; составление плана работы над проектом. определение времени в  режиме для группы для реализации проекта. оформление рекомендаций  родителям по работе с детьми по проек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II этап (реализация проекта)познавательно-исследовате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навательная деятельность, трудовая деятельность, наблюдения,  экспериментальная деятельность, чтение художественной литератур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овая деятельность, продуктивная деятельность – рисование «Вот какой у  нас лучок»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та с родителями: сбор посадочного материала, оформление  папки- передвижки, консульт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V этап – обобщающ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ставление результата работы по проекту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0T13:17:20Z</dcterms:created>
  <dc:creator>Алексей Пестерев</dc:creator>
  <dc:description/>
  <dc:language>en-US</dc:language>
  <cp:lastModifiedBy>Я</cp:lastModifiedBy>
  <dcterms:modified xsi:type="dcterms:W3CDTF">2023-04-10T13:53:08Z</dcterms:modified>
  <cp:revision>2</cp:revision>
  <dc:subject/>
  <dc:title>Проект «Огород на подоконник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06-05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23-04-10T00:00:00Z</vt:filetime>
  </property>
</Properties>
</file>