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8CE77-FA88-464F-8DE0-AF5E06D1F3B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23E37-D89D-41BA-9ADD-632791C499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06BF6-6422-4622-8F2D-3C16821354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D5EA-15E6-4D2D-A1D1-C13F11CE2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D74C-CD05-460F-8A09-416FB2FB6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DE31-0FE4-4C04-9F93-C6068B01B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6960-84AC-47BB-BB90-715B81824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844DA-B6C7-4E68-B422-49AC7E07F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67C77-0FB7-4AAC-A5E9-EE7E5F45E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31268-319D-4ACD-9DAF-2D218AAA4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B408E-4B3A-4902-A5D7-AA5F37C45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0D6ED-BFAC-44E1-B005-F39DD9CFB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61512-803C-44ED-ADE1-B7D3382FB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FA7C6-6E15-471D-A7C2-0B294F487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5C09-3D71-4C27-B734-0F03D5478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C2448-C66E-4FB1-B536-51B0C2073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A4992-DCFF-435A-842B-CC13600EC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5043D-3EF3-4305-8E2E-A5F6C99E5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08649-B8CC-4F25-A64C-26D3F98F3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84079-F8CA-4BA3-8977-8A52707A1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256A-4040-48E7-9A7D-18F692CDB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DB7E-33B8-4EDF-B402-684C3BA07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E1D3-7976-420F-86A4-C29AA1FF3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361E-2C56-4860-8F21-09D06C524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1DA7-7DBC-48D3-83EB-5625970E7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CF8F-94C7-4018-A869-9A7388527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A5F8-196C-4D1F-8075-3358E8BF8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5FCB1-2EFC-4E30-B472-C3FF38C24A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76241-3BA1-4AD3-950B-5D28DBB80F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lic3.admsurgut.ru/psihologo-pedagogicheskoe-soprovozhdenie/sluzhba-shkolnoj-meditacii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213920" y="2214720"/>
            <a:ext cx="6572520" cy="100008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Родительское собрание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1В клас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ubtitle 2"/>
          <p:cNvSpPr/>
          <p:nvPr/>
        </p:nvSpPr>
        <p:spPr>
          <a:xfrm>
            <a:off x="1428840" y="357120"/>
            <a:ext cx="6572160" cy="100008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МУНИЦИПАЛЬНОЕ БЮДЖЕТНОЕ ОБЩЕОБРАЗОВАТЕЛЬНОЕ УЧРЕЖДЕНИЕ ЛИЦЕЙ №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ubtitle 2"/>
          <p:cNvSpPr/>
          <p:nvPr/>
        </p:nvSpPr>
        <p:spPr>
          <a:xfrm>
            <a:off x="2286000" y="5286240"/>
            <a:ext cx="4714920" cy="42876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Калабузарова Дженнет Амангельды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Классный руководитель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3399"/>
              </a:solidFill>
              <a:latin typeface="Calibri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>
            <a:alphaModFix amt="65000"/>
          </a:blip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"/>
          <p:cNvPicPr/>
          <p:nvPr/>
        </p:nvPicPr>
        <p:blipFill>
          <a:blip r:embed="rId2"/>
          <a:srcRect l="22733" t="17968" r="21817" b="32618"/>
          <a:stretch/>
        </p:blipFill>
        <p:spPr>
          <a:xfrm>
            <a:off x="57240" y="782640"/>
            <a:ext cx="907236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95280" y="126828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Информирование о работе службы школьной меди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lic3.admsurgut.ru/psihologo-pedagogicheskoe-soprovozhdenie/sluzhba-shkolnoj-meditac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395280" y="31428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 fontScale="73000"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«ТЕЛЕФОН ДОВЕРИЯ»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единой социально-психологической службы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Ханты-Мансийского автономного округа – Югры 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8-800-101-1212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(с  8 час.00 мин. до 20 час.00 мин.)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8-800-101-1200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(с 20 час.00 мин. до 8 час.00 мин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8-800-2000-122 (для детей)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(круглосуточно, бесплатно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Антикризисный кабинет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на базе психотерапевтического отделен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КУ ХМАО-Югры СКПНД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проезд Взлетный, 11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Время работы – с 8 до 18 часо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Круглосуточный телефон доверия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25-99-0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Консультация педагогов-психолог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МБОУ лицее №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Время работы: с 8.00 до 16.00  час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Выходной - воскресень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Пушкарева Екатерина Валерьев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Семенова Инна Николаев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Рисунок 4" descr=""/>
          <p:cNvPicPr/>
          <p:nvPr/>
        </p:nvPicPr>
        <p:blipFill>
          <a:blip r:embed="rId1"/>
          <a:stretch/>
        </p:blipFill>
        <p:spPr>
          <a:xfrm>
            <a:off x="7236000" y="4076640"/>
            <a:ext cx="1736640" cy="15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rcRect l="25000" t="13193" r="25000" b="19444"/>
          <a:stretch/>
        </p:blipFill>
        <p:spPr>
          <a:xfrm>
            <a:off x="0" y="-142920"/>
            <a:ext cx="9144000" cy="70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83160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С целью профилактики ДТП родителям необходимо: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5" descr="https://vip-divan.su/800/600/https/press.lenobl.ru/media/uploads/userfiles/2019/01/23/3_bezop_put_a4.jpg"/>
          <p:cNvPicPr/>
          <p:nvPr/>
        </p:nvPicPr>
        <p:blipFill>
          <a:blip r:embed="rId1"/>
          <a:stretch/>
        </p:blipFill>
        <p:spPr>
          <a:xfrm>
            <a:off x="1187280" y="1484280"/>
            <a:ext cx="67676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Ознакомление родителей с календарным графиком на 2022-2023 учебный год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>
            <a:alphaModFix amt="65000"/>
          </a:blip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"/>
          <p:cNvPicPr/>
          <p:nvPr/>
        </p:nvPicPr>
        <p:blipFill>
          <a:blip r:embed="rId2"/>
          <a:srcRect l="29760" t="16796" r="9847" b="12697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928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Пропуск учебных занятий осуществляется только по СПРАВКЕ ОТ ВРАЧА</a:t>
            </a:r>
            <a:br>
              <a:rPr sz="2400"/>
            </a:b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http://ds04.infourok.ru/uploads/ex/01ac/0009b223-1556cad3/hello_html_mbbe917e.png"/>
          <p:cNvPicPr/>
          <p:nvPr/>
        </p:nvPicPr>
        <p:blipFill>
          <a:blip r:embed="rId1"/>
          <a:stretch/>
        </p:blipFill>
        <p:spPr>
          <a:xfrm>
            <a:off x="5942160" y="2637000"/>
            <a:ext cx="166356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Прямоугольник 4" descr=""/>
          <p:cNvPicPr/>
          <p:nvPr/>
        </p:nvPicPr>
        <p:blipFill>
          <a:blip r:embed="rId1"/>
          <a:stretch/>
        </p:blipFill>
        <p:spPr>
          <a:xfrm>
            <a:off x="1133640" y="1500120"/>
            <a:ext cx="6943680" cy="37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539640" y="764640"/>
            <a:ext cx="8229600" cy="452628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Воспитывать — не значит говорить детям хорошие слова, наставлять и назидать их, а, прежде всего, самому жить по-человечески. Кто хочет исполнить свой долг относительно детей, тот должен начать воспитание с самого себ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16" descr="5"/>
          <p:cNvPicPr/>
          <p:nvPr/>
        </p:nvPicPr>
        <p:blipFill>
          <a:blip r:embed="rId1"/>
          <a:stretch/>
        </p:blipFill>
        <p:spPr>
          <a:xfrm>
            <a:off x="3025800" y="3787920"/>
            <a:ext cx="3622680" cy="18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1128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Ознакомление с учебным планом, планом внеурочной деятельности, системой дополнительного образования на 2022-2023 учебный год.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Заявление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128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Объект 3" descr=""/>
          <p:cNvPicPr/>
          <p:nvPr/>
        </p:nvPicPr>
        <p:blipFill>
          <a:blip r:embed="rId1"/>
          <a:srcRect l="35769" t="20691" r="-858" b="0"/>
          <a:stretch/>
        </p:blipFill>
        <p:spPr>
          <a:xfrm>
            <a:off x="1692360" y="1004760"/>
            <a:ext cx="5900760" cy="5616720"/>
          </a:xfrm>
          <a:prstGeom prst="rect">
            <a:avLst/>
          </a:prstGeom>
          <a:ln w="0">
            <a:noFill/>
          </a:ln>
        </p:spPr>
      </p:pic>
      <p:sp>
        <p:nvSpPr>
          <p:cNvPr id="97" name="Заголовок 1"/>
          <p:cNvSpPr/>
          <p:nvPr/>
        </p:nvSpPr>
        <p:spPr>
          <a:xfrm>
            <a:off x="324000" y="404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  <a:ea typeface="Times New Roman"/>
              </a:rPr>
              <a:t>План внеурочной деятельности 1-4 классы.</a:t>
            </a:r>
            <a:br>
              <a:rPr sz="1200"/>
            </a:br>
            <a:r>
              <a:rPr b="1" lang="ru-RU" sz="2400" spc="-1" strike="noStrike">
                <a:solidFill>
                  <a:srgbClr val="1f497d"/>
                </a:solidFill>
                <a:latin typeface="Arial"/>
                <a:ea typeface="Times New Roman"/>
              </a:rPr>
              <a:t>2021-2022 учебный год.</a:t>
            </a:r>
            <a:br>
              <a:rPr sz="1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1128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Учебный план  Центра дополнительного образования детей на 2021/2022 учебный год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Заявление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92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Calibri"/>
              </a:rPr>
              <a:t>Индивидуальный план занятости обучающегося____ класса Ф.И._____________________________ во внеурочной деятельности/учреждениях дополнительного образования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24000" y="1844640"/>
          <a:ext cx="8496000" cy="4300560"/>
        </p:xfrm>
        <a:graphic>
          <a:graphicData uri="http://schemas.openxmlformats.org/drawingml/2006/table">
            <a:tbl>
              <a:tblPr/>
              <a:tblGrid>
                <a:gridCol w="2492280"/>
                <a:gridCol w="3254400"/>
                <a:gridCol w="1374840"/>
                <a:gridCol w="1374480"/>
              </a:tblGrid>
              <a:tr h="720720">
                <a:tc gridSpan="4">
                  <a:txBody>
                    <a:bodyPr lIns="61200" rIns="612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 Занятость в объединениях/центрах/учреждениях дополнительного образования (в том числе негосударственных), учреждениях культуры и спор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0080">
                <a:tc rowSpan="2"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звание учрежд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 rowSpan="2"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программы/курса/сек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ичество час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недел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60160"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81160">
                <a:tc gridSpan="4"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Занятость обучающихся во внеурочной деятельности в лице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0800">
                <a:tc rowSpan="2"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правл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 rowSpan="2"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программы/курса/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ичество час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недел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3880">
                <a:tc>
                  <a:txBody>
                    <a:bodyPr lIns="61200" rIns="612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уховно-нравственн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8520">
                <a:tc>
                  <a:txBody>
                    <a:bodyPr lIns="61200" rIns="612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еинтеллектуальн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0800">
                <a:tc>
                  <a:txBody>
                    <a:bodyPr lIns="61200" rIns="612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екультурн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3480">
                <a:tc>
                  <a:txBody>
                    <a:bodyPr lIns="61200" rIns="612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циальн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0080">
                <a:tc>
                  <a:txBody>
                    <a:bodyPr lIns="61200" rIns="612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портивно-оздоровительн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Объект 6" descr=""/>
          <p:cNvPicPr/>
          <p:nvPr/>
        </p:nvPicPr>
        <p:blipFill>
          <a:blip r:embed="rId1">
            <a:alphaModFix amt="65000"/>
          </a:blip>
          <a:stretch/>
        </p:blipFill>
        <p:spPr>
          <a:xfrm>
            <a:off x="2124000" y="34920"/>
            <a:ext cx="4876920" cy="68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Объект 3" descr=""/>
          <p:cNvPicPr/>
          <p:nvPr/>
        </p:nvPicPr>
        <p:blipFill>
          <a:blip r:embed="rId1">
            <a:alphaModFix amt="65000"/>
          </a:blip>
          <a:stretch/>
        </p:blipFill>
        <p:spPr>
          <a:xfrm>
            <a:off x="1440" y="333360"/>
            <a:ext cx="9042480" cy="62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95280" y="105264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Информирование о психолого-педагогическом сопровождении обучающихся с согласия родителей (законных представителей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Оформление бланка согласия на психолого-педагогическое сопровождение обучающихс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siholog</dc:creator>
  <dc:description/>
  <dc:language>en-US</dc:language>
  <cp:lastModifiedBy>Юлия</cp:lastModifiedBy>
  <dcterms:modified xsi:type="dcterms:W3CDTF">2022-09-01T17:00:24Z</dcterms:modified>
  <cp:revision>53</cp:revision>
  <dc:subject/>
  <dc:title>Слайд 1</dc:title>
</cp:coreProperties>
</file>