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82D97-9EC3-4C42-9CC7-BF051FD7429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9ADC3-080D-48E0-9740-3AE9B520E0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DB2C4-0A40-447A-8752-C822867B77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4B7F-280D-4140-AC4B-5E3CDDD1C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AC9B-B927-44E5-AA50-54FA346F8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BE5A-9C40-466F-B271-67BE067D1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FA63-6FFC-4455-A830-BA2405D7F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88155-C93C-4A04-AB4A-44B073714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68BA4-2D92-4C13-A057-110AE6963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8127D-BFBE-4527-8911-C6692CDBA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A7A91-D0C5-4A0E-9452-F615B5B5C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464D9-5339-4949-A262-F8F231114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66044-1E8F-4F9F-9975-3E8F07926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0B16D-9888-4B6B-AE24-BDC269D3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6832-C6F6-408C-98D0-E5DF695BB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91D5E-01DA-4085-9268-11B288DE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15DF2-5AAC-47E5-A160-A81D0513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AAD00-2962-45C8-A126-C32A72E57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81A1A-2B56-493C-BC3B-2B88141FE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9781F-C779-4157-AF6C-11BB875F0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B1F0-0FBC-4472-80CD-269995C32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D2ED-52F4-4DCB-A83B-96B50DE00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9A87-53BD-4016-A255-3F0088BA4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F5F7-A561-41B1-BBF0-0B5D40F63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F248-B7C7-40A5-9677-6BCEB8BE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0891-743B-4237-B5CA-EE55B9E5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6FFB-6629-4AD7-89F3-25032354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D6A04-356E-4FCC-B201-651A4E4B61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D86BD-7626-44CC-BF3C-B7BF6F0AD7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lic3.admsurgut.ru/psihologo-pedagogicheskoe-soprovozhdenie/sluzhba-shkolnoj-meditacii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213920" y="2214720"/>
            <a:ext cx="6572520" cy="10000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Родительское собрани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1В клас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ubtitle 2"/>
          <p:cNvSpPr/>
          <p:nvPr/>
        </p:nvSpPr>
        <p:spPr>
          <a:xfrm>
            <a:off x="1428840" y="357120"/>
            <a:ext cx="6572160" cy="10000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 ЛИЦЕЙ №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ubtitle 2"/>
          <p:cNvSpPr/>
          <p:nvPr/>
        </p:nvSpPr>
        <p:spPr>
          <a:xfrm>
            <a:off x="2286000" y="5286240"/>
            <a:ext cx="4714920" cy="42876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Калабузарова Дженнет Амангельды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Классный руководитель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3399"/>
              </a:solidFill>
              <a:latin typeface="Calibri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>
            <a:alphaModFix amt="65000"/>
          </a:blip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"/>
          <p:cNvPicPr/>
          <p:nvPr/>
        </p:nvPicPr>
        <p:blipFill>
          <a:blip r:embed="rId2"/>
          <a:srcRect l="22733" t="17968" r="21817" b="32618"/>
          <a:stretch/>
        </p:blipFill>
        <p:spPr>
          <a:xfrm>
            <a:off x="57240" y="782640"/>
            <a:ext cx="90723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Информирование о работе службы школьной меди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lic3.admsurgut.ru/psihologo-pedagogicheskoe-soprovozhdenie/sluzhba-shkolnoj-meditac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95280" y="31428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 fontScale="73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«ТЕЛЕФОН ДОВЕРИЯ»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единой социально-психологической служб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Ханты-Мансийского автономного округа – Югры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8-800-101-1212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(с  8 час.00 мин. до 20 час.00 мин.)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8-800-101-1200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(с 20 час.00 мин. до 8 час.00 мин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8-800-2000-122 (для детей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(круглосуточно, бесплатно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Антикризисный кабинет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на базе психотерапевтического отделен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КУ ХМАО-Югры СКПНД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роезд Взлетный, 11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Время работы – с 8 до 18 час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Круглосуточный телефон доверия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25-99-0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Консультация педагогов-психолог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МБОУ лицее №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Время работы: с 8.00 до 16.00  час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Выходной - воскресень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ушкарева Екатерина Валерье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Семенова Инна Николае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Рисунок 4" descr=""/>
          <p:cNvPicPr/>
          <p:nvPr/>
        </p:nvPicPr>
        <p:blipFill>
          <a:blip r:embed="rId1"/>
          <a:stretch/>
        </p:blipFill>
        <p:spPr>
          <a:xfrm>
            <a:off x="7236000" y="4076640"/>
            <a:ext cx="173664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rcRect l="25000" t="13193" r="25000" b="19444"/>
          <a:stretch/>
        </p:blipFill>
        <p:spPr>
          <a:xfrm>
            <a:off x="0" y="-142920"/>
            <a:ext cx="9144000" cy="70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83160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С целью профилактики ДТП родителям необходимо: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5" descr="https://vip-divan.su/800/600/https/press.lenobl.ru/media/uploads/userfiles/2019/01/23/3_bezop_put_a4.jpg"/>
          <p:cNvPicPr/>
          <p:nvPr/>
        </p:nvPicPr>
        <p:blipFill>
          <a:blip r:embed="rId1"/>
          <a:stretch/>
        </p:blipFill>
        <p:spPr>
          <a:xfrm>
            <a:off x="1187280" y="1484280"/>
            <a:ext cx="67676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Ознакомление родителей с календарным графиком на 2022-2023 учебный год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>
            <a:alphaModFix amt="65000"/>
          </a:blip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"/>
          <p:cNvPicPr/>
          <p:nvPr/>
        </p:nvPicPr>
        <p:blipFill>
          <a:blip r:embed="rId2"/>
          <a:srcRect l="29760" t="16796" r="9847" b="12697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928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Пропуск учебных занятий осуществляется только по СПРАВКЕ ОТ ВРАЧА</a:t>
            </a:r>
            <a:br>
              <a:rPr sz="2400"/>
            </a:b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http://ds04.infourok.ru/uploads/ex/01ac/0009b223-1556cad3/hello_html_mbbe917e.png"/>
          <p:cNvPicPr/>
          <p:nvPr/>
        </p:nvPicPr>
        <p:blipFill>
          <a:blip r:embed="rId1"/>
          <a:stretch/>
        </p:blipFill>
        <p:spPr>
          <a:xfrm>
            <a:off x="5942160" y="2637000"/>
            <a:ext cx="166356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Прямоугольник 4" descr=""/>
          <p:cNvPicPr/>
          <p:nvPr/>
        </p:nvPicPr>
        <p:blipFill>
          <a:blip r:embed="rId1"/>
          <a:stretch/>
        </p:blipFill>
        <p:spPr>
          <a:xfrm>
            <a:off x="1133640" y="1500120"/>
            <a:ext cx="6943680" cy="37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539640" y="764640"/>
            <a:ext cx="8229600" cy="45262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Воспитывать — не значит говорить детям хорошие слова, наставлять и назидать их, а, прежде всего, самому жить по-человечески. Кто хочет исполнить свой долг относительно детей, тот должен начать воспитание с самого себ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6" descr="5"/>
          <p:cNvPicPr/>
          <p:nvPr/>
        </p:nvPicPr>
        <p:blipFill>
          <a:blip r:embed="rId1"/>
          <a:stretch/>
        </p:blipFill>
        <p:spPr>
          <a:xfrm>
            <a:off x="3025800" y="3787920"/>
            <a:ext cx="3622680" cy="18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128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Ознакомление с учебным планом, планом внеурочной деятельности, системой дополнительного образования на 2022-2023 учебный год.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Заявление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Объект 3" descr=""/>
          <p:cNvPicPr/>
          <p:nvPr/>
        </p:nvPicPr>
        <p:blipFill>
          <a:blip r:embed="rId1"/>
          <a:srcRect l="35769" t="20691" r="-858" b="0"/>
          <a:stretch/>
        </p:blipFill>
        <p:spPr>
          <a:xfrm>
            <a:off x="1692360" y="1004760"/>
            <a:ext cx="5900760" cy="5616720"/>
          </a:xfrm>
          <a:prstGeom prst="rect">
            <a:avLst/>
          </a:prstGeom>
          <a:ln w="0">
            <a:noFill/>
          </a:ln>
        </p:spPr>
      </p:pic>
      <p:sp>
        <p:nvSpPr>
          <p:cNvPr id="97" name="Заголовок 1"/>
          <p:cNvSpPr/>
          <p:nvPr/>
        </p:nvSpPr>
        <p:spPr>
          <a:xfrm>
            <a:off x="324000" y="40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Times New Roman"/>
              </a:rPr>
              <a:t>План внеурочной деятельности 1-4 классы.</a:t>
            </a:r>
            <a:br>
              <a:rPr sz="1200"/>
            </a:b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Times New Roman"/>
              </a:rPr>
              <a:t>2021-2022 учебный год.</a:t>
            </a:r>
            <a:br>
              <a:rPr sz="1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128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Учебный план  Центра дополнительного образования детей на 2021/2022 учебный год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Заявление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Calibri"/>
              </a:rPr>
              <a:t>Индивидуальный план занятости обучающегося____ класса Ф.И._____________________________ во внеурочной деятельности/учреждениях дополнительного образования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24000" y="1844640"/>
          <a:ext cx="8496000" cy="4300560"/>
        </p:xfrm>
        <a:graphic>
          <a:graphicData uri="http://schemas.openxmlformats.org/drawingml/2006/table">
            <a:tbl>
              <a:tblPr/>
              <a:tblGrid>
                <a:gridCol w="2492280"/>
                <a:gridCol w="3254400"/>
                <a:gridCol w="1374840"/>
                <a:gridCol w="1374480"/>
              </a:tblGrid>
              <a:tr h="720720">
                <a:tc gridSpan="4">
                  <a:txBody>
                    <a:bodyPr lIns="61200" rIns="612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 Занятость в объединениях/центрах/учреждениях дополнительного образования (в том числе негосударственных), учреждениях культуры и спор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080">
                <a:tc rowSpan="2"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звание учрежд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 rowSpan="2"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программы/курса/сек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ичество ча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недел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60160"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1160">
                <a:tc gridSpan="4"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Занятость обучающихся во внеурочной деятельности в лице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800">
                <a:tc rowSpan="2"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прав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 rowSpan="2"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программы/курса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ичество ча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недел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3880">
                <a:tc>
                  <a:txBody>
                    <a:bodyPr lIns="61200" rIns="612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уховно-нравствен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520">
                <a:tc>
                  <a:txBody>
                    <a:bodyPr lIns="61200" rIns="612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интеллектуаль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0800">
                <a:tc>
                  <a:txBody>
                    <a:bodyPr lIns="61200" rIns="612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культур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3480">
                <a:tc>
                  <a:txBody>
                    <a:bodyPr lIns="61200" rIns="612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ь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0080">
                <a:tc>
                  <a:txBody>
                    <a:bodyPr lIns="61200" rIns="612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ортивно-оздоровитель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Объект 6" descr=""/>
          <p:cNvPicPr/>
          <p:nvPr/>
        </p:nvPicPr>
        <p:blipFill>
          <a:blip r:embed="rId1">
            <a:alphaModFix amt="65000"/>
          </a:blip>
          <a:stretch/>
        </p:blipFill>
        <p:spPr>
          <a:xfrm>
            <a:off x="2124000" y="34920"/>
            <a:ext cx="4876920" cy="68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Объект 3" descr=""/>
          <p:cNvPicPr/>
          <p:nvPr/>
        </p:nvPicPr>
        <p:blipFill>
          <a:blip r:embed="rId1">
            <a:alphaModFix amt="65000"/>
          </a:blip>
          <a:stretch/>
        </p:blipFill>
        <p:spPr>
          <a:xfrm>
            <a:off x="1440" y="333360"/>
            <a:ext cx="9042480" cy="62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95280" y="105264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Информирование о психолого-педагогическом сопровождении обучающихся с согласия родителей (законных представителей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Оформление бланка согласия на психолого-педагогическое сопровождение обучающихс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siholog</dc:creator>
  <dc:description/>
  <dc:language>en-US</dc:language>
  <cp:lastModifiedBy>Юлия</cp:lastModifiedBy>
  <dcterms:modified xsi:type="dcterms:W3CDTF">2022-09-01T17:00:24Z</dcterms:modified>
  <cp:revision>53</cp:revision>
  <dc:subject/>
  <dc:title>Слайд 1</dc:title>
</cp:coreProperties>
</file>