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DB0-7CED-4F49-9A6C-A52AA801E2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D16-584F-4EF6-BDD6-22DAC1CD8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58A-7DD6-42A7-BDD7-BE499FCF3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EEE-4762-477C-9D23-8039469A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B43-D01D-4E44-B277-289584D4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DC7-8CC8-47B8-B3E5-3FF6BA97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4FD-FCDC-4FE8-93E9-2F562F6D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746A-D706-449F-B9CD-752CBC83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AA7-D75B-45C6-B317-A61108B6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581C-B533-4FAC-BFED-BC7D2394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C344-1261-47AF-995F-80DB6C3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A208-E8F5-42CD-9878-3923B4AA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C835-489A-48ED-8915-D1AE38C1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9229-13EC-4066-868F-C427767E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35D-B55A-4E19-A1F7-2EF3785A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D49F-652F-4E90-A677-FAC1ACA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728-CF9C-4616-A72B-435F62B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791-0B87-4A36-A223-AB0C2D7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F295-A16A-4054-934F-6F13D9A3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1A7-DF10-4038-AB24-DAEBAB7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0E5-D6AF-44AB-A1CA-8237E37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847-79E5-4BAF-B1A2-6874E08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C79-CCDA-45E5-ABE7-9B17CC8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960-0949-4989-82AC-AA1A8B10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19E-7CEF-4CD9-90C3-235D0A7F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C66-EBCB-4A13-B8EF-3266FB6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451-AA07-43EE-B3B3-85D3195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A405-BE98-42E8-87EC-1311AAA80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19F-98A4-40E1-850E-5FD51E6D8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c3.admsurgut.ru/psihologo-pedagogicheskoe-soprovozhdenie/sluzhba-shkolnoj-meditacii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3920" y="2214720"/>
            <a:ext cx="6572520" cy="1000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одительское собр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В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428840" y="357120"/>
            <a:ext cx="6572160" cy="1000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ИЦЕЙ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2286000" y="5286240"/>
            <a:ext cx="4714920" cy="428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лабузарова Дженнет Амангельды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лассный руковод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rcRect l="22733" t="17968" r="21817" b="32618"/>
          <a:stretch/>
        </p:blipFill>
        <p:spPr>
          <a:xfrm>
            <a:off x="57240" y="782640"/>
            <a:ext cx="90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ирование о работе службы школьной мед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c3.admsurgut.ru/psihologo-pedagogicheskoe-soprovozhdenie/sluzhba-shkolnoj-meditac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31428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ТЕЛЕФОН ДОВЕРИЯ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диной социально-психологической служб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анты-Мансийского автономного округа – Югры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101-12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  8 час.00 мин. до 20 час.00 мин.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101-120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 20 час.00 мин. до 8 час.00 мин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2000-122 (для дет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круглосуточно, бесплат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тикризисный кабин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 базе психотерапевтического отде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У ХМАО-Югры СКПН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езд Взлетный, 1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ремя работы – с 8 до 18 ча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руглосуточный телефон довер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5-99-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сультация педагогов-психол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БОУ лицее 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ремя работы: с 8.00 до 16.00  ча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ходной - воскресен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ушкарева Екатерина Вале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менова Инна Никола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7236000" y="4076640"/>
            <a:ext cx="1736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25000" t="13193" r="25000" b="19444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8316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 целью профилактики ДТП родителям необходимо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ttps://vip-divan.su/800/600/https/press.lenobl.ru/media/uploads/userfiles/2019/01/23/3_bezop_put_a4.jpg"/>
          <p:cNvPicPr/>
          <p:nvPr/>
        </p:nvPicPr>
        <p:blipFill>
          <a:blip r:embed="rId1"/>
          <a:stretch/>
        </p:blipFill>
        <p:spPr>
          <a:xfrm>
            <a:off x="1187280" y="148428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знакомление родителей с календарным графиком на 2022-2023 учебный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rcRect l="29760" t="16796" r="9847" b="1269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пуск учебных занятий осуществляется только по СПРАВКЕ ОТ ВРАЧА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ds04.infourok.ru/uploads/ex/01ac/0009b223-1556cad3/hello_html_mbbe917e.png"/>
          <p:cNvPicPr/>
          <p:nvPr/>
        </p:nvPicPr>
        <p:blipFill>
          <a:blip r:embed="rId1"/>
          <a:stretch/>
        </p:blipFill>
        <p:spPr>
          <a:xfrm>
            <a:off x="5942160" y="2637000"/>
            <a:ext cx="16635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1500120"/>
            <a:ext cx="69436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оспитывать — не значит говорить детям хорошие слова, наставлять и назидать их, а, прежде всего, самому жить по-человечески. Кто хочет исполнить свой долг относительно детей, тот должен начать воспитание с самого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6" descr="5"/>
          <p:cNvPicPr/>
          <p:nvPr/>
        </p:nvPicPr>
        <p:blipFill>
          <a:blip r:embed="rId1"/>
          <a:stretch/>
        </p:blipFill>
        <p:spPr>
          <a:xfrm>
            <a:off x="3025800" y="3787920"/>
            <a:ext cx="36226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знакомление с учебным планом, планом внеурочной деятельности, системой дополнительного образования на 2022-2023 учебный го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явл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rcRect l="35769" t="20691" r="-858" b="0"/>
          <a:stretch/>
        </p:blipFill>
        <p:spPr>
          <a:xfrm>
            <a:off x="1692360" y="1004760"/>
            <a:ext cx="5900760" cy="561672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3240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лан внеурочной деятельности 1-4 классы.</a:t>
            </a:r>
            <a:br>
              <a:rPr sz="12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2021-2022 учебный год.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чебный план  Центра дополнительного образования детей на 2021/2022 учебный год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явл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Индивидуальный план занятости обучающегося____ класса Ф.И._____________________________ во внеурочной деятельности/учреждениях дополнительного образов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844640"/>
          <a:ext cx="8496000" cy="4300560"/>
        </p:xfrm>
        <a:graphic>
          <a:graphicData uri="http://schemas.openxmlformats.org/drawingml/2006/table">
            <a:tbl>
              <a:tblPr/>
              <a:tblGrid>
                <a:gridCol w="2492280"/>
                <a:gridCol w="3254400"/>
                <a:gridCol w="1374840"/>
                <a:gridCol w="1374480"/>
              </a:tblGrid>
              <a:tr h="720720">
                <a:tc gridSpan="4"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 Занятость в объединениях/центрах/учреждениях дополнительного образования (в том числе негосударственных), учреждениях культуры и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/курса/с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1160">
                <a:tc gridSpan="4"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нятость обучающихся во внеурочной деятельности в лиц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/курса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8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ховно-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52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34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ивно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6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124000" y="34920"/>
            <a:ext cx="4876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440" y="333360"/>
            <a:ext cx="904248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ирование о психолого-педагогическом сопровождении обучающихся с согласия родителей (законных представителей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формление бланка согласия на психолого-педагогическое сопровождение обучаю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siholog</dc:creator>
  <dc:description/>
  <dc:language>en-US</dc:language>
  <cp:lastModifiedBy>Юлия</cp:lastModifiedBy>
  <dcterms:modified xsi:type="dcterms:W3CDTF">2022-09-01T17:00:24Z</dcterms:modified>
  <cp:revision>53</cp:revision>
  <dc:subject/>
  <dc:title>Слайд 1</dc:title>
</cp:coreProperties>
</file>