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666666"/>
          </a:solidFill>
          <a:round/>
        </a:ln>
      </c:spPr>
    </c:floor>
    <c:sideWall>
      <c:spPr>
        <a:noFill/>
        <a:ln w="9360">
          <a:solidFill>
            <a:srgbClr val="666666"/>
          </a:solidFill>
          <a:round/>
        </a:ln>
      </c:spPr>
    </c:sideWall>
    <c:backWall>
      <c:spPr>
        <a:noFill/>
        <a:ln w="9360">
          <a:solidFill>
            <a:srgbClr val="666666"/>
          </a:solidFill>
          <a:round/>
        </a:ln>
      </c:spPr>
    </c:backWall>
    <c:plotArea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Ряд 1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интелектуальная </c:v>
                </c:pt>
                <c:pt idx="1">
                  <c:v>эмоциональная </c:v>
                </c:pt>
                <c:pt idx="2">
                  <c:v>физическая </c:v>
                </c:pt>
                <c:pt idx="3">
                  <c:v>мотивационная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</c:v>
                </c:pt>
                <c:pt idx="1">
                  <c:v>10</c:v>
                </c:pt>
                <c:pt idx="2">
                  <c:v>4</c:v>
                </c:pt>
                <c:pt idx="3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Ряд 2</c:v>
                </c:pt>
              </c:strCache>
            </c:strRef>
          </c:tx>
          <c:spPr>
            <a:solidFill>
              <a:srgbClr val="009dd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интелектуальная </c:v>
                </c:pt>
                <c:pt idx="1">
                  <c:v>эмоциональная </c:v>
                </c:pt>
                <c:pt idx="2">
                  <c:v>физическая </c:v>
                </c:pt>
                <c:pt idx="3">
                  <c:v>мотивационная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Ряд 3</c:v>
                </c:pt>
              </c:strCache>
            </c:strRef>
          </c:tx>
          <c:spPr>
            <a:solidFill>
              <a:srgbClr val="0bd0d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интелектуальная </c:v>
                </c:pt>
                <c:pt idx="1">
                  <c:v>эмоциональная </c:v>
                </c:pt>
                <c:pt idx="2">
                  <c:v>физическая </c:v>
                </c:pt>
                <c:pt idx="3">
                  <c:v>мотивационная 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</c:numCache>
            </c:numRef>
          </c:val>
        </c:ser>
        <c:gapWidth val="150"/>
        <c:shape val="box"/>
        <c:axId val="36161542"/>
        <c:axId val="14931321"/>
        <c:axId val="0"/>
      </c:bar3DChart>
      <c:catAx>
        <c:axId val="3616154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14931321"/>
        <c:crosses val="autoZero"/>
        <c:auto val="1"/>
        <c:lblAlgn val="ctr"/>
        <c:lblOffset val="100"/>
        <c:noMultiLvlLbl val="0"/>
      </c:catAx>
      <c:valAx>
        <c:axId val="14931321"/>
        <c:scaling>
          <c:orientation val="minMax"/>
        </c:scaling>
        <c:delete val="0"/>
        <c:axPos val="l"/>
        <c:majorGridlines>
          <c:spPr>
            <a:ln w="9360">
              <a:solidFill>
                <a:srgbClr val="666666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36161542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5A4CC9-B102-4DF3-90C0-A8AF6F01DCC0}" type="doc">
      <dgm:prSet loTypeId="urn:microsoft.com/office/officeart/2005/8/layout/process4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798FBBA4-90DD-4AA9-906D-5BB441F1B943}">
      <dgm:prSet phldrT="[Текст]" custT="1"/>
      <dgm:spPr/>
      <dgm:t>
        <a:bodyPr/>
        <a:lstStyle/>
        <a:p>
          <a:r>
            <a:rPr lang="ru-RU" sz="2400" b="1" dirty="0"/>
            <a:t>интеллектуальная готовность</a:t>
          </a:r>
          <a:endParaRPr lang="ru-RU" sz="2400" dirty="0"/>
        </a:p>
      </dgm:t>
    </dgm:pt>
    <dgm:pt modelId="{2B8DA4A6-44C9-432D-8BB5-003D200381F7}" type="parTrans" cxnId="{C6E9C78B-E0EB-4D4F-9300-84BC04326470}">
      <dgm:prSet/>
      <dgm:spPr/>
      <dgm:t>
        <a:bodyPr/>
        <a:lstStyle/>
        <a:p>
          <a:endParaRPr lang="ru-RU"/>
        </a:p>
      </dgm:t>
    </dgm:pt>
    <dgm:pt modelId="{32DBFF67-5E27-41FE-BAC3-0A28BE48F5A5}" type="sibTrans" cxnId="{C6E9C78B-E0EB-4D4F-9300-84BC04326470}">
      <dgm:prSet/>
      <dgm:spPr/>
      <dgm:t>
        <a:bodyPr/>
        <a:lstStyle/>
        <a:p>
          <a:endParaRPr lang="ru-RU"/>
        </a:p>
      </dgm:t>
    </dgm:pt>
    <dgm:pt modelId="{AC76F07B-5F2D-41F5-B797-D7CCC9E517E3}">
      <dgm:prSet phldrT="[Текст]" custT="1"/>
      <dgm:spPr/>
      <dgm:t>
        <a:bodyPr/>
        <a:lstStyle/>
        <a:p>
          <a:r>
            <a:rPr lang="ru-RU" sz="2400" b="1" dirty="0"/>
            <a:t>эмоционально-волевая готовность</a:t>
          </a:r>
          <a:endParaRPr lang="ru-RU" sz="2400" dirty="0"/>
        </a:p>
      </dgm:t>
    </dgm:pt>
    <dgm:pt modelId="{06990E12-D8CE-4E8C-8EBB-5F22D0116365}" type="parTrans" cxnId="{4DFF19F0-5F56-4302-A9BE-0A6137E04443}">
      <dgm:prSet/>
      <dgm:spPr/>
      <dgm:t>
        <a:bodyPr/>
        <a:lstStyle/>
        <a:p>
          <a:endParaRPr lang="ru-RU"/>
        </a:p>
      </dgm:t>
    </dgm:pt>
    <dgm:pt modelId="{1F255FE8-DC4E-49C4-9B96-EA6BE69BECC0}" type="sibTrans" cxnId="{4DFF19F0-5F56-4302-A9BE-0A6137E04443}">
      <dgm:prSet/>
      <dgm:spPr/>
      <dgm:t>
        <a:bodyPr/>
        <a:lstStyle/>
        <a:p>
          <a:endParaRPr lang="ru-RU"/>
        </a:p>
      </dgm:t>
    </dgm:pt>
    <dgm:pt modelId="{55F9C12F-FF39-4995-BD55-3DC66AC255EC}">
      <dgm:prSet phldrT="[Текст]" custT="1"/>
      <dgm:spPr/>
      <dgm:t>
        <a:bodyPr/>
        <a:lstStyle/>
        <a:p>
          <a:r>
            <a:rPr lang="ru-RU" sz="2400" b="1" dirty="0"/>
            <a:t>Социально-коммуникативная готовность</a:t>
          </a:r>
          <a:endParaRPr lang="ru-RU" sz="2400" dirty="0"/>
        </a:p>
      </dgm:t>
    </dgm:pt>
    <dgm:pt modelId="{90B72A5E-B24E-4E10-B1FD-A876A661BBF9}" type="parTrans" cxnId="{B05CB6E0-C7B2-4166-A4A0-0AC2C58F4F29}">
      <dgm:prSet/>
      <dgm:spPr/>
      <dgm:t>
        <a:bodyPr/>
        <a:lstStyle/>
        <a:p>
          <a:endParaRPr lang="ru-RU"/>
        </a:p>
      </dgm:t>
    </dgm:pt>
    <dgm:pt modelId="{7E655BDB-1736-40EF-9F9B-0C4B060F40C8}" type="sibTrans" cxnId="{B05CB6E0-C7B2-4166-A4A0-0AC2C58F4F29}">
      <dgm:prSet/>
      <dgm:spPr/>
      <dgm:t>
        <a:bodyPr/>
        <a:lstStyle/>
        <a:p>
          <a:endParaRPr lang="ru-RU"/>
        </a:p>
      </dgm:t>
    </dgm:pt>
    <dgm:pt modelId="{36761CFF-29A4-4FA0-94CF-62895DD63653}">
      <dgm:prSet phldrT="[Текст]" custT="1"/>
      <dgm:spPr/>
      <dgm:t>
        <a:bodyPr/>
        <a:lstStyle/>
        <a:p>
          <a:r>
            <a:rPr lang="ru-RU" sz="2400" b="1" dirty="0"/>
            <a:t>физическая готовность</a:t>
          </a:r>
          <a:endParaRPr lang="ru-RU" sz="2400" dirty="0"/>
        </a:p>
      </dgm:t>
    </dgm:pt>
    <dgm:pt modelId="{9FC8FDFD-4EB6-4D8F-B709-98E94CE61D86}" type="parTrans" cxnId="{FAC8931B-60BE-432E-A4EE-A270EA06C683}">
      <dgm:prSet/>
      <dgm:spPr/>
      <dgm:t>
        <a:bodyPr/>
        <a:lstStyle/>
        <a:p>
          <a:endParaRPr lang="ru-RU"/>
        </a:p>
      </dgm:t>
    </dgm:pt>
    <dgm:pt modelId="{ADB75692-D88F-4B65-A147-5BC94B26799B}" type="sibTrans" cxnId="{FAC8931B-60BE-432E-A4EE-A270EA06C683}">
      <dgm:prSet/>
      <dgm:spPr/>
      <dgm:t>
        <a:bodyPr/>
        <a:lstStyle/>
        <a:p>
          <a:endParaRPr lang="ru-RU"/>
        </a:p>
      </dgm:t>
    </dgm:pt>
    <dgm:pt modelId="{5F886B39-9C4E-4173-82E0-AB603D07CC86}">
      <dgm:prSet phldrT="[Текст]" custT="1"/>
      <dgm:spPr/>
      <dgm:t>
        <a:bodyPr/>
        <a:lstStyle/>
        <a:p>
          <a:r>
            <a:rPr lang="ru-RU" sz="2400" b="1" dirty="0"/>
            <a:t>мотивационная готовность</a:t>
          </a:r>
          <a:endParaRPr lang="ru-RU" sz="2400" dirty="0"/>
        </a:p>
      </dgm:t>
    </dgm:pt>
    <dgm:pt modelId="{3365AF73-859D-4434-A13A-3040F7FF9CC8}" type="sibTrans" cxnId="{769C0124-D293-4A23-93FB-2A31048B7385}">
      <dgm:prSet/>
      <dgm:spPr/>
      <dgm:t>
        <a:bodyPr/>
        <a:lstStyle/>
        <a:p>
          <a:endParaRPr lang="ru-RU"/>
        </a:p>
      </dgm:t>
    </dgm:pt>
    <dgm:pt modelId="{6287E7BE-B32E-403F-9736-0CC725B0AA97}" type="parTrans" cxnId="{769C0124-D293-4A23-93FB-2A31048B7385}">
      <dgm:prSet/>
      <dgm:spPr/>
      <dgm:t>
        <a:bodyPr/>
        <a:lstStyle/>
        <a:p>
          <a:endParaRPr lang="ru-RU"/>
        </a:p>
      </dgm:t>
    </dgm:pt>
    <dgm:pt modelId="{3C6E199D-B831-4C92-926E-8B72D4ECAB71}" type="pres">
      <dgm:prSet presAssocID="{B55A4CC9-B102-4DF3-90C0-A8AF6F01DCC0}" presName="Name0" presStyleCnt="0">
        <dgm:presLayoutVars>
          <dgm:dir/>
          <dgm:animLvl val="lvl"/>
          <dgm:resizeHandles val="exact"/>
        </dgm:presLayoutVars>
      </dgm:prSet>
      <dgm:spPr/>
    </dgm:pt>
    <dgm:pt modelId="{E28C802B-D90F-4066-B3AE-5668C7EEC4B7}" type="pres">
      <dgm:prSet presAssocID="{55F9C12F-FF39-4995-BD55-3DC66AC255EC}" presName="boxAndChildren" presStyleCnt="0"/>
      <dgm:spPr/>
    </dgm:pt>
    <dgm:pt modelId="{6D79F684-94C5-4376-8DCB-6ED824F0FADE}" type="pres">
      <dgm:prSet presAssocID="{55F9C12F-FF39-4995-BD55-3DC66AC255EC}" presName="parentTextBox" presStyleLbl="node1" presStyleIdx="0" presStyleCnt="5"/>
      <dgm:spPr/>
    </dgm:pt>
    <dgm:pt modelId="{7DCCE2DC-2FDE-4A1B-9739-39BF8E4D3F43}" type="pres">
      <dgm:prSet presAssocID="{1F255FE8-DC4E-49C4-9B96-EA6BE69BECC0}" presName="sp" presStyleCnt="0"/>
      <dgm:spPr/>
    </dgm:pt>
    <dgm:pt modelId="{60673265-D3E5-4447-AAD1-A91E32CDC14C}" type="pres">
      <dgm:prSet presAssocID="{AC76F07B-5F2D-41F5-B797-D7CCC9E517E3}" presName="arrowAndChildren" presStyleCnt="0"/>
      <dgm:spPr/>
    </dgm:pt>
    <dgm:pt modelId="{F4F15B01-8554-41B8-8041-C009FC95DEB0}" type="pres">
      <dgm:prSet presAssocID="{AC76F07B-5F2D-41F5-B797-D7CCC9E517E3}" presName="parentTextArrow" presStyleLbl="node1" presStyleIdx="1" presStyleCnt="5"/>
      <dgm:spPr/>
    </dgm:pt>
    <dgm:pt modelId="{5EB4C331-BD97-478F-9FA0-D3B64183E8FC}" type="pres">
      <dgm:prSet presAssocID="{3365AF73-859D-4434-A13A-3040F7FF9CC8}" presName="sp" presStyleCnt="0"/>
      <dgm:spPr/>
    </dgm:pt>
    <dgm:pt modelId="{E1FA7128-1F8C-432C-9E7B-6CA29DFEC6D7}" type="pres">
      <dgm:prSet presAssocID="{5F886B39-9C4E-4173-82E0-AB603D07CC86}" presName="arrowAndChildren" presStyleCnt="0"/>
      <dgm:spPr/>
    </dgm:pt>
    <dgm:pt modelId="{2D489909-BD2C-4A58-9A6F-EBFDD340F8CF}" type="pres">
      <dgm:prSet presAssocID="{5F886B39-9C4E-4173-82E0-AB603D07CC86}" presName="parentTextArrow" presStyleLbl="node1" presStyleIdx="2" presStyleCnt="5"/>
      <dgm:spPr/>
    </dgm:pt>
    <dgm:pt modelId="{53EC491B-D1CB-44F1-9C44-526C54A3E294}" type="pres">
      <dgm:prSet presAssocID="{32DBFF67-5E27-41FE-BAC3-0A28BE48F5A5}" presName="sp" presStyleCnt="0"/>
      <dgm:spPr/>
    </dgm:pt>
    <dgm:pt modelId="{23F84919-E5EA-4A5E-B959-6B7F6AB11A47}" type="pres">
      <dgm:prSet presAssocID="{798FBBA4-90DD-4AA9-906D-5BB441F1B943}" presName="arrowAndChildren" presStyleCnt="0"/>
      <dgm:spPr/>
    </dgm:pt>
    <dgm:pt modelId="{28E6C17C-92F1-4124-B116-E36E2D7E05F1}" type="pres">
      <dgm:prSet presAssocID="{798FBBA4-90DD-4AA9-906D-5BB441F1B943}" presName="parentTextArrow" presStyleLbl="node1" presStyleIdx="3" presStyleCnt="5" custLinFactNeighborX="-348" custLinFactNeighborY="3775"/>
      <dgm:spPr/>
    </dgm:pt>
    <dgm:pt modelId="{E0162565-40C2-4DB7-89A4-F1C055177023}" type="pres">
      <dgm:prSet presAssocID="{ADB75692-D88F-4B65-A147-5BC94B26799B}" presName="sp" presStyleCnt="0"/>
      <dgm:spPr/>
    </dgm:pt>
    <dgm:pt modelId="{88CB77BC-BA67-41F5-957B-DE5B6557BFA9}" type="pres">
      <dgm:prSet presAssocID="{36761CFF-29A4-4FA0-94CF-62895DD63653}" presName="arrowAndChildren" presStyleCnt="0"/>
      <dgm:spPr/>
    </dgm:pt>
    <dgm:pt modelId="{EAF21F3C-8A6B-4DE9-AA57-F4D4AC6D4A85}" type="pres">
      <dgm:prSet presAssocID="{36761CFF-29A4-4FA0-94CF-62895DD63653}" presName="parentTextArrow" presStyleLbl="node1" presStyleIdx="4" presStyleCnt="5" custLinFactNeighborX="-348" custLinFactNeighborY="11301"/>
      <dgm:spPr/>
    </dgm:pt>
  </dgm:ptLst>
  <dgm:cxnLst>
    <dgm:cxn modelId="{D4D16A03-F991-4E18-AB5E-A274CF916810}" type="presOf" srcId="{55F9C12F-FF39-4995-BD55-3DC66AC255EC}" destId="{6D79F684-94C5-4376-8DCB-6ED824F0FADE}" srcOrd="0" destOrd="0" presId="urn:microsoft.com/office/officeart/2005/8/layout/process4"/>
    <dgm:cxn modelId="{2A50770A-8EE5-41E9-983A-3B4F6993C362}" type="presOf" srcId="{B55A4CC9-B102-4DF3-90C0-A8AF6F01DCC0}" destId="{3C6E199D-B831-4C92-926E-8B72D4ECAB71}" srcOrd="0" destOrd="0" presId="urn:microsoft.com/office/officeart/2005/8/layout/process4"/>
    <dgm:cxn modelId="{752D8315-D394-4907-80D3-B18A43877A44}" type="presOf" srcId="{5F886B39-9C4E-4173-82E0-AB603D07CC86}" destId="{2D489909-BD2C-4A58-9A6F-EBFDD340F8CF}" srcOrd="0" destOrd="0" presId="urn:microsoft.com/office/officeart/2005/8/layout/process4"/>
    <dgm:cxn modelId="{FAC8931B-60BE-432E-A4EE-A270EA06C683}" srcId="{B55A4CC9-B102-4DF3-90C0-A8AF6F01DCC0}" destId="{36761CFF-29A4-4FA0-94CF-62895DD63653}" srcOrd="0" destOrd="0" parTransId="{9FC8FDFD-4EB6-4D8F-B709-98E94CE61D86}" sibTransId="{ADB75692-D88F-4B65-A147-5BC94B26799B}"/>
    <dgm:cxn modelId="{769C0124-D293-4A23-93FB-2A31048B7385}" srcId="{B55A4CC9-B102-4DF3-90C0-A8AF6F01DCC0}" destId="{5F886B39-9C4E-4173-82E0-AB603D07CC86}" srcOrd="2" destOrd="0" parTransId="{6287E7BE-B32E-403F-9736-0CC725B0AA97}" sibTransId="{3365AF73-859D-4434-A13A-3040F7FF9CC8}"/>
    <dgm:cxn modelId="{26D8054B-ECDE-42C9-A393-545D5594233E}" type="presOf" srcId="{798FBBA4-90DD-4AA9-906D-5BB441F1B943}" destId="{28E6C17C-92F1-4124-B116-E36E2D7E05F1}" srcOrd="0" destOrd="0" presId="urn:microsoft.com/office/officeart/2005/8/layout/process4"/>
    <dgm:cxn modelId="{C6E9C78B-E0EB-4D4F-9300-84BC04326470}" srcId="{B55A4CC9-B102-4DF3-90C0-A8AF6F01DCC0}" destId="{798FBBA4-90DD-4AA9-906D-5BB441F1B943}" srcOrd="1" destOrd="0" parTransId="{2B8DA4A6-44C9-432D-8BB5-003D200381F7}" sibTransId="{32DBFF67-5E27-41FE-BAC3-0A28BE48F5A5}"/>
    <dgm:cxn modelId="{0EEC86B3-8FCD-47CE-B2B5-656030FDCB1E}" type="presOf" srcId="{AC76F07B-5F2D-41F5-B797-D7CCC9E517E3}" destId="{F4F15B01-8554-41B8-8041-C009FC95DEB0}" srcOrd="0" destOrd="0" presId="urn:microsoft.com/office/officeart/2005/8/layout/process4"/>
    <dgm:cxn modelId="{194512BB-E25C-49E9-92A4-75CE31294698}" type="presOf" srcId="{36761CFF-29A4-4FA0-94CF-62895DD63653}" destId="{EAF21F3C-8A6B-4DE9-AA57-F4D4AC6D4A85}" srcOrd="0" destOrd="0" presId="urn:microsoft.com/office/officeart/2005/8/layout/process4"/>
    <dgm:cxn modelId="{B05CB6E0-C7B2-4166-A4A0-0AC2C58F4F29}" srcId="{B55A4CC9-B102-4DF3-90C0-A8AF6F01DCC0}" destId="{55F9C12F-FF39-4995-BD55-3DC66AC255EC}" srcOrd="4" destOrd="0" parTransId="{90B72A5E-B24E-4E10-B1FD-A876A661BBF9}" sibTransId="{7E655BDB-1736-40EF-9F9B-0C4B060F40C8}"/>
    <dgm:cxn modelId="{4DFF19F0-5F56-4302-A9BE-0A6137E04443}" srcId="{B55A4CC9-B102-4DF3-90C0-A8AF6F01DCC0}" destId="{AC76F07B-5F2D-41F5-B797-D7CCC9E517E3}" srcOrd="3" destOrd="0" parTransId="{06990E12-D8CE-4E8C-8EBB-5F22D0116365}" sibTransId="{1F255FE8-DC4E-49C4-9B96-EA6BE69BECC0}"/>
    <dgm:cxn modelId="{0A5EFFEE-DA8D-4D76-A280-35854564F538}" type="presParOf" srcId="{3C6E199D-B831-4C92-926E-8B72D4ECAB71}" destId="{E28C802B-D90F-4066-B3AE-5668C7EEC4B7}" srcOrd="0" destOrd="0" presId="urn:microsoft.com/office/officeart/2005/8/layout/process4"/>
    <dgm:cxn modelId="{84C09825-62AB-456A-BA97-A299CF4A7B69}" type="presParOf" srcId="{E28C802B-D90F-4066-B3AE-5668C7EEC4B7}" destId="{6D79F684-94C5-4376-8DCB-6ED824F0FADE}" srcOrd="0" destOrd="0" presId="urn:microsoft.com/office/officeart/2005/8/layout/process4"/>
    <dgm:cxn modelId="{2EF2F4B0-CF62-49F9-BD53-8523645EEE82}" type="presParOf" srcId="{3C6E199D-B831-4C92-926E-8B72D4ECAB71}" destId="{7DCCE2DC-2FDE-4A1B-9739-39BF8E4D3F43}" srcOrd="1" destOrd="0" presId="urn:microsoft.com/office/officeart/2005/8/layout/process4"/>
    <dgm:cxn modelId="{F9DE225B-EB9D-40C3-8636-3C94E3A348ED}" type="presParOf" srcId="{3C6E199D-B831-4C92-926E-8B72D4ECAB71}" destId="{60673265-D3E5-4447-AAD1-A91E32CDC14C}" srcOrd="2" destOrd="0" presId="urn:microsoft.com/office/officeart/2005/8/layout/process4"/>
    <dgm:cxn modelId="{C3E145D5-8AFA-4030-B332-2F677FA07E72}" type="presParOf" srcId="{60673265-D3E5-4447-AAD1-A91E32CDC14C}" destId="{F4F15B01-8554-41B8-8041-C009FC95DEB0}" srcOrd="0" destOrd="0" presId="urn:microsoft.com/office/officeart/2005/8/layout/process4"/>
    <dgm:cxn modelId="{8B92FC17-F1E5-4514-B467-18057EC5C3CC}" type="presParOf" srcId="{3C6E199D-B831-4C92-926E-8B72D4ECAB71}" destId="{5EB4C331-BD97-478F-9FA0-D3B64183E8FC}" srcOrd="3" destOrd="0" presId="urn:microsoft.com/office/officeart/2005/8/layout/process4"/>
    <dgm:cxn modelId="{2C7AB714-0473-479A-9F81-DD138E7A6101}" type="presParOf" srcId="{3C6E199D-B831-4C92-926E-8B72D4ECAB71}" destId="{E1FA7128-1F8C-432C-9E7B-6CA29DFEC6D7}" srcOrd="4" destOrd="0" presId="urn:microsoft.com/office/officeart/2005/8/layout/process4"/>
    <dgm:cxn modelId="{F614829D-62ED-45FC-98DA-109BB26875D9}" type="presParOf" srcId="{E1FA7128-1F8C-432C-9E7B-6CA29DFEC6D7}" destId="{2D489909-BD2C-4A58-9A6F-EBFDD340F8CF}" srcOrd="0" destOrd="0" presId="urn:microsoft.com/office/officeart/2005/8/layout/process4"/>
    <dgm:cxn modelId="{95359C16-8933-4126-B4E5-561238E59EF6}" type="presParOf" srcId="{3C6E199D-B831-4C92-926E-8B72D4ECAB71}" destId="{53EC491B-D1CB-44F1-9C44-526C54A3E294}" srcOrd="5" destOrd="0" presId="urn:microsoft.com/office/officeart/2005/8/layout/process4"/>
    <dgm:cxn modelId="{C3B90C4B-CF9A-4D07-95C1-206DDB9EE169}" type="presParOf" srcId="{3C6E199D-B831-4C92-926E-8B72D4ECAB71}" destId="{23F84919-E5EA-4A5E-B959-6B7F6AB11A47}" srcOrd="6" destOrd="0" presId="urn:microsoft.com/office/officeart/2005/8/layout/process4"/>
    <dgm:cxn modelId="{08ED27CD-C57B-471B-93AF-FB16E8836117}" type="presParOf" srcId="{23F84919-E5EA-4A5E-B959-6B7F6AB11A47}" destId="{28E6C17C-92F1-4124-B116-E36E2D7E05F1}" srcOrd="0" destOrd="0" presId="urn:microsoft.com/office/officeart/2005/8/layout/process4"/>
    <dgm:cxn modelId="{32410B2E-26F8-4B47-9AC3-D1DD046D95BE}" type="presParOf" srcId="{3C6E199D-B831-4C92-926E-8B72D4ECAB71}" destId="{E0162565-40C2-4DB7-89A4-F1C055177023}" srcOrd="7" destOrd="0" presId="urn:microsoft.com/office/officeart/2005/8/layout/process4"/>
    <dgm:cxn modelId="{57A18436-570E-4B9D-8D53-FBA30CE05AD6}" type="presParOf" srcId="{3C6E199D-B831-4C92-926E-8B72D4ECAB71}" destId="{88CB77BC-BA67-41F5-957B-DE5B6557BFA9}" srcOrd="8" destOrd="0" presId="urn:microsoft.com/office/officeart/2005/8/layout/process4"/>
    <dgm:cxn modelId="{247E99D9-B748-4560-8A71-F0D2353904DA}" type="presParOf" srcId="{88CB77BC-BA67-41F5-957B-DE5B6557BFA9}" destId="{EAF21F3C-8A6B-4DE9-AA57-F4D4AC6D4A85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63BB63D-D37B-4F08-83ED-C565C360034C}" type="doc">
      <dgm:prSet loTypeId="urn:microsoft.com/office/officeart/2005/8/layout/arrow2" loCatId="process" qsTypeId="urn:microsoft.com/office/officeart/2005/8/quickstyle/simple1" qsCatId="simple" csTypeId="urn:microsoft.com/office/officeart/2005/8/colors/accent1_2" csCatId="accent1" phldr="1"/>
      <dgm:spPr/>
    </dgm:pt>
    <dgm:pt modelId="{FA1EFB29-1C26-47E2-9183-9744B1A4E360}">
      <dgm:prSet phldrT="[Текст]"/>
      <dgm:spPr/>
      <dgm:t>
        <a:bodyPr/>
        <a:lstStyle/>
        <a:p>
          <a:r>
            <a:rPr lang="ru-RU" b="1" dirty="0"/>
            <a:t>Стабильная и постоянная движущая сила</a:t>
          </a:r>
        </a:p>
      </dgm:t>
    </dgm:pt>
    <dgm:pt modelId="{E4A9ACCE-59B3-4985-89B9-D8878E97D7FF}" type="parTrans" cxnId="{D224706B-874D-41DC-ADB3-2899D13A45DE}">
      <dgm:prSet/>
      <dgm:spPr/>
      <dgm:t>
        <a:bodyPr/>
        <a:lstStyle/>
        <a:p>
          <a:endParaRPr lang="ru-RU"/>
        </a:p>
      </dgm:t>
    </dgm:pt>
    <dgm:pt modelId="{C5AA5736-7AFA-49F4-9AA4-66E2F0CD0DA9}" type="sibTrans" cxnId="{D224706B-874D-41DC-ADB3-2899D13A45DE}">
      <dgm:prSet/>
      <dgm:spPr/>
      <dgm:t>
        <a:bodyPr/>
        <a:lstStyle/>
        <a:p>
          <a:endParaRPr lang="ru-RU"/>
        </a:p>
      </dgm:t>
    </dgm:pt>
    <dgm:pt modelId="{7F883A41-EFF1-4F64-AE57-E5CD38978531}">
      <dgm:prSet phldrT="[Текст]"/>
      <dgm:spPr/>
      <dgm:t>
        <a:bodyPr/>
        <a:lstStyle/>
        <a:p>
          <a:r>
            <a:rPr lang="ru-RU" b="1" dirty="0"/>
            <a:t>Ум требует постоянной загрузки</a:t>
          </a:r>
        </a:p>
      </dgm:t>
    </dgm:pt>
    <dgm:pt modelId="{EE62E1AA-146D-4113-B06B-E0EAFE08CA4F}" type="parTrans" cxnId="{E377A01C-96B3-4162-89CB-C54C93478B79}">
      <dgm:prSet/>
      <dgm:spPr/>
      <dgm:t>
        <a:bodyPr/>
        <a:lstStyle/>
        <a:p>
          <a:endParaRPr lang="ru-RU"/>
        </a:p>
      </dgm:t>
    </dgm:pt>
    <dgm:pt modelId="{606B6F01-FBF0-46BE-82CD-6A349BDEA7C5}" type="sibTrans" cxnId="{E377A01C-96B3-4162-89CB-C54C93478B79}">
      <dgm:prSet/>
      <dgm:spPr/>
      <dgm:t>
        <a:bodyPr/>
        <a:lstStyle/>
        <a:p>
          <a:endParaRPr lang="ru-RU"/>
        </a:p>
      </dgm:t>
    </dgm:pt>
    <dgm:pt modelId="{11A4F083-9930-4C95-831D-3234E48C1832}">
      <dgm:prSet phldrT="[Текст]"/>
      <dgm:spPr/>
      <dgm:t>
        <a:bodyPr/>
        <a:lstStyle/>
        <a:p>
          <a:r>
            <a:rPr lang="ru-RU" b="1" dirty="0"/>
            <a:t>Обучение должно быть стабильно и постоянно</a:t>
          </a:r>
        </a:p>
      </dgm:t>
    </dgm:pt>
    <dgm:pt modelId="{FC28768A-3ABB-4574-8DC7-0677F75285B3}" type="parTrans" cxnId="{5E286B4C-AE29-4D17-9036-C03ACAE3D039}">
      <dgm:prSet/>
      <dgm:spPr/>
      <dgm:t>
        <a:bodyPr/>
        <a:lstStyle/>
        <a:p>
          <a:endParaRPr lang="ru-RU"/>
        </a:p>
      </dgm:t>
    </dgm:pt>
    <dgm:pt modelId="{E4AD14A6-DD6E-4D5C-81FB-1F9C91C72686}" type="sibTrans" cxnId="{5E286B4C-AE29-4D17-9036-C03ACAE3D039}">
      <dgm:prSet/>
      <dgm:spPr/>
      <dgm:t>
        <a:bodyPr/>
        <a:lstStyle/>
        <a:p>
          <a:endParaRPr lang="ru-RU"/>
        </a:p>
      </dgm:t>
    </dgm:pt>
    <dgm:pt modelId="{A5E04E42-10FC-4466-B8CA-BFD321262F89}" type="pres">
      <dgm:prSet presAssocID="{163BB63D-D37B-4F08-83ED-C565C360034C}" presName="arrowDiagram" presStyleCnt="0">
        <dgm:presLayoutVars>
          <dgm:chMax val="5"/>
          <dgm:dir/>
          <dgm:resizeHandles val="exact"/>
        </dgm:presLayoutVars>
      </dgm:prSet>
      <dgm:spPr/>
    </dgm:pt>
    <dgm:pt modelId="{BF2B0E2A-FB91-432B-829E-F7ECB5761AD1}" type="pres">
      <dgm:prSet presAssocID="{163BB63D-D37B-4F08-83ED-C565C360034C}" presName="arrow" presStyleLbl="bgShp" presStyleIdx="0" presStyleCnt="1"/>
      <dgm:spPr/>
    </dgm:pt>
    <dgm:pt modelId="{882655F0-CD6B-4777-9D5D-DB6897BC799B}" type="pres">
      <dgm:prSet presAssocID="{163BB63D-D37B-4F08-83ED-C565C360034C}" presName="arrowDiagram3" presStyleCnt="0"/>
      <dgm:spPr/>
    </dgm:pt>
    <dgm:pt modelId="{FBEFB0D8-5701-4D7A-8C72-00D66362B1BD}" type="pres">
      <dgm:prSet presAssocID="{FA1EFB29-1C26-47E2-9183-9744B1A4E360}" presName="bullet3a" presStyleLbl="node1" presStyleIdx="0" presStyleCnt="3"/>
      <dgm:spPr/>
    </dgm:pt>
    <dgm:pt modelId="{1F9E7AC4-413E-47CA-8034-DB4A13CF153A}" type="pres">
      <dgm:prSet presAssocID="{FA1EFB29-1C26-47E2-9183-9744B1A4E360}" presName="textBox3a" presStyleLbl="revTx" presStyleIdx="0" presStyleCnt="3" custScaleX="117296" custScaleY="98236" custLinFactNeighborX="17787" custLinFactNeighborY="-1340">
        <dgm:presLayoutVars>
          <dgm:bulletEnabled val="1"/>
        </dgm:presLayoutVars>
      </dgm:prSet>
      <dgm:spPr/>
    </dgm:pt>
    <dgm:pt modelId="{938EAA38-402F-427D-9817-0249CFE1511C}" type="pres">
      <dgm:prSet presAssocID="{7F883A41-EFF1-4F64-AE57-E5CD38978531}" presName="bullet3b" presStyleLbl="node1" presStyleIdx="1" presStyleCnt="3"/>
      <dgm:spPr/>
    </dgm:pt>
    <dgm:pt modelId="{0CA258C0-A8B6-4C67-9CFE-FA280C04EC3B}" type="pres">
      <dgm:prSet presAssocID="{7F883A41-EFF1-4F64-AE57-E5CD38978531}" presName="textBox3b" presStyleLbl="revTx" presStyleIdx="1" presStyleCnt="3" custScaleY="46632" custLinFactNeighborX="9679" custLinFactNeighborY="-27490">
        <dgm:presLayoutVars>
          <dgm:bulletEnabled val="1"/>
        </dgm:presLayoutVars>
      </dgm:prSet>
      <dgm:spPr/>
    </dgm:pt>
    <dgm:pt modelId="{0393ED17-9D7C-4080-A1F4-D2E0ECF306D1}" type="pres">
      <dgm:prSet presAssocID="{11A4F083-9930-4C95-831D-3234E48C1832}" presName="bullet3c" presStyleLbl="node1" presStyleIdx="2" presStyleCnt="3"/>
      <dgm:spPr/>
    </dgm:pt>
    <dgm:pt modelId="{BE213F81-F285-476B-9C88-410C8DDA1949}" type="pres">
      <dgm:prSet presAssocID="{11A4F083-9930-4C95-831D-3234E48C1832}" presName="textBox3c" presStyleLbl="revTx" presStyleIdx="2" presStyleCnt="3" custScaleX="138863" custScaleY="53165" custLinFactNeighborX="37144" custLinFactNeighborY="-32177">
        <dgm:presLayoutVars>
          <dgm:bulletEnabled val="1"/>
        </dgm:presLayoutVars>
      </dgm:prSet>
      <dgm:spPr/>
    </dgm:pt>
  </dgm:ptLst>
  <dgm:cxnLst>
    <dgm:cxn modelId="{E377A01C-96B3-4162-89CB-C54C93478B79}" srcId="{163BB63D-D37B-4F08-83ED-C565C360034C}" destId="{7F883A41-EFF1-4F64-AE57-E5CD38978531}" srcOrd="1" destOrd="0" parTransId="{EE62E1AA-146D-4113-B06B-E0EAFE08CA4F}" sibTransId="{606B6F01-FBF0-46BE-82CD-6A349BDEA7C5}"/>
    <dgm:cxn modelId="{DE44DF43-BCFD-430E-8847-176127F6A56C}" type="presOf" srcId="{FA1EFB29-1C26-47E2-9183-9744B1A4E360}" destId="{1F9E7AC4-413E-47CA-8034-DB4A13CF153A}" srcOrd="0" destOrd="0" presId="urn:microsoft.com/office/officeart/2005/8/layout/arrow2"/>
    <dgm:cxn modelId="{D224706B-874D-41DC-ADB3-2899D13A45DE}" srcId="{163BB63D-D37B-4F08-83ED-C565C360034C}" destId="{FA1EFB29-1C26-47E2-9183-9744B1A4E360}" srcOrd="0" destOrd="0" parTransId="{E4A9ACCE-59B3-4985-89B9-D8878E97D7FF}" sibTransId="{C5AA5736-7AFA-49F4-9AA4-66E2F0CD0DA9}"/>
    <dgm:cxn modelId="{5E286B4C-AE29-4D17-9036-C03ACAE3D039}" srcId="{163BB63D-D37B-4F08-83ED-C565C360034C}" destId="{11A4F083-9930-4C95-831D-3234E48C1832}" srcOrd="2" destOrd="0" parTransId="{FC28768A-3ABB-4574-8DC7-0677F75285B3}" sibTransId="{E4AD14A6-DD6E-4D5C-81FB-1F9C91C72686}"/>
    <dgm:cxn modelId="{018AEEB3-82ED-4CE5-BBDD-A1714E476598}" type="presOf" srcId="{163BB63D-D37B-4F08-83ED-C565C360034C}" destId="{A5E04E42-10FC-4466-B8CA-BFD321262F89}" srcOrd="0" destOrd="0" presId="urn:microsoft.com/office/officeart/2005/8/layout/arrow2"/>
    <dgm:cxn modelId="{2B6169D0-DD39-4150-A7C3-685AD3A6ADA9}" type="presOf" srcId="{11A4F083-9930-4C95-831D-3234E48C1832}" destId="{BE213F81-F285-476B-9C88-410C8DDA1949}" srcOrd="0" destOrd="0" presId="urn:microsoft.com/office/officeart/2005/8/layout/arrow2"/>
    <dgm:cxn modelId="{3E111CEB-67C9-42AE-9D0B-0E9F08FE3CCC}" type="presOf" srcId="{7F883A41-EFF1-4F64-AE57-E5CD38978531}" destId="{0CA258C0-A8B6-4C67-9CFE-FA280C04EC3B}" srcOrd="0" destOrd="0" presId="urn:microsoft.com/office/officeart/2005/8/layout/arrow2"/>
    <dgm:cxn modelId="{87EE9609-BB6E-4E9C-858B-A4E5CD9D19F8}" type="presParOf" srcId="{A5E04E42-10FC-4466-B8CA-BFD321262F89}" destId="{BF2B0E2A-FB91-432B-829E-F7ECB5761AD1}" srcOrd="0" destOrd="0" presId="urn:microsoft.com/office/officeart/2005/8/layout/arrow2"/>
    <dgm:cxn modelId="{80180218-768B-4860-A69E-1AEA4F7414FB}" type="presParOf" srcId="{A5E04E42-10FC-4466-B8CA-BFD321262F89}" destId="{882655F0-CD6B-4777-9D5D-DB6897BC799B}" srcOrd="1" destOrd="0" presId="urn:microsoft.com/office/officeart/2005/8/layout/arrow2"/>
    <dgm:cxn modelId="{03C18F62-512E-478C-BB17-97AB831E25DF}" type="presParOf" srcId="{882655F0-CD6B-4777-9D5D-DB6897BC799B}" destId="{FBEFB0D8-5701-4D7A-8C72-00D66362B1BD}" srcOrd="0" destOrd="0" presId="urn:microsoft.com/office/officeart/2005/8/layout/arrow2"/>
    <dgm:cxn modelId="{2780C5F2-64E1-4293-8F4C-630AE01051A6}" type="presParOf" srcId="{882655F0-CD6B-4777-9D5D-DB6897BC799B}" destId="{1F9E7AC4-413E-47CA-8034-DB4A13CF153A}" srcOrd="1" destOrd="0" presId="urn:microsoft.com/office/officeart/2005/8/layout/arrow2"/>
    <dgm:cxn modelId="{973C7A38-50B7-424B-A9F4-F42D2385A526}" type="presParOf" srcId="{882655F0-CD6B-4777-9D5D-DB6897BC799B}" destId="{938EAA38-402F-427D-9817-0249CFE1511C}" srcOrd="2" destOrd="0" presId="urn:microsoft.com/office/officeart/2005/8/layout/arrow2"/>
    <dgm:cxn modelId="{CEBE2118-221E-41C9-A0B7-F008B8387430}" type="presParOf" srcId="{882655F0-CD6B-4777-9D5D-DB6897BC799B}" destId="{0CA258C0-A8B6-4C67-9CFE-FA280C04EC3B}" srcOrd="3" destOrd="0" presId="urn:microsoft.com/office/officeart/2005/8/layout/arrow2"/>
    <dgm:cxn modelId="{0C7D0C30-44B4-490F-86A6-0AD88B52C62B}" type="presParOf" srcId="{882655F0-CD6B-4777-9D5D-DB6897BC799B}" destId="{0393ED17-9D7C-4080-A1F4-D2E0ECF306D1}" srcOrd="4" destOrd="0" presId="urn:microsoft.com/office/officeart/2005/8/layout/arrow2"/>
    <dgm:cxn modelId="{2625364C-C400-47F0-9DFB-DB32767CD6C7}" type="presParOf" srcId="{882655F0-CD6B-4777-9D5D-DB6897BC799B}" destId="{BE213F81-F285-476B-9C88-410C8DDA1949}" srcOrd="5" destOrd="0" presId="urn:microsoft.com/office/officeart/2005/8/layout/arrow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D79F684-94C5-4376-8DCB-6ED824F0FADE}">
      <dsp:nvSpPr>
        <dsp:cNvPr id="0" name=""/>
        <dsp:cNvSpPr/>
      </dsp:nvSpPr>
      <dsp:spPr>
        <a:xfrm>
          <a:off x="0" y="3769002"/>
          <a:ext cx="8229600" cy="618336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Социально-коммуникативная готовность</a:t>
          </a:r>
          <a:endParaRPr lang="ru-RU" sz="2400" kern="1200" dirty="0"/>
        </a:p>
      </dsp:txBody>
      <dsp:txXfrm>
        <a:off x="0" y="3769002"/>
        <a:ext cx="8229600" cy="618336"/>
      </dsp:txXfrm>
    </dsp:sp>
    <dsp:sp modelId="{F4F15B01-8554-41B8-8041-C009FC95DEB0}">
      <dsp:nvSpPr>
        <dsp:cNvPr id="0" name=""/>
        <dsp:cNvSpPr/>
      </dsp:nvSpPr>
      <dsp:spPr>
        <a:xfrm rot="10800000">
          <a:off x="0" y="2827276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эмоционально-волевая готовность</a:t>
          </a:r>
          <a:endParaRPr lang="ru-RU" sz="2400" kern="1200" dirty="0"/>
        </a:p>
      </dsp:txBody>
      <dsp:txXfrm rot="10800000">
        <a:off x="0" y="2827276"/>
        <a:ext cx="8229600" cy="617932"/>
      </dsp:txXfrm>
    </dsp:sp>
    <dsp:sp modelId="{2D489909-BD2C-4A58-9A6F-EBFDD340F8CF}">
      <dsp:nvSpPr>
        <dsp:cNvPr id="0" name=""/>
        <dsp:cNvSpPr/>
      </dsp:nvSpPr>
      <dsp:spPr>
        <a:xfrm rot="10800000">
          <a:off x="0" y="1885550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мотивационная готовность</a:t>
          </a:r>
          <a:endParaRPr lang="ru-RU" sz="2400" kern="1200" dirty="0"/>
        </a:p>
      </dsp:txBody>
      <dsp:txXfrm rot="10800000">
        <a:off x="0" y="1885550"/>
        <a:ext cx="8229600" cy="617932"/>
      </dsp:txXfrm>
    </dsp:sp>
    <dsp:sp modelId="{28E6C17C-92F1-4124-B116-E36E2D7E05F1}">
      <dsp:nvSpPr>
        <dsp:cNvPr id="0" name=""/>
        <dsp:cNvSpPr/>
      </dsp:nvSpPr>
      <dsp:spPr>
        <a:xfrm rot="10800000">
          <a:off x="0" y="979724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интеллектуальная готовность</a:t>
          </a:r>
          <a:endParaRPr lang="ru-RU" sz="2400" kern="1200" dirty="0"/>
        </a:p>
      </dsp:txBody>
      <dsp:txXfrm rot="10800000">
        <a:off x="0" y="979724"/>
        <a:ext cx="8229600" cy="617932"/>
      </dsp:txXfrm>
    </dsp:sp>
    <dsp:sp modelId="{EAF21F3C-8A6B-4DE9-AA57-F4D4AC6D4A85}">
      <dsp:nvSpPr>
        <dsp:cNvPr id="0" name=""/>
        <dsp:cNvSpPr/>
      </dsp:nvSpPr>
      <dsp:spPr>
        <a:xfrm rot="10800000">
          <a:off x="0" y="109570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физическая готовность</a:t>
          </a:r>
          <a:endParaRPr lang="ru-RU" sz="2400" kern="1200" dirty="0"/>
        </a:p>
      </dsp:txBody>
      <dsp:txXfrm rot="10800000">
        <a:off x="0" y="109570"/>
        <a:ext cx="8229600" cy="61793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F2B0E2A-FB91-432B-829E-F7ECB5761AD1}">
      <dsp:nvSpPr>
        <dsp:cNvPr id="0" name=""/>
        <dsp:cNvSpPr/>
      </dsp:nvSpPr>
      <dsp:spPr>
        <a:xfrm>
          <a:off x="0" y="8947"/>
          <a:ext cx="8658228" cy="5411392"/>
        </a:xfrm>
        <a:prstGeom prst="swooshArrow">
          <a:avLst>
            <a:gd name="adj1" fmla="val 25000"/>
            <a:gd name="adj2" fmla="val 25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BEFB0D8-5701-4D7A-8C72-00D66362B1BD}">
      <dsp:nvSpPr>
        <dsp:cNvPr id="0" name=""/>
        <dsp:cNvSpPr/>
      </dsp:nvSpPr>
      <dsp:spPr>
        <a:xfrm>
          <a:off x="1099594" y="3743890"/>
          <a:ext cx="225113" cy="225113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1F9E7AC4-413E-47CA-8034-DB4A13CF153A}">
      <dsp:nvSpPr>
        <dsp:cNvPr id="0" name=""/>
        <dsp:cNvSpPr/>
      </dsp:nvSpPr>
      <dsp:spPr>
        <a:xfrm>
          <a:off x="1396519" y="3849285"/>
          <a:ext cx="2366290" cy="153630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9283" tIns="0" rIns="0" bIns="0" numCol="1" spcCol="1270" anchor="t" anchorCtr="0">
          <a:noAutofit/>
        </a:bodyPr>
        <a:lstStyle/>
        <a:p>
          <a:pPr marL="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Стабильная и постоянная движущая сила</a:t>
          </a:r>
        </a:p>
      </dsp:txBody>
      <dsp:txXfrm>
        <a:off x="1396519" y="3849285"/>
        <a:ext cx="2366290" cy="1536305"/>
      </dsp:txXfrm>
    </dsp:sp>
    <dsp:sp modelId="{938EAA38-402F-427D-9817-0249CFE1511C}">
      <dsp:nvSpPr>
        <dsp:cNvPr id="0" name=""/>
        <dsp:cNvSpPr/>
      </dsp:nvSpPr>
      <dsp:spPr>
        <a:xfrm>
          <a:off x="3086658" y="2273074"/>
          <a:ext cx="406936" cy="406936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0CA258C0-A8B6-4C67-9CFE-FA280C04EC3B}">
      <dsp:nvSpPr>
        <dsp:cNvPr id="0" name=""/>
        <dsp:cNvSpPr/>
      </dsp:nvSpPr>
      <dsp:spPr>
        <a:xfrm>
          <a:off x="3491253" y="2452815"/>
          <a:ext cx="2077974" cy="1372751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15627" tIns="0" rIns="0" bIns="0" numCol="1" spcCol="1270" anchor="t" anchorCtr="0">
          <a:noAutofit/>
        </a:bodyPr>
        <a:lstStyle/>
        <a:p>
          <a:pPr marL="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Ум требует постоянной загрузки</a:t>
          </a:r>
        </a:p>
      </dsp:txBody>
      <dsp:txXfrm>
        <a:off x="3491253" y="2452815"/>
        <a:ext cx="2077974" cy="1372751"/>
      </dsp:txXfrm>
    </dsp:sp>
    <dsp:sp modelId="{0393ED17-9D7C-4080-A1F4-D2E0ECF306D1}">
      <dsp:nvSpPr>
        <dsp:cNvPr id="0" name=""/>
        <dsp:cNvSpPr/>
      </dsp:nvSpPr>
      <dsp:spPr>
        <a:xfrm>
          <a:off x="5476329" y="1378030"/>
          <a:ext cx="562784" cy="562784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E213F81-F285-476B-9C88-410C8DDA1949}">
      <dsp:nvSpPr>
        <dsp:cNvPr id="0" name=""/>
        <dsp:cNvSpPr/>
      </dsp:nvSpPr>
      <dsp:spPr>
        <a:xfrm>
          <a:off x="5772689" y="1329984"/>
          <a:ext cx="2885538" cy="1999491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98208" tIns="0" rIns="0" bIns="0" numCol="1" spcCol="1270" anchor="t" anchorCtr="0">
          <a:noAutofit/>
        </a:bodyPr>
        <a:lstStyle/>
        <a:p>
          <a:pPr marL="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Обучение должно быть стабильно и постоянно</a:t>
          </a:r>
        </a:p>
      </dsp:txBody>
      <dsp:txXfrm>
        <a:off x="5772689" y="1329984"/>
        <a:ext cx="2885538" cy="1999491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arrow2">
  <dgm:title val=""/>
  <dgm:desc val=""/>
  <dgm:catLst>
    <dgm:cat type="process" pri="2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arrowDiagram">
    <dgm:varLst>
      <dgm:chMax val="5"/>
      <dgm:dir/>
      <dgm:resizeHandles val="exact"/>
    </dgm:varLst>
    <dgm:alg type="composite">
      <dgm:param type="ar" val="1.6"/>
    </dgm:alg>
    <dgm:shape xmlns:r="http://schemas.openxmlformats.org/officeDocument/2006/relationships" r:blip="">
      <dgm:adjLst/>
    </dgm:shape>
    <dgm:presOf/>
    <dgm:constrLst>
      <dgm:constr type="l" for="ch" forName="arrow"/>
      <dgm:constr type="t" for="ch" forName="arrow"/>
      <dgm:constr type="w" for="ch" forName="arrow" refType="w"/>
      <dgm:constr type="h" for="ch" forName="arrow" refType="h"/>
      <dgm:constr type="ctrX" for="ch" forName="arrowDiagram1" refType="w" fact="0.5"/>
      <dgm:constr type="ctrY" for="ch" forName="arrowDiagram1" refType="h" fact="0.5"/>
      <dgm:constr type="w" for="ch" forName="arrowDiagram1" refType="w"/>
      <dgm:constr type="h" for="ch" forName="arrowDiagram1" refType="h"/>
      <dgm:constr type="ctrX" for="ch" forName="arrowDiagram2" refType="w" fact="0.5"/>
      <dgm:constr type="ctrY" for="ch" forName="arrowDiagram2" refType="h" fact="0.5"/>
      <dgm:constr type="w" for="ch" forName="arrowDiagram2" refType="w"/>
      <dgm:constr type="h" for="ch" forName="arrowDiagram2" refType="h"/>
      <dgm:constr type="ctrX" for="ch" forName="arrowDiagram3" refType="w" fact="0.5"/>
      <dgm:constr type="ctrY" for="ch" forName="arrowDiagram3" refType="h" fact="0.5"/>
      <dgm:constr type="w" for="ch" forName="arrowDiagram3" refType="w"/>
      <dgm:constr type="h" for="ch" forName="arrowDiagram3" refType="h"/>
      <dgm:constr type="ctrX" for="ch" forName="arrowDiagram4" refType="w" fact="0.5"/>
      <dgm:constr type="ctrY" for="ch" forName="arrowDiagram4" refType="h" fact="0.5"/>
      <dgm:constr type="w" for="ch" forName="arrowDiagram4" refType="w"/>
      <dgm:constr type="h" for="ch" forName="arrowDiagram4" refType="h"/>
      <dgm:constr type="ctrX" for="ch" forName="arrowDiagram5" refType="w" fact="0.5"/>
      <dgm:constr type="ctrY" for="ch" forName="arrowDiagram5" refType="h" fact="0.5"/>
      <dgm:constr type="w" for="ch" forName="arrowDiagram5" refType="w"/>
      <dgm:constr type="h" for="ch" forName="arrowDiagram5" refType="h"/>
    </dgm:constrLst>
    <dgm:ruleLst/>
    <dgm:choose name="Name0">
      <dgm:if name="Name1" axis="ch" ptType="node" func="cnt" op="gte" val="1">
        <dgm:layoutNode name="arrow" styleLbl="bgShp">
          <dgm:alg type="sp"/>
          <dgm:shape xmlns:r="http://schemas.openxmlformats.org/officeDocument/2006/relationships" type="swooshArrow" r:blip="">
            <dgm:adjLst>
              <dgm:adj idx="2" val="0.25"/>
            </dgm:adjLst>
          </dgm:shape>
          <dgm:presOf/>
          <dgm:constrLst/>
          <dgm:ruleLst/>
        </dgm:layoutNode>
        <dgm:choose name="Name2">
          <dgm:if name="Name3" axis="ch" ptType="node" func="cnt" op="lt" val="1"/>
          <dgm:if name="Name4" axis="ch" ptType="node" func="cnt" op="equ" val="1">
            <dgm:layoutNode name="arrowDiagram1">
              <dgm:varLst>
                <dgm:bulletEnabled val="1"/>
              </dgm:varLst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ctrX" for="ch" forName="bullet1" refType="w" fact="0.8"/>
                <dgm:constr type="ctrY" for="ch" forName="bullet1" refType="h" fact="0.262"/>
                <dgm:constr type="w" for="ch" forName="bullet1" refType="w" fact="0.074"/>
                <dgm:constr type="h" for="ch" forName="bullet1" refType="w" refFor="ch" refForName="bullet1"/>
                <dgm:constr type="r" for="ch" forName="textBox1" refType="ctrX" refFor="ch" refForName="bullet1"/>
                <dgm:constr type="t" for="ch" forName="textBox1" refType="ctrY" refFor="ch" refForName="bullet1"/>
                <dgm:constr type="w" for="ch" forName="textBox1" refType="w" fact="0.4"/>
                <dgm:constr type="h" for="ch" forName="textBox1" refType="h" fact="0.738"/>
                <dgm:constr type="userA" refType="h" refFor="ch" refForName="bullet1" fact="0.53"/>
                <dgm:constr type="rMarg" for="ch" forName="textBox1" refType="userA" fact="2.834"/>
                <dgm:constr type="primFontSz" for="ch" ptType="node" op="equ" val="65"/>
              </dgm:constrLst>
              <dgm:ruleLst/>
              <dgm:forEach name="Name5" axis="ch" ptType="node" cnt="1">
                <dgm:layoutNode name="bullet1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1" styleLbl="revTx">
                  <dgm:varLst>
                    <dgm:bulletEnabled val="1"/>
                  </dgm:varLst>
                  <dgm:alg type="tx">
                    <dgm:param type="txAnchorVert" val="t"/>
                    <dgm:param type="parTxLTRAlign" val="r"/>
                    <dgm:param type="parTxRTLAlign" val="r"/>
                  </dgm:alg>
                  <dgm:shape xmlns:r="http://schemas.openxmlformats.org/officeDocument/2006/relationships" type="round2DiagRect" r:blip="">
                    <dgm:adjLst/>
                  </dgm:shape>
                  <dgm:presOf axis="desOrSelf" ptType="node"/>
                  <dgm:constrLst>
                    <dgm:constr type="lMarg"/>
                    <dgm:constr type="tMarg"/>
                    <dgm:constr type="bMarg"/>
                  </dgm:constrLst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6" axis="ch" ptType="node" func="cnt" op="equ" val="2">
            <dgm:layoutNode name="arrowDiagram2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7">
                <dgm:if name="Name8" func="var" arg="dir" op="equ" val="norm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l" for="ch" forName="textBox2a" refType="ctrX" refFor="ch" refForName="bullet2a"/>
                    <dgm:constr type="t" for="ch" forName="textBox2a" refType="ctrY" refFor="ch" refForName="bullet2a"/>
                    <dgm:constr type="w" for="ch" forName="textBox2a" refType="w" fact="0.325"/>
                    <dgm:constr type="h" for="ch" forName="textBox2a" refType="h" fact="0.427"/>
                    <dgm:constr type="userA" refType="h" refFor="ch" refForName="bullet2a" fact="0.53"/>
                    <dgm:constr type="l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l" for="ch" forName="textBox2b" refType="ctrX" refFor="ch" refForName="bullet2b"/>
                    <dgm:constr type="t" for="ch" forName="textBox2b" refType="ctrY" refFor="ch" refForName="bullet2b"/>
                    <dgm:constr type="w" for="ch" forName="textBox2b" refType="w" fact="0.325"/>
                    <dgm:constr type="h" for="ch" forName="textBox2b" refType="h" fact="0.662"/>
                    <dgm:constr type="userB" refType="h" refFor="ch" refForName="bullet2b" fact="0.53"/>
                    <dgm:constr type="lMarg" for="ch" forName="textBox2b" refType="userB" fact="2.834"/>
                    <dgm:constr type="primFontSz" for="ch" ptType="node" op="equ" val="65"/>
                  </dgm:constrLst>
                </dgm:if>
                <dgm:else name="Name9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r" for="ch" forName="textBox2a" refType="ctrX" refFor="ch" refForName="bullet2a"/>
                    <dgm:constr type="b" for="ch" forName="textBox2a" refType="ctrY" refFor="ch" refForName="bullet2a"/>
                    <dgm:constr type="w" for="ch" forName="textBox2a" refType="w" fact="0.25"/>
                    <dgm:constr type="h" for="ch" forName="textBox2a" refType="h" fact="0.573"/>
                    <dgm:constr type="userA" refType="h" refFor="ch" refForName="bullet2a" fact="0.53"/>
                    <dgm:constr type="r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r" for="ch" forName="textBox2b" refType="ctrX" refFor="ch" refForName="bullet2b"/>
                    <dgm:constr type="b" for="ch" forName="textBox2b" refType="ctrY" refFor="ch" refForName="bullet2b"/>
                    <dgm:constr type="w" for="ch" forName="textBox2b" refType="w" fact="0.28"/>
                    <dgm:constr type="h" for="ch" forName="textBox2b" refType="h" fact="0.338"/>
                    <dgm:constr type="userB" refType="h" refFor="ch" refForName="bullet2b" fact="0.53"/>
                    <dgm:constr type="rMarg" for="ch" forName="textBox2b" refType="userB" fact="2.834"/>
                    <dgm:constr type="primFontSz" for="ch" ptType="node" op="equ" val="65"/>
                  </dgm:constrLst>
                </dgm:else>
              </dgm:choose>
              <dgm:ruleLst/>
              <dgm:forEach name="Name10" axis="ch" ptType="node" cnt="1">
                <dgm:layoutNode name="bullet2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a" styleLbl="revTx">
                  <dgm:varLst>
                    <dgm:bulletEnabled val="1"/>
                  </dgm:varLst>
                  <dgm:choose name="Name11">
                    <dgm:if name="Name12" func="var" arg="dir" op="equ" val="norm">
                      <dgm:choose name="Name13">
                        <dgm:if name="Name1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6">
                      <dgm:choose name="Name17">
                        <dgm:if name="Name1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">
                    <dgm:if name="Name2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23" axis="ch" ptType="node" st="2" cnt="1">
                <dgm:layoutNode name="bullet2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b" styleLbl="revTx">
                  <dgm:varLst>
                    <dgm:bulletEnabled val="1"/>
                  </dgm:varLst>
                  <dgm:choose name="Name24">
                    <dgm:if name="Name25" func="var" arg="dir" op="equ" val="norm">
                      <dgm:choose name="Name26">
                        <dgm:if name="Name2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2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29">
                      <dgm:choose name="Name30">
                        <dgm:if name="Name3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3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33">
                    <dgm:if name="Name3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3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36" axis="ch" ptType="node" func="cnt" op="equ" val="3">
            <dgm:layoutNode name="arrowDiagram3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37">
                <dgm:if name="Name38" func="var" arg="dir" op="equ" val="norm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l" for="ch" forName="textBox3a" refType="ctrX" refFor="ch" refForName="bullet3a"/>
                    <dgm:constr type="t" for="ch" forName="textBox3a" refType="ctrY" refFor="ch" refForName="bullet3a"/>
                    <dgm:constr type="w" for="ch" forName="textBox3a" refType="w" fact="0.233"/>
                    <dgm:constr type="h" for="ch" forName="textBox3a" refType="h" fact="0.289"/>
                    <dgm:constr type="userA" refType="h" refFor="ch" refForName="bullet3a" fact="0.53"/>
                    <dgm:constr type="l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l" for="ch" forName="textBox3b" refType="ctrX" refFor="ch" refForName="bullet3b"/>
                    <dgm:constr type="t" for="ch" forName="textBox3b" refType="ctrY" refFor="ch" refForName="bullet3b"/>
                    <dgm:constr type="w" for="ch" forName="textBox3b" refType="w" fact="0.24"/>
                    <dgm:constr type="h" for="ch" forName="textBox3b" refType="h" fact="0.544"/>
                    <dgm:constr type="userB" refType="h" refFor="ch" refForName="bullet3b" fact="0.53"/>
                    <dgm:constr type="l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l" for="ch" forName="textBox3c" refType="ctrX" refFor="ch" refForName="bullet3c"/>
                    <dgm:constr type="t" for="ch" forName="textBox3c" refType="ctrY" refFor="ch" refForName="bullet3c"/>
                    <dgm:constr type="w" for="ch" forName="textBox3c" refType="w" fact="0.24"/>
                    <dgm:constr type="h" for="ch" forName="textBox3c" refType="h" fact="0.695"/>
                    <dgm:constr type="userC" refType="h" refFor="ch" refForName="bullet3c" fact="0.53"/>
                    <dgm:constr type="lMarg" for="ch" forName="textBox3c" refType="userC" fact="2.834"/>
                    <dgm:constr type="primFontSz" for="ch" ptType="node" op="equ" val="65"/>
                  </dgm:constrLst>
                </dgm:if>
                <dgm:else name="Name39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r" for="ch" forName="textBox3a" refType="ctrX" refFor="ch" refForName="bullet3a"/>
                    <dgm:constr type="b" for="ch" forName="textBox3a" refType="ctrY" refFor="ch" refForName="bullet3a"/>
                    <dgm:constr type="w" for="ch" forName="textBox3a" refType="w" fact="0.14"/>
                    <dgm:constr type="h" for="ch" forName="textBox3a" refType="h" fact="0.711"/>
                    <dgm:constr type="userA" refType="h" refFor="ch" refForName="bullet3a" fact="0.53"/>
                    <dgm:constr type="r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r" for="ch" forName="textBox3b" refType="ctrX" refFor="ch" refForName="bullet3b"/>
                    <dgm:constr type="b" for="ch" forName="textBox3b" refType="ctrY" refFor="ch" refForName="bullet3b"/>
                    <dgm:constr type="w" for="ch" forName="textBox3b" refType="w" fact="0.24"/>
                    <dgm:constr type="h" for="ch" forName="textBox3b" refType="h" fact="0.456"/>
                    <dgm:constr type="userB" refType="h" refFor="ch" refForName="bullet3b" fact="0.53"/>
                    <dgm:constr type="r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r" for="ch" forName="textBox3c" refType="ctrX" refFor="ch" refForName="bullet3c"/>
                    <dgm:constr type="b" for="ch" forName="textBox3c" refType="ctrY" refFor="ch" refForName="bullet3c"/>
                    <dgm:constr type="w" for="ch" forName="textBox3c" refType="w" fact="0.24"/>
                    <dgm:constr type="h" for="ch" forName="textBox3c" refType="h" fact="0.305"/>
                    <dgm:constr type="userC" refType="h" refFor="ch" refForName="bullet3c" fact="0.53"/>
                    <dgm:constr type="rMarg" for="ch" forName="textBox3c" refType="userC" fact="2.834"/>
                    <dgm:constr type="primFontSz" for="ch" ptType="node" op="equ" val="65"/>
                  </dgm:constrLst>
                </dgm:else>
              </dgm:choose>
              <dgm:ruleLst/>
              <dgm:forEach name="Name40" axis="ch" ptType="node" cnt="1">
                <dgm:layoutNode name="bullet3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a" styleLbl="revTx">
                  <dgm:varLst>
                    <dgm:bulletEnabled val="1"/>
                  </dgm:varLst>
                  <dgm:choose name="Name41">
                    <dgm:if name="Name42" func="var" arg="dir" op="equ" val="norm">
                      <dgm:choose name="Name43">
                        <dgm:if name="Name4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4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46">
                      <dgm:choose name="Name47">
                        <dgm:if name="Name4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4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50">
                    <dgm:if name="Name5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5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53" axis="ch" ptType="node" st="2" cnt="1">
                <dgm:layoutNode name="bullet3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b" styleLbl="revTx">
                  <dgm:varLst>
                    <dgm:bulletEnabled val="1"/>
                  </dgm:varLst>
                  <dgm:choose name="Name54">
                    <dgm:if name="Name55" func="var" arg="dir" op="equ" val="norm">
                      <dgm:choose name="Name56">
                        <dgm:if name="Name5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5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59">
                      <dgm:choose name="Name60">
                        <dgm:if name="Name6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6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63">
                    <dgm:if name="Name6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6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66" axis="ch" ptType="node" st="3" cnt="1">
                <dgm:layoutNode name="bullet3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c" styleLbl="revTx">
                  <dgm:varLst>
                    <dgm:bulletEnabled val="1"/>
                  </dgm:varLst>
                  <dgm:choose name="Name67">
                    <dgm:if name="Name68" func="var" arg="dir" op="equ" val="norm">
                      <dgm:choose name="Name69">
                        <dgm:if name="Name7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7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72">
                      <dgm:choose name="Name73">
                        <dgm:if name="Name7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7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76">
                    <dgm:if name="Name7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7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79" axis="ch" ptType="node" func="cnt" op="equ" val="4">
            <dgm:layoutNode name="arrowDiagram4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80">
                <dgm:if name="Name81" func="var" arg="dir" op="equ" val="norm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l" for="ch" forName="textBox4a" refType="ctrX" refFor="ch" refForName="bullet4a"/>
                    <dgm:constr type="t" for="ch" forName="textBox4a" refType="ctrY" refFor="ch" refForName="bullet4a"/>
                    <dgm:constr type="w" for="ch" forName="textBox4a" refType="w" fact="0.171"/>
                    <dgm:constr type="h" for="ch" forName="textBox4a" refType="h" fact="0.238"/>
                    <dgm:constr type="userA" refType="h" refFor="ch" refForName="bullet4a" fact="0.53"/>
                    <dgm:constr type="l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l" for="ch" forName="textBox4b" refType="ctrX" refFor="ch" refForName="bullet4b"/>
                    <dgm:constr type="t" for="ch" forName="textBox4b" refType="ctrY" refFor="ch" refForName="bullet4b"/>
                    <dgm:constr type="w" for="ch" forName="textBox4b" refType="w" fact="0.21"/>
                    <dgm:constr type="h" for="ch" forName="textBox4b" refType="h" fact="0.457"/>
                    <dgm:constr type="userB" refType="h" refFor="ch" refForName="bullet4b" fact="0.53"/>
                    <dgm:constr type="l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l" for="ch" forName="textBox4c" refType="ctrX" refFor="ch" refForName="bullet4c"/>
                    <dgm:constr type="t" for="ch" forName="textBox4c" refType="ctrY" refFor="ch" refForName="bullet4c"/>
                    <dgm:constr type="w" for="ch" forName="textBox4c" refType="w" fact="0.21"/>
                    <dgm:constr type="h" for="ch" forName="textBox4c" refType="h" fact="0.618"/>
                    <dgm:constr type="userC" refType="h" refFor="ch" refForName="bullet4c" fact="0.53"/>
                    <dgm:constr type="l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l" for="ch" forName="textBox4d" refType="ctrX" refFor="ch" refForName="bullet4d"/>
                    <dgm:constr type="t" for="ch" forName="textBox4d" refType="ctrY" refFor="ch" refForName="bullet4d"/>
                    <dgm:constr type="w" for="ch" forName="textBox4d" refType="w" fact="0.21"/>
                    <dgm:constr type="h" for="ch" forName="textBox4d" refType="h" fact="0.717"/>
                    <dgm:constr type="userD" refType="h" refFor="ch" refForName="bullet4d" fact="0.53"/>
                    <dgm:constr type="lMarg" for="ch" forName="textBox4d" refType="userD" fact="2.834"/>
                    <dgm:constr type="primFontSz" for="ch" ptType="node" op="equ" val="65"/>
                  </dgm:constrLst>
                </dgm:if>
                <dgm:else name="Name82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r" for="ch" forName="textBox4a" refType="ctrX" refFor="ch" refForName="bullet4a"/>
                    <dgm:constr type="b" for="ch" forName="textBox4a" refType="ctrY" refFor="ch" refForName="bullet4a"/>
                    <dgm:constr type="w" for="ch" forName="textBox4a" refType="w" fact="0.11"/>
                    <dgm:constr type="h" for="ch" forName="textBox4a" refType="h" fact="0.762"/>
                    <dgm:constr type="userA" refType="h" refFor="ch" refForName="bullet4a" fact="0.53"/>
                    <dgm:constr type="r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r" for="ch" forName="textBox4b" refType="ctrX" refFor="ch" refForName="bullet4b"/>
                    <dgm:constr type="b" for="ch" forName="textBox4b" refType="ctrY" refFor="ch" refForName="bullet4b"/>
                    <dgm:constr type="w" for="ch" forName="textBox4b" refType="w" fact="0.171"/>
                    <dgm:constr type="h" for="ch" forName="textBox4b" refType="h" fact="0.543"/>
                    <dgm:constr type="userB" refType="h" refFor="ch" refForName="bullet4b" fact="0.53"/>
                    <dgm:constr type="r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r" for="ch" forName="textBox4c" refType="ctrX" refFor="ch" refForName="bullet4c"/>
                    <dgm:constr type="b" for="ch" forName="textBox4c" refType="ctrY" refFor="ch" refForName="bullet4c"/>
                    <dgm:constr type="w" for="ch" forName="textBox4c" refType="w" fact="0.21"/>
                    <dgm:constr type="h" for="ch" forName="textBox4c" refType="h" fact="0.382"/>
                    <dgm:constr type="userC" refType="h" refFor="ch" refForName="bullet4c" fact="0.53"/>
                    <dgm:constr type="r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r" for="ch" forName="textBox4d" refType="ctrX" refFor="ch" refForName="bullet4d"/>
                    <dgm:constr type="b" for="ch" forName="textBox4d" refType="ctrY" refFor="ch" refForName="bullet4d"/>
                    <dgm:constr type="w" for="ch" forName="textBox4d" refType="w" fact="0.21"/>
                    <dgm:constr type="h" for="ch" forName="textBox4d" refType="h" fact="0.283"/>
                    <dgm:constr type="userD" refType="h" refFor="ch" refForName="bullet4d" fact="0.53"/>
                    <dgm:constr type="rMarg" for="ch" forName="textBox4d" refType="userD" fact="2.834"/>
                    <dgm:constr type="primFontSz" for="ch" ptType="node" op="equ" val="65"/>
                  </dgm:constrLst>
                </dgm:else>
              </dgm:choose>
              <dgm:ruleLst/>
              <dgm:forEach name="Name83" axis="ch" ptType="node" cnt="1">
                <dgm:layoutNode name="bullet4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a" styleLbl="revTx">
                  <dgm:varLst>
                    <dgm:bulletEnabled val="1"/>
                  </dgm:varLst>
                  <dgm:choose name="Name84">
                    <dgm:if name="Name85" func="var" arg="dir" op="equ" val="norm">
                      <dgm:choose name="Name86">
                        <dgm:if name="Name8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8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89">
                      <dgm:choose name="Name90">
                        <dgm:if name="Name9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9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93">
                    <dgm:if name="Name9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9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96" axis="ch" ptType="node" st="2" cnt="1">
                <dgm:layoutNode name="bullet4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b" styleLbl="revTx">
                  <dgm:varLst>
                    <dgm:bulletEnabled val="1"/>
                  </dgm:varLst>
                  <dgm:choose name="Name97">
                    <dgm:if name="Name98" func="var" arg="dir" op="equ" val="norm">
                      <dgm:choose name="Name99">
                        <dgm:if name="Name10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0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02">
                      <dgm:choose name="Name103">
                        <dgm:if name="Name10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0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06">
                    <dgm:if name="Name10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0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09" axis="ch" ptType="node" st="3" cnt="1">
                <dgm:layoutNode name="bullet4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c" styleLbl="revTx">
                  <dgm:varLst>
                    <dgm:bulletEnabled val="1"/>
                  </dgm:varLst>
                  <dgm:choose name="Name110">
                    <dgm:if name="Name111" func="var" arg="dir" op="equ" val="norm">
                      <dgm:choose name="Name112">
                        <dgm:if name="Name11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1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15">
                      <dgm:choose name="Name116">
                        <dgm:if name="Name11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1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19">
                    <dgm:if name="Name12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2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22" axis="ch" ptType="node" st="4" cnt="1">
                <dgm:layoutNode name="bullet4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d" styleLbl="revTx">
                  <dgm:varLst>
                    <dgm:bulletEnabled val="1"/>
                  </dgm:varLst>
                  <dgm:choose name="Name123">
                    <dgm:if name="Name124" func="var" arg="dir" op="equ" val="norm">
                      <dgm:choose name="Name125">
                        <dgm:if name="Name12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2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28">
                      <dgm:choose name="Name129">
                        <dgm:if name="Name13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3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32">
                    <dgm:if name="Name13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3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else name="Name135">
            <dgm:layoutNode name="arrowDiagram5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136">
                <dgm:if name="Name137" func="var" arg="dir" op="equ" val="norm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l" for="ch" forName="textBox5a" refType="ctrX" refFor="ch" refForName="bullet5a"/>
                    <dgm:constr type="t" for="ch" forName="textBox5a" refType="ctrY" refFor="ch" refForName="bullet5a"/>
                    <dgm:constr type="w" for="ch" forName="textBox5a" refType="w" fact="0.131"/>
                    <dgm:constr type="h" for="ch" forName="textBox5a" refType="h" fact="0.238"/>
                    <dgm:constr type="userA" refType="h" refFor="ch" refForName="bullet5a" fact="0.53"/>
                    <dgm:constr type="l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l" for="ch" forName="textBox5b" refType="ctrX" refFor="ch" refForName="bullet5b"/>
                    <dgm:constr type="t" for="ch" forName="textBox5b" refType="ctrY" refFor="ch" refForName="bullet5b"/>
                    <dgm:constr type="w" for="ch" forName="textBox5b" refType="w" fact="0.166"/>
                    <dgm:constr type="h" for="ch" forName="textBox5b" refType="h" fact="0.419"/>
                    <dgm:constr type="userB" refType="h" refFor="ch" refForName="bullet5b" fact="0.53"/>
                    <dgm:constr type="l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l" for="ch" forName="textBox5c" refType="ctrX" refFor="ch" refForName="bullet5c"/>
                    <dgm:constr type="t" for="ch" forName="textBox5c" refType="ctrY" refFor="ch" refForName="bullet5c"/>
                    <dgm:constr type="w" for="ch" forName="textBox5c" refType="w" fact="0.193"/>
                    <dgm:constr type="h" for="ch" forName="textBox5c" refType="h" fact="0.562"/>
                    <dgm:constr type="userC" refType="h" refFor="ch" refForName="bullet5c" fact="0.53"/>
                    <dgm:constr type="l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l" for="ch" forName="textBox5d" refType="ctrX" refFor="ch" refForName="bullet5d"/>
                    <dgm:constr type="t" for="ch" forName="textBox5d" refType="ctrY" refFor="ch" refForName="bullet5d"/>
                    <dgm:constr type="w" for="ch" forName="textBox5d" refType="w" fact="0.2"/>
                    <dgm:constr type="h" for="ch" forName="textBox5d" refType="h" fact="0.67"/>
                    <dgm:constr type="userD" refType="h" refFor="ch" refForName="bullet5d" fact="0.53"/>
                    <dgm:constr type="l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l" for="ch" forName="textBox5e" refType="ctrX" refFor="ch" refForName="bullet5e"/>
                    <dgm:constr type="t" for="ch" forName="textBox5e" refType="ctrY" refFor="ch" refForName="bullet5e"/>
                    <dgm:constr type="w" for="ch" forName="textBox5e" refType="w" fact="0.2"/>
                    <dgm:constr type="h" for="ch" forName="textBox5e" refType="h" fact="0.736"/>
                    <dgm:constr type="userE" refType="h" refFor="ch" refForName="bullet5e" fact="0.53"/>
                    <dgm:constr type="lMarg" for="ch" forName="textBox5e" refType="userE" fact="2.834"/>
                    <dgm:constr type="primFontSz" for="ch" ptType="node" op="equ" val="65"/>
                  </dgm:constrLst>
                </dgm:if>
                <dgm:else name="Name138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r" for="ch" forName="textBox5a" refType="ctrX" refFor="ch" refForName="bullet5a"/>
                    <dgm:constr type="b" for="ch" forName="textBox5a" refType="ctrY" refFor="ch" refForName="bullet5a"/>
                    <dgm:constr type="w" for="ch" forName="textBox5a" refType="w" fact="0.11"/>
                    <dgm:constr type="h" for="ch" forName="textBox5a" refType="h" fact="0.762"/>
                    <dgm:constr type="userA" refType="h" refFor="ch" refForName="bullet5a" fact="0.53"/>
                    <dgm:constr type="r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r" for="ch" forName="textBox5b" refType="ctrX" refFor="ch" refForName="bullet5b"/>
                    <dgm:constr type="b" for="ch" forName="textBox5b" refType="ctrY" refFor="ch" refForName="bullet5b"/>
                    <dgm:constr type="w" for="ch" forName="textBox5b" refType="w" fact="0.131"/>
                    <dgm:constr type="h" for="ch" forName="textBox5b" refType="h" fact="0.581"/>
                    <dgm:constr type="userB" refType="h" refFor="ch" refForName="bullet5b" fact="0.53"/>
                    <dgm:constr type="r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r" for="ch" forName="textBox5c" refType="ctrX" refFor="ch" refForName="bullet5c"/>
                    <dgm:constr type="b" for="ch" forName="textBox5c" refType="ctrY" refFor="ch" refForName="bullet5c"/>
                    <dgm:constr type="w" for="ch" forName="textBox5c" refType="w" fact="0.166"/>
                    <dgm:constr type="h" for="ch" forName="textBox5c" refType="h" fact="0.438"/>
                    <dgm:constr type="userC" refType="h" refFor="ch" refForName="bullet5c" fact="0.53"/>
                    <dgm:constr type="r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r" for="ch" forName="textBox5d" refType="ctrX" refFor="ch" refForName="bullet5d"/>
                    <dgm:constr type="b" for="ch" forName="textBox5d" refType="ctrY" refFor="ch" refForName="bullet5d"/>
                    <dgm:constr type="w" for="ch" forName="textBox5d" refType="w" fact="0.193"/>
                    <dgm:constr type="h" for="ch" forName="textBox5d" refType="h" fact="0.33"/>
                    <dgm:constr type="userD" refType="h" refFor="ch" refForName="bullet5d" fact="0.53"/>
                    <dgm:constr type="r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r" for="ch" forName="textBox5e" refType="ctrX" refFor="ch" refForName="bullet5e"/>
                    <dgm:constr type="b" for="ch" forName="textBox5e" refType="ctrY" refFor="ch" refForName="bullet5e"/>
                    <dgm:constr type="w" for="ch" forName="textBox5e" refType="w" fact="0.2"/>
                    <dgm:constr type="h" for="ch" forName="textBox5e" refType="h" fact="0.264"/>
                    <dgm:constr type="userE" refType="h" refFor="ch" refForName="bullet5e" fact="0.53"/>
                    <dgm:constr type="rMarg" for="ch" forName="textBox5e" refType="userE" fact="2.834"/>
                    <dgm:constr type="primFontSz" for="ch" ptType="node" op="equ" val="65"/>
                  </dgm:constrLst>
                </dgm:else>
              </dgm:choose>
              <dgm:ruleLst/>
              <dgm:forEach name="Name139" axis="ch" ptType="node" cnt="1">
                <dgm:layoutNode name="bullet5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a" styleLbl="revTx">
                  <dgm:varLst>
                    <dgm:bulletEnabled val="1"/>
                  </dgm:varLst>
                  <dgm:choose name="Name140">
                    <dgm:if name="Name141" func="var" arg="dir" op="equ" val="norm">
                      <dgm:choose name="Name142">
                        <dgm:if name="Name14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4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45">
                      <dgm:choose name="Name146">
                        <dgm:if name="Name14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4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49">
                    <dgm:if name="Name15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5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52" axis="ch" ptType="node" st="2" cnt="1">
                <dgm:layoutNode name="bullet5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b" styleLbl="revTx">
                  <dgm:varLst>
                    <dgm:bulletEnabled val="1"/>
                  </dgm:varLst>
                  <dgm:choose name="Name153">
                    <dgm:if name="Name154" func="var" arg="dir" op="equ" val="norm">
                      <dgm:choose name="Name155">
                        <dgm:if name="Name15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58">
                      <dgm:choose name="Name159">
                        <dgm:if name="Name16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6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62">
                    <dgm:if name="Name16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6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65" axis="ch" ptType="node" st="3" cnt="1">
                <dgm:layoutNode name="bullet5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c" styleLbl="revTx">
                  <dgm:varLst>
                    <dgm:bulletEnabled val="1"/>
                  </dgm:varLst>
                  <dgm:choose name="Name166">
                    <dgm:if name="Name167" func="var" arg="dir" op="equ" val="norm">
                      <dgm:choose name="Name168">
                        <dgm:if name="Name169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70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71">
                      <dgm:choose name="Name172">
                        <dgm:if name="Name173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74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75">
                    <dgm:if name="Name176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77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78" axis="ch" ptType="node" st="4" cnt="1">
                <dgm:layoutNode name="bullet5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d" styleLbl="revTx">
                  <dgm:varLst>
                    <dgm:bulletEnabled val="1"/>
                  </dgm:varLst>
                  <dgm:choose name="Name179">
                    <dgm:if name="Name180" func="var" arg="dir" op="equ" val="norm">
                      <dgm:choose name="Name181">
                        <dgm:if name="Name182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83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84">
                      <dgm:choose name="Name185">
                        <dgm:if name="Name186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87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88">
                    <dgm:if name="Name189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90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91" axis="ch" ptType="node" st="5" cnt="1">
                <dgm:layoutNode name="bullet5e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e" styleLbl="revTx">
                  <dgm:varLst>
                    <dgm:bulletEnabled val="1"/>
                  </dgm:varLst>
                  <dgm:choose name="Name192">
                    <dgm:if name="Name193" func="var" arg="dir" op="equ" val="norm">
                      <dgm:choose name="Name194">
                        <dgm:if name="Name195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96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97">
                      <dgm:choose name="Name198">
                        <dgm:if name="Name199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200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1">
                    <dgm:if name="Name202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03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else>
        </dgm:choose>
      </dgm:if>
      <dgm:else name="Name204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3E5-1B7E-4A72-AB99-65511E9A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31D-884D-49EB-B7A7-85B67A8B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FB9-396A-4CE6-B6F1-FB1FDAA4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CB7-ACDF-451E-9DF3-8AAACBC9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D4B1-22D8-44E9-98FB-7AC3831D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EF1D-AC74-41B2-B2A8-05F89F8A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4AC9-D986-4730-BD51-C8ECBD5E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4F62-EF99-4A55-B0FE-A3CB25A8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BC08-FBC7-4BF0-939C-6BFCDDFF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C21C-2769-4C27-92A1-52D0DE14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38C9-4D32-4511-8F98-21C5D8BB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E0C-9DB4-4397-A731-B8E51C9B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DB1B-0C8F-496C-8601-4A53526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B36E-6E0A-43EA-B5C7-C21AE68F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DC30-9CB3-4436-BE62-593007EE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4CE8-13A3-4829-BE72-30F015B5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9375-5ADD-44B3-8227-577E7528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99E8-2F7E-48E7-A815-2986E17F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E5C5-3FF4-492C-B8B4-713CFCF8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1032-B2F6-4D82-8103-22A079A2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6DA7-5A5E-4B90-8E70-4E2C2C94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FD23-FD8D-4C49-A09D-6C8F77A4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4B4-A57F-48D1-B3E5-7D3E4E84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E49A-654F-4259-B1B0-9038ED93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B522-3F4E-4557-8513-524B820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BFA8-3E90-4529-A0EA-22716BF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F31A-491B-49D3-B679-EE5C0CE3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9A49-3CB3-4160-B361-EEF67A30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15D24-F8EA-4F6C-A2B9-BDCBE818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479D-76D4-460C-8B02-AF866FF3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0805-F00A-4C32-B794-8A08F54B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5096-5DC5-42E1-929E-EB92A316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83379-680F-4E53-82F0-155329FF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205-2074-4ED5-B119-DCA0A8BD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53A9-1252-4EDF-94BD-70D5E9DA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B86A2-DC91-40F4-A0C6-BA2AC901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C4D9-94E2-47DB-890C-25D198BE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75B1-FA07-4F9E-A5B9-2BD065C4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18869-6131-4FB9-86D0-8B46400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37301-6B80-45F4-ACDA-767978F8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EC25-B4EB-449B-8D55-7EA8B96C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22B0E-AADE-48E9-A7D3-67C1F261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BE69-B3A9-4F11-9329-F55C9808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85B-84FC-4F26-8986-E46B8040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11A-EAFC-4BDA-9CC5-797D1BA8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9C3-7050-4E34-8FE3-0C22F2BA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721-BBAB-46AC-97F8-3929E36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C0C-437C-43B1-9BF1-E2105FE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016109-8E0B-4F98-89E5-3355579BCC5C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574178-0E09-43F9-BD52-3BC4E85CCCF4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5EACB2-7EB2-4971-BEEF-BDA960DC0D54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0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1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2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A4CB94-1990-4931-B5AC-04300CCF0081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8072280" cy="3142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br>
              <a:rPr sz="5400"/>
            </a:br>
            <a:r>
              <a:rPr b="1" lang="ru-RU" sz="4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Calibri"/>
              </a:rPr>
              <a:t>Презентация для родителей 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«Готовность к школе, что мы не понимаем?»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5184720" y="4900680"/>
            <a:ext cx="3768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3495c"/>
                </a:solidFill>
                <a:latin typeface="Constantia"/>
              </a:rPr>
              <a:t>Подготовил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3495c"/>
                </a:solidFill>
                <a:latin typeface="Constantia"/>
              </a:rPr>
              <a:t>Головина Альб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6" descr="E:\unnamed.jpg"/>
          <p:cNvPicPr/>
          <p:nvPr/>
        </p:nvPicPr>
        <p:blipFill>
          <a:blip r:embed="rId2"/>
          <a:stretch/>
        </p:blipFill>
        <p:spPr>
          <a:xfrm>
            <a:off x="642960" y="4357800"/>
            <a:ext cx="1999800" cy="1999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2267640" y="957600"/>
            <a:ext cx="54259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3495c"/>
                </a:solidFill>
                <a:latin typeface="Times New Roman"/>
                <a:ea typeface="Calibri"/>
              </a:rPr>
              <a:t>МАОУ Домодедовской СОШ №7 с УИОП</a:t>
            </a:r>
            <a:br>
              <a:rPr sz="2000"/>
            </a:br>
            <a:r>
              <a:rPr b="0" lang="ru-RU" sz="2000" spc="-1" strike="noStrike">
                <a:solidFill>
                  <a:srgbClr val="03495c"/>
                </a:solidFill>
                <a:latin typeface="Times New Roman"/>
                <a:ea typeface="Calibri"/>
              </a:rPr>
              <a:t>д/о «Полянка», группа №6 « Капельки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25768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Для развития интеллекта: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947363639"/>
              </p:ext>
            </p:extLst>
          </p:nvPr>
        </p:nvGraphicFramePr>
        <p:xfrm>
          <a:off x="214200" y="1214280"/>
          <a:ext cx="865800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16" name="Прямоугольник 5"/>
          <p:cNvSpPr/>
          <p:nvPr/>
        </p:nvSpPr>
        <p:spPr>
          <a:xfrm>
            <a:off x="142920" y="1285920"/>
            <a:ext cx="45716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В развитии интеллекта нет  «стоячего» по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4714920" y="4303440"/>
            <a:ext cx="421452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Если мы не движемся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то неизбежно станем двигаться 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Мотивационная готовность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Содержимое 3" descr="b757845c16b920242f5eab6aec4e99afd78f8abc.jpg"/>
          <p:cNvPicPr/>
          <p:nvPr/>
        </p:nvPicPr>
        <p:blipFill>
          <a:blip r:embed="rId1"/>
          <a:srcRect l="4582" t="5423" r="9218" b="7191"/>
          <a:stretch/>
        </p:blipFill>
        <p:spPr>
          <a:xfrm>
            <a:off x="2857320" y="1643040"/>
            <a:ext cx="6079680" cy="47858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142920" y="1500120"/>
            <a:ext cx="2857320" cy="5237640"/>
          </a:xfrm>
          <a:prstGeom prst="rect">
            <a:avLst/>
          </a:prstGeom>
          <a:gradFill rotWithShape="0">
            <a:gsLst>
              <a:gs pos="0">
                <a:srgbClr val="c8de97"/>
              </a:gs>
              <a:gs pos="100000">
                <a:srgbClr val="fcfef7"/>
              </a:gs>
            </a:gsLst>
            <a:path path="circle">
              <a:fillToRect l="50000" t="100000" r="50000" b="0"/>
            </a:path>
          </a:gradFill>
          <a:ln>
            <a:solidFill>
              <a:srgbClr val="7b9035"/>
            </a:solidFill>
            <a:prstDash val="sysDot"/>
            <a:round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chemeClr val="dk1"/>
                </a:solidFill>
                <a:latin typeface="Constantia"/>
              </a:rPr>
              <a:t>Ребёнок должен видеть, что родители спокойно и уверенно смотрят на его предстоящее поступление в школу, дома его понимают, верят в его си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400600" cy="1560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Эмоционально-волевая готовность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Содержимое 3" descr="slide_51.jpg"/>
          <p:cNvPicPr/>
          <p:nvPr/>
        </p:nvPicPr>
        <p:blipFill>
          <a:blip r:embed="rId1"/>
          <a:stretch/>
        </p:blipFill>
        <p:spPr>
          <a:xfrm>
            <a:off x="214200" y="1857240"/>
            <a:ext cx="3235320" cy="47858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4" descr="slide_5.jpg"/>
          <p:cNvPicPr/>
          <p:nvPr/>
        </p:nvPicPr>
        <p:blipFill>
          <a:blip r:embed="rId2"/>
          <a:stretch/>
        </p:blipFill>
        <p:spPr>
          <a:xfrm>
            <a:off x="3357720" y="1714320"/>
            <a:ext cx="5643360" cy="4857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оциально-коммуникативная готовность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Содержимое 3" descr="slide_8.jpg"/>
          <p:cNvPicPr/>
          <p:nvPr/>
        </p:nvPicPr>
        <p:blipFill>
          <a:blip r:embed="rId1"/>
          <a:srcRect l="2173" t="15134" r="0" b="12373"/>
          <a:stretch/>
        </p:blipFill>
        <p:spPr>
          <a:xfrm>
            <a:off x="18000" y="1571760"/>
            <a:ext cx="9125640" cy="507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3568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25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700"/>
            </a:b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5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овладевает основными культурными способами деятельности, проявляет инициативу и самостоятельность в разных видах деятельности – игре, общении, познавательно-исследовательской деятельности, конструировании и др.; способен выбирать себе род занятий, участников по совместной деятельност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обладает установкой положительного отношения к миру, разным видам труда, другим людям и самому себе, обладает чувством собственного достоинства,  активно взаимодействует со сверстниками и взрослыми, участвует в совместных играх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способен договариваться, учитывать интересы и чувства других, сопереживать неудачам и радоваться успехам других; адекватно проявляет свои чувства, в том числе чувство веры в себя, старается разрешать конфликты. Умеет выражать и отстаивать свою позицию по разным вопроса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способен сотрудничать и выполнять как лидерские, так и исполнительские функции в совместной деятельност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понимает, что все люди равны вне зависимости от их социального происхождения, этнической принадлежности, религиозных и других вероисповеданий, их физических и психических особенност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760" y="428760"/>
            <a:ext cx="8286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Планируемые     итоговые    результаты    освоения   детьми    основной  общеобразовательной программы дошкольного образования (к семилетнему возраст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85840" y="785880"/>
            <a:ext cx="8572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эмпатию по отношению к другим людям, готовность прийти на помощь тем, кто в этом нуждается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умение слышать других и стремление быть понятым другими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обладает развитым воображением, которое реализуется в разных видах деятельности, и прежде всего в игре, владеет разными формами и видами игры, различает условную и реальную ситуации, умеет подчиняться разным правилам и социальным нормам. Умеет распознавать различные ситуации и адекватно их оценивать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достаточно хорошо владеет устной речью, может выражать свои мысли и желания, использует речь для выражения своих мыслей, чувств и желаний, построения . речевого  высказывания в ситуации общения, выделять звуки в словах. У ребёнка складываются предпосылки грамотности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 ребёнка развиты крупная и мелкая моторика, он подвижен, вынослив, владеет основными движениями, может контролировать свои движения и управлять ими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способен к волевым усилиям, может следовать социальным нормам поведения и правилам в разных видах деятельности, во взаимоотношениях с взрослыми и сверстниками. Он  может соблюдать правила безопасного поведения и личной гигиены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ответственность за начатое дело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любознательность, задаёт вопросы взрослым и сверстникам, интересуется причинно-следственными связями, пытается самостоятельно придумывать объяснения явлениям природы и поступкам людей. Он склонен наблюдать, экспериментировать,   обладает начальными знаниями о себе, природном и социальном мире, в котором он живёт; знаком с произведениями детской литературы, обладает элементарными представлениями из области живой природы, естествознания, математики, истории и т.п. Ребёнок склонен к принятию собственных решений, опираясь на свои знания и умения в различных видах деятельности.  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00040" y="714240"/>
            <a:ext cx="8229240" cy="58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открыт новому, проявляет стремления к получению знаний, положительную мотивацию к дальнейшему обучению в школе, институте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проявляет уважение к жизни в различных её формах и заботу об окружающей среде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эмоционально отзывается на красоту окружающего мира, произведения народного и профессионального искусства (музыку, танцы, театральную деятельность, изобразительную деятельность и т.д.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проявляет патриотические чувства, ощущает гордость за свою страну, её достижения, имеет представления о её географическом разнообразии, многонациональности, важнейших исторических событиях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имеет первичные представления о себе, семье, традиционных семейных ценностях, включая традиционные гендерные ориентации, проявляет уважение к своему и противоположному полу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соблюдает элементарные общепринятые нормы, имеет первичные ценностные представления о том, «что такое хорошо и что такое плохо», стремится поступать хорошо, проявляет уважение к старшим и заботу о младших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имеет начальные представления о здоровом образе жизни, воспринимает  здоровый образ жизни как ценность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00040" y="642960"/>
            <a:ext cx="822924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им образом, детский сад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не должен обучать детей , наша задача состоит в формировании общей культуры, развитие «качеств, формирование предпосылок учебной деятельности, обеспечивающих социальную успешность»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остальное, задача школ и учителей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Уважаемые родители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торопитесь учить своих детишек чтению, и решению задач. Не лишайте детей детства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1" descr="E:\c50e7dc3b7d5e75667b2757f9d03c684.jpeg"/>
          <p:cNvPicPr/>
          <p:nvPr/>
        </p:nvPicPr>
        <p:blipFill>
          <a:blip r:embed="rId1"/>
          <a:stretch/>
        </p:blipFill>
        <p:spPr>
          <a:xfrm>
            <a:off x="1143000" y="4500720"/>
            <a:ext cx="7071840" cy="214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3141720"/>
            <a:ext cx="7476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214200" y="1214280"/>
            <a:ext cx="87152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Искусство воспитания имеет ту особенность, что почти всем оно кажется делом знакомым и понятным, иным – делом легким, и тем понятнее и легче  кажется оно, чем менее человек с ним знаком, теоретически или практически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                      К.Д.Уш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3" descr="E:\img0.jpg"/>
          <p:cNvPicPr/>
          <p:nvPr/>
        </p:nvPicPr>
        <p:blipFill>
          <a:blip r:embed="rId1"/>
          <a:stretch/>
        </p:blipFill>
        <p:spPr>
          <a:xfrm>
            <a:off x="285840" y="5072040"/>
            <a:ext cx="2356920" cy="158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Каким должен быть современный выпускник ДОУ? 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чень часто между школой, детским садом и родителями встает  этот вопрос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чаще родители требуют от детских садов каких то определенных знаний (чтение, письмо, решение задач). ……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современные </a:t>
            </a: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Федеральные государственные образовательные стандарты (ФГОС)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школьного  образования, акцент со знаний, умений и навыков переносят на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ормирование общей культуры, развитие «качеств, формирование предпосылок учебной деятельности, обеспечивающих социальную успешность»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240" cy="9997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прос родителей «Что должен уметь и знать будущий первоклассник?»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357120" y="1714320"/>
            <a:ext cx="3571560" cy="301572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…</a:t>
            </a: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..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Уметь слышать и слуш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Дисциплина, правильная р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Знать буквы и циф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Можно читать, если получи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4286160" y="4714920"/>
            <a:ext cx="457164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..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думаю готовность к школе это, когда ребенок дол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уметь читать по слогам, уметь писать букв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знать цифры, складыва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285840" y="4857840"/>
            <a:ext cx="3785760" cy="82116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…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усидчивость, внимательность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"/>
          <p:cNvSpPr/>
          <p:nvPr/>
        </p:nvSpPr>
        <p:spPr>
          <a:xfrm>
            <a:off x="4071960" y="1571760"/>
            <a:ext cx="4785840" cy="338148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Готовность к школе: психологическая - чтение - счёт- моторики рук- координация движения- устойчивость к нагрузкам и режиму- способность к усидчивости к восприятию и усвоения материала и еще много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5101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Результаты опроса родителей . В группе 22 ребенка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2" name="Содержимое 4"/>
          <p:cNvGraphicFramePr/>
          <p:nvPr/>
        </p:nvGraphicFramePr>
        <p:xfrm>
          <a:off x="428760" y="1357200"/>
          <a:ext cx="8229240" cy="5324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71320" y="500040"/>
            <a:ext cx="822924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Подготовка ребенка к школе должна заключаться просто в его общем развитии – процессов внимания, памяти, мышления, восприятия, речи, моторик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обходимо заниматься не закладыванием в ребенка различных знаний, а расширением его кругозора и представлений об окружающем мире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500040" y="3585960"/>
            <a:ext cx="8143560" cy="29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Модель выпускника 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Каждый ребенок по-разному разв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Одни дети начинают говорить в 1 – 1,5 года, то другие в 3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Так же с учебой одни развиваются – быстрей, другие – медлен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Поэтому к школьному возрасту, дети приходят с разным багажом опыта – знаниями, умениями, навыками, привыч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К моменту поступления в школу важно иметь способность воспринимать и  усваивать новый материал, т.е. способность ребенка к об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омпоненты школьной готовности детей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96137505"/>
              </p:ext>
            </p:extLst>
          </p:nvPr>
        </p:nvGraphicFramePr>
        <p:xfrm>
          <a:off x="457200" y="1935000"/>
          <a:ext cx="8229240" cy="4389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Физическая готовность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Рисунок 4"/>
          <p:cNvSpPr/>
          <p:nvPr/>
        </p:nvSpPr>
        <p:spPr>
          <a:xfrm>
            <a:off x="214200" y="1071720"/>
            <a:ext cx="5071680" cy="339084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7" descr="slide_10.jpg"/>
          <p:cNvPicPr/>
          <p:nvPr/>
        </p:nvPicPr>
        <p:blipFill>
          <a:blip r:embed="rId2"/>
          <a:srcRect l="49213" t="56241" r="7811" b="13538"/>
          <a:stretch/>
        </p:blipFill>
        <p:spPr>
          <a:xfrm>
            <a:off x="285840" y="4500360"/>
            <a:ext cx="3714480" cy="19584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09" name="Рисунок 8" descr="slide_10.jpg"/>
          <p:cNvPicPr/>
          <p:nvPr/>
        </p:nvPicPr>
        <p:blipFill>
          <a:blip r:embed="rId3"/>
          <a:srcRect l="48433" t="27081" r="8591" b="42703"/>
          <a:stretch/>
        </p:blipFill>
        <p:spPr>
          <a:xfrm>
            <a:off x="5072040" y="1143000"/>
            <a:ext cx="3928680" cy="22143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  <p:sp>
        <p:nvSpPr>
          <p:cNvPr id="210" name="Рисунок 6"/>
          <p:cNvSpPr/>
          <p:nvPr/>
        </p:nvSpPr>
        <p:spPr>
          <a:xfrm>
            <a:off x="4071960" y="3429000"/>
            <a:ext cx="4906440" cy="32738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4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6" descr="vosoitanie-detey-doshkolnogo-vozvrasta-v-semie-2.jpg"/>
          <p:cNvPicPr/>
          <p:nvPr/>
        </p:nvPicPr>
        <p:blipFill>
          <a:blip r:embed="rId1"/>
          <a:stretch/>
        </p:blipFill>
        <p:spPr>
          <a:xfrm>
            <a:off x="4143240" y="3404520"/>
            <a:ext cx="5000400" cy="34531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8" descr="slide_4.jpg"/>
          <p:cNvPicPr/>
          <p:nvPr/>
        </p:nvPicPr>
        <p:blipFill>
          <a:blip r:embed="rId2"/>
          <a:srcRect l="45930" t="22494" r="7186" b="12498"/>
          <a:stretch/>
        </p:blipFill>
        <p:spPr>
          <a:xfrm>
            <a:off x="214200" y="1500120"/>
            <a:ext cx="4214520" cy="500040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нтеллектуальная готовность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Рисунок 7"/>
          <p:cNvSpPr/>
          <p:nvPr/>
        </p:nvSpPr>
        <p:spPr>
          <a:xfrm>
            <a:off x="4214880" y="1357200"/>
            <a:ext cx="3535920" cy="235692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240</TotalTime>
  <Application>LibreOffice/7.4.7.2$Linux_X86_64 LibreOffice_project/40$Build-2</Application>
  <AppVersion>15.0000</AppVersion>
  <Words>1212</Words>
  <Paragraphs>73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6T23:01:46Z</dcterms:created>
  <dc:creator>User</dc:creator>
  <dc:description/>
  <dc:language>en-US</dc:language>
  <cp:lastModifiedBy>Christina Kim</cp:lastModifiedBy>
  <dcterms:modified xsi:type="dcterms:W3CDTF">2023-09-21T15:03:13Z</dcterms:modified>
  <cp:revision>39</cp:revision>
  <dc:subject/>
  <dc:title>Ваш ребёнок – будущий школьник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