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</c:v>
                </c:pt>
                <c:pt idx="1">
                  <c:v>10</c:v>
                </c:pt>
                <c:pt idx="2">
                  <c:v>4</c:v>
                </c:pt>
                <c:pt idx="3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009dd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0bd0d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интелектуальная </c:v>
                </c:pt>
                <c:pt idx="1">
                  <c:v>эмоциональная </c:v>
                </c:pt>
                <c:pt idx="2">
                  <c:v>физическая </c:v>
                </c:pt>
                <c:pt idx="3">
                  <c:v>мотивационная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</c:numCache>
            </c:numRef>
          </c:val>
        </c:ser>
        <c:gapWidth val="150"/>
        <c:shape val="box"/>
        <c:axId val="23974491"/>
        <c:axId val="5400923"/>
        <c:axId val="0"/>
      </c:bar3DChart>
      <c:catAx>
        <c:axId val="239744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5400923"/>
        <c:crosses val="autoZero"/>
        <c:auto val="1"/>
        <c:lblAlgn val="ctr"/>
        <c:lblOffset val="100"/>
        <c:noMultiLvlLbl val="0"/>
      </c:catAx>
      <c:valAx>
        <c:axId val="5400923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23974491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5A4CC9-B102-4DF3-90C0-A8AF6F01DCC0}" type="doc">
      <dgm:prSet loTypeId="urn:microsoft.com/office/officeart/2005/8/layout/process4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98FBBA4-90DD-4AA9-906D-5BB441F1B943}">
      <dgm:prSet phldrT="[Текст]" custT="1"/>
      <dgm:spPr/>
      <dgm:t>
        <a:bodyPr/>
        <a:lstStyle/>
        <a:p>
          <a:r>
            <a:rPr lang="ru-RU" sz="2400" b="1" dirty="0"/>
            <a:t>интеллектуальная готовность</a:t>
          </a:r>
          <a:endParaRPr lang="ru-RU" sz="2400" dirty="0"/>
        </a:p>
      </dgm:t>
    </dgm:pt>
    <dgm:pt modelId="{2B8DA4A6-44C9-432D-8BB5-003D200381F7}" type="parTrans" cxnId="{C6E9C78B-E0EB-4D4F-9300-84BC04326470}">
      <dgm:prSet/>
      <dgm:spPr/>
      <dgm:t>
        <a:bodyPr/>
        <a:lstStyle/>
        <a:p>
          <a:endParaRPr lang="ru-RU"/>
        </a:p>
      </dgm:t>
    </dgm:pt>
    <dgm:pt modelId="{32DBFF67-5E27-41FE-BAC3-0A28BE48F5A5}" type="sibTrans" cxnId="{C6E9C78B-E0EB-4D4F-9300-84BC04326470}">
      <dgm:prSet/>
      <dgm:spPr/>
      <dgm:t>
        <a:bodyPr/>
        <a:lstStyle/>
        <a:p>
          <a:endParaRPr lang="ru-RU"/>
        </a:p>
      </dgm:t>
    </dgm:pt>
    <dgm:pt modelId="{AC76F07B-5F2D-41F5-B797-D7CCC9E517E3}">
      <dgm:prSet phldrT="[Текст]" custT="1"/>
      <dgm:spPr/>
      <dgm:t>
        <a:bodyPr/>
        <a:lstStyle/>
        <a:p>
          <a:r>
            <a:rPr lang="ru-RU" sz="2400" b="1" dirty="0"/>
            <a:t>эмоционально-волевая готовность</a:t>
          </a:r>
          <a:endParaRPr lang="ru-RU" sz="2400" dirty="0"/>
        </a:p>
      </dgm:t>
    </dgm:pt>
    <dgm:pt modelId="{06990E12-D8CE-4E8C-8EBB-5F22D0116365}" type="parTrans" cxnId="{4DFF19F0-5F56-4302-A9BE-0A6137E04443}">
      <dgm:prSet/>
      <dgm:spPr/>
      <dgm:t>
        <a:bodyPr/>
        <a:lstStyle/>
        <a:p>
          <a:endParaRPr lang="ru-RU"/>
        </a:p>
      </dgm:t>
    </dgm:pt>
    <dgm:pt modelId="{1F255FE8-DC4E-49C4-9B96-EA6BE69BECC0}" type="sibTrans" cxnId="{4DFF19F0-5F56-4302-A9BE-0A6137E04443}">
      <dgm:prSet/>
      <dgm:spPr/>
      <dgm:t>
        <a:bodyPr/>
        <a:lstStyle/>
        <a:p>
          <a:endParaRPr lang="ru-RU"/>
        </a:p>
      </dgm:t>
    </dgm:pt>
    <dgm:pt modelId="{55F9C12F-FF39-4995-BD55-3DC66AC255EC}">
      <dgm:prSet phldrT="[Текст]" custT="1"/>
      <dgm:spPr/>
      <dgm:t>
        <a:bodyPr/>
        <a:lstStyle/>
        <a:p>
          <a:r>
            <a:rPr lang="ru-RU" sz="2400" b="1" dirty="0"/>
            <a:t>Социально-коммуникативная готовность</a:t>
          </a:r>
          <a:endParaRPr lang="ru-RU" sz="2400" dirty="0"/>
        </a:p>
      </dgm:t>
    </dgm:pt>
    <dgm:pt modelId="{90B72A5E-B24E-4E10-B1FD-A876A661BBF9}" type="parTrans" cxnId="{B05CB6E0-C7B2-4166-A4A0-0AC2C58F4F29}">
      <dgm:prSet/>
      <dgm:spPr/>
      <dgm:t>
        <a:bodyPr/>
        <a:lstStyle/>
        <a:p>
          <a:endParaRPr lang="ru-RU"/>
        </a:p>
      </dgm:t>
    </dgm:pt>
    <dgm:pt modelId="{7E655BDB-1736-40EF-9F9B-0C4B060F40C8}" type="sibTrans" cxnId="{B05CB6E0-C7B2-4166-A4A0-0AC2C58F4F29}">
      <dgm:prSet/>
      <dgm:spPr/>
      <dgm:t>
        <a:bodyPr/>
        <a:lstStyle/>
        <a:p>
          <a:endParaRPr lang="ru-RU"/>
        </a:p>
      </dgm:t>
    </dgm:pt>
    <dgm:pt modelId="{36761CFF-29A4-4FA0-94CF-62895DD63653}">
      <dgm:prSet phldrT="[Текст]" custT="1"/>
      <dgm:spPr/>
      <dgm:t>
        <a:bodyPr/>
        <a:lstStyle/>
        <a:p>
          <a:r>
            <a:rPr lang="ru-RU" sz="2400" b="1" dirty="0"/>
            <a:t>физическая готовность</a:t>
          </a:r>
          <a:endParaRPr lang="ru-RU" sz="2400" dirty="0"/>
        </a:p>
      </dgm:t>
    </dgm:pt>
    <dgm:pt modelId="{9FC8FDFD-4EB6-4D8F-B709-98E94CE61D86}" type="parTrans" cxnId="{FAC8931B-60BE-432E-A4EE-A270EA06C683}">
      <dgm:prSet/>
      <dgm:spPr/>
      <dgm:t>
        <a:bodyPr/>
        <a:lstStyle/>
        <a:p>
          <a:endParaRPr lang="ru-RU"/>
        </a:p>
      </dgm:t>
    </dgm:pt>
    <dgm:pt modelId="{ADB75692-D88F-4B65-A147-5BC94B26799B}" type="sibTrans" cxnId="{FAC8931B-60BE-432E-A4EE-A270EA06C683}">
      <dgm:prSet/>
      <dgm:spPr/>
      <dgm:t>
        <a:bodyPr/>
        <a:lstStyle/>
        <a:p>
          <a:endParaRPr lang="ru-RU"/>
        </a:p>
      </dgm:t>
    </dgm:pt>
    <dgm:pt modelId="{5F886B39-9C4E-4173-82E0-AB603D07CC86}">
      <dgm:prSet phldrT="[Текст]" custT="1"/>
      <dgm:spPr/>
      <dgm:t>
        <a:bodyPr/>
        <a:lstStyle/>
        <a:p>
          <a:r>
            <a:rPr lang="ru-RU" sz="2400" b="1" dirty="0"/>
            <a:t>мотивационная готовность</a:t>
          </a:r>
          <a:endParaRPr lang="ru-RU" sz="2400" dirty="0"/>
        </a:p>
      </dgm:t>
    </dgm:pt>
    <dgm:pt modelId="{3365AF73-859D-4434-A13A-3040F7FF9CC8}" type="sibTrans" cxnId="{769C0124-D293-4A23-93FB-2A31048B7385}">
      <dgm:prSet/>
      <dgm:spPr/>
      <dgm:t>
        <a:bodyPr/>
        <a:lstStyle/>
        <a:p>
          <a:endParaRPr lang="ru-RU"/>
        </a:p>
      </dgm:t>
    </dgm:pt>
    <dgm:pt modelId="{6287E7BE-B32E-403F-9736-0CC725B0AA97}" type="parTrans" cxnId="{769C0124-D293-4A23-93FB-2A31048B7385}">
      <dgm:prSet/>
      <dgm:spPr/>
      <dgm:t>
        <a:bodyPr/>
        <a:lstStyle/>
        <a:p>
          <a:endParaRPr lang="ru-RU"/>
        </a:p>
      </dgm:t>
    </dgm:pt>
    <dgm:pt modelId="{3C6E199D-B831-4C92-926E-8B72D4ECAB71}" type="pres">
      <dgm:prSet presAssocID="{B55A4CC9-B102-4DF3-90C0-A8AF6F01DCC0}" presName="Name0" presStyleCnt="0">
        <dgm:presLayoutVars>
          <dgm:dir/>
          <dgm:animLvl val="lvl"/>
          <dgm:resizeHandles val="exact"/>
        </dgm:presLayoutVars>
      </dgm:prSet>
      <dgm:spPr/>
    </dgm:pt>
    <dgm:pt modelId="{E28C802B-D90F-4066-B3AE-5668C7EEC4B7}" type="pres">
      <dgm:prSet presAssocID="{55F9C12F-FF39-4995-BD55-3DC66AC255EC}" presName="boxAndChildren" presStyleCnt="0"/>
      <dgm:spPr/>
    </dgm:pt>
    <dgm:pt modelId="{6D79F684-94C5-4376-8DCB-6ED824F0FADE}" type="pres">
      <dgm:prSet presAssocID="{55F9C12F-FF39-4995-BD55-3DC66AC255EC}" presName="parentTextBox" presStyleLbl="node1" presStyleIdx="0" presStyleCnt="5"/>
      <dgm:spPr/>
    </dgm:pt>
    <dgm:pt modelId="{7DCCE2DC-2FDE-4A1B-9739-39BF8E4D3F43}" type="pres">
      <dgm:prSet presAssocID="{1F255FE8-DC4E-49C4-9B96-EA6BE69BECC0}" presName="sp" presStyleCnt="0"/>
      <dgm:spPr/>
    </dgm:pt>
    <dgm:pt modelId="{60673265-D3E5-4447-AAD1-A91E32CDC14C}" type="pres">
      <dgm:prSet presAssocID="{AC76F07B-5F2D-41F5-B797-D7CCC9E517E3}" presName="arrowAndChildren" presStyleCnt="0"/>
      <dgm:spPr/>
    </dgm:pt>
    <dgm:pt modelId="{F4F15B01-8554-41B8-8041-C009FC95DEB0}" type="pres">
      <dgm:prSet presAssocID="{AC76F07B-5F2D-41F5-B797-D7CCC9E517E3}" presName="parentTextArrow" presStyleLbl="node1" presStyleIdx="1" presStyleCnt="5"/>
      <dgm:spPr/>
    </dgm:pt>
    <dgm:pt modelId="{5EB4C331-BD97-478F-9FA0-D3B64183E8FC}" type="pres">
      <dgm:prSet presAssocID="{3365AF73-859D-4434-A13A-3040F7FF9CC8}" presName="sp" presStyleCnt="0"/>
      <dgm:spPr/>
    </dgm:pt>
    <dgm:pt modelId="{E1FA7128-1F8C-432C-9E7B-6CA29DFEC6D7}" type="pres">
      <dgm:prSet presAssocID="{5F886B39-9C4E-4173-82E0-AB603D07CC86}" presName="arrowAndChildren" presStyleCnt="0"/>
      <dgm:spPr/>
    </dgm:pt>
    <dgm:pt modelId="{2D489909-BD2C-4A58-9A6F-EBFDD340F8CF}" type="pres">
      <dgm:prSet presAssocID="{5F886B39-9C4E-4173-82E0-AB603D07CC86}" presName="parentTextArrow" presStyleLbl="node1" presStyleIdx="2" presStyleCnt="5"/>
      <dgm:spPr/>
    </dgm:pt>
    <dgm:pt modelId="{53EC491B-D1CB-44F1-9C44-526C54A3E294}" type="pres">
      <dgm:prSet presAssocID="{32DBFF67-5E27-41FE-BAC3-0A28BE48F5A5}" presName="sp" presStyleCnt="0"/>
      <dgm:spPr/>
    </dgm:pt>
    <dgm:pt modelId="{23F84919-E5EA-4A5E-B959-6B7F6AB11A47}" type="pres">
      <dgm:prSet presAssocID="{798FBBA4-90DD-4AA9-906D-5BB441F1B943}" presName="arrowAndChildren" presStyleCnt="0"/>
      <dgm:spPr/>
    </dgm:pt>
    <dgm:pt modelId="{28E6C17C-92F1-4124-B116-E36E2D7E05F1}" type="pres">
      <dgm:prSet presAssocID="{798FBBA4-90DD-4AA9-906D-5BB441F1B943}" presName="parentTextArrow" presStyleLbl="node1" presStyleIdx="3" presStyleCnt="5" custLinFactNeighborX="-348" custLinFactNeighborY="3775"/>
      <dgm:spPr/>
    </dgm:pt>
    <dgm:pt modelId="{E0162565-40C2-4DB7-89A4-F1C055177023}" type="pres">
      <dgm:prSet presAssocID="{ADB75692-D88F-4B65-A147-5BC94B26799B}" presName="sp" presStyleCnt="0"/>
      <dgm:spPr/>
    </dgm:pt>
    <dgm:pt modelId="{88CB77BC-BA67-41F5-957B-DE5B6557BFA9}" type="pres">
      <dgm:prSet presAssocID="{36761CFF-29A4-4FA0-94CF-62895DD63653}" presName="arrowAndChildren" presStyleCnt="0"/>
      <dgm:spPr/>
    </dgm:pt>
    <dgm:pt modelId="{EAF21F3C-8A6B-4DE9-AA57-F4D4AC6D4A85}" type="pres">
      <dgm:prSet presAssocID="{36761CFF-29A4-4FA0-94CF-62895DD63653}" presName="parentTextArrow" presStyleLbl="node1" presStyleIdx="4" presStyleCnt="5" custLinFactNeighborX="-348" custLinFactNeighborY="11301"/>
      <dgm:spPr/>
    </dgm:pt>
  </dgm:ptLst>
  <dgm:cxnLst>
    <dgm:cxn modelId="{D4D16A03-F991-4E18-AB5E-A274CF916810}" type="presOf" srcId="{55F9C12F-FF39-4995-BD55-3DC66AC255EC}" destId="{6D79F684-94C5-4376-8DCB-6ED824F0FADE}" srcOrd="0" destOrd="0" presId="urn:microsoft.com/office/officeart/2005/8/layout/process4"/>
    <dgm:cxn modelId="{2A50770A-8EE5-41E9-983A-3B4F6993C362}" type="presOf" srcId="{B55A4CC9-B102-4DF3-90C0-A8AF6F01DCC0}" destId="{3C6E199D-B831-4C92-926E-8B72D4ECAB71}" srcOrd="0" destOrd="0" presId="urn:microsoft.com/office/officeart/2005/8/layout/process4"/>
    <dgm:cxn modelId="{752D8315-D394-4907-80D3-B18A43877A44}" type="presOf" srcId="{5F886B39-9C4E-4173-82E0-AB603D07CC86}" destId="{2D489909-BD2C-4A58-9A6F-EBFDD340F8CF}" srcOrd="0" destOrd="0" presId="urn:microsoft.com/office/officeart/2005/8/layout/process4"/>
    <dgm:cxn modelId="{FAC8931B-60BE-432E-A4EE-A270EA06C683}" srcId="{B55A4CC9-B102-4DF3-90C0-A8AF6F01DCC0}" destId="{36761CFF-29A4-4FA0-94CF-62895DD63653}" srcOrd="0" destOrd="0" parTransId="{9FC8FDFD-4EB6-4D8F-B709-98E94CE61D86}" sibTransId="{ADB75692-D88F-4B65-A147-5BC94B26799B}"/>
    <dgm:cxn modelId="{769C0124-D293-4A23-93FB-2A31048B7385}" srcId="{B55A4CC9-B102-4DF3-90C0-A8AF6F01DCC0}" destId="{5F886B39-9C4E-4173-82E0-AB603D07CC86}" srcOrd="2" destOrd="0" parTransId="{6287E7BE-B32E-403F-9736-0CC725B0AA97}" sibTransId="{3365AF73-859D-4434-A13A-3040F7FF9CC8}"/>
    <dgm:cxn modelId="{26D8054B-ECDE-42C9-A393-545D5594233E}" type="presOf" srcId="{798FBBA4-90DD-4AA9-906D-5BB441F1B943}" destId="{28E6C17C-92F1-4124-B116-E36E2D7E05F1}" srcOrd="0" destOrd="0" presId="urn:microsoft.com/office/officeart/2005/8/layout/process4"/>
    <dgm:cxn modelId="{C6E9C78B-E0EB-4D4F-9300-84BC04326470}" srcId="{B55A4CC9-B102-4DF3-90C0-A8AF6F01DCC0}" destId="{798FBBA4-90DD-4AA9-906D-5BB441F1B943}" srcOrd="1" destOrd="0" parTransId="{2B8DA4A6-44C9-432D-8BB5-003D200381F7}" sibTransId="{32DBFF67-5E27-41FE-BAC3-0A28BE48F5A5}"/>
    <dgm:cxn modelId="{0EEC86B3-8FCD-47CE-B2B5-656030FDCB1E}" type="presOf" srcId="{AC76F07B-5F2D-41F5-B797-D7CCC9E517E3}" destId="{F4F15B01-8554-41B8-8041-C009FC95DEB0}" srcOrd="0" destOrd="0" presId="urn:microsoft.com/office/officeart/2005/8/layout/process4"/>
    <dgm:cxn modelId="{194512BB-E25C-49E9-92A4-75CE31294698}" type="presOf" srcId="{36761CFF-29A4-4FA0-94CF-62895DD63653}" destId="{EAF21F3C-8A6B-4DE9-AA57-F4D4AC6D4A85}" srcOrd="0" destOrd="0" presId="urn:microsoft.com/office/officeart/2005/8/layout/process4"/>
    <dgm:cxn modelId="{B05CB6E0-C7B2-4166-A4A0-0AC2C58F4F29}" srcId="{B55A4CC9-B102-4DF3-90C0-A8AF6F01DCC0}" destId="{55F9C12F-FF39-4995-BD55-3DC66AC255EC}" srcOrd="4" destOrd="0" parTransId="{90B72A5E-B24E-4E10-B1FD-A876A661BBF9}" sibTransId="{7E655BDB-1736-40EF-9F9B-0C4B060F40C8}"/>
    <dgm:cxn modelId="{4DFF19F0-5F56-4302-A9BE-0A6137E04443}" srcId="{B55A4CC9-B102-4DF3-90C0-A8AF6F01DCC0}" destId="{AC76F07B-5F2D-41F5-B797-D7CCC9E517E3}" srcOrd="3" destOrd="0" parTransId="{06990E12-D8CE-4E8C-8EBB-5F22D0116365}" sibTransId="{1F255FE8-DC4E-49C4-9B96-EA6BE69BECC0}"/>
    <dgm:cxn modelId="{0A5EFFEE-DA8D-4D76-A280-35854564F538}" type="presParOf" srcId="{3C6E199D-B831-4C92-926E-8B72D4ECAB71}" destId="{E28C802B-D90F-4066-B3AE-5668C7EEC4B7}" srcOrd="0" destOrd="0" presId="urn:microsoft.com/office/officeart/2005/8/layout/process4"/>
    <dgm:cxn modelId="{84C09825-62AB-456A-BA97-A299CF4A7B69}" type="presParOf" srcId="{E28C802B-D90F-4066-B3AE-5668C7EEC4B7}" destId="{6D79F684-94C5-4376-8DCB-6ED824F0FADE}" srcOrd="0" destOrd="0" presId="urn:microsoft.com/office/officeart/2005/8/layout/process4"/>
    <dgm:cxn modelId="{2EF2F4B0-CF62-49F9-BD53-8523645EEE82}" type="presParOf" srcId="{3C6E199D-B831-4C92-926E-8B72D4ECAB71}" destId="{7DCCE2DC-2FDE-4A1B-9739-39BF8E4D3F43}" srcOrd="1" destOrd="0" presId="urn:microsoft.com/office/officeart/2005/8/layout/process4"/>
    <dgm:cxn modelId="{F9DE225B-EB9D-40C3-8636-3C94E3A348ED}" type="presParOf" srcId="{3C6E199D-B831-4C92-926E-8B72D4ECAB71}" destId="{60673265-D3E5-4447-AAD1-A91E32CDC14C}" srcOrd="2" destOrd="0" presId="urn:microsoft.com/office/officeart/2005/8/layout/process4"/>
    <dgm:cxn modelId="{C3E145D5-8AFA-4030-B332-2F677FA07E72}" type="presParOf" srcId="{60673265-D3E5-4447-AAD1-A91E32CDC14C}" destId="{F4F15B01-8554-41B8-8041-C009FC95DEB0}" srcOrd="0" destOrd="0" presId="urn:microsoft.com/office/officeart/2005/8/layout/process4"/>
    <dgm:cxn modelId="{8B92FC17-F1E5-4514-B467-18057EC5C3CC}" type="presParOf" srcId="{3C6E199D-B831-4C92-926E-8B72D4ECAB71}" destId="{5EB4C331-BD97-478F-9FA0-D3B64183E8FC}" srcOrd="3" destOrd="0" presId="urn:microsoft.com/office/officeart/2005/8/layout/process4"/>
    <dgm:cxn modelId="{2C7AB714-0473-479A-9F81-DD138E7A6101}" type="presParOf" srcId="{3C6E199D-B831-4C92-926E-8B72D4ECAB71}" destId="{E1FA7128-1F8C-432C-9E7B-6CA29DFEC6D7}" srcOrd="4" destOrd="0" presId="urn:microsoft.com/office/officeart/2005/8/layout/process4"/>
    <dgm:cxn modelId="{F614829D-62ED-45FC-98DA-109BB26875D9}" type="presParOf" srcId="{E1FA7128-1F8C-432C-9E7B-6CA29DFEC6D7}" destId="{2D489909-BD2C-4A58-9A6F-EBFDD340F8CF}" srcOrd="0" destOrd="0" presId="urn:microsoft.com/office/officeart/2005/8/layout/process4"/>
    <dgm:cxn modelId="{95359C16-8933-4126-B4E5-561238E59EF6}" type="presParOf" srcId="{3C6E199D-B831-4C92-926E-8B72D4ECAB71}" destId="{53EC491B-D1CB-44F1-9C44-526C54A3E294}" srcOrd="5" destOrd="0" presId="urn:microsoft.com/office/officeart/2005/8/layout/process4"/>
    <dgm:cxn modelId="{C3B90C4B-CF9A-4D07-95C1-206DDB9EE169}" type="presParOf" srcId="{3C6E199D-B831-4C92-926E-8B72D4ECAB71}" destId="{23F84919-E5EA-4A5E-B959-6B7F6AB11A47}" srcOrd="6" destOrd="0" presId="urn:microsoft.com/office/officeart/2005/8/layout/process4"/>
    <dgm:cxn modelId="{08ED27CD-C57B-471B-93AF-FB16E8836117}" type="presParOf" srcId="{23F84919-E5EA-4A5E-B959-6B7F6AB11A47}" destId="{28E6C17C-92F1-4124-B116-E36E2D7E05F1}" srcOrd="0" destOrd="0" presId="urn:microsoft.com/office/officeart/2005/8/layout/process4"/>
    <dgm:cxn modelId="{32410B2E-26F8-4B47-9AC3-D1DD046D95BE}" type="presParOf" srcId="{3C6E199D-B831-4C92-926E-8B72D4ECAB71}" destId="{E0162565-40C2-4DB7-89A4-F1C055177023}" srcOrd="7" destOrd="0" presId="urn:microsoft.com/office/officeart/2005/8/layout/process4"/>
    <dgm:cxn modelId="{57A18436-570E-4B9D-8D53-FBA30CE05AD6}" type="presParOf" srcId="{3C6E199D-B831-4C92-926E-8B72D4ECAB71}" destId="{88CB77BC-BA67-41F5-957B-DE5B6557BFA9}" srcOrd="8" destOrd="0" presId="urn:microsoft.com/office/officeart/2005/8/layout/process4"/>
    <dgm:cxn modelId="{247E99D9-B748-4560-8A71-F0D2353904DA}" type="presParOf" srcId="{88CB77BC-BA67-41F5-957B-DE5B6557BFA9}" destId="{EAF21F3C-8A6B-4DE9-AA57-F4D4AC6D4A85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63BB63D-D37B-4F08-83ED-C565C360034C}" type="doc">
      <dgm:prSet loTypeId="urn:microsoft.com/office/officeart/2005/8/layout/arrow2" loCatId="process" qsTypeId="urn:microsoft.com/office/officeart/2005/8/quickstyle/simple1" qsCatId="simple" csTypeId="urn:microsoft.com/office/officeart/2005/8/colors/accent1_2" csCatId="accent1" phldr="1"/>
      <dgm:spPr/>
    </dgm:pt>
    <dgm:pt modelId="{FA1EFB29-1C26-47E2-9183-9744B1A4E360}">
      <dgm:prSet phldrT="[Текст]"/>
      <dgm:spPr/>
      <dgm:t>
        <a:bodyPr/>
        <a:lstStyle/>
        <a:p>
          <a:r>
            <a:rPr lang="ru-RU" b="1" dirty="0"/>
            <a:t>Стабильная и постоянная движущая сила</a:t>
          </a:r>
        </a:p>
      </dgm:t>
    </dgm:pt>
    <dgm:pt modelId="{E4A9ACCE-59B3-4985-89B9-D8878E97D7FF}" type="parTrans" cxnId="{D224706B-874D-41DC-ADB3-2899D13A45DE}">
      <dgm:prSet/>
      <dgm:spPr/>
      <dgm:t>
        <a:bodyPr/>
        <a:lstStyle/>
        <a:p>
          <a:endParaRPr lang="ru-RU"/>
        </a:p>
      </dgm:t>
    </dgm:pt>
    <dgm:pt modelId="{C5AA5736-7AFA-49F4-9AA4-66E2F0CD0DA9}" type="sibTrans" cxnId="{D224706B-874D-41DC-ADB3-2899D13A45DE}">
      <dgm:prSet/>
      <dgm:spPr/>
      <dgm:t>
        <a:bodyPr/>
        <a:lstStyle/>
        <a:p>
          <a:endParaRPr lang="ru-RU"/>
        </a:p>
      </dgm:t>
    </dgm:pt>
    <dgm:pt modelId="{7F883A41-EFF1-4F64-AE57-E5CD38978531}">
      <dgm:prSet phldrT="[Текст]"/>
      <dgm:spPr/>
      <dgm:t>
        <a:bodyPr/>
        <a:lstStyle/>
        <a:p>
          <a:r>
            <a:rPr lang="ru-RU" b="1" dirty="0"/>
            <a:t>Ум требует постоянной загрузки</a:t>
          </a:r>
        </a:p>
      </dgm:t>
    </dgm:pt>
    <dgm:pt modelId="{EE62E1AA-146D-4113-B06B-E0EAFE08CA4F}" type="parTrans" cxnId="{E377A01C-96B3-4162-89CB-C54C93478B79}">
      <dgm:prSet/>
      <dgm:spPr/>
      <dgm:t>
        <a:bodyPr/>
        <a:lstStyle/>
        <a:p>
          <a:endParaRPr lang="ru-RU"/>
        </a:p>
      </dgm:t>
    </dgm:pt>
    <dgm:pt modelId="{606B6F01-FBF0-46BE-82CD-6A349BDEA7C5}" type="sibTrans" cxnId="{E377A01C-96B3-4162-89CB-C54C93478B79}">
      <dgm:prSet/>
      <dgm:spPr/>
      <dgm:t>
        <a:bodyPr/>
        <a:lstStyle/>
        <a:p>
          <a:endParaRPr lang="ru-RU"/>
        </a:p>
      </dgm:t>
    </dgm:pt>
    <dgm:pt modelId="{11A4F083-9930-4C95-831D-3234E48C1832}">
      <dgm:prSet phldrT="[Текст]"/>
      <dgm:spPr/>
      <dgm:t>
        <a:bodyPr/>
        <a:lstStyle/>
        <a:p>
          <a:r>
            <a:rPr lang="ru-RU" b="1" dirty="0"/>
            <a:t>Обучение должно быть стабильно и постоянно</a:t>
          </a:r>
        </a:p>
      </dgm:t>
    </dgm:pt>
    <dgm:pt modelId="{FC28768A-3ABB-4574-8DC7-0677F75285B3}" type="parTrans" cxnId="{5E286B4C-AE29-4D17-9036-C03ACAE3D039}">
      <dgm:prSet/>
      <dgm:spPr/>
      <dgm:t>
        <a:bodyPr/>
        <a:lstStyle/>
        <a:p>
          <a:endParaRPr lang="ru-RU"/>
        </a:p>
      </dgm:t>
    </dgm:pt>
    <dgm:pt modelId="{E4AD14A6-DD6E-4D5C-81FB-1F9C91C72686}" type="sibTrans" cxnId="{5E286B4C-AE29-4D17-9036-C03ACAE3D039}">
      <dgm:prSet/>
      <dgm:spPr/>
      <dgm:t>
        <a:bodyPr/>
        <a:lstStyle/>
        <a:p>
          <a:endParaRPr lang="ru-RU"/>
        </a:p>
      </dgm:t>
    </dgm:pt>
    <dgm:pt modelId="{A5E04E42-10FC-4466-B8CA-BFD321262F89}" type="pres">
      <dgm:prSet presAssocID="{163BB63D-D37B-4F08-83ED-C565C360034C}" presName="arrowDiagram" presStyleCnt="0">
        <dgm:presLayoutVars>
          <dgm:chMax val="5"/>
          <dgm:dir/>
          <dgm:resizeHandles val="exact"/>
        </dgm:presLayoutVars>
      </dgm:prSet>
      <dgm:spPr/>
    </dgm:pt>
    <dgm:pt modelId="{BF2B0E2A-FB91-432B-829E-F7ECB5761AD1}" type="pres">
      <dgm:prSet presAssocID="{163BB63D-D37B-4F08-83ED-C565C360034C}" presName="arrow" presStyleLbl="bgShp" presStyleIdx="0" presStyleCnt="1"/>
      <dgm:spPr/>
    </dgm:pt>
    <dgm:pt modelId="{882655F0-CD6B-4777-9D5D-DB6897BC799B}" type="pres">
      <dgm:prSet presAssocID="{163BB63D-D37B-4F08-83ED-C565C360034C}" presName="arrowDiagram3" presStyleCnt="0"/>
      <dgm:spPr/>
    </dgm:pt>
    <dgm:pt modelId="{FBEFB0D8-5701-4D7A-8C72-00D66362B1BD}" type="pres">
      <dgm:prSet presAssocID="{FA1EFB29-1C26-47E2-9183-9744B1A4E360}" presName="bullet3a" presStyleLbl="node1" presStyleIdx="0" presStyleCnt="3"/>
      <dgm:spPr/>
    </dgm:pt>
    <dgm:pt modelId="{1F9E7AC4-413E-47CA-8034-DB4A13CF153A}" type="pres">
      <dgm:prSet presAssocID="{FA1EFB29-1C26-47E2-9183-9744B1A4E360}" presName="textBox3a" presStyleLbl="revTx" presStyleIdx="0" presStyleCnt="3" custScaleX="117296" custScaleY="98236" custLinFactNeighborX="17787" custLinFactNeighborY="-1340">
        <dgm:presLayoutVars>
          <dgm:bulletEnabled val="1"/>
        </dgm:presLayoutVars>
      </dgm:prSet>
      <dgm:spPr/>
    </dgm:pt>
    <dgm:pt modelId="{938EAA38-402F-427D-9817-0249CFE1511C}" type="pres">
      <dgm:prSet presAssocID="{7F883A41-EFF1-4F64-AE57-E5CD38978531}" presName="bullet3b" presStyleLbl="node1" presStyleIdx="1" presStyleCnt="3"/>
      <dgm:spPr/>
    </dgm:pt>
    <dgm:pt modelId="{0CA258C0-A8B6-4C67-9CFE-FA280C04EC3B}" type="pres">
      <dgm:prSet presAssocID="{7F883A41-EFF1-4F64-AE57-E5CD38978531}" presName="textBox3b" presStyleLbl="revTx" presStyleIdx="1" presStyleCnt="3" custScaleY="46632" custLinFactNeighborX="9679" custLinFactNeighborY="-27490">
        <dgm:presLayoutVars>
          <dgm:bulletEnabled val="1"/>
        </dgm:presLayoutVars>
      </dgm:prSet>
      <dgm:spPr/>
    </dgm:pt>
    <dgm:pt modelId="{0393ED17-9D7C-4080-A1F4-D2E0ECF306D1}" type="pres">
      <dgm:prSet presAssocID="{11A4F083-9930-4C95-831D-3234E48C1832}" presName="bullet3c" presStyleLbl="node1" presStyleIdx="2" presStyleCnt="3"/>
      <dgm:spPr/>
    </dgm:pt>
    <dgm:pt modelId="{BE213F81-F285-476B-9C88-410C8DDA1949}" type="pres">
      <dgm:prSet presAssocID="{11A4F083-9930-4C95-831D-3234E48C1832}" presName="textBox3c" presStyleLbl="revTx" presStyleIdx="2" presStyleCnt="3" custScaleX="138863" custScaleY="53165" custLinFactNeighborX="37144" custLinFactNeighborY="-32177">
        <dgm:presLayoutVars>
          <dgm:bulletEnabled val="1"/>
        </dgm:presLayoutVars>
      </dgm:prSet>
      <dgm:spPr/>
    </dgm:pt>
  </dgm:ptLst>
  <dgm:cxnLst>
    <dgm:cxn modelId="{E377A01C-96B3-4162-89CB-C54C93478B79}" srcId="{163BB63D-D37B-4F08-83ED-C565C360034C}" destId="{7F883A41-EFF1-4F64-AE57-E5CD38978531}" srcOrd="1" destOrd="0" parTransId="{EE62E1AA-146D-4113-B06B-E0EAFE08CA4F}" sibTransId="{606B6F01-FBF0-46BE-82CD-6A349BDEA7C5}"/>
    <dgm:cxn modelId="{DE44DF43-BCFD-430E-8847-176127F6A56C}" type="presOf" srcId="{FA1EFB29-1C26-47E2-9183-9744B1A4E360}" destId="{1F9E7AC4-413E-47CA-8034-DB4A13CF153A}" srcOrd="0" destOrd="0" presId="urn:microsoft.com/office/officeart/2005/8/layout/arrow2"/>
    <dgm:cxn modelId="{D224706B-874D-41DC-ADB3-2899D13A45DE}" srcId="{163BB63D-D37B-4F08-83ED-C565C360034C}" destId="{FA1EFB29-1C26-47E2-9183-9744B1A4E360}" srcOrd="0" destOrd="0" parTransId="{E4A9ACCE-59B3-4985-89B9-D8878E97D7FF}" sibTransId="{C5AA5736-7AFA-49F4-9AA4-66E2F0CD0DA9}"/>
    <dgm:cxn modelId="{5E286B4C-AE29-4D17-9036-C03ACAE3D039}" srcId="{163BB63D-D37B-4F08-83ED-C565C360034C}" destId="{11A4F083-9930-4C95-831D-3234E48C1832}" srcOrd="2" destOrd="0" parTransId="{FC28768A-3ABB-4574-8DC7-0677F75285B3}" sibTransId="{E4AD14A6-DD6E-4D5C-81FB-1F9C91C72686}"/>
    <dgm:cxn modelId="{018AEEB3-82ED-4CE5-BBDD-A1714E476598}" type="presOf" srcId="{163BB63D-D37B-4F08-83ED-C565C360034C}" destId="{A5E04E42-10FC-4466-B8CA-BFD321262F89}" srcOrd="0" destOrd="0" presId="urn:microsoft.com/office/officeart/2005/8/layout/arrow2"/>
    <dgm:cxn modelId="{2B6169D0-DD39-4150-A7C3-685AD3A6ADA9}" type="presOf" srcId="{11A4F083-9930-4C95-831D-3234E48C1832}" destId="{BE213F81-F285-476B-9C88-410C8DDA1949}" srcOrd="0" destOrd="0" presId="urn:microsoft.com/office/officeart/2005/8/layout/arrow2"/>
    <dgm:cxn modelId="{3E111CEB-67C9-42AE-9D0B-0E9F08FE3CCC}" type="presOf" srcId="{7F883A41-EFF1-4F64-AE57-E5CD38978531}" destId="{0CA258C0-A8B6-4C67-9CFE-FA280C04EC3B}" srcOrd="0" destOrd="0" presId="urn:microsoft.com/office/officeart/2005/8/layout/arrow2"/>
    <dgm:cxn modelId="{87EE9609-BB6E-4E9C-858B-A4E5CD9D19F8}" type="presParOf" srcId="{A5E04E42-10FC-4466-B8CA-BFD321262F89}" destId="{BF2B0E2A-FB91-432B-829E-F7ECB5761AD1}" srcOrd="0" destOrd="0" presId="urn:microsoft.com/office/officeart/2005/8/layout/arrow2"/>
    <dgm:cxn modelId="{80180218-768B-4860-A69E-1AEA4F7414FB}" type="presParOf" srcId="{A5E04E42-10FC-4466-B8CA-BFD321262F89}" destId="{882655F0-CD6B-4777-9D5D-DB6897BC799B}" srcOrd="1" destOrd="0" presId="urn:microsoft.com/office/officeart/2005/8/layout/arrow2"/>
    <dgm:cxn modelId="{03C18F62-512E-478C-BB17-97AB831E25DF}" type="presParOf" srcId="{882655F0-CD6B-4777-9D5D-DB6897BC799B}" destId="{FBEFB0D8-5701-4D7A-8C72-00D66362B1BD}" srcOrd="0" destOrd="0" presId="urn:microsoft.com/office/officeart/2005/8/layout/arrow2"/>
    <dgm:cxn modelId="{2780C5F2-64E1-4293-8F4C-630AE01051A6}" type="presParOf" srcId="{882655F0-CD6B-4777-9D5D-DB6897BC799B}" destId="{1F9E7AC4-413E-47CA-8034-DB4A13CF153A}" srcOrd="1" destOrd="0" presId="urn:microsoft.com/office/officeart/2005/8/layout/arrow2"/>
    <dgm:cxn modelId="{973C7A38-50B7-424B-A9F4-F42D2385A526}" type="presParOf" srcId="{882655F0-CD6B-4777-9D5D-DB6897BC799B}" destId="{938EAA38-402F-427D-9817-0249CFE1511C}" srcOrd="2" destOrd="0" presId="urn:microsoft.com/office/officeart/2005/8/layout/arrow2"/>
    <dgm:cxn modelId="{CEBE2118-221E-41C9-A0B7-F008B8387430}" type="presParOf" srcId="{882655F0-CD6B-4777-9D5D-DB6897BC799B}" destId="{0CA258C0-A8B6-4C67-9CFE-FA280C04EC3B}" srcOrd="3" destOrd="0" presId="urn:microsoft.com/office/officeart/2005/8/layout/arrow2"/>
    <dgm:cxn modelId="{0C7D0C30-44B4-490F-86A6-0AD88B52C62B}" type="presParOf" srcId="{882655F0-CD6B-4777-9D5D-DB6897BC799B}" destId="{0393ED17-9D7C-4080-A1F4-D2E0ECF306D1}" srcOrd="4" destOrd="0" presId="urn:microsoft.com/office/officeart/2005/8/layout/arrow2"/>
    <dgm:cxn modelId="{2625364C-C400-47F0-9DFB-DB32767CD6C7}" type="presParOf" srcId="{882655F0-CD6B-4777-9D5D-DB6897BC799B}" destId="{BE213F81-F285-476B-9C88-410C8DDA1949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D79F684-94C5-4376-8DCB-6ED824F0FADE}">
      <dsp:nvSpPr>
        <dsp:cNvPr id="0" name=""/>
        <dsp:cNvSpPr/>
      </dsp:nvSpPr>
      <dsp:spPr>
        <a:xfrm>
          <a:off x="0" y="3769002"/>
          <a:ext cx="8229600" cy="618336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Социально-коммуникативная готовность</a:t>
          </a:r>
          <a:endParaRPr lang="ru-RU" sz="2400" kern="1200" dirty="0"/>
        </a:p>
      </dsp:txBody>
      <dsp:txXfrm>
        <a:off x="0" y="3769002"/>
        <a:ext cx="8229600" cy="618336"/>
      </dsp:txXfrm>
    </dsp:sp>
    <dsp:sp modelId="{F4F15B01-8554-41B8-8041-C009FC95DEB0}">
      <dsp:nvSpPr>
        <dsp:cNvPr id="0" name=""/>
        <dsp:cNvSpPr/>
      </dsp:nvSpPr>
      <dsp:spPr>
        <a:xfrm rot="10800000">
          <a:off x="0" y="2827276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эмоционально-волевая готовность</a:t>
          </a:r>
          <a:endParaRPr lang="ru-RU" sz="2400" kern="1200" dirty="0"/>
        </a:p>
      </dsp:txBody>
      <dsp:txXfrm rot="10800000">
        <a:off x="0" y="2827276"/>
        <a:ext cx="8229600" cy="617932"/>
      </dsp:txXfrm>
    </dsp:sp>
    <dsp:sp modelId="{2D489909-BD2C-4A58-9A6F-EBFDD340F8CF}">
      <dsp:nvSpPr>
        <dsp:cNvPr id="0" name=""/>
        <dsp:cNvSpPr/>
      </dsp:nvSpPr>
      <dsp:spPr>
        <a:xfrm rot="10800000">
          <a:off x="0" y="1885550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мотивационная готовность</a:t>
          </a:r>
          <a:endParaRPr lang="ru-RU" sz="2400" kern="1200" dirty="0"/>
        </a:p>
      </dsp:txBody>
      <dsp:txXfrm rot="10800000">
        <a:off x="0" y="1885550"/>
        <a:ext cx="8229600" cy="617932"/>
      </dsp:txXfrm>
    </dsp:sp>
    <dsp:sp modelId="{28E6C17C-92F1-4124-B116-E36E2D7E05F1}">
      <dsp:nvSpPr>
        <dsp:cNvPr id="0" name=""/>
        <dsp:cNvSpPr/>
      </dsp:nvSpPr>
      <dsp:spPr>
        <a:xfrm rot="10800000">
          <a:off x="0" y="979724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интеллектуальная готовность</a:t>
          </a:r>
          <a:endParaRPr lang="ru-RU" sz="2400" kern="1200" dirty="0"/>
        </a:p>
      </dsp:txBody>
      <dsp:txXfrm rot="10800000">
        <a:off x="0" y="979724"/>
        <a:ext cx="8229600" cy="617932"/>
      </dsp:txXfrm>
    </dsp:sp>
    <dsp:sp modelId="{EAF21F3C-8A6B-4DE9-AA57-F4D4AC6D4A85}">
      <dsp:nvSpPr>
        <dsp:cNvPr id="0" name=""/>
        <dsp:cNvSpPr/>
      </dsp:nvSpPr>
      <dsp:spPr>
        <a:xfrm rot="10800000">
          <a:off x="0" y="109570"/>
          <a:ext cx="8229600" cy="951001"/>
        </a:xfrm>
        <a:prstGeom prst="upArrowCallou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физическая готовность</a:t>
          </a:r>
          <a:endParaRPr lang="ru-RU" sz="2400" kern="1200" dirty="0"/>
        </a:p>
      </dsp:txBody>
      <dsp:txXfrm rot="10800000">
        <a:off x="0" y="109570"/>
        <a:ext cx="8229600" cy="61793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F2B0E2A-FB91-432B-829E-F7ECB5761AD1}">
      <dsp:nvSpPr>
        <dsp:cNvPr id="0" name=""/>
        <dsp:cNvSpPr/>
      </dsp:nvSpPr>
      <dsp:spPr>
        <a:xfrm>
          <a:off x="0" y="8947"/>
          <a:ext cx="8658228" cy="5411392"/>
        </a:xfrm>
        <a:prstGeom prst="swooshArrow">
          <a:avLst>
            <a:gd name="adj1" fmla="val 25000"/>
            <a:gd name="adj2" fmla="val 25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BEFB0D8-5701-4D7A-8C72-00D66362B1BD}">
      <dsp:nvSpPr>
        <dsp:cNvPr id="0" name=""/>
        <dsp:cNvSpPr/>
      </dsp:nvSpPr>
      <dsp:spPr>
        <a:xfrm>
          <a:off x="1099594" y="3743890"/>
          <a:ext cx="225113" cy="225113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F9E7AC4-413E-47CA-8034-DB4A13CF153A}">
      <dsp:nvSpPr>
        <dsp:cNvPr id="0" name=""/>
        <dsp:cNvSpPr/>
      </dsp:nvSpPr>
      <dsp:spPr>
        <a:xfrm>
          <a:off x="1396519" y="3849285"/>
          <a:ext cx="2366290" cy="153630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9283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Стабильная и постоянная движущая сила</a:t>
          </a:r>
        </a:p>
      </dsp:txBody>
      <dsp:txXfrm>
        <a:off x="1396519" y="3849285"/>
        <a:ext cx="2366290" cy="1536305"/>
      </dsp:txXfrm>
    </dsp:sp>
    <dsp:sp modelId="{938EAA38-402F-427D-9817-0249CFE1511C}">
      <dsp:nvSpPr>
        <dsp:cNvPr id="0" name=""/>
        <dsp:cNvSpPr/>
      </dsp:nvSpPr>
      <dsp:spPr>
        <a:xfrm>
          <a:off x="3086658" y="2273074"/>
          <a:ext cx="406936" cy="406936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0CA258C0-A8B6-4C67-9CFE-FA280C04EC3B}">
      <dsp:nvSpPr>
        <dsp:cNvPr id="0" name=""/>
        <dsp:cNvSpPr/>
      </dsp:nvSpPr>
      <dsp:spPr>
        <a:xfrm>
          <a:off x="3491253" y="2452815"/>
          <a:ext cx="2077974" cy="1372751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15627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Ум требует постоянной загрузки</a:t>
          </a:r>
        </a:p>
      </dsp:txBody>
      <dsp:txXfrm>
        <a:off x="3491253" y="2452815"/>
        <a:ext cx="2077974" cy="1372751"/>
      </dsp:txXfrm>
    </dsp:sp>
    <dsp:sp modelId="{0393ED17-9D7C-4080-A1F4-D2E0ECF306D1}">
      <dsp:nvSpPr>
        <dsp:cNvPr id="0" name=""/>
        <dsp:cNvSpPr/>
      </dsp:nvSpPr>
      <dsp:spPr>
        <a:xfrm>
          <a:off x="5476329" y="1378030"/>
          <a:ext cx="562784" cy="562784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E213F81-F285-476B-9C88-410C8DDA1949}">
      <dsp:nvSpPr>
        <dsp:cNvPr id="0" name=""/>
        <dsp:cNvSpPr/>
      </dsp:nvSpPr>
      <dsp:spPr>
        <a:xfrm>
          <a:off x="5772689" y="1329984"/>
          <a:ext cx="2885538" cy="1999491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98208" tIns="0" rIns="0" bIns="0" numCol="1" spcCol="1270" anchor="t" anchorCtr="0">
          <a:noAutofit/>
        </a:bodyPr>
        <a:lstStyle/>
        <a:p>
          <a:pPr marL="0" lvl="0" indent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b="1" kern="1200" dirty="0"/>
            <a:t>Обучение должно быть стабильно и постоянно</a:t>
          </a:r>
        </a:p>
      </dsp:txBody>
      <dsp:txXfrm>
        <a:off x="5772689" y="1329984"/>
        <a:ext cx="2885538" cy="1999491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8F5-6714-47BF-9A9E-57BA9317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16C-8F3F-4BAD-8B52-3E124F0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7A0-7AFC-43F3-83E0-9418F9EA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DA2-1BE6-48CD-AD41-4DFCCC82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635A-81A4-4D3A-8EE0-E45B7FCD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94B-76C8-43C1-B9F3-8A1542F1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2CE0-3BFF-4585-A340-DAB230F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67EF-6CA8-4ED8-95DB-BC66434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20F3-ACAF-43F8-948B-963E6FB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1F66-E545-4A0E-A57B-21249D1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EF90-0713-465A-A165-872D424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28C-4337-4972-A9DD-D20F6F3E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0DF7-E983-4261-9905-516A95C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175B-976E-49F3-8EE1-33B4E7E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7DA-FE80-4C83-9688-6D6A942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61E9-6B34-4567-8289-332AAD1B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0526-38E1-4E3F-87C8-CE69305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73B0-6B0B-4251-860F-1CABC757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C064-1CA3-46D5-99E2-2FFB137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EC27-FF75-466C-A6B6-133D3EC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5803-CCFA-48DD-A86E-B028F70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9F42-871C-4816-821D-EE75A6B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066-907A-4576-879E-195D076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3794-BEC0-476E-9261-92918D81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BC9C-2B53-46FD-9B56-46618CD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2962-3960-4F40-A1D6-994896D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9947-B4C1-43BE-BD1A-BE020EC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9A91-E270-4EAF-BEEC-DFA01F35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FFB3-14B5-4D7D-9C74-1234C7FA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F616-0740-401F-A189-E8A30AA9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3EB0-83D2-4461-86FC-837E9D55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AA2F-713F-49F4-A867-EB3D412C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EA40-1114-47ED-AE86-7595076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F26-572A-4F04-AC23-9A1C82A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15D1-8F64-4991-AC8E-A0F2DAA0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1A59-9CFF-4D99-8AD2-02290106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E44F-6231-4818-991F-2CD189C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E49E-5922-4162-BDB8-042859C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BD6D-F181-491E-89BB-B088339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CD3E-30A1-45BC-B886-606F9851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B1AC-AAE2-4DF1-AAA0-D0AC418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859A-D72F-4B07-B8F0-342CA272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A06E-37D3-4391-964F-60BDDE87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304-B33E-4C9C-A781-09705CBE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B1C-F70E-473B-9943-492BF5E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CBC-3F0D-4CF3-B5FE-F4A3A12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6DF-A460-45FB-8319-1216CA3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E23-D829-422F-A04C-EE1100C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88A110-14CC-4587-810F-24DB42B6043B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817680-9350-4BFB-8864-589D08176BB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896DB1-7DC6-4A44-A5B7-2CBDE7B57CF7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0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41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2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B2B9D-F4C7-49C2-B99D-7DDF5C78FA4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8072280" cy="3142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r>
              <a:rPr b="1" lang="ru-RU" sz="4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Calibri"/>
              </a:rPr>
              <a:t>Презентация для родителей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«Готовность к школе, что мы не понимаем?»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184720" y="4900680"/>
            <a:ext cx="3768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3495c"/>
                </a:solidFill>
                <a:latin typeface="Constantia"/>
              </a:rPr>
              <a:t>Подготовил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3495c"/>
                </a:solidFill>
                <a:latin typeface="Constantia"/>
              </a:rPr>
              <a:t>Головина Альб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6" descr="E:\unnamed.jpg"/>
          <p:cNvPicPr/>
          <p:nvPr/>
        </p:nvPicPr>
        <p:blipFill>
          <a:blip r:embed="rId2"/>
          <a:stretch/>
        </p:blipFill>
        <p:spPr>
          <a:xfrm>
            <a:off x="642960" y="4357800"/>
            <a:ext cx="1999800" cy="1999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2267640" y="957600"/>
            <a:ext cx="54259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Calibri"/>
              </a:rPr>
              <a:t>МАОУ Домодедовской СОШ №7 с УИОП</a:t>
            </a:r>
            <a:br>
              <a:rPr sz="2000"/>
            </a:br>
            <a:r>
              <a:rPr b="0" lang="ru-RU" sz="2000" spc="-1" strike="noStrike">
                <a:solidFill>
                  <a:srgbClr val="03495c"/>
                </a:solidFill>
                <a:latin typeface="Times New Roman"/>
                <a:ea typeface="Calibri"/>
              </a:rPr>
              <a:t>д/о «Полянка», группа №6 « Капельк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257680" cy="775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Для развития интеллекта: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03103296"/>
              </p:ext>
            </p:extLst>
          </p:nvPr>
        </p:nvGraphicFramePr>
        <p:xfrm>
          <a:off x="214200" y="1214280"/>
          <a:ext cx="865800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6" name="Прямоугольник 5"/>
          <p:cNvSpPr/>
          <p:nvPr/>
        </p:nvSpPr>
        <p:spPr>
          <a:xfrm>
            <a:off x="142920" y="1285920"/>
            <a:ext cx="4571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В развитии интеллекта нет  «стоячего» по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4714920" y="4303440"/>
            <a:ext cx="42145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сли мы не движемся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то неизбежно станем двигаться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Мотивационн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3" descr="b757845c16b920242f5eab6aec4e99afd78f8abc.jpg"/>
          <p:cNvPicPr/>
          <p:nvPr/>
        </p:nvPicPr>
        <p:blipFill>
          <a:blip r:embed="rId1"/>
          <a:srcRect l="4582" t="5423" r="9218" b="7191"/>
          <a:stretch/>
        </p:blipFill>
        <p:spPr>
          <a:xfrm>
            <a:off x="2857320" y="1643040"/>
            <a:ext cx="6079680" cy="47858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142920" y="1500120"/>
            <a:ext cx="2857320" cy="523764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circle">
              <a:fillToRect l="50000" t="100000" r="50000" b="0"/>
            </a:path>
          </a:gradFill>
          <a:ln>
            <a:solidFill>
              <a:srgbClr val="7b9035"/>
            </a:solidFill>
            <a:prstDash val="sysDot"/>
            <a:round/>
          </a:ln>
          <a:effectLst>
            <a:outerShdw algn="ctr" blurRad="57240" dir="5400000" dist="38160" rotWithShape="0">
              <a:schemeClr val="phClr">
                <a:shade val="9000"/>
                <a:satMod val="105000"/>
                <a:alpha val="4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solidFill>
                  <a:schemeClr val="dk1"/>
                </a:solidFill>
                <a:latin typeface="Constantia"/>
              </a:rPr>
              <a:t>Ребёнок должен видеть, что родители спокойно и уверенно смотрят на его предстоящее поступление в школу, дома его понимают, верят в его си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00600" cy="1560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Эмоционально-волев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3" descr="slide_51.jpg"/>
          <p:cNvPicPr/>
          <p:nvPr/>
        </p:nvPicPr>
        <p:blipFill>
          <a:blip r:embed="rId1"/>
          <a:stretch/>
        </p:blipFill>
        <p:spPr>
          <a:xfrm>
            <a:off x="214200" y="1857240"/>
            <a:ext cx="3235320" cy="4785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slide_5.jpg"/>
          <p:cNvPicPr/>
          <p:nvPr/>
        </p:nvPicPr>
        <p:blipFill>
          <a:blip r:embed="rId2"/>
          <a:stretch/>
        </p:blipFill>
        <p:spPr>
          <a:xfrm>
            <a:off x="3357720" y="1714320"/>
            <a:ext cx="5643360" cy="485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циально-коммуникативная готовность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Содержимое 3" descr="slide_8.jpg"/>
          <p:cNvPicPr/>
          <p:nvPr/>
        </p:nvPicPr>
        <p:blipFill>
          <a:blip r:embed="rId1"/>
          <a:srcRect l="2173" t="15134" r="0" b="12373"/>
          <a:stretch/>
        </p:blipFill>
        <p:spPr>
          <a:xfrm>
            <a:off x="18000" y="1571760"/>
            <a:ext cx="9125640" cy="50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25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700"/>
            </a:b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5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владевает основными культурными способами деятельности, проявляет инициативу и самостоятельность в разных видах деятельности – игре, общении, познавательно-исследовательской деятельности, конструировании и др.; способен выбирать себе род занятий, участников по совместной деятельност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бладает установкой положительного отношения к миру, разным видам труда, другим людям и самому себе, обладает чувством собственного достоинства,  активно взаимодействует со сверстниками и взрослыми, участвует в совместных игра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пособен договариваться, учитывать интересы и чувства других, сопереживать неудачам и радоваться успехам других; адекватно проявляет свои чувства, в том числе чувство веры в себя, старается разрешать конфликты. Умеет выражать и отстаивать свою позицию по разным вопроса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пособен сотрудничать и выполнять как лидерские, так и исполнительские функции в совместной деятельност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160" indent="-227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онимает, что все люди равны вне зависимости от их социального происхождения, этнической принадлежности, религиозных и других вероисповеданий, их физических и психических особеннос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760" y="428760"/>
            <a:ext cx="8286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Планируемые     итоговые    результаты    освоения   детьми    основной  общеобразовательной программы дошкольного образования (к семилетнему возраст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572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эмпатию по отношению к другим людям, готовность прийти на помощь тем, кто в этом нуждается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умение слышать других и стремление быть понятым другим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обладает развитым воображением, которое реализуется в разных видах деятельности, и прежде всего в игре, владеет разными формами и видами игры, различает условную и реальную ситуации, умеет подчиняться разным правилам и социальным нормам. Умеет распознавать различные ситуации и адекватно их оценивать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достаточно хорошо владеет устной речью, может выражать свои мысли и желания, использует речь для выражения своих мыслей, чувств и желаний, построения . речевого  высказывания в ситуации общения, выделять звуки в словах. У ребёнка складываются предпосылки грамотност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 ребёнка развиты крупная и мелкая моторика, он подвижен, вынослив, владеет основными движениями, может контролировать свои движения и управлять ими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способен к волевым усилиям, может следовать социальным нормам поведения и правилам в разных видах деятельности, во взаимоотношениях с взрослыми и сверстниками. Он  может соблюдать правила безопасного поведения и личной гигиены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ответственность за начатое дело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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бёнок проявляет любознательность, задаёт вопросы взрослым и сверстникам, интересуется причинно-следственными связями, пытается самостоятельно придумывать объяснения явлениям природы и поступкам людей. Он склонен наблюдать, экспериментировать,   обладает начальными знаниями о себе, природном и социальном мире, в котором он живёт; знаком с произведениями детской литературы, обладает элементарными представлениями из области живой природы, естествознания, математики, истории и т.п. Ребёнок склонен к принятию собственных решений, опираясь на свои знания и умения в различных видах деятельности.  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8229240" cy="58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открыт новому, проявляет стремления к получению знаний, положительную мотивацию к дальнейшему обучению в школе, институт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роявляет уважение к жизни в различных её формах и заботу об окружающей среде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эмоционально отзывается на красоту окружающего мира, произведения народного и профессионального искусства (музыку, танцы, театральную деятельность, изобразительную деятельность и т.д.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проявляет патриотические чувства, ощущает гордость за свою страну, её достижения, имеет представления о её географическом разнообразии, многонациональности, важнейших исторических события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имеет первичные представления о себе, семье, традиционных семейных ценностях, включая традиционные гендерные ориентации, проявляет уважение к своему и противоположному полу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соблюдает элементарные общепринятые нормы, имеет первичные ценностные представления о том, «что такое хорошо и что такое плохо», стремится поступать хорошо, проявляет уважение к старшим и заботу о младших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ёнок имеет начальные представления о здоровом образе жизни, воспринимает  здоровый образ жизни как ценность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00040" y="642960"/>
            <a:ext cx="82292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им образом, детский сад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не должен обучать детей , наша задача состоит в формировании общей культуры, развитие «качеств, формирование предпосылок учебной деятельности, обеспечивающих социальную успешность»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остальное, задача школ и учителей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Уважаемые родители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оропитесь учить своих детишек чтению, и решению задач. Не лишайте детей детства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" descr="E:\c50e7dc3b7d5e75667b2757f9d03c684.jpeg"/>
          <p:cNvPicPr/>
          <p:nvPr/>
        </p:nvPicPr>
        <p:blipFill>
          <a:blip r:embed="rId1"/>
          <a:stretch/>
        </p:blipFill>
        <p:spPr>
          <a:xfrm>
            <a:off x="1143000" y="4500720"/>
            <a:ext cx="7071840" cy="21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3141720"/>
            <a:ext cx="7476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14200" y="1214280"/>
            <a:ext cx="87152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Искусство воспитания имеет ту особенность, что почти всем оно кажется делом знакомым и понятным, иным – делом легким, и тем понятнее и легче  кажется оно, чем менее человек с ним знаком, теоретически или практически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                      К.Д.Уш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3" descr="E:\img0.jpg"/>
          <p:cNvPicPr/>
          <p:nvPr/>
        </p:nvPicPr>
        <p:blipFill>
          <a:blip r:embed="rId1"/>
          <a:stretch/>
        </p:blipFill>
        <p:spPr>
          <a:xfrm>
            <a:off x="285840" y="5072040"/>
            <a:ext cx="235692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070c0"/>
                </a:solidFill>
                <a:latin typeface="Calibri"/>
              </a:rPr>
              <a:t>Каким должен быть современный выпускник ДОУ? 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чень часто между школой, детским садом и родителями встает  этот вопрос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чаще родители требуют от детских садов каких то определенных знаний (чтение, письмо, решение задач). ……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4520" indent="-2545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современные </a:t>
            </a: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Федеральные государственные образовательные стандарты (ФГОС)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школьного  образования, акцент со знаний, умений и навыков переносят на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ормирование общей культуры, развитие «качеств, формирование предпосылок учебной деятельности, обеспечивающих социальную успешность»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прос родителей «Что должен уметь и знать будущий первоклассник?»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57120" y="1714320"/>
            <a:ext cx="3571560" cy="301572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…</a:t>
            </a: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..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меть слышать и 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Дисциплина, правильная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Знать буквы и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Можно читать, если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286160" y="4714920"/>
            <a:ext cx="457164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..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думаю готовность к школе это, когда ребенок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меть читать по слогам, уметь писать бук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знать цифры, склады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285840" y="4857840"/>
            <a:ext cx="3785760" cy="82116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…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усидчивость, внимательность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"/>
          <p:cNvSpPr/>
          <p:nvPr/>
        </p:nvSpPr>
        <p:spPr>
          <a:xfrm>
            <a:off x="4071960" y="1571760"/>
            <a:ext cx="4785840" cy="3381480"/>
          </a:xfrm>
          <a:prstGeom prst="rect">
            <a:avLst/>
          </a:prstGeom>
          <a:solidFill>
            <a:srgbClr val="ffffff"/>
          </a:solidFill>
          <a:ln>
            <a:solidFill>
              <a:srgbClr val="009d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onstantia"/>
              </a:rPr>
              <a:t>Готовность к школе: психологическая - чтение - счёт- моторики рук- координация движения- устойчивость к нагрузкам и режиму- способность к усидчивости к восприятию и усвоения материала и еще много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5101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Результаты опроса родителей . В группе 22 ребенка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2" name="Содержимое 4"/>
          <p:cNvGraphicFramePr/>
          <p:nvPr/>
        </p:nvGraphicFramePr>
        <p:xfrm>
          <a:off x="428760" y="1357200"/>
          <a:ext cx="8229240" cy="5324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71320" y="500040"/>
            <a:ext cx="822924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Подготовка ребенка к школе должна заключаться просто в его общем развитии – процессов внимания, памяти, мышления, восприятия, речи, моторик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обходимо заниматься не закладыванием в ребенка различных знаний, а расширением его кругозора и представлений об окружающем мире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500040" y="3585960"/>
            <a:ext cx="8143560" cy="29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Модель выпускника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Каждый ребенок по-разному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Одни дети начинают говорить в 1 – 1,5 года, то другие в 3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Так же с учебой одни развиваются – быстрей, другие – медлен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этому к школьному возрасту, дети приходят с разным багажом опыта – знаниями, умениями, навыками, привыч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К моменту поступления в школу важно иметь способность воспринимать и  усваивать новый материал, т.е. способность ребенка к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мпоненты школьной готовности детей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80932965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Физическая готовность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Рисунок 4"/>
          <p:cNvSpPr/>
          <p:nvPr/>
        </p:nvSpPr>
        <p:spPr>
          <a:xfrm>
            <a:off x="214200" y="1071720"/>
            <a:ext cx="5071680" cy="339084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7" descr="slide_10.jpg"/>
          <p:cNvPicPr/>
          <p:nvPr/>
        </p:nvPicPr>
        <p:blipFill>
          <a:blip r:embed="rId2"/>
          <a:srcRect l="49213" t="56241" r="7811" b="13538"/>
          <a:stretch/>
        </p:blipFill>
        <p:spPr>
          <a:xfrm>
            <a:off x="285840" y="4500360"/>
            <a:ext cx="3714480" cy="19584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09" name="Рисунок 8" descr="slide_10.jpg"/>
          <p:cNvPicPr/>
          <p:nvPr/>
        </p:nvPicPr>
        <p:blipFill>
          <a:blip r:embed="rId3"/>
          <a:srcRect l="48433" t="27081" r="8591" b="42703"/>
          <a:stretch/>
        </p:blipFill>
        <p:spPr>
          <a:xfrm>
            <a:off x="5072040" y="1143000"/>
            <a:ext cx="3928680" cy="221436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  <p:sp>
        <p:nvSpPr>
          <p:cNvPr id="210" name="Рисунок 6"/>
          <p:cNvSpPr/>
          <p:nvPr/>
        </p:nvSpPr>
        <p:spPr>
          <a:xfrm>
            <a:off x="4071960" y="3429000"/>
            <a:ext cx="4906440" cy="32738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4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6" descr="vosoitanie-detey-doshkolnogo-vozvrasta-v-semie-2.jpg"/>
          <p:cNvPicPr/>
          <p:nvPr/>
        </p:nvPicPr>
        <p:blipFill>
          <a:blip r:embed="rId1"/>
          <a:stretch/>
        </p:blipFill>
        <p:spPr>
          <a:xfrm>
            <a:off x="4143240" y="3404520"/>
            <a:ext cx="5000400" cy="34531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8" descr="slide_4.jpg"/>
          <p:cNvPicPr/>
          <p:nvPr/>
        </p:nvPicPr>
        <p:blipFill>
          <a:blip r:embed="rId2"/>
          <a:srcRect l="45930" t="22494" r="7186" b="12498"/>
          <a:stretch/>
        </p:blipFill>
        <p:spPr>
          <a:xfrm>
            <a:off x="214200" y="1500120"/>
            <a:ext cx="4214520" cy="500040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нтеллектуальная готовность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Рисунок 7"/>
          <p:cNvSpPr/>
          <p:nvPr/>
        </p:nvSpPr>
        <p:spPr>
          <a:xfrm>
            <a:off x="4214880" y="1357200"/>
            <a:ext cx="3535920" cy="235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40</TotalTime>
  <Application>LibreOffice/7.4.7.2$Linux_X86_64 LibreOffice_project/40$Build-2</Application>
  <AppVersion>15.0000</AppVersion>
  <Words>1212</Words>
  <Paragraphs>7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23:01:46Z</dcterms:created>
  <dc:creator>User</dc:creator>
  <dc:description/>
  <dc:language>en-US</dc:language>
  <cp:lastModifiedBy>Christina Kim</cp:lastModifiedBy>
  <dcterms:modified xsi:type="dcterms:W3CDTF">2023-09-21T15:03:13Z</dcterms:modified>
  <cp:revision>39</cp:revision>
  <dc:subject/>
  <dc:title>Ваш ребёнок – будущий школьни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